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gif" ContentType="image/gif"/>
  <Override PartName="/ppt/media/image4.jpeg" ContentType="image/jpeg"/>
  <Override PartName="/ppt/media/image2.png" ContentType="image/png"/>
  <Override PartName="/ppt/media/suction.wav" ContentType="audio/x-wav"/>
  <Override PartName="/ppt/media/image3.png" ContentType="image/png"/>
  <Override PartName="/ppt/media/image17.jpeg" ContentType="image/jpeg"/>
  <Override PartName="/ppt/media/image1.jpeg" ContentType="image/jpeg"/>
  <Override PartName="/ppt/media/image24.jpeg" ContentType="image/jpeg"/>
  <Override PartName="/ppt/media/image19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png" ContentType="image/png"/>
  <Override PartName="/ppt/media/image21.jpeg" ContentType="image/jpeg"/>
  <Override PartName="/ppt/media/click.wav" ContentType="audio/x-wav"/>
  <Override PartName="/ppt/media/image18.jpeg" ContentType="image/jpeg"/>
  <Override PartName="/ppt/media/image16.jpeg" ContentType="image/jpeg"/>
  <Override PartName="/ppt/media/wind.wav" ContentType="audio/x-wav"/>
  <Override PartName="/ppt/media/chimes.wav" ContentType="audio/x-wav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A82-7A51-4C2C-852E-97B6D787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6FB-BBA1-437F-A07E-9DFF1C2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710-552D-4790-9C51-E98B3363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5E8-F425-4301-9E26-54993388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18A6-0774-4BBD-A083-67178B9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703E-6ED8-4766-A873-5CED69D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614B-026A-415E-AE60-3CD42004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01E3-0B9E-47CA-9D8F-0712B327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AC16-8B05-4B72-B52C-6A233FF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1994-88EB-4EC4-957B-FAE6F869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DEE0-7514-453E-8FF3-4B86895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EA4-AD22-443C-8BF3-EA9CC88C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8093-406B-440C-9319-F59FD3E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A9B4-89C5-4ECF-A169-A20248A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CD7F-CB92-4153-8ED2-8D0C4DA6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1E99-3EF4-4BD5-A134-CD07B6D5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D557-203B-4AD6-B9C2-677B2539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39F3-2568-409B-990A-1D053CFF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8828-C088-4785-BBAD-6AA9BB74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4D79-8DCE-447C-ADEE-DD75B6D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5B28-2272-42BE-8CF4-20830A22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58CA7-E2AE-4D50-9004-F9876CE8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7FA-59CC-4557-8DFF-98BD327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4B49-CFF2-4C2C-A4EF-F37E164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4097-C0B6-40F1-90F1-8D3E5FA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A86B-C766-4B57-8BF8-94D0840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6624-7C37-42D6-B2B1-1FC432F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AF04-1F31-41DC-83C4-3CBDA7C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49DF-CDAC-41E5-B48C-569BBDA0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13F9-A895-4D40-9CF8-CFB1C83F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3485-A8DD-4444-8EA7-48C890A8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5C9A-AF20-4C9D-BFBF-BA0052E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462A-E626-46B8-984A-4AD1CBD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623-0CDF-4612-A62A-8AA14EF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D8DC-9696-4B55-A651-9803BC6F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8A6D-1511-4486-AE54-064A9A81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310E-1AE9-4252-B52D-1F4A2CD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C10B-130B-4390-9480-F9CA3E9C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121C-D6EB-44ED-897E-99B2FA4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A1E17-D359-42D1-9ADC-1EAEE2F2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BA2DA-D547-45AD-ACA7-E5249430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64B6-51E7-457C-A001-4125ADFC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CFD0B-5ED6-425A-8BC9-AD67DA5C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5FE-A95D-4A9B-A5AD-F2E7F8F1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5BC-3DD2-4AC3-8D75-20388C1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C56-8690-4BBE-A5C8-809F6EA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85B-7DB7-43EE-BA2F-E9BCE3B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E1D-98D8-49AB-9328-5586341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67E-2E11-4FD8-9216-7878CDB4F9E1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392D-FC50-48E0-9B5E-5D9BFD5A4C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orbeil"/>
          <p:cNvPicPr/>
          <p:nvPr/>
        </p:nvPicPr>
        <p:blipFill>
          <a:blip r:embed="rId3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/>
            <a:ahLst/>
            <a:rect l="l" t="t" r="r" b="b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/>
            <a:ahLst/>
            <a:rect l="l" t="t" r="r" b="b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B0EE-4F8E-4259-93B6-E34CF75E6067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orbeil"/>
          <p:cNvPicPr/>
          <p:nvPr/>
        </p:nvPicPr>
        <p:blipFill>
          <a:blip r:embed="rId4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AE2-D0CB-481A-A84E-183F96B33EEA}" type="slidenum">
              <a:rPr b="0" lang="en-US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3"/>
          <p:cNvSpPr txBox="1"/>
          <p:nvPr/>
        </p:nvSpPr>
        <p:spPr>
          <a:xfrm>
            <a:off x="971640" y="1495440"/>
            <a:ext cx="720072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c1c1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形状与抗弯曲能力</a:t>
            </a:r>
            <a:r>
              <a:rPr b="1" lang="en-US" sz="4000" spc="-1" strike="noStrike">
                <a:ln w="0">
                  <a:noFill/>
                </a:ln>
                <a:solidFill>
                  <a:srgbClr val="0c1c1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c1c1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-1" strike="noStrike">
              <a:ln w="0">
                <a:noFill/>
              </a:ln>
              <a:solidFill>
                <a:srgbClr val="0c1c1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414036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抵抗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37760" y="90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验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208320" y="9810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研究纸的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厚度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抗弯曲能力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463560" y="16416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实验中应该控制哪些量不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39640" y="2565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纸的材质  、     纸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度  、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纸的长短 、      单个垫圈的轻重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放垫圈的位置、  弯曲程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146960" y="492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条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516920" y="4869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纸梁厚度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485640" y="40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实验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451320" y="476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研究纸的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宽度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抗弯曲能力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52400" y="162864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实验中应该控制哪些量不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39640" y="2565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纸的材质  、    纸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度  、    纸的长短 、单个垫圈的轻重、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放垫圈的位置、弯曲程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146960" y="492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条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871440" y="4869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纸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宽度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green_title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槽钢"/>
          <p:cNvPicPr/>
          <p:nvPr/>
        </p:nvPicPr>
        <p:blipFill>
          <a:blip r:embed="rId2"/>
          <a:stretch/>
        </p:blipFill>
        <p:spPr>
          <a:xfrm>
            <a:off x="250920" y="260280"/>
            <a:ext cx="280836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4" descr="工字钢二"/>
          <p:cNvPicPr/>
          <p:nvPr/>
        </p:nvPicPr>
        <p:blipFill>
          <a:blip r:embed="rId3"/>
          <a:stretch/>
        </p:blipFill>
        <p:spPr>
          <a:xfrm>
            <a:off x="3276720" y="260280"/>
            <a:ext cx="2736720" cy="198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Picture 5" descr="角钢"/>
          <p:cNvPicPr/>
          <p:nvPr/>
        </p:nvPicPr>
        <p:blipFill>
          <a:blip r:embed="rId4"/>
          <a:stretch/>
        </p:blipFill>
        <p:spPr>
          <a:xfrm>
            <a:off x="6227640" y="260280"/>
            <a:ext cx="266400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9" name="Picture 6" descr="塑扣板"/>
          <p:cNvPicPr/>
          <p:nvPr/>
        </p:nvPicPr>
        <p:blipFill>
          <a:blip r:embed="rId5"/>
          <a:stretch/>
        </p:blipFill>
        <p:spPr>
          <a:xfrm>
            <a:off x="3564000" y="2492280"/>
            <a:ext cx="28810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Picture 7" descr="T型钢"/>
          <p:cNvPicPr/>
          <p:nvPr/>
        </p:nvPicPr>
        <p:blipFill>
          <a:blip r:embed="rId6"/>
          <a:stretch/>
        </p:blipFill>
        <p:spPr>
          <a:xfrm>
            <a:off x="6659640" y="2492280"/>
            <a:ext cx="216036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8" descr="塑钢三"/>
          <p:cNvPicPr/>
          <p:nvPr/>
        </p:nvPicPr>
        <p:blipFill>
          <a:blip r:embed="rId7"/>
          <a:stretch/>
        </p:blipFill>
        <p:spPr>
          <a:xfrm>
            <a:off x="250920" y="2492280"/>
            <a:ext cx="30970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9" descr="瓦楞纸箱"/>
          <p:cNvPicPr/>
          <p:nvPr/>
        </p:nvPicPr>
        <p:blipFill>
          <a:blip r:embed="rId8"/>
          <a:stretch/>
        </p:blipFill>
        <p:spPr>
          <a:xfrm>
            <a:off x="3995640" y="3789360"/>
            <a:ext cx="3745080" cy="28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9"/>
          <p:cNvSpPr/>
          <p:nvPr/>
        </p:nvSpPr>
        <p:spPr>
          <a:xfrm>
            <a:off x="355284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u=1678340304,356689687&amp;fm=0&amp;gp=0"/>
          <p:cNvPicPr/>
          <p:nvPr/>
        </p:nvPicPr>
        <p:blipFill>
          <a:blip r:embed="rId1"/>
          <a:stretch/>
        </p:blipFill>
        <p:spPr>
          <a:xfrm>
            <a:off x="3241800" y="1301760"/>
            <a:ext cx="2346120" cy="1762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u=1695331656,1205990528&amp;fm=0&amp;gp=0"/>
          <p:cNvPicPr/>
          <p:nvPr/>
        </p:nvPicPr>
        <p:blipFill>
          <a:blip r:embed="rId2"/>
          <a:stretch/>
        </p:blipFill>
        <p:spPr>
          <a:xfrm>
            <a:off x="392040" y="1289160"/>
            <a:ext cx="2311560" cy="1736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u=879817790,730235082&amp;fm=0&amp;gp=0"/>
          <p:cNvPicPr/>
          <p:nvPr/>
        </p:nvPicPr>
        <p:blipFill>
          <a:blip r:embed="rId3"/>
          <a:stretch/>
        </p:blipFill>
        <p:spPr>
          <a:xfrm>
            <a:off x="403200" y="3078000"/>
            <a:ext cx="2308320" cy="1849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000536438,184074405&amp;fm=0&amp;gp=0"/>
          <p:cNvPicPr/>
          <p:nvPr/>
        </p:nvPicPr>
        <p:blipFill>
          <a:blip r:embed="rId4"/>
          <a:stretch/>
        </p:blipFill>
        <p:spPr>
          <a:xfrm>
            <a:off x="6205680" y="3182760"/>
            <a:ext cx="2477880" cy="1559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2051375650,463080761&amp;fm=0&amp;gp=0"/>
          <p:cNvPicPr/>
          <p:nvPr/>
        </p:nvPicPr>
        <p:blipFill>
          <a:blip r:embed="rId5"/>
          <a:stretch/>
        </p:blipFill>
        <p:spPr>
          <a:xfrm>
            <a:off x="3341520" y="3116160"/>
            <a:ext cx="2124360" cy="1836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1400040" y="3235320"/>
            <a:ext cx="1006560" cy="3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639800" y="3336840"/>
            <a:ext cx="206640" cy="21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538280" y="3143160"/>
            <a:ext cx="4222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697040" y="3235320"/>
            <a:ext cx="182520" cy="19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3279960" y="2662200"/>
            <a:ext cx="333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384480" y="2622240"/>
            <a:ext cx="378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5560" y="45172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6204600" y="4552200"/>
            <a:ext cx="336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3354120" y="4548240"/>
            <a:ext cx="39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华文细黑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u=1244980259,473027172&amp;fm=0&amp;gp=0"/>
          <p:cNvPicPr/>
          <p:nvPr/>
        </p:nvPicPr>
        <p:blipFill>
          <a:blip r:embed="rId6"/>
          <a:stretch/>
        </p:blipFill>
        <p:spPr>
          <a:xfrm>
            <a:off x="6292800" y="1303200"/>
            <a:ext cx="2354400" cy="18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7"/>
          <p:cNvSpPr/>
          <p:nvPr/>
        </p:nvSpPr>
        <p:spPr>
          <a:xfrm>
            <a:off x="6377760" y="2691360"/>
            <a:ext cx="333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细黑"/>
              </a:rPr>
              <a:t>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1116000" y="4937040"/>
            <a:ext cx="6467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细黑"/>
              </a:rPr>
              <a:t>改变形状，既节省了材料，又增强了抗弯曲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684360" y="5461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纸梁的形状与抗弯曲能力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green_title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95280" y="1557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实验：把纸折成不同的形状，测试它们的抗弯曲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372320" y="31417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思考：哪些条件不能改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844560" y="0"/>
            <a:ext cx="3454560" cy="939960"/>
          </a:xfrm>
          <a:prstGeom prst="rightArrow">
            <a:avLst>
              <a:gd name="adj1" fmla="val 50000"/>
              <a:gd name="adj2" fmla="val 91829"/>
            </a:avLst>
          </a:prstGeom>
          <a:solidFill>
            <a:srgbClr val="008000">
              <a:alpha val="70000"/>
            </a:srgbClr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052640"/>
            <a:ext cx="9509040" cy="580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能改变纸的形状，不能改变桥墩的距离和高度，不能   改变纸的厚度、长度和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每张纸只能使用一次，不能反复或合在一起使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垫片应尽量放在纸桥中间的位置，要轻轻地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纸碰到桌面的那个垫片不能记录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452600" y="24012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实验时，我们应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846960" y="40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2136600" y="141300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为了增强薄形材料抗弯曲的能力，我们可以将材料做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哪些形状，请画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663480" y="3211560"/>
            <a:ext cx="917640" cy="847800"/>
          </a:xfrm>
          <a:prstGeom prst="ellipse">
            <a:avLst/>
          </a:prstGeom>
          <a:solidFill>
            <a:srgbClr val="99cc00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76520" y="3254400"/>
            <a:ext cx="1098720" cy="739800"/>
          </a:xfrm>
          <a:prstGeom prst="rect">
            <a:avLst/>
          </a:prstGeom>
          <a:solidFill>
            <a:srgbClr val="99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4641840" y="3182400"/>
            <a:ext cx="1285200" cy="984600"/>
            <a:chOff x="4641840" y="3182400"/>
            <a:chExt cx="1285200" cy="984600"/>
          </a:xfrm>
        </p:grpSpPr>
        <p:grpSp>
          <p:nvGrpSpPr>
            <p:cNvPr id="263" name=""/>
            <p:cNvGrpSpPr/>
            <p:nvPr/>
          </p:nvGrpSpPr>
          <p:grpSpPr>
            <a:xfrm>
              <a:off x="4641840" y="3182760"/>
              <a:ext cx="360" cy="983880"/>
              <a:chOff x="4641840" y="3182760"/>
              <a:chExt cx="360" cy="98388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4641840" y="3182760"/>
                <a:ext cx="0" cy="983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4641840" y="3182760"/>
                <a:ext cx="360" cy="98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641840" y="4166640"/>
              <a:ext cx="1285200" cy="360"/>
              <a:chOff x="4641840" y="4166640"/>
              <a:chExt cx="1285200" cy="360"/>
            </a:xfrm>
          </p:grpSpPr>
          <p:sp>
            <p:nvSpPr>
              <p:cNvPr id="267" name="Line 8"/>
              <p:cNvSpPr/>
              <p:nvPr/>
            </p:nvSpPr>
            <p:spPr>
              <a:xfrm>
                <a:off x="4641840" y="4166640"/>
                <a:ext cx="12852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4641840" y="4166640"/>
                <a:ext cx="128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926680" y="3182400"/>
              <a:ext cx="360" cy="983880"/>
              <a:chOff x="5926680" y="3182400"/>
              <a:chExt cx="360" cy="983880"/>
            </a:xfrm>
          </p:grpSpPr>
          <p:sp>
            <p:nvSpPr>
              <p:cNvPr id="270" name="Line 9"/>
              <p:cNvSpPr/>
              <p:nvPr/>
            </p:nvSpPr>
            <p:spPr>
              <a:xfrm flipV="1">
                <a:off x="5927040" y="3182400"/>
                <a:ext cx="0" cy="983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 rot="10800000">
                <a:off x="5926680" y="3182400"/>
                <a:ext cx="360" cy="98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Text Box 10"/>
          <p:cNvSpPr/>
          <p:nvPr/>
        </p:nvSpPr>
        <p:spPr>
          <a:xfrm>
            <a:off x="6686640" y="3070080"/>
            <a:ext cx="1384200" cy="138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  <a:ea typeface="华文细黑"/>
              </a:rPr>
              <a:t>W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2206800" y="1335240"/>
            <a:ext cx="1760400" cy="666720"/>
          </a:xfrm>
          <a:prstGeom prst="rightArrow">
            <a:avLst>
              <a:gd name="adj1" fmla="val 50000"/>
              <a:gd name="adj2" fmla="val 65973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1274760" y="149544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1677960" y="148428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"/>
          <p:cNvSpPr/>
          <p:nvPr/>
        </p:nvSpPr>
        <p:spPr>
          <a:xfrm>
            <a:off x="2057400" y="1289160"/>
            <a:ext cx="1979640" cy="782640"/>
          </a:xfrm>
          <a:prstGeom prst="rightArrow">
            <a:avLst>
              <a:gd name="adj1" fmla="val 50000"/>
              <a:gd name="adj2" fmla="val 63201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5"/>
          <p:cNvSpPr/>
          <p:nvPr/>
        </p:nvSpPr>
        <p:spPr>
          <a:xfrm>
            <a:off x="463680" y="1135440"/>
            <a:ext cx="1650960" cy="918720"/>
          </a:xfrm>
          <a:prstGeom prst="rightArrow">
            <a:avLst>
              <a:gd name="adj1" fmla="val 50000"/>
              <a:gd name="adj2" fmla="val 44901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实验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705040" y="322200"/>
            <a:ext cx="64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纸的形状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抗弯曲能力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1317600"/>
            <a:ext cx="2279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实验需要材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需要改变的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不改变的条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操作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华文细黑"/>
              </a:rPr>
              <a:t>实验结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930320" y="1111320"/>
            <a:ext cx="67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细黑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细黑"/>
              </a:rPr>
              <a:t>张同样大小、厚薄的纸；相同大小垫圈若干个；科学书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细黑"/>
              </a:rPr>
              <a:t>本；直尺一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形状与抗弯曲能力"/>
          <p:cNvPicPr/>
          <p:nvPr/>
        </p:nvPicPr>
        <p:blipFill>
          <a:blip r:embed="rId1"/>
          <a:stretch/>
        </p:blipFill>
        <p:spPr>
          <a:xfrm>
            <a:off x="2050920" y="2276640"/>
            <a:ext cx="4862520" cy="1306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1798560" y="3567240"/>
            <a:ext cx="71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细黑"/>
              </a:rPr>
              <a:t>垫起纸高度不变；弯曲的标准不变；纸架空的距离不变；放垫圈的位置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768320" y="4543560"/>
            <a:ext cx="664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  <a:ea typeface="华文细黑"/>
              </a:rPr>
              <a:t>按上图所示改变纸的形状；在不改变上面条件的前提下进行实验，记录实验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0" y="3600"/>
            <a:ext cx="2795760" cy="1162080"/>
          </a:xfrm>
          <a:prstGeom prst="rightArrow">
            <a:avLst>
              <a:gd name="adj1" fmla="val 50000"/>
              <a:gd name="adj2" fmla="val 60112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实验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070000" y="6024600"/>
            <a:ext cx="67579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细黑"/>
              </a:rPr>
              <a:t>改变形状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细黑"/>
              </a:rPr>
              <a:t>，可以增强材料的抗弯曲能力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58760" y="1944720"/>
            <a:ext cx="360072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1233360" y="1930320"/>
            <a:ext cx="3251160" cy="44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131840" y="1930320"/>
            <a:ext cx="3251160" cy="43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752480" y="4352760"/>
            <a:ext cx="914400" cy="24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363920" y="2865600"/>
            <a:ext cx="412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细黑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0" y="958680"/>
            <a:ext cx="9182160" cy="58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green_title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瓦楞纸箱"/>
          <p:cNvPicPr/>
          <p:nvPr/>
        </p:nvPicPr>
        <p:blipFill>
          <a:blip r:embed="rId2"/>
          <a:stretch/>
        </p:blipFill>
        <p:spPr>
          <a:xfrm>
            <a:off x="468360" y="404640"/>
            <a:ext cx="6769080" cy="507708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4"/>
          <p:cNvGrpSpPr/>
          <p:nvPr/>
        </p:nvGrpSpPr>
        <p:grpSpPr>
          <a:xfrm>
            <a:off x="6417720" y="339840"/>
            <a:ext cx="1826640" cy="1543680"/>
            <a:chOff x="6417720" y="339840"/>
            <a:chExt cx="1826640" cy="1543680"/>
          </a:xfrm>
        </p:grpSpPr>
        <p:sp>
          <p:nvSpPr>
            <p:cNvPr id="295" name="Text Box 5"/>
            <p:cNvSpPr/>
            <p:nvPr/>
          </p:nvSpPr>
          <p:spPr>
            <a:xfrm>
              <a:off x="6417720" y="692280"/>
              <a:ext cx="182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瓦楞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6904080" y="33984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é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7"/>
          <p:cNvSpPr/>
          <p:nvPr/>
        </p:nvSpPr>
        <p:spPr>
          <a:xfrm>
            <a:off x="324000" y="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特点：改变了形状，增加了厚度，大大增强抗弯曲能力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节省材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横梁的抗弯曲能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哪些因素有关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5697616478577432071"/>
          <p:cNvPicPr/>
          <p:nvPr/>
        </p:nvPicPr>
        <p:blipFill>
          <a:blip r:embed="rId1"/>
          <a:stretch/>
        </p:blipFill>
        <p:spPr>
          <a:xfrm>
            <a:off x="7451640" y="4941720"/>
            <a:ext cx="1692360" cy="1916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42080" y="3141720"/>
            <a:ext cx="3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835280" y="1773360"/>
            <a:ext cx="399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横梁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材料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横梁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长短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横梁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宽度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横梁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厚度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01600" y="1434960"/>
            <a:ext cx="894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增加厚度可以增加材料的抗弯曲能力，这是一种好办法。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改变材料的形状，可以改变它抵抗弯曲的能力。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大小相同的同一种纸，做成不同形状，它们的抗弯曲能力是不同的。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246480" y="0"/>
            <a:ext cx="34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5378400" y="6046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4475160" y="244008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639960" y="13032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4635360" y="13255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960720" y="15778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2717280" y="41590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626160" y="5721480"/>
            <a:ext cx="7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7743960" y="43545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2"/>
          <p:cNvSpPr/>
          <p:nvPr/>
        </p:nvSpPr>
        <p:spPr>
          <a:xfrm>
            <a:off x="604800" y="307800"/>
            <a:ext cx="1386000" cy="919080"/>
          </a:xfrm>
          <a:prstGeom prst="rightArrow">
            <a:avLst>
              <a:gd name="adj1" fmla="val 50000"/>
              <a:gd name="adj2" fmla="val 3768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判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998640"/>
            <a:ext cx="8697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火车轨道用的钢轨是一种形状稍微变化了的“工”字形钢。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瓦楞纸板抗弯曲能力强弱与纸的厚度有关没有其他原因。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、要提高材料的抗弯曲能力，可以增加材料的厚度也可以改换材料。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311640" y="596880"/>
            <a:ext cx="34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78400" y="6046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39960" y="13032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635360" y="13255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960720" y="15778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4656240" y="2163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  <a:ea typeface="华文细黑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743960" y="43545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4154040" y="3716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华文细黑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6239160" y="57736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  <a:ea typeface="华文细黑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2"/>
          <p:cNvSpPr/>
          <p:nvPr/>
        </p:nvSpPr>
        <p:spPr>
          <a:xfrm>
            <a:off x="501480" y="242640"/>
            <a:ext cx="1386000" cy="919080"/>
          </a:xfrm>
          <a:prstGeom prst="rightArrow">
            <a:avLst>
              <a:gd name="adj1" fmla="val 50000"/>
              <a:gd name="adj2" fmla="val 3768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判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0" y="1171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下面三种形状中的（       ）是增强抗弯曲能力实验中抗弯曲能力最强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618360" y="4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103720" y="1704960"/>
            <a:ext cx="8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1754280" y="3978360"/>
            <a:ext cx="352440" cy="42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"/>
          <p:cNvGrpSpPr/>
          <p:nvPr/>
        </p:nvGrpSpPr>
        <p:grpSpPr>
          <a:xfrm>
            <a:off x="4876920" y="3965400"/>
            <a:ext cx="353520" cy="392400"/>
            <a:chOff x="4876920" y="3965400"/>
            <a:chExt cx="353520" cy="392400"/>
          </a:xfrm>
        </p:grpSpPr>
        <p:grpSp>
          <p:nvGrpSpPr>
            <p:cNvPr id="325" name=""/>
            <p:cNvGrpSpPr/>
            <p:nvPr/>
          </p:nvGrpSpPr>
          <p:grpSpPr>
            <a:xfrm>
              <a:off x="4876920" y="3965400"/>
              <a:ext cx="360" cy="392040"/>
              <a:chOff x="4876920" y="3965400"/>
              <a:chExt cx="360" cy="392040"/>
            </a:xfrm>
          </p:grpSpPr>
          <p:sp>
            <p:nvSpPr>
              <p:cNvPr id="326" name="Line 7"/>
              <p:cNvSpPr/>
              <p:nvPr/>
            </p:nvSpPr>
            <p:spPr>
              <a:xfrm>
                <a:off x="4876920" y="3965400"/>
                <a:ext cx="0" cy="39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4876920" y="3965400"/>
                <a:ext cx="360" cy="39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876920" y="4357440"/>
              <a:ext cx="353520" cy="360"/>
              <a:chOff x="4876920" y="4357440"/>
              <a:chExt cx="353520" cy="360"/>
            </a:xfrm>
          </p:grpSpPr>
          <p:sp>
            <p:nvSpPr>
              <p:cNvPr id="329" name="Line 8"/>
              <p:cNvSpPr/>
              <p:nvPr/>
            </p:nvSpPr>
            <p:spPr>
              <a:xfrm>
                <a:off x="4876920" y="4357440"/>
                <a:ext cx="35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4876920" y="4357440"/>
                <a:ext cx="35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9"/>
          <p:cNvGrpSpPr/>
          <p:nvPr/>
        </p:nvGrpSpPr>
        <p:grpSpPr>
          <a:xfrm>
            <a:off x="7728120" y="3809520"/>
            <a:ext cx="540720" cy="596880"/>
            <a:chOff x="7728120" y="3809520"/>
            <a:chExt cx="540720" cy="596880"/>
          </a:xfrm>
        </p:grpSpPr>
        <p:grpSp>
          <p:nvGrpSpPr>
            <p:cNvPr id="332" name=""/>
            <p:cNvGrpSpPr/>
            <p:nvPr/>
          </p:nvGrpSpPr>
          <p:grpSpPr>
            <a:xfrm>
              <a:off x="7728120" y="3809880"/>
              <a:ext cx="83160" cy="596520"/>
              <a:chOff x="7728120" y="3809880"/>
              <a:chExt cx="83160" cy="596520"/>
            </a:xfrm>
          </p:grpSpPr>
          <p:sp>
            <p:nvSpPr>
              <p:cNvPr id="333" name="Line 10"/>
              <p:cNvSpPr/>
              <p:nvPr/>
            </p:nvSpPr>
            <p:spPr>
              <a:xfrm>
                <a:off x="7728120" y="3809880"/>
                <a:ext cx="83160" cy="59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7728120" y="3809880"/>
                <a:ext cx="8316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811280" y="3809520"/>
              <a:ext cx="123840" cy="596520"/>
              <a:chOff x="7811280" y="3809520"/>
              <a:chExt cx="123840" cy="596520"/>
            </a:xfrm>
          </p:grpSpPr>
          <p:sp>
            <p:nvSpPr>
              <p:cNvPr id="336" name="Line 11"/>
              <p:cNvSpPr/>
              <p:nvPr/>
            </p:nvSpPr>
            <p:spPr>
              <a:xfrm flipV="1">
                <a:off x="7811280" y="3809520"/>
                <a:ext cx="123840" cy="59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 rot="10800000">
                <a:off x="7811280" y="3809520"/>
                <a:ext cx="12384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7935480" y="3809880"/>
              <a:ext cx="83160" cy="596520"/>
              <a:chOff x="7935480" y="3809880"/>
              <a:chExt cx="83160" cy="596520"/>
            </a:xfrm>
          </p:grpSpPr>
          <p:sp>
            <p:nvSpPr>
              <p:cNvPr id="339" name="Line 12"/>
              <p:cNvSpPr/>
              <p:nvPr/>
            </p:nvSpPr>
            <p:spPr>
              <a:xfrm>
                <a:off x="7935480" y="3809880"/>
                <a:ext cx="83160" cy="59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7935480" y="3809880"/>
                <a:ext cx="8316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019000" y="3809520"/>
              <a:ext cx="84240" cy="596520"/>
              <a:chOff x="8019000" y="3809520"/>
              <a:chExt cx="84240" cy="596520"/>
            </a:xfrm>
          </p:grpSpPr>
          <p:sp>
            <p:nvSpPr>
              <p:cNvPr id="342" name="Line 13"/>
              <p:cNvSpPr/>
              <p:nvPr/>
            </p:nvSpPr>
            <p:spPr>
              <a:xfrm flipV="1">
                <a:off x="8019000" y="3809520"/>
                <a:ext cx="84240" cy="59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 rot="10800000">
                <a:off x="8019000" y="3809520"/>
                <a:ext cx="8424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103600" y="3809880"/>
              <a:ext cx="82080" cy="596520"/>
              <a:chOff x="8103600" y="3809880"/>
              <a:chExt cx="82080" cy="596520"/>
            </a:xfrm>
          </p:grpSpPr>
          <p:sp>
            <p:nvSpPr>
              <p:cNvPr id="345" name="Line 14"/>
              <p:cNvSpPr/>
              <p:nvPr/>
            </p:nvSpPr>
            <p:spPr>
              <a:xfrm>
                <a:off x="8103600" y="3809880"/>
                <a:ext cx="82080" cy="59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8103600" y="3809880"/>
                <a:ext cx="8208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185320" y="3809520"/>
              <a:ext cx="83520" cy="596520"/>
              <a:chOff x="8185320" y="3809520"/>
              <a:chExt cx="83520" cy="596520"/>
            </a:xfrm>
          </p:grpSpPr>
          <p:sp>
            <p:nvSpPr>
              <p:cNvPr id="348" name="Line 15"/>
              <p:cNvSpPr/>
              <p:nvPr/>
            </p:nvSpPr>
            <p:spPr>
              <a:xfrm flipV="1">
                <a:off x="8185680" y="3809520"/>
                <a:ext cx="83160" cy="59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 rot="10800000">
                <a:off x="8185320" y="3809520"/>
                <a:ext cx="83160" cy="59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AutoShape 16"/>
          <p:cNvSpPr/>
          <p:nvPr/>
        </p:nvSpPr>
        <p:spPr>
          <a:xfrm>
            <a:off x="1469880" y="1392120"/>
            <a:ext cx="1911600" cy="587520"/>
          </a:xfrm>
          <a:prstGeom prst="rightArrow">
            <a:avLst>
              <a:gd name="adj1" fmla="val 50000"/>
              <a:gd name="adj2" fmla="val 8129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501480" y="514080"/>
            <a:ext cx="1386000" cy="919080"/>
          </a:xfrm>
          <a:prstGeom prst="rightArrow">
            <a:avLst>
              <a:gd name="adj1" fmla="val 50000"/>
              <a:gd name="adj2" fmla="val 3768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820800" y="167652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下面三种形状中的（          ）是增强抗弯曲能力实验中抗弯曲能力最弱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华文细黑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618360" y="4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372280" y="1989000"/>
            <a:ext cx="5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2200320" y="4218120"/>
            <a:ext cx="365040" cy="50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6"/>
          <p:cNvGrpSpPr/>
          <p:nvPr/>
        </p:nvGrpSpPr>
        <p:grpSpPr>
          <a:xfrm>
            <a:off x="5003640" y="4076640"/>
            <a:ext cx="368280" cy="534960"/>
            <a:chOff x="5003640" y="4076640"/>
            <a:chExt cx="368280" cy="534960"/>
          </a:xfrm>
        </p:grpSpPr>
        <p:grpSp>
          <p:nvGrpSpPr>
            <p:cNvPr id="357" name=""/>
            <p:cNvGrpSpPr/>
            <p:nvPr/>
          </p:nvGrpSpPr>
          <p:grpSpPr>
            <a:xfrm>
              <a:off x="5003640" y="4076640"/>
              <a:ext cx="360" cy="534600"/>
              <a:chOff x="5003640" y="4076640"/>
              <a:chExt cx="360" cy="534600"/>
            </a:xfrm>
          </p:grpSpPr>
          <p:sp>
            <p:nvSpPr>
              <p:cNvPr id="358" name="Line 7"/>
              <p:cNvSpPr/>
              <p:nvPr/>
            </p:nvSpPr>
            <p:spPr>
              <a:xfrm>
                <a:off x="5003640" y="4076640"/>
                <a:ext cx="0" cy="53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5003640" y="4076640"/>
                <a:ext cx="360" cy="53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003640" y="4611240"/>
              <a:ext cx="368280" cy="360"/>
              <a:chOff x="5003640" y="4611240"/>
              <a:chExt cx="368280" cy="360"/>
            </a:xfrm>
          </p:grpSpPr>
          <p:sp>
            <p:nvSpPr>
              <p:cNvPr id="361" name="Line 8"/>
              <p:cNvSpPr/>
              <p:nvPr/>
            </p:nvSpPr>
            <p:spPr>
              <a:xfrm>
                <a:off x="5003640" y="4611240"/>
                <a:ext cx="36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5003640" y="4611240"/>
                <a:ext cx="36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Group 9"/>
          <p:cNvGrpSpPr/>
          <p:nvPr/>
        </p:nvGrpSpPr>
        <p:grpSpPr>
          <a:xfrm>
            <a:off x="7429680" y="3860280"/>
            <a:ext cx="504720" cy="533520"/>
            <a:chOff x="7429680" y="3860280"/>
            <a:chExt cx="504720" cy="533520"/>
          </a:xfrm>
        </p:grpSpPr>
        <p:grpSp>
          <p:nvGrpSpPr>
            <p:cNvPr id="364" name=""/>
            <p:cNvGrpSpPr/>
            <p:nvPr/>
          </p:nvGrpSpPr>
          <p:grpSpPr>
            <a:xfrm>
              <a:off x="7429680" y="3860640"/>
              <a:ext cx="77760" cy="533160"/>
              <a:chOff x="7429680" y="3860640"/>
              <a:chExt cx="77760" cy="533160"/>
            </a:xfrm>
          </p:grpSpPr>
          <p:sp>
            <p:nvSpPr>
              <p:cNvPr id="365" name="Line 10"/>
              <p:cNvSpPr/>
              <p:nvPr/>
            </p:nvSpPr>
            <p:spPr>
              <a:xfrm>
                <a:off x="7429680" y="3860640"/>
                <a:ext cx="7776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7429680" y="3860640"/>
                <a:ext cx="777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07080" y="3860280"/>
              <a:ext cx="115920" cy="533160"/>
              <a:chOff x="7507080" y="3860280"/>
              <a:chExt cx="115920" cy="533160"/>
            </a:xfrm>
          </p:grpSpPr>
          <p:sp>
            <p:nvSpPr>
              <p:cNvPr id="368" name="Line 11"/>
              <p:cNvSpPr/>
              <p:nvPr/>
            </p:nvSpPr>
            <p:spPr>
              <a:xfrm flipV="1">
                <a:off x="7507440" y="3860280"/>
                <a:ext cx="11556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 rot="10800000">
                <a:off x="7507080" y="3860280"/>
                <a:ext cx="1155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7623000" y="3860640"/>
              <a:ext cx="77760" cy="533160"/>
              <a:chOff x="7623000" y="3860640"/>
              <a:chExt cx="77760" cy="533160"/>
            </a:xfrm>
          </p:grpSpPr>
          <p:sp>
            <p:nvSpPr>
              <p:cNvPr id="371" name="Line 12"/>
              <p:cNvSpPr/>
              <p:nvPr/>
            </p:nvSpPr>
            <p:spPr>
              <a:xfrm>
                <a:off x="7623000" y="3860640"/>
                <a:ext cx="7776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7623000" y="3860640"/>
                <a:ext cx="777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00400" y="3860280"/>
              <a:ext cx="79200" cy="533160"/>
              <a:chOff x="7700400" y="3860280"/>
              <a:chExt cx="79200" cy="533160"/>
            </a:xfrm>
          </p:grpSpPr>
          <p:sp>
            <p:nvSpPr>
              <p:cNvPr id="374" name="Line 13"/>
              <p:cNvSpPr/>
              <p:nvPr/>
            </p:nvSpPr>
            <p:spPr>
              <a:xfrm flipV="1">
                <a:off x="7700760" y="3860280"/>
                <a:ext cx="788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 rot="10800000">
                <a:off x="7700400" y="3860280"/>
                <a:ext cx="7884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7779960" y="3860640"/>
              <a:ext cx="76320" cy="533160"/>
              <a:chOff x="7779960" y="3860640"/>
              <a:chExt cx="76320" cy="533160"/>
            </a:xfrm>
          </p:grpSpPr>
          <p:sp>
            <p:nvSpPr>
              <p:cNvPr id="377" name="Line 14"/>
              <p:cNvSpPr/>
              <p:nvPr/>
            </p:nvSpPr>
            <p:spPr>
              <a:xfrm>
                <a:off x="7779960" y="3860640"/>
                <a:ext cx="7632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7779960" y="3860640"/>
                <a:ext cx="7632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56640" y="3860280"/>
              <a:ext cx="77760" cy="533160"/>
              <a:chOff x="7856640" y="3860280"/>
              <a:chExt cx="77760" cy="533160"/>
            </a:xfrm>
          </p:grpSpPr>
          <p:sp>
            <p:nvSpPr>
              <p:cNvPr id="380" name="Line 15"/>
              <p:cNvSpPr/>
              <p:nvPr/>
            </p:nvSpPr>
            <p:spPr>
              <a:xfrm flipV="1">
                <a:off x="7856640" y="3860280"/>
                <a:ext cx="7776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 rot="10800000">
                <a:off x="7856640" y="3860280"/>
                <a:ext cx="7776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AutoShape 16"/>
          <p:cNvSpPr/>
          <p:nvPr/>
        </p:nvSpPr>
        <p:spPr>
          <a:xfrm>
            <a:off x="1179360" y="187200"/>
            <a:ext cx="1386000" cy="919080"/>
          </a:xfrm>
          <a:prstGeom prst="rightArrow">
            <a:avLst>
              <a:gd name="adj1" fmla="val 50000"/>
              <a:gd name="adj2" fmla="val 3768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833400" y="1276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研究发现，改变了纸的形状后，纸的抗弯曲能力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增强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改变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618360" y="4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444840" y="2771640"/>
            <a:ext cx="3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1469880" y="1392120"/>
            <a:ext cx="1911600" cy="587520"/>
          </a:xfrm>
          <a:prstGeom prst="rightArrow">
            <a:avLst>
              <a:gd name="adj1" fmla="val 50000"/>
              <a:gd name="adj2" fmla="val 8129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501480" y="514080"/>
            <a:ext cx="1386000" cy="919080"/>
          </a:xfrm>
          <a:prstGeom prst="rightArrow">
            <a:avLst>
              <a:gd name="adj1" fmla="val 50000"/>
              <a:gd name="adj2" fmla="val 3768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选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3584880" y="482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420840" y="1335240"/>
            <a:ext cx="8369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用同样的材料做电线杆，做成（       ）比较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空心的方形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空心的圆形的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、实心的圆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189920" y="1643040"/>
            <a:ext cx="5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3584880" y="482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细黑"/>
              </a:rPr>
              <a:t>形状与抗弯曲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720720" y="1243080"/>
            <a:ext cx="776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将同一块砖按照下图中三种不同的方式放置，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华文细黑"/>
              </a:rPr>
              <a:t>最稳定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的是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细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6770520" y="27129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2041560" y="3711600"/>
            <a:ext cx="619200" cy="911160"/>
          </a:xfrm>
          <a:prstGeom prst="cube">
            <a:avLst>
              <a:gd name="adj" fmla="val 3274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4019400" y="3844800"/>
            <a:ext cx="1641600" cy="579600"/>
          </a:xfrm>
          <a:prstGeom prst="cube">
            <a:avLst>
              <a:gd name="adj" fmla="val 4779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6676920" y="4083120"/>
            <a:ext cx="1341720" cy="439560"/>
          </a:xfrm>
          <a:prstGeom prst="cube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23FA-F50A-446A-AED2-0BF8423C13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"/>
          <p:cNvSpPr/>
          <p:nvPr/>
        </p:nvSpPr>
        <p:spPr>
          <a:xfrm>
            <a:off x="0" y="765000"/>
            <a:ext cx="93250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细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细黑"/>
              </a:rPr>
              <a:t>、下列有关物体抗弯曲能力的说法中正确的是（ 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Ａ、物体抗弯曲能力只与物体的厚度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Ｂ、物体抗弯曲能力只与物体的形状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细黑"/>
              </a:rPr>
              <a:t>Ｃ、物体抗弯曲能力与物体的形状和厚度都有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7885080" y="1052640"/>
            <a:ext cx="4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79280" y="47628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材料的抗弯曲能力（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只与材料厚度有关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只与材料宽度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与材料宽度和厚度都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材料的厚度和宽度，材料（        ）地影响抵抗弯曲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同样程度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厚度更多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宽度更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086800" y="83664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83560" y="36450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纸梁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度与抗弯曲能力的关系是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58560" y="1699920"/>
            <a:ext cx="5256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纸梁的宽度增加，抗弯曲能力也会增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627200" y="33577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纸梁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厚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度与抗弯曲能力的关系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403280" y="4365720"/>
            <a:ext cx="5113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纸梁的厚度增加，抗弯曲能力会大大增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27160" y="2276640"/>
            <a:ext cx="89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增加横梁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厚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比增加横梁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宽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能更有效地提高横梁的抗弯曲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533520" y="1066680"/>
            <a:ext cx="81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横梁平着放好，还是立着放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826920" y="206064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梁立着放好，因为立着放增加了厚度，桥梁抗弯曲能力大大增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8199"/>
          <p:cNvSpPr/>
          <p:nvPr/>
        </p:nvSpPr>
        <p:spPr>
          <a:xfrm>
            <a:off x="1455840" y="388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189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研究纸梁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宽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抗弯曲能力的关系时，要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改变的条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（        ）。在研究纸梁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厚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抗弯曲能力的关系时，要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保持不变的条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（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材质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厚度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宽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长短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单个垫圈的轻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500280" y="1413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1280" y="33577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411200" y="3429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771640" y="3429000"/>
            <a:ext cx="4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055600" y="34290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89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在研究纸梁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厚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抗弯曲能力的关系时，要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改变的条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（        ）。在研究纸梁的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宽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与抗弯曲能力的关系时，要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保持不变的条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（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材质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厚度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宽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纸的长短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单个垫圈的轻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497400" y="1413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11280" y="33577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08320" y="3429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771640" y="3429000"/>
            <a:ext cx="4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2055600" y="342900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纸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厚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抗弯曲能力的大小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中我们放上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垫圈时纸梁接触到了桌面。纸梁的抗弯曲能力是多少（       ）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55280" y="3789360"/>
            <a:ext cx="3529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垫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5076720" y="3860640"/>
            <a:ext cx="2819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垫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050920" y="2492280"/>
            <a:ext cx="7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4:55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08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