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camera.wav" ContentType="audio/x-wav"/>
  <Override PartName="/ppt/media/image17.jpeg" ContentType="image/jpeg"/>
  <Override PartName="/ppt/media/image14.png" ContentType="image/png"/>
  <Override PartName="/ppt/media/image13.png" ContentType="image/png"/>
  <Override PartName="/ppt/media/type.wav" ContentType="audio/x-wav"/>
  <Override PartName="/ppt/media/image12.png" ContentType="image/png"/>
  <Override PartName="/ppt/media/image11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D81-028B-4C8E-9851-5F58A62B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63A-D316-43A9-BC45-2986E3B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9DC-211C-4CB6-8118-48A41D27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26F-25A8-4B11-9DE3-C696A7E1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DB1-812C-4902-AF8A-7E9F0991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FDC-951C-4BE2-9BB5-3A2ADA0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A8AC-0FDF-439B-9659-3E881E6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736E-1F61-4040-A8CC-CE6D5A4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F24-2AC4-4673-AD64-68A5BF3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53D9-49FD-4D91-927C-1E6DCC36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80E1-FA64-41F4-B67F-1E64007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174-34C6-46BE-932C-2EA6316D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F08-F5F0-4ECE-9A46-9EB6758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AA4D-5684-40F6-80BC-39E6C96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12EF-A8D2-42DC-A2BB-9522FBED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40B-DEE6-4358-B020-EA8A31E2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0D9D-025A-428A-BAED-A7D63239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A9C-26E2-42C4-B14B-D61E1E76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165-6D85-4A72-A301-645DE037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9E5-89B6-478D-B2F1-06DCC9B4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EC2-94DB-4034-A063-EF30958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109-3581-4C48-9DD6-BA9E2BF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98B-0924-4105-A76C-8EA5372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5BD-0EE7-4D01-BA4E-82561A2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534F-2B2A-4388-8A7A-675A72AA8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AD6-6368-4BC7-A580-4F112B5158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audio" Target="../media/type.wav"/><Relationship Id="rId8" Type="http://schemas.openxmlformats.org/officeDocument/2006/relationships/audio" Target="../media/wind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《学弈》插图"/>
          <p:cNvPicPr/>
          <p:nvPr/>
        </p:nvPicPr>
        <p:blipFill>
          <a:blip r:embed="rId1"/>
          <a:stretch/>
        </p:blipFill>
        <p:spPr>
          <a:xfrm>
            <a:off x="-3240" y="0"/>
            <a:ext cx="4608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4788000" y="549360"/>
            <a:ext cx="24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六年级语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884320" y="103500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学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语文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0" y="0"/>
            <a:ext cx="3924360" cy="2133720"/>
          </a:xfrm>
          <a:prstGeom prst="cloudCallout">
            <a:avLst>
              <a:gd name="adj1" fmla="val 12541"/>
              <a:gd name="adj2" fmla="val 12023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其一人专心致志，惟弈秋之为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9640" y="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人虽听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心以为有鸿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将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弓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而射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48428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340000" y="148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弈秋讲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26668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4112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990720" y="213372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鸿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843280" y="2133720"/>
            <a:ext cx="15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990720" y="32004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弓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817720" y="3213000"/>
            <a:ext cx="63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弓箭（缴：指系在箭上的丝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990720" y="3733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⑤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340000" y="378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鸿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1430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79280" y="4419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另一个人虽然也在听弈秋讲，可是心里却想着天上有天鹅将要飞到这里来，想取过弓箭，把它射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5076720" y="0"/>
            <a:ext cx="4067280" cy="1916280"/>
          </a:xfrm>
          <a:prstGeom prst="cloudCallout">
            <a:avLst>
              <a:gd name="adj1" fmla="val 25995"/>
              <a:gd name="adj2" fmla="val 8744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心以为有鸿鹄将至，思援弓缴而射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《学弈》插图"/>
          <p:cNvPicPr/>
          <p:nvPr/>
        </p:nvPicPr>
        <p:blipFill>
          <a:blip r:embed="rId1"/>
          <a:srcRect l="41356" t="0" r="-339" b="0"/>
          <a:stretch/>
        </p:blipFill>
        <p:spPr>
          <a:xfrm>
            <a:off x="0" y="3284640"/>
            <a:ext cx="2739960" cy="306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95280" y="19692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人虽听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，一心以为有鸿鹄将至，思援弓缴而射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284720" y="1628640"/>
            <a:ext cx="4716360" cy="3024360"/>
          </a:xfrm>
          <a:prstGeom prst="cloudCallout">
            <a:avLst>
              <a:gd name="adj1" fmla="val -83356"/>
              <a:gd name="adj2" fmla="val 46009"/>
            </a:avLst>
          </a:prstGeom>
          <a:solidFill>
            <a:srgbClr val="a4d6da">
              <a:alpha val="33000"/>
            </a:srgbClr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13dzctp5"/>
          <p:cNvPicPr/>
          <p:nvPr/>
        </p:nvPicPr>
        <p:blipFill>
          <a:blip r:embed="rId2"/>
          <a:stretch/>
        </p:blipFill>
        <p:spPr>
          <a:xfrm rot="19456200">
            <a:off x="4932360" y="1989000"/>
            <a:ext cx="1760400" cy="21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3" name="Picture 6" descr="53037"/>
          <p:cNvPicPr/>
          <p:nvPr/>
        </p:nvPicPr>
        <p:blipFill>
          <a:blip r:embed="rId3"/>
          <a:stretch/>
        </p:blipFill>
        <p:spPr>
          <a:xfrm>
            <a:off x="7021440" y="1844640"/>
            <a:ext cx="1551240" cy="1655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4788000" y="495000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：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鸿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468360" y="260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虽与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学，弗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380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他，指前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03280" y="2438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俱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447920" y="3352680"/>
            <a:ext cx="68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弗若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23880" y="4191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矣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9280" y="501336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译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这个人虽然与前一个人一起学习，成绩却不如那个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《学弈》插图"/>
          <p:cNvPicPr/>
          <p:nvPr/>
        </p:nvPicPr>
        <p:blipFill>
          <a:blip r:embed="rId1"/>
          <a:stretch/>
        </p:blipFill>
        <p:spPr>
          <a:xfrm>
            <a:off x="-90000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/>
          <p:cNvSpPr/>
          <p:nvPr/>
        </p:nvSpPr>
        <p:spPr>
          <a:xfrm>
            <a:off x="0" y="0"/>
            <a:ext cx="3924360" cy="2565360"/>
          </a:xfrm>
          <a:prstGeom prst="cloudCallout">
            <a:avLst>
              <a:gd name="adj1" fmla="val 19824"/>
              <a:gd name="adj2" fmla="val 6429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其一人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专心致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惟弈秋之为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（专心致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435640" y="-243000"/>
            <a:ext cx="3492360" cy="2565360"/>
          </a:xfrm>
          <a:prstGeom prst="cloudCallout">
            <a:avLst>
              <a:gd name="adj1" fmla="val 34319"/>
              <a:gd name="adj2" fmla="val 6881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心以为有鸿鹄将至，思援弓缴而射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三心二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987640" y="260280"/>
            <a:ext cx="20890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聚精会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神贯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力以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心一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062920" y="1052640"/>
            <a:ext cx="216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不在焉一心二用心神不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908000" y="1125360"/>
            <a:ext cx="38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719360" y="2997360"/>
            <a:ext cx="2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908000" y="3500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曰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908000" y="4005360"/>
            <a:ext cx="37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非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79280" y="260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智弗若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？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763640" y="177336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其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他，指后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908000" y="4581360"/>
            <a:ext cx="37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然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这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11280" y="515772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译文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因为他的智力不如前一个人吗？回答说：不是这样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908000" y="2421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弗若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6588000" y="6308640"/>
            <a:ext cx="1368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6588000" y="3357720"/>
            <a:ext cx="107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50920" y="1219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是全国最善于下棋的人。让     他教两个人下棋，其中一个人专心致志，只听弈秋的教导；而另一个人虽然也听讲，可是心里却想着天上有天鹅要飞过来，想拿弓箭去射它。这个人虽然同前一个人一起学习，成绩却不如那个人。是因为他的聪明才智不如前一个人吗？回答说：不是这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505320" y="304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7"/>
          <p:cNvSpPr/>
          <p:nvPr/>
        </p:nvSpPr>
        <p:spPr>
          <a:xfrm>
            <a:off x="1476360" y="609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03"/>
          <p:cNvPicPr/>
          <p:nvPr/>
        </p:nvPicPr>
        <p:blipFill>
          <a:blip r:embed="rId1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4211640" y="2637000"/>
            <a:ext cx="10080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68360" y="54936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为是其智弗若与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：非然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01"/>
          <p:cNvPicPr/>
          <p:nvPr/>
        </p:nvPicPr>
        <p:blipFill>
          <a:blip r:embed="rId2"/>
          <a:stretch/>
        </p:blipFill>
        <p:spPr>
          <a:xfrm>
            <a:off x="1763640" y="4005360"/>
            <a:ext cx="1924200" cy="23162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828720" y="249228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专心致志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成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191280" y="256536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一心二用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失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851280" y="1484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条件一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态度不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03"/>
          <p:cNvPicPr/>
          <p:nvPr/>
        </p:nvPicPr>
        <p:blipFill>
          <a:blip r:embed="rId3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02"/>
          <p:cNvPicPr/>
          <p:nvPr/>
        </p:nvPicPr>
        <p:blipFill>
          <a:blip r:embed="rId4"/>
          <a:stretch/>
        </p:blipFill>
        <p:spPr>
          <a:xfrm>
            <a:off x="5508720" y="4221000"/>
            <a:ext cx="1863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692360" y="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思考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90792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两个人同时在最好的老师指导下学棋，为什么会产生不同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26920" y="220500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答：因为一个人专心致志学习，而另一个人三心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985760" y="3429000"/>
            <a:ext cx="534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过学习，你从中得到了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课文告诉我们一个什么道理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5373720"/>
            <a:ext cx="756144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答：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课文告诉我们学习要专心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志，绝不可三心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468360" y="1916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1483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刻舟求剑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郑人买履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叶公好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东施效颦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楚王好细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这些都是古人写的文章，古人写的文章，我们叫做</a:t>
            </a:r>
            <a:r>
              <a:rPr b="1" lang="zh-CN" sz="3200" spc="-1" strike="noStrike">
                <a:solidFill>
                  <a:srgbClr val="cc00cc"/>
                </a:solidFill>
                <a:latin typeface="新宋体"/>
                <a:ea typeface="新宋体"/>
              </a:rPr>
              <a:t>文言文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，也叫</a:t>
            </a:r>
            <a:r>
              <a:rPr b="1" lang="zh-CN" sz="3200" spc="-1" strike="noStrike">
                <a:solidFill>
                  <a:srgbClr val="cc00cc"/>
                </a:solidFill>
                <a:latin typeface="新宋体"/>
                <a:ea typeface="新宋体"/>
              </a:rPr>
              <a:t>古文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。我们今天将要学习的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学弈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也是一篇古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，我们学过哪些寓言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4292640"/>
            <a:ext cx="568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3933720"/>
            <a:ext cx="669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23840" y="3816360"/>
            <a:ext cx="650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166760" y="3816360"/>
            <a:ext cx="6284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071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Arial"/>
              </a:rPr>
              <a:t>小结：</a:t>
            </a:r>
            <a:br>
              <a:rPr sz="36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概括学习文言文的方法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多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看注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懂句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释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2484360" y="1882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知识巩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87280" y="1628640"/>
            <a:ext cx="7201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解释词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弈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诲：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善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鸿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援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俱： 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弗若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然： ＿＿＿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627280" y="24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下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56360" y="24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教导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268360" y="321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善于，擅长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588000" y="321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鹅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340000" y="4005360"/>
            <a:ext cx="20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拉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372360" y="4076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一起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843280" y="4869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不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443640" y="486900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这样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635280" y="537372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《学弈》插图"/>
          <p:cNvPicPr/>
          <p:nvPr/>
        </p:nvPicPr>
        <p:blipFill>
          <a:blip r:embed="rId1"/>
          <a:stretch/>
        </p:blipFill>
        <p:spPr>
          <a:xfrm>
            <a:off x="1116000" y="177336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479320" y="115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下列句子译成现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324000" y="260280"/>
            <a:ext cx="21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你能行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58920" y="1884240"/>
            <a:ext cx="460836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66ff"/>
                </a:solidFill>
                <a:latin typeface="Arial"/>
                <a:ea typeface="黑体"/>
              </a:rPr>
              <a:t>1.</a:t>
            </a: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使弈秋诲二人弈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 u="sng">
                <a:solidFill>
                  <a:srgbClr val="3366ff"/>
                </a:solidFill>
                <a:uFillTx/>
                <a:latin typeface="Arial"/>
                <a:ea typeface="黑体"/>
              </a:rPr>
              <a:t>          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cc"/>
                </a:solidFill>
                <a:latin typeface="Arial"/>
                <a:ea typeface="黑体"/>
              </a:rPr>
              <a:t>2.</a:t>
            </a: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思援弓徼而射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3.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为是其智弗若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03280" y="3284640"/>
            <a:ext cx="7272360" cy="360"/>
            <a:chOff x="1403280" y="3284640"/>
            <a:chExt cx="7272360" cy="360"/>
          </a:xfrm>
        </p:grpSpPr>
        <p:sp>
          <p:nvSpPr>
            <p:cNvPr id="228" name="Line 6"/>
            <p:cNvSpPr/>
            <p:nvPr/>
          </p:nvSpPr>
          <p:spPr>
            <a:xfrm>
              <a:off x="1403280" y="3284640"/>
              <a:ext cx="7272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403280" y="32846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425600" y="4724280"/>
            <a:ext cx="7250040" cy="360"/>
            <a:chOff x="1425600" y="4724280"/>
            <a:chExt cx="7250040" cy="360"/>
          </a:xfrm>
        </p:grpSpPr>
        <p:sp>
          <p:nvSpPr>
            <p:cNvPr id="231" name="Line 7"/>
            <p:cNvSpPr/>
            <p:nvPr/>
          </p:nvSpPr>
          <p:spPr>
            <a:xfrm>
              <a:off x="1425600" y="4724280"/>
              <a:ext cx="72500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425600" y="4724280"/>
              <a:ext cx="725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403280" y="6165720"/>
            <a:ext cx="7416720" cy="360"/>
            <a:chOff x="1403280" y="6165720"/>
            <a:chExt cx="7416720" cy="360"/>
          </a:xfrm>
        </p:grpSpPr>
        <p:sp>
          <p:nvSpPr>
            <p:cNvPr id="234" name="Line 8"/>
            <p:cNvSpPr/>
            <p:nvPr/>
          </p:nvSpPr>
          <p:spPr>
            <a:xfrm>
              <a:off x="1403280" y="6165720"/>
              <a:ext cx="7416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403280" y="6165720"/>
              <a:ext cx="741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1116000" y="2514600"/>
            <a:ext cx="66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（人们）让弈秋教两个人下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392120" y="3933720"/>
            <a:ext cx="684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想着引弓箭去射天鹅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353960" y="5446800"/>
            <a:ext cx="78472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以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说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是这个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的智力比不上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那个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7621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447920" y="685800"/>
            <a:ext cx="678168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下列“之”分别指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人虽听之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思援弓缴而射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虽与之俱学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弗若之矣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1722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弈秋的教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40080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鸿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248520" y="3962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前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6308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前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468360" y="981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90720" y="266688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1.</a:t>
            </a: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背诵课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71640" y="386064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2.</a:t>
            </a: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做本课的练习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289728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揠苗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孙丑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宋人有闵其苗之，不长而揠之者，芒芒然归，谓其人曰：“今日病矣！予助苗长矣！”其子趋而往视之，苗则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ā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枯干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比喻不顾事物发展的规律，强求速成，结果反而把事情弄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3368520"/>
            <a:ext cx="9144000" cy="3076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刻舟求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吕氏春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察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楚人有涉江者，其剑自舟中坠于水，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刀雕刻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舟曰：“是吾剑之所从坠。”舟止，从其所契者入水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来讽刺固执而不知变化的愚蠢可笑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457200"/>
            <a:ext cx="8534160" cy="2775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蛇添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国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策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楚有祠者，赐其余人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代盛酒的器皿）酒。舍人相谓曰：“数人饮之不足，一人饮之有余，请画地为蛇，先成者饮酒。”一人蛇先成， 引酒且饮之，乃左手持卮，右手画蛇曰：“吾能为之足。”未成，一人之蛇成，夺其卮曰：“蛇固无足，子安能为之足？”遂饮其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比喻多此一举，反而弄巧成拙 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老吾老，以及人之老；幼吾幼，以及人之幼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天时不如地利，地利不如人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富贵不能淫，贫贱不能移，威武不能屈。此之谓大丈夫。”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不以规距，不能成方员（圆）不以六律，不能正五音。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君子以仁存心，以礼存心。仁者爱人，有礼者敬人。爱人者人恒爱之，敬人者人恒敬之。” 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197"/>
          <p:cNvSpPr/>
          <p:nvPr/>
        </p:nvSpPr>
        <p:spPr>
          <a:xfrm>
            <a:off x="1547640" y="3502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曰：“故天将降大任于是人也，必先苦其心志，劳其筋骨，饿其体肤，空乏其身，行拂乱其所为，所以动心忍性，曾益其所不能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有三乐，而王天下不与存焉。父母俱在，兄弟无故，一乐也；仰不愧于天，俯不怍于人，二乐也；得天下英才而教育之，三乐也。（君子有三种乐处，但是以德服天下并不在其中。父母都健康，兄弟没灾患，是第一种乐趣；抬头无愧于天，低头无愧于人，是第二种乐趣；得到天下优秀人才而对他们进行教育，是第三种乐趣。）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耻不若人，何若人有？（不以赶不上别人为羞耻，怎么能赶上别人呢？）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穷则独善其身，达则兼善天下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chimes.wav"/>
      </p:stSnd>
    </p:sndAc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18A-E547-4801-8282-075B7992CB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学弈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只有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句话，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个字，是一篇短小精悍的寓言故事。学古人写的文章有一定困难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们怎样才能学好古人写的文章呢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有什么方法呢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多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看注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懂句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释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曰：仁者无敌。（仁德的人是无敌于天下的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而死于安乐也。（忧愁患害足以使人生存，安逸快乐足以使人死亡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恻隐之心，非人也；无羞恶之心，非人也；无辞让之心，非人也；无是非之心，非人也。恻隐之心，仁之端也。羞恶之心，义之端也。辞让之心，礼之端也。是非之心，智之端也。人之有是四端也，犹其有四体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chimes.wav"/>
      </p:stSnd>
    </p:sndAc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学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，通国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善弈者也。使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诲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人弈，其一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专心致志，惟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之为听；一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虽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听之，一心以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鸿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h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ό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nɡ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鹄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h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将至，思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援弓缴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zhu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ό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射之。虽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俱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j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ù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，弗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若之矣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ǐ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为是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其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弗若与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？曰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uē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：非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2"/>
          <p:cNvPicPr/>
          <p:nvPr/>
        </p:nvPicPr>
        <p:blipFill>
          <a:blip r:embed="rId1"/>
          <a:stretch/>
        </p:blipFill>
        <p:spPr>
          <a:xfrm>
            <a:off x="6248520" y="1700280"/>
            <a:ext cx="2895480" cy="2422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4427640" y="260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Ar_011"/>
          <p:cNvPicPr/>
          <p:nvPr/>
        </p:nvPicPr>
        <p:blipFill>
          <a:blip r:embed="rId2"/>
          <a:stretch/>
        </p:blipFill>
        <p:spPr>
          <a:xfrm>
            <a:off x="4211640" y="2781360"/>
            <a:ext cx="838080" cy="77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r_009"/>
          <p:cNvPicPr/>
          <p:nvPr/>
        </p:nvPicPr>
        <p:blipFill>
          <a:blip r:embed="rId3"/>
          <a:stretch/>
        </p:blipFill>
        <p:spPr>
          <a:xfrm>
            <a:off x="5435640" y="2924280"/>
            <a:ext cx="1219320" cy="5331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4500720" y="1268280"/>
            <a:ext cx="1523880" cy="1371600"/>
          </a:xfrm>
          <a:custGeom>
            <a:avLst/>
            <a:gdLst>
              <a:gd name="textAreaLeft" fmla="*/ 357840 w 1523880"/>
              <a:gd name="textAreaRight" fmla="*/ 1166040 w 1523880"/>
              <a:gd name="textAreaTop" fmla="*/ 321840 h 1371600"/>
              <a:gd name="textAreaBottom" fmla="*/ 1049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93432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围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49880" y="328464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下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140360" y="10526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图片1"/>
          <p:cNvPicPr/>
          <p:nvPr/>
        </p:nvPicPr>
        <p:blipFill>
          <a:blip r:embed="rId4"/>
          <a:stretch/>
        </p:blipFill>
        <p:spPr>
          <a:xfrm>
            <a:off x="0" y="1700280"/>
            <a:ext cx="3419640" cy="3122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826920" y="5084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学弈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132000" y="508464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学习下围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343400" y="22096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648320" y="2133720"/>
            <a:ext cx="2361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004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21581400">
            <a:off x="169200" y="14842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　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孟子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约公元前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37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—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前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289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年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)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战国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时期思想家。他继承并发展了孔子的思想。</a:t>
            </a:r>
            <a:r>
              <a:rPr b="1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孟子</a:t>
            </a:r>
            <a:r>
              <a:rPr b="1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一书是孟子的言论汇编，由孟子及其弟子共同编写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201080" y="2201760"/>
            <a:ext cx="10062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14600" y="5306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孟子"/>
          <p:cNvPicPr/>
          <p:nvPr/>
        </p:nvPicPr>
        <p:blipFill>
          <a:blip r:embed="rId1"/>
          <a:stretch/>
        </p:blipFill>
        <p:spPr>
          <a:xfrm>
            <a:off x="5713560" y="2133720"/>
            <a:ext cx="24555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79280" y="18900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弈秋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通国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善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弈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⑤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者也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278136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通国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全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3573360"/>
            <a:ext cx="27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4360" y="4365720"/>
            <a:ext cx="42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善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善于，擅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50840" y="58881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59500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弈秋，是全国最善于下棋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84360" y="1628640"/>
            <a:ext cx="845964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弈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秋，人名，因他善于下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所以称为弈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84360" y="5157720"/>
            <a:ext cx="35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弈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下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7"/>
          <p:cNvSpPr/>
          <p:nvPr/>
        </p:nvSpPr>
        <p:spPr>
          <a:xfrm>
            <a:off x="3060720" y="3860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1979640" y="0"/>
            <a:ext cx="3924360" cy="1728720"/>
          </a:xfrm>
          <a:prstGeom prst="cloudCallout">
            <a:avLst>
              <a:gd name="adj1" fmla="val 19537"/>
              <a:gd name="adj2" fmla="val 10481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弈秋，通国之善弈者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3964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人弈，其一人专心致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之为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62864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835280" y="162864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2349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835280" y="234936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80880" y="3645000"/>
            <a:ext cx="18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763640" y="371628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95280" y="29973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专心致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203640" y="3068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心一意，集中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79280" y="4437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让弈秋教两个人下棋，其中一个人一心一意，聚精会神，只听弈秋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06:57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5Z</dcterms:modified>
  <cp:revision>1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