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B3C-BD4D-42C4-B002-27F1C63A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576-3AB5-42D9-A343-C827B2D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069-1B34-46F5-9DA0-4BB7916B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30E-969D-4669-BEFD-910DBA3B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F28-B2F8-40BF-89CB-38214D0A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DC42-EEDC-4DEC-9356-E0BC2CD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DE6-DDA0-4DD3-B0B8-60A5674D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170F-D40B-45FB-87D1-A5D9B3A2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1565-4A43-400B-A5D9-D9C6314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BB5-640D-41F9-92A2-FB5DFAA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07A7-A49D-484E-9EB9-406D137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69D-CCFB-4A91-BDBA-D162355B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4128-A595-4F40-BA13-D31E17B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A234-F785-4258-8A0F-70B5088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F4E4-0BEE-4894-8CE6-05F23C74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55CF-C25A-4D53-B1BC-568F16EB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8B40-979A-490E-A9B7-71209D05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D70-0F5A-4D0F-9356-4D538699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9E5-7432-49FC-8F3B-D87F46A0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B13-660A-415A-B27F-3235271A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938-46BA-43E3-B9B3-84E3F6CB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CE0-7DC4-4C3C-A143-4D5FFCC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909-931A-4B34-85F7-8BB11B7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1D4-AB60-4D96-865D-CF6A5E6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297-AD12-47C4-9CD8-CF28F73EEB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9A20-D5D1-4622-A8DD-397B3FCBA2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5"/>
          <p:cNvSpPr/>
          <p:nvPr/>
        </p:nvSpPr>
        <p:spPr>
          <a:xfrm>
            <a:off x="0" y="31021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1157400" y="98100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第十课　选择希望人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22"/>
          <p:cNvSpPr txBox="1"/>
          <p:nvPr/>
        </p:nvSpPr>
        <p:spPr>
          <a:xfrm>
            <a:off x="1230480" y="2997360"/>
            <a:ext cx="662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拥抱美好未来课件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终身学习   持续发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71440" y="1628640"/>
            <a:ext cx="76852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终身学习对个人、对社会的重要影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34880" y="2994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终身学习是社会发展的必然要求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0720" y="24177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终身学习是个人可持续发展的要求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24000" y="3789360"/>
            <a:ext cx="6305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３、终身学习对中学生的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39640" y="4437000"/>
            <a:ext cx="67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要求我们珍惜在学校学习的机会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95280" y="50846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初中毕业以后，无论选择升学还是就业，都是发展之路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20043418264515468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/>
          <p:cNvSpPr/>
          <p:nvPr/>
        </p:nvSpPr>
        <p:spPr>
          <a:xfrm>
            <a:off x="2598120" y="765000"/>
            <a:ext cx="366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要树立终身学习的观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团队精神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762120"/>
            <a:ext cx="7638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什么要具备团队精神（意义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13716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具备了团队精神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才能更好地施展个人才华，实现自身价值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才能更好地发挥团队的创造力，形成文明和谐、团结高效的集体，推动社会进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8229600" y="6172200"/>
            <a:ext cx="533520" cy="457200"/>
          </a:xfrm>
          <a:prstGeom prst="leftArrow">
            <a:avLst>
              <a:gd name="adj1" fmla="val 50000"/>
              <a:gd name="adj2" fmla="val 29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0" y="4038480"/>
            <a:ext cx="7467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实际中，如何发挥团队的作用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920" y="480060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学习中互相帮助、互相促进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04920" y="5486400"/>
            <a:ext cx="50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生活中相互扶持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28600" y="6278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育比赛中互相配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" descr="002"/>
          <p:cNvPicPr/>
          <p:nvPr/>
        </p:nvPicPr>
        <p:blipFill>
          <a:blip r:embed="rId1"/>
          <a:stretch/>
        </p:blipFill>
        <p:spPr>
          <a:xfrm>
            <a:off x="4800600" y="2286000"/>
            <a:ext cx="396252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3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72" name="Picture 14" descr="中国民办教育创新与发展论坛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15"/>
            <p:cNvSpPr/>
            <p:nvPr/>
          </p:nvSpPr>
          <p:spPr>
            <a:xfrm>
              <a:off x="6095880" y="914400"/>
              <a:ext cx="2362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Rectangle 17"/>
          <p:cNvSpPr/>
          <p:nvPr/>
        </p:nvSpPr>
        <p:spPr>
          <a:xfrm>
            <a:off x="0" y="137160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江苏省首届全民终身学习活动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2005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年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月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日在南京市拉开帷幕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8" descr="922A20F"/>
          <p:cNvPicPr/>
          <p:nvPr/>
        </p:nvPicPr>
        <p:blipFill>
          <a:blip r:embed="rId3"/>
          <a:stretch/>
        </p:blipFill>
        <p:spPr>
          <a:xfrm>
            <a:off x="2971800" y="4038480"/>
            <a:ext cx="3429000" cy="256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1107228049116"/>
          <p:cNvPicPr/>
          <p:nvPr/>
        </p:nvPicPr>
        <p:blipFill>
          <a:blip r:embed="rId4"/>
          <a:stretch/>
        </p:blipFill>
        <p:spPr>
          <a:xfrm>
            <a:off x="76320" y="256860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3"/>
          <p:cNvSpPr txBox="1"/>
          <p:nvPr/>
        </p:nvSpPr>
        <p:spPr>
          <a:xfrm>
            <a:off x="762120" y="763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什么是文盲？</a:t>
            </a:r>
            <a:endParaRPr b="1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09480" y="3124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社会，文盲不仅仅指“不识字的人”，随着知识经济时代的到来，可能有些人在某种程度上会成为新的文盲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4876920"/>
            <a:ext cx="843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不会外语、计算机的人，不能与人很好相处、不能与环境协调一致、情感缺失的人，都可能会成为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21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世纪的“文盲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会学习的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1" descr="xin_0209020908446253034413"/>
          <p:cNvPicPr/>
          <p:nvPr/>
        </p:nvPicPr>
        <p:blipFill>
          <a:blip r:embed="rId1"/>
          <a:stretch/>
        </p:blipFill>
        <p:spPr>
          <a:xfrm>
            <a:off x="1066680" y="990720"/>
            <a:ext cx="2895840" cy="193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15.jpg"/>
          <p:cNvPicPr/>
          <p:nvPr/>
        </p:nvPicPr>
        <p:blipFill>
          <a:blip r:embed="rId2"/>
          <a:stretch/>
        </p:blipFill>
        <p:spPr>
          <a:xfrm>
            <a:off x="4724280" y="685800"/>
            <a:ext cx="350532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3" name="Picture 3" descr="00123f3c45ea04dd5485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6"/>
            <p:cNvSpPr/>
            <p:nvPr/>
          </p:nvSpPr>
          <p:spPr>
            <a:xfrm>
              <a:off x="1663560" y="6680160"/>
              <a:ext cx="2362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许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许振超"/>
          <p:cNvPicPr/>
          <p:nvPr/>
        </p:nvPicPr>
        <p:blipFill>
          <a:blip r:embed="rId2"/>
          <a:stretch/>
        </p:blipFill>
        <p:spPr>
          <a:xfrm>
            <a:off x="50760" y="16002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038480" y="1676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许振超，青岛港吊队队长，一位当代产业工人的杰出代表。他自学了大学机电专业所有课程，掌握了最先进的桥吊操作和修理技术，两次创造集装箱装卸世界纪录（振超效率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青岛港集团奖励给“金牌工人”许振超一辆帕萨塔1"/>
          <p:cNvPicPr/>
          <p:nvPr/>
        </p:nvPicPr>
        <p:blipFill>
          <a:blip r:embed="rId3"/>
          <a:stretch/>
        </p:blipFill>
        <p:spPr>
          <a:xfrm>
            <a:off x="50760" y="4191120"/>
            <a:ext cx="3886200" cy="264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许振超高兴地接过“金牌工人”奖牌和车钥匙"/>
          <p:cNvPicPr/>
          <p:nvPr/>
        </p:nvPicPr>
        <p:blipFill>
          <a:blip r:embed="rId4"/>
          <a:stretch/>
        </p:blipFill>
        <p:spPr>
          <a:xfrm>
            <a:off x="4648320" y="4343400"/>
            <a:ext cx="3809880" cy="245736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8199"/>
          <p:cNvSpPr/>
          <p:nvPr/>
        </p:nvSpPr>
        <p:spPr>
          <a:xfrm>
            <a:off x="2108160" y="1265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许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桥吊队队长许振超"/>
          <p:cNvPicPr/>
          <p:nvPr/>
        </p:nvPicPr>
        <p:blipFill>
          <a:blip r:embed="rId2"/>
          <a:stretch/>
        </p:blipFill>
        <p:spPr>
          <a:xfrm>
            <a:off x="0" y="16002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4191120" y="182880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一个人可以没文凭，但不可以没知识；可以不进大学殿堂，但不可以不学习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191120" y="3505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干活不能光用力气，还要动脑筋；干一行，就要爱一行，精一行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80880" y="52862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咱当不了科学家，但可以练就一身绝活儿，做个能工巧匠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劳模孔祥瑞：可以没有文凭不可以没有知识"/>
          <p:cNvPicPr/>
          <p:nvPr/>
        </p:nvPicPr>
        <p:blipFill>
          <a:blip r:embed="rId1"/>
          <a:stretch/>
        </p:blipFill>
        <p:spPr>
          <a:xfrm>
            <a:off x="250920" y="1484280"/>
            <a:ext cx="3673440" cy="24433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9640" y="451224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　  他是一名在岗位上自学成才、勇于创新的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蓝领专家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共取得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15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项科技成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，为企业创造效益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8400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多万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　  他获得全国劳动模范、全国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五一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劳动奖章、全国优秀共产党员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中华技能大奖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等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20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多项荣誉称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可以没有文凭，不可以没有知识。生产实践这个大课堂，照样培养人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995640" y="1633680"/>
            <a:ext cx="50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时期产业工人的楷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全国劳动模范、天津港煤码头公司操作一队队长孔祥瑞。他只有初中文凭，在港口码头上一干就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2006cykmkrx_top"/>
          <p:cNvPicPr/>
          <p:nvPr/>
        </p:nvPicPr>
        <p:blipFill>
          <a:blip r:embed="rId2"/>
          <a:stretch/>
        </p:blipFill>
        <p:spPr>
          <a:xfrm>
            <a:off x="0" y="0"/>
            <a:ext cx="9144000" cy="14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80880" y="5103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们只有树立终身学习的观念，具备终身学习的能力，才能应对未来社会的挑战，肩负起民族复兴的使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088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在当今社会，终身学习逐渐成为一种生活方式。终身学习，能使我们克服工作中的困难，解决工作中的新问题；能满足我们生存和发展的需要；能使我们得到更大的发展空间，更好地实现自身价值；还能充实我们的精神生活，不断提高生活品质。因此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终身学习既是个人可持续发展的要求，也是社会发展的必然要求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228600" y="76320"/>
            <a:ext cx="8763120" cy="1828800"/>
            <a:chOff x="228600" y="76320"/>
            <a:chExt cx="8763120" cy="1828800"/>
          </a:xfrm>
        </p:grpSpPr>
        <p:sp>
          <p:nvSpPr>
            <p:cNvPr id="203" name="AutoShape 5"/>
            <p:cNvSpPr/>
            <p:nvPr/>
          </p:nvSpPr>
          <p:spPr>
            <a:xfrm>
              <a:off x="228600" y="76320"/>
              <a:ext cx="8610480" cy="1828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304920" y="198360"/>
              <a:ext cx="86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古语说：活到老，学到老。</a:t>
              </a:r>
              <a:br>
                <a:rPr sz="3200"/>
              </a:b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7"/>
          <p:cNvSpPr/>
          <p:nvPr/>
        </p:nvSpPr>
        <p:spPr>
          <a:xfrm>
            <a:off x="457200" y="762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中学生有必要从现在起就树立终身学习的观念吗？为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6"/>
          <p:cNvSpPr/>
          <p:nvPr/>
        </p:nvSpPr>
        <p:spPr>
          <a:xfrm>
            <a:off x="228600" y="152280"/>
            <a:ext cx="8610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04920" y="3384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正确处理好终身学习、学校学习之间的关系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终身学习，要求我们珍惜在学校学习的机会。在学校学习的过程中，我们不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握了知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而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增强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获取知识、自主判断与选择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能力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确立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终身学习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观念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养成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主动学习、持续学习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习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3189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们每个人都要终身学习，那么还需要学校学习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0" descr="343785699"/>
          <p:cNvPicPr/>
          <p:nvPr/>
        </p:nvPicPr>
        <p:blipFill>
          <a:blip r:embed="rId1"/>
          <a:stretch/>
        </p:blipFill>
        <p:spPr>
          <a:xfrm>
            <a:off x="990720" y="11430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1"/>
          <p:cNvSpPr/>
          <p:nvPr/>
        </p:nvSpPr>
        <p:spPr>
          <a:xfrm>
            <a:off x="334800" y="2182680"/>
            <a:ext cx="6875640" cy="36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3" descr="p69"/>
          <p:cNvPicPr/>
          <p:nvPr/>
        </p:nvPicPr>
        <p:blipFill>
          <a:blip r:embed="rId2"/>
          <a:stretch/>
        </p:blipFill>
        <p:spPr>
          <a:xfrm>
            <a:off x="5105520" y="114300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q2"/>
          <p:cNvPicPr/>
          <p:nvPr/>
        </p:nvPicPr>
        <p:blipFill>
          <a:blip r:embed="rId3"/>
          <a:stretch/>
        </p:blipFill>
        <p:spPr>
          <a:xfrm>
            <a:off x="4083120" y="1371600"/>
            <a:ext cx="117468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1"/>
          <p:cNvSpPr/>
          <p:nvPr/>
        </p:nvSpPr>
        <p:spPr>
          <a:xfrm>
            <a:off x="5334120" y="304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伴随着社会经济的发展，新知识层出不穷，知识更新不断缩短。也出现了一些新名词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644720" y="396252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彩民、充值、持仓量、冲高、解套、套现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425480" y="457200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编程、闪存 、短信息、浏览器、主板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591080" y="5181480"/>
            <a:ext cx="105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大巴、地铁、站点、起步价、打的、直航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813840" y="579132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便利店、传销、断码、大卖场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228600" y="228600"/>
            <a:ext cx="5028840" cy="3733560"/>
            <a:chOff x="228600" y="228600"/>
            <a:chExt cx="5028840" cy="3733560"/>
          </a:xfrm>
        </p:grpSpPr>
        <p:pic>
          <p:nvPicPr>
            <p:cNvPr id="93" name="Picture 19" descr="NewsMedia_230534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502884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0"/>
            <p:cNvSpPr/>
            <p:nvPr/>
          </p:nvSpPr>
          <p:spPr>
            <a:xfrm>
              <a:off x="2064240" y="3807000"/>
              <a:ext cx="3113280" cy="15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382680" y="3946680"/>
            <a:ext cx="1095120" cy="2395440"/>
            <a:chOff x="382680" y="3946680"/>
            <a:chExt cx="1095120" cy="2395440"/>
          </a:xfrm>
        </p:grpSpPr>
        <p:sp>
          <p:nvSpPr>
            <p:cNvPr id="96" name="Rectangle 22"/>
            <p:cNvSpPr/>
            <p:nvPr/>
          </p:nvSpPr>
          <p:spPr>
            <a:xfrm>
              <a:off x="382680" y="394668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黑体"/>
                </a:rPr>
                <a:t>经济类：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382680" y="455616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黑体"/>
                </a:rPr>
                <a:t>科技类：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382680" y="516564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黑体"/>
                </a:rPr>
                <a:t>交通类：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382680" y="579132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黑体"/>
                </a:rPr>
                <a:t>商业类：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4572000" y="10238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初中毕业以后，无论是选择升学还是就业，都是发展之路。从学校走向社会后，终身学习有助于我们成为一名优秀的劳动者，更有助于我们不断开拓新的发展天地。终身学习，成就自己美好的未来；人人学习，成就祖国辉煌的明天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yongbao"/>
          <p:cNvPicPr/>
          <p:nvPr/>
        </p:nvPicPr>
        <p:blipFill>
          <a:blip r:embed="rId1"/>
          <a:stretch/>
        </p:blipFill>
        <p:spPr>
          <a:xfrm>
            <a:off x="380880" y="228600"/>
            <a:ext cx="4246560" cy="6019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5791320" y="76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结束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80880" y="98100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次大型人才招聘会上，某家公司的总经理对一位前来应聘的大学毕业生说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你的文凭代表你应有的文化程度，它的价值会体现在你的底薪上，但有效期只有六个月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要想在我们这里干下去，就必继续“充电”，并将你所学的知识转化为工作能力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" descr="20043418264515468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04920" y="457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知识老化加速，在人的一生中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大学获得需用知识的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0%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其余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90%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都要在工作中不断学习才能取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因此传统的一次性学校教育已无法适应现实的挑战，那种结束学校教育，找到工作就一劳永逸的体制已成为历史，每一个人要想使自己适应未来工作的需要，就必须终身学习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" descr="20043418264515468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990720" y="1752480"/>
            <a:ext cx="7010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活到老   学到老</a:t>
            </a:r>
            <a:endParaRPr b="1" lang="en-US" sz="2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WordArt 2" descr=""/>
          <p:cNvPicPr/>
          <p:nvPr/>
        </p:nvPicPr>
        <p:blipFill>
          <a:blip r:embed="rId1"/>
          <a:stretch/>
        </p:blipFill>
        <p:spPr>
          <a:xfrm>
            <a:off x="272880" y="831960"/>
            <a:ext cx="9823680" cy="401292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8199"/>
          <p:cNvSpPr/>
          <p:nvPr/>
        </p:nvSpPr>
        <p:spPr>
          <a:xfrm>
            <a:off x="1432080" y="571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祝福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57200" y="60948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初，中国首飞航天员杨利伟随团访问香港时，有位中学生问道：“中国在发展航天科技的过程中，遇到了什么迫切的问题？”杨利伟回答：“我感觉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人才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发展航天技术，需要大量优秀的人才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自身实际谈谈成为祖国需要的人才，应当从哪些方面努力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550-9636-4B50-8416-9A1EE9880C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611280" y="62064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结合自身实际谈谈要成为祖国需要的人才，应当从哪些方面努力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120" y="22096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树立远大理想，明确当代青年最重要的社会责任，增强社会责任感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85800" y="3657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努力学习科学文化知识，全面提高自身素质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85800" y="4876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创新意识和创新能力，肩负民族振兴的使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3520" y="9079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人类已经进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新知识层出不穷，知识门类激增，大量的边缘学科涌现，知识更新周期不断缩短，信息化特征明显。这是一个终身学习的时代，一个更加注重开发人类自身的资源、潜力与价值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时代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3520" y="37623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对青少年的素质提出了更高更新的要求，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hua2"/>
          <p:cNvPicPr/>
          <p:nvPr/>
        </p:nvPicPr>
        <p:blipFill>
          <a:blip r:embed="rId1"/>
          <a:stretch/>
        </p:blipFill>
        <p:spPr>
          <a:xfrm>
            <a:off x="7121520" y="0"/>
            <a:ext cx="202248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045080" y="763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迎接社会新挑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1042920" y="4998960"/>
            <a:ext cx="7561440" cy="1556280"/>
            <a:chOff x="1042920" y="4998960"/>
            <a:chExt cx="7561440" cy="1556280"/>
          </a:xfrm>
        </p:grpSpPr>
        <p:sp>
          <p:nvSpPr>
            <p:cNvPr id="105" name="Rectangle 7"/>
            <p:cNvSpPr/>
            <p:nvPr/>
          </p:nvSpPr>
          <p:spPr>
            <a:xfrm>
              <a:off x="1042920" y="4998960"/>
              <a:ext cx="7561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创新精神、团队精神、终身学习的能力</a:t>
              </a:r>
              <a:br>
                <a:rPr sz="3200"/>
              </a:b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具有扎实宽厚的科学文化知识</a:t>
              </a:r>
              <a:br>
                <a:rPr sz="3200"/>
              </a:b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要有开放的胸怀、良好的精神品质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230480" y="5573880"/>
              <a:ext cx="6697440" cy="360"/>
              <a:chOff x="1230480" y="5573880"/>
              <a:chExt cx="6697440" cy="360"/>
            </a:xfrm>
          </p:grpSpPr>
          <p:sp>
            <p:nvSpPr>
              <p:cNvPr id="107" name="Line 9"/>
              <p:cNvSpPr/>
              <p:nvPr/>
            </p:nvSpPr>
            <p:spPr>
              <a:xfrm>
                <a:off x="1230480" y="5573880"/>
                <a:ext cx="6697440" cy="0"/>
              </a:xfrm>
              <a:prstGeom prst="line">
                <a:avLst/>
              </a:prstGeom>
              <a:ln w="7632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230480" y="5573880"/>
                <a:ext cx="669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480" y="457200"/>
            <a:ext cx="617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迎接社会新挑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1219320"/>
            <a:ext cx="5257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、新世纪，新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205740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62120" y="388620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更加注重开发人类自身的资源、潜力与价值的时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85800" y="2895480"/>
            <a:ext cx="464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终身学习时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20043418264515468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43418264515468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457200"/>
            <a:ext cx="8763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新世纪对我们的素质提出了更高更新的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1295280"/>
            <a:ext cx="3814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具有创新精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62120" y="2286000"/>
            <a:ext cx="3809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具有团队精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62120" y="3276720"/>
            <a:ext cx="685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具有扎实宽厚的科学文化知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62120" y="4191120"/>
            <a:ext cx="6019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要有开放的胸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50292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要有良好的心理素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791320" y="13716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5867280" y="24382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772400" y="6095880"/>
            <a:ext cx="762120" cy="457200"/>
          </a:xfrm>
          <a:prstGeom prst="rightArrow">
            <a:avLst>
              <a:gd name="adj1" fmla="val 50000"/>
              <a:gd name="adj2" fmla="val 416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622764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6"/>
          <p:cNvSpPr/>
          <p:nvPr/>
        </p:nvSpPr>
        <p:spPr>
          <a:xfrm>
            <a:off x="533520" y="171360"/>
            <a:ext cx="4114800" cy="1464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        “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创新是一个民族进步的灵魂，是一个国家兴旺发达的不竭动力。”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纵观世界科学技术发展史，许多科学家的主要发明创造，都产生于风华正茂、思维敏捷的青年时期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27" descr="江泽民"/>
          <p:cNvPicPr/>
          <p:nvPr/>
        </p:nvPicPr>
        <p:blipFill>
          <a:blip r:embed="rId1"/>
          <a:stretch/>
        </p:blipFill>
        <p:spPr>
          <a:xfrm>
            <a:off x="5105520" y="141120"/>
            <a:ext cx="3341520" cy="3864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28"/>
          <p:cNvSpPr/>
          <p:nvPr/>
        </p:nvSpPr>
        <p:spPr>
          <a:xfrm>
            <a:off x="533520" y="40766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创新精神是一个国家和民族发展的不竭动力，也是一个现代人应该具备的素质。只有具有创新精神，我们才能在未来的发展中不断开辟新的天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区别于第四课的科技创新和教育创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228600"/>
            <a:ext cx="32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创新精神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914400"/>
            <a:ext cx="73803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要有创新精神？（意义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06360" y="1538280"/>
            <a:ext cx="8001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创新精神是一个国家和民族发展的不竭动力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04920" y="2057400"/>
            <a:ext cx="8076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是一个现代人应该具备的素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0880" y="259092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具有创新精神，我们才能在未来的发展中不断开辟新的天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581280"/>
            <a:ext cx="7086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青少年怎样培养创新精神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04920" y="4191120"/>
            <a:ext cx="4876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自主探究的学习能力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04920" y="4724280"/>
            <a:ext cx="533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拓宽思维，多角度思考问题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04920" y="5334120"/>
            <a:ext cx="5486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敢于质疑，善于质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04920" y="5943600"/>
            <a:ext cx="5943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敢于向传统挑战、向权威挑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435640" y="4343400"/>
            <a:ext cx="352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提高观察能力和创  造性思维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796000" y="5410080"/>
            <a:ext cx="2895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动手能力，勤于实践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8305920" y="6324480"/>
            <a:ext cx="53316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4797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社会发展需要个人的智慧，同时更需要发挥团队的力量。具备了团队精神，我们才能更好地施展个人才华，实现自身价值；才能更好地发挥团队的创造力，形成文明和谐、团结高效的集体，推动社会进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20020206khfc01"/>
          <p:cNvPicPr/>
          <p:nvPr/>
        </p:nvPicPr>
        <p:blipFill>
          <a:blip r:embed="rId1"/>
          <a:stretch/>
        </p:blipFill>
        <p:spPr>
          <a:xfrm>
            <a:off x="609480" y="92160"/>
            <a:ext cx="3200400" cy="2484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4038480" y="141120"/>
            <a:ext cx="4953240" cy="452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获得国家最高科技奖的王选院士谈起自己体会：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ouqinping501689"/>
          <p:cNvPicPr/>
          <p:nvPr/>
        </p:nvPicPr>
        <p:blipFill>
          <a:blip r:embed="rId2"/>
          <a:stretch/>
        </p:blipFill>
        <p:spPr>
          <a:xfrm>
            <a:off x="685800" y="2590920"/>
            <a:ext cx="3075120" cy="2092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6"/>
          <p:cNvSpPr/>
          <p:nvPr/>
        </p:nvSpPr>
        <p:spPr>
          <a:xfrm>
            <a:off x="4114800" y="114300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能获奖，是国家支持、团队合作的结果。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团结人的人，很难有大的成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学时我懂得了团队精神和人品在人生中的重要性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999800" y="0"/>
            <a:ext cx="20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二、终身学习  持续发展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31"/>
          <p:cNvGrpSpPr/>
          <p:nvPr/>
        </p:nvGrpSpPr>
        <p:grpSpPr>
          <a:xfrm>
            <a:off x="304920" y="898560"/>
            <a:ext cx="8458200" cy="5578200"/>
            <a:chOff x="304920" y="898560"/>
            <a:chExt cx="8458200" cy="5578200"/>
          </a:xfrm>
        </p:grpSpPr>
        <p:grpSp>
          <p:nvGrpSpPr>
            <p:cNvPr id="149" name="Group 30"/>
            <p:cNvGrpSpPr/>
            <p:nvPr/>
          </p:nvGrpSpPr>
          <p:grpSpPr>
            <a:xfrm>
              <a:off x="304920" y="1295280"/>
              <a:ext cx="8458200" cy="5181480"/>
              <a:chOff x="304920" y="1295280"/>
              <a:chExt cx="8458200" cy="5181480"/>
            </a:xfrm>
          </p:grpSpPr>
          <p:sp>
            <p:nvSpPr>
              <p:cNvPr id="150" name="AutoShape 28"/>
              <p:cNvSpPr/>
              <p:nvPr/>
            </p:nvSpPr>
            <p:spPr>
              <a:xfrm>
                <a:off x="304920" y="1295280"/>
                <a:ext cx="8458200" cy="518148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7"/>
              <p:cNvSpPr/>
              <p:nvPr/>
            </p:nvSpPr>
            <p:spPr>
              <a:xfrm>
                <a:off x="1219320" y="2133360"/>
                <a:ext cx="7010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</a:rPr>
                  <a:t>当今时代是知识的时代，信息的时代，也是学习的时代。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党的十六大提出的“全面建设小康社会”，“形成全民学习、终身学习的学习型社会，促进人的全面发展”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</a:rPr>
                  <a:t>的奋斗目标，这是党对新时期社会经济发展的全面部署，也是新时期教育改革与发展的动员令。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Rectangle 29"/>
            <p:cNvSpPr/>
            <p:nvPr/>
          </p:nvSpPr>
          <p:spPr>
            <a:xfrm>
              <a:off x="3206880" y="898560"/>
              <a:ext cx="79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《全民终身学习倡议书》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7:35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1:58Z</dcterms:modified>
  <cp:revision>36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