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74E-1EDE-4534-8D0C-EFDBD312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32F-9764-4651-9274-20DABF60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C79-1B30-441F-963B-2DB96496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69C-BA57-44AF-A55A-6699E04B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AD85-43CC-4D19-88C7-8DEA77E3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682-E73E-4B89-B057-B253E382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17AF-A364-47BF-868D-F10E26C6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C042-17E3-448B-895E-7446AE80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3FAD-718B-45B1-9200-7F305B08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0684-C9F3-4717-86A5-A826C98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A23F-D627-41BF-9682-C4650DE9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D1F-61F8-42A4-87B0-22A0DDAF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E498-5342-48F6-A1FD-41E2BF5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0AB3-88DD-4EA6-9295-92DC02ED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E0B3-612C-426B-879C-AE6B501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49AF-3D4C-40E8-8018-BEB5CC0D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BE52-418F-4A22-BFA1-953E9450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A3C2-E2C1-4845-A7C6-A484F5AB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FDCB-9247-4770-BEF5-D5CFACA1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181D-C61A-4765-A8E8-11483A42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293B-1A12-4E4D-A549-64EDB0B8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726A-4548-4134-94D7-48F985F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E28-D2FF-4B5D-A06E-4B0A2C0F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EF95-C72F-47E7-8BDD-4CB1FCB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E14F-9916-4229-A732-08DDAF1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594B-D3BA-463D-B675-B0A2B235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8FA7-6207-4507-B83E-8D1F167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8EE7-7B48-4818-A9FD-3F5E266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F9A6-BB21-4A29-87BA-303A79B8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1BB9-DDF5-4A3E-96E4-7D73B378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31E-6865-42FA-B768-0C3C5848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202-4EB0-4B3B-AFE4-426447F5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5D6-F3AE-42BD-96C6-A9962CE4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132-3584-4DA2-88B1-89B3D89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677-BF27-4FDF-99DF-9F47C78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719-B676-4ABD-9153-B86E6DB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7EB3-A560-4C80-B582-040F6A2629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科学内页"/>
          <p:cNvPicPr/>
          <p:nvPr/>
        </p:nvPicPr>
        <p:blipFill>
          <a:blip r:embed="rId3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7C02-37FB-4D1D-83C9-802F1D58F0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8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80DA-06F1-4436-BBCF-6A747C790D81}" type="slidenum">
              <a:rPr b="0" lang="zh-CN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619,20,&#33852;&#29255;" TargetMode="External"/><Relationship Id="rId2" Type="http://schemas.openxmlformats.org/officeDocument/2006/relationships/hyperlink" Target="619,21,&#33457;&#29923;" TargetMode="External"/><Relationship Id="rId3" Type="http://schemas.openxmlformats.org/officeDocument/2006/relationships/hyperlink" Target="619,22,&#38596;&#34122;" TargetMode="External"/><Relationship Id="rId4" Type="http://schemas.openxmlformats.org/officeDocument/2006/relationships/hyperlink" Target="619,23,&#38604;&#34122;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1527120" y="2997360"/>
            <a:ext cx="5797440" cy="3100320"/>
          </a:xfrm>
          <a:prstGeom prst="rect">
            <a:avLst/>
          </a:prstGeom>
          <a:ln w="0">
            <a:noFill/>
          </a:ln>
        </p:spPr>
      </p:pic>
      <p:sp>
        <p:nvSpPr>
          <p:cNvPr id="123" name="WordArt 3"/>
          <p:cNvSpPr txBox="1"/>
          <p:nvPr/>
        </p:nvSpPr>
        <p:spPr>
          <a:xfrm>
            <a:off x="1619280" y="549360"/>
            <a:ext cx="5689440" cy="4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小学科学教科版四年级下册第二单元</a:t>
            </a:r>
            <a:endParaRPr b="1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573200" y="1357200"/>
            <a:ext cx="59292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油菜花开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008"/>
          <p:cNvPicPr/>
          <p:nvPr/>
        </p:nvPicPr>
        <p:blipFill>
          <a:blip r:embed="rId1"/>
          <a:stretch/>
        </p:blipFill>
        <p:spPr>
          <a:xfrm>
            <a:off x="1835280" y="838080"/>
            <a:ext cx="5410080" cy="49914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3"/>
          <p:cNvSpPr/>
          <p:nvPr/>
        </p:nvSpPr>
        <p:spPr>
          <a:xfrm>
            <a:off x="1295280" y="2590920"/>
            <a:ext cx="457200" cy="2133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76520" y="2590920"/>
            <a:ext cx="2133360" cy="360"/>
            <a:chOff x="1676520" y="2590920"/>
            <a:chExt cx="2133360" cy="360"/>
          </a:xfrm>
        </p:grpSpPr>
        <p:sp>
          <p:nvSpPr>
            <p:cNvPr id="174" name="Line 4"/>
            <p:cNvSpPr/>
            <p:nvPr/>
          </p:nvSpPr>
          <p:spPr>
            <a:xfrm flipH="1">
              <a:off x="1676520" y="2590920"/>
              <a:ext cx="2133360" cy="0"/>
            </a:xfrm>
            <a:prstGeom prst="line">
              <a:avLst/>
            </a:prstGeom>
            <a:ln cap="sq"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1676520" y="2590920"/>
              <a:ext cx="2133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752480" y="4724280"/>
            <a:ext cx="2286000" cy="360"/>
            <a:chOff x="1752480" y="4724280"/>
            <a:chExt cx="2286000" cy="360"/>
          </a:xfrm>
        </p:grpSpPr>
        <p:sp>
          <p:nvSpPr>
            <p:cNvPr id="177" name="Line 5"/>
            <p:cNvSpPr/>
            <p:nvPr/>
          </p:nvSpPr>
          <p:spPr>
            <a:xfrm flipH="1">
              <a:off x="1752480" y="4724280"/>
              <a:ext cx="2286000" cy="0"/>
            </a:xfrm>
            <a:prstGeom prst="line">
              <a:avLst/>
            </a:prstGeom>
            <a:ln cap="sq"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752480" y="47242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79" name="Text Box 6"/>
          <p:cNvSpPr/>
          <p:nvPr/>
        </p:nvSpPr>
        <p:spPr>
          <a:xfrm>
            <a:off x="544320" y="332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雄蕊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572000" y="1701720"/>
            <a:ext cx="2971800" cy="574920"/>
            <a:chOff x="4572000" y="1701720"/>
            <a:chExt cx="2971800" cy="574920"/>
          </a:xfrm>
        </p:grpSpPr>
        <p:sp>
          <p:nvSpPr>
            <p:cNvPr id="181" name="Line 7"/>
            <p:cNvSpPr/>
            <p:nvPr/>
          </p:nvSpPr>
          <p:spPr>
            <a:xfrm>
              <a:off x="4572000" y="1701720"/>
              <a:ext cx="2971800" cy="574920"/>
            </a:xfrm>
            <a:prstGeom prst="line">
              <a:avLst/>
            </a:prstGeom>
            <a:ln cap="sq"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572000" y="1701720"/>
              <a:ext cx="2971800" cy="5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645080" y="4870440"/>
            <a:ext cx="2975040" cy="695160"/>
            <a:chOff x="4645080" y="4870440"/>
            <a:chExt cx="2975040" cy="695160"/>
          </a:xfrm>
        </p:grpSpPr>
        <p:sp>
          <p:nvSpPr>
            <p:cNvPr id="184" name="Line 8"/>
            <p:cNvSpPr/>
            <p:nvPr/>
          </p:nvSpPr>
          <p:spPr>
            <a:xfrm>
              <a:off x="4645080" y="4870440"/>
              <a:ext cx="2975040" cy="695160"/>
            </a:xfrm>
            <a:prstGeom prst="line">
              <a:avLst/>
            </a:prstGeom>
            <a:ln cap="sq"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645080" y="4870440"/>
              <a:ext cx="2975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43800" y="2286000"/>
            <a:ext cx="557280" cy="1371600"/>
            <a:chOff x="7543800" y="2286000"/>
            <a:chExt cx="557280" cy="1371600"/>
          </a:xfrm>
        </p:grpSpPr>
        <p:sp>
          <p:nvSpPr>
            <p:cNvPr id="187" name="Line 9"/>
            <p:cNvSpPr/>
            <p:nvPr/>
          </p:nvSpPr>
          <p:spPr>
            <a:xfrm>
              <a:off x="7543800" y="2286000"/>
              <a:ext cx="557280" cy="1371600"/>
            </a:xfrm>
            <a:prstGeom prst="line">
              <a:avLst/>
            </a:prstGeom>
            <a:ln cap="sq"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543800" y="2286000"/>
              <a:ext cx="55728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597800" y="3718080"/>
            <a:ext cx="504720" cy="1800000"/>
            <a:chOff x="7597800" y="3718080"/>
            <a:chExt cx="504720" cy="1800000"/>
          </a:xfrm>
        </p:grpSpPr>
        <p:sp>
          <p:nvSpPr>
            <p:cNvPr id="190" name="Line 10"/>
            <p:cNvSpPr/>
            <p:nvPr/>
          </p:nvSpPr>
          <p:spPr>
            <a:xfrm flipV="1">
              <a:off x="7597800" y="3718080"/>
              <a:ext cx="504720" cy="1800000"/>
            </a:xfrm>
            <a:prstGeom prst="line">
              <a:avLst/>
            </a:prstGeom>
            <a:ln cap="sq"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 rot="10800000">
              <a:off x="7597800" y="3718080"/>
              <a:ext cx="50472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2" name="Text Box 11"/>
          <p:cNvSpPr/>
          <p:nvPr/>
        </p:nvSpPr>
        <p:spPr>
          <a:xfrm>
            <a:off x="8001000" y="3352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雌蕊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248160" y="1676520"/>
            <a:ext cx="1447920" cy="1295280"/>
            <a:chOff x="6248160" y="1676520"/>
            <a:chExt cx="1447920" cy="1295280"/>
          </a:xfrm>
        </p:grpSpPr>
        <p:sp>
          <p:nvSpPr>
            <p:cNvPr id="194" name="Line 12"/>
            <p:cNvSpPr/>
            <p:nvPr/>
          </p:nvSpPr>
          <p:spPr>
            <a:xfrm flipV="1">
              <a:off x="6248520" y="1676520"/>
              <a:ext cx="1447560" cy="1295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6248160" y="1676520"/>
              <a:ext cx="14475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" name="Text Box 13"/>
          <p:cNvSpPr/>
          <p:nvPr/>
        </p:nvSpPr>
        <p:spPr>
          <a:xfrm>
            <a:off x="7467480" y="1219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花瓣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877080" y="573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萼片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292360" y="4076280"/>
            <a:ext cx="1800360" cy="1800360"/>
            <a:chOff x="5292360" y="4076280"/>
            <a:chExt cx="1800360" cy="1800360"/>
          </a:xfrm>
        </p:grpSpPr>
        <p:sp>
          <p:nvSpPr>
            <p:cNvPr id="199" name="Line 15"/>
            <p:cNvSpPr/>
            <p:nvPr/>
          </p:nvSpPr>
          <p:spPr>
            <a:xfrm flipH="1" flipV="1">
              <a:off x="5292360" y="4076280"/>
              <a:ext cx="1800360" cy="180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5292360" y="4076280"/>
              <a:ext cx="1800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68360" y="476280"/>
            <a:ext cx="676944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686868"/>
                </a:solidFill>
                <a:latin typeface="幼圆"/>
                <a:ea typeface="幼圆"/>
              </a:rPr>
              <a:t> </a:t>
            </a:r>
            <a:r>
              <a:rPr b="0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油菜花是由</a:t>
            </a:r>
            <a:r>
              <a:rPr b="1" lang="zh-CN" sz="5100" spc="-1" strike="noStrike">
                <a:solidFill>
                  <a:srgbClr val="ff3300"/>
                </a:solidFill>
                <a:latin typeface="黑体"/>
                <a:ea typeface="黑体"/>
              </a:rPr>
              <a:t>萼片</a:t>
            </a:r>
            <a:r>
              <a:rPr b="1" lang="en-US" sz="51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5100" spc="-1" strike="noStrike">
                <a:solidFill>
                  <a:srgbClr val="ff3300"/>
                </a:solidFill>
                <a:latin typeface="黑体"/>
                <a:ea typeface="黑体"/>
              </a:rPr>
              <a:t>花瓣</a:t>
            </a:r>
            <a:r>
              <a:rPr b="1" lang="en-US" sz="51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5100" spc="-1" strike="noStrike">
                <a:solidFill>
                  <a:srgbClr val="ff3300"/>
                </a:solidFill>
                <a:latin typeface="黑体"/>
                <a:ea typeface="黑体"/>
              </a:rPr>
              <a:t>雄蕊</a:t>
            </a:r>
            <a:r>
              <a:rPr b="1" lang="en-US" sz="51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5100" spc="-1" strike="noStrike">
                <a:solidFill>
                  <a:srgbClr val="ff3300"/>
                </a:solidFill>
                <a:latin typeface="黑体"/>
                <a:ea typeface="黑体"/>
              </a:rPr>
              <a:t>雌蕊</a:t>
            </a:r>
            <a:r>
              <a:rPr b="0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四个部分组成的</a:t>
            </a:r>
            <a:r>
              <a:rPr b="0" lang="en-US" sz="51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油菜花的花瓣是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四片</a:t>
            </a:r>
            <a:r>
              <a:rPr b="0" lang="en-US" sz="51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5100" spc="-1" strike="noStrike">
              <a:solidFill>
                <a:srgbClr val="68686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68686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活动手册中填写观察记录</a:t>
            </a:r>
            <a:endParaRPr b="0" lang="en-US" sz="3600" spc="-1" strike="noStrike">
              <a:solidFill>
                <a:srgbClr val="68686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组汇报观察结果</a:t>
            </a:r>
            <a:endParaRPr b="0" lang="en-US" sz="36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9680" y="476280"/>
            <a:ext cx="1642680" cy="511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油菜花的组成部分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80880" y="1828800"/>
          <a:ext cx="6400800" cy="4114800"/>
        </p:xfrm>
        <a:graphic>
          <a:graphicData uri="http://schemas.openxmlformats.org/drawingml/2006/table">
            <a:tbl>
              <a:tblPr/>
              <a:tblGrid>
                <a:gridCol w="1600200"/>
                <a:gridCol w="1071720"/>
                <a:gridCol w="1380960"/>
                <a:gridCol w="2347920"/>
              </a:tblGrid>
              <a:tr h="8683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4" name="Text Box 34"/>
          <p:cNvSpPr/>
          <p:nvPr/>
        </p:nvSpPr>
        <p:spPr>
          <a:xfrm>
            <a:off x="457200" y="163044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部分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2057400" y="163044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数量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3200400" y="163044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颜色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4648320" y="170640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气味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867280" y="1828800"/>
          <a:ext cx="2819520" cy="411480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872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872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872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872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872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52"/>
          <p:cNvSpPr/>
          <p:nvPr/>
        </p:nvSpPr>
        <p:spPr>
          <a:xfrm>
            <a:off x="6172200" y="170640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其它发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Text Box 53"/>
          <p:cNvSpPr/>
          <p:nvPr/>
        </p:nvSpPr>
        <p:spPr>
          <a:xfrm>
            <a:off x="533520" y="24382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萼片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Text Box 54"/>
          <p:cNvSpPr/>
          <p:nvPr/>
        </p:nvSpPr>
        <p:spPr>
          <a:xfrm>
            <a:off x="533520" y="327672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花瓣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Text Box 55"/>
          <p:cNvSpPr/>
          <p:nvPr/>
        </p:nvSpPr>
        <p:spPr>
          <a:xfrm>
            <a:off x="533520" y="434340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雄蕊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Text Box 56"/>
          <p:cNvSpPr/>
          <p:nvPr/>
        </p:nvSpPr>
        <p:spPr>
          <a:xfrm>
            <a:off x="533520" y="502920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雌蕊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Text Box 57"/>
          <p:cNvSpPr/>
          <p:nvPr/>
        </p:nvSpPr>
        <p:spPr>
          <a:xfrm>
            <a:off x="108000" y="6206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油菜花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量比较多，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有一个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Text Box 58"/>
          <p:cNvSpPr/>
          <p:nvPr/>
        </p:nvSpPr>
        <p:spPr>
          <a:xfrm>
            <a:off x="2209680" y="27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Text Box 59"/>
          <p:cNvSpPr/>
          <p:nvPr/>
        </p:nvSpPr>
        <p:spPr>
          <a:xfrm>
            <a:off x="2209680" y="3747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Text Box 60"/>
          <p:cNvSpPr/>
          <p:nvPr/>
        </p:nvSpPr>
        <p:spPr>
          <a:xfrm>
            <a:off x="2209680" y="4662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Text Box 61"/>
          <p:cNvSpPr/>
          <p:nvPr/>
        </p:nvSpPr>
        <p:spPr>
          <a:xfrm>
            <a:off x="220968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Text Box 62"/>
          <p:cNvSpPr/>
          <p:nvPr/>
        </p:nvSpPr>
        <p:spPr>
          <a:xfrm>
            <a:off x="3200400" y="2833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绿色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Text Box 63"/>
          <p:cNvSpPr/>
          <p:nvPr/>
        </p:nvSpPr>
        <p:spPr>
          <a:xfrm>
            <a:off x="3200400" y="3747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黄色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Text Box 64"/>
          <p:cNvSpPr/>
          <p:nvPr/>
        </p:nvSpPr>
        <p:spPr>
          <a:xfrm>
            <a:off x="3200400" y="4662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黄色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Text Box 65"/>
          <p:cNvSpPr/>
          <p:nvPr/>
        </p:nvSpPr>
        <p:spPr>
          <a:xfrm>
            <a:off x="320040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绿色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Text Box 66"/>
          <p:cNvSpPr/>
          <p:nvPr/>
        </p:nvSpPr>
        <p:spPr>
          <a:xfrm>
            <a:off x="4648320" y="2819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香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Text Box 67"/>
          <p:cNvSpPr/>
          <p:nvPr/>
        </p:nvSpPr>
        <p:spPr>
          <a:xfrm>
            <a:off x="464832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香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5" name="Text Box 68"/>
          <p:cNvSpPr/>
          <p:nvPr/>
        </p:nvSpPr>
        <p:spPr>
          <a:xfrm>
            <a:off x="4648320" y="4648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香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Text Box 69"/>
          <p:cNvSpPr/>
          <p:nvPr/>
        </p:nvSpPr>
        <p:spPr>
          <a:xfrm>
            <a:off x="46483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香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5724360" y="37180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两相对成十字形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6019920" y="2971800"/>
            <a:ext cx="2438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萼片上无叶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9" name="Text Box 72"/>
          <p:cNvSpPr/>
          <p:nvPr/>
        </p:nvSpPr>
        <p:spPr>
          <a:xfrm>
            <a:off x="6019920" y="4495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顶端大，底端小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Text Box 73"/>
          <p:cNvSpPr/>
          <p:nvPr/>
        </p:nvSpPr>
        <p:spPr>
          <a:xfrm>
            <a:off x="6019920" y="5410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顶端小，底端大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70_2401_fbdb54b32a60945"/>
          <p:cNvPicPr/>
          <p:nvPr/>
        </p:nvPicPr>
        <p:blipFill>
          <a:blip r:embed="rId1"/>
          <a:stretch/>
        </p:blipFill>
        <p:spPr>
          <a:xfrm>
            <a:off x="533520" y="1371600"/>
            <a:ext cx="5933880" cy="50007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476360" y="333360"/>
            <a:ext cx="7080120" cy="704160"/>
          </a:xfrm>
          <a:prstGeom prst="rect">
            <a:avLst/>
          </a:prstGeom>
          <a:noFill/>
          <a:ln w="2232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油菜花的花瓣数目都一吗？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533520" y="380880"/>
            <a:ext cx="609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629400" y="1600200"/>
            <a:ext cx="2057400" cy="2726280"/>
          </a:xfrm>
          <a:prstGeom prst="rect">
            <a:avLst/>
          </a:prstGeom>
          <a:noFill/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像油菜花这样每朵花的花瓣都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的花属于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十字花科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油菜花500x375--21354184"/>
          <p:cNvPicPr/>
          <p:nvPr/>
        </p:nvPicPr>
        <p:blipFill>
          <a:blip r:embed="rId1"/>
          <a:stretch/>
        </p:blipFill>
        <p:spPr>
          <a:xfrm>
            <a:off x="1440" y="57240"/>
            <a:ext cx="9144000" cy="6800760"/>
          </a:xfrm>
          <a:prstGeom prst="rect">
            <a:avLst/>
          </a:prstGeom>
          <a:ln w="76320">
            <a:solidFill>
              <a:srgbClr val="5f5f5f"/>
            </a:solidFill>
            <a:miter/>
          </a:ln>
        </p:spPr>
      </p:pic>
      <p:sp>
        <p:nvSpPr>
          <p:cNvPr id="236" name="Text Box 3"/>
          <p:cNvSpPr/>
          <p:nvPr/>
        </p:nvSpPr>
        <p:spPr>
          <a:xfrm>
            <a:off x="755640" y="1197000"/>
            <a:ext cx="857160" cy="703440"/>
          </a:xfrm>
          <a:prstGeom prst="rect">
            <a:avLst/>
          </a:prstGeom>
          <a:solidFill>
            <a:srgbClr val="cc99ff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数一数开了几朵花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029440" y="404640"/>
            <a:ext cx="863640" cy="1312920"/>
          </a:xfrm>
          <a:prstGeom prst="rect">
            <a:avLst/>
          </a:prstGeom>
          <a:solidFill>
            <a:srgbClr val="cc99ff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是什么？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943240" y="1905120"/>
            <a:ext cx="2057760" cy="1295280"/>
            <a:chOff x="5943240" y="1905120"/>
            <a:chExt cx="2057760" cy="1295280"/>
          </a:xfrm>
        </p:grpSpPr>
        <p:sp>
          <p:nvSpPr>
            <p:cNvPr id="239" name="Line 5"/>
            <p:cNvSpPr/>
            <p:nvPr/>
          </p:nvSpPr>
          <p:spPr>
            <a:xfrm flipH="1">
              <a:off x="5943240" y="1905120"/>
              <a:ext cx="2057400" cy="12952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943600" y="1905120"/>
              <a:ext cx="20574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1" name="Text Box 6"/>
          <p:cNvSpPr/>
          <p:nvPr/>
        </p:nvSpPr>
        <p:spPr>
          <a:xfrm>
            <a:off x="8001000" y="3544920"/>
            <a:ext cx="747720" cy="1434600"/>
          </a:xfrm>
          <a:prstGeom prst="rect">
            <a:avLst/>
          </a:prstGeom>
          <a:solidFill>
            <a:srgbClr val="ff99cc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花蕾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943240" y="3200400"/>
            <a:ext cx="2057400" cy="838080"/>
            <a:chOff x="5943240" y="3200400"/>
            <a:chExt cx="2057400" cy="838080"/>
          </a:xfrm>
        </p:grpSpPr>
        <p:sp>
          <p:nvSpPr>
            <p:cNvPr id="243" name="Line 7"/>
            <p:cNvSpPr/>
            <p:nvPr/>
          </p:nvSpPr>
          <p:spPr>
            <a:xfrm flipH="1" flipV="1">
              <a:off x="5943240" y="3200400"/>
              <a:ext cx="2057400" cy="8380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 rot="10800000">
              <a:off x="5943240" y="3200400"/>
              <a:ext cx="20574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 advTm="5000"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84360" y="404640"/>
            <a:ext cx="5686200" cy="704160"/>
          </a:xfrm>
          <a:prstGeom prst="rect">
            <a:avLst/>
          </a:prstGeom>
          <a:noFill/>
          <a:ln w="2232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花蕾的未来变化连续图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0" y="1628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花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00000" y="1917720"/>
            <a:ext cx="228600" cy="360"/>
            <a:chOff x="900000" y="1917720"/>
            <a:chExt cx="228600" cy="360"/>
          </a:xfrm>
        </p:grpSpPr>
        <p:sp>
          <p:nvSpPr>
            <p:cNvPr id="248" name="Line 4"/>
            <p:cNvSpPr/>
            <p:nvPr/>
          </p:nvSpPr>
          <p:spPr>
            <a:xfrm>
              <a:off x="900000" y="19177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900000" y="19177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1044720" y="1628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刚开的花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700360" y="1628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盛开的花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4356000" y="1628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要谢的花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516720" y="1628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已经谢的花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877080" y="227664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长出果荚（果实）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38280" y="1905120"/>
            <a:ext cx="381240" cy="360"/>
            <a:chOff x="2438280" y="1905120"/>
            <a:chExt cx="381240" cy="360"/>
          </a:xfrm>
        </p:grpSpPr>
        <p:sp>
          <p:nvSpPr>
            <p:cNvPr id="256" name="Line 10"/>
            <p:cNvSpPr/>
            <p:nvPr/>
          </p:nvSpPr>
          <p:spPr>
            <a:xfrm>
              <a:off x="2438280" y="190512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2438280" y="190512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114800" y="1905120"/>
            <a:ext cx="380880" cy="360"/>
            <a:chOff x="4114800" y="1905120"/>
            <a:chExt cx="380880" cy="360"/>
          </a:xfrm>
        </p:grpSpPr>
        <p:sp>
          <p:nvSpPr>
            <p:cNvPr id="259" name="Line 11"/>
            <p:cNvSpPr/>
            <p:nvPr/>
          </p:nvSpPr>
          <p:spPr>
            <a:xfrm>
              <a:off x="4114800" y="19051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114800" y="19051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620120" y="2082960"/>
            <a:ext cx="360" cy="304560"/>
            <a:chOff x="7620120" y="2082960"/>
            <a:chExt cx="360" cy="304560"/>
          </a:xfrm>
        </p:grpSpPr>
        <p:sp>
          <p:nvSpPr>
            <p:cNvPr id="262" name="Line 12"/>
            <p:cNvSpPr/>
            <p:nvPr/>
          </p:nvSpPr>
          <p:spPr>
            <a:xfrm>
              <a:off x="7620120" y="20829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620120" y="208296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64" name="Picture 13" descr="开花前"/>
          <p:cNvPicPr/>
          <p:nvPr/>
        </p:nvPicPr>
        <p:blipFill>
          <a:blip r:embed="rId1"/>
          <a:stretch/>
        </p:blipFill>
        <p:spPr>
          <a:xfrm>
            <a:off x="0" y="3022560"/>
            <a:ext cx="4572000" cy="3835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油菜花500x375--21354184"/>
          <p:cNvPicPr/>
          <p:nvPr/>
        </p:nvPicPr>
        <p:blipFill>
          <a:blip r:embed="rId2"/>
          <a:stretch/>
        </p:blipFill>
        <p:spPr>
          <a:xfrm>
            <a:off x="4648320" y="3213000"/>
            <a:ext cx="4267080" cy="3457800"/>
          </a:xfrm>
          <a:prstGeom prst="rect">
            <a:avLst/>
          </a:prstGeom>
          <a:ln w="76320">
            <a:solidFill>
              <a:srgbClr val="5f5f5f"/>
            </a:solidFill>
            <a:miter/>
          </a:ln>
        </p:spPr>
      </p:pic>
      <p:sp>
        <p:nvSpPr>
          <p:cNvPr id="266" name="Text Box 15"/>
          <p:cNvSpPr/>
          <p:nvPr/>
        </p:nvSpPr>
        <p:spPr>
          <a:xfrm>
            <a:off x="3733920" y="3352680"/>
            <a:ext cx="533160" cy="947160"/>
          </a:xfrm>
          <a:prstGeom prst="rect">
            <a:avLst/>
          </a:prstGeom>
          <a:solidFill>
            <a:srgbClr val="ff99cc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花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8305920" y="3505320"/>
            <a:ext cx="533160" cy="1800360"/>
          </a:xfrm>
          <a:prstGeom prst="rect">
            <a:avLst/>
          </a:prstGeom>
          <a:solidFill>
            <a:srgbClr val="ff99cc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刚开的花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095880" y="1905120"/>
            <a:ext cx="381240" cy="360"/>
            <a:chOff x="6095880" y="1905120"/>
            <a:chExt cx="381240" cy="360"/>
          </a:xfrm>
        </p:grpSpPr>
        <p:sp>
          <p:nvSpPr>
            <p:cNvPr id="269" name="Line 17"/>
            <p:cNvSpPr/>
            <p:nvPr/>
          </p:nvSpPr>
          <p:spPr>
            <a:xfrm>
              <a:off x="6095880" y="190512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6095880" y="190512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1" name="文本框 8200"/>
          <p:cNvSpPr/>
          <p:nvPr/>
        </p:nvSpPr>
        <p:spPr>
          <a:xfrm>
            <a:off x="790560" y="2513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e6a171385ba94d0297ddd8a5"/>
          <p:cNvPicPr/>
          <p:nvPr/>
        </p:nvPicPr>
        <p:blipFill>
          <a:blip r:embed="rId1"/>
          <a:stretch/>
        </p:blipFill>
        <p:spPr>
          <a:xfrm>
            <a:off x="4705200" y="228600"/>
            <a:ext cx="4286520" cy="6477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7e5a345afd75e07cffca3a6"/>
          <p:cNvPicPr/>
          <p:nvPr/>
        </p:nvPicPr>
        <p:blipFill>
          <a:blip r:embed="rId2"/>
          <a:stretch/>
        </p:blipFill>
        <p:spPr>
          <a:xfrm>
            <a:off x="152280" y="228600"/>
            <a:ext cx="4343400" cy="64771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4343400" y="533520"/>
            <a:ext cx="662040" cy="2288520"/>
          </a:xfrm>
          <a:prstGeom prst="rect">
            <a:avLst/>
          </a:prstGeom>
          <a:solidFill>
            <a:srgbClr val="ff99cc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盛开的花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结果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00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8381880" y="914400"/>
            <a:ext cx="533520" cy="2531880"/>
          </a:xfrm>
          <a:prstGeom prst="rect">
            <a:avLst/>
          </a:prstGeom>
          <a:noFill/>
          <a:ln w="2232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快凋谢的花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314840" y="1905120"/>
            <a:ext cx="1067040" cy="380880"/>
            <a:chOff x="7314840" y="1905120"/>
            <a:chExt cx="1067040" cy="380880"/>
          </a:xfrm>
        </p:grpSpPr>
        <p:sp>
          <p:nvSpPr>
            <p:cNvPr id="278" name="Line 4"/>
            <p:cNvSpPr/>
            <p:nvPr/>
          </p:nvSpPr>
          <p:spPr>
            <a:xfrm flipH="1">
              <a:off x="7314840" y="1905120"/>
              <a:ext cx="1066680" cy="380880"/>
            </a:xfrm>
            <a:prstGeom prst="line">
              <a:avLst/>
            </a:prstGeom>
            <a:ln w="2844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315200" y="190512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0" name="Text Box 5"/>
          <p:cNvSpPr/>
          <p:nvPr/>
        </p:nvSpPr>
        <p:spPr>
          <a:xfrm>
            <a:off x="2700360" y="404640"/>
            <a:ext cx="2663640" cy="582120"/>
          </a:xfrm>
          <a:prstGeom prst="rect">
            <a:avLst/>
          </a:prstGeom>
          <a:noFill/>
          <a:ln w="2232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已凋谢的花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04960" y="914400"/>
            <a:ext cx="228960" cy="1143000"/>
            <a:chOff x="3504960" y="914400"/>
            <a:chExt cx="228960" cy="1143000"/>
          </a:xfrm>
        </p:grpSpPr>
        <p:sp>
          <p:nvSpPr>
            <p:cNvPr id="282" name="Line 6"/>
            <p:cNvSpPr/>
            <p:nvPr/>
          </p:nvSpPr>
          <p:spPr>
            <a:xfrm flipH="1">
              <a:off x="3504960" y="914400"/>
              <a:ext cx="228600" cy="1143000"/>
            </a:xfrm>
            <a:prstGeom prst="line">
              <a:avLst/>
            </a:prstGeom>
            <a:ln w="2844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505320" y="914400"/>
              <a:ext cx="2286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4" name="Text Box 7"/>
          <p:cNvSpPr/>
          <p:nvPr/>
        </p:nvSpPr>
        <p:spPr>
          <a:xfrm>
            <a:off x="228600" y="914400"/>
            <a:ext cx="533520" cy="2044440"/>
          </a:xfrm>
          <a:prstGeom prst="rect">
            <a:avLst/>
          </a:prstGeom>
          <a:noFill/>
          <a:ln w="2232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长出果荚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62120" y="1752480"/>
            <a:ext cx="533160" cy="2438640"/>
            <a:chOff x="762120" y="1752480"/>
            <a:chExt cx="533160" cy="2438640"/>
          </a:xfrm>
        </p:grpSpPr>
        <p:sp>
          <p:nvSpPr>
            <p:cNvPr id="286" name="Line 8"/>
            <p:cNvSpPr/>
            <p:nvPr/>
          </p:nvSpPr>
          <p:spPr>
            <a:xfrm>
              <a:off x="762120" y="1752480"/>
              <a:ext cx="533160" cy="2438640"/>
            </a:xfrm>
            <a:prstGeom prst="line">
              <a:avLst/>
            </a:prstGeom>
            <a:ln w="2844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762120" y="1752480"/>
              <a:ext cx="533160" cy="24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82188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拓展延伸</a:t>
            </a:r>
            <a:endParaRPr b="0" lang="en-US" sz="5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201400" y="1341360"/>
            <a:ext cx="506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找出我们的校园里开了几种花；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测量校园里各种花的大小；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最近在校园里开放的花有哪些颜色；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野外寻找十字花科的花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.……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DE7E-7D6A-4C60-8B56-A464FB9D7DF1}" type="slidenum"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219320" y="304920"/>
            <a:ext cx="647532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华文彩云"/>
                <a:ea typeface="华文彩云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油 菜 花 开 了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7" name="Picture 3" descr="70_2401_fbdb54b32a60945"/>
          <p:cNvPicPr/>
          <p:nvPr/>
        </p:nvPicPr>
        <p:blipFill>
          <a:blip r:embed="rId1"/>
          <a:stretch/>
        </p:blipFill>
        <p:spPr>
          <a:xfrm>
            <a:off x="252360" y="1486080"/>
            <a:ext cx="4191120" cy="4157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429080" y="1413000"/>
            <a:ext cx="464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华文隶书"/>
                <a:ea typeface="华文隶书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春天到了，油菜花开了，桃花开了，蒲公英花开了……花草树木以百花盛开的形式宣告：创造新生命的工作开始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2720" y="620280"/>
            <a:ext cx="820728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送给同学们的科学家名言：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科学需要一个人贡献出毕生的精力，假定你们每个人有两次生命，这对你们说来也还是不够的。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巴甫洛夫 （俄国） </a:t>
            </a:r>
            <a:endParaRPr b="0" lang="en-US" sz="44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0090407152340894"/>
          <p:cNvPicPr/>
          <p:nvPr/>
        </p:nvPicPr>
        <p:blipFill>
          <a:blip r:embed="rId1"/>
          <a:stretch/>
        </p:blipFill>
        <p:spPr>
          <a:xfrm>
            <a:off x="76320" y="1395360"/>
            <a:ext cx="5376600" cy="5386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5724360" y="1844640"/>
            <a:ext cx="3318120" cy="703440"/>
          </a:xfrm>
          <a:prstGeom prst="rect">
            <a:avLst/>
          </a:prstGeom>
          <a:noFill/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这是一株开花的油菜植株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96000" y="3933720"/>
            <a:ext cx="2895480" cy="703440"/>
          </a:xfrm>
          <a:prstGeom prst="rect">
            <a:avLst/>
          </a:prstGeom>
          <a:noFill/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小组交流株油菜包括哪几个部分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423680" y="54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小组观察一株油菜花包括哪些部分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"/>
          <p:cNvPicPr/>
          <p:nvPr/>
        </p:nvPicPr>
        <p:blipFill>
          <a:blip r:embed="rId1"/>
          <a:stretch/>
        </p:blipFill>
        <p:spPr>
          <a:xfrm>
            <a:off x="2057400" y="0"/>
            <a:ext cx="3301920" cy="6248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5410080" y="4572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花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292720" y="1557360"/>
            <a:ext cx="405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果实（含有种子）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茎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4479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叶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4479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根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5877000"/>
            <a:ext cx="8569080" cy="642600"/>
          </a:xfrm>
          <a:prstGeom prst="rect">
            <a:avLst/>
          </a:prstGeom>
          <a:noFill/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共六部分：根、茎、叶、花、果实和种子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 rot="397200">
            <a:off x="6119640" y="1906560"/>
            <a:ext cx="345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25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000000"/>
                </a:solidFill>
                <a:latin typeface="幼圆"/>
                <a:ea typeface="黑体"/>
              </a:rPr>
              <a:t>油菜的结构</a:t>
            </a:r>
            <a:endParaRPr b="0" lang="en-US" sz="47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42" name="Picture 4" descr="pic_38111"/>
          <p:cNvPicPr/>
          <p:nvPr/>
        </p:nvPicPr>
        <p:blipFill>
          <a:blip r:embed="rId1"/>
          <a:stretch/>
        </p:blipFill>
        <p:spPr>
          <a:xfrm>
            <a:off x="468360" y="1123920"/>
            <a:ext cx="8229600" cy="5172120"/>
          </a:xfrm>
          <a:prstGeom prst="rect">
            <a:avLst/>
          </a:prstGeom>
          <a:ln w="38160">
            <a:solidFill>
              <a:srgbClr val="8c9ea0"/>
            </a:solidFill>
            <a:bevel/>
          </a:ln>
        </p:spPr>
      </p:pic>
      <p:sp>
        <p:nvSpPr>
          <p:cNvPr id="143" name="Text Box 5"/>
          <p:cNvSpPr/>
          <p:nvPr/>
        </p:nvSpPr>
        <p:spPr>
          <a:xfrm>
            <a:off x="3492360" y="2349360"/>
            <a:ext cx="100656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果实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227640" y="1917720"/>
            <a:ext cx="100836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子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148360" y="3860640"/>
            <a:ext cx="91440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花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7453440" y="4221000"/>
            <a:ext cx="93492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叶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2771640" y="5516640"/>
            <a:ext cx="91440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根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740720" y="5589720"/>
            <a:ext cx="91440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茎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57400"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50" name="Picture 3" descr="20090407152340894"/>
          <p:cNvPicPr/>
          <p:nvPr/>
        </p:nvPicPr>
        <p:blipFill>
          <a:blip r:embed="rId1"/>
          <a:stretch/>
        </p:blipFill>
        <p:spPr>
          <a:xfrm>
            <a:off x="228600" y="304920"/>
            <a:ext cx="3997440" cy="4647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zjh3"/>
          <p:cNvPicPr/>
          <p:nvPr/>
        </p:nvPicPr>
        <p:blipFill>
          <a:blip r:embed="rId2"/>
          <a:stretch/>
        </p:blipFill>
        <p:spPr>
          <a:xfrm>
            <a:off x="4419720" y="990720"/>
            <a:ext cx="4190760" cy="3581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35240" y="4437000"/>
            <a:ext cx="912240" cy="581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油菜花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675320" y="4038480"/>
            <a:ext cx="912240" cy="581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凤仙花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33520" y="5334120"/>
            <a:ext cx="7848360" cy="581400"/>
          </a:xfrm>
          <a:prstGeom prst="rect">
            <a:avLst/>
          </a:prstGeom>
          <a:noFill/>
          <a:ln w="22320">
            <a:solidFill>
              <a:srgbClr val="0000ff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油菜花和凤仙花都有根、茎、叶、花、果实和种子，这样的植物叫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绿色开花植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文本框 8200"/>
          <p:cNvSpPr/>
          <p:nvPr/>
        </p:nvSpPr>
        <p:spPr>
          <a:xfrm>
            <a:off x="4297320" y="465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942022123816020"/>
          <p:cNvPicPr/>
          <p:nvPr/>
        </p:nvPicPr>
        <p:blipFill>
          <a:blip r:embed="rId1"/>
          <a:stretch/>
        </p:blipFill>
        <p:spPr>
          <a:xfrm>
            <a:off x="228600" y="152280"/>
            <a:ext cx="380988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363760" y="228600"/>
            <a:ext cx="1488960" cy="581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寿花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8" name="Picture 4" descr="1012842_1"/>
          <p:cNvPicPr/>
          <p:nvPr/>
        </p:nvPicPr>
        <p:blipFill>
          <a:blip r:embed="rId2"/>
          <a:stretch/>
        </p:blipFill>
        <p:spPr>
          <a:xfrm>
            <a:off x="4572000" y="3808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543800" y="457200"/>
            <a:ext cx="1600200" cy="581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君子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0" name="Picture 6" descr="930875_1"/>
          <p:cNvPicPr/>
          <p:nvPr/>
        </p:nvPicPr>
        <p:blipFill>
          <a:blip r:embed="rId3"/>
          <a:stretch/>
        </p:blipFill>
        <p:spPr>
          <a:xfrm>
            <a:off x="533520" y="3657600"/>
            <a:ext cx="3276360" cy="3124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2133720" y="6095880"/>
            <a:ext cx="1600200" cy="581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杜鹃花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918491_1"/>
          <p:cNvPicPr/>
          <p:nvPr/>
        </p:nvPicPr>
        <p:blipFill>
          <a:blip r:embed="rId1"/>
          <a:stretch/>
        </p:blipFill>
        <p:spPr>
          <a:xfrm>
            <a:off x="76320" y="763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08000" y="44280"/>
            <a:ext cx="1600200" cy="581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马兰花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4" name="Picture 4" descr="918489_1"/>
          <p:cNvPicPr/>
          <p:nvPr/>
        </p:nvPicPr>
        <p:blipFill>
          <a:blip r:embed="rId2"/>
          <a:stretch/>
        </p:blipFill>
        <p:spPr>
          <a:xfrm>
            <a:off x="4191120" y="31240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267080" y="3276720"/>
            <a:ext cx="1600200" cy="581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蝴蝶花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457200" y="380880"/>
            <a:ext cx="609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19320" y="304920"/>
            <a:ext cx="6705360" cy="1526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组合作学习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剖一朵油菜花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143000" y="2133720"/>
            <a:ext cx="7086600" cy="643320"/>
          </a:xfrm>
          <a:prstGeom prst="rect">
            <a:avLst/>
          </a:prstGeom>
          <a:noFill/>
          <a:ln w="2232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实验目的：</a:t>
            </a:r>
            <a:r>
              <a:rPr b="0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了解花的结构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116000" y="2997360"/>
            <a:ext cx="7086600" cy="643320"/>
          </a:xfrm>
          <a:prstGeom prst="rect">
            <a:avLst/>
          </a:prstGeom>
          <a:noFill/>
          <a:ln w="2232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实验材料与工具：</a:t>
            </a:r>
            <a:r>
              <a:rPr b="0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花朵、镊子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16000" y="3860640"/>
            <a:ext cx="7086600" cy="1191960"/>
          </a:xfrm>
          <a:prstGeom prst="rect">
            <a:avLst/>
          </a:prstGeom>
          <a:noFill/>
          <a:ln w="2232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实验步骤：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剖顺序：萼片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花瓣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雄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雌蕊（从外到内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48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