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083-4115-45F0-A521-5E36AD13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0B0-E05F-43F3-8E36-94EB4BF8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20FF2-B459-4954-8D6F-36344F1A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E0CAB-8973-4E98-8127-85441C96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05627-9071-4566-B5C0-9AF2C6F4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58A08-DB87-4F98-A13A-B754F011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93E74-62E1-4CD4-8C9E-9931600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866B3-D698-4A8A-B373-568453A7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0276D-E43D-4CE3-9E87-C1704E83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E7F7F-EC26-4AF1-8AD0-6A90971C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D1CCF-41D5-457F-AD68-F61F40D1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CA1B1-38FA-4A33-87A9-4DC988E5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831-0AE8-46FC-9D7E-FE4556F6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A6A07-2C3A-4105-8A7C-A085C644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BD9CE-B2AC-4FF6-9818-F9F95601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4C955-0F2E-4194-8572-F377BB64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36111-661F-45B4-A1B3-CE38559D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4EC9B-31BF-4748-971E-3E1769BD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7F3F1-57DA-4EC7-8616-C36A7F1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D385B-C03F-42A0-9D43-1C9063FE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C46C7-E9E3-4692-BE08-F1D065F3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AABE3-72B1-4A50-A94A-15C9C01F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63511-03C0-45F6-B4A1-FC5DC5A3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D5A-930F-44AE-BACA-E0761ADC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EA491-4714-4461-B1DD-E676FF25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6D7E1-0FDE-4032-9DD9-E6DA774F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3021D-64C3-486E-94B0-97FD1E35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362B5-3C60-453E-9690-D5ADA1E7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3542C-A3C1-46BA-8AA0-674270CF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7D55F-9AA0-4847-B2B6-3095CE48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96633-3E31-4F83-9709-FE9DB669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061A8-0837-4063-B446-48BCB246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BAD44-F1AA-4394-AE60-BE4E1F5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626C9-20D4-4533-B6FA-A956809A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8003-6FF0-4706-A532-0CA10F28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8241A-5711-4690-8889-B7DEA505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D2134-0BAE-46DB-AD29-8C7B2578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347FD-A5D5-46F0-A1DC-D41E1ADF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1E982-0C32-4041-B1C3-C57111BD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6BC38-E88E-4A5A-9678-9F391966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0CD73-79A7-4ECE-8D57-526E9156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0ACBA-E3BF-4D93-9460-835661CE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7FE47-0090-4BFA-A22F-E09E4E40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BFB7F-AFCD-4A53-A13C-172D2150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DB11D-FEB4-405D-8918-1B5F6927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6A55-69AE-4F9E-B81C-182551E0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4DA47-E273-4BCE-93AE-01C65306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0CDE5-1D5B-48CB-AC14-D3CF2B41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1E391-8B76-4339-B433-2988C422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022F8-5A62-42EC-BB63-1E37F8AD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48CEB-0BEB-4633-8D4B-4CED06DB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D1084-7E64-4CA3-B9B9-E47F4ABA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80216-BC4D-40BB-802D-79E6FB17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FC520-D5BA-4B78-8EAD-94F816B0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3A77E-1849-402B-BD92-97ECEB8C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A4296-4756-4562-90BA-EA4E1664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1454-2A48-4545-8BFC-221C0386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D7029-2D3B-4C82-95A3-6D478314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2FDFD-60C6-4D8F-A30D-4B896442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6CE07-F462-47DF-9AEC-6C15D905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95089-BAD7-4402-AF32-2FF8540E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E981E-3758-479D-90C1-1B94CA78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552AA-68CE-43D4-906D-18D4554C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B22FF-5191-404A-9B04-D15434EB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6031-C3ED-4B38-9FBE-B5C922D3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7164-63F0-4515-A236-3DDB4A84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CA9F-E065-4AEE-BBA7-ABC17E16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0512-CAF2-4E57-97B6-0D051E25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A2C-AD65-4A05-A264-08015259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72E1-7407-4087-9E36-B12AD1E5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757D-4199-4E30-A966-494BF860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4E11-F9C2-4D6E-98A1-37A81BAB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2D8E-7971-4089-9BC8-29C69718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9E61-18BC-4CF9-B9C1-2E2ECE4A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AE00-7F9E-4F93-B4CD-E94EAD46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F9D7B-2A24-46C9-8F18-A870A066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1405-0FD4-4D8D-AF0D-FE143F6E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0EB0-24D0-4DC3-A74A-CAFD7E92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F72D-AA87-484C-A6CF-35B68EB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C67-5BEE-458E-A102-B7F07369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39BC3-4864-4879-9A32-D28C71DA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4FEB-554F-4176-A542-E6F5CA67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03A9-293A-46AB-94BE-C4348692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F874F-208F-4949-A7EF-4086065D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D4ED-D6C0-4993-A663-8388F8B1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D51EE-099C-4F03-AF07-26D31385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8B4C-FC95-4DB9-8615-68DD3AB4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94F7-AE2A-4C32-8BB7-7C523BDF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C0739-14D4-41E9-89AD-1BE980CE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2D7D5-3E66-4905-82C5-27D15A4B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AA7-9CD2-4604-8AA8-FE780AFD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EC98-FB06-48AB-B123-E553DD04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0E59-0B3D-4D78-9B41-44423063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C8256-204D-4953-8AE1-E5C6512E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8003-00A6-4739-ADDC-4062D7B6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6CD0-D7B5-44A7-B555-D4F4F7B5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33C6-0500-496D-8C4B-7BBCA32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9E172-3970-4C5D-84EC-A7CF5EA0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22720-AC23-4490-974C-38CE5249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91148-6A9C-46B2-A062-2EFD60B2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E7C0-F6A4-45E4-B70B-FA92D390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9D1-E2CA-4CA4-BB66-8F3AB548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EFFFC-89B3-4A16-9DAD-F8D46203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DE526-4AB8-45E9-9934-6BFADF59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74B6F-B19C-4370-9FDA-B2489B39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BB8E2-0F2F-4BF4-AB20-A1888718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136BC-2BDC-4127-8358-9B9B9024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06280-91E9-491F-B594-DE872C1F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68087-8FC2-48C9-BBB8-E7A4099E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B7B33-0C12-4564-8747-DF05A62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174C5-77D5-43E0-B579-56B7422F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03199-0F30-4C37-A4D4-CAFB7407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607-6D47-4F09-B6DB-77618E6D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990DD-DE4F-4483-A0DC-8AFE4AC8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64BCC-B5F7-4E72-9254-A1094FEC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EAC78-C5C7-403F-A984-A65CA264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3086C-3A71-4724-A26E-EB0A348E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E51A6-2491-4A56-B26B-E4F2BB57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066CF-4D6A-4D46-82B1-0C515AD3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32010-2A93-49CF-A1D2-A34F1647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E8BE3-CEBE-49EE-AC01-32E69DA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F5261-EB51-494A-AE5C-F94FAC09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69BA5-1D13-41BB-A72A-1D2898FF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478-39C6-48FE-BF35-3E361098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12064-4F26-4FF6-BB7E-2A878900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575FF-9458-4306-99E8-F949DE95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7D42B-0369-44ED-BAB3-76FB64BF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4DAD-790F-4483-859B-4C226543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BFF10-C5ED-4DBE-8C9D-425BDADA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1E6C2-2207-4322-B079-222A4009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75494-5FCB-41A4-88B7-6CAC6C6D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2F134-51FC-4659-8F2A-9530AA9D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A7139-D9C3-409F-B6AC-1180C387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6C166-94E7-4A70-9BCE-D78E5A3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BF3-105E-48D6-B6C0-855DAF5D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5FEA3-1AC2-4970-B8C6-8D766CA2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8FC22-3970-4528-96E4-90A6ADAA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0F8CD-E880-425D-8C1F-6C845E60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9ED0A-8048-43C6-AFC3-D9C35C77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C420-DDB9-4F2D-B023-81F93110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5D1B6-3FAE-4299-896F-DFF9C992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623F5-B3F7-4DDA-BE2A-E63DE9FE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35D61-183C-40D7-BA6A-8BD5F2F3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2300E-E55D-4D84-BAAC-6F6F0E0F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53219-09DD-4DBD-B2BE-21CE0661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1AB-BE7C-4D42-9667-0730300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8BD69-FD9B-492C-B3DE-EF948BFA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BED6E-9726-40E6-8DC9-BE826F75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092D8-B703-4C8E-B7E3-00D70F1E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E8F66-39C9-4A81-A328-4B1F90DE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3EC7B-C978-42B4-9B3C-BB24AD3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65E23-69A5-477A-9C04-3345BB46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550B5-2E8E-4F41-B6C2-995ADA33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6181E-53FA-4295-84F4-A9D2198E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85DDB-52EE-4020-BCF5-FE2FF0C8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F58DE-0EB8-4F6D-A99B-0E6A3172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1915-9768-41F3-8E01-B128F833E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ECF9-0629-4EDC-862B-3D75B72AE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8F22-69EF-43FB-98CD-9D0495744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66FD-673A-4698-A2E5-4C6B44B3E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713D-A4BC-4D1E-9699-17C4A4546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A7A4-875A-4342-AC1C-980E232EC3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3CEC-A190-4068-B65C-61CBCA7AA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A1F5-FCE4-464A-93E9-51661EAFE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DB97-A691-414B-9F81-82272F5DA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E676-54D4-48D0-941A-4BB57D8E5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8CFB-0739-44FC-A80F-FCC0FE5F9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0960-6827-4CBA-B4F9-893D40CBC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88BE-74D2-4B3A-895A-6CAC0AD39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16&#22467;&#21450;&#19971;&#26376;&#38761;&#21629;.mpg" TargetMode="External"/><Relationship Id="rId2" Type="http://schemas.openxmlformats.org/officeDocument/2006/relationships/hyperlink" Target="21&#38750;&#27954;&#29420;&#31435;&#24180;.mpg" TargetMode="Externa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15&#21476;&#24052;&#38761;&#21629;.mpg" TargetMode="Externa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>
            <a:off x="900000" y="1052640"/>
            <a:ext cx="741708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第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12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　亚非拉的奋起课件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4" name="Picture 6" descr="21guba"/>
          <p:cNvPicPr/>
          <p:nvPr/>
        </p:nvPicPr>
        <p:blipFill>
          <a:blip r:embed="rId1"/>
          <a:stretch/>
        </p:blipFill>
        <p:spPr>
          <a:xfrm>
            <a:off x="4427640" y="3454560"/>
            <a:ext cx="3600360" cy="21603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35" name="Picture 8" descr="21yinba1"/>
          <p:cNvPicPr/>
          <p:nvPr/>
        </p:nvPicPr>
        <p:blipFill>
          <a:blip r:embed="rId2"/>
          <a:srcRect l="0" t="0" r="0" b="-958"/>
          <a:stretch/>
        </p:blipFill>
        <p:spPr>
          <a:xfrm>
            <a:off x="1211400" y="3029040"/>
            <a:ext cx="2771640" cy="28065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5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7" descr="21yinba"/>
          <p:cNvPicPr/>
          <p:nvPr/>
        </p:nvPicPr>
        <p:blipFill>
          <a:blip r:embed="rId1"/>
          <a:stretch/>
        </p:blipFill>
        <p:spPr>
          <a:xfrm>
            <a:off x="898560" y="765000"/>
            <a:ext cx="7561080" cy="4321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583" name="Rectangle 8"/>
          <p:cNvSpPr/>
          <p:nvPr/>
        </p:nvSpPr>
        <p:spPr>
          <a:xfrm>
            <a:off x="826920" y="508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947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年，英国公布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蒙巴顿方案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同年秋，印度和巴基斯坦分别独立。图为尼赫鲁在德里红堡宣布独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" descr="HW017"/>
          <p:cNvPicPr/>
          <p:nvPr/>
        </p:nvPicPr>
        <p:blipFill>
          <a:blip r:embed="rId1"/>
          <a:stretch/>
        </p:blipFill>
        <p:spPr>
          <a:xfrm>
            <a:off x="826920" y="836640"/>
            <a:ext cx="3410280" cy="51832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585" name="Text Box 5"/>
          <p:cNvSpPr/>
          <p:nvPr/>
        </p:nvSpPr>
        <p:spPr>
          <a:xfrm>
            <a:off x="4356000" y="836640"/>
            <a:ext cx="4176720" cy="13737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1947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年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月尼赫鲁在庆祝印度独立时说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隶书"/>
              </a:rPr>
              <a:t>今天我们结束了一个厄运的时代，印度再次发现了自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356000" y="32958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请谈一谈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印度历史上遭受的“厄运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印度人民争取民族独立的艰难历程和不屈的斗争精神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7667640" y="566100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3794"/>
                </a:moveTo>
                <a:lnTo>
                  <a:pt x="34027" y="10800"/>
                </a:lnTo>
                <a:lnTo>
                  <a:pt x="2001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HW018"/>
          <p:cNvPicPr/>
          <p:nvPr/>
        </p:nvPicPr>
        <p:blipFill>
          <a:blip r:embed="rId1"/>
          <a:stretch/>
        </p:blipFill>
        <p:spPr>
          <a:xfrm>
            <a:off x="826920" y="803160"/>
            <a:ext cx="7632720" cy="37782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589" name="Rectangle 5"/>
          <p:cNvSpPr/>
          <p:nvPr/>
        </p:nvSpPr>
        <p:spPr>
          <a:xfrm>
            <a:off x="755640" y="51159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961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年，在南斯拉夫、印度、埃及领导人铁托、尼赫鲁和纳赛尔的倡导和推动下，第一次不结盟国家或政府首脑会议召开。不结盟运动正式诞生。目前不结盟运动的成员国已达一百多个，是发展中国家重要的国际组织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7596360" y="566100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3794"/>
                </a:moveTo>
                <a:lnTo>
                  <a:pt x="34013" y="10800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21ditu2"/>
          <p:cNvPicPr/>
          <p:nvPr/>
        </p:nvPicPr>
        <p:blipFill>
          <a:blip r:embed="rId1"/>
          <a:stretch/>
        </p:blipFill>
        <p:spPr>
          <a:xfrm>
            <a:off x="900000" y="765000"/>
            <a:ext cx="75596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21aiji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41022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593" name="Rectangle 6"/>
          <p:cNvSpPr/>
          <p:nvPr/>
        </p:nvSpPr>
        <p:spPr>
          <a:xfrm>
            <a:off x="755640" y="5013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95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月，纳赛尔领导埃及“七月革命”，埃及成立共和国。图为纳赛尔受到市民热烈欢迎的情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7"/>
          <p:cNvSpPr/>
          <p:nvPr/>
        </p:nvSpPr>
        <p:spPr>
          <a:xfrm>
            <a:off x="7596360" y="558972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3794"/>
                </a:moveTo>
                <a:lnTo>
                  <a:pt x="34013" y="10800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1029" descr="21jiala"/>
          <p:cNvPicPr/>
          <p:nvPr/>
        </p:nvPicPr>
        <p:blipFill>
          <a:blip r:embed="rId1"/>
          <a:stretch/>
        </p:blipFill>
        <p:spPr>
          <a:xfrm>
            <a:off x="900000" y="836640"/>
            <a:ext cx="4889520" cy="5184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596" name="Rectangle 1030"/>
          <p:cNvSpPr/>
          <p:nvPr/>
        </p:nvSpPr>
        <p:spPr>
          <a:xfrm>
            <a:off x="6084720" y="1773360"/>
            <a:ext cx="223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纪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6" descr="21niriliya"/>
          <p:cNvPicPr/>
          <p:nvPr/>
        </p:nvPicPr>
        <p:blipFill>
          <a:blip r:embed="rId1"/>
          <a:stretch/>
        </p:blipFill>
        <p:spPr>
          <a:xfrm>
            <a:off x="971640" y="765000"/>
            <a:ext cx="4516200" cy="52549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598" name="Rectangle 7"/>
          <p:cNvSpPr/>
          <p:nvPr/>
        </p:nvSpPr>
        <p:spPr>
          <a:xfrm>
            <a:off x="5940360" y="1844640"/>
            <a:ext cx="5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8"/>
          <p:cNvSpPr/>
          <p:nvPr/>
        </p:nvSpPr>
        <p:spPr>
          <a:xfrm>
            <a:off x="7524720" y="5589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3794"/>
                </a:moveTo>
                <a:lnTo>
                  <a:pt x="34027" y="10800"/>
                </a:lnTo>
                <a:lnTo>
                  <a:pt x="2001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5" descr="21lamibiya"/>
          <p:cNvPicPr/>
          <p:nvPr/>
        </p:nvPicPr>
        <p:blipFill>
          <a:blip r:embed="rId1"/>
          <a:stretch/>
        </p:blipFill>
        <p:spPr>
          <a:xfrm>
            <a:off x="900000" y="982800"/>
            <a:ext cx="5905440" cy="47512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601" name="Rectangle 6"/>
          <p:cNvSpPr/>
          <p:nvPr/>
        </p:nvSpPr>
        <p:spPr>
          <a:xfrm>
            <a:off x="6950160" y="1116000"/>
            <a:ext cx="15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990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年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纳米比亚独立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标志帝国主义殖民体系的最终崩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　图为担任总统的努乔马（左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7"/>
          <p:cNvSpPr/>
          <p:nvPr/>
        </p:nvSpPr>
        <p:spPr>
          <a:xfrm>
            <a:off x="7451640" y="5589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3794"/>
                </a:moveTo>
                <a:lnTo>
                  <a:pt x="34027" y="10800"/>
                </a:lnTo>
                <a:lnTo>
                  <a:pt x="2001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6" descr="21ditu3"/>
          <p:cNvPicPr/>
          <p:nvPr/>
        </p:nvPicPr>
        <p:blipFill>
          <a:blip r:embed="rId1"/>
          <a:stretch/>
        </p:blipFill>
        <p:spPr>
          <a:xfrm>
            <a:off x="900000" y="765000"/>
            <a:ext cx="75596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6" descr="21guba"/>
          <p:cNvPicPr/>
          <p:nvPr/>
        </p:nvPicPr>
        <p:blipFill>
          <a:blip r:embed="rId1"/>
          <a:stretch/>
        </p:blipFill>
        <p:spPr>
          <a:xfrm>
            <a:off x="900000" y="836640"/>
            <a:ext cx="7561440" cy="45370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605" name="Rectangle 7"/>
          <p:cNvSpPr/>
          <p:nvPr/>
        </p:nvSpPr>
        <p:spPr>
          <a:xfrm>
            <a:off x="2627280" y="5445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古巴革命领导人卡斯特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8"/>
          <p:cNvSpPr/>
          <p:nvPr/>
        </p:nvSpPr>
        <p:spPr>
          <a:xfrm>
            <a:off x="7596360" y="558972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3794"/>
                </a:moveTo>
                <a:lnTo>
                  <a:pt x="34013" y="10800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HW016"/>
          <p:cNvPicPr/>
          <p:nvPr/>
        </p:nvPicPr>
        <p:blipFill>
          <a:blip r:embed="rId1"/>
          <a:stretch/>
        </p:blipFill>
        <p:spPr>
          <a:xfrm>
            <a:off x="919080" y="765000"/>
            <a:ext cx="4013280" cy="52563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538" name="Text Box 6"/>
          <p:cNvSpPr/>
          <p:nvPr/>
        </p:nvSpPr>
        <p:spPr>
          <a:xfrm>
            <a:off x="5148360" y="833400"/>
            <a:ext cx="331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19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世纪中期，英国已经完成了工业革命，进一步加紧对印度的经济剥削和政治统治，印度社会民不聊生，人民的反抗情绪日益高涨。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1857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～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1859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年，印度终于爆发了一场声势浩大的民族大起义。章西女王是这次印度民族起义中的杰出女英雄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　章西女王和印度人民的英勇斗争，表现了殖民地人民不畏强暴，反抗侵略的决心和勇气，沉重地打击了英国殖民者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6F22-BA0D-4D12-AB15-42A14EAD71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5" descr="21balama"/>
          <p:cNvPicPr/>
          <p:nvPr/>
        </p:nvPicPr>
        <p:blipFill>
          <a:blip r:embed="rId1"/>
          <a:stretch/>
        </p:blipFill>
        <p:spPr>
          <a:xfrm>
            <a:off x="900000" y="765000"/>
            <a:ext cx="7559640" cy="41230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612" name="Rectangle 6"/>
          <p:cNvSpPr/>
          <p:nvPr/>
        </p:nvSpPr>
        <p:spPr>
          <a:xfrm>
            <a:off x="611280" y="486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经过巴拿马人民的长期斗争，在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1977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年，巴美签订了关于巴拿马运河的新条约，图为签字前。前排左起：美国总统卡特、美洲国家组织秘书长和巴拿马政府领导人奥马尔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7596360" y="573408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3794"/>
                </a:moveTo>
                <a:lnTo>
                  <a:pt x="34013" y="10800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4"/>
          <p:cNvSpPr/>
          <p:nvPr/>
        </p:nvSpPr>
        <p:spPr>
          <a:xfrm>
            <a:off x="1549080" y="6778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一、亚洲国家的独立和振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2827080" y="1052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一）印度的独立与经济发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996480" y="141912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印度的独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684360" y="179532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背景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①印度原来是亚洲面积最大的殖民地，受英国直接统治的时间长达二百年之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612720" y="30639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 　②印度自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857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年进行反英民族大起义失败后，先后又进行了多次民族独立斗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817200" y="388296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独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684360" y="4292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947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年，英国被迫同意印度独立，但决定把原来的印度分为印度和巴基斯坦两个国家，实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印巴分治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524720" y="357336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3794"/>
                </a:moveTo>
                <a:lnTo>
                  <a:pt x="34027" y="10800"/>
                </a:lnTo>
                <a:lnTo>
                  <a:pt x="2001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7596360" y="530064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3794"/>
                </a:moveTo>
                <a:lnTo>
                  <a:pt x="34013" y="10800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4"/>
          <p:cNvSpPr/>
          <p:nvPr/>
        </p:nvSpPr>
        <p:spPr>
          <a:xfrm>
            <a:off x="684360" y="620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②印度独立国家的建立是几代印度人坚持长达百年之久、前仆后继地进行大规模反英斗争的结果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684360" y="1916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印巴分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84360" y="227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①印巴分治既是民族独立运动的成果，又是不利于印巴社会稳定和发展的根源之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684360" y="3068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②印巴冲突根源分析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684360" y="3429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分而治之”政策加深了该地区的民族与宗教矛盾。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蒙巴顿方案”的核心是按宗教，而不是按语言、文化或民族的区别来划分自治领，由此产生的印巴分立造成了无穷的后患。如克什米尔的归属问题，穆斯林与印度教的宗教之争问题，这些都造成了印巴两国之间的流血冲突和战争。　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684360" y="70344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印度的发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①政治上：实行独立自主和不结盟的外交政策，积极倡导并发起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结盟运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”，加入“七十七国集团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②经济上：集中精力发展经济，建立起比较齐全的工业体系，实现了粮食的基本自给，在科技方面取得突出成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682560" y="37321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二）其它亚洲国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印度独立前后，亚洲许多殖民地、半殖民地获得独立，各国经济得到不同程度的发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韩国、新加坡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经济发展迅速，已经成为现代化国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7"/>
          <p:cNvSpPr/>
          <p:nvPr/>
        </p:nvSpPr>
        <p:spPr>
          <a:xfrm>
            <a:off x="7308720" y="206064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3794"/>
                </a:moveTo>
                <a:lnTo>
                  <a:pt x="34027" y="10800"/>
                </a:lnTo>
                <a:lnTo>
                  <a:pt x="2001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"/>
          <p:cNvSpPr/>
          <p:nvPr/>
        </p:nvSpPr>
        <p:spPr>
          <a:xfrm>
            <a:off x="684360" y="7034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二、非洲民族独立浪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682560" y="1052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埃及独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684360" y="1413000"/>
            <a:ext cx="777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95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年，埃及爆发了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反帝反封建的革命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纳赛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为首的革命力量发动武装起义，赢得埃及的真正独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611280" y="2708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②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956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年，埃及宣布将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苏伊士运河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收归国有，极大地维护了埃及的民族利益和国家主权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684360" y="3557520"/>
            <a:ext cx="777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“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非洲独立年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96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年，非洲出现了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个独立国家，因此这一年被称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洲独立年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684360" y="47815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. 199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月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纳米比亚的独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标志着欧洲殖民者入侵和奴役非洲长达五个世纪历史的结束，帝国主义在非洲的殖民体系最终崩溃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0"/>
          <p:cNvSpPr/>
          <p:nvPr/>
        </p:nvSpPr>
        <p:spPr>
          <a:xfrm>
            <a:off x="7524720" y="2349360"/>
            <a:ext cx="719280" cy="28764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3973" h="21600">
                <a:moveTo>
                  <a:pt x="0" y="0"/>
                </a:moveTo>
                <a:lnTo>
                  <a:pt x="53973" y="0"/>
                </a:lnTo>
                <a:lnTo>
                  <a:pt x="53973" y="21600"/>
                </a:lnTo>
                <a:lnTo>
                  <a:pt x="0" y="21600"/>
                </a:lnTo>
                <a:close/>
              </a:path>
              <a:path fill="lightenLess" w="53973" h="21600">
                <a:moveTo>
                  <a:pt x="0" y="0"/>
                </a:moveTo>
                <a:lnTo>
                  <a:pt x="53973" y="0"/>
                </a:lnTo>
                <a:lnTo>
                  <a:pt x="52573" y="1400"/>
                </a:lnTo>
                <a:lnTo>
                  <a:pt x="1400" y="1400"/>
                </a:lnTo>
                <a:close/>
              </a:path>
              <a:path fill="darken" w="53973" h="21600">
                <a:moveTo>
                  <a:pt x="53973" y="0"/>
                </a:moveTo>
                <a:lnTo>
                  <a:pt x="53973" y="21600"/>
                </a:lnTo>
                <a:lnTo>
                  <a:pt x="52573" y="20200"/>
                </a:lnTo>
                <a:lnTo>
                  <a:pt x="52573" y="1400"/>
                </a:lnTo>
                <a:close/>
              </a:path>
              <a:path fill="darkenLess" w="53973" h="21600">
                <a:moveTo>
                  <a:pt x="53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3" y="20200"/>
                </a:lnTo>
                <a:close/>
              </a:path>
              <a:path fill="lighten" w="53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3" h="21600">
                <a:moveTo>
                  <a:pt x="19980" y="3794"/>
                </a:moveTo>
                <a:lnTo>
                  <a:pt x="33993" y="10800"/>
                </a:lnTo>
                <a:lnTo>
                  <a:pt x="1998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1"/>
          <p:cNvSpPr/>
          <p:nvPr/>
        </p:nvSpPr>
        <p:spPr>
          <a:xfrm>
            <a:off x="7524720" y="450864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3794"/>
                </a:moveTo>
                <a:lnTo>
                  <a:pt x="34027" y="10800"/>
                </a:lnTo>
                <a:lnTo>
                  <a:pt x="2001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2"/>
          <p:cNvSpPr/>
          <p:nvPr/>
        </p:nvSpPr>
        <p:spPr>
          <a:xfrm>
            <a:off x="7596360" y="573408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3794"/>
                </a:moveTo>
                <a:lnTo>
                  <a:pt x="34013" y="10800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4"/>
          <p:cNvSpPr/>
          <p:nvPr/>
        </p:nvSpPr>
        <p:spPr>
          <a:xfrm>
            <a:off x="684360" y="7034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三、拉丁美洲捍卫民族主权的斗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11280" y="1125360"/>
            <a:ext cx="777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古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959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年，古巴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卡斯特罗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的领导下，通过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武装斗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推翻美国扶植的傀儡政权，建立革命政府，走上了社会主义道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611280" y="2843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②古巴的独立沉重打击了美国在拉美的霸权，鼓舞了世界人民的民族解放运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611280" y="370188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巴拿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①巴拿马运河，是沟通大西洋和太平洋的著名国际航运水道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具有重要的经济和战略意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611280" y="5003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②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999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年底，巴拿马终于收回巴拿马运河的全部权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7451640" y="249228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3794"/>
                </a:moveTo>
                <a:lnTo>
                  <a:pt x="34027" y="10800"/>
                </a:lnTo>
                <a:lnTo>
                  <a:pt x="2001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7524720" y="551664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3794"/>
                </a:moveTo>
                <a:lnTo>
                  <a:pt x="34027" y="10800"/>
                </a:lnTo>
                <a:lnTo>
                  <a:pt x="2001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4"/>
          <p:cNvSpPr/>
          <p:nvPr/>
        </p:nvSpPr>
        <p:spPr>
          <a:xfrm>
            <a:off x="611280" y="1197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亚非国家在取得民族独立的过程中，大体采用了哪两种斗争方式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647640" y="69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四、小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684360" y="206064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答：主要采用了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武装斗争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印尼、阿尔及利亚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政治斗争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印度、巴基斯坦的独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种斗争方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684360" y="335772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请列举出为亚非拉国家民族独立作出了重要贡献的历史人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826920" y="4221000"/>
            <a:ext cx="20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答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印度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埃及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古巴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2916360" y="4216320"/>
            <a:ext cx="194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尼赫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纳赛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卡斯特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10"/>
          <p:cNvSpPr/>
          <p:nvPr/>
        </p:nvSpPr>
        <p:spPr>
          <a:xfrm>
            <a:off x="7667640" y="566100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3794"/>
                </a:moveTo>
                <a:lnTo>
                  <a:pt x="34027" y="10800"/>
                </a:lnTo>
                <a:lnTo>
                  <a:pt x="2001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8" descr="21yinba1"/>
          <p:cNvPicPr/>
          <p:nvPr/>
        </p:nvPicPr>
        <p:blipFill>
          <a:blip r:embed="rId1"/>
          <a:srcRect l="0" t="0" r="0" b="-965"/>
          <a:stretch/>
        </p:blipFill>
        <p:spPr>
          <a:xfrm>
            <a:off x="896760" y="765000"/>
            <a:ext cx="5259600" cy="5328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580" name="Rectangle 9"/>
          <p:cNvSpPr/>
          <p:nvPr/>
        </p:nvSpPr>
        <p:spPr>
          <a:xfrm>
            <a:off x="6227640" y="952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　印度民族主义运动领导人贾瓦哈拉尔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·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尼赫鲁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与圣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甘地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在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1946</a:t>
            </a:r>
            <a:r>
              <a:rPr b="1" lang="zh-CN" sz="2200" spc="-1" strike="noStrike">
                <a:solidFill>
                  <a:srgbClr val="0000cc"/>
                </a:solidFill>
                <a:latin typeface="Times New Roman"/>
              </a:rPr>
              <a:t>年孟买政治会议间歇时在谈话。两人都认为印度必须从英国的统治下解放出来。为了实现这一目的，他们共同领导了一场大规模的非暴力抵抗运动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11"/>
          <p:cNvSpPr/>
          <p:nvPr/>
        </p:nvSpPr>
        <p:spPr>
          <a:xfrm>
            <a:off x="7596360" y="566100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3794"/>
                </a:moveTo>
                <a:lnTo>
                  <a:pt x="34013" y="10800"/>
                </a:lnTo>
                <a:lnTo>
                  <a:pt x="2000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6T00:22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13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