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9.jpeg" ContentType="image/jpeg"/>
  <Override PartName="/ppt/media/image23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384-8F6D-4DB1-AD3B-B823388F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9BC-84D2-4C6A-B90B-2B13CF4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7FB1C-1AF6-4417-8BAC-3EDEC25A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F8FC9-95AE-4D90-B428-40D33477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3E32C-B1FB-4E47-91F0-852F5096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EEEF9-409F-4BF8-BCB9-77D0A42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D52C0-8F45-4231-B266-B171D97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217BA-230F-4CAB-AD5E-D08607A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ED025-36FF-4851-A682-AC9B5A7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3EDF-90B2-4A1D-AA63-4A75EE8F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B2B0-8C75-48A7-A39C-B629BDD5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3B8E-FD22-4B3A-9404-A68EB26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EDD-73B7-4AAB-9DF8-345117C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9BA7F-D343-41B8-B304-6AF1804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2B3F3-EFC5-42F6-B3EC-673650C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4745C-67AF-49C8-831D-936ECAEF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42545-4056-4494-BC8D-5C6B7F4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8B1C0-F6B0-47C1-96C2-D1283B08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0597D-D182-4795-A099-621C08A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FF6CF-538A-4883-B0C0-0DA882D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C2D4A-8F58-49EF-8669-B32F592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769BC-D07F-48B8-89E0-B539467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2DA02-AE36-4BF4-9660-9CEBF222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801-4DA4-44E3-A165-7DF97C67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5EF21-61A6-4A3B-B33D-27889D0D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1C28-0A74-4A5F-B729-0E60FFC8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A1799-018C-496E-A81E-B354035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2AA79-F4FF-44F3-A64C-E15A83F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5F96F-D0B7-46DD-9D1C-CBEF4AB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D7837-D356-4BDD-94EF-4C572A8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9AEB1-939A-4857-9DC9-505255B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1549E-2FB1-4B8C-8854-9B39834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561F4-D7F5-4E46-A973-1458142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6D32A-EF1A-46A8-B9D8-81F37DF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F2C-300C-4C0C-A65A-0C66621A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123C-14E9-44F3-A443-046DC5F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0FE80-C9EC-4073-968B-62CCC2DD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AC86-1D0F-47CF-BA41-98229300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9F6D-7942-4AAA-82A1-DC87FC55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AC8B5-6FC1-4F14-9229-91FECFF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7954C-3017-41DD-85D8-CDC4D82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D7E66-93AD-4494-BCA8-D1E9774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D12C9-28FB-4057-A09E-1E53AAF9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A8C5F-EE95-4152-9BB3-97EFD622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A59D0-81BF-4B94-93CA-6DE90D4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DE3-03BF-4EE6-B8A0-BD04BE34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D6371-1C63-4AC5-976B-3D1A74C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290C9-7401-457D-B25D-5561E6F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2F999-01B7-4044-A6EE-9896668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C374C-5972-4B4E-A9F9-C325BC0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2AA39-E4B3-4245-826A-B9CF6961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D17-DB38-4CF0-8816-157587F3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5C5C-8AE8-4F73-A145-0E768FD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7E3E-DF9C-452A-B32D-B5F4A95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8D1A-DF78-4FD6-AA04-7B11C76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1894-8848-4D3E-850C-74958FF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2FA-6218-4D2B-A50D-34D8F6F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BD32-4F72-45D5-8BB1-EE7BB17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20BE-53FA-4887-85C0-430EBCE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DCB0-181F-4BA5-82E7-8ECDFF2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1801-E194-4DA3-B37B-C4678C2E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CB7-4345-47ED-8692-317E18C3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B723-8777-4B93-95B6-ADF61E33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5157-5B35-427E-884D-A2E10D0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F425-BFA7-406D-A0BE-0E26FAA6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268C-C8BC-4BFA-A84D-6C47209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D8EF-F70B-459B-9F9F-C77FA97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6F5-6291-4050-9149-54C092D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A4D5-DEC8-4434-AF0C-48A9DF0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11CB-B1B5-43B4-B824-5D5BD59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4309-5D84-4C07-9C8D-0635E4FF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77D3-92C3-44D3-99BD-2A82CBE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7DEF-8C8B-4FC5-A0FC-8BDCCEED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BA43-63A9-40F1-A4BE-433E264C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3AED-50B7-478C-A570-75629135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7463-BEE0-47D4-8F07-ABCD6AD1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9DB6-A036-4C2A-ADCB-1B972E4F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A292-F61C-4BD3-9AAB-0189722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A4F-1548-452D-AAAC-43E47DA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B75B-6D3A-45B6-9937-258D72CE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190A-07F9-4060-9C70-22DA078A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75F7-8A7A-48EC-BC20-E3267E5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45CE-88B9-4A04-B0EC-D8AF114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8109-D335-448A-A854-40D7B03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1308-C2DD-45B1-9712-0E07386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F15E-F511-4A96-A511-CA2A1067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62BA-D229-4542-81C2-0D07341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38EE-C895-41B7-BF63-6996E0AD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D5DA-2558-4402-A58D-92967963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09C-0D07-4C45-AADF-016943C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1B8D-A251-404D-9DE4-1CDDD83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A175-CD93-4B8B-8EF5-FA9E357A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F613-A9CF-471E-9BED-B4A1507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E925-9020-42F7-8132-3B1BA2A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1EC3-E2F5-4C6F-B684-0370A88A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7864-6C1B-4F40-B773-BCA482E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DDB2-9984-4E68-8EE4-F490690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2C14-326E-4563-AADA-9200DCD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796C-8D71-4FFF-8325-E04AECA4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5D22-A40D-4263-BC71-A9A86E90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6AB-B17B-40DC-89E1-6B0C491A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7827-959D-4530-BDDC-4F357C27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F5A8-308B-4D65-9570-1B85E51D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BF8E-83AB-4053-BE23-D726BAD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C282-172B-4CE5-975E-1E256E4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CAA2-1DF4-440D-8F5C-D7EE752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EDBC-4D97-45DD-8D3A-B547974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E32C-6599-42A4-A354-BBAABB2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152D-9AF0-494D-B983-368CBE0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E4C7-AE96-4F86-B965-4994D26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A576-B47E-488D-A439-DAF4153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D6D-13B1-424A-A944-CA4DF90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5DC5-52FB-42E2-9976-CC26F74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1CB1-51CD-4E16-A777-0123EE15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4863-5772-4E83-B044-76C218CA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A04C-CEE5-4D46-85B4-1C404623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A364-2E09-489C-BDEF-5335A21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7DAC-69C0-4AB6-84E8-FC23A69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0436-3852-4751-A66B-2F9AFFB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1F7B-4162-4CB9-AEA2-FE2CF7D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045D-6073-4D99-8F50-5F4A330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9F7FB-2539-407C-A42E-E8F5DA1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401-BF12-4EE2-BBD8-0F33D34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AC9C3-BAF2-4DE2-A670-5FA6822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ECA39-C7E4-488A-AC00-01CC4C03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E10D-BB11-4DD1-AC3E-EA8C0BE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25557-CAC8-4FF4-96BD-6D679E2F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9332-12AF-4937-84BD-39FBCAFF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32E3-9142-45C1-AC9E-78E98F6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DEE4-AEF4-4CA5-BB5A-70959DE2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C56B5-440A-443F-AB0A-BD2EE250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7A74-8243-4D96-BC0F-E6BB473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DB69-8F22-482E-AD16-1E5442FF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E69-ADD9-4B6D-8EC3-B358929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8E27-2699-43DF-B72B-DE52756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CA8E-602D-448A-894F-BF40297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97D7C-6C84-41AB-BEAF-3DEFB03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62FC-30DB-4C7D-8653-4866F79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D514F-E92B-4102-A25F-5A5F3F7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B1B7E-EDA1-42CA-BE95-358587C3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6B4D-555B-4420-AA3F-EB013AD4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F13C5-F8F0-4E29-827E-3328F517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E16F0-5BF0-4B63-AB3B-14A15D61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0E84C-1CB1-4A5C-90DB-7C5023D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164-9CCA-49BF-8C85-020BC16B1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D4D-4A66-40B2-B687-FAD4F4D40ED1}" type="slidenum">
              <a:rPr b="0" lang="en-US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5" name="图片 6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8CE2-41A9-4F51-BC94-7BDDA339AD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0" name="图片 6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0AC-BEC5-4689-8CD0-E99AFE269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8E2-0944-4524-AC6F-6BAEDC4A12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6825-BFE8-4894-9CAE-B64B7F803B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8424-5151-4271-BF9B-E692AC7BC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1AA-A990-4BBD-8AB3-DDDD40F504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71C-AD46-4248-A1F7-D3C090FF3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0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3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2C5-C1B0-4149-A63C-63C7A1209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5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5" name="图片 9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FAD8-D1DC-4281-83E6-FF8CF2924A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9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3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图片 5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F14-F2CA-4C3D-B0EF-7FED7FA11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2A9-C6ED-4458-8E2B-4385590B59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2014920" y="1122480"/>
            <a:ext cx="50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人教版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数学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·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八年级下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7"/>
          <p:cNvSpPr txBox="1"/>
          <p:nvPr/>
        </p:nvSpPr>
        <p:spPr>
          <a:xfrm>
            <a:off x="933480" y="2343240"/>
            <a:ext cx="73404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用函数观点看方程或不等式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 rot="21436800">
            <a:off x="2052360" y="1196640"/>
            <a:ext cx="1776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ff0066"/>
                </a:solidFill>
                <a:latin typeface="华文彩云"/>
              </a:rPr>
              <a:t>练习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ff0066"/>
              </a:solidFill>
              <a:latin typeface="华文彩云"/>
              <a:ea typeface="华文彩云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885960" y="2004840"/>
            <a:ext cx="39402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727200" y="1728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044720" y="1917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根据图象你能直接说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一元一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方程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+3=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解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1042920" y="38606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解：由图象可知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+3=0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解为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= −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742000" y="2732040"/>
            <a:ext cx="18748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Group 8"/>
          <p:cNvGrpSpPr/>
          <p:nvPr/>
        </p:nvGrpSpPr>
        <p:grpSpPr>
          <a:xfrm>
            <a:off x="5076360" y="1413000"/>
            <a:ext cx="3967200" cy="4177800"/>
            <a:chOff x="5076360" y="1413000"/>
            <a:chExt cx="3967200" cy="4177800"/>
          </a:xfrm>
        </p:grpSpPr>
        <p:grpSp>
          <p:nvGrpSpPr>
            <p:cNvPr id="623" name=""/>
            <p:cNvGrpSpPr/>
            <p:nvPr/>
          </p:nvGrpSpPr>
          <p:grpSpPr>
            <a:xfrm>
              <a:off x="6732000" y="1485720"/>
              <a:ext cx="360" cy="4105080"/>
              <a:chOff x="6732000" y="1485720"/>
              <a:chExt cx="360" cy="4105080"/>
            </a:xfrm>
          </p:grpSpPr>
          <p:sp>
            <p:nvSpPr>
              <p:cNvPr id="624" name="Line 9"/>
              <p:cNvSpPr/>
              <p:nvPr/>
            </p:nvSpPr>
            <p:spPr>
              <a:xfrm flipV="1">
                <a:off x="6732360" y="1485720"/>
                <a:ext cx="0" cy="41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 rot="10800000">
                <a:off x="6732000" y="1485720"/>
                <a:ext cx="360" cy="410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5076360" y="1486080"/>
              <a:ext cx="2592720" cy="2952720"/>
              <a:chOff x="5076360" y="1486080"/>
              <a:chExt cx="2592720" cy="2952720"/>
            </a:xfrm>
          </p:grpSpPr>
          <p:sp>
            <p:nvSpPr>
              <p:cNvPr id="627" name="Line 10"/>
              <p:cNvSpPr/>
              <p:nvPr/>
            </p:nvSpPr>
            <p:spPr>
              <a:xfrm flipV="1">
                <a:off x="5076720" y="1486080"/>
                <a:ext cx="2592360" cy="2952720"/>
              </a:xfrm>
              <a:prstGeom prst="line">
                <a:avLst/>
              </a:prstGeom>
              <a:ln w="381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 rot="10800000">
                <a:off x="5076360" y="1486080"/>
                <a:ext cx="2592360" cy="29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Text Box 11"/>
            <p:cNvSpPr/>
            <p:nvPr/>
          </p:nvSpPr>
          <p:spPr>
            <a:xfrm>
              <a:off x="5508360" y="37911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−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Text Box 12"/>
            <p:cNvSpPr/>
            <p:nvPr/>
          </p:nvSpPr>
          <p:spPr>
            <a:xfrm>
              <a:off x="7245360" y="20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y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=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+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13"/>
            <p:cNvSpPr/>
            <p:nvPr/>
          </p:nvSpPr>
          <p:spPr>
            <a:xfrm>
              <a:off x="6373800" y="379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4"/>
            <p:cNvSpPr/>
            <p:nvPr/>
          </p:nvSpPr>
          <p:spPr>
            <a:xfrm>
              <a:off x="8750160" y="37911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5"/>
            <p:cNvSpPr/>
            <p:nvPr/>
          </p:nvSpPr>
          <p:spPr>
            <a:xfrm>
              <a:off x="6237360" y="1413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Text Box 16"/>
          <p:cNvSpPr/>
          <p:nvPr/>
        </p:nvSpPr>
        <p:spPr>
          <a:xfrm>
            <a:off x="6962760" y="1582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707000" y="3646440"/>
            <a:ext cx="4176720" cy="360"/>
            <a:chOff x="4707000" y="3646440"/>
            <a:chExt cx="4176720" cy="360"/>
          </a:xfrm>
        </p:grpSpPr>
        <p:sp>
          <p:nvSpPr>
            <p:cNvPr id="636" name="Line 17"/>
            <p:cNvSpPr/>
            <p:nvPr/>
          </p:nvSpPr>
          <p:spPr>
            <a:xfrm>
              <a:off x="4707000" y="36464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4707000" y="36464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一次函数与一元一次方程9"/>
          <p:cNvPicPr/>
          <p:nvPr/>
        </p:nvPicPr>
        <p:blipFill>
          <a:blip r:embed="rId1"/>
          <a:stretch/>
        </p:blipFill>
        <p:spPr>
          <a:xfrm>
            <a:off x="-38160" y="0"/>
            <a:ext cx="9290160" cy="20606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"/>
          <p:cNvSpPr/>
          <p:nvPr/>
        </p:nvSpPr>
        <p:spPr>
          <a:xfrm>
            <a:off x="324000" y="2492280"/>
            <a:ext cx="914400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解法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：设再过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x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物体的速度为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，依题意得　　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x+5=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　　  解得：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x = 6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答：再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它的速度为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一次函数与一元一次方程9"/>
          <p:cNvPicPr/>
          <p:nvPr/>
        </p:nvPicPr>
        <p:blipFill>
          <a:blip r:embed="rId1"/>
          <a:stretch/>
        </p:blipFill>
        <p:spPr>
          <a:xfrm>
            <a:off x="-38160" y="0"/>
            <a:ext cx="9290160" cy="18446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3"/>
          <p:cNvSpPr/>
          <p:nvPr/>
        </p:nvSpPr>
        <p:spPr>
          <a:xfrm>
            <a:off x="924840" y="1563840"/>
            <a:ext cx="712116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解法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：速度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（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）与时间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（秒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的函数关系式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 = 2x+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854640" y="3003480"/>
            <a:ext cx="47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由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x+5=17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得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x-12=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416160" y="3716280"/>
            <a:ext cx="581940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作直线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=2x-12,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它与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轴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交点为（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）即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x 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035000" y="5084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答：再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它的速度为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6516720" y="2421000"/>
            <a:ext cx="3498840" cy="3456000"/>
            <a:chOff x="6516720" y="2421000"/>
            <a:chExt cx="3498840" cy="3456000"/>
          </a:xfrm>
        </p:grpSpPr>
        <p:grpSp>
          <p:nvGrpSpPr>
            <p:cNvPr id="646" name=""/>
            <p:cNvGrpSpPr/>
            <p:nvPr/>
          </p:nvGrpSpPr>
          <p:grpSpPr>
            <a:xfrm>
              <a:off x="6578640" y="3860640"/>
              <a:ext cx="2232000" cy="360"/>
              <a:chOff x="6578640" y="3860640"/>
              <a:chExt cx="2232000" cy="360"/>
            </a:xfrm>
          </p:grpSpPr>
          <p:sp>
            <p:nvSpPr>
              <p:cNvPr id="647" name="Line 8"/>
              <p:cNvSpPr/>
              <p:nvPr/>
            </p:nvSpPr>
            <p:spPr>
              <a:xfrm>
                <a:off x="6578640" y="386064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6578640" y="386064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7226280" y="2779200"/>
              <a:ext cx="360" cy="3024360"/>
              <a:chOff x="7226280" y="2779200"/>
              <a:chExt cx="360" cy="3024360"/>
            </a:xfrm>
          </p:grpSpPr>
          <p:sp>
            <p:nvSpPr>
              <p:cNvPr id="650" name="Line 9"/>
              <p:cNvSpPr/>
              <p:nvPr/>
            </p:nvSpPr>
            <p:spPr>
              <a:xfrm flipV="1">
                <a:off x="7226640" y="2779200"/>
                <a:ext cx="0" cy="302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 rot="10800000">
                <a:off x="7226280" y="2779200"/>
                <a:ext cx="360" cy="302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867720" y="3284640"/>
              <a:ext cx="1224000" cy="2592360"/>
              <a:chOff x="6867720" y="3284640"/>
              <a:chExt cx="1224000" cy="2592360"/>
            </a:xfrm>
          </p:grpSpPr>
          <p:sp>
            <p:nvSpPr>
              <p:cNvPr id="653" name="Line 10"/>
              <p:cNvSpPr/>
              <p:nvPr/>
            </p:nvSpPr>
            <p:spPr>
              <a:xfrm flipH="1">
                <a:off x="6867720" y="3284640"/>
                <a:ext cx="1224000" cy="259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6867720" y="3284640"/>
                <a:ext cx="122400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Text Box 11"/>
            <p:cNvSpPr/>
            <p:nvPr/>
          </p:nvSpPr>
          <p:spPr>
            <a:xfrm>
              <a:off x="6866280" y="2421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12"/>
            <p:cNvSpPr/>
            <p:nvPr/>
          </p:nvSpPr>
          <p:spPr>
            <a:xfrm>
              <a:off x="8514000" y="37371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6824880" y="369576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14"/>
            <p:cNvSpPr/>
            <p:nvPr/>
          </p:nvSpPr>
          <p:spPr>
            <a:xfrm>
              <a:off x="6516720" y="47656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-1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Text Box 15"/>
            <p:cNvSpPr/>
            <p:nvPr/>
          </p:nvSpPr>
          <p:spPr>
            <a:xfrm>
              <a:off x="7731360" y="37130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Text Box 16"/>
            <p:cNvSpPr/>
            <p:nvPr/>
          </p:nvSpPr>
          <p:spPr>
            <a:xfrm>
              <a:off x="7423200" y="270828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=2</a:t>
              </a: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-1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Text Box 17"/>
          <p:cNvSpPr/>
          <p:nvPr/>
        </p:nvSpPr>
        <p:spPr>
          <a:xfrm>
            <a:off x="108000" y="588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思考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你能否通过画直线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 = 2x+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求解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1"/>
          <a:stretch/>
        </p:blipFill>
        <p:spPr>
          <a:xfrm>
            <a:off x="781200" y="328680"/>
            <a:ext cx="7912080" cy="109836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900000" y="1557360"/>
            <a:ext cx="47516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  <a:ea typeface="黑体"/>
              </a:rPr>
              <a:t>解法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将方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−1=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+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变形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−6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画出函数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=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隶书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图象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003320" y="3749760"/>
            <a:ext cx="50436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628640" y="361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2195640" y="4548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1685880" y="3589200"/>
            <a:ext cx="6397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971640" y="4222800"/>
            <a:ext cx="446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由图象可知直线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=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 −6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与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轴的交点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(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0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所以原方程的解为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=2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780732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4500720" y="1916280"/>
            <a:ext cx="3822480" cy="3817800"/>
            <a:chOff x="4500720" y="1916280"/>
            <a:chExt cx="3822480" cy="3817800"/>
          </a:xfrm>
        </p:grpSpPr>
        <p:grpSp>
          <p:nvGrpSpPr>
            <p:cNvPr id="671" name=""/>
            <p:cNvGrpSpPr/>
            <p:nvPr/>
          </p:nvGrpSpPr>
          <p:grpSpPr>
            <a:xfrm>
              <a:off x="4500720" y="3573720"/>
              <a:ext cx="3745080" cy="360"/>
              <a:chOff x="4500720" y="3573720"/>
              <a:chExt cx="3745080" cy="360"/>
            </a:xfrm>
          </p:grpSpPr>
          <p:sp>
            <p:nvSpPr>
              <p:cNvPr id="672" name="Line 11"/>
              <p:cNvSpPr/>
              <p:nvPr/>
            </p:nvSpPr>
            <p:spPr>
              <a:xfrm>
                <a:off x="4500720" y="3573720"/>
                <a:ext cx="37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4500720" y="3573720"/>
                <a:ext cx="374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4" name="Text Box 12"/>
            <p:cNvSpPr/>
            <p:nvPr/>
          </p:nvSpPr>
          <p:spPr>
            <a:xfrm>
              <a:off x="5797800" y="357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3"/>
            <p:cNvSpPr/>
            <p:nvPr/>
          </p:nvSpPr>
          <p:spPr>
            <a:xfrm>
              <a:off x="8029800" y="357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Text Box 14"/>
            <p:cNvSpPr/>
            <p:nvPr/>
          </p:nvSpPr>
          <p:spPr>
            <a:xfrm>
              <a:off x="5869080" y="1989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869080" y="2276640"/>
              <a:ext cx="935280" cy="3457440"/>
              <a:chOff x="5869080" y="2276640"/>
              <a:chExt cx="935280" cy="3457440"/>
            </a:xfrm>
          </p:grpSpPr>
          <p:sp>
            <p:nvSpPr>
              <p:cNvPr id="678" name="Line 15"/>
              <p:cNvSpPr/>
              <p:nvPr/>
            </p:nvSpPr>
            <p:spPr>
              <a:xfrm flipV="1">
                <a:off x="5869080" y="2276640"/>
                <a:ext cx="935280" cy="3457440"/>
              </a:xfrm>
              <a:prstGeom prst="line">
                <a:avLst/>
              </a:prstGeom>
              <a:ln w="381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 txBox="1"/>
              <p:nvPr/>
            </p:nvSpPr>
            <p:spPr>
              <a:xfrm rot="10800000">
                <a:off x="5869080" y="2276640"/>
                <a:ext cx="935280" cy="34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0" name="Text Box 16"/>
            <p:cNvSpPr/>
            <p:nvPr/>
          </p:nvSpPr>
          <p:spPr>
            <a:xfrm>
              <a:off x="6445440" y="357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5653080" y="45817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−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Text Box 18"/>
            <p:cNvSpPr/>
            <p:nvPr/>
          </p:nvSpPr>
          <p:spPr>
            <a:xfrm>
              <a:off x="6948720" y="19162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y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=3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x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 −6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华文隶书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84360" y="2205000"/>
            <a:ext cx="360" cy="3602160"/>
            <a:chOff x="6084360" y="2205000"/>
            <a:chExt cx="360" cy="3602160"/>
          </a:xfrm>
        </p:grpSpPr>
        <p:sp>
          <p:nvSpPr>
            <p:cNvPr id="684" name="Line 19"/>
            <p:cNvSpPr/>
            <p:nvPr/>
          </p:nvSpPr>
          <p:spPr>
            <a:xfrm flipV="1">
              <a:off x="6084720" y="2205000"/>
              <a:ext cx="0" cy="3602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 rot="10800000">
              <a:off x="6084360" y="2205000"/>
              <a:ext cx="360" cy="360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569880" y="1593720"/>
            <a:ext cx="431496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解法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：画出两个函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5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−1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=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+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图象</a:t>
            </a:r>
            <a:r>
              <a:rPr b="0" i="1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247680" y="3433680"/>
            <a:ext cx="434196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由图象知，两直线交于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(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9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，所以原方程的解为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629400" y="1873080"/>
            <a:ext cx="235440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5683320" y="2441520"/>
            <a:ext cx="13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5800680" y="4722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5699160" y="2527200"/>
            <a:ext cx="2165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Group 9"/>
          <p:cNvGrpSpPr/>
          <p:nvPr/>
        </p:nvGrpSpPr>
        <p:grpSpPr>
          <a:xfrm>
            <a:off x="5294160" y="1053720"/>
            <a:ext cx="3606480" cy="5040720"/>
            <a:chOff x="5294160" y="1053720"/>
            <a:chExt cx="3606480" cy="5040720"/>
          </a:xfrm>
        </p:grpSpPr>
        <p:grpSp>
          <p:nvGrpSpPr>
            <p:cNvPr id="694" name=""/>
            <p:cNvGrpSpPr/>
            <p:nvPr/>
          </p:nvGrpSpPr>
          <p:grpSpPr>
            <a:xfrm>
              <a:off x="6733800" y="1359720"/>
              <a:ext cx="360" cy="4734720"/>
              <a:chOff x="6733800" y="1359720"/>
              <a:chExt cx="360" cy="4734720"/>
            </a:xfrm>
          </p:grpSpPr>
          <p:sp>
            <p:nvSpPr>
              <p:cNvPr id="695" name="Line 10"/>
              <p:cNvSpPr/>
              <p:nvPr/>
            </p:nvSpPr>
            <p:spPr>
              <a:xfrm flipV="1">
                <a:off x="6734160" y="1359720"/>
                <a:ext cx="0" cy="47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6733800" y="1359720"/>
                <a:ext cx="360" cy="473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7" name="Text Box 11"/>
            <p:cNvSpPr/>
            <p:nvPr/>
          </p:nvSpPr>
          <p:spPr>
            <a:xfrm>
              <a:off x="6446880" y="547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12"/>
            <p:cNvSpPr/>
            <p:nvPr/>
          </p:nvSpPr>
          <p:spPr>
            <a:xfrm>
              <a:off x="8607240" y="55296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Text Box 13"/>
            <p:cNvSpPr/>
            <p:nvPr/>
          </p:nvSpPr>
          <p:spPr>
            <a:xfrm>
              <a:off x="6302160" y="1241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6688080" y="1130400"/>
              <a:ext cx="1226880" cy="4952160"/>
              <a:chOff x="6688080" y="1130400"/>
              <a:chExt cx="1226880" cy="4952160"/>
            </a:xfrm>
          </p:grpSpPr>
          <p:sp>
            <p:nvSpPr>
              <p:cNvPr id="701" name="Line 14"/>
              <p:cNvSpPr/>
              <p:nvPr/>
            </p:nvSpPr>
            <p:spPr>
              <a:xfrm flipV="1">
                <a:off x="6688080" y="1130400"/>
                <a:ext cx="1226880" cy="4952160"/>
              </a:xfrm>
              <a:prstGeom prst="line">
                <a:avLst/>
              </a:prstGeom>
              <a:ln w="381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 rot="10800000">
                <a:off x="6688080" y="1130400"/>
                <a:ext cx="1226880" cy="495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3" name="Text Box 15"/>
            <p:cNvSpPr/>
            <p:nvPr/>
          </p:nvSpPr>
          <p:spPr>
            <a:xfrm>
              <a:off x="7021440" y="470772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华文隶书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华文隶书"/>
                </a:rPr>
                <a:t>=5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华文隶书"/>
                </a:rPr>
                <a:t>x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华文隶书"/>
                </a:rPr>
                <a:t>−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376240" y="1053720"/>
              <a:ext cx="2808720" cy="4815000"/>
              <a:chOff x="5376240" y="1053720"/>
              <a:chExt cx="2808720" cy="4815000"/>
            </a:xfrm>
          </p:grpSpPr>
          <p:sp>
            <p:nvSpPr>
              <p:cNvPr id="705" name="Line 16"/>
              <p:cNvSpPr/>
              <p:nvPr/>
            </p:nvSpPr>
            <p:spPr>
              <a:xfrm flipV="1">
                <a:off x="5376600" y="1053720"/>
                <a:ext cx="2808360" cy="481500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 rot="10800000">
                <a:off x="5376240" y="1053720"/>
                <a:ext cx="2808360" cy="48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5294160" y="41198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  <a:ea typeface="华文隶书"/>
                </a:rPr>
                <a:t>y=2</a:t>
              </a:r>
              <a:r>
                <a:rPr b="0" i="1" lang="en-US" sz="2400" spc="-1" strike="noStrike">
                  <a:solidFill>
                    <a:srgbClr val="3366ff"/>
                  </a:solidFill>
                  <a:latin typeface="Times New Roman"/>
                  <a:ea typeface="华文隶书"/>
                </a:rPr>
                <a:t>x</a:t>
              </a:r>
              <a:r>
                <a:rPr b="0" lang="en-US" sz="2400" spc="-1" strike="noStrike">
                  <a:solidFill>
                    <a:srgbClr val="3366ff"/>
                  </a:solidFill>
                  <a:latin typeface="Times New Roman"/>
                  <a:ea typeface="华文隶书"/>
                </a:rPr>
                <a:t>+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7669080" y="1771200"/>
              <a:ext cx="14292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7742160" y="1711440"/>
              <a:ext cx="360" cy="3992760"/>
              <a:chOff x="7742160" y="1711440"/>
              <a:chExt cx="360" cy="3992760"/>
            </a:xfrm>
          </p:grpSpPr>
          <p:sp>
            <p:nvSpPr>
              <p:cNvPr id="710" name="Line 19"/>
              <p:cNvSpPr/>
              <p:nvPr/>
            </p:nvSpPr>
            <p:spPr>
              <a:xfrm>
                <a:off x="7742160" y="1711440"/>
                <a:ext cx="0" cy="39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7742160" y="1711440"/>
                <a:ext cx="360" cy="399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734160" y="1829160"/>
              <a:ext cx="1295280" cy="360"/>
              <a:chOff x="6734160" y="1829160"/>
              <a:chExt cx="1295280" cy="360"/>
            </a:xfrm>
          </p:grpSpPr>
          <p:sp>
            <p:nvSpPr>
              <p:cNvPr id="713" name="Line 20"/>
              <p:cNvSpPr/>
              <p:nvPr/>
            </p:nvSpPr>
            <p:spPr>
              <a:xfrm flipH="1">
                <a:off x="6734160" y="18291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6734160" y="18291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5" name="Text Box 21"/>
            <p:cNvSpPr/>
            <p:nvPr/>
          </p:nvSpPr>
          <p:spPr>
            <a:xfrm>
              <a:off x="6373800" y="1711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22"/>
            <p:cNvSpPr/>
            <p:nvPr/>
          </p:nvSpPr>
          <p:spPr>
            <a:xfrm>
              <a:off x="7669080" y="54752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隶书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364000" y="5589720"/>
            <a:ext cx="3456000" cy="360"/>
            <a:chOff x="5364000" y="5589720"/>
            <a:chExt cx="3456000" cy="360"/>
          </a:xfrm>
        </p:grpSpPr>
        <p:sp>
          <p:nvSpPr>
            <p:cNvPr id="718" name="Line 23"/>
            <p:cNvSpPr/>
            <p:nvPr/>
          </p:nvSpPr>
          <p:spPr>
            <a:xfrm>
              <a:off x="5364000" y="558972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5364000" y="558972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0" name="Rectangle 24" descr=""/>
          <p:cNvPicPr/>
          <p:nvPr/>
        </p:nvPicPr>
        <p:blipFill>
          <a:blip r:embed="rId1"/>
          <a:stretch/>
        </p:blipFill>
        <p:spPr>
          <a:xfrm>
            <a:off x="426960" y="298440"/>
            <a:ext cx="79488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5FB-08EC-420A-BE3A-A7F3781D807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WordArt 2"/>
          <p:cNvSpPr txBox="1"/>
          <p:nvPr/>
        </p:nvSpPr>
        <p:spPr>
          <a:xfrm rot="21436800">
            <a:off x="3429000" y="942480"/>
            <a:ext cx="2077920" cy="82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ff0066"/>
                </a:solidFill>
                <a:latin typeface="华文彩云"/>
              </a:rPr>
              <a:t>收获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ff0066"/>
              </a:solidFill>
              <a:latin typeface="华文彩云"/>
              <a:ea typeface="华文彩云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1216080" y="2219400"/>
            <a:ext cx="64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解一元一次方程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=0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常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以转化为：当某个一次函数的值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时，求相应的自变量的值．从图象上看，这相当于已知直线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确定它与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轴交点的横坐标的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94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794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94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794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94" fill="hold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94" fill="hold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思考板 拷贝"/>
          <p:cNvPicPr/>
          <p:nvPr/>
        </p:nvPicPr>
        <p:blipFill>
          <a:blip r:embed="rId1"/>
          <a:stretch/>
        </p:blipFill>
        <p:spPr>
          <a:xfrm>
            <a:off x="179280" y="2567160"/>
            <a:ext cx="8786880" cy="4030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一次函数与一元一次方程4"/>
          <p:cNvPicPr/>
          <p:nvPr/>
        </p:nvPicPr>
        <p:blipFill>
          <a:blip r:embed="rId2"/>
          <a:stretch/>
        </p:blipFill>
        <p:spPr>
          <a:xfrm>
            <a:off x="0" y="319248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4"/>
          <p:cNvSpPr/>
          <p:nvPr/>
        </p:nvSpPr>
        <p:spPr>
          <a:xfrm>
            <a:off x="921600" y="423720"/>
            <a:ext cx="6852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解方程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x+20=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为何值时函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=2x+2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值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问题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）与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）有什么关系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文本框 8199"/>
          <p:cNvSpPr/>
          <p:nvPr/>
        </p:nvSpPr>
        <p:spPr>
          <a:xfrm>
            <a:off x="2400480" y="60069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 rot="20192400">
            <a:off x="1547640" y="1294920"/>
            <a:ext cx="1249560" cy="7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ff0066"/>
                </a:solidFill>
                <a:latin typeface="华文彩云"/>
              </a:rPr>
              <a:t>观察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ff0066"/>
              </a:solidFill>
              <a:latin typeface="华文彩云"/>
              <a:ea typeface="华文彩云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84360" y="2205000"/>
            <a:ext cx="388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解方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Object 4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1655640" cy="4064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5"/>
          <p:cNvSpPr/>
          <p:nvPr/>
        </p:nvSpPr>
        <p:spPr>
          <a:xfrm>
            <a:off x="684360" y="270828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当自变量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为何值时，函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=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20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值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771640" y="1557360"/>
            <a:ext cx="48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以下两个问题有什么关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755640" y="36450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=0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Object 8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1297080" cy="387360"/>
          </a:xfrm>
          <a:prstGeom prst="rect">
            <a:avLst/>
          </a:prstGeom>
          <a:ln w="0">
            <a:noFill/>
          </a:ln>
        </p:spPr>
      </p:pic>
      <p:pic>
        <p:nvPicPr>
          <p:cNvPr id="536" name="Object 9" descr=""/>
          <p:cNvPicPr/>
          <p:nvPr/>
        </p:nvPicPr>
        <p:blipFill>
          <a:blip r:embed="rId3"/>
          <a:stretch/>
        </p:blipFill>
        <p:spPr>
          <a:xfrm>
            <a:off x="2124000" y="4581360"/>
            <a:ext cx="1150920" cy="405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0"/>
          <p:cNvSpPr/>
          <p:nvPr/>
        </p:nvSpPr>
        <p:spPr>
          <a:xfrm>
            <a:off x="3924360" y="3645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Object 11" descr=""/>
          <p:cNvPicPr/>
          <p:nvPr/>
        </p:nvPicPr>
        <p:blipFill>
          <a:blip r:embed="rId4"/>
          <a:stretch/>
        </p:blipFill>
        <p:spPr>
          <a:xfrm>
            <a:off x="4500720" y="4149720"/>
            <a:ext cx="1655640" cy="406440"/>
          </a:xfrm>
          <a:prstGeom prst="rect">
            <a:avLst/>
          </a:prstGeom>
          <a:ln w="0">
            <a:noFill/>
          </a:ln>
        </p:spPr>
      </p:pic>
      <p:pic>
        <p:nvPicPr>
          <p:cNvPr id="539" name="Object 12" descr=""/>
          <p:cNvPicPr/>
          <p:nvPr/>
        </p:nvPicPr>
        <p:blipFill>
          <a:blip r:embed="rId5"/>
          <a:stretch/>
        </p:blipFill>
        <p:spPr>
          <a:xfrm>
            <a:off x="4643280" y="4653000"/>
            <a:ext cx="1297080" cy="38736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13" descr=""/>
          <p:cNvPicPr/>
          <p:nvPr/>
        </p:nvPicPr>
        <p:blipFill>
          <a:blip r:embed="rId6"/>
          <a:stretch/>
        </p:blipFill>
        <p:spPr>
          <a:xfrm>
            <a:off x="4859280" y="5013360"/>
            <a:ext cx="1150920" cy="404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4"/>
          <p:cNvSpPr/>
          <p:nvPr/>
        </p:nvSpPr>
        <p:spPr>
          <a:xfrm>
            <a:off x="900000" y="5516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两个问题实际上是同一个问题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877080" y="3068640"/>
            <a:ext cx="2087640" cy="936720"/>
          </a:xfrm>
          <a:prstGeom prst="wedgeRoundRectCallout">
            <a:avLst>
              <a:gd name="adj1" fmla="val -72356"/>
              <a:gd name="adj2" fmla="val 51694"/>
              <a:gd name="adj3" fmla="val 16667"/>
            </a:avLst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70c07"/>
                </a:solidFill>
                <a:latin typeface="Arial"/>
                <a:ea typeface="华文新魏"/>
              </a:rPr>
              <a:t>从“数”上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4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4" fill="hold">
                                          <p:stCondLst>
                                            <p:cond delay="89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4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4" fill="hold">
                                          <p:stCondLst>
                                            <p:cond delay="89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4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4" fill="hold">
                                          <p:stCondLst>
                                            <p:cond delay="89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4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4" fill="hold">
                                          <p:stCondLst>
                                            <p:cond delay="89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4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4" fill="hold">
                                          <p:stCondLst>
                                            <p:cond delay="89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539640" y="1125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从函数图象看，直线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y=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x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与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轴交点的坐标是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-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）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4356000" y="1270080"/>
            <a:ext cx="3352680" cy="3095280"/>
            <a:chOff x="4356000" y="1270080"/>
            <a:chExt cx="3352680" cy="3095280"/>
          </a:xfrm>
        </p:grpSpPr>
        <p:grpSp>
          <p:nvGrpSpPr>
            <p:cNvPr id="545" name=""/>
            <p:cNvGrpSpPr/>
            <p:nvPr/>
          </p:nvGrpSpPr>
          <p:grpSpPr>
            <a:xfrm>
              <a:off x="4356000" y="3141720"/>
              <a:ext cx="3166920" cy="360"/>
              <a:chOff x="4356000" y="3141720"/>
              <a:chExt cx="3166920" cy="360"/>
            </a:xfrm>
          </p:grpSpPr>
          <p:sp>
            <p:nvSpPr>
              <p:cNvPr id="546" name="Line 4"/>
              <p:cNvSpPr/>
              <p:nvPr/>
            </p:nvSpPr>
            <p:spPr>
              <a:xfrm>
                <a:off x="4356000" y="3141720"/>
                <a:ext cx="31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 txBox="1"/>
              <p:nvPr/>
            </p:nvSpPr>
            <p:spPr>
              <a:xfrm>
                <a:off x="4356000" y="3141720"/>
                <a:ext cx="31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796000" y="1341000"/>
              <a:ext cx="1440" cy="3024360"/>
              <a:chOff x="5796000" y="1341000"/>
              <a:chExt cx="1440" cy="3024360"/>
            </a:xfrm>
          </p:grpSpPr>
          <p:sp>
            <p:nvSpPr>
              <p:cNvPr id="549" name="Line 5"/>
              <p:cNvSpPr/>
              <p:nvPr/>
            </p:nvSpPr>
            <p:spPr>
              <a:xfrm flipH="1" flipV="1">
                <a:off x="5796000" y="1341000"/>
                <a:ext cx="1440" cy="302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 rot="10800000">
                <a:off x="5796000" y="1341000"/>
                <a:ext cx="1440" cy="302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"/>
            <p:cNvGrpSpPr/>
            <p:nvPr/>
          </p:nvGrpSpPr>
          <p:grpSpPr>
            <a:xfrm>
              <a:off x="4787640" y="1270080"/>
              <a:ext cx="2921040" cy="2520720"/>
              <a:chOff x="4787640" y="1270080"/>
              <a:chExt cx="2921040" cy="25207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5074920" y="1557000"/>
                <a:ext cx="936720" cy="2233800"/>
                <a:chOff x="5074920" y="1557000"/>
                <a:chExt cx="936720" cy="2233800"/>
              </a:xfrm>
            </p:grpSpPr>
            <p:sp>
              <p:nvSpPr>
                <p:cNvPr id="553" name="Line 7"/>
                <p:cNvSpPr/>
                <p:nvPr/>
              </p:nvSpPr>
              <p:spPr>
                <a:xfrm flipV="1">
                  <a:off x="5074920" y="1557000"/>
                  <a:ext cx="936720" cy="223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 txBox="1"/>
                <p:nvPr/>
              </p:nvSpPr>
              <p:spPr>
                <a:xfrm rot="10800000">
                  <a:off x="5074920" y="1557000"/>
                  <a:ext cx="936720" cy="22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55" name="Object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2781360"/>
                <a:ext cx="50328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Objec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0920" y="1846440"/>
                <a:ext cx="46188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Objec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1630440"/>
                <a:ext cx="15112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0000" y="3141720"/>
                <a:ext cx="32868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Object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7080" y="1270080"/>
                <a:ext cx="31428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Object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506920" y="3141720"/>
                <a:ext cx="244440" cy="28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1" name="Text Box 14"/>
          <p:cNvSpPr/>
          <p:nvPr/>
        </p:nvSpPr>
        <p:spPr>
          <a:xfrm>
            <a:off x="1227240" y="5126040"/>
            <a:ext cx="262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611280" y="3645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说明了方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+20=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的解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Object 16" descr=""/>
          <p:cNvPicPr/>
          <p:nvPr/>
        </p:nvPicPr>
        <p:blipFill>
          <a:blip r:embed="rId7"/>
          <a:stretch/>
        </p:blipFill>
        <p:spPr>
          <a:xfrm>
            <a:off x="611280" y="5013360"/>
            <a:ext cx="1512720" cy="60624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7"/>
          <p:cNvSpPr/>
          <p:nvPr/>
        </p:nvSpPr>
        <p:spPr>
          <a:xfrm>
            <a:off x="4429080" y="4726080"/>
            <a:ext cx="29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从“形”上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539640" y="3070080"/>
            <a:ext cx="3095640" cy="17272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常数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WordArt 3"/>
          <p:cNvSpPr txBox="1"/>
          <p:nvPr/>
        </p:nvSpPr>
        <p:spPr>
          <a:xfrm rot="21436800">
            <a:off x="612360" y="620280"/>
            <a:ext cx="1847880" cy="43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ff0066"/>
                </a:solidFill>
                <a:latin typeface="华文彩云"/>
              </a:rPr>
              <a:t>思考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ff0066"/>
              </a:solidFill>
              <a:latin typeface="华文彩云"/>
              <a:ea typeface="华文彩云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12720" y="1270080"/>
            <a:ext cx="7777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由上面两个问题的关系，能进一步得到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解方程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ax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=0(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为常数，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a≠0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)”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与求自变量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x</a:t>
            </a:r>
            <a:r>
              <a:rPr b="1" i="1" lang="en-US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为何值时，一次函数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ax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的值为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0”</a:t>
            </a:r>
            <a:r>
              <a:rPr b="1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有什么关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5869080" y="2997360"/>
            <a:ext cx="2987640" cy="1728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 ax+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708360" y="3286080"/>
            <a:ext cx="2016000" cy="1079640"/>
          </a:xfrm>
          <a:custGeom>
            <a:avLst/>
            <a:gdLst>
              <a:gd name="textAreaLeft" fmla="*/ 504000 w 2016000"/>
              <a:gd name="textAreaRight" fmla="*/ 1512000 w 2016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2" y="8100"/>
                </a:lnTo>
                <a:lnTo>
                  <a:pt x="18902" y="5400"/>
                </a:lnTo>
                <a:lnTo>
                  <a:pt x="21600" y="10800"/>
                </a:lnTo>
                <a:lnTo>
                  <a:pt x="18902" y="16200"/>
                </a:lnTo>
                <a:lnTo>
                  <a:pt x="18902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698" y="13500"/>
                </a:lnTo>
                <a:lnTo>
                  <a:pt x="2698" y="16200"/>
                </a:lnTo>
                <a:lnTo>
                  <a:pt x="0" y="10800"/>
                </a:lnTo>
                <a:lnTo>
                  <a:pt x="2698" y="5400"/>
                </a:lnTo>
                <a:lnTo>
                  <a:pt x="2698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从“数”上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684360" y="4797360"/>
            <a:ext cx="295092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常数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≠0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解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5796000" y="4654440"/>
            <a:ext cx="3024000" cy="17287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求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 ax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点的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坐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．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隶书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9"/>
          <p:cNvSpPr/>
          <p:nvPr/>
        </p:nvSpPr>
        <p:spPr>
          <a:xfrm>
            <a:off x="3708360" y="5086440"/>
            <a:ext cx="1800360" cy="1009440"/>
          </a:xfrm>
          <a:custGeom>
            <a:avLst/>
            <a:gdLst>
              <a:gd name="textAreaLeft" fmla="*/ 450000 w 1800360"/>
              <a:gd name="textAreaRight" fmla="*/ 1350360 w 18003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2" y="8100"/>
                </a:lnTo>
                <a:lnTo>
                  <a:pt x="18902" y="5400"/>
                </a:lnTo>
                <a:lnTo>
                  <a:pt x="21600" y="10800"/>
                </a:lnTo>
                <a:lnTo>
                  <a:pt x="18902" y="16200"/>
                </a:lnTo>
                <a:lnTo>
                  <a:pt x="18902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698" y="13500"/>
                </a:lnTo>
                <a:lnTo>
                  <a:pt x="2698" y="16200"/>
                </a:lnTo>
                <a:lnTo>
                  <a:pt x="0" y="10800"/>
                </a:lnTo>
                <a:lnTo>
                  <a:pt x="2698" y="5400"/>
                </a:lnTo>
                <a:lnTo>
                  <a:pt x="2698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从“形”上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133200" y="914400"/>
          <a:ext cx="8686800" cy="5638680"/>
        </p:xfrm>
        <a:graphic>
          <a:graphicData uri="http://schemas.openxmlformats.org/drawingml/2006/table">
            <a:tbl>
              <a:tblPr/>
              <a:tblGrid>
                <a:gridCol w="1066680"/>
                <a:gridCol w="3657600"/>
                <a:gridCol w="396252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一元一次方程问题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一次函数问题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解方程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x-2=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当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为何值时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=3x-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的值为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解方程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x-3=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当</a:t>
                      </a: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为何值时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=-7x+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的值为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解方程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x-3=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WordArt 30"/>
          <p:cNvSpPr txBox="1"/>
          <p:nvPr/>
        </p:nvSpPr>
        <p:spPr>
          <a:xfrm>
            <a:off x="2876400" y="230040"/>
            <a:ext cx="288000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举一反三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ff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5" name="Rectangle 31"/>
          <p:cNvSpPr/>
          <p:nvPr/>
        </p:nvSpPr>
        <p:spPr>
          <a:xfrm>
            <a:off x="4788000" y="281952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为何值时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的值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1371600" y="4114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解方程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 7x+2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2700360" y="566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8x-5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5076720" y="3213000"/>
            <a:ext cx="178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y=8x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5"/>
          <p:cNvSpPr/>
          <p:nvPr/>
        </p:nvSpPr>
        <p:spPr>
          <a:xfrm>
            <a:off x="4859280" y="5229360"/>
            <a:ext cx="38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为何值时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的值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6"/>
          <p:cNvSpPr/>
          <p:nvPr/>
        </p:nvSpPr>
        <p:spPr>
          <a:xfrm>
            <a:off x="959328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37"/>
          <p:cNvSpPr/>
          <p:nvPr/>
        </p:nvSpPr>
        <p:spPr>
          <a:xfrm>
            <a:off x="684360" y="5445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8"/>
          <p:cNvSpPr/>
          <p:nvPr/>
        </p:nvSpPr>
        <p:spPr>
          <a:xfrm>
            <a:off x="5221080" y="566100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y=8x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根据下列图像，你能说出哪些一元一次方程的解？并直接写出相应方程的解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87280" y="2492280"/>
            <a:ext cx="38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024360" cy="2894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2824200" cy="2879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3"/>
          <a:stretch/>
        </p:blipFill>
        <p:spPr>
          <a:xfrm>
            <a:off x="826920" y="3952800"/>
            <a:ext cx="2867040" cy="29052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3171600" cy="261936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8"/>
          <p:cNvSpPr/>
          <p:nvPr/>
        </p:nvSpPr>
        <p:spPr>
          <a:xfrm>
            <a:off x="2636640" y="2708280"/>
            <a:ext cx="194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x=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的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其解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6595560" y="2781360"/>
            <a:ext cx="20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2=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的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其解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174480" y="4292640"/>
            <a:ext cx="21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x+6=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的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其解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6740280" y="5516640"/>
            <a:ext cx="194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-1=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的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其解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文本框 8199"/>
          <p:cNvSpPr/>
          <p:nvPr/>
        </p:nvSpPr>
        <p:spPr>
          <a:xfrm>
            <a:off x="2303640" y="64371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79280" y="260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已知方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x+b=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解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，下列图像肯定不是直线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=ax+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是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2219400" cy="2286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171880" cy="2362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2114640" cy="217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4"/>
          <a:stretch/>
        </p:blipFill>
        <p:spPr>
          <a:xfrm>
            <a:off x="4427640" y="41497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7"/>
          <p:cNvSpPr/>
          <p:nvPr/>
        </p:nvSpPr>
        <p:spPr>
          <a:xfrm>
            <a:off x="1837080" y="37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5365800" y="35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1981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5435640" y="61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651672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2"/>
          <p:cNvSpPr txBox="1"/>
          <p:nvPr/>
        </p:nvSpPr>
        <p:spPr>
          <a:xfrm>
            <a:off x="990720" y="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华文新魏"/>
              </a:rPr>
              <a:t>施展才华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304920" y="9144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直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与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轴的交点坐标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所以相应的方程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3=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解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Group 4"/>
          <p:cNvGrpSpPr/>
          <p:nvPr/>
        </p:nvGrpSpPr>
        <p:grpSpPr>
          <a:xfrm>
            <a:off x="304920" y="1600200"/>
            <a:ext cx="8839080" cy="2400480"/>
            <a:chOff x="304920" y="1600200"/>
            <a:chExt cx="8839080" cy="2400480"/>
          </a:xfrm>
        </p:grpSpPr>
        <p:sp>
          <p:nvSpPr>
            <p:cNvPr id="607" name="Text Box 5"/>
            <p:cNvSpPr/>
            <p:nvPr/>
          </p:nvSpPr>
          <p:spPr>
            <a:xfrm>
              <a:off x="304920" y="2133720"/>
              <a:ext cx="54864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、设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为常数且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≠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直线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=m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n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如图所示）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则方程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n=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解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宋体"/>
                </a:rPr>
                <a:t>      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Picture 6" descr=""/>
            <p:cNvPicPr/>
            <p:nvPr/>
          </p:nvPicPr>
          <p:blipFill>
            <a:blip r:embed="rId1"/>
            <a:stretch/>
          </p:blipFill>
          <p:spPr>
            <a:xfrm>
              <a:off x="5137200" y="1600200"/>
              <a:ext cx="4006800" cy="24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7"/>
          <p:cNvGrpSpPr/>
          <p:nvPr/>
        </p:nvGrpSpPr>
        <p:grpSpPr>
          <a:xfrm>
            <a:off x="304920" y="3962520"/>
            <a:ext cx="8229600" cy="2164320"/>
            <a:chOff x="304920" y="3962520"/>
            <a:chExt cx="8229600" cy="2164320"/>
          </a:xfrm>
        </p:grpSpPr>
        <p:sp>
          <p:nvSpPr>
            <p:cNvPr id="610" name="Text Box 8"/>
            <p:cNvSpPr/>
            <p:nvPr/>
          </p:nvSpPr>
          <p:spPr>
            <a:xfrm>
              <a:off x="304920" y="3962520"/>
              <a:ext cx="769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、对于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2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，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4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，下列说法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Text Box 9"/>
            <p:cNvSpPr/>
            <p:nvPr/>
          </p:nvSpPr>
          <p:spPr>
            <a:xfrm>
              <a:off x="457200" y="4572000"/>
              <a:ext cx="807732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两直线平行；     ②两直线交于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轴于同一点；       ③两直线交于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轴于同一点；      ④方程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 =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与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=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解相同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； 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⑤当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x=1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时，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=1. 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其中正确的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宋体"/>
                </a:rPr>
                <a:t>          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填序号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Text Box 10"/>
          <p:cNvSpPr/>
          <p:nvPr/>
        </p:nvSpPr>
        <p:spPr>
          <a:xfrm>
            <a:off x="1187280" y="1628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395280" y="1268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（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40384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2743200" y="586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③  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57:11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a81a000000000001024120</vt:lpwstr>
  </property>
  <property fmtid="{D5CDD505-2E9C-101B-9397-08002B2CF9AE}" pid="4" name="Version">
    <vt:r8>1</vt:r8>
  </property>
</Properties>
</file>