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type.wav" ContentType="audio/x-wav"/>
  <Override PartName="/ppt/media/image17.png" ContentType="image/png"/>
  <Override PartName="/ppt/media/image7.png" ContentType="image/png"/>
  <Override PartName="/ppt/media/image1.jpeg" ContentType="image/jpeg"/>
  <Override PartName="/ppt/media/cashreg.wav" ContentType="audio/x-wav"/>
  <Override PartName="/ppt/media/image12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camera.wav" ContentType="audio/x-wav"/>
  <Override PartName="/ppt/media/image2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1.jpeg" ContentType="image/jpeg"/>
  <Override PartName="/ppt/media/image23.jpeg" ContentType="image/jpeg"/>
  <Override PartName="/ppt/media/image2.jpeg" ContentType="image/jpe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4E1-C4F9-4C00-809B-76779B2E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31B-7097-4FEC-B7E4-875C9B71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DD7-E435-4AF9-8185-A0276196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4C2-EB30-460F-8D41-0C8B6315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E720-EDD6-4D8F-8776-70E80C77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F15E-DC94-476D-A1DD-D419407F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757A-3041-49B6-ADD4-BDB3F647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5AD0-4B0A-44F3-A674-5C39B0A4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85C3-3AE2-4F51-A026-CC4C0869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CA18-0A04-49CD-B624-009FCEAC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AFA7-10C1-4CE9-8B7B-B404200E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3AE-EDA0-45A1-97FE-E85A50D3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DF19-97B9-4C9F-BF8B-2CB8EC3F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F15D-29BC-41CC-A639-46F3372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EDB7-9562-4977-9E8D-D675963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CC27-ECA7-4518-B177-71687417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E906-DE83-4168-B3D3-AE4D7432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D0B2-1C75-442D-BDE3-C3228D3A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2C03-00EC-4FC5-B915-55D0DAB9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47C1-5D87-4455-9D63-0BF4841C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5C10-7101-49F2-881E-1ADCB8BD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4D43-1CE1-4055-870A-18BED6F4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E1B-07A4-4433-9CE9-5EF1A875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7777-D3F9-4DE4-B3D9-A53BF52D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A148-8447-4075-9D63-A7A23F54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4603-708E-458E-8D99-164B7568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B67F-98C6-4FEA-BBBC-85356918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9D06-D05D-458E-8FF8-16446FC4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8D7D-E3C1-4318-A0FB-4CEAC050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0E5F-D4C4-43A7-B7A4-96B684C2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4F1-7EE4-435B-BF35-187781D5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2DC-DF4D-45A6-9EA1-6C7A8683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B9F-3B89-4C5C-87C8-34A3F543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91C-F5D3-440F-9E0E-8A9D94BD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7CD-10AF-4DFD-916A-C6602F0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046-84D8-4802-BAA8-9EB9F52D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A861-1A76-4925-B57F-609F8B3F0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1ECC-05C0-410E-A592-11B4D11459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F2F7-931F-43B5-A5FB-8B2A7681956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5900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2_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4" descr=""/>
          <p:cNvPicPr/>
          <p:nvPr/>
        </p:nvPicPr>
        <p:blipFill>
          <a:blip r:embed="rId2"/>
          <a:stretch/>
        </p:blipFill>
        <p:spPr>
          <a:xfrm>
            <a:off x="755640" y="2131920"/>
            <a:ext cx="7335720" cy="7016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心《背景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6"/>
          <p:cNvGrpSpPr/>
          <p:nvPr/>
        </p:nvGrpSpPr>
        <p:grpSpPr>
          <a:xfrm>
            <a:off x="838080" y="1981080"/>
            <a:ext cx="8047080" cy="866880"/>
            <a:chOff x="838080" y="1981080"/>
            <a:chExt cx="8047080" cy="866880"/>
          </a:xfrm>
        </p:grpSpPr>
        <p:sp>
          <p:nvSpPr>
            <p:cNvPr id="154" name="Rectangle 5"/>
            <p:cNvSpPr/>
            <p:nvPr/>
          </p:nvSpPr>
          <p:spPr>
            <a:xfrm>
              <a:off x="838080" y="1981080"/>
              <a:ext cx="8047080" cy="8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Rectangle 4"/>
            <p:cNvSpPr/>
            <p:nvPr/>
          </p:nvSpPr>
          <p:spPr>
            <a:xfrm>
              <a:off x="838080" y="1981080"/>
              <a:ext cx="8047080" cy="8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诗人用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移情于物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的手法，借落花翻出新意，为我们展示了一个极为瑰丽的境界：在诗人看来，落花作为个体，它的生命是终止了；但一当它化作春泥，就能保护、滋养出新的花枝，它的生命就在下一代群体身上得以延续，体现出真正的生命价值－－终将孕育出一个繁花似锦、绚丽灿烂的春天！这分明是一首新生命的赞歌！ </a:t>
              </a:r>
              <a:br>
                <a:rPr sz="2400"/>
              </a:b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6" name="Rectangle 7"/>
          <p:cNvSpPr/>
          <p:nvPr/>
        </p:nvSpPr>
        <p:spPr>
          <a:xfrm>
            <a:off x="2286720" y="1371600"/>
            <a:ext cx="50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落红不是无情物，化做春泥更护花”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339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重点句赏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9" descr="荡秋千"/>
          <p:cNvPicPr/>
          <p:nvPr/>
        </p:nvPicPr>
        <p:blipFill>
          <a:blip r:embed="rId2"/>
          <a:stretch/>
        </p:blipFill>
        <p:spPr>
          <a:xfrm>
            <a:off x="0" y="0"/>
            <a:ext cx="2286000" cy="1463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荡秋千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46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落花《荷》"/>
          <p:cNvPicPr/>
          <p:nvPr/>
        </p:nvPicPr>
        <p:blipFill>
          <a:blip r:embed="rId4"/>
          <a:stretch/>
        </p:blipFill>
        <p:spPr>
          <a:xfrm>
            <a:off x="533520" y="4267080"/>
            <a:ext cx="83055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971640" y="1844640"/>
            <a:ext cx="741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主题意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国家民族的那份执著的忠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甘于沉沦，为国家民族贡献力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牺牲自己，培养后人的无私奉献精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红”的形象，就成了崇高献身精神的象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26" descr="作品《龚"/>
          <p:cNvPicPr/>
          <p:nvPr/>
        </p:nvPicPr>
        <p:blipFill>
          <a:blip r:embed="rId1"/>
          <a:stretch/>
        </p:blipFill>
        <p:spPr>
          <a:xfrm>
            <a:off x="2050920" y="549360"/>
            <a:ext cx="48769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4" name="Picture 3" descr="ziri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468360" y="51577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浩荡离愁白日斜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D1702-01b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7254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900000" y="404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吟鞭东指即天涯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484360" y="17002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吟鞭东指即天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1403280" y="2708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离京标志着龚自珍政治生涯的终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1403280" y="371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离愁别绪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回归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喜悦交织一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Picture 4" descr="102543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-677160" y="620640"/>
            <a:ext cx="200916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bf7ff"/>
                </a:solidFill>
                <a:latin typeface="Arial"/>
              </a:rPr>
              <a:t>落红不是无情物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7" name="Picture 3" descr="102710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7134840" y="0"/>
            <a:ext cx="20091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bf7ff"/>
                </a:solidFill>
                <a:latin typeface="Arial"/>
              </a:rPr>
              <a:t>落红不是无情物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0" name="Picture 3" descr="无标题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971640" y="90792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bf7ff"/>
                </a:solidFill>
                <a:latin typeface="Arial"/>
              </a:rPr>
              <a:t>化作春泥更护花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满载离愁，远归故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比落红，仍可护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508720" y="1916280"/>
            <a:ext cx="32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虽辞官归乡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仍心系报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5219640" y="1989000"/>
            <a:ext cx="289080" cy="1224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-1189080" y="3284640"/>
            <a:ext cx="849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句：落红不是无情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化作春泥更护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84360" y="4653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意思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虽辞官回乡，仍思为国效力，希望有新奉献的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755640" y="476280"/>
            <a:ext cx="820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已亥杂诗（其五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龚自珍</a:t>
            </a:r>
            <a:br>
              <a:rPr sz="36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浩荡离愁白日斜，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吟鞭东指即天涯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落红不是无情物，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化做春泥更护花。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以下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54200" y="191772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哪句表现了诗人犹豫孤独和悲壮豪迈复杂心情交织一起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哪句表现了虽辞官，但仍关心国家前途命运的诗词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诗中写了几种心境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4312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116000" y="2924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浩荡离愁白日斜，吟鞭东指即天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900000" y="4724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落红不是无情物，化作春泥更护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79280" y="60213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离别忧伤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回归的愉快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积极的人生态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3907-BB67-475E-9C1D-B57B93DA777B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古代诗人描写落花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一种是怨啼鸟，怪东风，叹年华，面对落花嘘唏感叹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流水落花春去也，天上人间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李煜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花自飘零水自流，一种相思，两处闲愁”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－李清照；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侬今葬花人笑痴，他年葬侬知是谁？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林黛玉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另一种把落花作为自然景物来描写，其中不少昂扬向上的精神。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落春仍在”“夜来风雨声，花落知多少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”－孟浩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9"/>
          <p:cNvSpPr/>
          <p:nvPr/>
        </p:nvSpPr>
        <p:spPr>
          <a:xfrm>
            <a:off x="247680" y="1244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8" name="Picture 2" descr="龚其人"/>
          <p:cNvPicPr/>
          <p:nvPr/>
        </p:nvPicPr>
        <p:blipFill>
          <a:blip r:embed="rId1"/>
          <a:stretch/>
        </p:blipFill>
        <p:spPr>
          <a:xfrm>
            <a:off x="4114800" y="228600"/>
            <a:ext cx="4721400" cy="124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龚像"/>
          <p:cNvPicPr/>
          <p:nvPr/>
        </p:nvPicPr>
        <p:blipFill>
          <a:blip r:embed="rId2"/>
          <a:stretch/>
        </p:blipFill>
        <p:spPr>
          <a:xfrm>
            <a:off x="0" y="914400"/>
            <a:ext cx="281952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6"/>
          <p:cNvGrpSpPr/>
          <p:nvPr/>
        </p:nvGrpSpPr>
        <p:grpSpPr>
          <a:xfrm>
            <a:off x="2819520" y="1600200"/>
            <a:ext cx="6324480" cy="3784680"/>
            <a:chOff x="2819520" y="1600200"/>
            <a:chExt cx="6324480" cy="3784680"/>
          </a:xfrm>
        </p:grpSpPr>
        <p:sp>
          <p:nvSpPr>
            <p:cNvPr id="131" name="Rectangle 5"/>
            <p:cNvSpPr/>
            <p:nvPr/>
          </p:nvSpPr>
          <p:spPr>
            <a:xfrm>
              <a:off x="2819520" y="1600200"/>
              <a:ext cx="6324480" cy="37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2819520" y="1600200"/>
              <a:ext cx="6324480" cy="378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（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1792--1841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） 清思想家、文学家。浙江仁和（今杭州）人。道光进士，官礼部主事。学务博览，重经世济民。主张从事政治和经济改革，以解决当时日益深入的社会危机，并热切要求抵抗资本主义国家的经济和军事侵略，维护国家主权。提倡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通经致用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的今文经学派的重要人物。并强调万事万物都处于变化之中。所作诗文，极力提倡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更法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、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改图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，深刻揭露清王朝统治的腐朽，反映社会阶级矛盾的日益尖锐，洋溢着受国热情。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明良论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、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病梅馆记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等文，和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己亥杂诗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·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九州生气恃风雷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等诗篇，皆为其代表作。散文奥博纵横，自成一家，诗尤瑰丽奇肆，有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“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龚派</a:t>
              </a: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”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之称。著有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《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龚自珍全集</a:t>
              </a:r>
              <a:r>
                <a:rPr b="0" lang="en-US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》</a:t>
              </a:r>
              <a:r>
                <a:rPr b="0" lang="zh-CN" sz="24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。</a:t>
              </a:r>
              <a:br>
                <a:rPr sz="2400"/>
              </a:b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北龚纪馆"/>
          <p:cNvPicPr/>
          <p:nvPr/>
        </p:nvPicPr>
        <p:blipFill>
          <a:blip r:embed="rId1"/>
          <a:stretch/>
        </p:blipFill>
        <p:spPr>
          <a:xfrm>
            <a:off x="4724280" y="304920"/>
            <a:ext cx="4267440" cy="6324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龚纪錧"/>
          <p:cNvPicPr/>
          <p:nvPr/>
        </p:nvPicPr>
        <p:blipFill>
          <a:blip r:embed="rId2"/>
          <a:stretch/>
        </p:blipFill>
        <p:spPr>
          <a:xfrm>
            <a:off x="152280" y="228600"/>
            <a:ext cx="44960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5033520" y="685800"/>
            <a:ext cx="60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龚自珍纪念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17220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北　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143000" y="5638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浙　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Picture 3" descr="115681_1056797156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126B1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落红不是无情物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609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落》书"/>
          <p:cNvPicPr/>
          <p:nvPr/>
        </p:nvPicPr>
        <p:blipFill>
          <a:blip r:embed="rId2"/>
          <a:stretch/>
        </p:blipFill>
        <p:spPr>
          <a:xfrm>
            <a:off x="6629400" y="304920"/>
            <a:ext cx="251460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194"/>
          <p:cNvSpPr/>
          <p:nvPr/>
        </p:nvSpPr>
        <p:spPr>
          <a:xfrm>
            <a:off x="1476360" y="44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26028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注释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]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浩荡：广阔深远的样子，也就是浩茫之意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白日斜：夕阳西下的黄昏时分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吟鞭：即马鞭；作者在途中，一边策马行进，一边吟诗，故言。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东指：出城门向东；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天涯：原意是天边，此指遥远的地方。 </a:t>
            </a:r>
            <a:br>
              <a:rPr sz="2400"/>
            </a:b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    落红：落花，作者自况。龚自珍因被迫辞官回乡，故自比为落花。后一“花”字，当指一代新人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356000" y="83664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译诗、诗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]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满怀离愁而对夕阳西下，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鸣鞭东指从此浪迹天涯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凋落的花朵仍然有情有意，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   化作春泥培育出新的鲜花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995640" y="4941720"/>
            <a:ext cx="41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已亥杂诗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浩荡离愁白日斜，吟鞭东指即天涯。</a:t>
            </a:r>
            <a:br>
              <a:rPr sz="1800"/>
            </a:b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　　　　</a:t>
            </a:r>
            <a:br>
              <a:rPr sz="1800"/>
            </a:b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落红不是无情物，化做春泥更护花。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5900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u=2239864145,3216131111&amp;gp=3"/>
          <p:cNvPicPr/>
          <p:nvPr/>
        </p:nvPicPr>
        <p:blipFill>
          <a:blip r:embed="rId1"/>
          <a:stretch/>
        </p:blipFill>
        <p:spPr>
          <a:xfrm>
            <a:off x="4062240" y="228600"/>
            <a:ext cx="4929480" cy="6477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027800" y="762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浩荡离愁白日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17002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浩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字，极为凝练地写出离愁的深广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95280" y="321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强化了诗人离京时的眷恋、怅惘、失落、孤独的种种情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95280" y="4869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白日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三字一笔勾勒景物，以夕阳西沉、暮色苍茫的气氛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7:00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15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