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3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gif" ContentType="image/gif"/>
  <Override PartName="/ppt/media/image4.png" ContentType="image/png"/>
  <Override PartName="/ppt/media/image8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2.png" ContentType="image/png"/>
  <Override PartName="/ppt/media/image3.png" ContentType="image/png"/>
  <Override PartName="/ppt/media/image5.jpeg" ContentType="image/jpe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</p:sldMasterIdLst>
  <p:sldIdLst>
    <p:sldId id="256" r:id="rId40"/>
    <p:sldId id="257" r:id="rId41"/>
    <p:sldId id="258" r:id="rId42"/>
    <p:sldId id="259" r:id="rId43"/>
    <p:sldId id="260" r:id="rId44"/>
    <p:sldId id="261" r:id="rId45"/>
    <p:sldId id="262" r:id="rId46"/>
    <p:sldId id="263" r:id="rId47"/>
    <p:sldId id="264" r:id="rId48"/>
    <p:sldId id="265" r:id="rId49"/>
    <p:sldId id="266" r:id="rId50"/>
    <p:sldId id="267" r:id="rId51"/>
    <p:sldId id="268" r:id="rId52"/>
    <p:sldId id="269" r:id="rId53"/>
    <p:sldId id="270" r:id="rId54"/>
    <p:sldId id="271" r:id="rId55"/>
    <p:sldId id="272" r:id="rId56"/>
    <p:sldId id="273" r:id="rId57"/>
    <p:sldId id="274" r:id="rId58"/>
    <p:sldId id="275" r:id="rId59"/>
    <p:sldId id="276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" Target="slides/slide1.xml"/><Relationship Id="rId41" Type="http://schemas.openxmlformats.org/officeDocument/2006/relationships/slide" Target="slides/slide2.xml"/><Relationship Id="rId42" Type="http://schemas.openxmlformats.org/officeDocument/2006/relationships/slide" Target="slides/slide3.xml"/><Relationship Id="rId43" Type="http://schemas.openxmlformats.org/officeDocument/2006/relationships/slide" Target="slides/slide4.xml"/><Relationship Id="rId44" Type="http://schemas.openxmlformats.org/officeDocument/2006/relationships/slide" Target="slides/slide5.xml"/><Relationship Id="rId45" Type="http://schemas.openxmlformats.org/officeDocument/2006/relationships/slide" Target="slides/slide6.xml"/><Relationship Id="rId46" Type="http://schemas.openxmlformats.org/officeDocument/2006/relationships/slide" Target="slides/slide7.xml"/><Relationship Id="rId47" Type="http://schemas.openxmlformats.org/officeDocument/2006/relationships/slide" Target="slides/slide8.xml"/><Relationship Id="rId48" Type="http://schemas.openxmlformats.org/officeDocument/2006/relationships/slide" Target="slides/slide9.xml"/><Relationship Id="rId49" Type="http://schemas.openxmlformats.org/officeDocument/2006/relationships/slide" Target="slides/slide10.xml"/><Relationship Id="rId50" Type="http://schemas.openxmlformats.org/officeDocument/2006/relationships/slide" Target="slides/slide11.xml"/><Relationship Id="rId51" Type="http://schemas.openxmlformats.org/officeDocument/2006/relationships/slide" Target="slides/slide12.xml"/><Relationship Id="rId52" Type="http://schemas.openxmlformats.org/officeDocument/2006/relationships/slide" Target="slides/slide13.xml"/><Relationship Id="rId53" Type="http://schemas.openxmlformats.org/officeDocument/2006/relationships/slide" Target="slides/slide14.xml"/><Relationship Id="rId54" Type="http://schemas.openxmlformats.org/officeDocument/2006/relationships/slide" Target="slides/slide15.xml"/><Relationship Id="rId55" Type="http://schemas.openxmlformats.org/officeDocument/2006/relationships/slide" Target="slides/slide16.xml"/><Relationship Id="rId56" Type="http://schemas.openxmlformats.org/officeDocument/2006/relationships/slide" Target="slides/slide17.xml"/><Relationship Id="rId57" Type="http://schemas.openxmlformats.org/officeDocument/2006/relationships/slide" Target="slides/slide18.xml"/><Relationship Id="rId58" Type="http://schemas.openxmlformats.org/officeDocument/2006/relationships/slide" Target="slides/slide19.xml"/><Relationship Id="rId59" Type="http://schemas.openxmlformats.org/officeDocument/2006/relationships/slide" Target="slides/slide20.xml"/><Relationship Id="rId60" Type="http://schemas.openxmlformats.org/officeDocument/2006/relationships/slide" Target="slides/slide21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68D7-DC75-424D-B7C2-491D7D1BC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C71C-47E3-4901-BCAE-073F2D14C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152BC7-E0A9-457D-A557-E4E0C260A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544ED9-43A8-4529-B82C-639AD4D21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5C01B2-48D7-4E61-BFED-6DE15F65B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52458D-3766-4EBC-8D47-8D6DA8D7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733DAA-19BA-4828-8720-F515A12D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F392CF-1320-4599-95D3-6D662C35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D47483-AB68-487B-959E-8669CDD3A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336D60-FDF9-4537-A27E-60F529BF1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9137D3-9DB1-417C-9983-508CADBB8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704056-7EC4-49B0-B7D1-0028DBDF4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3601-D76C-4252-B037-FC19693CA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40BE72-D9C6-47D3-BCEB-D437F86BF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0A4C2C-B797-4058-80F8-59C93438F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4E83FE-62C9-4513-8BBD-32BC04DC6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F5D93A-AFE4-4840-B8BF-A79532486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24D002-6029-4810-8CC5-12D830607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8B32D9-8550-420F-9AD6-5576E6A9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8CA0A1-0AE8-4AAB-A315-6F6AB8B5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F98516-F62F-471F-9459-ABF7A3FB4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E3541F-B38B-45C2-BB71-035E4568E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D97C01-2B47-4BCA-A720-D623D46CA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6185-D599-4EBB-ACD8-080B9A878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5A6F99-704F-464A-ACA5-CED569B03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E22049-2804-42AF-A48F-A0B61C331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0DBA61-3220-4AA2-9866-C5726EF39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4AE72E-B44D-415F-97C8-FFD53C679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5A24DA-1F24-42C6-99A2-04689767A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8FE7BD-7508-4C41-9787-3A4ADAD2C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B29CB6-D6D8-4B6F-8C00-12639CA52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B46A1A-CAF8-4ADF-A1A0-CED87221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787CDD-2BAC-40C1-B0FE-6E0E50700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96E159-671A-47A4-9FD1-64D7A84C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35AB6-B39B-413D-AF99-A2BEAD94A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C1E517-9201-4212-B6CC-CD4123631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098830-CDA0-43B1-988F-925FBB30E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89EC93-8461-4EA7-A3AA-60A5A47E6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F79C7B-B14D-4AB5-BD04-2BA2E1329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16CDF3-955B-4A86-934D-5E7E26923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39ADFB-B782-4BB0-8906-4C5F15518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B46775-E2EB-4F88-B19C-C32FC60C5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EC6667-A22B-42DC-9171-A8F749116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534C1F-FC5B-4CBA-9FA6-DC2165372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E038B1-E8E0-428F-9FC3-EF4D4304C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BE774-DED4-484D-9E2A-4929A4919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5A8446-D1B8-490E-97D6-283ED750F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599D8F-47C7-4E14-94D5-97AE303D8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4E6D8D-EB26-48A3-B8D5-B0032DB9C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BEBB1A-9DD3-4500-A3C0-5469FE84F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ECC925-EB8E-4561-A6E8-9A51F04FF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9380A7-C95A-4BD5-BDE7-40C9CC0AA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C1D9F4-4794-45BA-98E1-1AE4A08B9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2A1469-68BB-4D88-8AC3-699CC36C1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8BD2FD-7AE4-487F-AA1D-01DC060FB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4A18E8-B903-41D8-A51A-B132F03D2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8B18F-23E7-44F8-A133-6FBDB2C13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BD0E99-C5B3-4D67-957F-C342A7CBE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2EEA14-30CB-40EF-92DA-0C9565AD4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C3E5BC-DA5C-402D-83B9-A39897A4F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5FDB68-1D9B-4EAB-8299-9068B2E5A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98CC6C-EE97-4431-B6EA-9C90F429A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82838D-6C5B-48FA-A404-852E68A3A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A7AEEF-5BBD-4238-933F-75A990862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C5DD4F-EFDB-4BD3-9DCA-E071977E9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64694B-8B52-4C75-8D84-ED05356B3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FFFC59-22C4-414E-9D05-2F860089A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E213A-2C4F-4A2B-B321-DBFE99595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25C8F4-6900-41C6-B9C1-2D40FDFE3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0B87CE-1AAE-4BB8-9491-C87EB5C0D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64E4F5-C139-4F93-B1C8-D72579936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CD1A5D-754C-421E-B2EB-69488742B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584B0A-144A-4ECB-B3F8-FE0EEDA9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8EBFCE-65CD-48C7-BB80-A25EF909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467BAD-D3FB-431C-979C-37457878A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F59724-6DCB-4D19-B479-4FB05A49B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D7A8A4-7671-4F2B-8701-FDA1E5676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404BD8-39E0-46B2-9C0F-488C1E66C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54CCE-843F-410D-AA48-E6BA55353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8699AF-FC00-4FD0-A78F-5B478BA3B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D845DB-3D01-4AD5-9D3F-086C74490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DA4E1A-E20F-41FF-8959-EFB9F1183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3A60C2-F4AC-4EDC-B245-C6293D8B8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A748F2-9F5A-4BF2-8BE1-767CAE050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1A61D8-9BC6-4F19-9A88-6F2085E5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49F652-55A6-47C9-9A7C-2B7CC7814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BDF6DD-F9B3-4EFA-A890-3379412B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8695E9-B559-4B09-9C2B-AC4D62B6C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16F633-68E9-46CF-83FA-E32D663C9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CBE31-BBEB-4D49-8CB3-AAA66E0D0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C6E61D-6BC1-4B1E-AE30-381E346AA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79E29E-706F-4C32-AF8E-9ED425639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2C5F45-AAAC-4F76-B3E3-5C879B831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53C8CA-8956-494C-A3F9-2899382B5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F84690-F8EE-47F7-8B34-037D21E6E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C9E67E-C6E8-49DF-B059-0671DEF00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A48A1C-1F18-47B4-91B5-4F0CB7ACF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436359-4AAE-440A-8D97-66E1C4184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F7BD88-E7B5-461E-8CB3-549EEB478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04FE49-094F-4645-B468-3EC2E43A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F85B4-B6F8-42C5-97B4-160F3C68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79530F-6909-45AD-8EB0-0A858CD96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1CA1F6-54CD-4A08-A31D-8B40F59A0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41B8C7-7E30-4180-BF64-BA3C51C01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DCEDEF-B47B-4D4D-8D8D-EDA563A8C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1D6AC0-A290-460D-AC6F-F48D947EA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724D86-E975-4DC9-BDD4-EE6D4946F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1B22C9-223D-4BB7-AF36-7FDF18F6B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DE5F91-186A-48D4-B87D-83543699B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18FC20-D75C-41BD-849F-AB110A474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D2C05C-6440-4866-BA1F-B75886BC5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71B0-E240-47E0-9A9F-F63539C6B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B5D88-C8A1-438F-8D62-33ADACE7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F381BF-42B0-4E45-B3C8-DCD14044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91FC91-ABAB-44A9-8704-FA17D4152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00E6ED-1D5C-4A40-8646-0ECAE518E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127E1C-B7CD-4F61-9648-16F881CFB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FDE4A9-8B55-4DEF-AA14-93380BCEF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070D6B-AA04-4459-AAC0-A5818A480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2CF2B3-040E-459E-A7F4-6E127EB67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1EF718-B50F-4760-B61A-41E01C5E6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7B0606-9376-4F1B-8D30-59DC7D286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3D9A20-DCA7-44F1-A2AE-AFC29DB98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95B30-BA1D-4731-A287-054F5FA6B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225465-28A7-4FDB-9842-3F081DD59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63333D-2C0F-4C8C-A30F-885112C4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7CB74C-666D-42CA-859B-1A5F02E1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917B70-60AB-496F-9862-536350467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03BA7A-3B31-42B5-8A1A-072400EBF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FAC5D2-789C-462D-B576-995770F68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8ABCD7-47FA-49F6-8926-C05F6DFC1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8F872B-A811-4C12-9C6F-32B5BB3A0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AD2503-3414-45B4-8392-60A4D5E6C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A2223D-7BCE-4A19-8711-19A9DCAE2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B3305-54D5-4AB6-9F28-912D5F5FB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03DAE2-F17C-45EE-AA7E-5558DD67D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9F2C49-EE36-46D8-B1AF-39E8AD4AF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3E8D15-88B2-4EED-AEB7-D3D50E8C7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57F8A5-94F8-405A-8B06-476628407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62192A-2DF8-4601-B7BA-3694CD739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049EE8-9950-47A6-8A00-7883829C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B28B44-7907-4EF4-BB06-C2140250D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018387-3F80-4016-A514-22A5100EA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99B2AE-CF5B-4541-94BC-86F7D5DF9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BB8640-509A-4A9A-A021-807EC9776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FA1B9-1C0D-4967-B2E2-36D887BAB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1CB4EA-49D5-4A44-853D-A8EC4AA46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0D44A5-F5A0-461D-9696-12BB60D73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CFAB71-7AA9-44BA-9371-0F79FE6C1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2120FD-EE38-4B00-8E0B-3D7C5045A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CF0C6B-DCD8-4F83-BFEE-32B02F1A9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1A319E-459F-4DE7-A8FA-4B13A152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740C49-15D7-4EBB-AFD5-51C60B13C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E90540-E405-430B-B25F-BFB71308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5425F6-E99C-40C2-AC08-8BA34BCDA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8C9C22-61B6-44CC-9559-5E698D452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6337C-F711-4DDC-8B3B-838B266E8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A12963-E9DA-44B8-86E3-3C4E703AA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6F8040-A073-40D4-AB72-5854AF053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F62685-C9ED-4ABF-A7D0-F0DD7FBAD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5C9F71-0A86-4482-BB05-C8F651A80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C24E7B-9DCB-47A0-9CDC-CEBE7FED5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D5AF18-1F4E-485A-B0EA-90CE24853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AEB7008-15C8-4679-AFF2-E8484C4DD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B257E9-33EB-499C-B1BE-B391B0BE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2D8B56-AA67-4166-B821-36B7A237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B8FFC5-CB84-4457-A169-F7B5A218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EBD872-28CF-4BE9-8DE4-9AC93D909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7BBD6FE-769A-4318-9079-9A9D5EE9C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739A87-DBB4-48DA-9275-7638E74D3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4D64D9-6602-4B75-83EA-CEEF55666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CAEA03D-2B38-4B14-B23D-794F30B63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DBE535E-37FD-48C8-BCFE-DC5AF8E50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AF6D3B3-5982-4607-B3C9-E9133A473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0131FF1-65BD-4577-9256-433C5ADA1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A63B868-C165-48C7-BBCC-AA5544BAC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29C10B3-3D4B-4575-A9BF-540E225E8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858A79E-028B-4DA9-9D80-2F91D1C71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BE807E-3833-4486-A584-2ED2C1FF8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2B77E02-C034-43E9-9D81-3943CA7B2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A70C41C-A060-4046-99D9-A9AB0A46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99B338A-666F-4EC9-A76F-726760A7A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98242A0-570D-4C93-AB6C-37C143538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3284BD4-61AC-4C9B-8C8D-820E35D23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E9B2DDE-247D-49A9-BD0E-7F7D8F24B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8CF8BF4-34BD-49CF-94D3-A6A51940F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AD4CBC9-86B6-455C-AACE-1154192AB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582EB57-F9E0-4D3F-8A0C-8BCBEB28E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B75716C-9516-4557-A630-CA9798F13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12AA74-73C6-4D5E-A0CC-7F1BF1B5D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39EB801-FEE7-467A-88E8-51264583E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ADE7957-B85C-4856-A787-9A1198A60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3F750BD-AA0C-409C-A368-0A9710EE8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C69A2BD-6237-4F71-AACA-4A618E12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2F2A11A-0D4D-44CF-AA75-7C910EA2E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693EDA7-E6B2-4DBD-9C06-78C1BA5DE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E3D98E4-50D1-45E2-B99D-B66A5A098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553945B-9F67-4689-95BC-552EB2698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9228757-31B2-4302-B4E5-41496E79E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E8C247F-3B22-49D0-9670-198094346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E245E0-7AB9-4250-BEEC-00CB6ADA4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3D418C9-E07E-41BC-931D-91792C3E3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472ED6A-01E6-48CF-B07E-AA510736F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E3E78CD-FC89-4610-AF27-7990AC0A9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5017F99-251C-4FB0-A529-2E56B7AD7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07703DC-50A4-4922-ABE1-64E1DD931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27B8CE3-0ADD-43F0-BE3F-A1DAFA35F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6B3882B-8A5A-4041-B3B8-08F8B1A85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710CAB0-B2D7-43E6-9731-34B90E491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F263B7A-4BD3-425E-B34D-8CE6465A6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A2D6FD3-3295-452A-AC30-408D245F4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E4949F-D46A-45ED-AF62-D663FC24A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9A23662-54AF-43ED-A34B-DB59A8E74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29109FE-023E-4825-BDFD-9FADE3333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D110CE4-C25F-42F2-86A8-212ABFF24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D688746-A9D5-47C1-B603-ED760B61B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35ADAC1-41FF-487C-AEEA-0077A4455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DCE1B8F-E860-430A-A620-49108B5B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6BEAD0D-44AA-42EB-99D9-69F80852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FBDE557-2ED9-4D63-A351-96F967912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70EA866-DD91-40EA-97E9-7B04A4EBF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F10D9CA-31B5-48A3-9DF1-56EC7C0D4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21FF-CD48-4398-ABDB-F71BEADA3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4CB70D-D568-4B24-AD77-EE05ACF3D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AC1F370-7AF2-458F-8F86-037D0F015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28BF008-2BD3-4748-9F45-5D56356A8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CD787E4-1EEC-4A91-AA98-CE84646AA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273CA22-3A7A-4A97-869A-405C24F70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58DF7B2-7729-418C-8F72-935D9F4A7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E700E26-3631-4EB7-9C62-1920AD3ED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31E3100-D0CA-4C16-8305-7E359C70F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B3B9495-2410-418A-B874-684B6C71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F33EAE8-65A2-4CBD-87BB-35963B3F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046689E-BC76-484E-9FD2-8218A7C24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1E3BDD-CBD8-4706-A2B3-5D4F43812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374ECB4-0036-47D3-9E79-2D7F42D10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B30B9F1-AE88-432A-9DF2-EFF45642B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18FDBE6-C19B-4319-B8D0-0EB16C72B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4ABCEE1-BC85-421C-AF6C-64D25B506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4DD2A16-A607-4E2F-812D-97040EDEB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2674E4E-1999-4FF4-800A-5F0281712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83CEE07-1409-49E7-AF65-9C3163245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96B32E8-2D75-405C-96D2-1698B85F6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05DE834-D422-498A-8E35-C19EF1331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2EC7088-473D-46E0-A261-02FD647B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163AB0-8AD2-4302-BD52-2ED3BB77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DFD53DE-CC5F-4942-9360-950CEBC4B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FD0C346-E4C3-4197-8E51-3F041B676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51C7875-2EC8-48D4-ACF5-4130199FD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0F5041F-F629-4593-B573-BF727F716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FF7220C-D45A-4F9D-BA23-9E60A3D58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4E9837D-BD07-4697-9BCB-57E00A9CA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01EDD2E-5E40-4F13-8887-175B0CBDA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E81D941-3936-4A3E-B84C-BDBF8D3DC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63321EC-B287-4B68-872F-268904C6B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615036B-05EF-48A3-8054-5B08E5693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0A3E44-E890-4EDD-B13A-436B59F0F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252CD9B-E1D1-412F-A225-D4342D122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19ECA97-1BA3-472F-A2FA-C70A57C7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8AB63D8-672B-41E1-BC7F-DD5A1C81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0DCBDDA-64D7-4814-BF39-0ACCBF615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088BA39-087F-4668-BB32-FB5FE2E2A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3FE70A3-56AE-4388-81FF-AC54CE062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282851D-5445-4D3E-880B-1FBC00192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00C8D67F-BE38-490B-B29C-EA5096BF2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159B9AD4-E87A-4175-977D-6634E08D9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F6EDD769-A4DE-4B7A-A918-3F14E6A03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DB0429-E9AB-4760-917E-C266E43C7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94FF25DB-F263-471C-A11F-08E7432E3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9D72128C-E675-48A7-A00C-76D736294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106696E2-45DB-4830-A247-46C17F11B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82ED35AF-9B74-4FBD-9228-1DB989C88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A03F10B8-24AA-492B-A5AE-EFFF6B1C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E8037641-50D7-4DFD-975E-27050335A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FA208044-3DC5-42AE-95DC-909B15952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374A2648-9180-4DF3-9599-96C132F81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938BC884-7026-4732-9F19-ED5F44285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8BB6E2EE-8D20-4126-8ED1-532EA846D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6F4C74-C9AE-46E7-9C22-280C52214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294612AC-4820-4616-AE45-6C3E4F920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C48093E6-7C87-4FBD-A5BB-FB08C73E2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229CBCE2-249B-4202-8F63-BB6F6A93A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94BF5ADE-8AE0-4A15-8661-B15EF4339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2DEA4B65-90AE-4042-858C-F074691AC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9E2E3C25-D66D-4DBA-ACA6-0E23E695D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0647B365-F2A2-4336-8A66-08381CFE8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A1269F42-E1F5-40F7-AFE3-C91060A3B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15A6C28A-3588-444A-B9B6-DAC522C0D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0FD9DD66-3BAF-4AE9-8CCE-02AC2D7B3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EF19E2-5B9E-4C0C-8B64-9F566F9DC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37C2C952-089F-4479-BA0C-632982D67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58DA39D6-F745-4C21-AD85-0EF157E9E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4F4CDBDD-88A1-4AA9-84BC-8C0A4D399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04C8AFF7-1ECE-4ACF-99D5-3106BB883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72A4DE10-91F6-4A22-89F0-2BA2634B2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1A19B73C-7179-47E8-9AD0-785F47906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2FE9DDDD-88AE-4479-8A22-C9A57FC72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518492F7-94D7-46F6-A108-327E01BC8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7B97A894-9D37-4D1D-A181-40D563FF3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12182AE5-E3BF-45F5-950C-FD391396F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3FF89-BF10-4EFE-9134-456E7FC20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E3E5695A-3C53-451C-BCF1-DF3A9E769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ED287844-025A-4452-B468-7E57A68B5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2CC3FD58-9292-4F92-876A-8D7EC2909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C1210C4A-F41E-4230-AD3D-7C8073E41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36CD6221-300F-45B4-9E0A-C1A0256D6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2B6CC929-2206-4120-ADEA-E1371469C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0ACC444A-AC4F-4E83-80A2-0D73997D6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A21C54A6-8B3B-4761-97AE-2935003E6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5E1A1C46-522D-491D-A85F-F23FD2EB3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A3058CDF-6BEB-4CF2-BB89-BD19C2C27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7CC1D-F5E2-4EA5-80AD-F92D86A76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F91C5524-F4C5-42D0-BBB6-2C922ACE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A6DF9B68-E84F-4B27-BCCD-47FC45FEC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0A4CB409-1D93-49BC-A9E0-995A6EA40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920557AC-98A1-4B3F-989E-7C2EC2892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2B59A6AB-584F-437F-AF05-2ABB1CFC9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DBE5833E-43F6-4A4B-891C-F547C8616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9757EAA0-5287-4B07-BF03-7AB3AF3A6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F8B79D69-E782-4B6C-96AB-6DCF35632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AF2BD6FE-8888-4845-9EB8-09962E232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A7D51C51-38F6-4204-9F6B-AEF8A856A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FBAB4-D3EC-4A2F-9A89-AB0EEDF3C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21834EFE-08E3-4806-815E-18A93C4AC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509259A3-8576-4CC1-8849-8CDB5F821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EA9519E0-7014-442D-A0DA-792A04A7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0FA690E6-770A-4EB7-9E01-A825B4F34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120C96FE-9F30-4BDE-86AB-4EADEDD32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998A5AA9-D6E3-42E9-BF13-9F35F7AF8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35057F5D-729D-4CA1-88B1-C2F255D0B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7EA45B64-A8C2-4026-98B1-295228105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D02B9AD0-E614-42A4-9A6E-96AB40D14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6BA1C80A-50AE-4E5A-8654-D3952CD5B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AC47-CCDD-4134-92AA-F5AEAB239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68ACF-5DBD-49D3-BEE6-1957948DE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5958C07D-A49F-4E31-9E56-7CBCBD6C5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F51DB5E3-DA37-4F58-8550-40FC0A13E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344AFDBA-F623-41A4-B131-88A902E47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B71AC297-4E09-42AC-AD94-2AEDE97E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17B82AF2-C804-44CA-800B-A576A208A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6216C8F0-A2FB-42DD-ABCC-B34A8496F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842D952F-CA98-49D3-9569-4878647F4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A8500346-2691-4A4C-B4AD-980C821F3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2A2D1CBE-77AF-4B89-9F78-1C63E33E6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4D6BCF54-4BC3-4CBF-918C-5B95BD5F5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97750-92D4-4683-BA1A-6F4EC9C6A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EDBAD17D-53F6-4CFB-9D08-9B96A7CE3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5BB36A31-F19E-4D02-B655-FCD459EE1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D212AAA4-A89B-4B48-B1A2-B8EA5489F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DB198733-9DD8-4DA0-8DF2-9787243E9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F429DC3C-D355-4740-9DC3-45F2757CE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C89404CB-A175-46B8-BB2B-65AE78899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6C5C021B-06EB-46D7-8F5A-7F96E930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D37784F5-0133-4B32-AED8-F585272D3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61F5A267-4469-45F9-AD0D-2A96AFF74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BFED8C9D-BFA2-478F-B9EE-26EDCC141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7D724-B9BD-4205-AACB-88CEC05A5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BB045D6C-7233-4ABA-9246-4FE48F9C2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C90BD981-775D-4E80-8E7C-93D6C0A5A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9ABC6827-5286-4343-8F43-B8EB5CEBA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EAB4E7EA-5477-4423-9395-3A7F0E568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CBAF65C7-261D-4CE7-AA0B-4B5551DF1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63ACF5E1-FC27-4D1F-AFBE-EC1C26D00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C30467C9-2929-45A0-A13B-0FE6DAAB8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8F015507-4083-44B7-A75D-45F72ECF7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82E78B34-11CF-490D-9F45-1D9D93C5A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576E07AD-D31C-46EA-8D32-001B2B149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E92B0-82A5-4C04-8813-38680041B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8C85ED95-4E6C-4A29-A43A-6DDD44600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96A6C361-78E3-4D78-B4C4-A4C74DD16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87BA8D6D-A788-4C5A-8E2F-3264F68BA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6D01EE26-AF3A-464E-8AD3-5894F8AE2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63BEF5D5-6385-446E-9656-62FA37F09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DA30FD52-D232-4123-9A71-DC9C63AAE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4055FB68-D0C9-46AB-B159-4DF73AA5C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1B8FF18C-0169-4EF7-B84A-A1497C077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93046292-B83F-4B18-BB31-17338551C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49C8C0C2-419E-4183-AEA6-AD4DE6DE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4404F-3A68-4590-8FBE-058E239AC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6DF6073C-AB35-4F06-B4EE-FF28B1AE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B4F8577B-C198-4480-B05F-7548BC53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945971FE-0E13-4006-81F8-D0E177C95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079AEDD0-05C8-4146-A391-214A15A7B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34816697-AB4A-4FBE-8FAA-221771BA6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34203751-0D15-4F72-B6A6-FD98483F8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F102C56E-D52C-402D-9102-74C7FBC2C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BE2310A7-1E61-47C5-B298-B75F5A453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3FCA245C-62A7-49A0-8F29-F9F1E0244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595A3CEB-585B-4280-99E8-C21FB7376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FE3D6-FDBC-48A1-A016-D249FE88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C3B88EA4-A0C7-4C22-A284-EDA0EF218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FE0472DE-9658-4EF5-8935-F23DD484A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E07DCC02-73CF-4663-A817-6F83A00B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61AC069D-FF72-4AFA-A0FC-45336DA41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879DE182-E499-4073-A408-25F507CD5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DA01BF92-BE1E-406D-8AAD-06E6A9161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486BC354-7414-4DB4-937C-CD5FFE0FB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05279-7DED-477A-B99C-DCDFE0D8E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BF15E-A2AB-4AFD-A2F4-1A937AF37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D6E4F-7B8F-4FCB-AAE4-5A0DFE188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CFB422-A28C-4DD3-AE18-DA7165512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8B0E-B4C5-4000-BF54-DFE37CAE9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2174FC-61FC-4AE4-925D-93446C157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94D1D5-D6A8-4509-8DE7-0E040D483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4E8B55-BE32-4883-818C-239775744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B915B7-5276-4273-BAE8-D32156714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82AF54-F1D0-4788-AD8C-09A9EF0CB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9ABF7C-87D0-4F63-9595-0E3D6542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F71DB3-1892-4CDE-8D27-918B0D33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164486-64C2-4592-9DD5-47E37ACB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AE1F13-11CD-4CCE-BF3F-B6F915926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32B05D-7D64-453D-988C-45089B1CE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172B-2B52-4F71-BD1B-621EF009E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9A6310-EF70-431F-A992-D84D4F0C7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72B49-D33F-4784-AB7C-359B27CD7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7E5143-8B26-4172-ADE7-BAE86C75A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4B92D0-FBFB-4657-BCDE-FEF856CD2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5EC6D1-DCC1-41F0-847F-83265C02C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628B61-CED3-4241-AF2B-2473032E1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174138-039E-405C-B930-87C2D8D97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845144-611F-4398-810C-BA9BF0F55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97AF42-ACCA-4A3C-8B2B-C224BEEF6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F8A57A-D4B0-4068-8D55-8CDDBE3DD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1EE3-4796-468C-AB8C-55A37A9B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234E89-4931-477F-812F-7973296D2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D91A6A-E3E8-452A-BE5F-0BB62973E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5B3749-2000-49B3-AB28-553818C08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BCCD54-BAC7-4426-BB03-E6FB3A0C8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D194F5-FB26-4F9E-B8D0-4D77B50DF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4DC4E5-067E-48F8-836D-0F337BC7A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A62421-EAD6-473A-ABAE-70213FEC5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8EE2AA-0D94-42AF-BB8A-737225DD2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009E6A-5A7C-404C-99D0-A5398987D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5500D7-C8CE-489A-8B9B-E82EA8372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38F6-F33C-46E6-9C0C-3942270CF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83E54C-5536-465C-B4F4-8F54D8BF4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5FAFA2-C3ED-4FAF-8113-0BBF184DB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F5FED0-772A-445E-840F-A08102E20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88FB2E-6CD9-4F80-A2CF-E57C75FC4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7DF7A9-4620-43D8-ABBF-788B99B87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6F60D0-2CA3-4F9C-A6EB-8D61E0E78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705E80-0E29-4A6D-BDB4-B708026D6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9D4E22-6E78-457C-8E64-02B11135D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3BD481-284C-44DB-BF38-303B19EEA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6BD91F-15EF-4AC3-8B32-D17C29B4C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8541-0ADF-4D5A-BECC-A3CF37D34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57C3F5-837F-4ED0-8D11-7DC41760A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97F19A-DD99-429C-91B6-06C0BE78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D0F510-EB94-4B94-B026-FBCA2850D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98025A-2E95-48B4-A03D-D67C9183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5DF687-2732-4571-B791-42D75BBAA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475D33-4D09-48B5-9737-360355748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673ED7-0DF2-4A97-A142-274EA639E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8431E5-FA61-456C-81FE-D34CE41E3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47C461-9AE6-4332-BE1E-EBCF0A9DB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FA0AAB-BCD6-4B0B-B724-D7FCFF35A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1027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1028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1029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1030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1031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1032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1033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34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035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036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037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038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039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040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041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042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043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1044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1045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EEE21-71D9-45BF-83D3-5D9F2CFE5D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630E4-E70E-43D5-A82F-9D82092B88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10E40-A402-4F17-A4A8-6FA334F0A7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25ACB-8564-4E01-965C-DA01EAC49F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265A9-D6BE-4164-A4D9-D717BDF178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3A851-752B-47DF-BD91-759E2C3C5C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FAAA4-4E26-4DFE-9B39-2BCE172A2F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1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22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25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726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9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47" name=""/>
            <p:cNvGrpSpPr/>
            <p:nvPr/>
          </p:nvGrpSpPr>
          <p:grpSpPr>
            <a:xfrm>
              <a:off x="0" y="4363920"/>
              <a:ext cx="9140760" cy="360"/>
              <a:chOff x="0" y="4363920"/>
              <a:chExt cx="9140760" cy="360"/>
            </a:xfrm>
          </p:grpSpPr>
          <p:sp>
            <p:nvSpPr>
              <p:cNvPr id="748" name="Line 28"/>
              <p:cNvSpPr/>
              <p:nvPr/>
            </p:nvSpPr>
            <p:spPr>
              <a:xfrm>
                <a:off x="0" y="43639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 txBox="1"/>
              <p:nvPr/>
            </p:nvSpPr>
            <p:spPr>
              <a:xfrm>
                <a:off x="0" y="4363920"/>
                <a:ext cx="9140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50" name=""/>
            <p:cNvGrpSpPr/>
            <p:nvPr/>
          </p:nvGrpSpPr>
          <p:grpSpPr>
            <a:xfrm>
              <a:off x="0" y="3740040"/>
              <a:ext cx="9140760" cy="360"/>
              <a:chOff x="0" y="3740040"/>
              <a:chExt cx="9140760" cy="360"/>
            </a:xfrm>
          </p:grpSpPr>
          <p:sp>
            <p:nvSpPr>
              <p:cNvPr id="751" name="Line 29"/>
              <p:cNvSpPr/>
              <p:nvPr/>
            </p:nvSpPr>
            <p:spPr>
              <a:xfrm>
                <a:off x="0" y="37400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 txBox="1"/>
              <p:nvPr/>
            </p:nvSpPr>
            <p:spPr>
              <a:xfrm>
                <a:off x="0" y="3740040"/>
                <a:ext cx="9140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53" name=""/>
            <p:cNvGrpSpPr/>
            <p:nvPr/>
          </p:nvGrpSpPr>
          <p:grpSpPr>
            <a:xfrm>
              <a:off x="0" y="4987800"/>
              <a:ext cx="9140760" cy="360"/>
              <a:chOff x="0" y="4987800"/>
              <a:chExt cx="9140760" cy="360"/>
            </a:xfrm>
          </p:grpSpPr>
          <p:sp>
            <p:nvSpPr>
              <p:cNvPr id="754" name="Line 30"/>
              <p:cNvSpPr/>
              <p:nvPr/>
            </p:nvSpPr>
            <p:spPr>
              <a:xfrm>
                <a:off x="0" y="4987800"/>
                <a:ext cx="9140760" cy="0"/>
              </a:xfrm>
              <a:prstGeom prst="line">
                <a:avLst/>
              </a:prstGeom>
              <a:ln w="15840">
                <a:solidFill>
                  <a:srgbClr val="003b7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 txBox="1"/>
              <p:nvPr/>
            </p:nvSpPr>
            <p:spPr>
              <a:xfrm>
                <a:off x="0" y="4987800"/>
                <a:ext cx="9140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56" name="Group 31"/>
            <p:cNvGrpSpPr/>
            <p:nvPr/>
          </p:nvGrpSpPr>
          <p:grpSpPr>
            <a:xfrm>
              <a:off x="0" y="622440"/>
              <a:ext cx="9140760" cy="2494080"/>
              <a:chOff x="0" y="622440"/>
              <a:chExt cx="9140760" cy="2494080"/>
            </a:xfrm>
          </p:grpSpPr>
          <p:grpSp>
            <p:nvGrpSpPr>
              <p:cNvPr id="757" name=""/>
              <p:cNvGrpSpPr/>
              <p:nvPr/>
            </p:nvGrpSpPr>
            <p:grpSpPr>
              <a:xfrm>
                <a:off x="0" y="1244520"/>
                <a:ext cx="9140760" cy="360"/>
                <a:chOff x="0" y="1244520"/>
                <a:chExt cx="9140760" cy="360"/>
              </a:xfrm>
            </p:grpSpPr>
            <p:sp>
              <p:nvSpPr>
                <p:cNvPr id="758" name="Line 32"/>
                <p:cNvSpPr/>
                <p:nvPr/>
              </p:nvSpPr>
              <p:spPr>
                <a:xfrm>
                  <a:off x="0" y="1244520"/>
                  <a:ext cx="9140760" cy="0"/>
                </a:xfrm>
                <a:prstGeom prst="line">
                  <a:avLst/>
                </a:prstGeom>
                <a:ln w="15840">
                  <a:solidFill>
                    <a:srgbClr val="0066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9" name=""/>
                <p:cNvSpPr txBox="1"/>
                <p:nvPr/>
              </p:nvSpPr>
              <p:spPr>
                <a:xfrm>
                  <a:off x="0" y="1244520"/>
                  <a:ext cx="9140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0" name=""/>
              <p:cNvGrpSpPr/>
              <p:nvPr/>
            </p:nvGrpSpPr>
            <p:grpSpPr>
              <a:xfrm>
                <a:off x="0" y="3116160"/>
                <a:ext cx="9140760" cy="360"/>
                <a:chOff x="0" y="3116160"/>
                <a:chExt cx="9140760" cy="360"/>
              </a:xfrm>
            </p:grpSpPr>
            <p:sp>
              <p:nvSpPr>
                <p:cNvPr id="761" name="Line 33"/>
                <p:cNvSpPr/>
                <p:nvPr/>
              </p:nvSpPr>
              <p:spPr>
                <a:xfrm>
                  <a:off x="0" y="3116160"/>
                  <a:ext cx="9140760" cy="0"/>
                </a:xfrm>
                <a:prstGeom prst="line">
                  <a:avLst/>
                </a:prstGeom>
                <a:ln w="15840">
                  <a:solidFill>
                    <a:srgbClr val="0066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2" name=""/>
                <p:cNvSpPr txBox="1"/>
                <p:nvPr/>
              </p:nvSpPr>
              <p:spPr>
                <a:xfrm>
                  <a:off x="0" y="3116160"/>
                  <a:ext cx="9140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3" name=""/>
              <p:cNvGrpSpPr/>
              <p:nvPr/>
            </p:nvGrpSpPr>
            <p:grpSpPr>
              <a:xfrm>
                <a:off x="0" y="2492280"/>
                <a:ext cx="9140760" cy="360"/>
                <a:chOff x="0" y="2492280"/>
                <a:chExt cx="9140760" cy="360"/>
              </a:xfrm>
            </p:grpSpPr>
            <p:sp>
              <p:nvSpPr>
                <p:cNvPr id="764" name="Line 34"/>
                <p:cNvSpPr/>
                <p:nvPr/>
              </p:nvSpPr>
              <p:spPr>
                <a:xfrm>
                  <a:off x="0" y="2492280"/>
                  <a:ext cx="9140760" cy="0"/>
                </a:xfrm>
                <a:prstGeom prst="line">
                  <a:avLst/>
                </a:prstGeom>
                <a:ln w="15840">
                  <a:solidFill>
                    <a:srgbClr val="0066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5" name=""/>
                <p:cNvSpPr txBox="1"/>
                <p:nvPr/>
              </p:nvSpPr>
              <p:spPr>
                <a:xfrm>
                  <a:off x="0" y="2492280"/>
                  <a:ext cx="9140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6" name=""/>
              <p:cNvGrpSpPr/>
              <p:nvPr/>
            </p:nvGrpSpPr>
            <p:grpSpPr>
              <a:xfrm>
                <a:off x="0" y="1868400"/>
                <a:ext cx="9140760" cy="360"/>
                <a:chOff x="0" y="1868400"/>
                <a:chExt cx="9140760" cy="360"/>
              </a:xfrm>
            </p:grpSpPr>
            <p:sp>
              <p:nvSpPr>
                <p:cNvPr id="767" name="Line 35"/>
                <p:cNvSpPr/>
                <p:nvPr/>
              </p:nvSpPr>
              <p:spPr>
                <a:xfrm>
                  <a:off x="0" y="1868400"/>
                  <a:ext cx="9140760" cy="0"/>
                </a:xfrm>
                <a:prstGeom prst="line">
                  <a:avLst/>
                </a:prstGeom>
                <a:ln w="15840">
                  <a:solidFill>
                    <a:srgbClr val="0066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8" name=""/>
                <p:cNvSpPr txBox="1"/>
                <p:nvPr/>
              </p:nvSpPr>
              <p:spPr>
                <a:xfrm>
                  <a:off x="0" y="1868400"/>
                  <a:ext cx="9140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9" name=""/>
              <p:cNvGrpSpPr/>
              <p:nvPr/>
            </p:nvGrpSpPr>
            <p:grpSpPr>
              <a:xfrm>
                <a:off x="0" y="622440"/>
                <a:ext cx="9140760" cy="360"/>
                <a:chOff x="0" y="622440"/>
                <a:chExt cx="9140760" cy="360"/>
              </a:xfrm>
            </p:grpSpPr>
            <p:sp>
              <p:nvSpPr>
                <p:cNvPr id="770" name="Line 36"/>
                <p:cNvSpPr/>
                <p:nvPr/>
              </p:nvSpPr>
              <p:spPr>
                <a:xfrm>
                  <a:off x="0" y="622440"/>
                  <a:ext cx="9140760" cy="0"/>
                </a:xfrm>
                <a:prstGeom prst="line">
                  <a:avLst/>
                </a:prstGeom>
                <a:ln w="15840">
                  <a:solidFill>
                    <a:srgbClr val="0066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1" name=""/>
                <p:cNvSpPr txBox="1"/>
                <p:nvPr/>
              </p:nvSpPr>
              <p:spPr>
                <a:xfrm>
                  <a:off x="0" y="622440"/>
                  <a:ext cx="9140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72" name=""/>
            <p:cNvGrpSpPr/>
            <p:nvPr/>
          </p:nvGrpSpPr>
          <p:grpSpPr>
            <a:xfrm>
              <a:off x="0" y="6235560"/>
              <a:ext cx="9140760" cy="360"/>
              <a:chOff x="0" y="6235560"/>
              <a:chExt cx="9140760" cy="360"/>
            </a:xfrm>
          </p:grpSpPr>
          <p:sp>
            <p:nvSpPr>
              <p:cNvPr id="773" name="Line 37"/>
              <p:cNvSpPr/>
              <p:nvPr/>
            </p:nvSpPr>
            <p:spPr>
              <a:xfrm>
                <a:off x="0" y="6235560"/>
                <a:ext cx="9140760" cy="0"/>
              </a:xfrm>
              <a:prstGeom prst="line">
                <a:avLst/>
              </a:prstGeom>
              <a:ln w="15840">
                <a:solidFill>
                  <a:srgbClr val="003b7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 txBox="1"/>
              <p:nvPr/>
            </p:nvSpPr>
            <p:spPr>
              <a:xfrm>
                <a:off x="0" y="6235560"/>
                <a:ext cx="9140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75" name=""/>
            <p:cNvGrpSpPr/>
            <p:nvPr/>
          </p:nvGrpSpPr>
          <p:grpSpPr>
            <a:xfrm>
              <a:off x="0" y="5611680"/>
              <a:ext cx="9140760" cy="360"/>
              <a:chOff x="0" y="5611680"/>
              <a:chExt cx="9140760" cy="360"/>
            </a:xfrm>
          </p:grpSpPr>
          <p:sp>
            <p:nvSpPr>
              <p:cNvPr id="776" name="Line 38"/>
              <p:cNvSpPr/>
              <p:nvPr/>
            </p:nvSpPr>
            <p:spPr>
              <a:xfrm>
                <a:off x="0" y="5611680"/>
                <a:ext cx="9140760" cy="0"/>
              </a:xfrm>
              <a:prstGeom prst="line">
                <a:avLst/>
              </a:prstGeom>
              <a:ln w="15840">
                <a:solidFill>
                  <a:srgbClr val="003b7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 txBox="1"/>
              <p:nvPr/>
            </p:nvSpPr>
            <p:spPr>
              <a:xfrm>
                <a:off x="0" y="5611680"/>
                <a:ext cx="9140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C5C92-5522-4E31-86F1-AE809F197AD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 type="dt" idx="4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6A83E-1BF0-4C6C-B40D-EF66C8D61F3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 type="dt" idx="5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09FBE-5A01-47A3-A38F-D6548BAB268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 type="dt" idx="5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4E8D6-74F4-4006-B598-F27F025F492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62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5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66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9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7" name=""/>
            <p:cNvGrpSpPr/>
            <p:nvPr/>
          </p:nvGrpSpPr>
          <p:grpSpPr>
            <a:xfrm>
              <a:off x="1440" y="4363920"/>
              <a:ext cx="9141120" cy="360"/>
              <a:chOff x="1440" y="4363920"/>
              <a:chExt cx="9141120" cy="360"/>
            </a:xfrm>
          </p:grpSpPr>
          <p:sp>
            <p:nvSpPr>
              <p:cNvPr id="88" name="Line 28"/>
              <p:cNvSpPr/>
              <p:nvPr/>
            </p:nvSpPr>
            <p:spPr>
              <a:xfrm>
                <a:off x="1440" y="43639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 txBox="1"/>
              <p:nvPr/>
            </p:nvSpPr>
            <p:spPr>
              <a:xfrm>
                <a:off x="1440" y="4363920"/>
                <a:ext cx="9141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0" name=""/>
            <p:cNvGrpSpPr/>
            <p:nvPr/>
          </p:nvGrpSpPr>
          <p:grpSpPr>
            <a:xfrm>
              <a:off x="1440" y="3740040"/>
              <a:ext cx="9141120" cy="360"/>
              <a:chOff x="1440" y="3740040"/>
              <a:chExt cx="9141120" cy="360"/>
            </a:xfrm>
          </p:grpSpPr>
          <p:sp>
            <p:nvSpPr>
              <p:cNvPr id="91" name="Line 29"/>
              <p:cNvSpPr/>
              <p:nvPr/>
            </p:nvSpPr>
            <p:spPr>
              <a:xfrm>
                <a:off x="1440" y="37400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 txBox="1"/>
              <p:nvPr/>
            </p:nvSpPr>
            <p:spPr>
              <a:xfrm>
                <a:off x="1440" y="3740040"/>
                <a:ext cx="9141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1440" y="4987800"/>
              <a:ext cx="9141120" cy="360"/>
              <a:chOff x="1440" y="4987800"/>
              <a:chExt cx="9141120" cy="360"/>
            </a:xfrm>
          </p:grpSpPr>
          <p:sp>
            <p:nvSpPr>
              <p:cNvPr id="94" name="Line 30"/>
              <p:cNvSpPr/>
              <p:nvPr/>
            </p:nvSpPr>
            <p:spPr>
              <a:xfrm>
                <a:off x="1440" y="4987800"/>
                <a:ext cx="9141120" cy="0"/>
              </a:xfrm>
              <a:prstGeom prst="line">
                <a:avLst/>
              </a:prstGeom>
              <a:ln w="15840">
                <a:solidFill>
                  <a:srgbClr val="003b7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 txBox="1"/>
              <p:nvPr/>
            </p:nvSpPr>
            <p:spPr>
              <a:xfrm>
                <a:off x="1440" y="4987800"/>
                <a:ext cx="9141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6" name="Group 31"/>
            <p:cNvGrpSpPr/>
            <p:nvPr/>
          </p:nvGrpSpPr>
          <p:grpSpPr>
            <a:xfrm>
              <a:off x="1440" y="622440"/>
              <a:ext cx="9141120" cy="2494080"/>
              <a:chOff x="1440" y="622440"/>
              <a:chExt cx="9141120" cy="2494080"/>
            </a:xfrm>
          </p:grpSpPr>
          <p:grpSp>
            <p:nvGrpSpPr>
              <p:cNvPr id="97" name=""/>
              <p:cNvGrpSpPr/>
              <p:nvPr/>
            </p:nvGrpSpPr>
            <p:grpSpPr>
              <a:xfrm>
                <a:off x="1440" y="1244520"/>
                <a:ext cx="9141120" cy="360"/>
                <a:chOff x="1440" y="1244520"/>
                <a:chExt cx="9141120" cy="360"/>
              </a:xfrm>
            </p:grpSpPr>
            <p:sp>
              <p:nvSpPr>
                <p:cNvPr id="98" name="Line 32"/>
                <p:cNvSpPr/>
                <p:nvPr/>
              </p:nvSpPr>
              <p:spPr>
                <a:xfrm>
                  <a:off x="1440" y="1244520"/>
                  <a:ext cx="9141120" cy="0"/>
                </a:xfrm>
                <a:prstGeom prst="line">
                  <a:avLst/>
                </a:prstGeom>
                <a:ln w="15840">
                  <a:solidFill>
                    <a:srgbClr val="0066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 txBox="1"/>
                <p:nvPr/>
              </p:nvSpPr>
              <p:spPr>
                <a:xfrm>
                  <a:off x="1440" y="1244520"/>
                  <a:ext cx="91411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1440" y="3116160"/>
                <a:ext cx="9141120" cy="360"/>
                <a:chOff x="1440" y="3116160"/>
                <a:chExt cx="9141120" cy="360"/>
              </a:xfrm>
            </p:grpSpPr>
            <p:sp>
              <p:nvSpPr>
                <p:cNvPr id="101" name="Line 33"/>
                <p:cNvSpPr/>
                <p:nvPr/>
              </p:nvSpPr>
              <p:spPr>
                <a:xfrm>
                  <a:off x="1440" y="3116160"/>
                  <a:ext cx="9141120" cy="0"/>
                </a:xfrm>
                <a:prstGeom prst="line">
                  <a:avLst/>
                </a:prstGeom>
                <a:ln w="15840">
                  <a:solidFill>
                    <a:srgbClr val="0066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 txBox="1"/>
                <p:nvPr/>
              </p:nvSpPr>
              <p:spPr>
                <a:xfrm>
                  <a:off x="1440" y="3116160"/>
                  <a:ext cx="91411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1440" y="2492280"/>
                <a:ext cx="9141120" cy="360"/>
                <a:chOff x="1440" y="2492280"/>
                <a:chExt cx="9141120" cy="360"/>
              </a:xfrm>
            </p:grpSpPr>
            <p:sp>
              <p:nvSpPr>
                <p:cNvPr id="104" name="Line 34"/>
                <p:cNvSpPr/>
                <p:nvPr/>
              </p:nvSpPr>
              <p:spPr>
                <a:xfrm>
                  <a:off x="1440" y="2492280"/>
                  <a:ext cx="9141120" cy="0"/>
                </a:xfrm>
                <a:prstGeom prst="line">
                  <a:avLst/>
                </a:prstGeom>
                <a:ln w="15840">
                  <a:solidFill>
                    <a:srgbClr val="0066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 txBox="1"/>
                <p:nvPr/>
              </p:nvSpPr>
              <p:spPr>
                <a:xfrm>
                  <a:off x="1440" y="2492280"/>
                  <a:ext cx="91411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1440" y="1868400"/>
                <a:ext cx="9141120" cy="360"/>
                <a:chOff x="1440" y="1868400"/>
                <a:chExt cx="9141120" cy="360"/>
              </a:xfrm>
            </p:grpSpPr>
            <p:sp>
              <p:nvSpPr>
                <p:cNvPr id="107" name="Line 35"/>
                <p:cNvSpPr/>
                <p:nvPr/>
              </p:nvSpPr>
              <p:spPr>
                <a:xfrm>
                  <a:off x="1440" y="1868400"/>
                  <a:ext cx="9141120" cy="0"/>
                </a:xfrm>
                <a:prstGeom prst="line">
                  <a:avLst/>
                </a:prstGeom>
                <a:ln w="15840">
                  <a:solidFill>
                    <a:srgbClr val="0066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 txBox="1"/>
                <p:nvPr/>
              </p:nvSpPr>
              <p:spPr>
                <a:xfrm>
                  <a:off x="1440" y="1868400"/>
                  <a:ext cx="91411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1440" y="622440"/>
                <a:ext cx="9141120" cy="360"/>
                <a:chOff x="1440" y="622440"/>
                <a:chExt cx="9141120" cy="360"/>
              </a:xfrm>
            </p:grpSpPr>
            <p:sp>
              <p:nvSpPr>
                <p:cNvPr id="110" name="Line 36"/>
                <p:cNvSpPr/>
                <p:nvPr/>
              </p:nvSpPr>
              <p:spPr>
                <a:xfrm>
                  <a:off x="1440" y="622440"/>
                  <a:ext cx="9141120" cy="0"/>
                </a:xfrm>
                <a:prstGeom prst="line">
                  <a:avLst/>
                </a:prstGeom>
                <a:ln w="15840">
                  <a:solidFill>
                    <a:srgbClr val="0066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 txBox="1"/>
                <p:nvPr/>
              </p:nvSpPr>
              <p:spPr>
                <a:xfrm>
                  <a:off x="1440" y="622440"/>
                  <a:ext cx="91411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2" name=""/>
            <p:cNvGrpSpPr/>
            <p:nvPr/>
          </p:nvGrpSpPr>
          <p:grpSpPr>
            <a:xfrm>
              <a:off x="1440" y="6235560"/>
              <a:ext cx="9141120" cy="360"/>
              <a:chOff x="1440" y="6235560"/>
              <a:chExt cx="9141120" cy="360"/>
            </a:xfrm>
          </p:grpSpPr>
          <p:sp>
            <p:nvSpPr>
              <p:cNvPr id="113" name="Line 37"/>
              <p:cNvSpPr/>
              <p:nvPr/>
            </p:nvSpPr>
            <p:spPr>
              <a:xfrm>
                <a:off x="1440" y="6235560"/>
                <a:ext cx="9141120" cy="0"/>
              </a:xfrm>
              <a:prstGeom prst="line">
                <a:avLst/>
              </a:prstGeom>
              <a:ln w="15840">
                <a:solidFill>
                  <a:srgbClr val="003b7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 txBox="1"/>
              <p:nvPr/>
            </p:nvSpPr>
            <p:spPr>
              <a:xfrm>
                <a:off x="1440" y="6235560"/>
                <a:ext cx="9141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1440" y="5611680"/>
              <a:ext cx="9141120" cy="360"/>
              <a:chOff x="1440" y="5611680"/>
              <a:chExt cx="9141120" cy="360"/>
            </a:xfrm>
          </p:grpSpPr>
          <p:sp>
            <p:nvSpPr>
              <p:cNvPr id="116" name="Line 38"/>
              <p:cNvSpPr/>
              <p:nvPr/>
            </p:nvSpPr>
            <p:spPr>
              <a:xfrm>
                <a:off x="1440" y="5611680"/>
                <a:ext cx="9141120" cy="0"/>
              </a:xfrm>
              <a:prstGeom prst="line">
                <a:avLst/>
              </a:prstGeom>
              <a:ln w="15840">
                <a:solidFill>
                  <a:srgbClr val="003b7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 txBox="1"/>
              <p:nvPr/>
            </p:nvSpPr>
            <p:spPr>
              <a:xfrm>
                <a:off x="1440" y="5611680"/>
                <a:ext cx="9141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71F15-5B66-4E32-8FE3-7AC4DA69E9A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 type="dt" idx="5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FC6C1-D254-4705-9944-044EE3F2A11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 type="dt" idx="6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091B4-48F7-420E-AA5B-C459580B1E6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 type="dt" idx="6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31946-99E7-4638-8A6E-23D1E1520BA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6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7FA88-7074-4E26-8C40-77B6B4F037A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 type="dt" idx="7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89A86-DACE-4BFC-BCF3-74DE337C81E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 type="dt" idx="7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73EA7-CEB9-4FD9-BBD0-217D8B85250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 type="dt" idx="7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E393A-3899-4724-88D3-8A184E0DFB7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 type="dt" idx="7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 type="ftr" idx="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021C3-0F07-4D90-B138-DFCC3E23500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27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27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7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 type="dt" idx="82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 type="ftr" idx="83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PlaceHolder 5"/>
          <p:cNvSpPr>
            <a:spLocks noGrp="1"/>
          </p:cNvSpPr>
          <p:nvPr>
            <p:ph type="sldNum" idx="84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4231A-31F6-4437-9109-8800CB048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 type="dt" idx="85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3" name="PlaceHolder 4"/>
          <p:cNvSpPr>
            <a:spLocks noGrp="1"/>
          </p:cNvSpPr>
          <p:nvPr>
            <p:ph type="sldNum" idx="86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06F8E-DE19-40BE-9B55-6B31ACCBF6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PlaceHolder 5"/>
          <p:cNvSpPr>
            <a:spLocks noGrp="1"/>
          </p:cNvSpPr>
          <p:nvPr>
            <p:ph type="ftr" idx="87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81665-1EE8-41A5-A6C0-610530D8CD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62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63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8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 type="dt" idx="88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4" name="PlaceHolder 4"/>
          <p:cNvSpPr>
            <a:spLocks noGrp="1"/>
          </p:cNvSpPr>
          <p:nvPr>
            <p:ph type="sldNum" idx="8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B2013-802F-40BC-9851-91D986CA67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PlaceHolder 5"/>
          <p:cNvSpPr>
            <a:spLocks noGrp="1"/>
          </p:cNvSpPr>
          <p:nvPr>
            <p:ph type="ftr" idx="90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 type="dt" idx="9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5" name="PlaceHolder 4"/>
          <p:cNvSpPr>
            <a:spLocks noGrp="1"/>
          </p:cNvSpPr>
          <p:nvPr>
            <p:ph type="sldNum" idx="9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95587-C467-40DE-BBFF-E9BF0A27A0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PlaceHolder 5"/>
          <p:cNvSpPr>
            <a:spLocks noGrp="1"/>
          </p:cNvSpPr>
          <p:nvPr>
            <p:ph type="ftr" idx="9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 type="dt" idx="9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 type="sldNum" idx="9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8274F-511B-4930-907F-957F18DA1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PlaceHolder 5"/>
          <p:cNvSpPr>
            <a:spLocks noGrp="1"/>
          </p:cNvSpPr>
          <p:nvPr>
            <p:ph type="ftr" idx="9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 type="dt" idx="9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7" name="PlaceHolder 4"/>
          <p:cNvSpPr>
            <a:spLocks noGrp="1"/>
          </p:cNvSpPr>
          <p:nvPr>
            <p:ph type="sldNum" idx="9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93A04-D2F7-4AE8-9CEC-4262C98957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PlaceHolder 5"/>
          <p:cNvSpPr>
            <a:spLocks noGrp="1"/>
          </p:cNvSpPr>
          <p:nvPr>
            <p:ph type="ftr" idx="9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 type="dt" idx="100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 type="sldNum" idx="101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3611D-7107-43C7-BC7A-F95804C2AF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PlaceHolder 5"/>
          <p:cNvSpPr>
            <a:spLocks noGrp="1"/>
          </p:cNvSpPr>
          <p:nvPr>
            <p:ph type="ftr" idx="10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 type="dt" idx="10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9" name="PlaceHolder 4"/>
          <p:cNvSpPr>
            <a:spLocks noGrp="1"/>
          </p:cNvSpPr>
          <p:nvPr>
            <p:ph type="sldNum" idx="10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5B52E-3BA3-4D6E-84D5-4CC9A2BDC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5"/>
          <p:cNvSpPr>
            <a:spLocks noGrp="1"/>
          </p:cNvSpPr>
          <p:nvPr>
            <p:ph type="ftr" idx="10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 type="dt" idx="10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 type="sldNum" idx="10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ADF37-7122-48C1-BBFD-FD4310F71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PlaceHolder 5"/>
          <p:cNvSpPr>
            <a:spLocks noGrp="1"/>
          </p:cNvSpPr>
          <p:nvPr>
            <p:ph type="ftr" idx="10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 type="dt" idx="109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1" name="PlaceHolder 4"/>
          <p:cNvSpPr>
            <a:spLocks noGrp="1"/>
          </p:cNvSpPr>
          <p:nvPr>
            <p:ph type="sldNum" idx="110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F94FD-CB1F-4AE7-8F54-D0167327C3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PlaceHolder 5"/>
          <p:cNvSpPr>
            <a:spLocks noGrp="1"/>
          </p:cNvSpPr>
          <p:nvPr>
            <p:ph type="ftr" idx="111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1" name="PlaceHolder 3"/>
          <p:cNvSpPr>
            <a:spLocks noGrp="1"/>
          </p:cNvSpPr>
          <p:nvPr>
            <p:ph type="dt" idx="112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2" name="PlaceHolder 4"/>
          <p:cNvSpPr>
            <a:spLocks noGrp="1"/>
          </p:cNvSpPr>
          <p:nvPr>
            <p:ph type="sldNum" idx="113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F8D08-C7AE-49BB-86C5-A1092C4ED75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PlaceHolder 5"/>
          <p:cNvSpPr>
            <a:spLocks noGrp="1"/>
          </p:cNvSpPr>
          <p:nvPr>
            <p:ph type="ftr" idx="114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D0AD9-5FDD-45E5-BA63-0B5D2B13EB8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51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3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4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55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6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57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2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6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3A5BC-BEE8-46E1-8AF9-D2BC3E76F8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ftr" idx="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F806B-4977-4EF4-98E5-801D15D81D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84FF8-4378-46F1-A3FA-FA4E96E3FE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A0A26-45CB-4112-9610-F09F2F6F2F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5A850-9FBF-448B-9AE8-49B26DB732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3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539280" y="1989000"/>
            <a:ext cx="8075880" cy="1084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课题３  有机合成材料课件</a:t>
            </a:r>
            <a:r>
              <a:rPr b="0" lang="en-US" sz="4000" spc="-1" strike="noStrike">
                <a:solidFill>
                  <a:srgbClr val="ffffff"/>
                </a:solidFill>
                <a:latin typeface="宋体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模板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1" name="矩形 1"/>
          <p:cNvSpPr/>
          <p:nvPr/>
        </p:nvSpPr>
        <p:spPr>
          <a:xfrm>
            <a:off x="3102480" y="830160"/>
            <a:ext cx="266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第十二单元　化学与生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2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3e3ff"/>
                </a:solidFill>
                <a:latin typeface="Arial"/>
              </a:rPr>
              <a:t>活动与探究（四）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775" name="Picture 5" descr="t201-8"/>
          <p:cNvPicPr/>
          <p:nvPr/>
        </p:nvPicPr>
        <p:blipFill>
          <a:blip r:embed="rId1"/>
          <a:stretch/>
        </p:blipFill>
        <p:spPr>
          <a:xfrm>
            <a:off x="179280" y="1125360"/>
            <a:ext cx="2124360" cy="1608480"/>
          </a:xfrm>
          <a:prstGeom prst="rect">
            <a:avLst/>
          </a:prstGeom>
          <a:ln w="0">
            <a:noFill/>
          </a:ln>
        </p:spPr>
      </p:pic>
      <p:pic>
        <p:nvPicPr>
          <p:cNvPr id="1776" name="Picture 6" descr="200408160561_32713"/>
          <p:cNvPicPr/>
          <p:nvPr/>
        </p:nvPicPr>
        <p:blipFill>
          <a:blip r:embed="rId2"/>
          <a:stretch/>
        </p:blipFill>
        <p:spPr>
          <a:xfrm>
            <a:off x="2411280" y="1125360"/>
            <a:ext cx="2159280" cy="1584360"/>
          </a:xfrm>
          <a:prstGeom prst="rect">
            <a:avLst/>
          </a:prstGeom>
          <a:ln w="0">
            <a:noFill/>
          </a:ln>
        </p:spPr>
      </p:pic>
      <p:pic>
        <p:nvPicPr>
          <p:cNvPr id="1777" name="Picture 7" descr="t201-4"/>
          <p:cNvPicPr/>
          <p:nvPr/>
        </p:nvPicPr>
        <p:blipFill>
          <a:blip r:embed="rId3"/>
          <a:stretch/>
        </p:blipFill>
        <p:spPr>
          <a:xfrm>
            <a:off x="6983280" y="1125360"/>
            <a:ext cx="2160720" cy="1567080"/>
          </a:xfrm>
          <a:prstGeom prst="rect">
            <a:avLst/>
          </a:prstGeom>
          <a:ln w="0">
            <a:noFill/>
          </a:ln>
        </p:spPr>
      </p:pic>
      <p:pic>
        <p:nvPicPr>
          <p:cNvPr id="1778" name="Picture 8" descr="t201-5"/>
          <p:cNvPicPr/>
          <p:nvPr/>
        </p:nvPicPr>
        <p:blipFill>
          <a:blip r:embed="rId4"/>
          <a:stretch/>
        </p:blipFill>
        <p:spPr>
          <a:xfrm>
            <a:off x="4716360" y="1125360"/>
            <a:ext cx="2160720" cy="1608480"/>
          </a:xfrm>
          <a:prstGeom prst="rect">
            <a:avLst/>
          </a:prstGeom>
          <a:ln w="0">
            <a:noFill/>
          </a:ln>
        </p:spPr>
      </p:pic>
      <p:sp>
        <p:nvSpPr>
          <p:cNvPr id="1779" name="Text Box 9"/>
          <p:cNvSpPr/>
          <p:nvPr/>
        </p:nvSpPr>
        <p:spPr>
          <a:xfrm>
            <a:off x="414360" y="3141720"/>
            <a:ext cx="8604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简单实验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拉扯橡皮筋，你发现橡胶具有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Arial"/>
              </a:rPr>
              <a:t>       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性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用砂纸打磨小车轮，你发现橡胶具有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Arial"/>
              </a:rPr>
              <a:t>       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性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燃烧车轮外胎碎片，你发现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Arial"/>
              </a:rPr>
              <a:t>       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实验桌面上铺了一层橡胶，是因为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Arial"/>
              </a:rPr>
              <a:t>       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0" name="Picture 4" descr="12"/>
          <p:cNvPicPr/>
          <p:nvPr/>
        </p:nvPicPr>
        <p:blipFill>
          <a:blip r:embed="rId1"/>
          <a:stretch/>
        </p:blipFill>
        <p:spPr>
          <a:xfrm>
            <a:off x="380880" y="609480"/>
            <a:ext cx="84582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1" dur="2000"/>
                                        <p:tgtEl>
                                          <p:spTgt spid="1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6836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3e3ff"/>
                </a:solidFill>
                <a:latin typeface="Arial"/>
              </a:rPr>
              <a:t>辩论：  塑料制品的利与弊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82" name="AutoShape 5"/>
          <p:cNvSpPr/>
          <p:nvPr/>
        </p:nvSpPr>
        <p:spPr>
          <a:xfrm>
            <a:off x="395280" y="1197000"/>
            <a:ext cx="360360" cy="287280"/>
          </a:xfrm>
          <a:custGeom>
            <a:avLst/>
            <a:gdLst/>
            <a:ahLst/>
            <a:rect l="l" t="t" r="r" b="b"/>
            <a:pathLst>
              <a:path w="360362" h="287337">
                <a:moveTo>
                  <a:pt x="0" y="109752"/>
                </a:moveTo>
                <a:lnTo>
                  <a:pt x="137646" y="109753"/>
                </a:lnTo>
                <a:lnTo>
                  <a:pt x="180181" y="0"/>
                </a:lnTo>
                <a:lnTo>
                  <a:pt x="222715" y="109753"/>
                </a:lnTo>
                <a:lnTo>
                  <a:pt x="360362" y="109752"/>
                </a:lnTo>
                <a:lnTo>
                  <a:pt x="249003" y="177583"/>
                </a:lnTo>
                <a:lnTo>
                  <a:pt x="291539" y="287336"/>
                </a:lnTo>
                <a:lnTo>
                  <a:pt x="180181" y="219504"/>
                </a:lnTo>
                <a:lnTo>
                  <a:pt x="68823" y="287336"/>
                </a:lnTo>
                <a:lnTo>
                  <a:pt x="111359" y="177583"/>
                </a:lnTo>
                <a:close/>
              </a:path>
            </a:pathLst>
          </a:custGeom>
          <a:solidFill>
            <a:srgbClr val="ff33cc">
              <a:alpha val="8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3" name="Text Box 6"/>
          <p:cNvSpPr/>
          <p:nvPr/>
        </p:nvSpPr>
        <p:spPr>
          <a:xfrm>
            <a:off x="2216520" y="1125360"/>
            <a:ext cx="2164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塑料的制造成本较低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而且耐用、防水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4" name="AutoShape 7"/>
          <p:cNvSpPr/>
          <p:nvPr/>
        </p:nvSpPr>
        <p:spPr>
          <a:xfrm>
            <a:off x="395280" y="1773360"/>
            <a:ext cx="360360" cy="287280"/>
          </a:xfrm>
          <a:custGeom>
            <a:avLst/>
            <a:gdLst/>
            <a:ahLst/>
            <a:rect l="l" t="t" r="r" b="b"/>
            <a:pathLst>
              <a:path w="360362" h="287337">
                <a:moveTo>
                  <a:pt x="0" y="109752"/>
                </a:moveTo>
                <a:lnTo>
                  <a:pt x="137646" y="109753"/>
                </a:lnTo>
                <a:lnTo>
                  <a:pt x="180181" y="0"/>
                </a:lnTo>
                <a:lnTo>
                  <a:pt x="222715" y="109753"/>
                </a:lnTo>
                <a:lnTo>
                  <a:pt x="360362" y="109752"/>
                </a:lnTo>
                <a:lnTo>
                  <a:pt x="249003" y="177583"/>
                </a:lnTo>
                <a:lnTo>
                  <a:pt x="291539" y="287336"/>
                </a:lnTo>
                <a:lnTo>
                  <a:pt x="180181" y="219504"/>
                </a:lnTo>
                <a:lnTo>
                  <a:pt x="68823" y="287336"/>
                </a:lnTo>
                <a:lnTo>
                  <a:pt x="111359" y="177583"/>
                </a:lnTo>
                <a:close/>
              </a:path>
            </a:pathLst>
          </a:custGeom>
          <a:solidFill>
            <a:srgbClr val="ff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Text Box 9"/>
          <p:cNvSpPr/>
          <p:nvPr/>
        </p:nvSpPr>
        <p:spPr>
          <a:xfrm>
            <a:off x="755640" y="1700280"/>
            <a:ext cx="4176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塑料容易被塑制成不同的形状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AutoShape 10"/>
          <p:cNvSpPr/>
          <p:nvPr/>
        </p:nvSpPr>
        <p:spPr>
          <a:xfrm>
            <a:off x="395280" y="2349360"/>
            <a:ext cx="360360" cy="287640"/>
          </a:xfrm>
          <a:custGeom>
            <a:avLst/>
            <a:gdLst/>
            <a:ahLst/>
            <a:rect l="l" t="t" r="r" b="b"/>
            <a:pathLst>
              <a:path w="360362" h="287337">
                <a:moveTo>
                  <a:pt x="0" y="109752"/>
                </a:moveTo>
                <a:lnTo>
                  <a:pt x="137646" y="109753"/>
                </a:lnTo>
                <a:lnTo>
                  <a:pt x="180181" y="0"/>
                </a:lnTo>
                <a:lnTo>
                  <a:pt x="222715" y="109753"/>
                </a:lnTo>
                <a:lnTo>
                  <a:pt x="360362" y="109752"/>
                </a:lnTo>
                <a:lnTo>
                  <a:pt x="249003" y="177583"/>
                </a:lnTo>
                <a:lnTo>
                  <a:pt x="291539" y="287336"/>
                </a:lnTo>
                <a:lnTo>
                  <a:pt x="180181" y="219504"/>
                </a:lnTo>
                <a:lnTo>
                  <a:pt x="68823" y="287336"/>
                </a:lnTo>
                <a:lnTo>
                  <a:pt x="111359" y="177583"/>
                </a:lnTo>
                <a:close/>
              </a:path>
            </a:pathLst>
          </a:custGeom>
          <a:solidFill>
            <a:srgbClr val="ff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Text Box 11"/>
          <p:cNvSpPr/>
          <p:nvPr/>
        </p:nvSpPr>
        <p:spPr>
          <a:xfrm>
            <a:off x="755640" y="2276640"/>
            <a:ext cx="549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有些塑料容易燃烧，燃烧时产生有毒气体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8" name="AutoShape 12"/>
          <p:cNvSpPr/>
          <p:nvPr/>
        </p:nvSpPr>
        <p:spPr>
          <a:xfrm>
            <a:off x="395280" y="2997360"/>
            <a:ext cx="360360" cy="287280"/>
          </a:xfrm>
          <a:custGeom>
            <a:avLst/>
            <a:gdLst/>
            <a:ahLst/>
            <a:rect l="l" t="t" r="r" b="b"/>
            <a:pathLst>
              <a:path w="360362" h="287337">
                <a:moveTo>
                  <a:pt x="0" y="109752"/>
                </a:moveTo>
                <a:lnTo>
                  <a:pt x="137646" y="109753"/>
                </a:lnTo>
                <a:lnTo>
                  <a:pt x="180181" y="0"/>
                </a:lnTo>
                <a:lnTo>
                  <a:pt x="222715" y="109753"/>
                </a:lnTo>
                <a:lnTo>
                  <a:pt x="360362" y="109752"/>
                </a:lnTo>
                <a:lnTo>
                  <a:pt x="249003" y="177583"/>
                </a:lnTo>
                <a:lnTo>
                  <a:pt x="291539" y="287336"/>
                </a:lnTo>
                <a:lnTo>
                  <a:pt x="180181" y="219504"/>
                </a:lnTo>
                <a:lnTo>
                  <a:pt x="68823" y="287336"/>
                </a:lnTo>
                <a:lnTo>
                  <a:pt x="111359" y="177583"/>
                </a:lnTo>
                <a:close/>
              </a:path>
            </a:pathLst>
          </a:custGeom>
          <a:solidFill>
            <a:srgbClr val="ff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Text Box 13"/>
          <p:cNvSpPr/>
          <p:nvPr/>
        </p:nvSpPr>
        <p:spPr>
          <a:xfrm>
            <a:off x="755640" y="2924280"/>
            <a:ext cx="6842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大部分塑料的抗腐蚀能力强，不与酸或碱发生反应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AutoShape 14"/>
          <p:cNvSpPr/>
          <p:nvPr/>
        </p:nvSpPr>
        <p:spPr>
          <a:xfrm>
            <a:off x="395280" y="3573360"/>
            <a:ext cx="360360" cy="287280"/>
          </a:xfrm>
          <a:custGeom>
            <a:avLst/>
            <a:gdLst/>
            <a:ahLst/>
            <a:rect l="l" t="t" r="r" b="b"/>
            <a:pathLst>
              <a:path w="360362" h="287337">
                <a:moveTo>
                  <a:pt x="0" y="109752"/>
                </a:moveTo>
                <a:lnTo>
                  <a:pt x="137646" y="109753"/>
                </a:lnTo>
                <a:lnTo>
                  <a:pt x="180181" y="0"/>
                </a:lnTo>
                <a:lnTo>
                  <a:pt x="222715" y="109753"/>
                </a:lnTo>
                <a:lnTo>
                  <a:pt x="360362" y="109752"/>
                </a:lnTo>
                <a:lnTo>
                  <a:pt x="249003" y="177583"/>
                </a:lnTo>
                <a:lnTo>
                  <a:pt x="291539" y="287336"/>
                </a:lnTo>
                <a:lnTo>
                  <a:pt x="180181" y="219504"/>
                </a:lnTo>
                <a:lnTo>
                  <a:pt x="68823" y="287336"/>
                </a:lnTo>
                <a:lnTo>
                  <a:pt x="111359" y="177583"/>
                </a:lnTo>
                <a:close/>
              </a:path>
            </a:pathLst>
          </a:custGeom>
          <a:solidFill>
            <a:srgbClr val="ff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Text Box 15"/>
          <p:cNvSpPr/>
          <p:nvPr/>
        </p:nvSpPr>
        <p:spPr>
          <a:xfrm>
            <a:off x="733320" y="3500280"/>
            <a:ext cx="8410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大部分塑料不会腐烂，也不会被细菌分解，容易造成“白色污染”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2" name="AutoShape 16"/>
          <p:cNvSpPr/>
          <p:nvPr/>
        </p:nvSpPr>
        <p:spPr>
          <a:xfrm>
            <a:off x="395280" y="4149720"/>
            <a:ext cx="360360" cy="287280"/>
          </a:xfrm>
          <a:custGeom>
            <a:avLst/>
            <a:gdLst/>
            <a:ahLst/>
            <a:rect l="l" t="t" r="r" b="b"/>
            <a:pathLst>
              <a:path w="360362" h="287337">
                <a:moveTo>
                  <a:pt x="0" y="109752"/>
                </a:moveTo>
                <a:lnTo>
                  <a:pt x="137646" y="109753"/>
                </a:lnTo>
                <a:lnTo>
                  <a:pt x="180181" y="0"/>
                </a:lnTo>
                <a:lnTo>
                  <a:pt x="222715" y="109753"/>
                </a:lnTo>
                <a:lnTo>
                  <a:pt x="360362" y="109752"/>
                </a:lnTo>
                <a:lnTo>
                  <a:pt x="249003" y="177583"/>
                </a:lnTo>
                <a:lnTo>
                  <a:pt x="291539" y="287336"/>
                </a:lnTo>
                <a:lnTo>
                  <a:pt x="180181" y="219504"/>
                </a:lnTo>
                <a:lnTo>
                  <a:pt x="68823" y="287336"/>
                </a:lnTo>
                <a:lnTo>
                  <a:pt x="111359" y="177583"/>
                </a:lnTo>
                <a:close/>
              </a:path>
            </a:pathLst>
          </a:custGeom>
          <a:solidFill>
            <a:srgbClr val="ff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3" name="Text Box 17"/>
          <p:cNvSpPr/>
          <p:nvPr/>
        </p:nvSpPr>
        <p:spPr>
          <a:xfrm>
            <a:off x="755640" y="4076640"/>
            <a:ext cx="619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塑料一般不导热、不导电，是良好的绝缘体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4" name="AutoShape 18"/>
          <p:cNvSpPr/>
          <p:nvPr/>
        </p:nvSpPr>
        <p:spPr>
          <a:xfrm>
            <a:off x="395280" y="4724280"/>
            <a:ext cx="360360" cy="287280"/>
          </a:xfrm>
          <a:custGeom>
            <a:avLst/>
            <a:gdLst/>
            <a:ahLst/>
            <a:rect l="l" t="t" r="r" b="b"/>
            <a:pathLst>
              <a:path w="360362" h="287337">
                <a:moveTo>
                  <a:pt x="0" y="109752"/>
                </a:moveTo>
                <a:lnTo>
                  <a:pt x="137646" y="109753"/>
                </a:lnTo>
                <a:lnTo>
                  <a:pt x="180181" y="0"/>
                </a:lnTo>
                <a:lnTo>
                  <a:pt x="222715" y="109753"/>
                </a:lnTo>
                <a:lnTo>
                  <a:pt x="360362" y="109752"/>
                </a:lnTo>
                <a:lnTo>
                  <a:pt x="249003" y="177583"/>
                </a:lnTo>
                <a:lnTo>
                  <a:pt x="291539" y="287336"/>
                </a:lnTo>
                <a:lnTo>
                  <a:pt x="180181" y="219504"/>
                </a:lnTo>
                <a:lnTo>
                  <a:pt x="68823" y="287336"/>
                </a:lnTo>
                <a:lnTo>
                  <a:pt x="111359" y="177583"/>
                </a:lnTo>
                <a:close/>
              </a:path>
            </a:pathLst>
          </a:custGeom>
          <a:solidFill>
            <a:srgbClr val="ff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5" name="Text Box 19"/>
          <p:cNvSpPr/>
          <p:nvPr/>
        </p:nvSpPr>
        <p:spPr>
          <a:xfrm>
            <a:off x="755640" y="4653000"/>
            <a:ext cx="784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回收利用废弃塑料时，分类十分困难，而且经济上不划算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6" name="AutoShape 20"/>
          <p:cNvSpPr/>
          <p:nvPr/>
        </p:nvSpPr>
        <p:spPr>
          <a:xfrm>
            <a:off x="395280" y="5300640"/>
            <a:ext cx="360360" cy="287280"/>
          </a:xfrm>
          <a:custGeom>
            <a:avLst/>
            <a:gdLst/>
            <a:ahLst/>
            <a:rect l="l" t="t" r="r" b="b"/>
            <a:pathLst>
              <a:path w="360362" h="287337">
                <a:moveTo>
                  <a:pt x="0" y="109752"/>
                </a:moveTo>
                <a:lnTo>
                  <a:pt x="137646" y="109753"/>
                </a:lnTo>
                <a:lnTo>
                  <a:pt x="180181" y="0"/>
                </a:lnTo>
                <a:lnTo>
                  <a:pt x="222715" y="109753"/>
                </a:lnTo>
                <a:lnTo>
                  <a:pt x="360362" y="109752"/>
                </a:lnTo>
                <a:lnTo>
                  <a:pt x="249003" y="177583"/>
                </a:lnTo>
                <a:lnTo>
                  <a:pt x="291539" y="287336"/>
                </a:lnTo>
                <a:lnTo>
                  <a:pt x="180181" y="219504"/>
                </a:lnTo>
                <a:lnTo>
                  <a:pt x="68823" y="287336"/>
                </a:lnTo>
                <a:lnTo>
                  <a:pt x="111359" y="177583"/>
                </a:lnTo>
                <a:close/>
              </a:path>
            </a:pathLst>
          </a:custGeom>
          <a:solidFill>
            <a:srgbClr val="ff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7" name="Text Box 21"/>
          <p:cNvSpPr/>
          <p:nvPr/>
        </p:nvSpPr>
        <p:spPr>
          <a:xfrm>
            <a:off x="755640" y="5157720"/>
            <a:ext cx="6610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塑料是石油炼制的产品制成的，石油资源是有限的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cccc"/>
                </a:solidFill>
                <a:latin typeface="Arial"/>
                <a:ea typeface="隶书"/>
              </a:rPr>
              <a:t>如何解决“</a:t>
            </a: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隶书"/>
              </a:rPr>
              <a:t>白色污染</a:t>
            </a:r>
            <a:r>
              <a:rPr b="0" lang="zh-CN" sz="4800" spc="-1" strike="noStrike">
                <a:solidFill>
                  <a:srgbClr val="33cccc"/>
                </a:solidFill>
                <a:latin typeface="Arial"/>
                <a:ea typeface="隶书"/>
              </a:rPr>
              <a:t>”问题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9" name=""/>
          <p:cNvSpPr txBox="1"/>
          <p:nvPr/>
        </p:nvSpPr>
        <p:spPr>
          <a:xfrm>
            <a:off x="46836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中宋"/>
              </a:rPr>
              <a:t>减少使用不必要的塑料制品，如用布袋代替塑料袋等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中宋"/>
              </a:rPr>
              <a:t>重复使用某些塑料制品如塑料袋、塑料盒等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中宋"/>
              </a:rPr>
              <a:t>使用一些新型的、可降解的塑料，如微生物降解塑料和光降解塑料等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中宋"/>
              </a:rPr>
              <a:t>分类回收各种废弃塑料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7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7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3e3ff"/>
                </a:solidFill>
                <a:latin typeface="Arial"/>
              </a:rPr>
              <a:t>一些新兴材料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801" name="Picture 4" descr="u=2784200214,1533308187&amp;fm=0&amp;gp=0"/>
          <p:cNvPicPr/>
          <p:nvPr/>
        </p:nvPicPr>
        <p:blipFill>
          <a:blip r:embed="rId1"/>
          <a:stretch/>
        </p:blipFill>
        <p:spPr>
          <a:xfrm>
            <a:off x="1763640" y="1711440"/>
            <a:ext cx="2376720" cy="1655640"/>
          </a:xfrm>
          <a:prstGeom prst="rect">
            <a:avLst/>
          </a:prstGeom>
          <a:ln w="0">
            <a:noFill/>
          </a:ln>
        </p:spPr>
      </p:pic>
      <p:pic>
        <p:nvPicPr>
          <p:cNvPr id="1802" name="Picture 9" descr="u=1185482215,1673062539&amp;fm=4&amp;gp=0"/>
          <p:cNvPicPr/>
          <p:nvPr/>
        </p:nvPicPr>
        <p:blipFill>
          <a:blip r:embed="rId2"/>
          <a:stretch/>
        </p:blipFill>
        <p:spPr>
          <a:xfrm>
            <a:off x="5364000" y="1711440"/>
            <a:ext cx="2448000" cy="1811160"/>
          </a:xfrm>
          <a:prstGeom prst="rect">
            <a:avLst/>
          </a:prstGeom>
          <a:ln w="0">
            <a:noFill/>
          </a:ln>
        </p:spPr>
      </p:pic>
      <p:pic>
        <p:nvPicPr>
          <p:cNvPr id="1803" name="Picture 10" descr="u=723605650,236763954&amp;fm=0&amp;gp=0"/>
          <p:cNvPicPr/>
          <p:nvPr/>
        </p:nvPicPr>
        <p:blipFill>
          <a:blip r:embed="rId3"/>
          <a:stretch/>
        </p:blipFill>
        <p:spPr>
          <a:xfrm>
            <a:off x="1619280" y="3943440"/>
            <a:ext cx="2448000" cy="1800000"/>
          </a:xfrm>
          <a:prstGeom prst="rect">
            <a:avLst/>
          </a:prstGeom>
          <a:ln w="0">
            <a:noFill/>
          </a:ln>
        </p:spPr>
      </p:pic>
      <p:pic>
        <p:nvPicPr>
          <p:cNvPr id="1804" name="Picture 11" descr="无标题"/>
          <p:cNvPicPr/>
          <p:nvPr/>
        </p:nvPicPr>
        <p:blipFill>
          <a:blip r:embed="rId4"/>
          <a:stretch/>
        </p:blipFill>
        <p:spPr>
          <a:xfrm>
            <a:off x="5364000" y="3871800"/>
            <a:ext cx="244800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db28"/>
                </a:solidFill>
                <a:latin typeface="Arial"/>
                <a:ea typeface="华文中宋"/>
              </a:rPr>
              <a:t>学完本课题，你的收获？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06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中宋"/>
              </a:rPr>
              <a:t>有机化合物都含有碳元素，但含有碳元素的化合物并不都是有机化合物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中宋"/>
              </a:rPr>
              <a:t>有机高分子化合物是相对分子质量很大的有机化合物。分天然有机高分子和有机合成材料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中宋"/>
              </a:rPr>
              <a:t>塑料、合成纤维和合成橡胶等是重要的有机合成材料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中宋"/>
              </a:rPr>
              <a:t>使用有机合成材料会对环境造成影响，如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“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中宋"/>
              </a:rPr>
              <a:t>白色污染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”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中宋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6" dur="1000"/>
                                        <p:tgtEl>
                                          <p:spTgt spid="1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1" dur="1000"/>
                                        <p:tgtEl>
                                          <p:spTgt spid="18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6" dur="1000"/>
                                        <p:tgtEl>
                                          <p:spTgt spid="18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1" dur="1000"/>
                                        <p:tgtEl>
                                          <p:spTgt spid="18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3e3ff"/>
                </a:solidFill>
                <a:latin typeface="Arial"/>
              </a:rPr>
              <a:t>反馈检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08" name=""/>
          <p:cNvSpPr txBox="1"/>
          <p:nvPr/>
        </p:nvSpPr>
        <p:spPr>
          <a:xfrm>
            <a:off x="250560" y="1341000"/>
            <a:ext cx="8713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下列物质中不属于有机物的是（  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．甲烷   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．碳酸    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．糖类    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．乙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高分子化合物按其来源可分为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Arial"/>
              </a:rPr>
              <a:t>              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和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Arial"/>
              </a:rPr>
              <a:t>          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两大类；棉花、羊毛、天然橡胶等属于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Arial"/>
              </a:rPr>
              <a:t>      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，塑料、合成纤维等属于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Arial"/>
              </a:rPr>
              <a:t>              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有机合成材料的出现是材料发展史上的一次重大突破。下列物质属于有机合成材料的是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   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．棉花     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．蛋白质    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．维生素  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．塑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科技文献中经常出现下列词汇，其中与相关物质的颜色并无联系的是（　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．赤色海潮    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．绿色食品    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．白色污染    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．棕色烟气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68360" y="26640"/>
            <a:ext cx="8229600" cy="88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3e3ff"/>
                </a:solidFill>
                <a:latin typeface="Arial"/>
              </a:rPr>
              <a:t>反馈检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10" name=""/>
          <p:cNvSpPr txBox="1"/>
          <p:nvPr/>
        </p:nvSpPr>
        <p:spPr>
          <a:xfrm>
            <a:off x="0" y="907560"/>
            <a:ext cx="91440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下列与化学有关问题的分析不正确的是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．国家亟待解决的“白色污染”问题通常指聚乙烯等塑料垃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．我国卫生部规定食盐必须加碘，其中碘以单质的形式存在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．严禁饮用工业酒精，因为含甲醇，饮用后双目失明，甚至死亡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．国家提倡少用或不用含磷洗衣粉，这是由于磷使水体富营养化，使水质恶化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制造下列物品应该用热固性塑料的是（  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．炒菜用的铁锅手柄  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．食品包装袋    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．雨衣     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．塑料盆、塑料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下列有关塑料问题的叙述不正确的是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．塑料是一种人工合成的高分子材料，具有良好的可塑性、绝缘性、耐腐蚀性等特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．废塑料的焚烧会产生大量污染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．普通地膜碎片在土壤中很快就被土壤中的厌氧微生物所分解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．海洋漂浮的泡沫聚苯乙烯有可能缠住船只螺旋桨，损坏船只和机器，引起事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148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学以致用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商场出售的服装都有面料成分及洗涤说明的标签，右图为某服装的标签：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面料中的天然纤维是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___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，合成纤维是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____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。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2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检验蚕丝的简单方法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______________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1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3" name="Picture 4" descr="DSC00809"/>
          <p:cNvPicPr/>
          <p:nvPr/>
        </p:nvPicPr>
        <p:blipFill>
          <a:blip r:embed="rId1"/>
          <a:stretch/>
        </p:blipFill>
        <p:spPr>
          <a:xfrm>
            <a:off x="3132000" y="2662200"/>
            <a:ext cx="4176720" cy="3791160"/>
          </a:xfrm>
          <a:prstGeom prst="rect">
            <a:avLst/>
          </a:prstGeom>
          <a:ln w="0">
            <a:noFill/>
          </a:ln>
        </p:spPr>
      </p:pic>
      <p:sp>
        <p:nvSpPr>
          <p:cNvPr id="1814" name="文本框 8196"/>
          <p:cNvSpPr/>
          <p:nvPr/>
        </p:nvSpPr>
        <p:spPr>
          <a:xfrm>
            <a:off x="777960" y="257508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ffcc"/>
                </a:solidFill>
                <a:uFillTx/>
                <a:latin typeface="Arial"/>
                <a:ea typeface="宋体"/>
                <a:hlinkClick r:id="rId2"/>
              </a:rPr>
              <a:t>ppt模板下载 免费完整版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0" dur="1000"/>
                                        <p:tgtEl>
                                          <p:spTgt spid="1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3e3ff"/>
                </a:solidFill>
                <a:latin typeface="Arial"/>
              </a:rPr>
              <a:t>学以致用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16" name=""/>
          <p:cNvSpPr txBox="1"/>
          <p:nvPr/>
        </p:nvSpPr>
        <p:spPr>
          <a:xfrm>
            <a:off x="468360" y="1484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电工在连接电线的时候，需将电线要连接的一端的外皮（塑料护套）去掉，在身边没有小刀的情况下，你认为最快捷的方法是？为什么？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009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大连）普通塑料是由石油产品加工而成的，而玉米塑料是由存放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--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年的陈化玉米制成的，它除了普通塑料的性能以外，其废弃物还能自然降解为水和二氧化碳。请从不同角度分析玉米塑料的两大优点。                   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                       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ada08"/>
                </a:solidFill>
                <a:latin typeface="Arial"/>
                <a:ea typeface="隶书"/>
              </a:rPr>
              <a:t>学习目标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4" name=""/>
          <p:cNvSpPr txBox="1"/>
          <p:nvPr/>
        </p:nvSpPr>
        <p:spPr>
          <a:xfrm>
            <a:off x="46836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知道什么是有机物，了解有机高分子材料的分类。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了解有机合成材料的特点、用途和对环境的影响，认识环境保护的重要性。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培养自身的自学能力、思维能力和表达能力，发展科学探究的能力。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03FBE-86D0-424C-AD63-D97F70234396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Text Box 4"/>
          <p:cNvSpPr/>
          <p:nvPr/>
        </p:nvSpPr>
        <p:spPr>
          <a:xfrm>
            <a:off x="3203640" y="5493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课外拓展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2" name="Text Box 5"/>
          <p:cNvSpPr/>
          <p:nvPr/>
        </p:nvSpPr>
        <p:spPr>
          <a:xfrm>
            <a:off x="179280" y="134136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试着给食盐袋或白糖袋封口，并写下自己的体验和感受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3" name="Text Box 6"/>
          <p:cNvSpPr/>
          <p:nvPr/>
        </p:nvSpPr>
        <p:spPr>
          <a:xfrm>
            <a:off x="287280" y="2708280"/>
            <a:ext cx="87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试用简单的方法鉴别家中找得到的一些纤维，并把它们按照棉织物、毛织物、合成纤维来分类。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6" dur="500"/>
                                        <p:tgtEl>
                                          <p:spTgt spid="1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1" dur="500"/>
                                        <p:tgtEl>
                                          <p:spTgt spid="1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ecff"/>
                </a:solidFill>
                <a:latin typeface="Arial"/>
              </a:rPr>
              <a:t>活动与探究（一）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736" name=""/>
          <p:cNvGraphicFramePr/>
          <p:nvPr/>
        </p:nvGraphicFramePr>
        <p:xfrm>
          <a:off x="395280" y="1628640"/>
          <a:ext cx="8353440" cy="3581280"/>
        </p:xfrm>
        <a:graphic>
          <a:graphicData uri="http://schemas.openxmlformats.org/drawingml/2006/table">
            <a:tbl>
              <a:tblPr/>
              <a:tblGrid>
                <a:gridCol w="2089080"/>
                <a:gridCol w="2087640"/>
                <a:gridCol w="2089080"/>
                <a:gridCol w="2087640"/>
              </a:tblGrid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化合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化学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组成元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相对分子质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甲烷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乙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葡萄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淀粉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硫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氢氧化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氯化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碳酸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7" name="Text Box 75"/>
          <p:cNvSpPr/>
          <p:nvPr/>
        </p:nvSpPr>
        <p:spPr>
          <a:xfrm>
            <a:off x="1060200" y="928800"/>
            <a:ext cx="123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１、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中宋"/>
              </a:rPr>
              <a:t>完成下表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8" name="Text Box 76"/>
          <p:cNvSpPr/>
          <p:nvPr/>
        </p:nvSpPr>
        <p:spPr>
          <a:xfrm>
            <a:off x="468360" y="5877000"/>
            <a:ext cx="8351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1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ecff"/>
                </a:solidFill>
                <a:latin typeface="Arial"/>
              </a:rPr>
              <a:t>活动与探究（一）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740" name=""/>
          <p:cNvGraphicFramePr/>
          <p:nvPr/>
        </p:nvGraphicFramePr>
        <p:xfrm>
          <a:off x="395280" y="1413000"/>
          <a:ext cx="8353440" cy="4257720"/>
        </p:xfrm>
        <a:graphic>
          <a:graphicData uri="http://schemas.openxmlformats.org/drawingml/2006/table">
            <a:tbl>
              <a:tblPr/>
              <a:tblGrid>
                <a:gridCol w="2089080"/>
                <a:gridCol w="2087640"/>
                <a:gridCol w="2089080"/>
                <a:gridCol w="2087640"/>
              </a:tblGrid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化合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化学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组成元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相对分子质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甲烷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  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乙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Verdana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  H   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葡萄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Verdana"/>
                        </a:rPr>
                        <a:t>12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Verdana"/>
                        </a:rPr>
                        <a:t>12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Verdana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  H   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淀粉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C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Verdana"/>
                        </a:rPr>
                        <a:t>6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Verdana"/>
                        </a:rPr>
                        <a:t>10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)n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  H   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几万到几十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硫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Verdana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O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  S   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氢氧化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aO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a   O   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氯化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aC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a  C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8.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碳酸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a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Verdana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Verdana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a  C  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1" name="Text Box 55"/>
          <p:cNvSpPr/>
          <p:nvPr/>
        </p:nvSpPr>
        <p:spPr>
          <a:xfrm>
            <a:off x="1060200" y="928800"/>
            <a:ext cx="123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１、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中宋"/>
              </a:rPr>
              <a:t>完成下表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2" name="Text Box 56"/>
          <p:cNvSpPr/>
          <p:nvPr/>
        </p:nvSpPr>
        <p:spPr>
          <a:xfrm>
            <a:off x="468360" y="587700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中宋"/>
              </a:rPr>
              <a:t>发现：</a:t>
            </a:r>
            <a:r>
              <a:rPr b="1" lang="zh-CN" sz="2200" spc="-1" strike="noStrike">
                <a:solidFill>
                  <a:srgbClr val="ffffff"/>
                </a:solidFill>
                <a:latin typeface="Arial"/>
                <a:ea typeface="华文中宋"/>
              </a:rPr>
              <a:t>甲烷、乙醇和葡萄糖的相对分子质量与淀粉的相对分子质量相比有何不同？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3" name="Text Box 57"/>
          <p:cNvSpPr/>
          <p:nvPr/>
        </p:nvSpPr>
        <p:spPr>
          <a:xfrm>
            <a:off x="4027680" y="5394240"/>
            <a:ext cx="12535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中宋"/>
              </a:rPr>
              <a:t>２、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中宋"/>
              </a:rPr>
              <a:t>寻找：</a:t>
            </a:r>
            <a:r>
              <a:rPr b="1" lang="zh-CN" sz="2200" spc="-1" strike="noStrike">
                <a:solidFill>
                  <a:srgbClr val="ffffff"/>
                </a:solidFill>
                <a:latin typeface="Arial"/>
                <a:ea typeface="华文中宋"/>
              </a:rPr>
              <a:t>甲烷、乙醇、葡萄糖、淀粉的组成元素有什么共同点？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1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Text Box 4"/>
          <p:cNvSpPr/>
          <p:nvPr/>
        </p:nvSpPr>
        <p:spPr>
          <a:xfrm>
            <a:off x="468360" y="1341360"/>
            <a:ext cx="82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有机化合物</a:t>
            </a:r>
            <a:r>
              <a:rPr b="0" lang="en-US" sz="3200" spc="-1" strike="noStrike">
                <a:solidFill>
                  <a:srgbClr val="ffffff"/>
                </a:solidFill>
                <a:latin typeface="隶书"/>
                <a:ea typeface="隶书"/>
              </a:rPr>
              <a:t>: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将甲烷、乙醇等含有碳元素的化合物称为有机化合物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5" name="Text Box 5"/>
          <p:cNvSpPr/>
          <p:nvPr/>
        </p:nvSpPr>
        <p:spPr>
          <a:xfrm>
            <a:off x="2882520" y="3141720"/>
            <a:ext cx="388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无机化合物：将氯化钠、硫酸等不含碳的化合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    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称为无机化合物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6" name="Text Box 6"/>
          <p:cNvSpPr/>
          <p:nvPr/>
        </p:nvSpPr>
        <p:spPr>
          <a:xfrm>
            <a:off x="395280" y="479736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中宋"/>
              </a:rPr>
              <a:t>问题：二氧化碳、碳酸、碳酸钙属于什么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" dur="500"/>
                                        <p:tgtEl>
                                          <p:spTgt spid="1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" dur="500"/>
                                        <p:tgtEl>
                                          <p:spTgt spid="1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1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有机合成材料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748" name="Picture 4" descr="未命名"/>
          <p:cNvPicPr/>
          <p:nvPr/>
        </p:nvPicPr>
        <p:blipFill>
          <a:blip r:embed="rId1"/>
          <a:stretch/>
        </p:blipFill>
        <p:spPr>
          <a:xfrm>
            <a:off x="611280" y="2997360"/>
            <a:ext cx="949320" cy="1368360"/>
          </a:xfrm>
          <a:prstGeom prst="rect">
            <a:avLst/>
          </a:prstGeom>
          <a:ln w="0">
            <a:noFill/>
          </a:ln>
        </p:spPr>
      </p:pic>
      <p:pic>
        <p:nvPicPr>
          <p:cNvPr id="1749" name="Picture 5" descr="未命名"/>
          <p:cNvPicPr/>
          <p:nvPr/>
        </p:nvPicPr>
        <p:blipFill>
          <a:blip r:embed="rId2"/>
          <a:stretch/>
        </p:blipFill>
        <p:spPr>
          <a:xfrm>
            <a:off x="4067280" y="2708280"/>
            <a:ext cx="1152360" cy="1295280"/>
          </a:xfrm>
          <a:prstGeom prst="rect">
            <a:avLst/>
          </a:prstGeom>
          <a:ln w="0">
            <a:noFill/>
          </a:ln>
        </p:spPr>
      </p:pic>
      <p:pic>
        <p:nvPicPr>
          <p:cNvPr id="1750" name="Picture 6" descr="未命名"/>
          <p:cNvPicPr/>
          <p:nvPr/>
        </p:nvPicPr>
        <p:blipFill>
          <a:blip r:embed="rId3"/>
          <a:stretch/>
        </p:blipFill>
        <p:spPr>
          <a:xfrm>
            <a:off x="3203640" y="2708280"/>
            <a:ext cx="1057320" cy="1347840"/>
          </a:xfrm>
          <a:prstGeom prst="rect">
            <a:avLst/>
          </a:prstGeom>
          <a:ln w="0">
            <a:noFill/>
          </a:ln>
        </p:spPr>
      </p:pic>
      <p:pic>
        <p:nvPicPr>
          <p:cNvPr id="1751" name="Picture 7" descr="未命名"/>
          <p:cNvPicPr/>
          <p:nvPr/>
        </p:nvPicPr>
        <p:blipFill>
          <a:blip r:embed="rId4"/>
          <a:stretch/>
        </p:blipFill>
        <p:spPr>
          <a:xfrm>
            <a:off x="2340000" y="2708280"/>
            <a:ext cx="1057320" cy="1347840"/>
          </a:xfrm>
          <a:prstGeom prst="rect">
            <a:avLst/>
          </a:prstGeom>
          <a:ln w="0">
            <a:noFill/>
          </a:ln>
        </p:spPr>
      </p:pic>
      <p:pic>
        <p:nvPicPr>
          <p:cNvPr id="1752" name="Picture 8" descr="未命名"/>
          <p:cNvPicPr/>
          <p:nvPr/>
        </p:nvPicPr>
        <p:blipFill>
          <a:blip r:embed="rId5"/>
          <a:stretch/>
        </p:blipFill>
        <p:spPr>
          <a:xfrm>
            <a:off x="1547640" y="2852640"/>
            <a:ext cx="905040" cy="1347840"/>
          </a:xfrm>
          <a:prstGeom prst="rect">
            <a:avLst/>
          </a:prstGeom>
          <a:ln w="0">
            <a:noFill/>
          </a:ln>
        </p:spPr>
      </p:pic>
      <p:pic>
        <p:nvPicPr>
          <p:cNvPr id="1753" name="Picture 10" descr="未命名"/>
          <p:cNvPicPr/>
          <p:nvPr/>
        </p:nvPicPr>
        <p:blipFill>
          <a:blip r:embed="rId6"/>
          <a:stretch/>
        </p:blipFill>
        <p:spPr>
          <a:xfrm>
            <a:off x="6877080" y="2565360"/>
            <a:ext cx="1057320" cy="1347840"/>
          </a:xfrm>
          <a:prstGeom prst="rect">
            <a:avLst/>
          </a:prstGeom>
          <a:ln w="0">
            <a:noFill/>
          </a:ln>
        </p:spPr>
      </p:pic>
      <p:pic>
        <p:nvPicPr>
          <p:cNvPr id="1754" name="Picture 11" descr="未命名"/>
          <p:cNvPicPr/>
          <p:nvPr/>
        </p:nvPicPr>
        <p:blipFill>
          <a:blip r:embed="rId7"/>
          <a:stretch/>
        </p:blipFill>
        <p:spPr>
          <a:xfrm>
            <a:off x="5940360" y="2565360"/>
            <a:ext cx="1057320" cy="1347840"/>
          </a:xfrm>
          <a:prstGeom prst="rect">
            <a:avLst/>
          </a:prstGeom>
          <a:ln w="0">
            <a:noFill/>
          </a:ln>
        </p:spPr>
      </p:pic>
      <p:pic>
        <p:nvPicPr>
          <p:cNvPr id="1755" name="Picture 12" descr="未命名"/>
          <p:cNvPicPr/>
          <p:nvPr/>
        </p:nvPicPr>
        <p:blipFill>
          <a:blip r:embed="rId8"/>
          <a:stretch/>
        </p:blipFill>
        <p:spPr>
          <a:xfrm>
            <a:off x="5148360" y="2637000"/>
            <a:ext cx="904680" cy="1347480"/>
          </a:xfrm>
          <a:prstGeom prst="rect">
            <a:avLst/>
          </a:prstGeom>
          <a:ln w="0">
            <a:noFill/>
          </a:ln>
        </p:spPr>
      </p:pic>
      <p:sp>
        <p:nvSpPr>
          <p:cNvPr id="1756" name="Text Box 13"/>
          <p:cNvSpPr/>
          <p:nvPr/>
        </p:nvSpPr>
        <p:spPr>
          <a:xfrm>
            <a:off x="1332000" y="148428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如：聚乙烯塑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" dur="2000" fill="hold"/>
                                        <p:tgtEl>
                                          <p:spTgt spid="17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8" dur="2000" fill="hold"/>
                                        <p:tgtEl>
                                          <p:spTgt spid="17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0" dur="2000" fill="hold"/>
                                        <p:tgtEl>
                                          <p:spTgt spid="17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2" dur="2000" fill="hold"/>
                                        <p:tgtEl>
                                          <p:spTgt spid="17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" dur="2000" fill="hold"/>
                                        <p:tgtEl>
                                          <p:spTgt spid="17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6" dur="2000" fill="hold"/>
                                        <p:tgtEl>
                                          <p:spTgt spid="17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8" dur="2000" fill="hold"/>
                                        <p:tgtEl>
                                          <p:spTgt spid="17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0" dur="2000" fill="hold"/>
                                        <p:tgtEl>
                                          <p:spTgt spid="17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3e3ff"/>
                </a:solidFill>
                <a:latin typeface="Arial"/>
              </a:rPr>
              <a:t>活动与探究（二）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758" name=""/>
          <p:cNvGraphicFramePr/>
          <p:nvPr/>
        </p:nvGraphicFramePr>
        <p:xfrm>
          <a:off x="468360" y="1700280"/>
          <a:ext cx="8147160" cy="1297080"/>
        </p:xfrm>
        <a:graphic>
          <a:graphicData uri="http://schemas.openxmlformats.org/drawingml/2006/table">
            <a:tbl>
              <a:tblPr/>
              <a:tblGrid>
                <a:gridCol w="2036880"/>
                <a:gridCol w="2036520"/>
                <a:gridCol w="2036880"/>
                <a:gridCol w="2036880"/>
              </a:tblGrid>
              <a:tr h="64944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撕扯方向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用力程度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扯口形状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原因分析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9" name="Text Box 5"/>
          <p:cNvSpPr/>
          <p:nvPr/>
        </p:nvSpPr>
        <p:spPr>
          <a:xfrm>
            <a:off x="957960" y="1197000"/>
            <a:ext cx="166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撕扯塑料薄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0" name="Text Box 29"/>
          <p:cNvSpPr/>
          <p:nvPr/>
        </p:nvSpPr>
        <p:spPr>
          <a:xfrm>
            <a:off x="948600" y="3159000"/>
            <a:ext cx="14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加热塑料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61" name=""/>
          <p:cNvGraphicFramePr/>
          <p:nvPr/>
        </p:nvGraphicFramePr>
        <p:xfrm>
          <a:off x="468360" y="3716280"/>
          <a:ext cx="8218440" cy="1974960"/>
        </p:xfrm>
        <a:graphic>
          <a:graphicData uri="http://schemas.openxmlformats.org/drawingml/2006/table">
            <a:tbl>
              <a:tblPr/>
              <a:tblGrid>
                <a:gridCol w="2054160"/>
                <a:gridCol w="2055960"/>
                <a:gridCol w="2054160"/>
                <a:gridCol w="2054160"/>
              </a:tblGrid>
              <a:tr h="5526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所用样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操作步骤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现象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析原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976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塑料瓶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纽扣（</a:t>
                      </a:r>
                      <a:r>
                        <a:rPr b="1" lang="zh-CN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教师演示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）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2" name="Text Box 57"/>
          <p:cNvSpPr/>
          <p:nvPr/>
        </p:nvSpPr>
        <p:spPr>
          <a:xfrm>
            <a:off x="1466280" y="580536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讨论：你能得到什么结论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1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1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/>
                                        <p:tgtEl>
                                          <p:spTgt spid="1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Text Box 4"/>
          <p:cNvSpPr/>
          <p:nvPr/>
        </p:nvSpPr>
        <p:spPr>
          <a:xfrm>
            <a:off x="179280" y="33336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链状高分子都具有热塑性，加热软化后可以加工成各种形状的塑料制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4" name="Text Box 5"/>
          <p:cNvSpPr/>
          <p:nvPr/>
        </p:nvSpPr>
        <p:spPr>
          <a:xfrm>
            <a:off x="179280" y="364500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网状高分子加热后不会熔化，具有热固性，这种塑料一旦加工成型后，不能通过加热重新回到原来的状态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5" name="Picture 6" descr="不粘涡"/>
          <p:cNvPicPr/>
          <p:nvPr/>
        </p:nvPicPr>
        <p:blipFill>
          <a:blip r:embed="rId1"/>
          <a:stretch/>
        </p:blipFill>
        <p:spPr>
          <a:xfrm>
            <a:off x="1042920" y="1413000"/>
            <a:ext cx="2592360" cy="1944720"/>
          </a:xfrm>
          <a:prstGeom prst="rect">
            <a:avLst/>
          </a:prstGeom>
          <a:ln w="0">
            <a:noFill/>
          </a:ln>
        </p:spPr>
      </p:pic>
      <p:pic>
        <p:nvPicPr>
          <p:cNvPr id="1766" name="Picture 7" descr="PICT2635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5003640" y="1341360"/>
            <a:ext cx="2592720" cy="1944720"/>
          </a:xfrm>
          <a:prstGeom prst="rect">
            <a:avLst/>
          </a:prstGeom>
          <a:ln w="0">
            <a:noFill/>
          </a:ln>
        </p:spPr>
      </p:pic>
      <p:pic>
        <p:nvPicPr>
          <p:cNvPr id="1767" name="Picture 9" descr="PICT2665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5219640" y="4581360"/>
            <a:ext cx="2592360" cy="1943280"/>
          </a:xfrm>
          <a:prstGeom prst="rect">
            <a:avLst/>
          </a:prstGeom>
          <a:ln w="0">
            <a:noFill/>
          </a:ln>
        </p:spPr>
      </p:pic>
      <p:pic>
        <p:nvPicPr>
          <p:cNvPr id="1768" name="Picture 10" descr="Image12"/>
          <p:cNvPicPr/>
          <p:nvPr/>
        </p:nvPicPr>
        <p:blipFill>
          <a:blip r:embed="rId4"/>
          <a:stretch/>
        </p:blipFill>
        <p:spPr>
          <a:xfrm>
            <a:off x="1258920" y="4581360"/>
            <a:ext cx="25923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6" dur="1000"/>
                                        <p:tgtEl>
                                          <p:spTgt spid="1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7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7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7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7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ecff"/>
                </a:solidFill>
                <a:latin typeface="Arial"/>
              </a:rPr>
              <a:t>活动与探究（三）</a:t>
            </a:r>
            <a:br>
              <a:rPr sz="2800"/>
            </a:br>
            <a:r>
              <a:rPr b="1" lang="en-US" sz="2800" spc="-1" strike="noStrike">
                <a:solidFill>
                  <a:srgbClr val="ccecff"/>
                </a:solidFill>
                <a:latin typeface="华文中宋"/>
                <a:ea typeface="华文中宋"/>
              </a:rPr>
              <a:t>——</a:t>
            </a:r>
            <a:r>
              <a:rPr b="0" lang="zh-CN" sz="2400" spc="-1" strike="noStrike">
                <a:solidFill>
                  <a:srgbClr val="ccecff"/>
                </a:solidFill>
                <a:latin typeface="华文中宋"/>
                <a:ea typeface="华文中宋"/>
              </a:rPr>
              <a:t>燃烧不同样品材料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770" name=""/>
          <p:cNvGraphicFramePr/>
          <p:nvPr/>
        </p:nvGraphicFramePr>
        <p:xfrm>
          <a:off x="457200" y="1600200"/>
          <a:ext cx="8229600" cy="2006640"/>
        </p:xfrm>
        <a:graphic>
          <a:graphicData uri="http://schemas.openxmlformats.org/drawingml/2006/table">
            <a:tbl>
              <a:tblPr/>
              <a:tblGrid>
                <a:gridCol w="1450800"/>
                <a:gridCol w="4896000"/>
                <a:gridCol w="1882800"/>
              </a:tblGrid>
              <a:tr h="501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Verdana"/>
                          <a:ea typeface="华文中宋"/>
                        </a:rPr>
                        <a:t>样品种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Verdana"/>
                          <a:ea typeface="华文中宋"/>
                        </a:rPr>
                        <a:t>燃烧时的现象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Verdana"/>
                          <a:ea typeface="华文中宋"/>
                        </a:rPr>
                        <a:t>结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1" name="Text Box 38"/>
          <p:cNvSpPr/>
          <p:nvPr/>
        </p:nvSpPr>
        <p:spPr>
          <a:xfrm>
            <a:off x="1629360" y="3735360"/>
            <a:ext cx="397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探讨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：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中宋"/>
              </a:rPr>
              <a:t>买衣服时，怎样知道面料的种类呢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2" name="Text Box 40"/>
          <p:cNvSpPr/>
          <p:nvPr/>
        </p:nvSpPr>
        <p:spPr>
          <a:xfrm>
            <a:off x="539640" y="436572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探讨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：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中宋"/>
              </a:rPr>
              <a:t>穿不同面料的服装时，你有什么不同的感觉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3" name="文本框 8196"/>
          <p:cNvSpPr/>
          <p:nvPr/>
        </p:nvSpPr>
        <p:spPr>
          <a:xfrm>
            <a:off x="977760" y="493092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ffcc"/>
                </a:solidFill>
                <a:uFillTx/>
                <a:latin typeface="Verdana"/>
                <a:ea typeface="宋体"/>
                <a:hlinkClick r:id="rId1"/>
              </a:rPr>
              <a:t>ppt模板下载 免费完整版</a:t>
            </a:r>
            <a:r>
              <a:rPr b="0" lang="zh-CN" sz="16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Verdana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6" dur="2000"/>
                                        <p:tgtEl>
                                          <p:spTgt spid="1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5T13:22:5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3:31Z</dcterms:modified>
  <cp:revision>7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