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camera.wav" ContentType="audio/x-wav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53C-51B6-4692-9A38-777FBD6E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AEE-E4EE-48B5-8600-C9D3951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DBB-0AA8-4003-8D04-42F9B4A8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593-0E6D-4441-B6E5-D1E9AE40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EE4-61FC-46CF-BAE5-0F7FD112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CCA0-D39D-4B0A-9596-4CCA6AB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6AEF-B396-4CAB-B277-A89905AE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6032-3724-4E91-B4EF-BEEBD68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3F2-60BC-4749-8062-826E770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80C-C2A5-485C-B19A-B43A239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2B2A-A7FE-42B6-A4D4-2C1676B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0F-A415-43A1-82A3-495859E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A4A-509E-48C3-80E8-FC9AEA8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4A8B-D669-447F-935D-CA57EC3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E60E-F7C8-4D0E-8361-AA95C0D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AF0-C918-41A5-B2C0-071F88FD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B2D-8308-4A24-9FE7-3A1A0D03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7139-8256-4C3D-B6CA-7682DB90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6B91-364B-4D3A-8B60-778E8D0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3B2F-6FD0-4B94-A3AC-57D787C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9644-3E70-4DFD-8F85-D1AE1D0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D2E8-1967-4527-A850-7788D5BC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DCF-D497-4832-B3A8-6DB295E9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4B7F-8732-4787-A688-05CF2C8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4208-2F6C-4D7F-908F-4255393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FD5A-67E9-45C6-BC3A-8444D57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329D-1D2E-49E1-90D0-55A9712A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6D2F-BAB7-4C19-856C-668BC995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80D9-62EE-485F-B567-6F641112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6988-3CCA-4F69-9853-6D1F61EA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066-B07A-4B63-A2D6-8A2517C7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DD5-32FA-44C7-B28E-B78F0A7F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492-9B08-4B06-B670-FF938ED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751-F7C9-48F4-9A80-F95EC8F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AFC-606B-421C-B211-42F2913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A5C-8943-4571-AAB1-A19AFB9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734E-3B1D-4CC9-90DF-4ED9875F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C10-CBFF-4B1E-B896-6E70058B53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1B4-93A7-4D37-A8AB-D3E86EEF721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403280" y="1844640"/>
            <a:ext cx="59342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饮酒语文课件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模板打包下载</a:t>
            </a:r>
            <a:endParaRPr b="0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对比   读</a:t>
            </a:r>
            <a:r>
              <a:rPr b="0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山海经</a:t>
            </a:r>
            <a:r>
              <a:rPr b="0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 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精卫衔微木，将以填沧海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刑天舞干戚，猛志固常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同物既无虑，化去不复悔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徒没在昔心，良辰讵可待。 　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F73-4782-43DB-B90C-83AD442DC465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88423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、风格方面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本诗豪放有力，属于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“‘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金刚怒目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’”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式（鲁迅语）的诗；而</a:t>
            </a:r>
            <a:r>
              <a:rPr b="0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饮酒</a:t>
            </a:r>
            <a:r>
              <a:rPr b="0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则显的清新自然，悠闲恬静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、内容方面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这两诗，都表现了作者不愿与黑暗现实同流合污的情感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9"/>
          <p:cNvSpPr/>
          <p:nvPr/>
        </p:nvSpPr>
        <p:spPr>
          <a:xfrm>
            <a:off x="7236000" y="2627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2" descr="TRE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3" descr=""/>
          <p:cNvPicPr/>
          <p:nvPr/>
        </p:nvPicPr>
        <p:blipFill>
          <a:blip r:embed="rId2"/>
          <a:stretch/>
        </p:blipFill>
        <p:spPr>
          <a:xfrm>
            <a:off x="3276720" y="685800"/>
            <a:ext cx="28447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30tao2"/>
          <p:cNvPicPr/>
          <p:nvPr/>
        </p:nvPicPr>
        <p:blipFill>
          <a:blip r:embed="rId3"/>
          <a:stretch/>
        </p:blipFill>
        <p:spPr>
          <a:xfrm>
            <a:off x="6397560" y="685800"/>
            <a:ext cx="2746440" cy="4343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209680" y="5638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陶  渊  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5—427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Picture 6" descr="taoyuanming"/>
          <p:cNvPicPr/>
          <p:nvPr/>
        </p:nvPicPr>
        <p:blipFill>
          <a:blip r:embed="rId4"/>
          <a:stretch/>
        </p:blipFill>
        <p:spPr>
          <a:xfrm>
            <a:off x="0" y="685800"/>
            <a:ext cx="3009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Picture 2" descr="TRE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m30tao1"/>
          <p:cNvPicPr/>
          <p:nvPr/>
        </p:nvPicPr>
        <p:blipFill>
          <a:blip r:embed="rId2"/>
          <a:stretch/>
        </p:blipFill>
        <p:spPr>
          <a:xfrm>
            <a:off x="762120" y="685800"/>
            <a:ext cx="3276360" cy="556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572000" y="533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陶渊明，名潜，字元亮，东晋著名诗人。因不满当时社会现实，辞去官职，归隐田园。长于诗文辞赋，多田园诗。其诗文多歌颂优美的自然景色和淳朴的农村生活。代表作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桃花源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归去来兮辞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归园田居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华文新魏"/>
                <a:ea typeface="华文新魏"/>
              </a:rPr>
              <a:t>饮酒    陶渊明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557000"/>
            <a:ext cx="8820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结庐在人境，而无车马喧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问君何能尔，心远地自偏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采菊东篱下，悠然见南山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山气日夕佳，飞鸟相与还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此中有真意，欲辨已忘言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结庐在人境，而无车马喧。</a:t>
            </a:r>
            <a:br>
              <a:rPr sz="5400"/>
            </a:b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问君何能尔，心远地自偏。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5400" spc="-1" strike="noStrike">
                <a:solidFill>
                  <a:srgbClr val="007a77"/>
                </a:solidFill>
                <a:latin typeface="黑体"/>
                <a:ea typeface="黑体"/>
              </a:rPr>
              <a:t>诗歌通过自问自答道出了诗人身处闹境而能没有车马喧嚣的烦恼，</a:t>
            </a:r>
            <a:r>
              <a:rPr b="0" lang="zh-CN" sz="5400" spc="-1" strike="noStrike">
                <a:solidFill>
                  <a:srgbClr val="cc3300"/>
                </a:solidFill>
                <a:latin typeface="黑体"/>
                <a:ea typeface="黑体"/>
              </a:rPr>
              <a:t>为什么？</a:t>
            </a:r>
            <a:r>
              <a:rPr b="0" lang="zh-CN" sz="5400" spc="-1" strike="noStrike">
                <a:solidFill>
                  <a:srgbClr val="0066ff"/>
                </a:solidFill>
                <a:latin typeface="黑体"/>
                <a:ea typeface="黑体"/>
              </a:rPr>
              <a:t>在于</a:t>
            </a: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0" lang="zh-CN" sz="5400" spc="-1" strike="noStrike">
                <a:solidFill>
                  <a:srgbClr val="0066ff"/>
                </a:solidFill>
                <a:latin typeface="黑体"/>
                <a:ea typeface="黑体"/>
              </a:rPr>
              <a:t>心远地自偏</a:t>
            </a:r>
            <a:r>
              <a:rPr b="0" lang="zh-CN" sz="54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0" lang="zh-CN" sz="5400" spc="-1" strike="noStrike">
                <a:solidFill>
                  <a:srgbClr val="0066ff"/>
                </a:solidFill>
                <a:latin typeface="黑体"/>
                <a:ea typeface="黑体"/>
              </a:rPr>
              <a:t>从精神上摆脱了环境的干扰。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文本框 8194"/>
          <p:cNvSpPr/>
          <p:nvPr/>
        </p:nvSpPr>
        <p:spPr>
          <a:xfrm>
            <a:off x="1116000" y="522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华文新魏"/>
              </a:rPr>
              <a:t>采菊东篱下，悠然见南山。</a:t>
            </a:r>
            <a:br>
              <a:rPr sz="6600"/>
            </a:b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这一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采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一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见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， 似有意又似无意， 全凭兴之所致，而意境便在不经意中自然天成。因而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采菊东篱下，悠然见南山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历来都被视为</a:t>
            </a:r>
            <a:r>
              <a:rPr b="0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陶诗意境、风格的名句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，而</a:t>
            </a:r>
            <a:r>
              <a:rPr b="0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王国维称其为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无我之境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，这时物我合一，浑然一体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华文新魏"/>
              </a:rPr>
              <a:t>山气日夕佳，飞鸟相与还。</a:t>
            </a:r>
            <a:br>
              <a:rPr sz="4800"/>
            </a:b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黑体"/>
                <a:ea typeface="黑体"/>
              </a:rPr>
              <a:t>以山间夕阳，飞鸟归林进一步渲染隐居之所的宁静和诗人悠然的心境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华文新魏"/>
              </a:rPr>
              <a:t>此中有真意，欲辨已忘言。</a:t>
            </a:r>
            <a:br>
              <a:rPr sz="4800"/>
            </a:b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抒发了人生真谛的感悟，那正是一种欲辩已忘言的境界，而诗人的欣喜之情也跃然纸上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从大自然中领悟到人生的意趣，表露了“欲辨已忘言”的纯自然的恬淡心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黑体"/>
              </a:rPr>
              <a:t>总结全诗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特点：（</a:t>
            </a: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全诗风格淡泊清新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用字简炼，然意境全出，读之如山泉般清冽，飞云般舒展。其中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菊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飞鸟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象征着诗人对高尚情操及自在人生的仰慕与追求，含蕴地寄托了与山林为伍的情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读者也在这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语有尽而意无穷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诗作之外，引发无数遐想，达到淡忘尘世、融于自然的境界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文本框 8194"/>
          <p:cNvSpPr/>
          <p:nvPr/>
        </p:nvSpPr>
        <p:spPr>
          <a:xfrm>
            <a:off x="1692360" y="98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04:5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