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EF6-7DEF-4211-B0EF-A98F2B1A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971-7324-4477-BCED-BEECFF83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94D-EE75-4D85-B1DA-EAABD41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3DA-6327-4ECF-9073-68D5AE7A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F514-DD8C-48AF-A121-73ED03E0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866-B32D-438A-ADA4-D1F2555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2058-0441-4A9E-8EB0-541AC99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3FE7-E1F1-46E7-A4EC-547FA8EA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37D3-0B61-4B07-A6D3-08B75D5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2598-60E9-4F67-97EC-C42F924C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A29E-7D4B-46CD-98FC-A4AEF5A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769-6EBF-40B6-8686-654E778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4CED-1E66-43C4-B01B-7C9C70E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F15C-2D8D-426F-ABDD-99A1602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F27A-3C24-4142-867A-16B41D7F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CB7-037D-49EB-A52B-0F0205A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4875-E23A-4667-8D28-78609F9C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DD58-9C34-4C34-B7BC-B79C75EC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3F20-5E36-4518-A903-2C7209C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BC57-BA42-4E41-8438-6E00C08A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18E7-BB49-4B21-AF85-B63920F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A7E8-D7CE-4809-80AF-371B0617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59C-D73A-464A-BD8E-E8DABFD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08FF-88A7-432E-96D6-DB2C9C6D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C67B-D1D4-49A9-901C-1CE92C9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86A3-23B9-4DFF-80DA-0EAD409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FD1A-2FB9-4AD1-9C29-02772D0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3B71-EF90-4CA1-B0F5-FDEAD930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C2DE-2B28-433F-86D6-8FA97F6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CA3C-2C32-465A-932F-DE33096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069-07D6-4378-BE64-44C92F6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9B7-7247-45B3-AAC3-0B0E84F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BB2-8ED4-4560-BF26-C1DE4489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FCE-43C8-4AC6-B2A9-BB63525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352-EAC2-4590-ABCD-C3C8489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C82-8C25-4E5A-B63B-9E171A8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986-1639-417F-9F2B-8DC6B5DF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C58-814A-458A-962E-C30D05C53C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6139-CF33-4B7E-8496-2A8F753F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609480" y="1700280"/>
            <a:ext cx="5618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音乐之声语文</a:t>
            </a:r>
            <a:r>
              <a:rPr b="0" i="1" lang="en-US" sz="40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PPT</a:t>
            </a:r>
            <a:r>
              <a:rPr b="0" i="1" lang="zh-CN" sz="40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模板下载</a:t>
            </a:r>
            <a:endParaRPr b="0" i="1" lang="en-US" sz="4000" spc="1" strike="noStrike">
              <a:ln w="19080">
                <a:solidFill>
                  <a:srgbClr val="ff00ff"/>
                </a:solidFill>
                <a:round/>
              </a:ln>
              <a:solidFill>
                <a:srgbClr val="ff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雪绒花3.WAV" descr=""/>
          <p:cNvPicPr/>
          <p:nvPr/>
        </p:nvPicPr>
        <p:blipFill>
          <a:blip r:embed="rId2"/>
          <a:stretch/>
        </p:blipFill>
        <p:spPr>
          <a:xfrm>
            <a:off x="-533520" y="380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xx"/>
          <p:cNvPicPr/>
          <p:nvPr/>
        </p:nvPicPr>
        <p:blipFill>
          <a:blip r:embed="rId1"/>
          <a:stretch/>
        </p:blipFill>
        <p:spPr>
          <a:xfrm>
            <a:off x="2881440" y="530280"/>
            <a:ext cx="6011640" cy="563544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sp>
        <p:nvSpPr>
          <p:cNvPr id="163" name="Rectangle 6"/>
          <p:cNvSpPr/>
          <p:nvPr/>
        </p:nvSpPr>
        <p:spPr>
          <a:xfrm>
            <a:off x="539640" y="649440"/>
            <a:ext cx="1600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成练习：  唱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舞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配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雪绒花（视频）.avi" descr=""/>
          <p:cNvPicPr/>
          <p:nvPr/>
        </p:nvPicPr>
        <p:blipFill>
          <a:blip r:embed="rId2"/>
          <a:stretch/>
        </p:blipFill>
        <p:spPr>
          <a:xfrm>
            <a:off x="228600" y="3716280"/>
            <a:ext cx="23875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孤独的牧羊人（视频）.avi" descr=""/>
          <p:cNvPicPr/>
          <p:nvPr/>
        </p:nvPicPr>
        <p:blipFill>
          <a:blip r:embed="rId1"/>
          <a:stretch/>
        </p:blipFill>
        <p:spPr>
          <a:xfrm>
            <a:off x="1981080" y="988920"/>
            <a:ext cx="5562720" cy="4337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762120" y="5335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51880" y="3429000"/>
            <a:ext cx="91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ahoma"/>
                <a:ea typeface="华文彩云"/>
              </a:rPr>
              <a:t>欣赏  点评   表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8198"/>
          <p:cNvSpPr/>
          <p:nvPr/>
        </p:nvSpPr>
        <p:spPr>
          <a:xfrm>
            <a:off x="147636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371600" y="380880"/>
            <a:ext cx="7696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体验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深情无限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雪绒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感受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欢乐有趣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哆来咪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欣赏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幽默风趣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孤独的牧羊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590920" y="7621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7360" y="4572000"/>
            <a:ext cx="76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彩云"/>
              </a:rPr>
              <a:t>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华文彩云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7" descr="音符1"/>
          <p:cNvPicPr/>
          <p:nvPr/>
        </p:nvPicPr>
        <p:blipFill>
          <a:blip r:embed="rId1"/>
          <a:stretch/>
        </p:blipFill>
        <p:spPr>
          <a:xfrm>
            <a:off x="4076640" y="5649840"/>
            <a:ext cx="1327320" cy="674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音符1"/>
          <p:cNvPicPr/>
          <p:nvPr/>
        </p:nvPicPr>
        <p:blipFill>
          <a:blip r:embed="rId2"/>
          <a:stretch/>
        </p:blipFill>
        <p:spPr>
          <a:xfrm>
            <a:off x="5372280" y="5638680"/>
            <a:ext cx="1326960" cy="674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音符1"/>
          <p:cNvPicPr/>
          <p:nvPr/>
        </p:nvPicPr>
        <p:blipFill>
          <a:blip r:embed="rId3"/>
          <a:stretch/>
        </p:blipFill>
        <p:spPr>
          <a:xfrm>
            <a:off x="2768760" y="5638680"/>
            <a:ext cx="1326960" cy="67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音符1"/>
          <p:cNvPicPr/>
          <p:nvPr/>
        </p:nvPicPr>
        <p:blipFill>
          <a:blip r:embed="rId4"/>
          <a:stretch/>
        </p:blipFill>
        <p:spPr>
          <a:xfrm>
            <a:off x="1447920" y="5638680"/>
            <a:ext cx="1326960" cy="674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音符1"/>
          <p:cNvPicPr/>
          <p:nvPr/>
        </p:nvPicPr>
        <p:blipFill>
          <a:blip r:embed="rId5"/>
          <a:stretch/>
        </p:blipFill>
        <p:spPr>
          <a:xfrm>
            <a:off x="6699240" y="5638680"/>
            <a:ext cx="13273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5CD-A3D6-4545-A6D1-E0C7813487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8"/>
          <p:cNvSpPr/>
          <p:nvPr/>
        </p:nvSpPr>
        <p:spPr>
          <a:xfrm>
            <a:off x="2819520" y="8380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学习二声部演唱应注意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514600" y="2438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ff6699"/>
                </a:solidFill>
                <a:latin typeface="隶书"/>
                <a:ea typeface="隶书"/>
              </a:rPr>
              <a:t>、 唱准各自声部的旋律</a:t>
            </a:r>
            <a:r>
              <a:rPr b="0" lang="en-US" sz="3600" spc="-1" strike="noStrike">
                <a:solidFill>
                  <a:srgbClr val="ff66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5053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6699"/>
                </a:solidFill>
                <a:latin typeface="隶书"/>
                <a:ea typeface="隶书"/>
              </a:rPr>
              <a:t>、 各声部注意相互配合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6699"/>
                </a:solidFill>
                <a:latin typeface="隶书"/>
                <a:ea typeface="隶书"/>
              </a:rPr>
              <a:t>声音和谐统一</a:t>
            </a:r>
            <a:r>
              <a:rPr b="0" lang="en-US" sz="3600" spc="-1" strike="noStrike">
                <a:solidFill>
                  <a:srgbClr val="ff6699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380880" y="609480"/>
            <a:ext cx="198144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latin typeface="华文彩云"/>
              </a:rPr>
              <a:t>别忘了哦！</a:t>
            </a:r>
            <a:endParaRPr b="0" lang="en-US" sz="2000" spc="1" strike="noStrike">
              <a:ln w="9360">
                <a:solidFill>
                  <a:srgbClr val="ff0000"/>
                </a:solidFill>
                <a:round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pic>
        <p:nvPicPr>
          <p:cNvPr id="185" name="Picture 12" descr="鸭子"/>
          <p:cNvPicPr/>
          <p:nvPr/>
        </p:nvPicPr>
        <p:blipFill>
          <a:blip r:embed="rId1"/>
          <a:stretch/>
        </p:blipFill>
        <p:spPr>
          <a:xfrm>
            <a:off x="838080" y="4079880"/>
            <a:ext cx="11210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6"/>
          <p:cNvSpPr/>
          <p:nvPr/>
        </p:nvSpPr>
        <p:spPr>
          <a:xfrm>
            <a:off x="685800" y="144792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雪绒花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音乐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之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里一首脍炙人口的歌曲，作曲家李查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罗杰斯和剧作家奥斯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哈默斯坦第二于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59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合作完成。演出后深受观众欢迎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96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改编成同名电影，同年，该影片获奥斯卡金像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音乐之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的插曲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哆来咪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孤独的牧羊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雪绒花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十分著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雪绒花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以优美抒情的旋律，甜美和谐的歌声，诗一般的语言表达了作者对大自然的热爱和对美好生活的向往，抒发了对祖国的热爱之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027"/>
          <p:cNvSpPr/>
          <p:nvPr/>
        </p:nvSpPr>
        <p:spPr>
          <a:xfrm>
            <a:off x="3285360" y="533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雪绒花简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无标题 005.wav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3419640" y="1125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xx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雪绒花3.WAV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演唱者演唱整首歌曲运用了哪几种演唱形式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0" y="1239840"/>
            <a:ext cx="144792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381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想一想</a:t>
            </a:r>
            <a:endParaRPr b="1" lang="en-US" sz="2000" spc="1" strike="noStrike">
              <a:ln w="381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971800" y="5335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演唱者演唱整首歌曲运用如下演唱形式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380880" y="228600"/>
            <a:ext cx="22860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ff3399"/>
                  </a:solidFill>
                  <a:round/>
                </a:ln>
                <a:solidFill>
                  <a:srgbClr val="ff66cc"/>
                </a:solidFill>
                <a:latin typeface="华文彩云"/>
              </a:rPr>
              <a:t>哦！原来是这样！</a:t>
            </a:r>
            <a:endParaRPr b="0" lang="en-US" sz="2000" spc="1" strike="noStrike">
              <a:ln w="9360">
                <a:solidFill>
                  <a:srgbClr val="ff3399"/>
                </a:solidFill>
                <a:round/>
              </a:ln>
              <a:solidFill>
                <a:srgbClr val="ff66cc"/>
              </a:solidFill>
              <a:latin typeface="华文彩云"/>
              <a:ea typeface="华文彩云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57600" y="2971800"/>
            <a:ext cx="4114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Tahoma"/>
                <a:ea typeface="隶书"/>
              </a:rPr>
              <a:t>独唱     重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Tahoma"/>
                <a:ea typeface="隶书"/>
              </a:rPr>
              <a:t>齐唱     合唱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11" descr="音符"/>
          <p:cNvPicPr/>
          <p:nvPr/>
        </p:nvPicPr>
        <p:blipFill>
          <a:blip r:embed="rId1"/>
          <a:stretch/>
        </p:blipFill>
        <p:spPr>
          <a:xfrm>
            <a:off x="609480" y="3733920"/>
            <a:ext cx="15145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1027"/>
          <p:cNvSpPr txBox="1"/>
          <p:nvPr/>
        </p:nvSpPr>
        <p:spPr>
          <a:xfrm>
            <a:off x="380880" y="228600"/>
            <a:ext cx="22860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507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华文彩云"/>
              </a:rPr>
              <a:t>再想一想？</a:t>
            </a:r>
            <a:endParaRPr b="0" lang="en-US" sz="2000" spc="1" strike="noStrike">
              <a:ln w="507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华文彩云"/>
              <a:ea typeface="华文彩云"/>
            </a:endParaRPr>
          </a:p>
        </p:txBody>
      </p:sp>
      <p:sp>
        <p:nvSpPr>
          <p:cNvPr id="135" name="Text Box 1029"/>
          <p:cNvSpPr/>
          <p:nvPr/>
        </p:nvSpPr>
        <p:spPr>
          <a:xfrm>
            <a:off x="2971800" y="6858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隶书"/>
              </a:rPr>
              <a:t>重唱与合唱有什么相同和不同之处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031"/>
          <p:cNvSpPr/>
          <p:nvPr/>
        </p:nvSpPr>
        <p:spPr>
          <a:xfrm>
            <a:off x="304812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同点：每个声部由一位演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者演唱的形式是重唱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每个声部由一组演唱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者演唱的形式是合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1033" descr="男孩"/>
          <p:cNvPicPr/>
          <p:nvPr/>
        </p:nvPicPr>
        <p:blipFill>
          <a:blip r:embed="rId1"/>
          <a:stretch/>
        </p:blipFill>
        <p:spPr>
          <a:xfrm>
            <a:off x="457200" y="3352680"/>
            <a:ext cx="1523880" cy="2438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34"/>
          <p:cNvSpPr/>
          <p:nvPr/>
        </p:nvSpPr>
        <p:spPr>
          <a:xfrm>
            <a:off x="2971800" y="2925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相同点：都是演唱多声部歌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2" descr="1"/>
          <p:cNvPicPr/>
          <p:nvPr/>
        </p:nvPicPr>
        <p:blipFill>
          <a:blip r:embed="rId1"/>
          <a:stretch/>
        </p:blipFill>
        <p:spPr>
          <a:xfrm>
            <a:off x="990720" y="533520"/>
            <a:ext cx="8153280" cy="6159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33200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哆 来 咪 .WAV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3048120" y="3049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隶书"/>
              </a:rPr>
              <a:t>哆 来 咪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895480" y="12952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音乐剧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音乐之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选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340080" y="5564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241880" y="5576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0040" y="4114800"/>
            <a:ext cx="91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ahoma"/>
                <a:ea typeface="华文彩云"/>
              </a:rPr>
              <a:t>二声部音阶练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雪绒花（视频）.avi" descr=""/>
          <p:cNvPicPr/>
          <p:nvPr/>
        </p:nvPicPr>
        <p:blipFill>
          <a:blip r:embed="rId1"/>
          <a:stretch/>
        </p:blipFill>
        <p:spPr>
          <a:xfrm>
            <a:off x="2133720" y="1343160"/>
            <a:ext cx="5257800" cy="4303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1141560" y="22860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89040" y="2362320"/>
            <a:ext cx="546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跟唱、并感受</a:t>
            </a:r>
            <a:r>
              <a:rPr b="0" lang="en-US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〈 </a:t>
            </a:r>
            <a:r>
              <a:rPr b="0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雪绒花 </a:t>
            </a:r>
            <a:r>
              <a:rPr b="0" lang="en-US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〉</a:t>
            </a:r>
            <a:r>
              <a:rPr b="0" lang="zh-CN" sz="2400" spc="-1" strike="noStrike">
                <a:solidFill>
                  <a:srgbClr val="ff3399"/>
                </a:solidFill>
                <a:latin typeface="华文彩云"/>
                <a:ea typeface="华文彩云"/>
              </a:rPr>
              <a:t>的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文本框 8198"/>
          <p:cNvSpPr/>
          <p:nvPr/>
        </p:nvSpPr>
        <p:spPr>
          <a:xfrm>
            <a:off x="1403280" y="692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5" descr="xx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伴奏.WAV" descr=""/>
          <p:cNvPicPr/>
          <p:nvPr/>
        </p:nvPicPr>
        <p:blipFill>
          <a:blip r:embed="rId2"/>
          <a:stretch/>
        </p:blipFill>
        <p:spPr>
          <a:xfrm>
            <a:off x="22096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7"/>
          <p:cNvSpPr/>
          <p:nvPr/>
        </p:nvSpPr>
        <p:spPr>
          <a:xfrm>
            <a:off x="609480" y="404172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Arial"/>
                <a:ea typeface="华文彩云"/>
              </a:rPr>
              <a:t>跟着旋律演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13"/>
          <p:cNvSpPr/>
          <p:nvPr/>
        </p:nvSpPr>
        <p:spPr>
          <a:xfrm>
            <a:off x="7086600" y="380880"/>
            <a:ext cx="1371600" cy="1371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隶书"/>
              </a:rPr>
              <a:t>低声部学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5" descr="二声部"/>
          <p:cNvPicPr/>
          <p:nvPr/>
        </p:nvPicPr>
        <p:blipFill>
          <a:blip r:embed="rId1"/>
          <a:stretch/>
        </p:blipFill>
        <p:spPr>
          <a:xfrm>
            <a:off x="1143000" y="533520"/>
            <a:ext cx="8001000" cy="5790960"/>
          </a:xfrm>
          <a:prstGeom prst="rect">
            <a:avLst/>
          </a:prstGeom>
          <a:ln w="0">
            <a:noFill/>
          </a:ln>
        </p:spPr>
      </p:pic>
      <p:pic>
        <p:nvPicPr>
          <p:cNvPr id="156" name="低声部伴奏.WAV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1371600" y="2768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雪   绒  花，       雪    绒 花，      每   天   清晨欢 迎        我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371600" y="3683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   而  白，       纯   又 美，      总   很   高    兴 见        我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422360" y="464832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雪似的  花朵深  情   开  放，      愿   永  远   鲜   艳   芬  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447920" y="55627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雪   绒  花，     雪    绒 花，       为   我  祖国祝 福          吧 </a:t>
            </a:r>
            <a:r>
              <a:rPr b="0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!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154800" y="4114800"/>
            <a:ext cx="91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ahoma"/>
                <a:ea typeface="华文彩云"/>
              </a:rPr>
              <a:t>学唱二声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5:56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6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