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3.png" ContentType="image/png"/>
  <Override PartName="/ppt/media/image30.gif" ContentType="image/gif"/>
  <Override PartName="/ppt/media/image21.jpeg" ContentType="image/jpeg"/>
  <Override PartName="/ppt/media/chimes.wav" ContentType="audio/x-wav"/>
  <Override PartName="/ppt/media/image29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type.wav" ContentType="audio/x-wav"/>
  <Override PartName="/ppt/media/image6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28.wmf" ContentType="image/x-wmf"/>
  <Override PartName="/ppt/media/image37.jpeg" ContentType="image/jpeg"/>
  <Override PartName="/ppt/media/image27.png" ContentType="image/png"/>
  <Override PartName="/ppt/media/image4.png" ContentType="image/png"/>
  <Override PartName="/ppt/media/image34.png" ContentType="image/png"/>
  <Override PartName="/ppt/media/image33.png" ContentType="image/png"/>
  <Override PartName="/ppt/media/image52.jpeg" ContentType="image/jpeg"/>
  <Override PartName="/ppt/media/image40.jpeg" ContentType="image/jpeg"/>
  <Override PartName="/ppt/media/image44.png" ContentType="image/png"/>
  <Override PartName="/ppt/media/image45.jpeg" ContentType="image/jpeg"/>
  <Override PartName="/ppt/media/image42.png" ContentType="image/png"/>
  <Override PartName="/ppt/media/image46.png" ContentType="image/png"/>
  <Override PartName="/ppt/media/camera.wav" ContentType="audio/x-wav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32.jpeg" ContentType="image/jpeg"/>
  <Override PartName="/ppt/media/image51.png" ContentType="image/png"/>
  <Override PartName="/ppt/media/image41.png" ContentType="image/png"/>
  <Override PartName="/ppt/media/image53.jpeg" ContentType="image/jpeg"/>
  <Override PartName="/ppt/media/image31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9.png" ContentType="image/png"/>
  <Override PartName="/ppt/media/cashreg.wav" ContentType="audio/x-wav"/>
  <Override PartName="/ppt/media/image39.png" ContentType="image/png"/>
  <Override PartName="/ppt/media/image22.jpeg" ContentType="image/jpeg"/>
  <Override PartName="/ppt/media/image8.png" ContentType="image/png"/>
  <Override PartName="/ppt/media/image38.png" ContentType="image/png"/>
  <Override PartName="/ppt/media/image47.png" ContentType="image/png"/>
  <Override PartName="/ppt/media/image1.jpeg" ContentType="image/jpe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1F3-8DC5-42E4-A725-019548CA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2D82-5457-48F2-899C-A712E405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D238-59A1-403A-B94A-7A645C74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DEE1-2E74-41DD-AB67-A73376B1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EACB-C2CC-4847-A1D1-60C12041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3224-822F-412E-A79D-00A67044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065C-96BA-407B-88C3-36CA4145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299E-3F5E-487C-88B2-08ABE152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246D-6880-461F-9FF3-5D6040FB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E562-A823-42C2-B0BB-A9AE777D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76C5-856B-46B8-A2DD-8347BB88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CD36-47BE-435F-B499-E7C26B41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EDD4-1F29-4F35-88E7-D04C486E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0311-A25A-464E-B0D3-788EA634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C5E6-C9A0-47DB-AA37-141D239B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F08B-5C4F-4530-B2F2-4DE897F7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83F4-1478-4C13-9FE9-6B9707FB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EEC23-2CB1-4CB2-825F-2A97D368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83FDB-4F88-48D2-9A85-AE0765F6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EA308-C32B-4043-998B-843E3E30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20CF7-C229-46C6-8CFE-033E7E83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94DFD-4331-4E70-838F-0BAFB220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22E5-DB1D-4E19-9686-2A12572E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AEF8D-28E1-4672-9DDD-70377DB0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2AD40-FF16-43A3-9720-80C43689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79609-0930-4C1D-974E-A1490470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5A8BD-D105-449C-A1BE-A4C07727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1E4D3-FF04-495F-800A-B7D946C3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D6C54-9501-4A3A-BBD1-7EC0B4FD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8710D-8188-4938-BC82-304294A1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837D-7963-4AEA-A267-2C62B52E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47BA-848D-4F72-BF30-0BEB8B4E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6B97-B93D-46CB-B4ED-137FAE6C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CCBF-9E5D-491F-B5B7-FF3EB13D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FD92-E42F-4A64-AA77-325EAABE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E871-ED59-4D0F-86AF-DA32614B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60AD-3025-4482-9ECE-B055F6C171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D608-1FC8-4C97-A2D1-E92C47F7117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E9F1-2349-48A0-8F8E-F1014CC2985E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faluna.cn/class.asp?LarCode=&#20799;&#31461;&#37197;&#39280;&amp;MidCode=&#21253;&#21253;&#31995;&#21015;" TargetMode="External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4" descr=""/>
          <p:cNvPicPr/>
          <p:nvPr/>
        </p:nvPicPr>
        <p:blipFill>
          <a:blip r:embed="rId1"/>
          <a:stretch/>
        </p:blipFill>
        <p:spPr>
          <a:xfrm>
            <a:off x="609480" y="3011400"/>
            <a:ext cx="3581640" cy="2594160"/>
          </a:xfrm>
          <a:prstGeom prst="rect">
            <a:avLst/>
          </a:prstGeom>
          <a:ln w="0">
            <a:noFill/>
          </a:ln>
        </p:spPr>
      </p:pic>
      <p:pic>
        <p:nvPicPr>
          <p:cNvPr id="124" name="矩形 5" descr=""/>
          <p:cNvPicPr/>
          <p:nvPr/>
        </p:nvPicPr>
        <p:blipFill>
          <a:blip r:embed="rId2"/>
          <a:stretch/>
        </p:blipFill>
        <p:spPr>
          <a:xfrm>
            <a:off x="2154240" y="609480"/>
            <a:ext cx="6303960" cy="70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6" descr=""/>
          <p:cNvPicPr/>
          <p:nvPr/>
        </p:nvPicPr>
        <p:blipFill>
          <a:blip r:embed="rId3"/>
          <a:stretch/>
        </p:blipFill>
        <p:spPr>
          <a:xfrm>
            <a:off x="3962520" y="2389320"/>
            <a:ext cx="3841560" cy="321624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304920" y="1600200"/>
            <a:ext cx="883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压力可以由重力产生，也可以由其他力产生。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38" name="Group 87"/>
          <p:cNvGrpSpPr/>
          <p:nvPr/>
        </p:nvGrpSpPr>
        <p:grpSpPr>
          <a:xfrm>
            <a:off x="1752480" y="3124080"/>
            <a:ext cx="1504800" cy="1231920"/>
            <a:chOff x="1752480" y="3124080"/>
            <a:chExt cx="1504800" cy="1231920"/>
          </a:xfrm>
        </p:grpSpPr>
        <p:sp>
          <p:nvSpPr>
            <p:cNvPr id="239" name="Text Box 7"/>
            <p:cNvSpPr/>
            <p:nvPr/>
          </p:nvSpPr>
          <p:spPr>
            <a:xfrm>
              <a:off x="2133720" y="3720960"/>
              <a:ext cx="5443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0" name="Rectangle 8"/>
            <p:cNvSpPr/>
            <p:nvPr/>
          </p:nvSpPr>
          <p:spPr>
            <a:xfrm>
              <a:off x="2114640" y="3124080"/>
              <a:ext cx="615960" cy="606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41" name="Group 9"/>
            <p:cNvGrpSpPr/>
            <p:nvPr/>
          </p:nvGrpSpPr>
          <p:grpSpPr>
            <a:xfrm>
              <a:off x="1752480" y="3684240"/>
              <a:ext cx="1504800" cy="93600"/>
              <a:chOff x="1752480" y="3684240"/>
              <a:chExt cx="1504800" cy="9360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1752480" y="3689640"/>
                <a:ext cx="134640" cy="88200"/>
                <a:chOff x="1752480" y="3689640"/>
                <a:chExt cx="134640" cy="88200"/>
              </a:xfrm>
            </p:grpSpPr>
            <p:sp>
              <p:nvSpPr>
                <p:cNvPr id="243" name="Line 10"/>
                <p:cNvSpPr/>
                <p:nvPr/>
              </p:nvSpPr>
              <p:spPr>
                <a:xfrm flipH="1">
                  <a:off x="1752480" y="3689640"/>
                  <a:ext cx="134640" cy="8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 txBox="1"/>
                <p:nvPr/>
              </p:nvSpPr>
              <p:spPr>
                <a:xfrm>
                  <a:off x="1752480" y="3689640"/>
                  <a:ext cx="134640" cy="8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400" bIns="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1887120" y="3689640"/>
                <a:ext cx="136080" cy="88200"/>
                <a:chOff x="1887120" y="3689640"/>
                <a:chExt cx="136080" cy="88200"/>
              </a:xfrm>
            </p:grpSpPr>
            <p:sp>
              <p:nvSpPr>
                <p:cNvPr id="246" name="Line 11"/>
                <p:cNvSpPr/>
                <p:nvPr/>
              </p:nvSpPr>
              <p:spPr>
                <a:xfrm flipH="1">
                  <a:off x="1887120" y="3689640"/>
                  <a:ext cx="136080" cy="8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 txBox="1"/>
                <p:nvPr/>
              </p:nvSpPr>
              <p:spPr>
                <a:xfrm>
                  <a:off x="1887120" y="3689640"/>
                  <a:ext cx="136080" cy="8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400" bIns="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2023560" y="3689640"/>
                <a:ext cx="134640" cy="88200"/>
                <a:chOff x="2023560" y="3689640"/>
                <a:chExt cx="134640" cy="88200"/>
              </a:xfrm>
            </p:grpSpPr>
            <p:sp>
              <p:nvSpPr>
                <p:cNvPr id="249" name="Line 12"/>
                <p:cNvSpPr/>
                <p:nvPr/>
              </p:nvSpPr>
              <p:spPr>
                <a:xfrm flipH="1">
                  <a:off x="2023560" y="3689640"/>
                  <a:ext cx="134640" cy="8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 txBox="1"/>
                <p:nvPr/>
              </p:nvSpPr>
              <p:spPr>
                <a:xfrm>
                  <a:off x="2023560" y="3689640"/>
                  <a:ext cx="134640" cy="8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400" bIns="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158560" y="3689640"/>
                <a:ext cx="134640" cy="88200"/>
                <a:chOff x="2158560" y="3689640"/>
                <a:chExt cx="134640" cy="88200"/>
              </a:xfrm>
            </p:grpSpPr>
            <p:sp>
              <p:nvSpPr>
                <p:cNvPr id="252" name="Line 13"/>
                <p:cNvSpPr/>
                <p:nvPr/>
              </p:nvSpPr>
              <p:spPr>
                <a:xfrm flipH="1">
                  <a:off x="2158560" y="3689640"/>
                  <a:ext cx="134640" cy="8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 txBox="1"/>
                <p:nvPr/>
              </p:nvSpPr>
              <p:spPr>
                <a:xfrm>
                  <a:off x="2158560" y="3689640"/>
                  <a:ext cx="134640" cy="8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400" bIns="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2293560" y="3689640"/>
                <a:ext cx="134640" cy="88200"/>
                <a:chOff x="2293560" y="3689640"/>
                <a:chExt cx="134640" cy="88200"/>
              </a:xfrm>
            </p:grpSpPr>
            <p:sp>
              <p:nvSpPr>
                <p:cNvPr id="255" name="Line 14"/>
                <p:cNvSpPr/>
                <p:nvPr/>
              </p:nvSpPr>
              <p:spPr>
                <a:xfrm flipH="1">
                  <a:off x="2293560" y="3689640"/>
                  <a:ext cx="134640" cy="8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 txBox="1"/>
                <p:nvPr/>
              </p:nvSpPr>
              <p:spPr>
                <a:xfrm>
                  <a:off x="2293560" y="3689640"/>
                  <a:ext cx="134640" cy="8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400" bIns="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428560" y="3689640"/>
                <a:ext cx="136080" cy="88200"/>
                <a:chOff x="2428560" y="3689640"/>
                <a:chExt cx="136080" cy="88200"/>
              </a:xfrm>
            </p:grpSpPr>
            <p:sp>
              <p:nvSpPr>
                <p:cNvPr id="258" name="Line 15"/>
                <p:cNvSpPr/>
                <p:nvPr/>
              </p:nvSpPr>
              <p:spPr>
                <a:xfrm flipH="1">
                  <a:off x="2428560" y="3689640"/>
                  <a:ext cx="136080" cy="8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 txBox="1"/>
                <p:nvPr/>
              </p:nvSpPr>
              <p:spPr>
                <a:xfrm>
                  <a:off x="2428560" y="3689640"/>
                  <a:ext cx="136080" cy="8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400" bIns="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564640" y="3689640"/>
                <a:ext cx="134640" cy="88200"/>
                <a:chOff x="2564640" y="3689640"/>
                <a:chExt cx="134640" cy="88200"/>
              </a:xfrm>
            </p:grpSpPr>
            <p:sp>
              <p:nvSpPr>
                <p:cNvPr id="261" name="Line 16"/>
                <p:cNvSpPr/>
                <p:nvPr/>
              </p:nvSpPr>
              <p:spPr>
                <a:xfrm flipH="1">
                  <a:off x="2564640" y="3689640"/>
                  <a:ext cx="134640" cy="8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 txBox="1"/>
                <p:nvPr/>
              </p:nvSpPr>
              <p:spPr>
                <a:xfrm>
                  <a:off x="2564640" y="3689640"/>
                  <a:ext cx="134640" cy="8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400" bIns="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699640" y="3689640"/>
                <a:ext cx="134640" cy="88200"/>
                <a:chOff x="2699640" y="3689640"/>
                <a:chExt cx="134640" cy="88200"/>
              </a:xfrm>
            </p:grpSpPr>
            <p:sp>
              <p:nvSpPr>
                <p:cNvPr id="264" name="Line 17"/>
                <p:cNvSpPr/>
                <p:nvPr/>
              </p:nvSpPr>
              <p:spPr>
                <a:xfrm flipH="1">
                  <a:off x="2699640" y="3689640"/>
                  <a:ext cx="134640" cy="8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 txBox="1"/>
                <p:nvPr/>
              </p:nvSpPr>
              <p:spPr>
                <a:xfrm>
                  <a:off x="2699640" y="3689640"/>
                  <a:ext cx="134640" cy="8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400" bIns="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2834640" y="3689640"/>
                <a:ext cx="134640" cy="88200"/>
                <a:chOff x="2834640" y="3689640"/>
                <a:chExt cx="134640" cy="88200"/>
              </a:xfrm>
            </p:grpSpPr>
            <p:sp>
              <p:nvSpPr>
                <p:cNvPr id="267" name="Line 18"/>
                <p:cNvSpPr/>
                <p:nvPr/>
              </p:nvSpPr>
              <p:spPr>
                <a:xfrm flipH="1">
                  <a:off x="2834640" y="3689640"/>
                  <a:ext cx="134640" cy="8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 txBox="1"/>
                <p:nvPr/>
              </p:nvSpPr>
              <p:spPr>
                <a:xfrm>
                  <a:off x="2834640" y="3689640"/>
                  <a:ext cx="134640" cy="8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400" bIns="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69640" y="3689640"/>
                <a:ext cx="136080" cy="88200"/>
                <a:chOff x="2969640" y="3689640"/>
                <a:chExt cx="136080" cy="88200"/>
              </a:xfrm>
            </p:grpSpPr>
            <p:sp>
              <p:nvSpPr>
                <p:cNvPr id="270" name="Line 19"/>
                <p:cNvSpPr/>
                <p:nvPr/>
              </p:nvSpPr>
              <p:spPr>
                <a:xfrm flipH="1">
                  <a:off x="2969640" y="3689640"/>
                  <a:ext cx="136080" cy="8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 txBox="1"/>
                <p:nvPr/>
              </p:nvSpPr>
              <p:spPr>
                <a:xfrm>
                  <a:off x="2969640" y="3689640"/>
                  <a:ext cx="136080" cy="8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400" bIns="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3105720" y="3689640"/>
                <a:ext cx="134640" cy="88200"/>
                <a:chOff x="3105720" y="3689640"/>
                <a:chExt cx="134640" cy="88200"/>
              </a:xfrm>
            </p:grpSpPr>
            <p:sp>
              <p:nvSpPr>
                <p:cNvPr id="273" name="Line 20"/>
                <p:cNvSpPr/>
                <p:nvPr/>
              </p:nvSpPr>
              <p:spPr>
                <a:xfrm flipH="1">
                  <a:off x="3105720" y="3689640"/>
                  <a:ext cx="134640" cy="8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 txBox="1"/>
                <p:nvPr/>
              </p:nvSpPr>
              <p:spPr>
                <a:xfrm>
                  <a:off x="3105720" y="3689640"/>
                  <a:ext cx="134640" cy="8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400" bIns="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778040" y="3684240"/>
                <a:ext cx="1479240" cy="360"/>
                <a:chOff x="1778040" y="3684240"/>
                <a:chExt cx="1479240" cy="360"/>
              </a:xfrm>
            </p:grpSpPr>
            <p:sp>
              <p:nvSpPr>
                <p:cNvPr id="276" name="Line 21"/>
                <p:cNvSpPr/>
                <p:nvPr/>
              </p:nvSpPr>
              <p:spPr>
                <a:xfrm>
                  <a:off x="1778040" y="3684240"/>
                  <a:ext cx="1479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 txBox="1"/>
                <p:nvPr/>
              </p:nvSpPr>
              <p:spPr>
                <a:xfrm>
                  <a:off x="1778040" y="3684240"/>
                  <a:ext cx="1479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8" name="Group 88"/>
          <p:cNvGrpSpPr/>
          <p:nvPr/>
        </p:nvGrpSpPr>
        <p:grpSpPr>
          <a:xfrm>
            <a:off x="5410080" y="2514600"/>
            <a:ext cx="2197080" cy="2550240"/>
            <a:chOff x="5410080" y="2514600"/>
            <a:chExt cx="2197080" cy="2550240"/>
          </a:xfrm>
        </p:grpSpPr>
        <p:grpSp>
          <p:nvGrpSpPr>
            <p:cNvPr id="279" name="Group 36"/>
            <p:cNvGrpSpPr/>
            <p:nvPr/>
          </p:nvGrpSpPr>
          <p:grpSpPr>
            <a:xfrm>
              <a:off x="5677560" y="2939400"/>
              <a:ext cx="108360" cy="1668960"/>
              <a:chOff x="5677560" y="2939400"/>
              <a:chExt cx="108360" cy="1668960"/>
            </a:xfrm>
          </p:grpSpPr>
          <p:grpSp>
            <p:nvGrpSpPr>
              <p:cNvPr id="280" name=""/>
              <p:cNvGrpSpPr/>
              <p:nvPr/>
            </p:nvGrpSpPr>
            <p:grpSpPr>
              <a:xfrm>
                <a:off x="5677560" y="2939400"/>
                <a:ext cx="79920" cy="150480"/>
                <a:chOff x="5677560" y="2939400"/>
                <a:chExt cx="79920" cy="150480"/>
              </a:xfrm>
            </p:grpSpPr>
            <p:sp>
              <p:nvSpPr>
                <p:cNvPr id="281" name="Line 37"/>
                <p:cNvSpPr/>
                <p:nvPr/>
              </p:nvSpPr>
              <p:spPr>
                <a:xfrm flipH="1" flipV="1">
                  <a:off x="5677560" y="2940120"/>
                  <a:ext cx="79920" cy="148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 txBox="1"/>
                <p:nvPr/>
              </p:nvSpPr>
              <p:spPr>
                <a:xfrm rot="5347200">
                  <a:off x="5642640" y="2975760"/>
                  <a:ext cx="149400" cy="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0600" bIns="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680080" y="3088800"/>
                <a:ext cx="79560" cy="151920"/>
                <a:chOff x="5680080" y="3088800"/>
                <a:chExt cx="79560" cy="151920"/>
              </a:xfrm>
            </p:grpSpPr>
            <p:sp>
              <p:nvSpPr>
                <p:cNvPr id="284" name="Line 38"/>
                <p:cNvSpPr/>
                <p:nvPr/>
              </p:nvSpPr>
              <p:spPr>
                <a:xfrm flipH="1" flipV="1">
                  <a:off x="5680080" y="3089520"/>
                  <a:ext cx="79560" cy="149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 txBox="1"/>
                <p:nvPr/>
              </p:nvSpPr>
              <p:spPr>
                <a:xfrm rot="5347200">
                  <a:off x="5644440" y="3125880"/>
                  <a:ext cx="150840" cy="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0600" bIns="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5682240" y="3240000"/>
                <a:ext cx="79920" cy="150480"/>
                <a:chOff x="5682240" y="3240000"/>
                <a:chExt cx="79920" cy="150480"/>
              </a:xfrm>
            </p:grpSpPr>
            <p:sp>
              <p:nvSpPr>
                <p:cNvPr id="287" name="Line 39"/>
                <p:cNvSpPr/>
                <p:nvPr/>
              </p:nvSpPr>
              <p:spPr>
                <a:xfrm flipH="1" flipV="1">
                  <a:off x="5682240" y="3240720"/>
                  <a:ext cx="79920" cy="148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 txBox="1"/>
                <p:nvPr/>
              </p:nvSpPr>
              <p:spPr>
                <a:xfrm rot="5347200">
                  <a:off x="5647320" y="3276360"/>
                  <a:ext cx="149400" cy="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0600" bIns="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5684760" y="3389760"/>
                <a:ext cx="79560" cy="150480"/>
                <a:chOff x="5684760" y="3389760"/>
                <a:chExt cx="79560" cy="150480"/>
              </a:xfrm>
            </p:grpSpPr>
            <p:sp>
              <p:nvSpPr>
                <p:cNvPr id="290" name="Line 40"/>
                <p:cNvSpPr/>
                <p:nvPr/>
              </p:nvSpPr>
              <p:spPr>
                <a:xfrm flipH="1" flipV="1">
                  <a:off x="5684760" y="3390480"/>
                  <a:ext cx="79560" cy="148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 txBox="1"/>
                <p:nvPr/>
              </p:nvSpPr>
              <p:spPr>
                <a:xfrm rot="5347200">
                  <a:off x="5649840" y="3426120"/>
                  <a:ext cx="149400" cy="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0600" bIns="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686920" y="3539520"/>
                <a:ext cx="79560" cy="150480"/>
                <a:chOff x="5686920" y="3539520"/>
                <a:chExt cx="79560" cy="150480"/>
              </a:xfrm>
            </p:grpSpPr>
            <p:sp>
              <p:nvSpPr>
                <p:cNvPr id="293" name="Line 41"/>
                <p:cNvSpPr/>
                <p:nvPr/>
              </p:nvSpPr>
              <p:spPr>
                <a:xfrm flipH="1" flipV="1">
                  <a:off x="5686920" y="3540240"/>
                  <a:ext cx="79560" cy="147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 txBox="1"/>
                <p:nvPr/>
              </p:nvSpPr>
              <p:spPr>
                <a:xfrm rot="5347200">
                  <a:off x="5652000" y="3575880"/>
                  <a:ext cx="149400" cy="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0600" bIns="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5689080" y="3688920"/>
                <a:ext cx="79920" cy="151920"/>
                <a:chOff x="5689080" y="3688920"/>
                <a:chExt cx="79920" cy="151920"/>
              </a:xfrm>
            </p:grpSpPr>
            <p:sp>
              <p:nvSpPr>
                <p:cNvPr id="296" name="Line 42"/>
                <p:cNvSpPr/>
                <p:nvPr/>
              </p:nvSpPr>
              <p:spPr>
                <a:xfrm flipH="1" flipV="1">
                  <a:off x="5689080" y="3690000"/>
                  <a:ext cx="79920" cy="14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 txBox="1"/>
                <p:nvPr/>
              </p:nvSpPr>
              <p:spPr>
                <a:xfrm rot="5347200">
                  <a:off x="5653440" y="3726000"/>
                  <a:ext cx="150840" cy="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0600" bIns="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5691600" y="3840120"/>
                <a:ext cx="79560" cy="150480"/>
                <a:chOff x="5691600" y="3840120"/>
                <a:chExt cx="79560" cy="150480"/>
              </a:xfrm>
            </p:grpSpPr>
            <p:sp>
              <p:nvSpPr>
                <p:cNvPr id="299" name="Line 43"/>
                <p:cNvSpPr/>
                <p:nvPr/>
              </p:nvSpPr>
              <p:spPr>
                <a:xfrm flipH="1" flipV="1">
                  <a:off x="5691600" y="3841200"/>
                  <a:ext cx="79560" cy="147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 txBox="1"/>
                <p:nvPr/>
              </p:nvSpPr>
              <p:spPr>
                <a:xfrm rot="5347200">
                  <a:off x="5656680" y="3876480"/>
                  <a:ext cx="149400" cy="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0600" bIns="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693760" y="3989520"/>
                <a:ext cx="79920" cy="150480"/>
                <a:chOff x="5693760" y="3989520"/>
                <a:chExt cx="79920" cy="150480"/>
              </a:xfrm>
            </p:grpSpPr>
            <p:sp>
              <p:nvSpPr>
                <p:cNvPr id="302" name="Line 44"/>
                <p:cNvSpPr/>
                <p:nvPr/>
              </p:nvSpPr>
              <p:spPr>
                <a:xfrm flipH="1" flipV="1">
                  <a:off x="5693760" y="3990600"/>
                  <a:ext cx="79920" cy="147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 txBox="1"/>
                <p:nvPr/>
              </p:nvSpPr>
              <p:spPr>
                <a:xfrm rot="5347200">
                  <a:off x="5658840" y="4025880"/>
                  <a:ext cx="149400" cy="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0600" bIns="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5696280" y="4139280"/>
                <a:ext cx="79560" cy="150480"/>
                <a:chOff x="5696280" y="4139280"/>
                <a:chExt cx="79560" cy="150480"/>
              </a:xfrm>
            </p:grpSpPr>
            <p:sp>
              <p:nvSpPr>
                <p:cNvPr id="305" name="Line 45"/>
                <p:cNvSpPr/>
                <p:nvPr/>
              </p:nvSpPr>
              <p:spPr>
                <a:xfrm flipH="1" flipV="1">
                  <a:off x="5696280" y="4140360"/>
                  <a:ext cx="79560" cy="147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 txBox="1"/>
                <p:nvPr/>
              </p:nvSpPr>
              <p:spPr>
                <a:xfrm rot="5347200">
                  <a:off x="5661360" y="4175640"/>
                  <a:ext cx="149400" cy="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0600" bIns="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5698440" y="4289040"/>
                <a:ext cx="79560" cy="151920"/>
                <a:chOff x="5698440" y="4289040"/>
                <a:chExt cx="79560" cy="151920"/>
              </a:xfrm>
            </p:grpSpPr>
            <p:sp>
              <p:nvSpPr>
                <p:cNvPr id="308" name="Line 46"/>
                <p:cNvSpPr/>
                <p:nvPr/>
              </p:nvSpPr>
              <p:spPr>
                <a:xfrm flipH="1" flipV="1">
                  <a:off x="5698440" y="4290120"/>
                  <a:ext cx="79560" cy="14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 txBox="1"/>
                <p:nvPr/>
              </p:nvSpPr>
              <p:spPr>
                <a:xfrm rot="5347200">
                  <a:off x="5662800" y="4326120"/>
                  <a:ext cx="150840" cy="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0600" bIns="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5700600" y="4440240"/>
                <a:ext cx="79920" cy="150480"/>
                <a:chOff x="5700600" y="4440240"/>
                <a:chExt cx="79920" cy="150480"/>
              </a:xfrm>
            </p:grpSpPr>
            <p:sp>
              <p:nvSpPr>
                <p:cNvPr id="311" name="Line 47"/>
                <p:cNvSpPr/>
                <p:nvPr/>
              </p:nvSpPr>
              <p:spPr>
                <a:xfrm flipH="1" flipV="1">
                  <a:off x="5700600" y="4441320"/>
                  <a:ext cx="79920" cy="147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 txBox="1"/>
                <p:nvPr/>
              </p:nvSpPr>
              <p:spPr>
                <a:xfrm rot="5347200">
                  <a:off x="5665680" y="4476600"/>
                  <a:ext cx="149400" cy="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0600" bIns="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5760360" y="2967840"/>
                <a:ext cx="25560" cy="1640520"/>
                <a:chOff x="5760360" y="2967840"/>
                <a:chExt cx="25560" cy="1640520"/>
              </a:xfrm>
            </p:grpSpPr>
            <p:sp>
              <p:nvSpPr>
                <p:cNvPr id="314" name="Line 48"/>
                <p:cNvSpPr/>
                <p:nvPr/>
              </p:nvSpPr>
              <p:spPr>
                <a:xfrm>
                  <a:off x="5760720" y="2967840"/>
                  <a:ext cx="25200" cy="164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 txBox="1"/>
                <p:nvPr/>
              </p:nvSpPr>
              <p:spPr>
                <a:xfrm rot="5347200">
                  <a:off x="4952520" y="3787920"/>
                  <a:ext cx="164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6" name="Group 49"/>
            <p:cNvGrpSpPr/>
            <p:nvPr/>
          </p:nvGrpSpPr>
          <p:grpSpPr>
            <a:xfrm>
              <a:off x="5754600" y="3390840"/>
              <a:ext cx="615600" cy="455040"/>
              <a:chOff x="5754600" y="3390840"/>
              <a:chExt cx="615600" cy="455040"/>
            </a:xfrm>
          </p:grpSpPr>
          <p:sp>
            <p:nvSpPr>
              <p:cNvPr id="317" name="AutoShape 50"/>
              <p:cNvSpPr/>
              <p:nvPr/>
            </p:nvSpPr>
            <p:spPr>
              <a:xfrm flipV="1" rot="5400000">
                <a:off x="5963400" y="3344040"/>
                <a:ext cx="162360" cy="57996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8" name="Oval 51"/>
              <p:cNvSpPr/>
              <p:nvPr/>
            </p:nvSpPr>
            <p:spPr>
              <a:xfrm rot="5400000">
                <a:off x="6127200" y="3602880"/>
                <a:ext cx="455040" cy="3096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52"/>
            <p:cNvGrpSpPr/>
            <p:nvPr/>
          </p:nvGrpSpPr>
          <p:grpSpPr>
            <a:xfrm>
              <a:off x="6375240" y="3471480"/>
              <a:ext cx="1231920" cy="1593360"/>
              <a:chOff x="6375240" y="3471480"/>
              <a:chExt cx="1231920" cy="1593360"/>
            </a:xfrm>
          </p:grpSpPr>
          <p:grpSp>
            <p:nvGrpSpPr>
              <p:cNvPr id="320" name="Group 53"/>
              <p:cNvGrpSpPr/>
              <p:nvPr/>
            </p:nvGrpSpPr>
            <p:grpSpPr>
              <a:xfrm>
                <a:off x="6375240" y="3471480"/>
                <a:ext cx="942120" cy="1472760"/>
                <a:chOff x="6375240" y="3471480"/>
                <a:chExt cx="942120" cy="1472760"/>
              </a:xfrm>
            </p:grpSpPr>
            <p:grpSp>
              <p:nvGrpSpPr>
                <p:cNvPr id="321" name="Group 54"/>
                <p:cNvGrpSpPr/>
                <p:nvPr/>
              </p:nvGrpSpPr>
              <p:grpSpPr>
                <a:xfrm>
                  <a:off x="7188840" y="4632480"/>
                  <a:ext cx="128520" cy="311760"/>
                  <a:chOff x="7188840" y="4632480"/>
                  <a:chExt cx="128520" cy="311760"/>
                </a:xfrm>
              </p:grpSpPr>
              <p:sp>
                <p:nvSpPr>
                  <p:cNvPr id="322" name="未知"/>
                  <p:cNvSpPr/>
                  <p:nvPr/>
                </p:nvSpPr>
                <p:spPr>
                  <a:xfrm rot="5400000">
                    <a:off x="7129440" y="4691880"/>
                    <a:ext cx="1886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3" h="178">
                        <a:moveTo>
                          <a:pt x="0" y="178"/>
                        </a:moveTo>
                        <a:lnTo>
                          <a:pt x="293" y="144"/>
                        </a:lnTo>
                        <a:lnTo>
                          <a:pt x="98" y="0"/>
                        </a:lnTo>
                        <a:lnTo>
                          <a:pt x="0" y="178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未知"/>
                  <p:cNvSpPr/>
                  <p:nvPr/>
                </p:nvSpPr>
                <p:spPr>
                  <a:xfrm rot="5400000">
                    <a:off x="7212960" y="4839840"/>
                    <a:ext cx="13428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189">
                        <a:moveTo>
                          <a:pt x="0" y="178"/>
                        </a:moveTo>
                        <a:lnTo>
                          <a:pt x="209" y="189"/>
                        </a:lnTo>
                        <a:lnTo>
                          <a:pt x="160" y="0"/>
                        </a:lnTo>
                        <a:lnTo>
                          <a:pt x="0" y="178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Group 57"/>
                <p:cNvGrpSpPr/>
                <p:nvPr/>
              </p:nvGrpSpPr>
              <p:grpSpPr>
                <a:xfrm>
                  <a:off x="6375240" y="3471480"/>
                  <a:ext cx="909720" cy="1414440"/>
                  <a:chOff x="6375240" y="3471480"/>
                  <a:chExt cx="909720" cy="1414440"/>
                </a:xfrm>
              </p:grpSpPr>
              <p:sp>
                <p:nvSpPr>
                  <p:cNvPr id="325" name="未知"/>
                  <p:cNvSpPr/>
                  <p:nvPr/>
                </p:nvSpPr>
                <p:spPr>
                  <a:xfrm rot="5400000">
                    <a:off x="6122880" y="3723840"/>
                    <a:ext cx="1414440" cy="9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7" h="2318">
                        <a:moveTo>
                          <a:pt x="893" y="10"/>
                        </a:moveTo>
                        <a:lnTo>
                          <a:pt x="902" y="73"/>
                        </a:lnTo>
                        <a:lnTo>
                          <a:pt x="906" y="123"/>
                        </a:lnTo>
                        <a:lnTo>
                          <a:pt x="893" y="199"/>
                        </a:lnTo>
                        <a:lnTo>
                          <a:pt x="868" y="317"/>
                        </a:lnTo>
                        <a:lnTo>
                          <a:pt x="860" y="355"/>
                        </a:lnTo>
                        <a:lnTo>
                          <a:pt x="837" y="412"/>
                        </a:lnTo>
                        <a:lnTo>
                          <a:pt x="796" y="482"/>
                        </a:lnTo>
                        <a:lnTo>
                          <a:pt x="745" y="546"/>
                        </a:lnTo>
                        <a:lnTo>
                          <a:pt x="696" y="597"/>
                        </a:lnTo>
                        <a:lnTo>
                          <a:pt x="646" y="649"/>
                        </a:lnTo>
                        <a:lnTo>
                          <a:pt x="589" y="722"/>
                        </a:lnTo>
                        <a:lnTo>
                          <a:pt x="530" y="830"/>
                        </a:lnTo>
                        <a:lnTo>
                          <a:pt x="486" y="989"/>
                        </a:lnTo>
                        <a:lnTo>
                          <a:pt x="479" y="1074"/>
                        </a:lnTo>
                        <a:lnTo>
                          <a:pt x="453" y="1213"/>
                        </a:lnTo>
                        <a:lnTo>
                          <a:pt x="428" y="1371"/>
                        </a:lnTo>
                        <a:lnTo>
                          <a:pt x="404" y="1463"/>
                        </a:lnTo>
                        <a:lnTo>
                          <a:pt x="373" y="1535"/>
                        </a:lnTo>
                        <a:lnTo>
                          <a:pt x="321" y="1667"/>
                        </a:lnTo>
                        <a:lnTo>
                          <a:pt x="249" y="1814"/>
                        </a:lnTo>
                        <a:lnTo>
                          <a:pt x="198" y="1890"/>
                        </a:lnTo>
                        <a:lnTo>
                          <a:pt x="147" y="1981"/>
                        </a:lnTo>
                        <a:lnTo>
                          <a:pt x="85" y="2082"/>
                        </a:lnTo>
                        <a:lnTo>
                          <a:pt x="8" y="2180"/>
                        </a:lnTo>
                        <a:lnTo>
                          <a:pt x="0" y="2208"/>
                        </a:lnTo>
                        <a:lnTo>
                          <a:pt x="2" y="2228"/>
                        </a:lnTo>
                        <a:lnTo>
                          <a:pt x="15" y="2247"/>
                        </a:lnTo>
                        <a:lnTo>
                          <a:pt x="36" y="2269"/>
                        </a:lnTo>
                        <a:lnTo>
                          <a:pt x="64" y="2287"/>
                        </a:lnTo>
                        <a:lnTo>
                          <a:pt x="172" y="2313"/>
                        </a:lnTo>
                        <a:lnTo>
                          <a:pt x="232" y="2318"/>
                        </a:lnTo>
                        <a:lnTo>
                          <a:pt x="301" y="2305"/>
                        </a:lnTo>
                        <a:lnTo>
                          <a:pt x="381" y="2259"/>
                        </a:lnTo>
                        <a:lnTo>
                          <a:pt x="453" y="2190"/>
                        </a:lnTo>
                        <a:lnTo>
                          <a:pt x="525" y="2105"/>
                        </a:lnTo>
                        <a:lnTo>
                          <a:pt x="551" y="2061"/>
                        </a:lnTo>
                        <a:lnTo>
                          <a:pt x="571" y="2001"/>
                        </a:lnTo>
                        <a:lnTo>
                          <a:pt x="618" y="1885"/>
                        </a:lnTo>
                        <a:lnTo>
                          <a:pt x="678" y="1775"/>
                        </a:lnTo>
                        <a:lnTo>
                          <a:pt x="788" y="1597"/>
                        </a:lnTo>
                        <a:lnTo>
                          <a:pt x="832" y="1783"/>
                        </a:lnTo>
                        <a:lnTo>
                          <a:pt x="852" y="1888"/>
                        </a:lnTo>
                        <a:lnTo>
                          <a:pt x="881" y="1983"/>
                        </a:lnTo>
                        <a:lnTo>
                          <a:pt x="907" y="2037"/>
                        </a:lnTo>
                        <a:lnTo>
                          <a:pt x="933" y="2097"/>
                        </a:lnTo>
                        <a:lnTo>
                          <a:pt x="968" y="2156"/>
                        </a:lnTo>
                        <a:lnTo>
                          <a:pt x="989" y="2189"/>
                        </a:lnTo>
                        <a:lnTo>
                          <a:pt x="1012" y="2220"/>
                        </a:lnTo>
                        <a:lnTo>
                          <a:pt x="1053" y="2252"/>
                        </a:lnTo>
                        <a:lnTo>
                          <a:pt x="1082" y="2272"/>
                        </a:lnTo>
                        <a:lnTo>
                          <a:pt x="1144" y="2287"/>
                        </a:lnTo>
                        <a:lnTo>
                          <a:pt x="1190" y="2292"/>
                        </a:lnTo>
                        <a:lnTo>
                          <a:pt x="1241" y="2288"/>
                        </a:lnTo>
                        <a:lnTo>
                          <a:pt x="1282" y="2279"/>
                        </a:lnTo>
                        <a:lnTo>
                          <a:pt x="1314" y="2267"/>
                        </a:lnTo>
                        <a:lnTo>
                          <a:pt x="1353" y="2197"/>
                        </a:lnTo>
                        <a:lnTo>
                          <a:pt x="1434" y="2040"/>
                        </a:lnTo>
                        <a:lnTo>
                          <a:pt x="1499" y="2063"/>
                        </a:lnTo>
                        <a:lnTo>
                          <a:pt x="1553" y="2069"/>
                        </a:lnTo>
                        <a:lnTo>
                          <a:pt x="1597" y="2069"/>
                        </a:lnTo>
                        <a:lnTo>
                          <a:pt x="1623" y="2060"/>
                        </a:lnTo>
                        <a:lnTo>
                          <a:pt x="1654" y="2027"/>
                        </a:lnTo>
                        <a:lnTo>
                          <a:pt x="1680" y="2001"/>
                        </a:lnTo>
                        <a:lnTo>
                          <a:pt x="1707" y="1965"/>
                        </a:lnTo>
                        <a:lnTo>
                          <a:pt x="1729" y="1907"/>
                        </a:lnTo>
                        <a:lnTo>
                          <a:pt x="1741" y="1857"/>
                        </a:lnTo>
                        <a:lnTo>
                          <a:pt x="1741" y="1826"/>
                        </a:lnTo>
                        <a:lnTo>
                          <a:pt x="1777" y="1795"/>
                        </a:lnTo>
                        <a:lnTo>
                          <a:pt x="1814" y="1790"/>
                        </a:lnTo>
                        <a:lnTo>
                          <a:pt x="1855" y="1775"/>
                        </a:lnTo>
                        <a:lnTo>
                          <a:pt x="1886" y="1765"/>
                        </a:lnTo>
                        <a:lnTo>
                          <a:pt x="1919" y="1736"/>
                        </a:lnTo>
                        <a:lnTo>
                          <a:pt x="1942" y="1711"/>
                        </a:lnTo>
                        <a:lnTo>
                          <a:pt x="1966" y="1682"/>
                        </a:lnTo>
                        <a:lnTo>
                          <a:pt x="1989" y="1639"/>
                        </a:lnTo>
                        <a:lnTo>
                          <a:pt x="2001" y="1599"/>
                        </a:lnTo>
                        <a:lnTo>
                          <a:pt x="2009" y="1558"/>
                        </a:lnTo>
                        <a:lnTo>
                          <a:pt x="1997" y="1515"/>
                        </a:lnTo>
                        <a:lnTo>
                          <a:pt x="1966" y="1442"/>
                        </a:lnTo>
                        <a:lnTo>
                          <a:pt x="2042" y="1442"/>
                        </a:lnTo>
                        <a:lnTo>
                          <a:pt x="2071" y="1437"/>
                        </a:lnTo>
                        <a:lnTo>
                          <a:pt x="2099" y="1417"/>
                        </a:lnTo>
                        <a:lnTo>
                          <a:pt x="2123" y="1391"/>
                        </a:lnTo>
                        <a:lnTo>
                          <a:pt x="2146" y="1355"/>
                        </a:lnTo>
                        <a:lnTo>
                          <a:pt x="2167" y="1313"/>
                        </a:lnTo>
                        <a:lnTo>
                          <a:pt x="2187" y="1275"/>
                        </a:lnTo>
                        <a:lnTo>
                          <a:pt x="2197" y="1236"/>
                        </a:lnTo>
                        <a:lnTo>
                          <a:pt x="2197" y="1198"/>
                        </a:lnTo>
                        <a:lnTo>
                          <a:pt x="2192" y="1157"/>
                        </a:lnTo>
                        <a:lnTo>
                          <a:pt x="2185" y="1116"/>
                        </a:lnTo>
                        <a:lnTo>
                          <a:pt x="2167" y="1084"/>
                        </a:lnTo>
                        <a:lnTo>
                          <a:pt x="2141" y="1049"/>
                        </a:lnTo>
                        <a:lnTo>
                          <a:pt x="2105" y="1005"/>
                        </a:lnTo>
                        <a:lnTo>
                          <a:pt x="2086" y="909"/>
                        </a:lnTo>
                        <a:lnTo>
                          <a:pt x="2064" y="835"/>
                        </a:lnTo>
                        <a:lnTo>
                          <a:pt x="2045" y="789"/>
                        </a:lnTo>
                        <a:lnTo>
                          <a:pt x="1993" y="695"/>
                        </a:lnTo>
                        <a:lnTo>
                          <a:pt x="1991" y="668"/>
                        </a:lnTo>
                        <a:lnTo>
                          <a:pt x="1993" y="603"/>
                        </a:lnTo>
                        <a:lnTo>
                          <a:pt x="1970" y="543"/>
                        </a:lnTo>
                        <a:lnTo>
                          <a:pt x="1934" y="480"/>
                        </a:lnTo>
                        <a:lnTo>
                          <a:pt x="1926" y="435"/>
                        </a:lnTo>
                        <a:lnTo>
                          <a:pt x="1916" y="361"/>
                        </a:lnTo>
                        <a:lnTo>
                          <a:pt x="1898" y="312"/>
                        </a:lnTo>
                        <a:lnTo>
                          <a:pt x="1888" y="257"/>
                        </a:lnTo>
                        <a:lnTo>
                          <a:pt x="1883" y="198"/>
                        </a:lnTo>
                        <a:lnTo>
                          <a:pt x="1888" y="150"/>
                        </a:lnTo>
                        <a:lnTo>
                          <a:pt x="1906" y="105"/>
                        </a:lnTo>
                        <a:lnTo>
                          <a:pt x="1860" y="0"/>
                        </a:lnTo>
                        <a:lnTo>
                          <a:pt x="893" y="10"/>
                        </a:lnTo>
                        <a:close/>
                      </a:path>
                    </a:pathLst>
                  </a:custGeom>
                  <a:solidFill>
                    <a:srgbClr val="ff9f9f"/>
                  </a:solidFill>
                  <a:ln w="82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6" name="Group 59"/>
                  <p:cNvGrpSpPr/>
                  <p:nvPr/>
                </p:nvGrpSpPr>
                <p:grpSpPr>
                  <a:xfrm>
                    <a:off x="6408360" y="3519720"/>
                    <a:ext cx="808920" cy="1312560"/>
                    <a:chOff x="6408360" y="3519720"/>
                    <a:chExt cx="808920" cy="1312560"/>
                  </a:xfrm>
                </p:grpSpPr>
                <p:grpSp>
                  <p:nvGrpSpPr>
                    <p:cNvPr id="327" name="Group 60"/>
                    <p:cNvGrpSpPr/>
                    <p:nvPr/>
                  </p:nvGrpSpPr>
                  <p:grpSpPr>
                    <a:xfrm>
                      <a:off x="6408360" y="3519720"/>
                      <a:ext cx="808920" cy="1312560"/>
                      <a:chOff x="6408360" y="3519720"/>
                      <a:chExt cx="808920" cy="1312560"/>
                    </a:xfrm>
                  </p:grpSpPr>
                  <p:sp>
                    <p:nvSpPr>
                      <p:cNvPr id="328" name="未知"/>
                      <p:cNvSpPr/>
                      <p:nvPr/>
                    </p:nvSpPr>
                    <p:spPr>
                      <a:xfrm rot="5400000">
                        <a:off x="6549480" y="4301280"/>
                        <a:ext cx="312120" cy="27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5" h="689">
                            <a:moveTo>
                              <a:pt x="75" y="482"/>
                            </a:moveTo>
                            <a:lnTo>
                              <a:pt x="80" y="451"/>
                            </a:lnTo>
                            <a:lnTo>
                              <a:pt x="77" y="430"/>
                            </a:lnTo>
                            <a:lnTo>
                              <a:pt x="69" y="400"/>
                            </a:lnTo>
                            <a:lnTo>
                              <a:pt x="56" y="374"/>
                            </a:lnTo>
                            <a:lnTo>
                              <a:pt x="47" y="350"/>
                            </a:lnTo>
                            <a:lnTo>
                              <a:pt x="34" y="315"/>
                            </a:lnTo>
                            <a:lnTo>
                              <a:pt x="23" y="281"/>
                            </a:lnTo>
                            <a:lnTo>
                              <a:pt x="13" y="240"/>
                            </a:lnTo>
                            <a:lnTo>
                              <a:pt x="7" y="206"/>
                            </a:lnTo>
                            <a:lnTo>
                              <a:pt x="2" y="173"/>
                            </a:lnTo>
                            <a:lnTo>
                              <a:pt x="0" y="137"/>
                            </a:lnTo>
                            <a:lnTo>
                              <a:pt x="0" y="111"/>
                            </a:lnTo>
                            <a:lnTo>
                              <a:pt x="7" y="86"/>
                            </a:lnTo>
                            <a:lnTo>
                              <a:pt x="18" y="65"/>
                            </a:lnTo>
                            <a:lnTo>
                              <a:pt x="33" y="49"/>
                            </a:lnTo>
                            <a:lnTo>
                              <a:pt x="61" y="29"/>
                            </a:lnTo>
                            <a:lnTo>
                              <a:pt x="87" y="14"/>
                            </a:lnTo>
                            <a:lnTo>
                              <a:pt x="118" y="3"/>
                            </a:lnTo>
                            <a:lnTo>
                              <a:pt x="147" y="0"/>
                            </a:lnTo>
                            <a:lnTo>
                              <a:pt x="177" y="3"/>
                            </a:lnTo>
                            <a:lnTo>
                              <a:pt x="204" y="14"/>
                            </a:lnTo>
                            <a:lnTo>
                              <a:pt x="234" y="29"/>
                            </a:lnTo>
                            <a:lnTo>
                              <a:pt x="263" y="47"/>
                            </a:lnTo>
                            <a:lnTo>
                              <a:pt x="288" y="75"/>
                            </a:lnTo>
                            <a:lnTo>
                              <a:pt x="307" y="98"/>
                            </a:lnTo>
                            <a:lnTo>
                              <a:pt x="320" y="117"/>
                            </a:lnTo>
                            <a:lnTo>
                              <a:pt x="338" y="144"/>
                            </a:lnTo>
                            <a:lnTo>
                              <a:pt x="353" y="166"/>
                            </a:lnTo>
                            <a:lnTo>
                              <a:pt x="366" y="191"/>
                            </a:lnTo>
                            <a:lnTo>
                              <a:pt x="378" y="217"/>
                            </a:lnTo>
                            <a:lnTo>
                              <a:pt x="402" y="297"/>
                            </a:lnTo>
                            <a:lnTo>
                              <a:pt x="432" y="390"/>
                            </a:lnTo>
                            <a:lnTo>
                              <a:pt x="436" y="454"/>
                            </a:lnTo>
                            <a:lnTo>
                              <a:pt x="466" y="533"/>
                            </a:lnTo>
                            <a:lnTo>
                              <a:pt x="485" y="601"/>
                            </a:lnTo>
                            <a:lnTo>
                              <a:pt x="485" y="689"/>
                            </a:lnTo>
                            <a:lnTo>
                              <a:pt x="481" y="689"/>
                            </a:lnTo>
                          </a:path>
                        </a:pathLst>
                      </a:custGeom>
                      <a:noFill/>
                      <a:ln w="82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33c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9" name="未知"/>
                      <p:cNvSpPr/>
                      <p:nvPr/>
                    </p:nvSpPr>
                    <p:spPr>
                      <a:xfrm rot="5400000">
                        <a:off x="6462360" y="4166280"/>
                        <a:ext cx="266400" cy="22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4" h="578">
                            <a:moveTo>
                              <a:pt x="0" y="137"/>
                            </a:moveTo>
                            <a:lnTo>
                              <a:pt x="4" y="121"/>
                            </a:lnTo>
                            <a:lnTo>
                              <a:pt x="9" y="100"/>
                            </a:lnTo>
                            <a:lnTo>
                              <a:pt x="17" y="80"/>
                            </a:lnTo>
                            <a:lnTo>
                              <a:pt x="28" y="59"/>
                            </a:lnTo>
                            <a:lnTo>
                              <a:pt x="38" y="44"/>
                            </a:lnTo>
                            <a:lnTo>
                              <a:pt x="59" y="23"/>
                            </a:lnTo>
                            <a:lnTo>
                              <a:pt x="77" y="10"/>
                            </a:lnTo>
                            <a:lnTo>
                              <a:pt x="92" y="3"/>
                            </a:lnTo>
                            <a:lnTo>
                              <a:pt x="123" y="0"/>
                            </a:lnTo>
                            <a:lnTo>
                              <a:pt x="146" y="1"/>
                            </a:lnTo>
                            <a:lnTo>
                              <a:pt x="167" y="6"/>
                            </a:lnTo>
                            <a:lnTo>
                              <a:pt x="192" y="18"/>
                            </a:lnTo>
                            <a:lnTo>
                              <a:pt x="216" y="39"/>
                            </a:lnTo>
                            <a:lnTo>
                              <a:pt x="233" y="59"/>
                            </a:lnTo>
                            <a:lnTo>
                              <a:pt x="247" y="83"/>
                            </a:lnTo>
                            <a:lnTo>
                              <a:pt x="262" y="108"/>
                            </a:lnTo>
                            <a:lnTo>
                              <a:pt x="278" y="142"/>
                            </a:lnTo>
                            <a:lnTo>
                              <a:pt x="303" y="191"/>
                            </a:lnTo>
                            <a:lnTo>
                              <a:pt x="329" y="234"/>
                            </a:lnTo>
                            <a:lnTo>
                              <a:pt x="345" y="260"/>
                            </a:lnTo>
                            <a:lnTo>
                              <a:pt x="370" y="301"/>
                            </a:lnTo>
                            <a:lnTo>
                              <a:pt x="393" y="337"/>
                            </a:lnTo>
                            <a:lnTo>
                              <a:pt x="406" y="364"/>
                            </a:lnTo>
                            <a:lnTo>
                              <a:pt x="412" y="395"/>
                            </a:lnTo>
                            <a:lnTo>
                              <a:pt x="414" y="425"/>
                            </a:lnTo>
                            <a:lnTo>
                              <a:pt x="414" y="453"/>
                            </a:lnTo>
                            <a:lnTo>
                              <a:pt x="409" y="477"/>
                            </a:lnTo>
                            <a:lnTo>
                              <a:pt x="403" y="502"/>
                            </a:lnTo>
                            <a:lnTo>
                              <a:pt x="394" y="528"/>
                            </a:lnTo>
                            <a:lnTo>
                              <a:pt x="388" y="551"/>
                            </a:lnTo>
                            <a:lnTo>
                              <a:pt x="378" y="578"/>
                            </a:lnTo>
                          </a:path>
                        </a:pathLst>
                      </a:custGeom>
                      <a:noFill/>
                      <a:ln w="82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33c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0" name="未知"/>
                      <p:cNvSpPr/>
                      <p:nvPr/>
                    </p:nvSpPr>
                    <p:spPr>
                      <a:xfrm rot="5400000">
                        <a:off x="6626160" y="4434120"/>
                        <a:ext cx="397800" cy="21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8" h="536">
                            <a:moveTo>
                              <a:pt x="25" y="234"/>
                            </a:moveTo>
                            <a:lnTo>
                              <a:pt x="15" y="203"/>
                            </a:lnTo>
                            <a:lnTo>
                              <a:pt x="8" y="176"/>
                            </a:lnTo>
                            <a:lnTo>
                              <a:pt x="3" y="144"/>
                            </a:lnTo>
                            <a:lnTo>
                              <a:pt x="0" y="114"/>
                            </a:lnTo>
                            <a:lnTo>
                              <a:pt x="2" y="91"/>
                            </a:lnTo>
                            <a:lnTo>
                              <a:pt x="10" y="72"/>
                            </a:lnTo>
                            <a:lnTo>
                              <a:pt x="25" y="51"/>
                            </a:lnTo>
                            <a:lnTo>
                              <a:pt x="48" y="28"/>
                            </a:lnTo>
                            <a:lnTo>
                              <a:pt x="72" y="11"/>
                            </a:lnTo>
                            <a:lnTo>
                              <a:pt x="97" y="1"/>
                            </a:lnTo>
                            <a:lnTo>
                              <a:pt x="124" y="0"/>
                            </a:lnTo>
                            <a:lnTo>
                              <a:pt x="160" y="5"/>
                            </a:lnTo>
                            <a:lnTo>
                              <a:pt x="203" y="16"/>
                            </a:lnTo>
                            <a:lnTo>
                              <a:pt x="232" y="34"/>
                            </a:lnTo>
                            <a:lnTo>
                              <a:pt x="257" y="49"/>
                            </a:lnTo>
                            <a:lnTo>
                              <a:pt x="280" y="69"/>
                            </a:lnTo>
                            <a:lnTo>
                              <a:pt x="298" y="88"/>
                            </a:lnTo>
                            <a:lnTo>
                              <a:pt x="319" y="113"/>
                            </a:lnTo>
                            <a:lnTo>
                              <a:pt x="340" y="142"/>
                            </a:lnTo>
                            <a:lnTo>
                              <a:pt x="368" y="185"/>
                            </a:lnTo>
                            <a:lnTo>
                              <a:pt x="396" y="234"/>
                            </a:lnTo>
                            <a:lnTo>
                              <a:pt x="410" y="260"/>
                            </a:lnTo>
                            <a:lnTo>
                              <a:pt x="427" y="281"/>
                            </a:lnTo>
                            <a:lnTo>
                              <a:pt x="451" y="306"/>
                            </a:lnTo>
                            <a:lnTo>
                              <a:pt x="476" y="333"/>
                            </a:lnTo>
                            <a:lnTo>
                              <a:pt x="509" y="364"/>
                            </a:lnTo>
                            <a:lnTo>
                              <a:pt x="527" y="387"/>
                            </a:lnTo>
                            <a:lnTo>
                              <a:pt x="554" y="425"/>
                            </a:lnTo>
                            <a:lnTo>
                              <a:pt x="574" y="456"/>
                            </a:lnTo>
                            <a:lnTo>
                              <a:pt x="592" y="485"/>
                            </a:lnTo>
                            <a:lnTo>
                              <a:pt x="607" y="511"/>
                            </a:lnTo>
                            <a:lnTo>
                              <a:pt x="618" y="536"/>
                            </a:lnTo>
                          </a:path>
                        </a:pathLst>
                      </a:custGeom>
                      <a:noFill/>
                      <a:ln w="82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33cc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31" name="Group 64"/>
                      <p:cNvGrpSpPr/>
                      <p:nvPr/>
                    </p:nvGrpSpPr>
                    <p:grpSpPr>
                      <a:xfrm>
                        <a:off x="6408360" y="3519720"/>
                        <a:ext cx="808920" cy="1312560"/>
                        <a:chOff x="6408360" y="3519720"/>
                        <a:chExt cx="808920" cy="1312560"/>
                      </a:xfrm>
                    </p:grpSpPr>
                    <p:grpSp>
                      <p:nvGrpSpPr>
                        <p:cNvPr id="332" name="Group 65"/>
                        <p:cNvGrpSpPr/>
                        <p:nvPr/>
                      </p:nvGrpSpPr>
                      <p:grpSpPr>
                        <a:xfrm>
                          <a:off x="6474240" y="3939480"/>
                          <a:ext cx="743040" cy="892800"/>
                          <a:chOff x="6474240" y="3939480"/>
                          <a:chExt cx="743040" cy="892800"/>
                        </a:xfrm>
                      </p:grpSpPr>
                      <p:grpSp>
                        <p:nvGrpSpPr>
                          <p:cNvPr id="333" name="Group 66"/>
                          <p:cNvGrpSpPr/>
                          <p:nvPr/>
                        </p:nvGrpSpPr>
                        <p:grpSpPr>
                          <a:xfrm>
                            <a:off x="6474240" y="4098240"/>
                            <a:ext cx="145440" cy="137520"/>
                            <a:chOff x="6474240" y="4098240"/>
                            <a:chExt cx="145440" cy="137520"/>
                          </a:xfrm>
                        </p:grpSpPr>
                        <p:sp>
                          <p:nvSpPr>
                            <p:cNvPr id="334" name="未知"/>
                            <p:cNvSpPr/>
                            <p:nvPr/>
                          </p:nvSpPr>
                          <p:spPr>
                            <a:xfrm rot="5400000">
                              <a:off x="6517440" y="4133520"/>
                              <a:ext cx="86040" cy="118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4" h="301">
                                  <a:moveTo>
                                    <a:pt x="0" y="0"/>
                                  </a:moveTo>
                                  <a:lnTo>
                                    <a:pt x="2" y="33"/>
                                  </a:lnTo>
                                  <a:lnTo>
                                    <a:pt x="7" y="65"/>
                                  </a:lnTo>
                                  <a:lnTo>
                                    <a:pt x="10" y="88"/>
                                  </a:lnTo>
                                  <a:lnTo>
                                    <a:pt x="15" y="114"/>
                                  </a:lnTo>
                                  <a:lnTo>
                                    <a:pt x="25" y="150"/>
                                  </a:lnTo>
                                  <a:lnTo>
                                    <a:pt x="36" y="183"/>
                                  </a:lnTo>
                                  <a:lnTo>
                                    <a:pt x="51" y="209"/>
                                  </a:lnTo>
                                  <a:lnTo>
                                    <a:pt x="67" y="232"/>
                                  </a:lnTo>
                                  <a:lnTo>
                                    <a:pt x="90" y="260"/>
                                  </a:lnTo>
                                  <a:lnTo>
                                    <a:pt x="112" y="281"/>
                                  </a:lnTo>
                                  <a:lnTo>
                                    <a:pt x="134" y="301"/>
                                  </a:lnTo>
                                </a:path>
                              </a:pathLst>
                            </a:custGeom>
                            <a:noFill/>
                            <a:ln w="82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33cc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35" name="未知"/>
                            <p:cNvSpPr/>
                            <p:nvPr/>
                          </p:nvSpPr>
                          <p:spPr>
                            <a:xfrm rot="5400000">
                              <a:off x="6480000" y="4170960"/>
                              <a:ext cx="29520" cy="41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6" h="106">
                                  <a:moveTo>
                                    <a:pt x="46" y="0"/>
                                  </a:moveTo>
                                  <a:lnTo>
                                    <a:pt x="29" y="11"/>
                                  </a:lnTo>
                                  <a:lnTo>
                                    <a:pt x="18" y="23"/>
                                  </a:lnTo>
                                  <a:lnTo>
                                    <a:pt x="6" y="37"/>
                                  </a:lnTo>
                                  <a:lnTo>
                                    <a:pt x="2" y="54"/>
                                  </a:lnTo>
                                  <a:lnTo>
                                    <a:pt x="0" y="75"/>
                                  </a:lnTo>
                                  <a:lnTo>
                                    <a:pt x="3" y="106"/>
                                  </a:lnTo>
                                </a:path>
                              </a:pathLst>
                            </a:custGeom>
                            <a:noFill/>
                            <a:ln w="82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400" bIns="-54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33cc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36" name="未知"/>
                            <p:cNvSpPr/>
                            <p:nvPr/>
                          </p:nvSpPr>
                          <p:spPr>
                            <a:xfrm rot="5400000">
                              <a:off x="6567840" y="4112640"/>
                              <a:ext cx="51480" cy="22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0" h="58">
                                  <a:moveTo>
                                    <a:pt x="80" y="0"/>
                                  </a:moveTo>
                                  <a:lnTo>
                                    <a:pt x="61" y="4"/>
                                  </a:lnTo>
                                  <a:lnTo>
                                    <a:pt x="43" y="13"/>
                                  </a:lnTo>
                                  <a:lnTo>
                                    <a:pt x="28" y="26"/>
                                  </a:lnTo>
                                  <a:lnTo>
                                    <a:pt x="10" y="42"/>
                                  </a:lnTo>
                                  <a:lnTo>
                                    <a:pt x="0" y="58"/>
                                  </a:lnTo>
                                </a:path>
                              </a:pathLst>
                            </a:custGeom>
                            <a:noFill/>
                            <a:ln w="82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4120" bIns="-2412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33cc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37" name="未知"/>
                          <p:cNvSpPr/>
                          <p:nvPr/>
                        </p:nvSpPr>
                        <p:spPr>
                          <a:xfrm rot="5400000">
                            <a:off x="6539040" y="4246560"/>
                            <a:ext cx="14076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9" h="114">
                                <a:moveTo>
                                  <a:pt x="0" y="42"/>
                                </a:moveTo>
                                <a:lnTo>
                                  <a:pt x="8" y="56"/>
                                </a:lnTo>
                                <a:lnTo>
                                  <a:pt x="22" y="75"/>
                                </a:lnTo>
                                <a:lnTo>
                                  <a:pt x="37" y="91"/>
                                </a:lnTo>
                                <a:lnTo>
                                  <a:pt x="54" y="101"/>
                                </a:lnTo>
                                <a:lnTo>
                                  <a:pt x="75" y="113"/>
                                </a:lnTo>
                                <a:lnTo>
                                  <a:pt x="101" y="114"/>
                                </a:lnTo>
                                <a:lnTo>
                                  <a:pt x="122" y="111"/>
                                </a:lnTo>
                                <a:lnTo>
                                  <a:pt x="142" y="105"/>
                                </a:lnTo>
                                <a:lnTo>
                                  <a:pt x="163" y="91"/>
                                </a:lnTo>
                                <a:lnTo>
                                  <a:pt x="178" y="80"/>
                                </a:lnTo>
                                <a:lnTo>
                                  <a:pt x="191" y="64"/>
                                </a:lnTo>
                                <a:lnTo>
                                  <a:pt x="201" y="47"/>
                                </a:lnTo>
                                <a:lnTo>
                                  <a:pt x="210" y="28"/>
                                </a:lnTo>
                                <a:lnTo>
                                  <a:pt x="219" y="0"/>
                                </a:lnTo>
                              </a:path>
                            </a:pathLst>
                          </a:custGeom>
                          <a:noFill/>
                          <a:ln w="82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8" name="未知"/>
                          <p:cNvSpPr/>
                          <p:nvPr/>
                        </p:nvSpPr>
                        <p:spPr>
                          <a:xfrm rot="5400000">
                            <a:off x="6703200" y="4332960"/>
                            <a:ext cx="140760" cy="88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9" h="227">
                                <a:moveTo>
                                  <a:pt x="0" y="121"/>
                                </a:moveTo>
                                <a:lnTo>
                                  <a:pt x="13" y="137"/>
                                </a:lnTo>
                                <a:lnTo>
                                  <a:pt x="24" y="155"/>
                                </a:lnTo>
                                <a:lnTo>
                                  <a:pt x="44" y="180"/>
                                </a:lnTo>
                                <a:lnTo>
                                  <a:pt x="64" y="203"/>
                                </a:lnTo>
                                <a:lnTo>
                                  <a:pt x="87" y="219"/>
                                </a:lnTo>
                                <a:lnTo>
                                  <a:pt x="108" y="227"/>
                                </a:lnTo>
                                <a:lnTo>
                                  <a:pt x="134" y="225"/>
                                </a:lnTo>
                                <a:lnTo>
                                  <a:pt x="155" y="219"/>
                                </a:lnTo>
                                <a:lnTo>
                                  <a:pt x="176" y="209"/>
                                </a:lnTo>
                                <a:lnTo>
                                  <a:pt x="191" y="199"/>
                                </a:lnTo>
                                <a:lnTo>
                                  <a:pt x="206" y="185"/>
                                </a:lnTo>
                                <a:lnTo>
                                  <a:pt x="219" y="158"/>
                                </a:lnTo>
                                <a:lnTo>
                                  <a:pt x="219" y="131"/>
                                </a:lnTo>
                                <a:lnTo>
                                  <a:pt x="216" y="100"/>
                                </a:lnTo>
                                <a:lnTo>
                                  <a:pt x="209" y="78"/>
                                </a:lnTo>
                                <a:lnTo>
                                  <a:pt x="198" y="54"/>
                                </a:lnTo>
                                <a:lnTo>
                                  <a:pt x="185" y="29"/>
                                </a:lnTo>
                                <a:lnTo>
                                  <a:pt x="167" y="0"/>
                                </a:lnTo>
                              </a:path>
                            </a:pathLst>
                          </a:custGeom>
                          <a:noFill/>
                          <a:ln w="82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2120" bIns="421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9" name="未知"/>
                          <p:cNvSpPr/>
                          <p:nvPr/>
                        </p:nvSpPr>
                        <p:spPr>
                          <a:xfrm rot="5400000">
                            <a:off x="6841080" y="4439520"/>
                            <a:ext cx="54000" cy="91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4" h="232">
                                <a:moveTo>
                                  <a:pt x="2" y="0"/>
                                </a:moveTo>
                                <a:lnTo>
                                  <a:pt x="46" y="62"/>
                                </a:lnTo>
                                <a:lnTo>
                                  <a:pt x="74" y="103"/>
                                </a:lnTo>
                                <a:lnTo>
                                  <a:pt x="80" y="125"/>
                                </a:lnTo>
                                <a:lnTo>
                                  <a:pt x="84" y="143"/>
                                </a:lnTo>
                                <a:lnTo>
                                  <a:pt x="79" y="182"/>
                                </a:lnTo>
                                <a:lnTo>
                                  <a:pt x="67" y="208"/>
                                </a:lnTo>
                                <a:lnTo>
                                  <a:pt x="51" y="224"/>
                                </a:lnTo>
                                <a:lnTo>
                                  <a:pt x="26" y="232"/>
                                </a:lnTo>
                                <a:lnTo>
                                  <a:pt x="0" y="228"/>
                                </a:lnTo>
                              </a:path>
                            </a:pathLst>
                          </a:custGeom>
                          <a:noFill/>
                          <a:ln w="82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4280" bIns="4428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0" name="未知"/>
                          <p:cNvSpPr/>
                          <p:nvPr/>
                        </p:nvSpPr>
                        <p:spPr>
                          <a:xfrm rot="5400000">
                            <a:off x="6736680" y="4595040"/>
                            <a:ext cx="343080" cy="13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33" h="335">
                                <a:moveTo>
                                  <a:pt x="0" y="137"/>
                                </a:moveTo>
                                <a:lnTo>
                                  <a:pt x="0" y="114"/>
                                </a:lnTo>
                                <a:lnTo>
                                  <a:pt x="3" y="93"/>
                                </a:lnTo>
                                <a:lnTo>
                                  <a:pt x="11" y="73"/>
                                </a:lnTo>
                                <a:lnTo>
                                  <a:pt x="24" y="54"/>
                                </a:lnTo>
                                <a:lnTo>
                                  <a:pt x="45" y="36"/>
                                </a:lnTo>
                                <a:lnTo>
                                  <a:pt x="67" y="19"/>
                                </a:lnTo>
                                <a:lnTo>
                                  <a:pt x="96" y="6"/>
                                </a:lnTo>
                                <a:lnTo>
                                  <a:pt x="124" y="0"/>
                                </a:lnTo>
                                <a:lnTo>
                                  <a:pt x="155" y="3"/>
                                </a:lnTo>
                                <a:lnTo>
                                  <a:pt x="184" y="14"/>
                                </a:lnTo>
                                <a:lnTo>
                                  <a:pt x="217" y="37"/>
                                </a:lnTo>
                                <a:lnTo>
                                  <a:pt x="255" y="65"/>
                                </a:lnTo>
                                <a:lnTo>
                                  <a:pt x="278" y="81"/>
                                </a:lnTo>
                                <a:lnTo>
                                  <a:pt x="320" y="129"/>
                                </a:lnTo>
                                <a:lnTo>
                                  <a:pt x="353" y="162"/>
                                </a:lnTo>
                                <a:lnTo>
                                  <a:pt x="377" y="188"/>
                                </a:lnTo>
                                <a:lnTo>
                                  <a:pt x="405" y="209"/>
                                </a:lnTo>
                                <a:lnTo>
                                  <a:pt x="439" y="237"/>
                                </a:lnTo>
                                <a:lnTo>
                                  <a:pt x="488" y="282"/>
                                </a:lnTo>
                                <a:lnTo>
                                  <a:pt x="533" y="335"/>
                                </a:lnTo>
                              </a:path>
                            </a:pathLst>
                          </a:custGeom>
                          <a:noFill/>
                          <a:ln w="82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1" name="未知"/>
                          <p:cNvSpPr/>
                          <p:nvPr/>
                        </p:nvSpPr>
                        <p:spPr>
                          <a:xfrm rot="5400000">
                            <a:off x="6880680" y="4546800"/>
                            <a:ext cx="74520" cy="68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6" h="175">
                                <a:moveTo>
                                  <a:pt x="68" y="0"/>
                                </a:moveTo>
                                <a:lnTo>
                                  <a:pt x="86" y="28"/>
                                </a:lnTo>
                                <a:lnTo>
                                  <a:pt x="103" y="56"/>
                                </a:lnTo>
                                <a:lnTo>
                                  <a:pt x="112" y="82"/>
                                </a:lnTo>
                                <a:lnTo>
                                  <a:pt x="116" y="111"/>
                                </a:lnTo>
                                <a:lnTo>
                                  <a:pt x="116" y="136"/>
                                </a:lnTo>
                                <a:lnTo>
                                  <a:pt x="101" y="159"/>
                                </a:lnTo>
                                <a:lnTo>
                                  <a:pt x="91" y="170"/>
                                </a:lnTo>
                                <a:lnTo>
                                  <a:pt x="68" y="175"/>
                                </a:lnTo>
                                <a:lnTo>
                                  <a:pt x="44" y="175"/>
                                </a:lnTo>
                                <a:lnTo>
                                  <a:pt x="23" y="169"/>
                                </a:lnTo>
                                <a:lnTo>
                                  <a:pt x="0" y="152"/>
                                </a:lnTo>
                              </a:path>
                            </a:pathLst>
                          </a:custGeom>
                          <a:noFill/>
                          <a:ln w="82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1600" bIns="216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2" name="未知"/>
                          <p:cNvSpPr/>
                          <p:nvPr/>
                        </p:nvSpPr>
                        <p:spPr>
                          <a:xfrm rot="5400000">
                            <a:off x="6612120" y="4014360"/>
                            <a:ext cx="234000" cy="151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4" h="387">
                                <a:moveTo>
                                  <a:pt x="364" y="0"/>
                                </a:moveTo>
                                <a:lnTo>
                                  <a:pt x="361" y="31"/>
                                </a:lnTo>
                                <a:lnTo>
                                  <a:pt x="358" y="58"/>
                                </a:lnTo>
                                <a:lnTo>
                                  <a:pt x="350" y="85"/>
                                </a:lnTo>
                                <a:lnTo>
                                  <a:pt x="340" y="112"/>
                                </a:lnTo>
                                <a:lnTo>
                                  <a:pt x="325" y="147"/>
                                </a:lnTo>
                                <a:lnTo>
                                  <a:pt x="310" y="171"/>
                                </a:lnTo>
                                <a:lnTo>
                                  <a:pt x="291" y="197"/>
                                </a:lnTo>
                                <a:lnTo>
                                  <a:pt x="265" y="217"/>
                                </a:lnTo>
                                <a:lnTo>
                                  <a:pt x="240" y="233"/>
                                </a:lnTo>
                                <a:lnTo>
                                  <a:pt x="214" y="243"/>
                                </a:lnTo>
                                <a:lnTo>
                                  <a:pt x="186" y="253"/>
                                </a:lnTo>
                                <a:lnTo>
                                  <a:pt x="149" y="266"/>
                                </a:lnTo>
                                <a:lnTo>
                                  <a:pt x="134" y="292"/>
                                </a:lnTo>
                                <a:lnTo>
                                  <a:pt x="121" y="305"/>
                                </a:lnTo>
                                <a:lnTo>
                                  <a:pt x="88" y="318"/>
                                </a:lnTo>
                                <a:lnTo>
                                  <a:pt x="54" y="331"/>
                                </a:lnTo>
                                <a:lnTo>
                                  <a:pt x="19" y="348"/>
                                </a:lnTo>
                                <a:lnTo>
                                  <a:pt x="0" y="387"/>
                                </a:lnTo>
                              </a:path>
                            </a:pathLst>
                          </a:custGeom>
                          <a:noFill/>
                          <a:ln w="82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3" name="未知"/>
                          <p:cNvSpPr/>
                          <p:nvPr/>
                        </p:nvSpPr>
                        <p:spPr>
                          <a:xfrm rot="5400000">
                            <a:off x="7039800" y="4514040"/>
                            <a:ext cx="259200" cy="29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3" h="76">
                                <a:moveTo>
                                  <a:pt x="0" y="76"/>
                                </a:moveTo>
                                <a:lnTo>
                                  <a:pt x="39" y="47"/>
                                </a:lnTo>
                                <a:lnTo>
                                  <a:pt x="75" y="29"/>
                                </a:lnTo>
                                <a:lnTo>
                                  <a:pt x="137" y="9"/>
                                </a:lnTo>
                                <a:lnTo>
                                  <a:pt x="193" y="1"/>
                                </a:lnTo>
                                <a:lnTo>
                                  <a:pt x="242" y="0"/>
                                </a:lnTo>
                                <a:lnTo>
                                  <a:pt x="287" y="4"/>
                                </a:lnTo>
                                <a:lnTo>
                                  <a:pt x="332" y="19"/>
                                </a:lnTo>
                                <a:lnTo>
                                  <a:pt x="368" y="36"/>
                                </a:lnTo>
                                <a:lnTo>
                                  <a:pt x="403" y="65"/>
                                </a:lnTo>
                              </a:path>
                            </a:pathLst>
                          </a:custGeom>
                          <a:noFill/>
                          <a:ln w="82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4" name="未知"/>
                          <p:cNvSpPr/>
                          <p:nvPr/>
                        </p:nvSpPr>
                        <p:spPr>
                          <a:xfrm rot="5400000">
                            <a:off x="7130160" y="4578480"/>
                            <a:ext cx="142920" cy="31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2" h="80">
                                <a:moveTo>
                                  <a:pt x="0" y="5"/>
                                </a:moveTo>
                                <a:lnTo>
                                  <a:pt x="29" y="3"/>
                                </a:lnTo>
                                <a:lnTo>
                                  <a:pt x="56" y="0"/>
                                </a:lnTo>
                                <a:lnTo>
                                  <a:pt x="96" y="7"/>
                                </a:lnTo>
                                <a:lnTo>
                                  <a:pt x="127" y="17"/>
                                </a:lnTo>
                                <a:lnTo>
                                  <a:pt x="160" y="33"/>
                                </a:lnTo>
                                <a:lnTo>
                                  <a:pt x="193" y="53"/>
                                </a:lnTo>
                                <a:lnTo>
                                  <a:pt x="222" y="80"/>
                                </a:lnTo>
                              </a:path>
                            </a:pathLst>
                          </a:custGeom>
                          <a:noFill/>
                          <a:ln w="82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5480" bIns="-1548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5" name="未知"/>
                          <p:cNvSpPr/>
                          <p:nvPr/>
                        </p:nvSpPr>
                        <p:spPr>
                          <a:xfrm rot="5400000">
                            <a:off x="6971040" y="4031280"/>
                            <a:ext cx="267480" cy="83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16" h="214">
                                <a:moveTo>
                                  <a:pt x="0" y="214"/>
                                </a:moveTo>
                                <a:lnTo>
                                  <a:pt x="50" y="175"/>
                                </a:lnTo>
                                <a:lnTo>
                                  <a:pt x="82" y="149"/>
                                </a:lnTo>
                                <a:lnTo>
                                  <a:pt x="107" y="121"/>
                                </a:lnTo>
                                <a:lnTo>
                                  <a:pt x="126" y="96"/>
                                </a:lnTo>
                                <a:lnTo>
                                  <a:pt x="146" y="72"/>
                                </a:lnTo>
                                <a:lnTo>
                                  <a:pt x="172" y="51"/>
                                </a:lnTo>
                                <a:lnTo>
                                  <a:pt x="195" y="33"/>
                                </a:lnTo>
                                <a:lnTo>
                                  <a:pt x="224" y="18"/>
                                </a:lnTo>
                                <a:lnTo>
                                  <a:pt x="254" y="7"/>
                                </a:lnTo>
                                <a:lnTo>
                                  <a:pt x="287" y="2"/>
                                </a:lnTo>
                                <a:lnTo>
                                  <a:pt x="332" y="0"/>
                                </a:lnTo>
                                <a:lnTo>
                                  <a:pt x="416" y="3"/>
                                </a:lnTo>
                              </a:path>
                            </a:pathLst>
                          </a:custGeom>
                          <a:noFill/>
                          <a:ln w="82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7080" bIns="3708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46" name="未知"/>
                        <p:cNvSpPr/>
                        <p:nvPr/>
                      </p:nvSpPr>
                      <p:spPr>
                        <a:xfrm rot="5400000">
                          <a:off x="6412680" y="3515040"/>
                          <a:ext cx="82080" cy="9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8" h="232">
                              <a:moveTo>
                                <a:pt x="72" y="0"/>
                              </a:moveTo>
                              <a:lnTo>
                                <a:pt x="89" y="4"/>
                              </a:lnTo>
                              <a:lnTo>
                                <a:pt x="108" y="17"/>
                              </a:lnTo>
                              <a:lnTo>
                                <a:pt x="123" y="33"/>
                              </a:lnTo>
                              <a:lnTo>
                                <a:pt x="128" y="48"/>
                              </a:lnTo>
                              <a:lnTo>
                                <a:pt x="123" y="85"/>
                              </a:lnTo>
                              <a:lnTo>
                                <a:pt x="115" y="107"/>
                              </a:lnTo>
                              <a:lnTo>
                                <a:pt x="97" y="141"/>
                              </a:lnTo>
                              <a:lnTo>
                                <a:pt x="74" y="169"/>
                              </a:lnTo>
                              <a:lnTo>
                                <a:pt x="56" y="188"/>
                              </a:lnTo>
                              <a:lnTo>
                                <a:pt x="35" y="206"/>
                              </a:lnTo>
                              <a:lnTo>
                                <a:pt x="0" y="232"/>
                              </a:lnTo>
                            </a:path>
                          </a:pathLst>
                        </a:custGeom>
                        <a:noFill/>
                        <a:ln w="82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4280" bIns="44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47" name="未知"/>
                    <p:cNvSpPr/>
                    <p:nvPr/>
                  </p:nvSpPr>
                  <p:spPr>
                    <a:xfrm rot="5400000">
                      <a:off x="6971760" y="4376160"/>
                      <a:ext cx="29520" cy="10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280">
                          <a:moveTo>
                            <a:pt x="11" y="0"/>
                          </a:moveTo>
                          <a:lnTo>
                            <a:pt x="28" y="47"/>
                          </a:lnTo>
                          <a:lnTo>
                            <a:pt x="37" y="82"/>
                          </a:lnTo>
                          <a:lnTo>
                            <a:pt x="41" y="103"/>
                          </a:lnTo>
                          <a:lnTo>
                            <a:pt x="46" y="132"/>
                          </a:lnTo>
                          <a:lnTo>
                            <a:pt x="46" y="170"/>
                          </a:lnTo>
                          <a:lnTo>
                            <a:pt x="42" y="195"/>
                          </a:lnTo>
                          <a:lnTo>
                            <a:pt x="37" y="214"/>
                          </a:lnTo>
                          <a:lnTo>
                            <a:pt x="29" y="231"/>
                          </a:lnTo>
                          <a:lnTo>
                            <a:pt x="15" y="257"/>
                          </a:lnTo>
                          <a:lnTo>
                            <a:pt x="0" y="280"/>
                          </a:lnTo>
                        </a:path>
                      </a:pathLst>
                    </a:custGeom>
                    <a:noFill/>
                    <a:ln w="82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8" name="Group 81"/>
              <p:cNvGrpSpPr/>
              <p:nvPr/>
            </p:nvGrpSpPr>
            <p:grpSpPr>
              <a:xfrm>
                <a:off x="7196040" y="4014720"/>
                <a:ext cx="411120" cy="1050120"/>
                <a:chOff x="7196040" y="4014720"/>
                <a:chExt cx="411120" cy="1050120"/>
              </a:xfrm>
            </p:grpSpPr>
            <p:sp>
              <p:nvSpPr>
                <p:cNvPr id="349" name="未知"/>
                <p:cNvSpPr/>
                <p:nvPr/>
              </p:nvSpPr>
              <p:spPr>
                <a:xfrm rot="5400000">
                  <a:off x="6870240" y="4364280"/>
                  <a:ext cx="848520" cy="196920"/>
                </a:xfrm>
                <a:custGeom>
                  <a:avLst/>
                  <a:gdLst/>
                  <a:ahLst/>
                  <a:rect l="l" t="t" r="r" b="b"/>
                  <a:pathLst>
                    <a:path w="1318" h="502">
                      <a:moveTo>
                        <a:pt x="16" y="9"/>
                      </a:moveTo>
                      <a:lnTo>
                        <a:pt x="31" y="55"/>
                      </a:lnTo>
                      <a:lnTo>
                        <a:pt x="0" y="361"/>
                      </a:lnTo>
                      <a:lnTo>
                        <a:pt x="129" y="345"/>
                      </a:lnTo>
                      <a:lnTo>
                        <a:pt x="234" y="335"/>
                      </a:lnTo>
                      <a:lnTo>
                        <a:pt x="397" y="333"/>
                      </a:lnTo>
                      <a:lnTo>
                        <a:pt x="548" y="338"/>
                      </a:lnTo>
                      <a:lnTo>
                        <a:pt x="633" y="343"/>
                      </a:lnTo>
                      <a:lnTo>
                        <a:pt x="791" y="367"/>
                      </a:lnTo>
                      <a:lnTo>
                        <a:pt x="904" y="389"/>
                      </a:lnTo>
                      <a:lnTo>
                        <a:pt x="976" y="403"/>
                      </a:lnTo>
                      <a:lnTo>
                        <a:pt x="1048" y="425"/>
                      </a:lnTo>
                      <a:lnTo>
                        <a:pt x="1141" y="462"/>
                      </a:lnTo>
                      <a:lnTo>
                        <a:pt x="1185" y="484"/>
                      </a:lnTo>
                      <a:lnTo>
                        <a:pt x="1216" y="502"/>
                      </a:lnTo>
                      <a:lnTo>
                        <a:pt x="1318" y="248"/>
                      </a:lnTo>
                      <a:lnTo>
                        <a:pt x="924" y="108"/>
                      </a:lnTo>
                      <a:lnTo>
                        <a:pt x="533" y="19"/>
                      </a:lnTo>
                      <a:lnTo>
                        <a:pt x="231" y="0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50" name="未知"/>
                <p:cNvSpPr/>
                <p:nvPr/>
              </p:nvSpPr>
              <p:spPr>
                <a:xfrm rot="5400000">
                  <a:off x="6899400" y="4357080"/>
                  <a:ext cx="1050120" cy="365040"/>
                </a:xfrm>
                <a:custGeom>
                  <a:avLst/>
                  <a:gdLst/>
                  <a:ahLst/>
                  <a:rect l="l" t="t" r="r" b="b"/>
                  <a:pathLst>
                    <a:path w="1631" h="930">
                      <a:moveTo>
                        <a:pt x="0" y="0"/>
                      </a:moveTo>
                      <a:lnTo>
                        <a:pt x="1631" y="0"/>
                      </a:lnTo>
                      <a:lnTo>
                        <a:pt x="1444" y="930"/>
                      </a:lnTo>
                      <a:lnTo>
                        <a:pt x="1364" y="881"/>
                      </a:lnTo>
                      <a:lnTo>
                        <a:pt x="1194" y="804"/>
                      </a:lnTo>
                      <a:lnTo>
                        <a:pt x="1104" y="765"/>
                      </a:lnTo>
                      <a:lnTo>
                        <a:pt x="1062" y="747"/>
                      </a:lnTo>
                      <a:lnTo>
                        <a:pt x="977" y="721"/>
                      </a:lnTo>
                      <a:lnTo>
                        <a:pt x="913" y="704"/>
                      </a:lnTo>
                      <a:lnTo>
                        <a:pt x="838" y="685"/>
                      </a:lnTo>
                      <a:lnTo>
                        <a:pt x="756" y="660"/>
                      </a:lnTo>
                      <a:lnTo>
                        <a:pt x="634" y="632"/>
                      </a:lnTo>
                      <a:lnTo>
                        <a:pt x="519" y="616"/>
                      </a:lnTo>
                      <a:lnTo>
                        <a:pt x="379" y="601"/>
                      </a:lnTo>
                      <a:lnTo>
                        <a:pt x="276" y="596"/>
                      </a:lnTo>
                      <a:lnTo>
                        <a:pt x="148" y="596"/>
                      </a:lnTo>
                      <a:lnTo>
                        <a:pt x="44" y="5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1" name="Text Box 85"/>
            <p:cNvSpPr/>
            <p:nvPr/>
          </p:nvSpPr>
          <p:spPr>
            <a:xfrm>
              <a:off x="5410080" y="2514600"/>
              <a:ext cx="709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2" name="Text Box 86"/>
            <p:cNvSpPr/>
            <p:nvPr/>
          </p:nvSpPr>
          <p:spPr>
            <a:xfrm>
              <a:off x="5790960" y="3200040"/>
              <a:ext cx="709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53" name="Text Box 89"/>
          <p:cNvSpPr/>
          <p:nvPr/>
        </p:nvSpPr>
        <p:spPr>
          <a:xfrm>
            <a:off x="762120" y="4191120"/>
            <a:ext cx="35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木块对地面的压力由重力产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Text Box 90"/>
          <p:cNvSpPr/>
          <p:nvPr/>
        </p:nvSpPr>
        <p:spPr>
          <a:xfrm>
            <a:off x="3886200" y="502920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钉子对墙的压力由手对钉子的压力产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85"/>
          <p:cNvSpPr/>
          <p:nvPr/>
        </p:nvSpPr>
        <p:spPr>
          <a:xfrm>
            <a:off x="762120" y="16002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只有当物体放在水平面时，物体对水平面的压力等于重力，即                。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Rectangle 86"/>
          <p:cNvSpPr/>
          <p:nvPr/>
        </p:nvSpPr>
        <p:spPr>
          <a:xfrm>
            <a:off x="3886200" y="2057400"/>
            <a:ext cx="1928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zh-CN" sz="3200" spc="-1" strike="noStrike" baseline="-25000">
                <a:solidFill>
                  <a:srgbClr val="ff0000"/>
                </a:solidFill>
                <a:latin typeface="Times New Roman"/>
              </a:rPr>
              <a:t>压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 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Text Box 88"/>
          <p:cNvSpPr/>
          <p:nvPr/>
        </p:nvSpPr>
        <p:spPr>
          <a:xfrm>
            <a:off x="2209680" y="4065480"/>
            <a:ext cx="5446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58" name="Group 199"/>
          <p:cNvGrpSpPr/>
          <p:nvPr/>
        </p:nvGrpSpPr>
        <p:grpSpPr>
          <a:xfrm>
            <a:off x="3707280" y="3058560"/>
            <a:ext cx="1384920" cy="1125000"/>
            <a:chOff x="3707280" y="3058560"/>
            <a:chExt cx="1384920" cy="1125000"/>
          </a:xfrm>
        </p:grpSpPr>
        <p:grpSp>
          <p:nvGrpSpPr>
            <p:cNvPr id="359" name="Group 103"/>
            <p:cNvGrpSpPr/>
            <p:nvPr/>
          </p:nvGrpSpPr>
          <p:grpSpPr>
            <a:xfrm>
              <a:off x="3707280" y="3458160"/>
              <a:ext cx="1384920" cy="725400"/>
              <a:chOff x="3707280" y="3458160"/>
              <a:chExt cx="1384920" cy="72540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3707280" y="4047480"/>
                <a:ext cx="159120" cy="136080"/>
                <a:chOff x="3707280" y="4047480"/>
                <a:chExt cx="159120" cy="136080"/>
              </a:xfrm>
            </p:grpSpPr>
            <p:sp>
              <p:nvSpPr>
                <p:cNvPr id="361" name="Line 104"/>
                <p:cNvSpPr/>
                <p:nvPr/>
              </p:nvSpPr>
              <p:spPr>
                <a:xfrm flipH="1">
                  <a:off x="3744000" y="4047840"/>
                  <a:ext cx="85320" cy="135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 txBox="1"/>
                <p:nvPr/>
              </p:nvSpPr>
              <p:spPr>
                <a:xfrm rot="20086800">
                  <a:off x="3719160" y="4071960"/>
                  <a:ext cx="135000" cy="8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3829680" y="3989520"/>
                <a:ext cx="159840" cy="136080"/>
                <a:chOff x="3829680" y="3989520"/>
                <a:chExt cx="159840" cy="136080"/>
              </a:xfrm>
            </p:grpSpPr>
            <p:sp>
              <p:nvSpPr>
                <p:cNvPr id="364" name="Line 105"/>
                <p:cNvSpPr/>
                <p:nvPr/>
              </p:nvSpPr>
              <p:spPr>
                <a:xfrm flipH="1">
                  <a:off x="3866400" y="3989520"/>
                  <a:ext cx="86040" cy="136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 txBox="1"/>
                <p:nvPr/>
              </p:nvSpPr>
              <p:spPr>
                <a:xfrm rot="20086800">
                  <a:off x="3841560" y="4014360"/>
                  <a:ext cx="136080" cy="8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3952800" y="3931920"/>
                <a:ext cx="159120" cy="135720"/>
                <a:chOff x="3952800" y="3931920"/>
                <a:chExt cx="159120" cy="135720"/>
              </a:xfrm>
            </p:grpSpPr>
            <p:sp>
              <p:nvSpPr>
                <p:cNvPr id="367" name="Line 106"/>
                <p:cNvSpPr/>
                <p:nvPr/>
              </p:nvSpPr>
              <p:spPr>
                <a:xfrm flipH="1">
                  <a:off x="3989520" y="3932280"/>
                  <a:ext cx="85320" cy="135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 txBox="1"/>
                <p:nvPr/>
              </p:nvSpPr>
              <p:spPr>
                <a:xfrm rot="20086800">
                  <a:off x="3964680" y="3956400"/>
                  <a:ext cx="135000" cy="8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4075200" y="3874320"/>
                <a:ext cx="159120" cy="136080"/>
                <a:chOff x="4075200" y="3874320"/>
                <a:chExt cx="159120" cy="136080"/>
              </a:xfrm>
            </p:grpSpPr>
            <p:sp>
              <p:nvSpPr>
                <p:cNvPr id="370" name="Line 107"/>
                <p:cNvSpPr/>
                <p:nvPr/>
              </p:nvSpPr>
              <p:spPr>
                <a:xfrm flipH="1">
                  <a:off x="4111560" y="3874680"/>
                  <a:ext cx="85320" cy="135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 txBox="1"/>
                <p:nvPr/>
              </p:nvSpPr>
              <p:spPr>
                <a:xfrm rot="20086800">
                  <a:off x="4087080" y="3898800"/>
                  <a:ext cx="135000" cy="8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4197240" y="3816720"/>
                <a:ext cx="159120" cy="136080"/>
                <a:chOff x="4197240" y="3816720"/>
                <a:chExt cx="159120" cy="136080"/>
              </a:xfrm>
            </p:grpSpPr>
            <p:sp>
              <p:nvSpPr>
                <p:cNvPr id="373" name="Line 108"/>
                <p:cNvSpPr/>
                <p:nvPr/>
              </p:nvSpPr>
              <p:spPr>
                <a:xfrm flipH="1">
                  <a:off x="4233600" y="3817080"/>
                  <a:ext cx="85320" cy="135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 txBox="1"/>
                <p:nvPr/>
              </p:nvSpPr>
              <p:spPr>
                <a:xfrm rot="20086800">
                  <a:off x="4209120" y="3841200"/>
                  <a:ext cx="135000" cy="8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4319280" y="3758760"/>
                <a:ext cx="159840" cy="136440"/>
                <a:chOff x="4319280" y="3758760"/>
                <a:chExt cx="159840" cy="136440"/>
              </a:xfrm>
            </p:grpSpPr>
            <p:sp>
              <p:nvSpPr>
                <p:cNvPr id="376" name="Line 109"/>
                <p:cNvSpPr/>
                <p:nvPr/>
              </p:nvSpPr>
              <p:spPr>
                <a:xfrm flipH="1">
                  <a:off x="4356000" y="3758760"/>
                  <a:ext cx="86400" cy="136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 txBox="1"/>
                <p:nvPr/>
              </p:nvSpPr>
              <p:spPr>
                <a:xfrm rot="20086800">
                  <a:off x="4331160" y="3783960"/>
                  <a:ext cx="136080" cy="8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4442760" y="3701160"/>
                <a:ext cx="159120" cy="136080"/>
                <a:chOff x="4442760" y="3701160"/>
                <a:chExt cx="159120" cy="136080"/>
              </a:xfrm>
            </p:grpSpPr>
            <p:sp>
              <p:nvSpPr>
                <p:cNvPr id="379" name="Line 110"/>
                <p:cNvSpPr/>
                <p:nvPr/>
              </p:nvSpPr>
              <p:spPr>
                <a:xfrm flipH="1">
                  <a:off x="4479120" y="3701520"/>
                  <a:ext cx="85320" cy="135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 txBox="1"/>
                <p:nvPr/>
              </p:nvSpPr>
              <p:spPr>
                <a:xfrm rot="20086800">
                  <a:off x="4454640" y="3725640"/>
                  <a:ext cx="135000" cy="8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564800" y="3643560"/>
                <a:ext cx="159120" cy="136080"/>
                <a:chOff x="4564800" y="3643560"/>
                <a:chExt cx="159120" cy="136080"/>
              </a:xfrm>
            </p:grpSpPr>
            <p:sp>
              <p:nvSpPr>
                <p:cNvPr id="382" name="Line 111"/>
                <p:cNvSpPr/>
                <p:nvPr/>
              </p:nvSpPr>
              <p:spPr>
                <a:xfrm flipH="1">
                  <a:off x="4601520" y="3643920"/>
                  <a:ext cx="85320" cy="135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 txBox="1"/>
                <p:nvPr/>
              </p:nvSpPr>
              <p:spPr>
                <a:xfrm rot="20086800">
                  <a:off x="4576680" y="3668040"/>
                  <a:ext cx="135000" cy="8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4687200" y="3585960"/>
                <a:ext cx="159120" cy="136080"/>
                <a:chOff x="4687200" y="3585960"/>
                <a:chExt cx="159120" cy="136080"/>
              </a:xfrm>
            </p:grpSpPr>
            <p:sp>
              <p:nvSpPr>
                <p:cNvPr id="385" name="Line 112"/>
                <p:cNvSpPr/>
                <p:nvPr/>
              </p:nvSpPr>
              <p:spPr>
                <a:xfrm flipH="1">
                  <a:off x="4723920" y="3586320"/>
                  <a:ext cx="85320" cy="135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 txBox="1"/>
                <p:nvPr/>
              </p:nvSpPr>
              <p:spPr>
                <a:xfrm rot="20086800">
                  <a:off x="4699080" y="3610440"/>
                  <a:ext cx="135000" cy="8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4809600" y="3528000"/>
                <a:ext cx="159840" cy="136080"/>
                <a:chOff x="4809600" y="3528000"/>
                <a:chExt cx="159840" cy="136080"/>
              </a:xfrm>
            </p:grpSpPr>
            <p:sp>
              <p:nvSpPr>
                <p:cNvPr id="388" name="Line 113"/>
                <p:cNvSpPr/>
                <p:nvPr/>
              </p:nvSpPr>
              <p:spPr>
                <a:xfrm flipH="1">
                  <a:off x="4846320" y="3528000"/>
                  <a:ext cx="86400" cy="136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 txBox="1"/>
                <p:nvPr/>
              </p:nvSpPr>
              <p:spPr>
                <a:xfrm rot="20086800">
                  <a:off x="4821480" y="3552840"/>
                  <a:ext cx="136080" cy="8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4933080" y="3470400"/>
                <a:ext cx="159120" cy="135720"/>
                <a:chOff x="4933080" y="3470400"/>
                <a:chExt cx="159120" cy="135720"/>
              </a:xfrm>
            </p:grpSpPr>
            <p:sp>
              <p:nvSpPr>
                <p:cNvPr id="391" name="Line 114"/>
                <p:cNvSpPr/>
                <p:nvPr/>
              </p:nvSpPr>
              <p:spPr>
                <a:xfrm flipH="1">
                  <a:off x="4969440" y="3470400"/>
                  <a:ext cx="85320" cy="135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 txBox="1"/>
                <p:nvPr/>
              </p:nvSpPr>
              <p:spPr>
                <a:xfrm rot="20086800">
                  <a:off x="4944960" y="3494880"/>
                  <a:ext cx="135000" cy="8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728160" y="3458160"/>
                <a:ext cx="1339560" cy="631440"/>
                <a:chOff x="3728160" y="3458160"/>
                <a:chExt cx="1339560" cy="631440"/>
              </a:xfrm>
            </p:grpSpPr>
            <p:sp>
              <p:nvSpPr>
                <p:cNvPr id="394" name="Line 115"/>
                <p:cNvSpPr/>
                <p:nvPr/>
              </p:nvSpPr>
              <p:spPr>
                <a:xfrm flipV="1">
                  <a:off x="3728160" y="3458520"/>
                  <a:ext cx="1339560" cy="63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 txBox="1"/>
                <p:nvPr/>
              </p:nvSpPr>
              <p:spPr>
                <a:xfrm rot="20086800">
                  <a:off x="3657600" y="3773520"/>
                  <a:ext cx="1480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6" name="Rectangle 116"/>
            <p:cNvSpPr/>
            <p:nvPr/>
          </p:nvSpPr>
          <p:spPr>
            <a:xfrm rot="19939200">
              <a:off x="3995640" y="3166560"/>
              <a:ext cx="615960" cy="60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97" name="Group 198"/>
          <p:cNvGrpSpPr/>
          <p:nvPr/>
        </p:nvGrpSpPr>
        <p:grpSpPr>
          <a:xfrm>
            <a:off x="7238520" y="2895120"/>
            <a:ext cx="1905480" cy="2094480"/>
            <a:chOff x="7238520" y="2895120"/>
            <a:chExt cx="1905480" cy="2094480"/>
          </a:xfrm>
        </p:grpSpPr>
        <p:grpSp>
          <p:nvGrpSpPr>
            <p:cNvPr id="398" name="Group 117"/>
            <p:cNvGrpSpPr/>
            <p:nvPr/>
          </p:nvGrpSpPr>
          <p:grpSpPr>
            <a:xfrm>
              <a:off x="7238520" y="2895120"/>
              <a:ext cx="108360" cy="1669320"/>
              <a:chOff x="7238520" y="2895120"/>
              <a:chExt cx="108360" cy="166932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7238520" y="2895120"/>
                <a:ext cx="79920" cy="150480"/>
                <a:chOff x="7238520" y="2895120"/>
                <a:chExt cx="79920" cy="150480"/>
              </a:xfrm>
            </p:grpSpPr>
            <p:sp>
              <p:nvSpPr>
                <p:cNvPr id="400" name="Line 118"/>
                <p:cNvSpPr/>
                <p:nvPr/>
              </p:nvSpPr>
              <p:spPr>
                <a:xfrm flipH="1" flipV="1">
                  <a:off x="7238520" y="2895840"/>
                  <a:ext cx="79920" cy="148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 txBox="1"/>
                <p:nvPr/>
              </p:nvSpPr>
              <p:spPr>
                <a:xfrm rot="5347200">
                  <a:off x="7203600" y="2931480"/>
                  <a:ext cx="149400" cy="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0600" bIns="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7241040" y="3044520"/>
                <a:ext cx="79560" cy="151920"/>
                <a:chOff x="7241040" y="3044520"/>
                <a:chExt cx="79560" cy="151920"/>
              </a:xfrm>
            </p:grpSpPr>
            <p:sp>
              <p:nvSpPr>
                <p:cNvPr id="403" name="Line 119"/>
                <p:cNvSpPr/>
                <p:nvPr/>
              </p:nvSpPr>
              <p:spPr>
                <a:xfrm flipH="1" flipV="1">
                  <a:off x="7241040" y="3045240"/>
                  <a:ext cx="79560" cy="149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 txBox="1"/>
                <p:nvPr/>
              </p:nvSpPr>
              <p:spPr>
                <a:xfrm rot="5347200">
                  <a:off x="7205400" y="3081600"/>
                  <a:ext cx="150840" cy="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0600" bIns="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7243200" y="3195720"/>
                <a:ext cx="79920" cy="150480"/>
                <a:chOff x="7243200" y="3195720"/>
                <a:chExt cx="79920" cy="150480"/>
              </a:xfrm>
            </p:grpSpPr>
            <p:sp>
              <p:nvSpPr>
                <p:cNvPr id="406" name="Line 120"/>
                <p:cNvSpPr/>
                <p:nvPr/>
              </p:nvSpPr>
              <p:spPr>
                <a:xfrm flipH="1" flipV="1">
                  <a:off x="7243200" y="3196440"/>
                  <a:ext cx="79920" cy="148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 txBox="1"/>
                <p:nvPr/>
              </p:nvSpPr>
              <p:spPr>
                <a:xfrm rot="5347200">
                  <a:off x="7208280" y="3232080"/>
                  <a:ext cx="149400" cy="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0600" bIns="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245720" y="3345480"/>
                <a:ext cx="79560" cy="150480"/>
                <a:chOff x="7245720" y="3345480"/>
                <a:chExt cx="79560" cy="150480"/>
              </a:xfrm>
            </p:grpSpPr>
            <p:sp>
              <p:nvSpPr>
                <p:cNvPr id="409" name="Line 121"/>
                <p:cNvSpPr/>
                <p:nvPr/>
              </p:nvSpPr>
              <p:spPr>
                <a:xfrm flipH="1" flipV="1">
                  <a:off x="7245720" y="3346200"/>
                  <a:ext cx="79560" cy="148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 txBox="1"/>
                <p:nvPr/>
              </p:nvSpPr>
              <p:spPr>
                <a:xfrm rot="5347200">
                  <a:off x="7210800" y="3381840"/>
                  <a:ext cx="149400" cy="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0600" bIns="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7247880" y="3495240"/>
                <a:ext cx="79560" cy="150480"/>
                <a:chOff x="7247880" y="3495240"/>
                <a:chExt cx="79560" cy="150480"/>
              </a:xfrm>
            </p:grpSpPr>
            <p:sp>
              <p:nvSpPr>
                <p:cNvPr id="412" name="Line 122"/>
                <p:cNvSpPr/>
                <p:nvPr/>
              </p:nvSpPr>
              <p:spPr>
                <a:xfrm flipH="1" flipV="1">
                  <a:off x="7247880" y="3495960"/>
                  <a:ext cx="79560" cy="147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 txBox="1"/>
                <p:nvPr/>
              </p:nvSpPr>
              <p:spPr>
                <a:xfrm rot="5347200">
                  <a:off x="7212960" y="3531600"/>
                  <a:ext cx="149400" cy="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0600" bIns="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7250040" y="3644640"/>
                <a:ext cx="79920" cy="151920"/>
                <a:chOff x="7250040" y="3644640"/>
                <a:chExt cx="79920" cy="151920"/>
              </a:xfrm>
            </p:grpSpPr>
            <p:sp>
              <p:nvSpPr>
                <p:cNvPr id="415" name="Line 123"/>
                <p:cNvSpPr/>
                <p:nvPr/>
              </p:nvSpPr>
              <p:spPr>
                <a:xfrm flipH="1" flipV="1">
                  <a:off x="7250040" y="3645720"/>
                  <a:ext cx="79920" cy="14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 txBox="1"/>
                <p:nvPr/>
              </p:nvSpPr>
              <p:spPr>
                <a:xfrm rot="5347200">
                  <a:off x="7214400" y="3681720"/>
                  <a:ext cx="150840" cy="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0600" bIns="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7252560" y="3795840"/>
                <a:ext cx="79560" cy="150480"/>
                <a:chOff x="7252560" y="3795840"/>
                <a:chExt cx="79560" cy="150480"/>
              </a:xfrm>
            </p:grpSpPr>
            <p:sp>
              <p:nvSpPr>
                <p:cNvPr id="418" name="Line 124"/>
                <p:cNvSpPr/>
                <p:nvPr/>
              </p:nvSpPr>
              <p:spPr>
                <a:xfrm flipH="1" flipV="1">
                  <a:off x="7252560" y="3796920"/>
                  <a:ext cx="79560" cy="147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 txBox="1"/>
                <p:nvPr/>
              </p:nvSpPr>
              <p:spPr>
                <a:xfrm rot="5347200">
                  <a:off x="7217640" y="3832200"/>
                  <a:ext cx="149400" cy="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0600" bIns="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7254720" y="3945600"/>
                <a:ext cx="79920" cy="150480"/>
                <a:chOff x="7254720" y="3945600"/>
                <a:chExt cx="79920" cy="150480"/>
              </a:xfrm>
            </p:grpSpPr>
            <p:sp>
              <p:nvSpPr>
                <p:cNvPr id="421" name="Line 125"/>
                <p:cNvSpPr/>
                <p:nvPr/>
              </p:nvSpPr>
              <p:spPr>
                <a:xfrm flipH="1" flipV="1">
                  <a:off x="7254720" y="3946680"/>
                  <a:ext cx="79920" cy="147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 txBox="1"/>
                <p:nvPr/>
              </p:nvSpPr>
              <p:spPr>
                <a:xfrm rot="5347200">
                  <a:off x="7219800" y="3981960"/>
                  <a:ext cx="149400" cy="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0600" bIns="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7257240" y="4095360"/>
                <a:ext cx="79560" cy="150480"/>
                <a:chOff x="7257240" y="4095360"/>
                <a:chExt cx="79560" cy="150480"/>
              </a:xfrm>
            </p:grpSpPr>
            <p:sp>
              <p:nvSpPr>
                <p:cNvPr id="424" name="Line 126"/>
                <p:cNvSpPr/>
                <p:nvPr/>
              </p:nvSpPr>
              <p:spPr>
                <a:xfrm flipH="1" flipV="1">
                  <a:off x="7257240" y="4096440"/>
                  <a:ext cx="79560" cy="147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 txBox="1"/>
                <p:nvPr/>
              </p:nvSpPr>
              <p:spPr>
                <a:xfrm rot="5347200">
                  <a:off x="7222320" y="4131720"/>
                  <a:ext cx="149400" cy="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0600" bIns="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259400" y="4245120"/>
                <a:ext cx="79560" cy="151920"/>
                <a:chOff x="7259400" y="4245120"/>
                <a:chExt cx="79560" cy="151920"/>
              </a:xfrm>
            </p:grpSpPr>
            <p:sp>
              <p:nvSpPr>
                <p:cNvPr id="427" name="Line 127"/>
                <p:cNvSpPr/>
                <p:nvPr/>
              </p:nvSpPr>
              <p:spPr>
                <a:xfrm flipH="1" flipV="1">
                  <a:off x="7259400" y="4246200"/>
                  <a:ext cx="79560" cy="14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 txBox="1"/>
                <p:nvPr/>
              </p:nvSpPr>
              <p:spPr>
                <a:xfrm rot="5347200">
                  <a:off x="7223760" y="4282200"/>
                  <a:ext cx="150840" cy="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0600" bIns="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7261560" y="4396320"/>
                <a:ext cx="79920" cy="150480"/>
                <a:chOff x="7261560" y="4396320"/>
                <a:chExt cx="79920" cy="150480"/>
              </a:xfrm>
            </p:grpSpPr>
            <p:sp>
              <p:nvSpPr>
                <p:cNvPr id="430" name="Line 128"/>
                <p:cNvSpPr/>
                <p:nvPr/>
              </p:nvSpPr>
              <p:spPr>
                <a:xfrm flipH="1" flipV="1">
                  <a:off x="7261560" y="4397400"/>
                  <a:ext cx="79920" cy="147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 txBox="1"/>
                <p:nvPr/>
              </p:nvSpPr>
              <p:spPr>
                <a:xfrm rot="5347200">
                  <a:off x="7226640" y="4432680"/>
                  <a:ext cx="149400" cy="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0600" bIns="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7321320" y="2923560"/>
                <a:ext cx="25560" cy="1640880"/>
                <a:chOff x="7321320" y="2923560"/>
                <a:chExt cx="25560" cy="1640880"/>
              </a:xfrm>
            </p:grpSpPr>
            <p:sp>
              <p:nvSpPr>
                <p:cNvPr id="433" name="Line 129"/>
                <p:cNvSpPr/>
                <p:nvPr/>
              </p:nvSpPr>
              <p:spPr>
                <a:xfrm>
                  <a:off x="7321680" y="2923560"/>
                  <a:ext cx="25200" cy="164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 txBox="1"/>
                <p:nvPr/>
              </p:nvSpPr>
              <p:spPr>
                <a:xfrm rot="5347200">
                  <a:off x="6513480" y="3743640"/>
                  <a:ext cx="164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5" name="Group 130"/>
            <p:cNvGrpSpPr/>
            <p:nvPr/>
          </p:nvGrpSpPr>
          <p:grpSpPr>
            <a:xfrm>
              <a:off x="7291440" y="3314520"/>
              <a:ext cx="615600" cy="455760"/>
              <a:chOff x="7291440" y="3314520"/>
              <a:chExt cx="615600" cy="455760"/>
            </a:xfrm>
          </p:grpSpPr>
          <p:sp>
            <p:nvSpPr>
              <p:cNvPr id="436" name="AutoShape 131"/>
              <p:cNvSpPr/>
              <p:nvPr/>
            </p:nvSpPr>
            <p:spPr>
              <a:xfrm flipV="1" rot="5400000">
                <a:off x="7499880" y="3268440"/>
                <a:ext cx="162720" cy="57996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37" name="Oval 132"/>
              <p:cNvSpPr/>
              <p:nvPr/>
            </p:nvSpPr>
            <p:spPr>
              <a:xfrm rot="5400000">
                <a:off x="7663680" y="3526920"/>
                <a:ext cx="455760" cy="3096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33"/>
            <p:cNvGrpSpPr/>
            <p:nvPr/>
          </p:nvGrpSpPr>
          <p:grpSpPr>
            <a:xfrm>
              <a:off x="7912080" y="3395520"/>
              <a:ext cx="1231920" cy="1594080"/>
              <a:chOff x="7912080" y="3395520"/>
              <a:chExt cx="1231920" cy="1594080"/>
            </a:xfrm>
          </p:grpSpPr>
          <p:grpSp>
            <p:nvGrpSpPr>
              <p:cNvPr id="439" name="Group 134"/>
              <p:cNvGrpSpPr/>
              <p:nvPr/>
            </p:nvGrpSpPr>
            <p:grpSpPr>
              <a:xfrm>
                <a:off x="7912080" y="3395520"/>
                <a:ext cx="942120" cy="1473120"/>
                <a:chOff x="7912080" y="3395520"/>
                <a:chExt cx="942120" cy="1473120"/>
              </a:xfrm>
            </p:grpSpPr>
            <p:grpSp>
              <p:nvGrpSpPr>
                <p:cNvPr id="440" name="Group 135"/>
                <p:cNvGrpSpPr/>
                <p:nvPr/>
              </p:nvGrpSpPr>
              <p:grpSpPr>
                <a:xfrm>
                  <a:off x="8725680" y="4556880"/>
                  <a:ext cx="128520" cy="311760"/>
                  <a:chOff x="8725680" y="4556880"/>
                  <a:chExt cx="128520" cy="311760"/>
                </a:xfrm>
              </p:grpSpPr>
              <p:sp>
                <p:nvSpPr>
                  <p:cNvPr id="441" name="未知"/>
                  <p:cNvSpPr/>
                  <p:nvPr/>
                </p:nvSpPr>
                <p:spPr>
                  <a:xfrm rot="5400000">
                    <a:off x="8666280" y="4616280"/>
                    <a:ext cx="1886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3" h="178">
                        <a:moveTo>
                          <a:pt x="0" y="178"/>
                        </a:moveTo>
                        <a:lnTo>
                          <a:pt x="293" y="144"/>
                        </a:lnTo>
                        <a:lnTo>
                          <a:pt x="98" y="0"/>
                        </a:lnTo>
                        <a:lnTo>
                          <a:pt x="0" y="178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未知"/>
                  <p:cNvSpPr/>
                  <p:nvPr/>
                </p:nvSpPr>
                <p:spPr>
                  <a:xfrm rot="5400000">
                    <a:off x="8749800" y="4764240"/>
                    <a:ext cx="13428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189">
                        <a:moveTo>
                          <a:pt x="0" y="178"/>
                        </a:moveTo>
                        <a:lnTo>
                          <a:pt x="209" y="189"/>
                        </a:lnTo>
                        <a:lnTo>
                          <a:pt x="160" y="0"/>
                        </a:lnTo>
                        <a:lnTo>
                          <a:pt x="0" y="178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Group 138"/>
                <p:cNvGrpSpPr/>
                <p:nvPr/>
              </p:nvGrpSpPr>
              <p:grpSpPr>
                <a:xfrm>
                  <a:off x="7912080" y="3395520"/>
                  <a:ext cx="909720" cy="1414800"/>
                  <a:chOff x="7912080" y="3395520"/>
                  <a:chExt cx="909720" cy="1414800"/>
                </a:xfrm>
              </p:grpSpPr>
              <p:sp>
                <p:nvSpPr>
                  <p:cNvPr id="444" name="未知"/>
                  <p:cNvSpPr/>
                  <p:nvPr/>
                </p:nvSpPr>
                <p:spPr>
                  <a:xfrm rot="5400000">
                    <a:off x="7659360" y="3647880"/>
                    <a:ext cx="1414800" cy="9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7" h="2318">
                        <a:moveTo>
                          <a:pt x="893" y="10"/>
                        </a:moveTo>
                        <a:lnTo>
                          <a:pt x="902" y="73"/>
                        </a:lnTo>
                        <a:lnTo>
                          <a:pt x="906" y="123"/>
                        </a:lnTo>
                        <a:lnTo>
                          <a:pt x="893" y="199"/>
                        </a:lnTo>
                        <a:lnTo>
                          <a:pt x="868" y="317"/>
                        </a:lnTo>
                        <a:lnTo>
                          <a:pt x="860" y="355"/>
                        </a:lnTo>
                        <a:lnTo>
                          <a:pt x="837" y="412"/>
                        </a:lnTo>
                        <a:lnTo>
                          <a:pt x="796" y="482"/>
                        </a:lnTo>
                        <a:lnTo>
                          <a:pt x="745" y="546"/>
                        </a:lnTo>
                        <a:lnTo>
                          <a:pt x="696" y="597"/>
                        </a:lnTo>
                        <a:lnTo>
                          <a:pt x="646" y="649"/>
                        </a:lnTo>
                        <a:lnTo>
                          <a:pt x="589" y="722"/>
                        </a:lnTo>
                        <a:lnTo>
                          <a:pt x="530" y="830"/>
                        </a:lnTo>
                        <a:lnTo>
                          <a:pt x="486" y="989"/>
                        </a:lnTo>
                        <a:lnTo>
                          <a:pt x="479" y="1074"/>
                        </a:lnTo>
                        <a:lnTo>
                          <a:pt x="453" y="1213"/>
                        </a:lnTo>
                        <a:lnTo>
                          <a:pt x="428" y="1371"/>
                        </a:lnTo>
                        <a:lnTo>
                          <a:pt x="404" y="1463"/>
                        </a:lnTo>
                        <a:lnTo>
                          <a:pt x="373" y="1535"/>
                        </a:lnTo>
                        <a:lnTo>
                          <a:pt x="321" y="1667"/>
                        </a:lnTo>
                        <a:lnTo>
                          <a:pt x="249" y="1814"/>
                        </a:lnTo>
                        <a:lnTo>
                          <a:pt x="198" y="1890"/>
                        </a:lnTo>
                        <a:lnTo>
                          <a:pt x="147" y="1981"/>
                        </a:lnTo>
                        <a:lnTo>
                          <a:pt x="85" y="2082"/>
                        </a:lnTo>
                        <a:lnTo>
                          <a:pt x="8" y="2180"/>
                        </a:lnTo>
                        <a:lnTo>
                          <a:pt x="0" y="2208"/>
                        </a:lnTo>
                        <a:lnTo>
                          <a:pt x="2" y="2228"/>
                        </a:lnTo>
                        <a:lnTo>
                          <a:pt x="15" y="2247"/>
                        </a:lnTo>
                        <a:lnTo>
                          <a:pt x="36" y="2269"/>
                        </a:lnTo>
                        <a:lnTo>
                          <a:pt x="64" y="2287"/>
                        </a:lnTo>
                        <a:lnTo>
                          <a:pt x="172" y="2313"/>
                        </a:lnTo>
                        <a:lnTo>
                          <a:pt x="232" y="2318"/>
                        </a:lnTo>
                        <a:lnTo>
                          <a:pt x="301" y="2305"/>
                        </a:lnTo>
                        <a:lnTo>
                          <a:pt x="381" y="2259"/>
                        </a:lnTo>
                        <a:lnTo>
                          <a:pt x="453" y="2190"/>
                        </a:lnTo>
                        <a:lnTo>
                          <a:pt x="525" y="2105"/>
                        </a:lnTo>
                        <a:lnTo>
                          <a:pt x="551" y="2061"/>
                        </a:lnTo>
                        <a:lnTo>
                          <a:pt x="571" y="2001"/>
                        </a:lnTo>
                        <a:lnTo>
                          <a:pt x="618" y="1885"/>
                        </a:lnTo>
                        <a:lnTo>
                          <a:pt x="678" y="1775"/>
                        </a:lnTo>
                        <a:lnTo>
                          <a:pt x="788" y="1597"/>
                        </a:lnTo>
                        <a:lnTo>
                          <a:pt x="832" y="1783"/>
                        </a:lnTo>
                        <a:lnTo>
                          <a:pt x="852" y="1888"/>
                        </a:lnTo>
                        <a:lnTo>
                          <a:pt x="881" y="1983"/>
                        </a:lnTo>
                        <a:lnTo>
                          <a:pt x="907" y="2037"/>
                        </a:lnTo>
                        <a:lnTo>
                          <a:pt x="933" y="2097"/>
                        </a:lnTo>
                        <a:lnTo>
                          <a:pt x="968" y="2156"/>
                        </a:lnTo>
                        <a:lnTo>
                          <a:pt x="989" y="2189"/>
                        </a:lnTo>
                        <a:lnTo>
                          <a:pt x="1012" y="2220"/>
                        </a:lnTo>
                        <a:lnTo>
                          <a:pt x="1053" y="2252"/>
                        </a:lnTo>
                        <a:lnTo>
                          <a:pt x="1082" y="2272"/>
                        </a:lnTo>
                        <a:lnTo>
                          <a:pt x="1144" y="2287"/>
                        </a:lnTo>
                        <a:lnTo>
                          <a:pt x="1190" y="2292"/>
                        </a:lnTo>
                        <a:lnTo>
                          <a:pt x="1241" y="2288"/>
                        </a:lnTo>
                        <a:lnTo>
                          <a:pt x="1282" y="2279"/>
                        </a:lnTo>
                        <a:lnTo>
                          <a:pt x="1314" y="2267"/>
                        </a:lnTo>
                        <a:lnTo>
                          <a:pt x="1353" y="2197"/>
                        </a:lnTo>
                        <a:lnTo>
                          <a:pt x="1434" y="2040"/>
                        </a:lnTo>
                        <a:lnTo>
                          <a:pt x="1499" y="2063"/>
                        </a:lnTo>
                        <a:lnTo>
                          <a:pt x="1553" y="2069"/>
                        </a:lnTo>
                        <a:lnTo>
                          <a:pt x="1597" y="2069"/>
                        </a:lnTo>
                        <a:lnTo>
                          <a:pt x="1623" y="2060"/>
                        </a:lnTo>
                        <a:lnTo>
                          <a:pt x="1654" y="2027"/>
                        </a:lnTo>
                        <a:lnTo>
                          <a:pt x="1680" y="2001"/>
                        </a:lnTo>
                        <a:lnTo>
                          <a:pt x="1707" y="1965"/>
                        </a:lnTo>
                        <a:lnTo>
                          <a:pt x="1729" y="1907"/>
                        </a:lnTo>
                        <a:lnTo>
                          <a:pt x="1741" y="1857"/>
                        </a:lnTo>
                        <a:lnTo>
                          <a:pt x="1741" y="1826"/>
                        </a:lnTo>
                        <a:lnTo>
                          <a:pt x="1777" y="1795"/>
                        </a:lnTo>
                        <a:lnTo>
                          <a:pt x="1814" y="1790"/>
                        </a:lnTo>
                        <a:lnTo>
                          <a:pt x="1855" y="1775"/>
                        </a:lnTo>
                        <a:lnTo>
                          <a:pt x="1886" y="1765"/>
                        </a:lnTo>
                        <a:lnTo>
                          <a:pt x="1919" y="1736"/>
                        </a:lnTo>
                        <a:lnTo>
                          <a:pt x="1942" y="1711"/>
                        </a:lnTo>
                        <a:lnTo>
                          <a:pt x="1966" y="1682"/>
                        </a:lnTo>
                        <a:lnTo>
                          <a:pt x="1989" y="1639"/>
                        </a:lnTo>
                        <a:lnTo>
                          <a:pt x="2001" y="1599"/>
                        </a:lnTo>
                        <a:lnTo>
                          <a:pt x="2009" y="1558"/>
                        </a:lnTo>
                        <a:lnTo>
                          <a:pt x="1997" y="1515"/>
                        </a:lnTo>
                        <a:lnTo>
                          <a:pt x="1966" y="1442"/>
                        </a:lnTo>
                        <a:lnTo>
                          <a:pt x="2042" y="1442"/>
                        </a:lnTo>
                        <a:lnTo>
                          <a:pt x="2071" y="1437"/>
                        </a:lnTo>
                        <a:lnTo>
                          <a:pt x="2099" y="1417"/>
                        </a:lnTo>
                        <a:lnTo>
                          <a:pt x="2123" y="1391"/>
                        </a:lnTo>
                        <a:lnTo>
                          <a:pt x="2146" y="1355"/>
                        </a:lnTo>
                        <a:lnTo>
                          <a:pt x="2167" y="1313"/>
                        </a:lnTo>
                        <a:lnTo>
                          <a:pt x="2187" y="1275"/>
                        </a:lnTo>
                        <a:lnTo>
                          <a:pt x="2197" y="1236"/>
                        </a:lnTo>
                        <a:lnTo>
                          <a:pt x="2197" y="1198"/>
                        </a:lnTo>
                        <a:lnTo>
                          <a:pt x="2192" y="1157"/>
                        </a:lnTo>
                        <a:lnTo>
                          <a:pt x="2185" y="1116"/>
                        </a:lnTo>
                        <a:lnTo>
                          <a:pt x="2167" y="1084"/>
                        </a:lnTo>
                        <a:lnTo>
                          <a:pt x="2141" y="1049"/>
                        </a:lnTo>
                        <a:lnTo>
                          <a:pt x="2105" y="1005"/>
                        </a:lnTo>
                        <a:lnTo>
                          <a:pt x="2086" y="909"/>
                        </a:lnTo>
                        <a:lnTo>
                          <a:pt x="2064" y="835"/>
                        </a:lnTo>
                        <a:lnTo>
                          <a:pt x="2045" y="789"/>
                        </a:lnTo>
                        <a:lnTo>
                          <a:pt x="1993" y="695"/>
                        </a:lnTo>
                        <a:lnTo>
                          <a:pt x="1991" y="668"/>
                        </a:lnTo>
                        <a:lnTo>
                          <a:pt x="1993" y="603"/>
                        </a:lnTo>
                        <a:lnTo>
                          <a:pt x="1970" y="543"/>
                        </a:lnTo>
                        <a:lnTo>
                          <a:pt x="1934" y="480"/>
                        </a:lnTo>
                        <a:lnTo>
                          <a:pt x="1926" y="435"/>
                        </a:lnTo>
                        <a:lnTo>
                          <a:pt x="1916" y="361"/>
                        </a:lnTo>
                        <a:lnTo>
                          <a:pt x="1898" y="312"/>
                        </a:lnTo>
                        <a:lnTo>
                          <a:pt x="1888" y="257"/>
                        </a:lnTo>
                        <a:lnTo>
                          <a:pt x="1883" y="198"/>
                        </a:lnTo>
                        <a:lnTo>
                          <a:pt x="1888" y="150"/>
                        </a:lnTo>
                        <a:lnTo>
                          <a:pt x="1906" y="105"/>
                        </a:lnTo>
                        <a:lnTo>
                          <a:pt x="1860" y="0"/>
                        </a:lnTo>
                        <a:lnTo>
                          <a:pt x="893" y="10"/>
                        </a:lnTo>
                        <a:close/>
                      </a:path>
                    </a:pathLst>
                  </a:custGeom>
                  <a:solidFill>
                    <a:srgbClr val="ff9f9f"/>
                  </a:solidFill>
                  <a:ln w="82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5" name="Group 140"/>
                  <p:cNvGrpSpPr/>
                  <p:nvPr/>
                </p:nvGrpSpPr>
                <p:grpSpPr>
                  <a:xfrm>
                    <a:off x="7945200" y="3443760"/>
                    <a:ext cx="808920" cy="1312920"/>
                    <a:chOff x="7945200" y="3443760"/>
                    <a:chExt cx="808920" cy="1312920"/>
                  </a:xfrm>
                </p:grpSpPr>
                <p:grpSp>
                  <p:nvGrpSpPr>
                    <p:cNvPr id="446" name="Group 141"/>
                    <p:cNvGrpSpPr/>
                    <p:nvPr/>
                  </p:nvGrpSpPr>
                  <p:grpSpPr>
                    <a:xfrm>
                      <a:off x="7945200" y="3443760"/>
                      <a:ext cx="808920" cy="1312920"/>
                      <a:chOff x="7945200" y="3443760"/>
                      <a:chExt cx="808920" cy="1312920"/>
                    </a:xfrm>
                  </p:grpSpPr>
                  <p:sp>
                    <p:nvSpPr>
                      <p:cNvPr id="447" name="未知"/>
                      <p:cNvSpPr/>
                      <p:nvPr/>
                    </p:nvSpPr>
                    <p:spPr>
                      <a:xfrm rot="5400000">
                        <a:off x="8086320" y="4225680"/>
                        <a:ext cx="312120" cy="27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5" h="689">
                            <a:moveTo>
                              <a:pt x="75" y="482"/>
                            </a:moveTo>
                            <a:lnTo>
                              <a:pt x="80" y="451"/>
                            </a:lnTo>
                            <a:lnTo>
                              <a:pt x="77" y="430"/>
                            </a:lnTo>
                            <a:lnTo>
                              <a:pt x="69" y="400"/>
                            </a:lnTo>
                            <a:lnTo>
                              <a:pt x="56" y="374"/>
                            </a:lnTo>
                            <a:lnTo>
                              <a:pt x="47" y="350"/>
                            </a:lnTo>
                            <a:lnTo>
                              <a:pt x="34" y="315"/>
                            </a:lnTo>
                            <a:lnTo>
                              <a:pt x="23" y="281"/>
                            </a:lnTo>
                            <a:lnTo>
                              <a:pt x="13" y="240"/>
                            </a:lnTo>
                            <a:lnTo>
                              <a:pt x="7" y="206"/>
                            </a:lnTo>
                            <a:lnTo>
                              <a:pt x="2" y="173"/>
                            </a:lnTo>
                            <a:lnTo>
                              <a:pt x="0" y="137"/>
                            </a:lnTo>
                            <a:lnTo>
                              <a:pt x="0" y="111"/>
                            </a:lnTo>
                            <a:lnTo>
                              <a:pt x="7" y="86"/>
                            </a:lnTo>
                            <a:lnTo>
                              <a:pt x="18" y="65"/>
                            </a:lnTo>
                            <a:lnTo>
                              <a:pt x="33" y="49"/>
                            </a:lnTo>
                            <a:lnTo>
                              <a:pt x="61" y="29"/>
                            </a:lnTo>
                            <a:lnTo>
                              <a:pt x="87" y="14"/>
                            </a:lnTo>
                            <a:lnTo>
                              <a:pt x="118" y="3"/>
                            </a:lnTo>
                            <a:lnTo>
                              <a:pt x="147" y="0"/>
                            </a:lnTo>
                            <a:lnTo>
                              <a:pt x="177" y="3"/>
                            </a:lnTo>
                            <a:lnTo>
                              <a:pt x="204" y="14"/>
                            </a:lnTo>
                            <a:lnTo>
                              <a:pt x="234" y="29"/>
                            </a:lnTo>
                            <a:lnTo>
                              <a:pt x="263" y="47"/>
                            </a:lnTo>
                            <a:lnTo>
                              <a:pt x="288" y="75"/>
                            </a:lnTo>
                            <a:lnTo>
                              <a:pt x="307" y="98"/>
                            </a:lnTo>
                            <a:lnTo>
                              <a:pt x="320" y="117"/>
                            </a:lnTo>
                            <a:lnTo>
                              <a:pt x="338" y="144"/>
                            </a:lnTo>
                            <a:lnTo>
                              <a:pt x="353" y="166"/>
                            </a:lnTo>
                            <a:lnTo>
                              <a:pt x="366" y="191"/>
                            </a:lnTo>
                            <a:lnTo>
                              <a:pt x="378" y="217"/>
                            </a:lnTo>
                            <a:lnTo>
                              <a:pt x="402" y="297"/>
                            </a:lnTo>
                            <a:lnTo>
                              <a:pt x="432" y="390"/>
                            </a:lnTo>
                            <a:lnTo>
                              <a:pt x="436" y="454"/>
                            </a:lnTo>
                            <a:lnTo>
                              <a:pt x="466" y="533"/>
                            </a:lnTo>
                            <a:lnTo>
                              <a:pt x="485" y="601"/>
                            </a:lnTo>
                            <a:lnTo>
                              <a:pt x="485" y="689"/>
                            </a:lnTo>
                            <a:lnTo>
                              <a:pt x="481" y="689"/>
                            </a:lnTo>
                          </a:path>
                        </a:pathLst>
                      </a:custGeom>
                      <a:noFill/>
                      <a:ln w="82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33c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8" name="未知"/>
                      <p:cNvSpPr/>
                      <p:nvPr/>
                    </p:nvSpPr>
                    <p:spPr>
                      <a:xfrm rot="5400000">
                        <a:off x="7999200" y="4090680"/>
                        <a:ext cx="266400" cy="22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4" h="578">
                            <a:moveTo>
                              <a:pt x="0" y="137"/>
                            </a:moveTo>
                            <a:lnTo>
                              <a:pt x="4" y="121"/>
                            </a:lnTo>
                            <a:lnTo>
                              <a:pt x="9" y="100"/>
                            </a:lnTo>
                            <a:lnTo>
                              <a:pt x="17" y="80"/>
                            </a:lnTo>
                            <a:lnTo>
                              <a:pt x="28" y="59"/>
                            </a:lnTo>
                            <a:lnTo>
                              <a:pt x="38" y="44"/>
                            </a:lnTo>
                            <a:lnTo>
                              <a:pt x="59" y="23"/>
                            </a:lnTo>
                            <a:lnTo>
                              <a:pt x="77" y="10"/>
                            </a:lnTo>
                            <a:lnTo>
                              <a:pt x="92" y="3"/>
                            </a:lnTo>
                            <a:lnTo>
                              <a:pt x="123" y="0"/>
                            </a:lnTo>
                            <a:lnTo>
                              <a:pt x="146" y="1"/>
                            </a:lnTo>
                            <a:lnTo>
                              <a:pt x="167" y="6"/>
                            </a:lnTo>
                            <a:lnTo>
                              <a:pt x="192" y="18"/>
                            </a:lnTo>
                            <a:lnTo>
                              <a:pt x="216" y="39"/>
                            </a:lnTo>
                            <a:lnTo>
                              <a:pt x="233" y="59"/>
                            </a:lnTo>
                            <a:lnTo>
                              <a:pt x="247" y="83"/>
                            </a:lnTo>
                            <a:lnTo>
                              <a:pt x="262" y="108"/>
                            </a:lnTo>
                            <a:lnTo>
                              <a:pt x="278" y="142"/>
                            </a:lnTo>
                            <a:lnTo>
                              <a:pt x="303" y="191"/>
                            </a:lnTo>
                            <a:lnTo>
                              <a:pt x="329" y="234"/>
                            </a:lnTo>
                            <a:lnTo>
                              <a:pt x="345" y="260"/>
                            </a:lnTo>
                            <a:lnTo>
                              <a:pt x="370" y="301"/>
                            </a:lnTo>
                            <a:lnTo>
                              <a:pt x="393" y="337"/>
                            </a:lnTo>
                            <a:lnTo>
                              <a:pt x="406" y="364"/>
                            </a:lnTo>
                            <a:lnTo>
                              <a:pt x="412" y="395"/>
                            </a:lnTo>
                            <a:lnTo>
                              <a:pt x="414" y="425"/>
                            </a:lnTo>
                            <a:lnTo>
                              <a:pt x="414" y="453"/>
                            </a:lnTo>
                            <a:lnTo>
                              <a:pt x="409" y="477"/>
                            </a:lnTo>
                            <a:lnTo>
                              <a:pt x="403" y="502"/>
                            </a:lnTo>
                            <a:lnTo>
                              <a:pt x="394" y="528"/>
                            </a:lnTo>
                            <a:lnTo>
                              <a:pt x="388" y="551"/>
                            </a:lnTo>
                            <a:lnTo>
                              <a:pt x="378" y="578"/>
                            </a:lnTo>
                          </a:path>
                        </a:pathLst>
                      </a:custGeom>
                      <a:noFill/>
                      <a:ln w="82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33c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9" name="未知"/>
                      <p:cNvSpPr/>
                      <p:nvPr/>
                    </p:nvSpPr>
                    <p:spPr>
                      <a:xfrm rot="5400000">
                        <a:off x="8163000" y="4358160"/>
                        <a:ext cx="397800" cy="21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8" h="536">
                            <a:moveTo>
                              <a:pt x="25" y="234"/>
                            </a:moveTo>
                            <a:lnTo>
                              <a:pt x="15" y="203"/>
                            </a:lnTo>
                            <a:lnTo>
                              <a:pt x="8" y="176"/>
                            </a:lnTo>
                            <a:lnTo>
                              <a:pt x="3" y="144"/>
                            </a:lnTo>
                            <a:lnTo>
                              <a:pt x="0" y="114"/>
                            </a:lnTo>
                            <a:lnTo>
                              <a:pt x="2" y="91"/>
                            </a:lnTo>
                            <a:lnTo>
                              <a:pt x="10" y="72"/>
                            </a:lnTo>
                            <a:lnTo>
                              <a:pt x="25" y="51"/>
                            </a:lnTo>
                            <a:lnTo>
                              <a:pt x="48" y="28"/>
                            </a:lnTo>
                            <a:lnTo>
                              <a:pt x="72" y="11"/>
                            </a:lnTo>
                            <a:lnTo>
                              <a:pt x="97" y="1"/>
                            </a:lnTo>
                            <a:lnTo>
                              <a:pt x="124" y="0"/>
                            </a:lnTo>
                            <a:lnTo>
                              <a:pt x="160" y="5"/>
                            </a:lnTo>
                            <a:lnTo>
                              <a:pt x="203" y="16"/>
                            </a:lnTo>
                            <a:lnTo>
                              <a:pt x="232" y="34"/>
                            </a:lnTo>
                            <a:lnTo>
                              <a:pt x="257" y="49"/>
                            </a:lnTo>
                            <a:lnTo>
                              <a:pt x="280" y="69"/>
                            </a:lnTo>
                            <a:lnTo>
                              <a:pt x="298" y="88"/>
                            </a:lnTo>
                            <a:lnTo>
                              <a:pt x="319" y="113"/>
                            </a:lnTo>
                            <a:lnTo>
                              <a:pt x="340" y="142"/>
                            </a:lnTo>
                            <a:lnTo>
                              <a:pt x="368" y="185"/>
                            </a:lnTo>
                            <a:lnTo>
                              <a:pt x="396" y="234"/>
                            </a:lnTo>
                            <a:lnTo>
                              <a:pt x="410" y="260"/>
                            </a:lnTo>
                            <a:lnTo>
                              <a:pt x="427" y="281"/>
                            </a:lnTo>
                            <a:lnTo>
                              <a:pt x="451" y="306"/>
                            </a:lnTo>
                            <a:lnTo>
                              <a:pt x="476" y="333"/>
                            </a:lnTo>
                            <a:lnTo>
                              <a:pt x="509" y="364"/>
                            </a:lnTo>
                            <a:lnTo>
                              <a:pt x="527" y="387"/>
                            </a:lnTo>
                            <a:lnTo>
                              <a:pt x="554" y="425"/>
                            </a:lnTo>
                            <a:lnTo>
                              <a:pt x="574" y="456"/>
                            </a:lnTo>
                            <a:lnTo>
                              <a:pt x="592" y="485"/>
                            </a:lnTo>
                            <a:lnTo>
                              <a:pt x="607" y="511"/>
                            </a:lnTo>
                            <a:lnTo>
                              <a:pt x="618" y="536"/>
                            </a:lnTo>
                          </a:path>
                        </a:pathLst>
                      </a:custGeom>
                      <a:noFill/>
                      <a:ln w="82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33cc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50" name="Group 145"/>
                      <p:cNvGrpSpPr/>
                      <p:nvPr/>
                    </p:nvGrpSpPr>
                    <p:grpSpPr>
                      <a:xfrm>
                        <a:off x="7945200" y="3443760"/>
                        <a:ext cx="808920" cy="1312920"/>
                        <a:chOff x="7945200" y="3443760"/>
                        <a:chExt cx="808920" cy="1312920"/>
                      </a:xfrm>
                    </p:grpSpPr>
                    <p:grpSp>
                      <p:nvGrpSpPr>
                        <p:cNvPr id="451" name="Group 146"/>
                        <p:cNvGrpSpPr/>
                        <p:nvPr/>
                      </p:nvGrpSpPr>
                      <p:grpSpPr>
                        <a:xfrm>
                          <a:off x="8011080" y="3863520"/>
                          <a:ext cx="743040" cy="893160"/>
                          <a:chOff x="8011080" y="3863520"/>
                          <a:chExt cx="743040" cy="893160"/>
                        </a:xfrm>
                      </p:grpSpPr>
                      <p:grpSp>
                        <p:nvGrpSpPr>
                          <p:cNvPr id="452" name="Group 147"/>
                          <p:cNvGrpSpPr/>
                          <p:nvPr/>
                        </p:nvGrpSpPr>
                        <p:grpSpPr>
                          <a:xfrm>
                            <a:off x="8011080" y="4022280"/>
                            <a:ext cx="145440" cy="137880"/>
                            <a:chOff x="8011080" y="4022280"/>
                            <a:chExt cx="145440" cy="137880"/>
                          </a:xfrm>
                        </p:grpSpPr>
                        <p:sp>
                          <p:nvSpPr>
                            <p:cNvPr id="453" name="未知"/>
                            <p:cNvSpPr/>
                            <p:nvPr/>
                          </p:nvSpPr>
                          <p:spPr>
                            <a:xfrm rot="5400000">
                              <a:off x="8054280" y="4057920"/>
                              <a:ext cx="86400" cy="118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4" h="301">
                                  <a:moveTo>
                                    <a:pt x="0" y="0"/>
                                  </a:moveTo>
                                  <a:lnTo>
                                    <a:pt x="2" y="33"/>
                                  </a:lnTo>
                                  <a:lnTo>
                                    <a:pt x="7" y="65"/>
                                  </a:lnTo>
                                  <a:lnTo>
                                    <a:pt x="10" y="88"/>
                                  </a:lnTo>
                                  <a:lnTo>
                                    <a:pt x="15" y="114"/>
                                  </a:lnTo>
                                  <a:lnTo>
                                    <a:pt x="25" y="150"/>
                                  </a:lnTo>
                                  <a:lnTo>
                                    <a:pt x="36" y="183"/>
                                  </a:lnTo>
                                  <a:lnTo>
                                    <a:pt x="51" y="209"/>
                                  </a:lnTo>
                                  <a:lnTo>
                                    <a:pt x="67" y="232"/>
                                  </a:lnTo>
                                  <a:lnTo>
                                    <a:pt x="90" y="260"/>
                                  </a:lnTo>
                                  <a:lnTo>
                                    <a:pt x="112" y="281"/>
                                  </a:lnTo>
                                  <a:lnTo>
                                    <a:pt x="134" y="301"/>
                                  </a:lnTo>
                                </a:path>
                              </a:pathLst>
                            </a:custGeom>
                            <a:noFill/>
                            <a:ln w="82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33cc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54" name="未知"/>
                            <p:cNvSpPr/>
                            <p:nvPr/>
                          </p:nvSpPr>
                          <p:spPr>
                            <a:xfrm rot="5400000">
                              <a:off x="8016840" y="4095360"/>
                              <a:ext cx="29520" cy="41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6" h="106">
                                  <a:moveTo>
                                    <a:pt x="46" y="0"/>
                                  </a:moveTo>
                                  <a:lnTo>
                                    <a:pt x="29" y="11"/>
                                  </a:lnTo>
                                  <a:lnTo>
                                    <a:pt x="18" y="23"/>
                                  </a:lnTo>
                                  <a:lnTo>
                                    <a:pt x="6" y="37"/>
                                  </a:lnTo>
                                  <a:lnTo>
                                    <a:pt x="2" y="54"/>
                                  </a:lnTo>
                                  <a:lnTo>
                                    <a:pt x="0" y="75"/>
                                  </a:lnTo>
                                  <a:lnTo>
                                    <a:pt x="3" y="106"/>
                                  </a:lnTo>
                                </a:path>
                              </a:pathLst>
                            </a:custGeom>
                            <a:noFill/>
                            <a:ln w="82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400" bIns="-54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33cc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55" name="未知"/>
                            <p:cNvSpPr/>
                            <p:nvPr/>
                          </p:nvSpPr>
                          <p:spPr>
                            <a:xfrm rot="5400000">
                              <a:off x="8104680" y="4036680"/>
                              <a:ext cx="51480" cy="22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0" h="58">
                                  <a:moveTo>
                                    <a:pt x="80" y="0"/>
                                  </a:moveTo>
                                  <a:lnTo>
                                    <a:pt x="61" y="4"/>
                                  </a:lnTo>
                                  <a:lnTo>
                                    <a:pt x="43" y="13"/>
                                  </a:lnTo>
                                  <a:lnTo>
                                    <a:pt x="28" y="26"/>
                                  </a:lnTo>
                                  <a:lnTo>
                                    <a:pt x="10" y="42"/>
                                  </a:lnTo>
                                  <a:lnTo>
                                    <a:pt x="0" y="58"/>
                                  </a:lnTo>
                                </a:path>
                              </a:pathLst>
                            </a:custGeom>
                            <a:noFill/>
                            <a:ln w="82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4120" bIns="-2412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33cc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56" name="未知"/>
                          <p:cNvSpPr/>
                          <p:nvPr/>
                        </p:nvSpPr>
                        <p:spPr>
                          <a:xfrm rot="5400000">
                            <a:off x="8075880" y="4170960"/>
                            <a:ext cx="14076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9" h="114">
                                <a:moveTo>
                                  <a:pt x="0" y="42"/>
                                </a:moveTo>
                                <a:lnTo>
                                  <a:pt x="8" y="56"/>
                                </a:lnTo>
                                <a:lnTo>
                                  <a:pt x="22" y="75"/>
                                </a:lnTo>
                                <a:lnTo>
                                  <a:pt x="37" y="91"/>
                                </a:lnTo>
                                <a:lnTo>
                                  <a:pt x="54" y="101"/>
                                </a:lnTo>
                                <a:lnTo>
                                  <a:pt x="75" y="113"/>
                                </a:lnTo>
                                <a:lnTo>
                                  <a:pt x="101" y="114"/>
                                </a:lnTo>
                                <a:lnTo>
                                  <a:pt x="122" y="111"/>
                                </a:lnTo>
                                <a:lnTo>
                                  <a:pt x="142" y="105"/>
                                </a:lnTo>
                                <a:lnTo>
                                  <a:pt x="163" y="91"/>
                                </a:lnTo>
                                <a:lnTo>
                                  <a:pt x="178" y="80"/>
                                </a:lnTo>
                                <a:lnTo>
                                  <a:pt x="191" y="64"/>
                                </a:lnTo>
                                <a:lnTo>
                                  <a:pt x="201" y="47"/>
                                </a:lnTo>
                                <a:lnTo>
                                  <a:pt x="210" y="28"/>
                                </a:lnTo>
                                <a:lnTo>
                                  <a:pt x="219" y="0"/>
                                </a:lnTo>
                              </a:path>
                            </a:pathLst>
                          </a:custGeom>
                          <a:noFill/>
                          <a:ln w="82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7" name="未知"/>
                          <p:cNvSpPr/>
                          <p:nvPr/>
                        </p:nvSpPr>
                        <p:spPr>
                          <a:xfrm rot="5400000">
                            <a:off x="8240040" y="4257000"/>
                            <a:ext cx="140760" cy="88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9" h="227">
                                <a:moveTo>
                                  <a:pt x="0" y="121"/>
                                </a:moveTo>
                                <a:lnTo>
                                  <a:pt x="13" y="137"/>
                                </a:lnTo>
                                <a:lnTo>
                                  <a:pt x="24" y="155"/>
                                </a:lnTo>
                                <a:lnTo>
                                  <a:pt x="44" y="180"/>
                                </a:lnTo>
                                <a:lnTo>
                                  <a:pt x="64" y="203"/>
                                </a:lnTo>
                                <a:lnTo>
                                  <a:pt x="87" y="219"/>
                                </a:lnTo>
                                <a:lnTo>
                                  <a:pt x="108" y="227"/>
                                </a:lnTo>
                                <a:lnTo>
                                  <a:pt x="134" y="225"/>
                                </a:lnTo>
                                <a:lnTo>
                                  <a:pt x="155" y="219"/>
                                </a:lnTo>
                                <a:lnTo>
                                  <a:pt x="176" y="209"/>
                                </a:lnTo>
                                <a:lnTo>
                                  <a:pt x="191" y="199"/>
                                </a:lnTo>
                                <a:lnTo>
                                  <a:pt x="206" y="185"/>
                                </a:lnTo>
                                <a:lnTo>
                                  <a:pt x="219" y="158"/>
                                </a:lnTo>
                                <a:lnTo>
                                  <a:pt x="219" y="131"/>
                                </a:lnTo>
                                <a:lnTo>
                                  <a:pt x="216" y="100"/>
                                </a:lnTo>
                                <a:lnTo>
                                  <a:pt x="209" y="78"/>
                                </a:lnTo>
                                <a:lnTo>
                                  <a:pt x="198" y="54"/>
                                </a:lnTo>
                                <a:lnTo>
                                  <a:pt x="185" y="29"/>
                                </a:lnTo>
                                <a:lnTo>
                                  <a:pt x="167" y="0"/>
                                </a:lnTo>
                              </a:path>
                            </a:pathLst>
                          </a:custGeom>
                          <a:noFill/>
                          <a:ln w="82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2120" bIns="421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8" name="未知"/>
                          <p:cNvSpPr/>
                          <p:nvPr/>
                        </p:nvSpPr>
                        <p:spPr>
                          <a:xfrm rot="5400000">
                            <a:off x="8377920" y="4363920"/>
                            <a:ext cx="54000" cy="91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4" h="232">
                                <a:moveTo>
                                  <a:pt x="2" y="0"/>
                                </a:moveTo>
                                <a:lnTo>
                                  <a:pt x="46" y="62"/>
                                </a:lnTo>
                                <a:lnTo>
                                  <a:pt x="74" y="103"/>
                                </a:lnTo>
                                <a:lnTo>
                                  <a:pt x="80" y="125"/>
                                </a:lnTo>
                                <a:lnTo>
                                  <a:pt x="84" y="143"/>
                                </a:lnTo>
                                <a:lnTo>
                                  <a:pt x="79" y="182"/>
                                </a:lnTo>
                                <a:lnTo>
                                  <a:pt x="67" y="208"/>
                                </a:lnTo>
                                <a:lnTo>
                                  <a:pt x="51" y="224"/>
                                </a:lnTo>
                                <a:lnTo>
                                  <a:pt x="26" y="232"/>
                                </a:lnTo>
                                <a:lnTo>
                                  <a:pt x="0" y="228"/>
                                </a:lnTo>
                              </a:path>
                            </a:pathLst>
                          </a:custGeom>
                          <a:noFill/>
                          <a:ln w="82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4280" bIns="4428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9" name="未知"/>
                          <p:cNvSpPr/>
                          <p:nvPr/>
                        </p:nvSpPr>
                        <p:spPr>
                          <a:xfrm rot="5400000">
                            <a:off x="8273520" y="4519440"/>
                            <a:ext cx="343080" cy="13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33" h="335">
                                <a:moveTo>
                                  <a:pt x="0" y="137"/>
                                </a:moveTo>
                                <a:lnTo>
                                  <a:pt x="0" y="114"/>
                                </a:lnTo>
                                <a:lnTo>
                                  <a:pt x="3" y="93"/>
                                </a:lnTo>
                                <a:lnTo>
                                  <a:pt x="11" y="73"/>
                                </a:lnTo>
                                <a:lnTo>
                                  <a:pt x="24" y="54"/>
                                </a:lnTo>
                                <a:lnTo>
                                  <a:pt x="45" y="36"/>
                                </a:lnTo>
                                <a:lnTo>
                                  <a:pt x="67" y="19"/>
                                </a:lnTo>
                                <a:lnTo>
                                  <a:pt x="96" y="6"/>
                                </a:lnTo>
                                <a:lnTo>
                                  <a:pt x="124" y="0"/>
                                </a:lnTo>
                                <a:lnTo>
                                  <a:pt x="155" y="3"/>
                                </a:lnTo>
                                <a:lnTo>
                                  <a:pt x="184" y="14"/>
                                </a:lnTo>
                                <a:lnTo>
                                  <a:pt x="217" y="37"/>
                                </a:lnTo>
                                <a:lnTo>
                                  <a:pt x="255" y="65"/>
                                </a:lnTo>
                                <a:lnTo>
                                  <a:pt x="278" y="81"/>
                                </a:lnTo>
                                <a:lnTo>
                                  <a:pt x="320" y="129"/>
                                </a:lnTo>
                                <a:lnTo>
                                  <a:pt x="353" y="162"/>
                                </a:lnTo>
                                <a:lnTo>
                                  <a:pt x="377" y="188"/>
                                </a:lnTo>
                                <a:lnTo>
                                  <a:pt x="405" y="209"/>
                                </a:lnTo>
                                <a:lnTo>
                                  <a:pt x="439" y="237"/>
                                </a:lnTo>
                                <a:lnTo>
                                  <a:pt x="488" y="282"/>
                                </a:lnTo>
                                <a:lnTo>
                                  <a:pt x="533" y="335"/>
                                </a:lnTo>
                              </a:path>
                            </a:pathLst>
                          </a:custGeom>
                          <a:noFill/>
                          <a:ln w="82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0" name="未知"/>
                          <p:cNvSpPr/>
                          <p:nvPr/>
                        </p:nvSpPr>
                        <p:spPr>
                          <a:xfrm rot="5400000">
                            <a:off x="8417520" y="4471200"/>
                            <a:ext cx="74520" cy="68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6" h="175">
                                <a:moveTo>
                                  <a:pt x="68" y="0"/>
                                </a:moveTo>
                                <a:lnTo>
                                  <a:pt x="86" y="28"/>
                                </a:lnTo>
                                <a:lnTo>
                                  <a:pt x="103" y="56"/>
                                </a:lnTo>
                                <a:lnTo>
                                  <a:pt x="112" y="82"/>
                                </a:lnTo>
                                <a:lnTo>
                                  <a:pt x="116" y="111"/>
                                </a:lnTo>
                                <a:lnTo>
                                  <a:pt x="116" y="136"/>
                                </a:lnTo>
                                <a:lnTo>
                                  <a:pt x="101" y="159"/>
                                </a:lnTo>
                                <a:lnTo>
                                  <a:pt x="91" y="170"/>
                                </a:lnTo>
                                <a:lnTo>
                                  <a:pt x="68" y="175"/>
                                </a:lnTo>
                                <a:lnTo>
                                  <a:pt x="44" y="175"/>
                                </a:lnTo>
                                <a:lnTo>
                                  <a:pt x="23" y="169"/>
                                </a:lnTo>
                                <a:lnTo>
                                  <a:pt x="0" y="152"/>
                                </a:lnTo>
                              </a:path>
                            </a:pathLst>
                          </a:custGeom>
                          <a:noFill/>
                          <a:ln w="82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1600" bIns="216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1" name="未知"/>
                          <p:cNvSpPr/>
                          <p:nvPr/>
                        </p:nvSpPr>
                        <p:spPr>
                          <a:xfrm rot="5400000">
                            <a:off x="8148600" y="3938400"/>
                            <a:ext cx="234360" cy="151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4" h="387">
                                <a:moveTo>
                                  <a:pt x="364" y="0"/>
                                </a:moveTo>
                                <a:lnTo>
                                  <a:pt x="361" y="31"/>
                                </a:lnTo>
                                <a:lnTo>
                                  <a:pt x="358" y="58"/>
                                </a:lnTo>
                                <a:lnTo>
                                  <a:pt x="350" y="85"/>
                                </a:lnTo>
                                <a:lnTo>
                                  <a:pt x="340" y="112"/>
                                </a:lnTo>
                                <a:lnTo>
                                  <a:pt x="325" y="147"/>
                                </a:lnTo>
                                <a:lnTo>
                                  <a:pt x="310" y="171"/>
                                </a:lnTo>
                                <a:lnTo>
                                  <a:pt x="291" y="197"/>
                                </a:lnTo>
                                <a:lnTo>
                                  <a:pt x="265" y="217"/>
                                </a:lnTo>
                                <a:lnTo>
                                  <a:pt x="240" y="233"/>
                                </a:lnTo>
                                <a:lnTo>
                                  <a:pt x="214" y="243"/>
                                </a:lnTo>
                                <a:lnTo>
                                  <a:pt x="186" y="253"/>
                                </a:lnTo>
                                <a:lnTo>
                                  <a:pt x="149" y="266"/>
                                </a:lnTo>
                                <a:lnTo>
                                  <a:pt x="134" y="292"/>
                                </a:lnTo>
                                <a:lnTo>
                                  <a:pt x="121" y="305"/>
                                </a:lnTo>
                                <a:lnTo>
                                  <a:pt x="88" y="318"/>
                                </a:lnTo>
                                <a:lnTo>
                                  <a:pt x="54" y="331"/>
                                </a:lnTo>
                                <a:lnTo>
                                  <a:pt x="19" y="348"/>
                                </a:lnTo>
                                <a:lnTo>
                                  <a:pt x="0" y="387"/>
                                </a:lnTo>
                              </a:path>
                            </a:pathLst>
                          </a:custGeom>
                          <a:noFill/>
                          <a:ln w="82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2" name="未知"/>
                          <p:cNvSpPr/>
                          <p:nvPr/>
                        </p:nvSpPr>
                        <p:spPr>
                          <a:xfrm rot="5400000">
                            <a:off x="8576640" y="4438800"/>
                            <a:ext cx="259560" cy="29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3" h="76">
                                <a:moveTo>
                                  <a:pt x="0" y="76"/>
                                </a:moveTo>
                                <a:lnTo>
                                  <a:pt x="39" y="47"/>
                                </a:lnTo>
                                <a:lnTo>
                                  <a:pt x="75" y="29"/>
                                </a:lnTo>
                                <a:lnTo>
                                  <a:pt x="137" y="9"/>
                                </a:lnTo>
                                <a:lnTo>
                                  <a:pt x="193" y="1"/>
                                </a:lnTo>
                                <a:lnTo>
                                  <a:pt x="242" y="0"/>
                                </a:lnTo>
                                <a:lnTo>
                                  <a:pt x="287" y="4"/>
                                </a:lnTo>
                                <a:lnTo>
                                  <a:pt x="332" y="19"/>
                                </a:lnTo>
                                <a:lnTo>
                                  <a:pt x="368" y="36"/>
                                </a:lnTo>
                                <a:lnTo>
                                  <a:pt x="403" y="65"/>
                                </a:lnTo>
                              </a:path>
                            </a:pathLst>
                          </a:custGeom>
                          <a:noFill/>
                          <a:ln w="82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3" name="未知"/>
                          <p:cNvSpPr/>
                          <p:nvPr/>
                        </p:nvSpPr>
                        <p:spPr>
                          <a:xfrm rot="5400000">
                            <a:off x="8667000" y="4502520"/>
                            <a:ext cx="142920" cy="31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2" h="80">
                                <a:moveTo>
                                  <a:pt x="0" y="5"/>
                                </a:moveTo>
                                <a:lnTo>
                                  <a:pt x="29" y="3"/>
                                </a:lnTo>
                                <a:lnTo>
                                  <a:pt x="56" y="0"/>
                                </a:lnTo>
                                <a:lnTo>
                                  <a:pt x="96" y="7"/>
                                </a:lnTo>
                                <a:lnTo>
                                  <a:pt x="127" y="17"/>
                                </a:lnTo>
                                <a:lnTo>
                                  <a:pt x="160" y="33"/>
                                </a:lnTo>
                                <a:lnTo>
                                  <a:pt x="193" y="53"/>
                                </a:lnTo>
                                <a:lnTo>
                                  <a:pt x="222" y="80"/>
                                </a:lnTo>
                              </a:path>
                            </a:pathLst>
                          </a:custGeom>
                          <a:noFill/>
                          <a:ln w="82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5480" bIns="-1548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4" name="未知"/>
                          <p:cNvSpPr/>
                          <p:nvPr/>
                        </p:nvSpPr>
                        <p:spPr>
                          <a:xfrm rot="5400000">
                            <a:off x="8507520" y="3955320"/>
                            <a:ext cx="267840" cy="83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16" h="214">
                                <a:moveTo>
                                  <a:pt x="0" y="214"/>
                                </a:moveTo>
                                <a:lnTo>
                                  <a:pt x="50" y="175"/>
                                </a:lnTo>
                                <a:lnTo>
                                  <a:pt x="82" y="149"/>
                                </a:lnTo>
                                <a:lnTo>
                                  <a:pt x="107" y="121"/>
                                </a:lnTo>
                                <a:lnTo>
                                  <a:pt x="126" y="96"/>
                                </a:lnTo>
                                <a:lnTo>
                                  <a:pt x="146" y="72"/>
                                </a:lnTo>
                                <a:lnTo>
                                  <a:pt x="172" y="51"/>
                                </a:lnTo>
                                <a:lnTo>
                                  <a:pt x="195" y="33"/>
                                </a:lnTo>
                                <a:lnTo>
                                  <a:pt x="224" y="18"/>
                                </a:lnTo>
                                <a:lnTo>
                                  <a:pt x="254" y="7"/>
                                </a:lnTo>
                                <a:lnTo>
                                  <a:pt x="287" y="2"/>
                                </a:lnTo>
                                <a:lnTo>
                                  <a:pt x="332" y="0"/>
                                </a:lnTo>
                                <a:lnTo>
                                  <a:pt x="416" y="3"/>
                                </a:lnTo>
                              </a:path>
                            </a:pathLst>
                          </a:custGeom>
                          <a:noFill/>
                          <a:ln w="82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7080" bIns="3708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5" name="未知"/>
                        <p:cNvSpPr/>
                        <p:nvPr/>
                      </p:nvSpPr>
                      <p:spPr>
                        <a:xfrm rot="5400000">
                          <a:off x="7949520" y="3439080"/>
                          <a:ext cx="82080" cy="9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8" h="232">
                              <a:moveTo>
                                <a:pt x="72" y="0"/>
                              </a:moveTo>
                              <a:lnTo>
                                <a:pt x="89" y="4"/>
                              </a:lnTo>
                              <a:lnTo>
                                <a:pt x="108" y="17"/>
                              </a:lnTo>
                              <a:lnTo>
                                <a:pt x="123" y="33"/>
                              </a:lnTo>
                              <a:lnTo>
                                <a:pt x="128" y="48"/>
                              </a:lnTo>
                              <a:lnTo>
                                <a:pt x="123" y="85"/>
                              </a:lnTo>
                              <a:lnTo>
                                <a:pt x="115" y="107"/>
                              </a:lnTo>
                              <a:lnTo>
                                <a:pt x="97" y="141"/>
                              </a:lnTo>
                              <a:lnTo>
                                <a:pt x="74" y="169"/>
                              </a:lnTo>
                              <a:lnTo>
                                <a:pt x="56" y="188"/>
                              </a:lnTo>
                              <a:lnTo>
                                <a:pt x="35" y="206"/>
                              </a:lnTo>
                              <a:lnTo>
                                <a:pt x="0" y="232"/>
                              </a:lnTo>
                            </a:path>
                          </a:pathLst>
                        </a:custGeom>
                        <a:noFill/>
                        <a:ln w="82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4280" bIns="44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66" name="未知"/>
                    <p:cNvSpPr/>
                    <p:nvPr/>
                  </p:nvSpPr>
                  <p:spPr>
                    <a:xfrm rot="5400000">
                      <a:off x="8508600" y="4300560"/>
                      <a:ext cx="29520" cy="10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280">
                          <a:moveTo>
                            <a:pt x="11" y="0"/>
                          </a:moveTo>
                          <a:lnTo>
                            <a:pt x="28" y="47"/>
                          </a:lnTo>
                          <a:lnTo>
                            <a:pt x="37" y="82"/>
                          </a:lnTo>
                          <a:lnTo>
                            <a:pt x="41" y="103"/>
                          </a:lnTo>
                          <a:lnTo>
                            <a:pt x="46" y="132"/>
                          </a:lnTo>
                          <a:lnTo>
                            <a:pt x="46" y="170"/>
                          </a:lnTo>
                          <a:lnTo>
                            <a:pt x="42" y="195"/>
                          </a:lnTo>
                          <a:lnTo>
                            <a:pt x="37" y="214"/>
                          </a:lnTo>
                          <a:lnTo>
                            <a:pt x="29" y="231"/>
                          </a:lnTo>
                          <a:lnTo>
                            <a:pt x="15" y="257"/>
                          </a:lnTo>
                          <a:lnTo>
                            <a:pt x="0" y="280"/>
                          </a:lnTo>
                        </a:path>
                      </a:pathLst>
                    </a:custGeom>
                    <a:noFill/>
                    <a:ln w="82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7" name="Group 162"/>
              <p:cNvGrpSpPr/>
              <p:nvPr/>
            </p:nvGrpSpPr>
            <p:grpSpPr>
              <a:xfrm>
                <a:off x="8732880" y="3939120"/>
                <a:ext cx="411120" cy="1050480"/>
                <a:chOff x="8732880" y="3939120"/>
                <a:chExt cx="411120" cy="1050480"/>
              </a:xfrm>
            </p:grpSpPr>
            <p:sp>
              <p:nvSpPr>
                <p:cNvPr id="468" name="未知"/>
                <p:cNvSpPr/>
                <p:nvPr/>
              </p:nvSpPr>
              <p:spPr>
                <a:xfrm rot="5400000">
                  <a:off x="8406720" y="4288680"/>
                  <a:ext cx="848880" cy="196920"/>
                </a:xfrm>
                <a:custGeom>
                  <a:avLst/>
                  <a:gdLst/>
                  <a:ahLst/>
                  <a:rect l="l" t="t" r="r" b="b"/>
                  <a:pathLst>
                    <a:path w="1318" h="502">
                      <a:moveTo>
                        <a:pt x="16" y="9"/>
                      </a:moveTo>
                      <a:lnTo>
                        <a:pt x="31" y="55"/>
                      </a:lnTo>
                      <a:lnTo>
                        <a:pt x="0" y="361"/>
                      </a:lnTo>
                      <a:lnTo>
                        <a:pt x="129" y="345"/>
                      </a:lnTo>
                      <a:lnTo>
                        <a:pt x="234" y="335"/>
                      </a:lnTo>
                      <a:lnTo>
                        <a:pt x="397" y="333"/>
                      </a:lnTo>
                      <a:lnTo>
                        <a:pt x="548" y="338"/>
                      </a:lnTo>
                      <a:lnTo>
                        <a:pt x="633" y="343"/>
                      </a:lnTo>
                      <a:lnTo>
                        <a:pt x="791" y="367"/>
                      </a:lnTo>
                      <a:lnTo>
                        <a:pt x="904" y="389"/>
                      </a:lnTo>
                      <a:lnTo>
                        <a:pt x="976" y="403"/>
                      </a:lnTo>
                      <a:lnTo>
                        <a:pt x="1048" y="425"/>
                      </a:lnTo>
                      <a:lnTo>
                        <a:pt x="1141" y="462"/>
                      </a:lnTo>
                      <a:lnTo>
                        <a:pt x="1185" y="484"/>
                      </a:lnTo>
                      <a:lnTo>
                        <a:pt x="1216" y="502"/>
                      </a:lnTo>
                      <a:lnTo>
                        <a:pt x="1318" y="248"/>
                      </a:lnTo>
                      <a:lnTo>
                        <a:pt x="924" y="108"/>
                      </a:lnTo>
                      <a:lnTo>
                        <a:pt x="533" y="19"/>
                      </a:lnTo>
                      <a:lnTo>
                        <a:pt x="231" y="0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69" name="未知"/>
                <p:cNvSpPr/>
                <p:nvPr/>
              </p:nvSpPr>
              <p:spPr>
                <a:xfrm rot="5400000">
                  <a:off x="8436240" y="4281840"/>
                  <a:ext cx="1050480" cy="365040"/>
                </a:xfrm>
                <a:custGeom>
                  <a:avLst/>
                  <a:gdLst/>
                  <a:ahLst/>
                  <a:rect l="l" t="t" r="r" b="b"/>
                  <a:pathLst>
                    <a:path w="1631" h="930">
                      <a:moveTo>
                        <a:pt x="0" y="0"/>
                      </a:moveTo>
                      <a:lnTo>
                        <a:pt x="1631" y="0"/>
                      </a:lnTo>
                      <a:lnTo>
                        <a:pt x="1444" y="930"/>
                      </a:lnTo>
                      <a:lnTo>
                        <a:pt x="1364" y="881"/>
                      </a:lnTo>
                      <a:lnTo>
                        <a:pt x="1194" y="804"/>
                      </a:lnTo>
                      <a:lnTo>
                        <a:pt x="1104" y="765"/>
                      </a:lnTo>
                      <a:lnTo>
                        <a:pt x="1062" y="747"/>
                      </a:lnTo>
                      <a:lnTo>
                        <a:pt x="977" y="721"/>
                      </a:lnTo>
                      <a:lnTo>
                        <a:pt x="913" y="704"/>
                      </a:lnTo>
                      <a:lnTo>
                        <a:pt x="838" y="685"/>
                      </a:lnTo>
                      <a:lnTo>
                        <a:pt x="756" y="660"/>
                      </a:lnTo>
                      <a:lnTo>
                        <a:pt x="634" y="632"/>
                      </a:lnTo>
                      <a:lnTo>
                        <a:pt x="519" y="616"/>
                      </a:lnTo>
                      <a:lnTo>
                        <a:pt x="379" y="601"/>
                      </a:lnTo>
                      <a:lnTo>
                        <a:pt x="276" y="596"/>
                      </a:lnTo>
                      <a:lnTo>
                        <a:pt x="148" y="596"/>
                      </a:lnTo>
                      <a:lnTo>
                        <a:pt x="44" y="5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70" name="Text Box 165"/>
          <p:cNvSpPr/>
          <p:nvPr/>
        </p:nvSpPr>
        <p:spPr>
          <a:xfrm>
            <a:off x="4114800" y="441972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ff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1" name="Text Box 166"/>
          <p:cNvSpPr/>
          <p:nvPr/>
        </p:nvSpPr>
        <p:spPr>
          <a:xfrm>
            <a:off x="6554880" y="2624040"/>
            <a:ext cx="361800" cy="6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Rectangle 168"/>
          <p:cNvSpPr/>
          <p:nvPr/>
        </p:nvSpPr>
        <p:spPr>
          <a:xfrm>
            <a:off x="685800" y="5257800"/>
            <a:ext cx="1928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F</a:t>
            </a:r>
            <a:r>
              <a:rPr b="1" i="1" lang="zh-CN" sz="3200" spc="-1" strike="noStrike" baseline="-25000">
                <a:solidFill>
                  <a:srgbClr val="0033cc"/>
                </a:solidFill>
                <a:latin typeface="Times New Roman"/>
              </a:rPr>
              <a:t>压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= 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3" name="Rectangle 169"/>
          <p:cNvSpPr/>
          <p:nvPr/>
        </p:nvSpPr>
        <p:spPr>
          <a:xfrm>
            <a:off x="3809880" y="5105520"/>
            <a:ext cx="1928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F</a:t>
            </a:r>
            <a:r>
              <a:rPr b="1" i="1" lang="zh-CN" sz="3200" spc="-1" strike="noStrike" baseline="-25000">
                <a:solidFill>
                  <a:srgbClr val="0033cc"/>
                </a:solidFill>
                <a:latin typeface="Times New Roman"/>
              </a:rPr>
              <a:t>压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≠ 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4" name="Rectangle 170"/>
          <p:cNvSpPr/>
          <p:nvPr/>
        </p:nvSpPr>
        <p:spPr>
          <a:xfrm>
            <a:off x="5943600" y="5181480"/>
            <a:ext cx="3048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F</a:t>
            </a:r>
            <a:r>
              <a:rPr b="1" i="1" lang="zh-CN" sz="3200" spc="-1" strike="noStrike" baseline="-25000">
                <a:solidFill>
                  <a:srgbClr val="0033cc"/>
                </a:solidFill>
                <a:latin typeface="Times New Roman"/>
              </a:rPr>
              <a:t>压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 与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G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无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2533680" y="4025880"/>
            <a:ext cx="360" cy="914400"/>
            <a:chOff x="2533680" y="4025880"/>
            <a:chExt cx="360" cy="914400"/>
          </a:xfrm>
        </p:grpSpPr>
        <p:sp>
          <p:nvSpPr>
            <p:cNvPr id="476" name="Line 171"/>
            <p:cNvSpPr/>
            <p:nvPr/>
          </p:nvSpPr>
          <p:spPr>
            <a:xfrm>
              <a:off x="2533680" y="4025880"/>
              <a:ext cx="0" cy="9144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>
              <a:off x="2533680" y="4025880"/>
              <a:ext cx="36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78" name="Text Box 173"/>
          <p:cNvSpPr/>
          <p:nvPr/>
        </p:nvSpPr>
        <p:spPr>
          <a:xfrm>
            <a:off x="609480" y="4052880"/>
            <a:ext cx="5446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79" name="Group 205"/>
          <p:cNvGrpSpPr/>
          <p:nvPr/>
        </p:nvGrpSpPr>
        <p:grpSpPr>
          <a:xfrm>
            <a:off x="247680" y="3416400"/>
            <a:ext cx="3104640" cy="666360"/>
            <a:chOff x="247680" y="3416400"/>
            <a:chExt cx="3104640" cy="666360"/>
          </a:xfrm>
        </p:grpSpPr>
        <p:sp>
          <p:nvSpPr>
            <p:cNvPr id="480" name="Rectangle 89"/>
            <p:cNvSpPr/>
            <p:nvPr/>
          </p:nvSpPr>
          <p:spPr>
            <a:xfrm>
              <a:off x="2209680" y="3429000"/>
              <a:ext cx="615960" cy="606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81" name="Group 90"/>
            <p:cNvGrpSpPr/>
            <p:nvPr/>
          </p:nvGrpSpPr>
          <p:grpSpPr>
            <a:xfrm>
              <a:off x="1847880" y="3989520"/>
              <a:ext cx="1504440" cy="93240"/>
              <a:chOff x="1847880" y="3989520"/>
              <a:chExt cx="1504440" cy="93240"/>
            </a:xfrm>
          </p:grpSpPr>
          <p:grpSp>
            <p:nvGrpSpPr>
              <p:cNvPr id="482" name=""/>
              <p:cNvGrpSpPr/>
              <p:nvPr/>
            </p:nvGrpSpPr>
            <p:grpSpPr>
              <a:xfrm>
                <a:off x="1847880" y="3994920"/>
                <a:ext cx="134640" cy="87840"/>
                <a:chOff x="1847880" y="3994920"/>
                <a:chExt cx="134640" cy="87840"/>
              </a:xfrm>
            </p:grpSpPr>
            <p:sp>
              <p:nvSpPr>
                <p:cNvPr id="483" name="Line 91"/>
                <p:cNvSpPr/>
                <p:nvPr/>
              </p:nvSpPr>
              <p:spPr>
                <a:xfrm flipH="1">
                  <a:off x="1847880" y="3994920"/>
                  <a:ext cx="134640" cy="87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 txBox="1"/>
                <p:nvPr/>
              </p:nvSpPr>
              <p:spPr>
                <a:xfrm>
                  <a:off x="1847880" y="3994920"/>
                  <a:ext cx="134640" cy="8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040" bIns="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1982520" y="3994920"/>
                <a:ext cx="136080" cy="87840"/>
                <a:chOff x="1982520" y="3994920"/>
                <a:chExt cx="136080" cy="87840"/>
              </a:xfrm>
            </p:grpSpPr>
            <p:sp>
              <p:nvSpPr>
                <p:cNvPr id="486" name="Line 92"/>
                <p:cNvSpPr/>
                <p:nvPr/>
              </p:nvSpPr>
              <p:spPr>
                <a:xfrm flipH="1">
                  <a:off x="1982520" y="3994920"/>
                  <a:ext cx="136080" cy="87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 txBox="1"/>
                <p:nvPr/>
              </p:nvSpPr>
              <p:spPr>
                <a:xfrm>
                  <a:off x="1982520" y="3994920"/>
                  <a:ext cx="136080" cy="8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040" bIns="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2118960" y="3994920"/>
                <a:ext cx="134640" cy="87840"/>
                <a:chOff x="2118960" y="3994920"/>
                <a:chExt cx="134640" cy="87840"/>
              </a:xfrm>
            </p:grpSpPr>
            <p:sp>
              <p:nvSpPr>
                <p:cNvPr id="489" name="Line 93"/>
                <p:cNvSpPr/>
                <p:nvPr/>
              </p:nvSpPr>
              <p:spPr>
                <a:xfrm flipH="1">
                  <a:off x="2118960" y="3994920"/>
                  <a:ext cx="134640" cy="87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 txBox="1"/>
                <p:nvPr/>
              </p:nvSpPr>
              <p:spPr>
                <a:xfrm>
                  <a:off x="2118960" y="3994920"/>
                  <a:ext cx="134640" cy="8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040" bIns="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2253600" y="3994920"/>
                <a:ext cx="134640" cy="87840"/>
                <a:chOff x="2253600" y="3994920"/>
                <a:chExt cx="134640" cy="87840"/>
              </a:xfrm>
            </p:grpSpPr>
            <p:sp>
              <p:nvSpPr>
                <p:cNvPr id="492" name="Line 94"/>
                <p:cNvSpPr/>
                <p:nvPr/>
              </p:nvSpPr>
              <p:spPr>
                <a:xfrm flipH="1">
                  <a:off x="2253600" y="3994920"/>
                  <a:ext cx="134640" cy="87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 txBox="1"/>
                <p:nvPr/>
              </p:nvSpPr>
              <p:spPr>
                <a:xfrm>
                  <a:off x="2253600" y="3994920"/>
                  <a:ext cx="134640" cy="8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040" bIns="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2388600" y="3994920"/>
                <a:ext cx="134640" cy="87840"/>
                <a:chOff x="2388600" y="3994920"/>
                <a:chExt cx="134640" cy="87840"/>
              </a:xfrm>
            </p:grpSpPr>
            <p:sp>
              <p:nvSpPr>
                <p:cNvPr id="495" name="Line 95"/>
                <p:cNvSpPr/>
                <p:nvPr/>
              </p:nvSpPr>
              <p:spPr>
                <a:xfrm flipH="1">
                  <a:off x="2388600" y="3994920"/>
                  <a:ext cx="134640" cy="87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 txBox="1"/>
                <p:nvPr/>
              </p:nvSpPr>
              <p:spPr>
                <a:xfrm>
                  <a:off x="2388600" y="3994920"/>
                  <a:ext cx="134640" cy="8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040" bIns="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2523600" y="3994920"/>
                <a:ext cx="136080" cy="87840"/>
                <a:chOff x="2523600" y="3994920"/>
                <a:chExt cx="136080" cy="87840"/>
              </a:xfrm>
            </p:grpSpPr>
            <p:sp>
              <p:nvSpPr>
                <p:cNvPr id="498" name="Line 96"/>
                <p:cNvSpPr/>
                <p:nvPr/>
              </p:nvSpPr>
              <p:spPr>
                <a:xfrm flipH="1">
                  <a:off x="2523600" y="3994920"/>
                  <a:ext cx="136080" cy="87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 txBox="1"/>
                <p:nvPr/>
              </p:nvSpPr>
              <p:spPr>
                <a:xfrm>
                  <a:off x="2523600" y="3994920"/>
                  <a:ext cx="136080" cy="8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040" bIns="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2659680" y="3994920"/>
                <a:ext cx="134640" cy="87840"/>
                <a:chOff x="2659680" y="3994920"/>
                <a:chExt cx="134640" cy="87840"/>
              </a:xfrm>
            </p:grpSpPr>
            <p:sp>
              <p:nvSpPr>
                <p:cNvPr id="501" name="Line 97"/>
                <p:cNvSpPr/>
                <p:nvPr/>
              </p:nvSpPr>
              <p:spPr>
                <a:xfrm flipH="1">
                  <a:off x="2659680" y="3994920"/>
                  <a:ext cx="134640" cy="87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 txBox="1"/>
                <p:nvPr/>
              </p:nvSpPr>
              <p:spPr>
                <a:xfrm>
                  <a:off x="2659680" y="3994920"/>
                  <a:ext cx="134640" cy="8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040" bIns="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2794680" y="3994920"/>
                <a:ext cx="134640" cy="87840"/>
                <a:chOff x="2794680" y="3994920"/>
                <a:chExt cx="134640" cy="87840"/>
              </a:xfrm>
            </p:grpSpPr>
            <p:sp>
              <p:nvSpPr>
                <p:cNvPr id="504" name="Line 98"/>
                <p:cNvSpPr/>
                <p:nvPr/>
              </p:nvSpPr>
              <p:spPr>
                <a:xfrm flipH="1">
                  <a:off x="2794680" y="3994920"/>
                  <a:ext cx="134640" cy="87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 txBox="1"/>
                <p:nvPr/>
              </p:nvSpPr>
              <p:spPr>
                <a:xfrm>
                  <a:off x="2794680" y="3994920"/>
                  <a:ext cx="134640" cy="8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040" bIns="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2929680" y="3994920"/>
                <a:ext cx="134640" cy="87840"/>
                <a:chOff x="2929680" y="3994920"/>
                <a:chExt cx="134640" cy="87840"/>
              </a:xfrm>
            </p:grpSpPr>
            <p:sp>
              <p:nvSpPr>
                <p:cNvPr id="507" name="Line 99"/>
                <p:cNvSpPr/>
                <p:nvPr/>
              </p:nvSpPr>
              <p:spPr>
                <a:xfrm flipH="1">
                  <a:off x="2929680" y="3994920"/>
                  <a:ext cx="134640" cy="87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 txBox="1"/>
                <p:nvPr/>
              </p:nvSpPr>
              <p:spPr>
                <a:xfrm>
                  <a:off x="2929680" y="3994920"/>
                  <a:ext cx="134640" cy="8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040" bIns="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3064680" y="3994920"/>
                <a:ext cx="136080" cy="87840"/>
                <a:chOff x="3064680" y="3994920"/>
                <a:chExt cx="136080" cy="87840"/>
              </a:xfrm>
            </p:grpSpPr>
            <p:sp>
              <p:nvSpPr>
                <p:cNvPr id="510" name="Line 100"/>
                <p:cNvSpPr/>
                <p:nvPr/>
              </p:nvSpPr>
              <p:spPr>
                <a:xfrm flipH="1">
                  <a:off x="3064680" y="3994920"/>
                  <a:ext cx="136080" cy="87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 txBox="1"/>
                <p:nvPr/>
              </p:nvSpPr>
              <p:spPr>
                <a:xfrm>
                  <a:off x="3064680" y="3994920"/>
                  <a:ext cx="136080" cy="8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040" bIns="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00760" y="3994920"/>
                <a:ext cx="134640" cy="87840"/>
                <a:chOff x="3200760" y="3994920"/>
                <a:chExt cx="134640" cy="87840"/>
              </a:xfrm>
            </p:grpSpPr>
            <p:sp>
              <p:nvSpPr>
                <p:cNvPr id="513" name="Line 101"/>
                <p:cNvSpPr/>
                <p:nvPr/>
              </p:nvSpPr>
              <p:spPr>
                <a:xfrm flipH="1">
                  <a:off x="3200760" y="3994920"/>
                  <a:ext cx="134640" cy="87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 txBox="1"/>
                <p:nvPr/>
              </p:nvSpPr>
              <p:spPr>
                <a:xfrm>
                  <a:off x="3200760" y="3994920"/>
                  <a:ext cx="134640" cy="8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040" bIns="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1873440" y="3989520"/>
                <a:ext cx="1478880" cy="360"/>
                <a:chOff x="1873440" y="3989520"/>
                <a:chExt cx="1478880" cy="360"/>
              </a:xfrm>
            </p:grpSpPr>
            <p:sp>
              <p:nvSpPr>
                <p:cNvPr id="516" name="Line 102"/>
                <p:cNvSpPr/>
                <p:nvPr/>
              </p:nvSpPr>
              <p:spPr>
                <a:xfrm>
                  <a:off x="1873440" y="3989520"/>
                  <a:ext cx="1478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 txBox="1"/>
                <p:nvPr/>
              </p:nvSpPr>
              <p:spPr>
                <a:xfrm>
                  <a:off x="1873440" y="3989520"/>
                  <a:ext cx="147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8" name="Rectangle 174"/>
            <p:cNvSpPr/>
            <p:nvPr/>
          </p:nvSpPr>
          <p:spPr>
            <a:xfrm>
              <a:off x="609480" y="3416400"/>
              <a:ext cx="615960" cy="606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519" name="Group 175"/>
            <p:cNvGrpSpPr/>
            <p:nvPr/>
          </p:nvGrpSpPr>
          <p:grpSpPr>
            <a:xfrm>
              <a:off x="247680" y="3976560"/>
              <a:ext cx="1504440" cy="93600"/>
              <a:chOff x="247680" y="3976560"/>
              <a:chExt cx="1504440" cy="93600"/>
            </a:xfrm>
          </p:grpSpPr>
          <p:grpSp>
            <p:nvGrpSpPr>
              <p:cNvPr id="520" name=""/>
              <p:cNvGrpSpPr/>
              <p:nvPr/>
            </p:nvGrpSpPr>
            <p:grpSpPr>
              <a:xfrm>
                <a:off x="247680" y="3981960"/>
                <a:ext cx="134640" cy="88200"/>
                <a:chOff x="247680" y="3981960"/>
                <a:chExt cx="134640" cy="88200"/>
              </a:xfrm>
            </p:grpSpPr>
            <p:sp>
              <p:nvSpPr>
                <p:cNvPr id="521" name="Line 176"/>
                <p:cNvSpPr/>
                <p:nvPr/>
              </p:nvSpPr>
              <p:spPr>
                <a:xfrm flipH="1">
                  <a:off x="247680" y="3981960"/>
                  <a:ext cx="134640" cy="8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 txBox="1"/>
                <p:nvPr/>
              </p:nvSpPr>
              <p:spPr>
                <a:xfrm>
                  <a:off x="247680" y="3981960"/>
                  <a:ext cx="134640" cy="8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400" bIns="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382320" y="3981960"/>
                <a:ext cx="136080" cy="88200"/>
                <a:chOff x="382320" y="3981960"/>
                <a:chExt cx="136080" cy="88200"/>
              </a:xfrm>
            </p:grpSpPr>
            <p:sp>
              <p:nvSpPr>
                <p:cNvPr id="524" name="Line 177"/>
                <p:cNvSpPr/>
                <p:nvPr/>
              </p:nvSpPr>
              <p:spPr>
                <a:xfrm flipH="1">
                  <a:off x="382320" y="3981960"/>
                  <a:ext cx="136080" cy="8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 txBox="1"/>
                <p:nvPr/>
              </p:nvSpPr>
              <p:spPr>
                <a:xfrm>
                  <a:off x="382320" y="3981960"/>
                  <a:ext cx="136080" cy="8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400" bIns="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518760" y="3981960"/>
                <a:ext cx="134640" cy="88200"/>
                <a:chOff x="518760" y="3981960"/>
                <a:chExt cx="134640" cy="88200"/>
              </a:xfrm>
            </p:grpSpPr>
            <p:sp>
              <p:nvSpPr>
                <p:cNvPr id="527" name="Line 178"/>
                <p:cNvSpPr/>
                <p:nvPr/>
              </p:nvSpPr>
              <p:spPr>
                <a:xfrm flipH="1">
                  <a:off x="518760" y="3981960"/>
                  <a:ext cx="134640" cy="8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 txBox="1"/>
                <p:nvPr/>
              </p:nvSpPr>
              <p:spPr>
                <a:xfrm>
                  <a:off x="518760" y="3981960"/>
                  <a:ext cx="134640" cy="8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400" bIns="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653400" y="3981960"/>
                <a:ext cx="134640" cy="88200"/>
                <a:chOff x="653400" y="3981960"/>
                <a:chExt cx="134640" cy="88200"/>
              </a:xfrm>
            </p:grpSpPr>
            <p:sp>
              <p:nvSpPr>
                <p:cNvPr id="530" name="Line 179"/>
                <p:cNvSpPr/>
                <p:nvPr/>
              </p:nvSpPr>
              <p:spPr>
                <a:xfrm flipH="1">
                  <a:off x="653400" y="3981960"/>
                  <a:ext cx="134640" cy="8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 txBox="1"/>
                <p:nvPr/>
              </p:nvSpPr>
              <p:spPr>
                <a:xfrm>
                  <a:off x="653400" y="3981960"/>
                  <a:ext cx="134640" cy="8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400" bIns="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788400" y="3981960"/>
                <a:ext cx="134640" cy="88200"/>
                <a:chOff x="788400" y="3981960"/>
                <a:chExt cx="134640" cy="88200"/>
              </a:xfrm>
            </p:grpSpPr>
            <p:sp>
              <p:nvSpPr>
                <p:cNvPr id="533" name="Line 180"/>
                <p:cNvSpPr/>
                <p:nvPr/>
              </p:nvSpPr>
              <p:spPr>
                <a:xfrm flipH="1">
                  <a:off x="788400" y="3981960"/>
                  <a:ext cx="134640" cy="8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 txBox="1"/>
                <p:nvPr/>
              </p:nvSpPr>
              <p:spPr>
                <a:xfrm>
                  <a:off x="788400" y="3981960"/>
                  <a:ext cx="134640" cy="8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400" bIns="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923400" y="3981960"/>
                <a:ext cx="136080" cy="88200"/>
                <a:chOff x="923400" y="3981960"/>
                <a:chExt cx="136080" cy="88200"/>
              </a:xfrm>
            </p:grpSpPr>
            <p:sp>
              <p:nvSpPr>
                <p:cNvPr id="536" name="Line 181"/>
                <p:cNvSpPr/>
                <p:nvPr/>
              </p:nvSpPr>
              <p:spPr>
                <a:xfrm flipH="1">
                  <a:off x="923400" y="3981960"/>
                  <a:ext cx="136080" cy="8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 txBox="1"/>
                <p:nvPr/>
              </p:nvSpPr>
              <p:spPr>
                <a:xfrm>
                  <a:off x="923400" y="3981960"/>
                  <a:ext cx="136080" cy="8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400" bIns="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1059480" y="3981960"/>
                <a:ext cx="134640" cy="88200"/>
                <a:chOff x="1059480" y="3981960"/>
                <a:chExt cx="134640" cy="88200"/>
              </a:xfrm>
            </p:grpSpPr>
            <p:sp>
              <p:nvSpPr>
                <p:cNvPr id="539" name="Line 182"/>
                <p:cNvSpPr/>
                <p:nvPr/>
              </p:nvSpPr>
              <p:spPr>
                <a:xfrm flipH="1">
                  <a:off x="1059480" y="3981960"/>
                  <a:ext cx="134640" cy="8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 txBox="1"/>
                <p:nvPr/>
              </p:nvSpPr>
              <p:spPr>
                <a:xfrm>
                  <a:off x="1059480" y="3981960"/>
                  <a:ext cx="134640" cy="8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400" bIns="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1194480" y="3981960"/>
                <a:ext cx="134640" cy="88200"/>
                <a:chOff x="1194480" y="3981960"/>
                <a:chExt cx="134640" cy="88200"/>
              </a:xfrm>
            </p:grpSpPr>
            <p:sp>
              <p:nvSpPr>
                <p:cNvPr id="542" name="Line 183"/>
                <p:cNvSpPr/>
                <p:nvPr/>
              </p:nvSpPr>
              <p:spPr>
                <a:xfrm flipH="1">
                  <a:off x="1194480" y="3981960"/>
                  <a:ext cx="134640" cy="8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 txBox="1"/>
                <p:nvPr/>
              </p:nvSpPr>
              <p:spPr>
                <a:xfrm>
                  <a:off x="1194480" y="3981960"/>
                  <a:ext cx="134640" cy="8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400" bIns="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1329480" y="3981960"/>
                <a:ext cx="134640" cy="88200"/>
                <a:chOff x="1329480" y="3981960"/>
                <a:chExt cx="134640" cy="88200"/>
              </a:xfrm>
            </p:grpSpPr>
            <p:sp>
              <p:nvSpPr>
                <p:cNvPr id="545" name="Line 184"/>
                <p:cNvSpPr/>
                <p:nvPr/>
              </p:nvSpPr>
              <p:spPr>
                <a:xfrm flipH="1">
                  <a:off x="1329480" y="3981960"/>
                  <a:ext cx="134640" cy="8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 txBox="1"/>
                <p:nvPr/>
              </p:nvSpPr>
              <p:spPr>
                <a:xfrm>
                  <a:off x="1329480" y="3981960"/>
                  <a:ext cx="134640" cy="8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400" bIns="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1464480" y="3981960"/>
                <a:ext cx="136080" cy="88200"/>
                <a:chOff x="1464480" y="3981960"/>
                <a:chExt cx="136080" cy="88200"/>
              </a:xfrm>
            </p:grpSpPr>
            <p:sp>
              <p:nvSpPr>
                <p:cNvPr id="548" name="Line 185"/>
                <p:cNvSpPr/>
                <p:nvPr/>
              </p:nvSpPr>
              <p:spPr>
                <a:xfrm flipH="1">
                  <a:off x="1464480" y="3981960"/>
                  <a:ext cx="136080" cy="8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 txBox="1"/>
                <p:nvPr/>
              </p:nvSpPr>
              <p:spPr>
                <a:xfrm>
                  <a:off x="1464480" y="3981960"/>
                  <a:ext cx="136080" cy="8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400" bIns="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1600560" y="3981960"/>
                <a:ext cx="134640" cy="88200"/>
                <a:chOff x="1600560" y="3981960"/>
                <a:chExt cx="134640" cy="88200"/>
              </a:xfrm>
            </p:grpSpPr>
            <p:sp>
              <p:nvSpPr>
                <p:cNvPr id="551" name="Line 186"/>
                <p:cNvSpPr/>
                <p:nvPr/>
              </p:nvSpPr>
              <p:spPr>
                <a:xfrm flipH="1">
                  <a:off x="1600560" y="3981960"/>
                  <a:ext cx="134640" cy="8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 txBox="1"/>
                <p:nvPr/>
              </p:nvSpPr>
              <p:spPr>
                <a:xfrm>
                  <a:off x="1600560" y="3981960"/>
                  <a:ext cx="134640" cy="8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1400" bIns="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273240" y="3976560"/>
                <a:ext cx="1478880" cy="360"/>
                <a:chOff x="273240" y="3976560"/>
                <a:chExt cx="1478880" cy="360"/>
              </a:xfrm>
            </p:grpSpPr>
            <p:sp>
              <p:nvSpPr>
                <p:cNvPr id="554" name="Line 187"/>
                <p:cNvSpPr/>
                <p:nvPr/>
              </p:nvSpPr>
              <p:spPr>
                <a:xfrm>
                  <a:off x="273240" y="3976560"/>
                  <a:ext cx="1478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 txBox="1"/>
                <p:nvPr/>
              </p:nvSpPr>
              <p:spPr>
                <a:xfrm>
                  <a:off x="273240" y="3976560"/>
                  <a:ext cx="147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56" name=""/>
          <p:cNvGrpSpPr/>
          <p:nvPr/>
        </p:nvGrpSpPr>
        <p:grpSpPr>
          <a:xfrm>
            <a:off x="914400" y="3657600"/>
            <a:ext cx="360" cy="990720"/>
            <a:chOff x="914400" y="3657600"/>
            <a:chExt cx="360" cy="990720"/>
          </a:xfrm>
        </p:grpSpPr>
        <p:sp>
          <p:nvSpPr>
            <p:cNvPr id="557" name="Line 189"/>
            <p:cNvSpPr/>
            <p:nvPr/>
          </p:nvSpPr>
          <p:spPr>
            <a:xfrm>
              <a:off x="914400" y="3657600"/>
              <a:ext cx="0" cy="99072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8" name=""/>
            <p:cNvSpPr txBox="1"/>
            <p:nvPr/>
          </p:nvSpPr>
          <p:spPr>
            <a:xfrm>
              <a:off x="914400" y="3657600"/>
              <a:ext cx="36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59" name="Rectangle 190"/>
          <p:cNvSpPr/>
          <p:nvPr/>
        </p:nvSpPr>
        <p:spPr>
          <a:xfrm>
            <a:off x="685800" y="4572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ff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0" name="Rectangle 192"/>
          <p:cNvSpPr/>
          <p:nvPr/>
        </p:nvSpPr>
        <p:spPr>
          <a:xfrm>
            <a:off x="2302200" y="4800600"/>
            <a:ext cx="68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zh-CN" sz="3200" spc="-1" strike="noStrike" baseline="-25000">
                <a:solidFill>
                  <a:srgbClr val="ff0000"/>
                </a:solidFill>
                <a:latin typeface="Times New Roman"/>
              </a:rPr>
              <a:t>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495680" y="3733920"/>
            <a:ext cx="304920" cy="685800"/>
            <a:chOff x="4495680" y="3733920"/>
            <a:chExt cx="304920" cy="685800"/>
          </a:xfrm>
        </p:grpSpPr>
        <p:sp>
          <p:nvSpPr>
            <p:cNvPr id="562" name="Line 194"/>
            <p:cNvSpPr/>
            <p:nvPr/>
          </p:nvSpPr>
          <p:spPr>
            <a:xfrm>
              <a:off x="4495680" y="3733920"/>
              <a:ext cx="304920" cy="6858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3" name=""/>
            <p:cNvSpPr txBox="1"/>
            <p:nvPr/>
          </p:nvSpPr>
          <p:spPr>
            <a:xfrm>
              <a:off x="4495680" y="3733920"/>
              <a:ext cx="30492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64" name="Rectangle 195"/>
          <p:cNvSpPr/>
          <p:nvPr/>
        </p:nvSpPr>
        <p:spPr>
          <a:xfrm>
            <a:off x="4816800" y="4114800"/>
            <a:ext cx="68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zh-CN" sz="3200" spc="-1" strike="noStrike" baseline="-25000">
                <a:solidFill>
                  <a:srgbClr val="ff0000"/>
                </a:solidFill>
                <a:latin typeface="Times New Roman"/>
              </a:rPr>
              <a:t>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4343400" y="3505320"/>
            <a:ext cx="360" cy="990360"/>
            <a:chOff x="4343400" y="3505320"/>
            <a:chExt cx="360" cy="990360"/>
          </a:xfrm>
        </p:grpSpPr>
        <p:sp>
          <p:nvSpPr>
            <p:cNvPr id="566" name="Line 196"/>
            <p:cNvSpPr/>
            <p:nvPr/>
          </p:nvSpPr>
          <p:spPr>
            <a:xfrm>
              <a:off x="4343400" y="3505320"/>
              <a:ext cx="0" cy="99036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7" name=""/>
            <p:cNvSpPr txBox="1"/>
            <p:nvPr/>
          </p:nvSpPr>
          <p:spPr>
            <a:xfrm>
              <a:off x="4343400" y="3505320"/>
              <a:ext cx="36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3429000" y="2743200"/>
            <a:ext cx="360" cy="3200400"/>
            <a:chOff x="3429000" y="2743200"/>
            <a:chExt cx="360" cy="3200400"/>
          </a:xfrm>
        </p:grpSpPr>
        <p:sp>
          <p:nvSpPr>
            <p:cNvPr id="569" name="Line 197"/>
            <p:cNvSpPr/>
            <p:nvPr/>
          </p:nvSpPr>
          <p:spPr>
            <a:xfrm>
              <a:off x="3429000" y="2743200"/>
              <a:ext cx="0" cy="3200400"/>
            </a:xfrm>
            <a:prstGeom prst="line">
              <a:avLst/>
            </a:prstGeom>
            <a:ln w="19080">
              <a:solidFill>
                <a:srgbClr val="0033cc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0" name=""/>
            <p:cNvSpPr txBox="1"/>
            <p:nvPr/>
          </p:nvSpPr>
          <p:spPr>
            <a:xfrm>
              <a:off x="3429000" y="2743200"/>
              <a:ext cx="360" cy="320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5943600" y="2743200"/>
            <a:ext cx="360" cy="3200400"/>
            <a:chOff x="5943600" y="2743200"/>
            <a:chExt cx="360" cy="3200400"/>
          </a:xfrm>
        </p:grpSpPr>
        <p:sp>
          <p:nvSpPr>
            <p:cNvPr id="572" name="Line 200"/>
            <p:cNvSpPr/>
            <p:nvPr/>
          </p:nvSpPr>
          <p:spPr>
            <a:xfrm>
              <a:off x="5943600" y="2743200"/>
              <a:ext cx="0" cy="3200400"/>
            </a:xfrm>
            <a:prstGeom prst="line">
              <a:avLst/>
            </a:prstGeom>
            <a:ln w="19080">
              <a:solidFill>
                <a:srgbClr val="0033cc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3" name=""/>
            <p:cNvSpPr txBox="1"/>
            <p:nvPr/>
          </p:nvSpPr>
          <p:spPr>
            <a:xfrm>
              <a:off x="5943600" y="2743200"/>
              <a:ext cx="360" cy="320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74" name="Text Box 201"/>
          <p:cNvSpPr/>
          <p:nvPr/>
        </p:nvSpPr>
        <p:spPr>
          <a:xfrm>
            <a:off x="7480440" y="441972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ff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7709040" y="3505320"/>
            <a:ext cx="360" cy="990360"/>
            <a:chOff x="7709040" y="3505320"/>
            <a:chExt cx="360" cy="990360"/>
          </a:xfrm>
        </p:grpSpPr>
        <p:sp>
          <p:nvSpPr>
            <p:cNvPr id="576" name="Line 202"/>
            <p:cNvSpPr/>
            <p:nvPr/>
          </p:nvSpPr>
          <p:spPr>
            <a:xfrm>
              <a:off x="7709040" y="3505320"/>
              <a:ext cx="0" cy="99036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7" name=""/>
            <p:cNvSpPr txBox="1"/>
            <p:nvPr/>
          </p:nvSpPr>
          <p:spPr>
            <a:xfrm>
              <a:off x="7709040" y="3505320"/>
              <a:ext cx="36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489720" y="3581280"/>
            <a:ext cx="838080" cy="360"/>
            <a:chOff x="6489720" y="3581280"/>
            <a:chExt cx="838080" cy="360"/>
          </a:xfrm>
        </p:grpSpPr>
        <p:sp>
          <p:nvSpPr>
            <p:cNvPr id="579" name="Line 203"/>
            <p:cNvSpPr/>
            <p:nvPr/>
          </p:nvSpPr>
          <p:spPr>
            <a:xfrm flipH="1">
              <a:off x="6489720" y="3581280"/>
              <a:ext cx="83808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0" name=""/>
            <p:cNvSpPr txBox="1"/>
            <p:nvPr/>
          </p:nvSpPr>
          <p:spPr>
            <a:xfrm>
              <a:off x="6489720" y="358128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81" name="Rectangle 204"/>
          <p:cNvSpPr/>
          <p:nvPr/>
        </p:nvSpPr>
        <p:spPr>
          <a:xfrm>
            <a:off x="5972760" y="3276720"/>
            <a:ext cx="68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zh-CN" sz="3200" spc="-1" strike="noStrike" baseline="-25000">
                <a:solidFill>
                  <a:srgbClr val="ff0000"/>
                </a:solidFill>
                <a:latin typeface="Times New Roman"/>
              </a:rPr>
              <a:t>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4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5"/>
          <p:cNvGrpSpPr/>
          <p:nvPr/>
        </p:nvGrpSpPr>
        <p:grpSpPr>
          <a:xfrm>
            <a:off x="304920" y="2600280"/>
            <a:ext cx="3960720" cy="2016000"/>
            <a:chOff x="304920" y="2600280"/>
            <a:chExt cx="3960720" cy="2016000"/>
          </a:xfrm>
        </p:grpSpPr>
        <p:sp>
          <p:nvSpPr>
            <p:cNvPr id="583" name="Rectangle 6"/>
            <p:cNvSpPr/>
            <p:nvPr/>
          </p:nvSpPr>
          <p:spPr>
            <a:xfrm>
              <a:off x="304920" y="3247920"/>
              <a:ext cx="378360" cy="1368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4" name="Rectangle 7"/>
            <p:cNvSpPr/>
            <p:nvPr/>
          </p:nvSpPr>
          <p:spPr>
            <a:xfrm>
              <a:off x="3887280" y="3247920"/>
              <a:ext cx="378360" cy="1368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5" name="Rectangle 8"/>
            <p:cNvSpPr/>
            <p:nvPr/>
          </p:nvSpPr>
          <p:spPr>
            <a:xfrm>
              <a:off x="1749960" y="2600280"/>
              <a:ext cx="1068480" cy="649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6" name="AutoShape 9"/>
            <p:cNvSpPr/>
            <p:nvPr/>
          </p:nvSpPr>
          <p:spPr>
            <a:xfrm flipV="1">
              <a:off x="429480" y="3031200"/>
              <a:ext cx="3647160" cy="28764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87" name="Group 19"/>
          <p:cNvGrpSpPr/>
          <p:nvPr/>
        </p:nvGrpSpPr>
        <p:grpSpPr>
          <a:xfrm>
            <a:off x="4876920" y="1523880"/>
            <a:ext cx="4032000" cy="3164040"/>
            <a:chOff x="4876920" y="1523880"/>
            <a:chExt cx="4032000" cy="3164040"/>
          </a:xfrm>
        </p:grpSpPr>
        <p:sp>
          <p:nvSpPr>
            <p:cNvPr id="588" name="Rectangle 10"/>
            <p:cNvSpPr/>
            <p:nvPr/>
          </p:nvSpPr>
          <p:spPr>
            <a:xfrm>
              <a:off x="4983120" y="3246480"/>
              <a:ext cx="351000" cy="1368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9" name="Rectangle 11"/>
            <p:cNvSpPr/>
            <p:nvPr/>
          </p:nvSpPr>
          <p:spPr>
            <a:xfrm>
              <a:off x="8381880" y="3319560"/>
              <a:ext cx="381240" cy="1368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0" name="Rectangle 12"/>
            <p:cNvSpPr/>
            <p:nvPr/>
          </p:nvSpPr>
          <p:spPr>
            <a:xfrm>
              <a:off x="6324480" y="2819520"/>
              <a:ext cx="1224000" cy="6490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1" name="未知"/>
            <p:cNvSpPr/>
            <p:nvPr/>
          </p:nvSpPr>
          <p:spPr>
            <a:xfrm>
              <a:off x="4876920" y="3200400"/>
              <a:ext cx="4032000" cy="404640"/>
            </a:xfrm>
            <a:custGeom>
              <a:avLst/>
              <a:gdLst/>
              <a:ahLst/>
              <a:rect l="l" t="t" r="r" b="b"/>
              <a:pathLst>
                <a:path w="1620" h="503">
                  <a:moveTo>
                    <a:pt x="58" y="0"/>
                  </a:moveTo>
                  <a:cubicBezTo>
                    <a:pt x="99" y="27"/>
                    <a:pt x="113" y="61"/>
                    <a:pt x="150" y="91"/>
                  </a:cubicBezTo>
                  <a:cubicBezTo>
                    <a:pt x="189" y="123"/>
                    <a:pt x="259" y="154"/>
                    <a:pt x="307" y="170"/>
                  </a:cubicBezTo>
                  <a:cubicBezTo>
                    <a:pt x="386" y="222"/>
                    <a:pt x="501" y="255"/>
                    <a:pt x="595" y="275"/>
                  </a:cubicBezTo>
                  <a:cubicBezTo>
                    <a:pt x="639" y="284"/>
                    <a:pt x="726" y="301"/>
                    <a:pt x="726" y="301"/>
                  </a:cubicBezTo>
                  <a:cubicBezTo>
                    <a:pt x="890" y="293"/>
                    <a:pt x="1036" y="278"/>
                    <a:pt x="1197" y="262"/>
                  </a:cubicBezTo>
                  <a:cubicBezTo>
                    <a:pt x="1329" y="228"/>
                    <a:pt x="1268" y="246"/>
                    <a:pt x="1380" y="209"/>
                  </a:cubicBezTo>
                  <a:cubicBezTo>
                    <a:pt x="1393" y="205"/>
                    <a:pt x="1419" y="196"/>
                    <a:pt x="1419" y="196"/>
                  </a:cubicBezTo>
                  <a:cubicBezTo>
                    <a:pt x="1466" y="151"/>
                    <a:pt x="1434" y="174"/>
                    <a:pt x="1524" y="144"/>
                  </a:cubicBezTo>
                  <a:cubicBezTo>
                    <a:pt x="1537" y="140"/>
                    <a:pt x="1550" y="135"/>
                    <a:pt x="1563" y="131"/>
                  </a:cubicBezTo>
                  <a:cubicBezTo>
                    <a:pt x="1576" y="127"/>
                    <a:pt x="1603" y="118"/>
                    <a:pt x="1603" y="118"/>
                  </a:cubicBezTo>
                  <a:cubicBezTo>
                    <a:pt x="1593" y="218"/>
                    <a:pt x="1620" y="230"/>
                    <a:pt x="1563" y="275"/>
                  </a:cubicBezTo>
                  <a:cubicBezTo>
                    <a:pt x="1551" y="285"/>
                    <a:pt x="1538" y="295"/>
                    <a:pt x="1524" y="301"/>
                  </a:cubicBezTo>
                  <a:cubicBezTo>
                    <a:pt x="1499" y="312"/>
                    <a:pt x="1446" y="327"/>
                    <a:pt x="1446" y="327"/>
                  </a:cubicBezTo>
                  <a:cubicBezTo>
                    <a:pt x="1405" y="366"/>
                    <a:pt x="1355" y="374"/>
                    <a:pt x="1302" y="392"/>
                  </a:cubicBezTo>
                  <a:cubicBezTo>
                    <a:pt x="1207" y="424"/>
                    <a:pt x="1128" y="445"/>
                    <a:pt x="1027" y="458"/>
                  </a:cubicBezTo>
                  <a:cubicBezTo>
                    <a:pt x="890" y="503"/>
                    <a:pt x="976" y="486"/>
                    <a:pt x="765" y="471"/>
                  </a:cubicBezTo>
                  <a:cubicBezTo>
                    <a:pt x="658" y="436"/>
                    <a:pt x="547" y="393"/>
                    <a:pt x="438" y="366"/>
                  </a:cubicBezTo>
                  <a:cubicBezTo>
                    <a:pt x="372" y="350"/>
                    <a:pt x="306" y="335"/>
                    <a:pt x="241" y="314"/>
                  </a:cubicBezTo>
                  <a:cubicBezTo>
                    <a:pt x="179" y="273"/>
                    <a:pt x="107" y="263"/>
                    <a:pt x="45" y="222"/>
                  </a:cubicBezTo>
                  <a:cubicBezTo>
                    <a:pt x="36" y="195"/>
                    <a:pt x="0" y="137"/>
                    <a:pt x="32" y="104"/>
                  </a:cubicBezTo>
                  <a:cubicBezTo>
                    <a:pt x="42" y="94"/>
                    <a:pt x="58" y="95"/>
                    <a:pt x="71" y="91"/>
                  </a:cubicBezTo>
                  <a:cubicBezTo>
                    <a:pt x="90" y="34"/>
                    <a:pt x="90" y="64"/>
                    <a:pt x="58" y="0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592" name="Group 14"/>
            <p:cNvGrpSpPr/>
            <p:nvPr/>
          </p:nvGrpSpPr>
          <p:grpSpPr>
            <a:xfrm>
              <a:off x="6629400" y="1523880"/>
              <a:ext cx="649440" cy="1295280"/>
              <a:chOff x="6629400" y="1523880"/>
              <a:chExt cx="649440" cy="1295280"/>
            </a:xfrm>
          </p:grpSpPr>
          <p:sp>
            <p:nvSpPr>
              <p:cNvPr id="593" name="Rectangle 15"/>
              <p:cNvSpPr/>
              <p:nvPr/>
            </p:nvSpPr>
            <p:spPr>
              <a:xfrm>
                <a:off x="6629400" y="2086560"/>
                <a:ext cx="649440" cy="7326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94" name="AutoShape 16"/>
              <p:cNvSpPr/>
              <p:nvPr/>
            </p:nvSpPr>
            <p:spPr>
              <a:xfrm>
                <a:off x="6629400" y="1579320"/>
                <a:ext cx="649440" cy="5068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95" name="Oval 17"/>
              <p:cNvSpPr/>
              <p:nvPr/>
            </p:nvSpPr>
            <p:spPr>
              <a:xfrm>
                <a:off x="6747480" y="1523880"/>
                <a:ext cx="354240" cy="28188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596" name="Rectangle 18"/>
          <p:cNvSpPr/>
          <p:nvPr/>
        </p:nvSpPr>
        <p:spPr>
          <a:xfrm>
            <a:off x="1143000" y="609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）压力的作用效果不同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97" name="Picture 20" descr="png-0120"/>
          <p:cNvPicPr/>
          <p:nvPr/>
        </p:nvPicPr>
        <p:blipFill>
          <a:blip r:embed="rId10"/>
          <a:stretch/>
        </p:blipFill>
        <p:spPr>
          <a:xfrm>
            <a:off x="6324480" y="54864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3" descr="9"/>
          <p:cNvPicPr/>
          <p:nvPr/>
        </p:nvPicPr>
        <p:blipFill>
          <a:blip r:embed="rId1"/>
          <a:stretch/>
        </p:blipFill>
        <p:spPr>
          <a:xfrm>
            <a:off x="4876920" y="1523880"/>
            <a:ext cx="3733560" cy="27496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4" descr="9"/>
          <p:cNvPicPr/>
          <p:nvPr/>
        </p:nvPicPr>
        <p:blipFill>
          <a:blip r:embed="rId2"/>
          <a:stretch/>
        </p:blipFill>
        <p:spPr>
          <a:xfrm>
            <a:off x="685800" y="1600200"/>
            <a:ext cx="3809880" cy="273060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7"/>
          <p:cNvSpPr/>
          <p:nvPr/>
        </p:nvSpPr>
        <p:spPr>
          <a:xfrm>
            <a:off x="762120" y="1981080"/>
            <a:ext cx="685800" cy="5205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3657600" y="1981080"/>
            <a:ext cx="609480" cy="5205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2" name="Text Box 9"/>
          <p:cNvSpPr/>
          <p:nvPr/>
        </p:nvSpPr>
        <p:spPr>
          <a:xfrm>
            <a:off x="4800600" y="3352680"/>
            <a:ext cx="1600200" cy="9471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受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面积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3" name="Text Box 10"/>
          <p:cNvSpPr/>
          <p:nvPr/>
        </p:nvSpPr>
        <p:spPr>
          <a:xfrm>
            <a:off x="7010280" y="1523880"/>
            <a:ext cx="1600200" cy="9471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受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面积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4" name="Text Box 15"/>
          <p:cNvSpPr/>
          <p:nvPr/>
        </p:nvSpPr>
        <p:spPr>
          <a:xfrm>
            <a:off x="685800" y="441972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手指受压的感觉有什么不同？用力后这种感觉有何变化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5" name="Text Box 16"/>
          <p:cNvSpPr/>
          <p:nvPr/>
        </p:nvSpPr>
        <p:spPr>
          <a:xfrm>
            <a:off x="4343400" y="43434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与手掌接触的那部分气球的形变较小，而手指顶着的那部分形变明显。用力越大，形变越明显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4"/>
          <p:cNvSpPr/>
          <p:nvPr/>
        </p:nvSpPr>
        <p:spPr>
          <a:xfrm>
            <a:off x="2362320" y="3124080"/>
            <a:ext cx="685800" cy="5205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5029200" y="3124080"/>
            <a:ext cx="609480" cy="5205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重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08" name="Group 6"/>
          <p:cNvGrpSpPr/>
          <p:nvPr/>
        </p:nvGrpSpPr>
        <p:grpSpPr>
          <a:xfrm>
            <a:off x="1752480" y="1447920"/>
            <a:ext cx="4343400" cy="1676160"/>
            <a:chOff x="1752480" y="1447920"/>
            <a:chExt cx="4343400" cy="1676160"/>
          </a:xfrm>
        </p:grpSpPr>
        <p:pic>
          <p:nvPicPr>
            <p:cNvPr id="609" name="Picture 7" descr=""/>
            <p:cNvPicPr/>
            <p:nvPr/>
          </p:nvPicPr>
          <p:blipFill>
            <a:blip r:embed="rId1"/>
            <a:stretch/>
          </p:blipFill>
          <p:spPr>
            <a:xfrm>
              <a:off x="1752480" y="1447920"/>
              <a:ext cx="434340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Rectangle 8"/>
            <p:cNvSpPr/>
            <p:nvPr/>
          </p:nvSpPr>
          <p:spPr>
            <a:xfrm>
              <a:off x="4952880" y="1447920"/>
              <a:ext cx="457200" cy="456840"/>
            </a:xfrm>
            <a:prstGeom prst="rect">
              <a:avLst/>
            </a:prstGeom>
            <a:blipFill rotWithShape="0">
              <a:blip r:embed="rId2">
                <a:alphaModFix amt="89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11" name="Text Box 9"/>
          <p:cNvSpPr/>
          <p:nvPr/>
        </p:nvSpPr>
        <p:spPr>
          <a:xfrm>
            <a:off x="1523880" y="38098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放重物时，小桌向下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12" name="Picture 10" descr="ni_png_0389"/>
          <p:cNvPicPr/>
          <p:nvPr/>
        </p:nvPicPr>
        <p:blipFill>
          <a:blip r:embed="rId3"/>
          <a:stretch/>
        </p:blipFill>
        <p:spPr>
          <a:xfrm>
            <a:off x="6248520" y="46483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2"/>
          <p:cNvSpPr/>
          <p:nvPr/>
        </p:nvSpPr>
        <p:spPr>
          <a:xfrm>
            <a:off x="685800" y="1295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Times New Roman"/>
                <a:ea typeface="隶书"/>
              </a:rPr>
              <a:t>压力的作用效果跟什么因素有关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14" name="Picture 3" descr="5"/>
          <p:cNvPicPr/>
          <p:nvPr/>
        </p:nvPicPr>
        <p:blipFill>
          <a:blip r:embed="rId1"/>
          <a:stretch/>
        </p:blipFill>
        <p:spPr>
          <a:xfrm>
            <a:off x="2286000" y="304920"/>
            <a:ext cx="1828800" cy="10778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手"/>
          <p:cNvPicPr/>
          <p:nvPr/>
        </p:nvPicPr>
        <p:blipFill>
          <a:blip r:embed="rId2"/>
          <a:stretch/>
        </p:blipFill>
        <p:spPr>
          <a:xfrm>
            <a:off x="1371600" y="762120"/>
            <a:ext cx="990720" cy="54900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1066680" y="2590920"/>
            <a:ext cx="24386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猜想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17" name="Picture 6" descr="AG00317_"/>
          <p:cNvPicPr/>
          <p:nvPr/>
        </p:nvPicPr>
        <p:blipFill>
          <a:blip r:embed="rId3"/>
          <a:stretch/>
        </p:blipFill>
        <p:spPr>
          <a:xfrm>
            <a:off x="762120" y="2286000"/>
            <a:ext cx="868320" cy="111600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7"/>
          <p:cNvSpPr/>
          <p:nvPr/>
        </p:nvSpPr>
        <p:spPr>
          <a:xfrm>
            <a:off x="609480" y="380988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方正姚体"/>
              </a:rPr>
              <a:t>猜想</a:t>
            </a:r>
            <a:r>
              <a:rPr b="1" lang="en-US" sz="2800" spc="-1" strike="noStrike">
                <a:solidFill>
                  <a:srgbClr val="007572"/>
                </a:solidFill>
                <a:latin typeface="Times New Roman"/>
                <a:ea typeface="方正姚体"/>
              </a:rPr>
              <a:t>1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方正姚体"/>
              </a:rPr>
              <a:t>：压力的作用效果可能与</a:t>
            </a:r>
            <a:r>
              <a:rPr b="1" lang="en-US" sz="2800" spc="-1" strike="noStrike">
                <a:solidFill>
                  <a:srgbClr val="007572"/>
                </a:solidFill>
                <a:latin typeface="Times New Roman"/>
                <a:ea typeface="方正姚体"/>
              </a:rPr>
              <a:t>_________</a:t>
            </a:r>
            <a:r>
              <a:rPr b="1" lang="en-US" sz="2800" spc="-1" strike="noStrike">
                <a:solidFill>
                  <a:srgbClr val="007572"/>
                </a:solidFill>
                <a:latin typeface="Times New Roman"/>
              </a:rPr>
              <a:t>____</a:t>
            </a:r>
            <a:r>
              <a:rPr b="1" lang="en-US" sz="2800" spc="-1" strike="noStrike">
                <a:solidFill>
                  <a:srgbClr val="007572"/>
                </a:solidFill>
                <a:latin typeface="Times New Roman"/>
                <a:ea typeface="方正姚体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Times New Roman"/>
                <a:ea typeface="方正姚体"/>
              </a:rPr>
              <a:t>              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方正姚体"/>
              </a:rPr>
              <a:t>有关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9" name="Rectangle 8"/>
          <p:cNvSpPr/>
          <p:nvPr/>
        </p:nvSpPr>
        <p:spPr>
          <a:xfrm>
            <a:off x="609480" y="5181480"/>
            <a:ext cx="81536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方正姚体"/>
              </a:rPr>
              <a:t>猜想</a:t>
            </a:r>
            <a:r>
              <a:rPr b="1" lang="en-US" sz="2800" spc="-1" strike="noStrike">
                <a:solidFill>
                  <a:srgbClr val="007572"/>
                </a:solidFill>
                <a:latin typeface="Times New Roman"/>
                <a:ea typeface="方正姚体"/>
              </a:rPr>
              <a:t>2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方正姚体"/>
              </a:rPr>
              <a:t>：压力的作用效果可能与</a:t>
            </a:r>
            <a:r>
              <a:rPr b="1" lang="en-US" sz="2800" spc="-1" strike="noStrike">
                <a:solidFill>
                  <a:srgbClr val="007572"/>
                </a:solidFill>
                <a:latin typeface="Times New Roman"/>
                <a:ea typeface="方正姚体"/>
              </a:rPr>
              <a:t>____________</a:t>
            </a:r>
            <a:r>
              <a:rPr b="1" lang="en-US" sz="2800" spc="-1" strike="noStrike">
                <a:solidFill>
                  <a:srgbClr val="007572"/>
                </a:solidFill>
                <a:latin typeface="Times New Roman"/>
              </a:rPr>
              <a:t>____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Times New Roman"/>
                <a:ea typeface="方正姚体"/>
              </a:rPr>
              <a:t>              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方正姚体"/>
              </a:rPr>
              <a:t>有关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5486400" y="37339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压力大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5486400" y="50292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受力面积大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2" name="AutoShape 11"/>
          <p:cNvSpPr/>
          <p:nvPr/>
        </p:nvSpPr>
        <p:spPr>
          <a:xfrm>
            <a:off x="3276720" y="2060640"/>
            <a:ext cx="5181480" cy="1444680"/>
          </a:xfrm>
          <a:prstGeom prst="wedgeRoundRectCallout">
            <a:avLst>
              <a:gd name="adj1" fmla="val -44578"/>
              <a:gd name="adj2" fmla="val 64064"/>
              <a:gd name="adj3" fmla="val 16667"/>
            </a:avLst>
          </a:prstGeom>
          <a:gradFill rotWithShape="0">
            <a:gsLst>
              <a:gs pos="0">
                <a:srgbClr val="ccffcc"/>
              </a:gs>
              <a:gs pos="100000">
                <a:srgbClr val="f5fff5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       </a:t>
            </a:r>
            <a:r>
              <a:rPr b="0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因为压力作用效果可能与多个因素有关，因此在探究过程中要使用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3" name="Text Box 12"/>
          <p:cNvSpPr/>
          <p:nvPr/>
        </p:nvSpPr>
        <p:spPr>
          <a:xfrm>
            <a:off x="5486400" y="2819520"/>
            <a:ext cx="323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控制变量法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dur="indefinite" nodeType="afterEffect" fill="hold" presetClass="entr" presetID="21" presetSubtype="8">
                                  <p:stCondLst>
                                    <p:cond delay="6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39" dur="75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3276720" y="304920"/>
            <a:ext cx="2666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探究一：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762120" y="137160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Times New Roman"/>
                <a:ea typeface="隶书"/>
              </a:rPr>
              <a:t>压力作用效果与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压力大小</a:t>
            </a:r>
            <a:r>
              <a:rPr b="0" lang="zh-CN" sz="4000" spc="-1" strike="noStrike">
                <a:solidFill>
                  <a:srgbClr val="3333ff"/>
                </a:solidFill>
                <a:latin typeface="Times New Roman"/>
                <a:ea typeface="隶书"/>
              </a:rPr>
              <a:t>的关系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Text Box 36"/>
          <p:cNvSpPr/>
          <p:nvPr/>
        </p:nvSpPr>
        <p:spPr>
          <a:xfrm>
            <a:off x="1143000" y="5715000"/>
            <a:ext cx="206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结论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7" name="Text Box 37"/>
          <p:cNvSpPr/>
          <p:nvPr/>
        </p:nvSpPr>
        <p:spPr>
          <a:xfrm>
            <a:off x="2666880" y="6019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中宋"/>
              </a:rPr>
              <a:t>压力作用效果与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压力大小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中宋"/>
              </a:rPr>
              <a:t>有关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28" name="Picture 43" descr="png-0518"/>
          <p:cNvPicPr/>
          <p:nvPr/>
        </p:nvPicPr>
        <p:blipFill>
          <a:blip r:embed="rId1"/>
          <a:stretch/>
        </p:blipFill>
        <p:spPr>
          <a:xfrm>
            <a:off x="380880" y="57913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6" descr="1"/>
          <p:cNvPicPr/>
          <p:nvPr/>
        </p:nvPicPr>
        <p:blipFill>
          <a:blip r:embed="rId2"/>
          <a:stretch/>
        </p:blipFill>
        <p:spPr>
          <a:xfrm>
            <a:off x="1295280" y="3657600"/>
            <a:ext cx="6007320" cy="190512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1828800" y="4572000"/>
            <a:ext cx="2819520" cy="360"/>
            <a:chOff x="1828800" y="4572000"/>
            <a:chExt cx="2819520" cy="360"/>
          </a:xfrm>
        </p:grpSpPr>
        <p:sp>
          <p:nvSpPr>
            <p:cNvPr id="631" name="Line 41"/>
            <p:cNvSpPr/>
            <p:nvPr/>
          </p:nvSpPr>
          <p:spPr>
            <a:xfrm flipH="1">
              <a:off x="1828800" y="4572000"/>
              <a:ext cx="28195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2" name=""/>
            <p:cNvSpPr txBox="1"/>
            <p:nvPr/>
          </p:nvSpPr>
          <p:spPr>
            <a:xfrm>
              <a:off x="1828800" y="4572000"/>
              <a:ext cx="2819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33" name="Text Box 47"/>
          <p:cNvSpPr/>
          <p:nvPr/>
        </p:nvSpPr>
        <p:spPr>
          <a:xfrm>
            <a:off x="1504080" y="2133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控制变量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4" name="Text Box 48"/>
          <p:cNvSpPr/>
          <p:nvPr/>
        </p:nvSpPr>
        <p:spPr>
          <a:xfrm>
            <a:off x="3252600" y="2133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受力面积相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5" name="Text Box 49"/>
          <p:cNvSpPr/>
          <p:nvPr/>
        </p:nvSpPr>
        <p:spPr>
          <a:xfrm>
            <a:off x="990720" y="29718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比较图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4.1-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中：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6" name="Text Box 51"/>
          <p:cNvSpPr/>
          <p:nvPr/>
        </p:nvSpPr>
        <p:spPr>
          <a:xfrm>
            <a:off x="3959640" y="289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甲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7" name="Text Box 52"/>
          <p:cNvSpPr/>
          <p:nvPr/>
        </p:nvSpPr>
        <p:spPr>
          <a:xfrm>
            <a:off x="5331240" y="289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乙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4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2"/>
          <p:cNvSpPr/>
          <p:nvPr/>
        </p:nvSpPr>
        <p:spPr>
          <a:xfrm>
            <a:off x="3276720" y="304920"/>
            <a:ext cx="2666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探究二：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9" name="Text Box 3"/>
          <p:cNvSpPr/>
          <p:nvPr/>
        </p:nvSpPr>
        <p:spPr>
          <a:xfrm>
            <a:off x="762120" y="137160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Times New Roman"/>
                <a:ea typeface="隶书"/>
              </a:rPr>
              <a:t>压力作用效果与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受力面积</a:t>
            </a:r>
            <a:r>
              <a:rPr b="0" lang="zh-CN" sz="4000" spc="-1" strike="noStrike">
                <a:solidFill>
                  <a:srgbClr val="3333ff"/>
                </a:solidFill>
                <a:latin typeface="Times New Roman"/>
                <a:ea typeface="隶书"/>
              </a:rPr>
              <a:t>的关系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1143000" y="5715000"/>
            <a:ext cx="206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结论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2666880" y="6019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中宋"/>
              </a:rPr>
              <a:t>压力作用效果与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受力面积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中宋"/>
              </a:rPr>
              <a:t>有关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42" name="Picture 6" descr="png-0518"/>
          <p:cNvPicPr/>
          <p:nvPr/>
        </p:nvPicPr>
        <p:blipFill>
          <a:blip r:embed="rId1"/>
          <a:stretch/>
        </p:blipFill>
        <p:spPr>
          <a:xfrm>
            <a:off x="380880" y="57913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7" descr="1"/>
          <p:cNvPicPr/>
          <p:nvPr/>
        </p:nvPicPr>
        <p:blipFill>
          <a:blip r:embed="rId2"/>
          <a:stretch/>
        </p:blipFill>
        <p:spPr>
          <a:xfrm>
            <a:off x="1295280" y="3657600"/>
            <a:ext cx="6007320" cy="1905120"/>
          </a:xfrm>
          <a:prstGeom prst="rect">
            <a:avLst/>
          </a:prstGeom>
          <a:ln w="0">
            <a:noFill/>
          </a:ln>
        </p:spPr>
      </p:pic>
      <p:grpSp>
        <p:nvGrpSpPr>
          <p:cNvPr id="644" name=""/>
          <p:cNvGrpSpPr/>
          <p:nvPr/>
        </p:nvGrpSpPr>
        <p:grpSpPr>
          <a:xfrm>
            <a:off x="3886200" y="4572000"/>
            <a:ext cx="2819520" cy="360"/>
            <a:chOff x="3886200" y="4572000"/>
            <a:chExt cx="2819520" cy="360"/>
          </a:xfrm>
        </p:grpSpPr>
        <p:sp>
          <p:nvSpPr>
            <p:cNvPr id="645" name="Line 8"/>
            <p:cNvSpPr/>
            <p:nvPr/>
          </p:nvSpPr>
          <p:spPr>
            <a:xfrm flipH="1">
              <a:off x="3886200" y="4572000"/>
              <a:ext cx="28195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6" name=""/>
            <p:cNvSpPr txBox="1"/>
            <p:nvPr/>
          </p:nvSpPr>
          <p:spPr>
            <a:xfrm>
              <a:off x="3886200" y="4572000"/>
              <a:ext cx="2819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47" name="Text Box 9"/>
          <p:cNvSpPr/>
          <p:nvPr/>
        </p:nvSpPr>
        <p:spPr>
          <a:xfrm>
            <a:off x="1504080" y="2133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控制变量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Text Box 10"/>
          <p:cNvSpPr/>
          <p:nvPr/>
        </p:nvSpPr>
        <p:spPr>
          <a:xfrm>
            <a:off x="3108600" y="213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压力相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9" name="Text Box 11"/>
          <p:cNvSpPr/>
          <p:nvPr/>
        </p:nvSpPr>
        <p:spPr>
          <a:xfrm>
            <a:off x="990720" y="29718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比较图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4.1-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中：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0" name="Text Box 12"/>
          <p:cNvSpPr/>
          <p:nvPr/>
        </p:nvSpPr>
        <p:spPr>
          <a:xfrm>
            <a:off x="3959640" y="289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乙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1" name="Text Box 13"/>
          <p:cNvSpPr/>
          <p:nvPr/>
        </p:nvSpPr>
        <p:spPr>
          <a:xfrm>
            <a:off x="5331240" y="289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丙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2000"/>
                            </p:stCondLst>
                            <p:childTnLst>
                              <p:par>
                                <p:cTn id="823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47"/>
          <p:cNvSpPr/>
          <p:nvPr/>
        </p:nvSpPr>
        <p:spPr>
          <a:xfrm>
            <a:off x="1143000" y="304920"/>
            <a:ext cx="74674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实验记录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0" y="3733920"/>
          <a:ext cx="9144000" cy="2187360"/>
        </p:xfrm>
        <a:graphic>
          <a:graphicData uri="http://schemas.openxmlformats.org/drawingml/2006/table">
            <a:tbl>
              <a:tblPr/>
              <a:tblGrid>
                <a:gridCol w="1576440"/>
                <a:gridCol w="2522520"/>
                <a:gridCol w="2522520"/>
                <a:gridCol w="2522520"/>
              </a:tblGrid>
              <a:tr h="563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黑体"/>
                        </a:rPr>
                        <a:t>实验次数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黑体"/>
                        </a:rPr>
                        <a:t>压  力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黑体"/>
                        </a:rPr>
                        <a:t>受力面积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黑体"/>
                        </a:rPr>
                        <a:t>压力作用效果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4" name="Picture 81" descr="png-0525"/>
          <p:cNvPicPr/>
          <p:nvPr/>
        </p:nvPicPr>
        <p:blipFill>
          <a:blip r:embed="rId1"/>
          <a:stretch/>
        </p:blipFill>
        <p:spPr>
          <a:xfrm>
            <a:off x="3733920" y="763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83"/>
          <p:cNvSpPr/>
          <p:nvPr/>
        </p:nvSpPr>
        <p:spPr>
          <a:xfrm>
            <a:off x="1828800" y="4267080"/>
            <a:ext cx="26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桌子的重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6" name="Rectangle 85"/>
          <p:cNvSpPr/>
          <p:nvPr/>
        </p:nvSpPr>
        <p:spPr>
          <a:xfrm>
            <a:off x="1600200" y="487692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桌子</a:t>
            </a:r>
            <a:r>
              <a:rPr b="1" lang="en-US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砝码重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7" name="Rectangle 87"/>
          <p:cNvSpPr/>
          <p:nvPr/>
        </p:nvSpPr>
        <p:spPr>
          <a:xfrm>
            <a:off x="1600200" y="541008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桌子</a:t>
            </a:r>
            <a:r>
              <a:rPr b="1" lang="en-US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砝码重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8" name="Rectangle 89"/>
          <p:cNvSpPr/>
          <p:nvPr/>
        </p:nvSpPr>
        <p:spPr>
          <a:xfrm>
            <a:off x="4876920" y="426708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桌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9" name="Rectangle 91"/>
          <p:cNvSpPr/>
          <p:nvPr/>
        </p:nvSpPr>
        <p:spPr>
          <a:xfrm>
            <a:off x="4876920" y="48006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桌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0" name="Rectangle 93"/>
          <p:cNvSpPr/>
          <p:nvPr/>
        </p:nvSpPr>
        <p:spPr>
          <a:xfrm>
            <a:off x="4876920" y="541008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桌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1" name="Rectangle 95"/>
          <p:cNvSpPr/>
          <p:nvPr/>
        </p:nvSpPr>
        <p:spPr>
          <a:xfrm>
            <a:off x="7391520" y="4267080"/>
            <a:ext cx="13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明显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2" name="Rectangle 97"/>
          <p:cNvSpPr/>
          <p:nvPr/>
        </p:nvSpPr>
        <p:spPr>
          <a:xfrm>
            <a:off x="6858000" y="4800600"/>
            <a:ext cx="19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很明显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3" name="Rectangle 99"/>
          <p:cNvSpPr/>
          <p:nvPr/>
        </p:nvSpPr>
        <p:spPr>
          <a:xfrm>
            <a:off x="6705720" y="5410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很不明显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64" name="Picture 100" descr="1"/>
          <p:cNvPicPr/>
          <p:nvPr/>
        </p:nvPicPr>
        <p:blipFill>
          <a:blip r:embed="rId2"/>
          <a:stretch/>
        </p:blipFill>
        <p:spPr>
          <a:xfrm>
            <a:off x="1371600" y="1143000"/>
            <a:ext cx="6629400" cy="2057400"/>
          </a:xfrm>
          <a:prstGeom prst="rect">
            <a:avLst/>
          </a:prstGeom>
          <a:ln w="0">
            <a:noFill/>
          </a:ln>
        </p:spPr>
      </p:pic>
      <p:sp>
        <p:nvSpPr>
          <p:cNvPr id="665" name="文本框 8194"/>
          <p:cNvSpPr/>
          <p:nvPr/>
        </p:nvSpPr>
        <p:spPr>
          <a:xfrm>
            <a:off x="1600200" y="32608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AutoShape 12"/>
          <p:cNvSpPr/>
          <p:nvPr/>
        </p:nvSpPr>
        <p:spPr>
          <a:xfrm>
            <a:off x="1676520" y="5029200"/>
            <a:ext cx="6781680" cy="1066680"/>
          </a:xfrm>
          <a:prstGeom prst="cloudCallout">
            <a:avLst>
              <a:gd name="adj1" fmla="val -41597"/>
              <a:gd name="adj2" fmla="val 75296"/>
            </a:avLst>
          </a:prstGeom>
          <a:solidFill>
            <a:srgbClr val="ccffcc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7" name="Text Box 2"/>
          <p:cNvSpPr/>
          <p:nvPr/>
        </p:nvSpPr>
        <p:spPr>
          <a:xfrm>
            <a:off x="1295280" y="533520"/>
            <a:ext cx="386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实验结果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8" name="Text Box 3"/>
          <p:cNvSpPr/>
          <p:nvPr/>
        </p:nvSpPr>
        <p:spPr>
          <a:xfrm>
            <a:off x="380880" y="1752480"/>
            <a:ext cx="80010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当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受力面积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相同时，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__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越大，压力的作用效果越明显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457200" y="3429000"/>
            <a:ext cx="7848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当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压力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相同时，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____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越小，压力的作用效果越明显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5676840" y="18288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压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1" name="Text Box 6"/>
          <p:cNvSpPr/>
          <p:nvPr/>
        </p:nvSpPr>
        <p:spPr>
          <a:xfrm>
            <a:off x="4648320" y="3535200"/>
            <a:ext cx="31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受力面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2286000" y="52578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怎样表示压力的作用效果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73" name="Picture 11" descr="png-0511"/>
          <p:cNvPicPr/>
          <p:nvPr/>
        </p:nvPicPr>
        <p:blipFill>
          <a:blip r:embed="rId1"/>
          <a:stretch/>
        </p:blipFill>
        <p:spPr>
          <a:xfrm>
            <a:off x="4495680" y="304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图片1"/>
          <p:cNvPicPr/>
          <p:nvPr/>
        </p:nvPicPr>
        <p:blipFill>
          <a:blip r:embed="rId1"/>
          <a:stretch/>
        </p:blipFill>
        <p:spPr>
          <a:xfrm>
            <a:off x="1600200" y="1828800"/>
            <a:ext cx="5334120" cy="3762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png-0055"/>
          <p:cNvPicPr/>
          <p:nvPr/>
        </p:nvPicPr>
        <p:blipFill>
          <a:blip r:embed="rId2"/>
          <a:stretch/>
        </p:blipFill>
        <p:spPr>
          <a:xfrm>
            <a:off x="7467480" y="55627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2"/>
          <p:cNvSpPr/>
          <p:nvPr/>
        </p:nvSpPr>
        <p:spPr>
          <a:xfrm>
            <a:off x="914400" y="1447920"/>
            <a:ext cx="3733920" cy="2286000"/>
          </a:xfrm>
          <a:prstGeom prst="cloudCallout">
            <a:avLst>
              <a:gd name="adj1" fmla="val 30824"/>
              <a:gd name="adj2" fmla="val 55972"/>
            </a:avLst>
          </a:prstGeom>
          <a:solidFill>
            <a:srgbClr val="ccffcc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219320" y="1600200"/>
            <a:ext cx="312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我俩对雪地的压力差不多，我为什么会陷入雪里，他却不会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1" name="Group 13"/>
          <p:cNvGrpSpPr/>
          <p:nvPr/>
        </p:nvGrpSpPr>
        <p:grpSpPr>
          <a:xfrm>
            <a:off x="2135160" y="304920"/>
            <a:ext cx="3960720" cy="936360"/>
            <a:chOff x="2135160" y="304920"/>
            <a:chExt cx="3960720" cy="936360"/>
          </a:xfrm>
        </p:grpSpPr>
        <p:sp>
          <p:nvSpPr>
            <p:cNvPr id="132" name="AutoShape 14"/>
            <p:cNvSpPr/>
            <p:nvPr/>
          </p:nvSpPr>
          <p:spPr>
            <a:xfrm>
              <a:off x="2206800" y="376200"/>
              <a:ext cx="3889080" cy="8650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76320">
              <a:solidFill>
                <a:srgbClr val="ff00ff"/>
              </a:solidFill>
              <a:prstDash val="lgDashDot"/>
              <a:round/>
            </a:ln>
            <a:effectLst>
              <a:outerShdw dist="107932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" name="Text Box 15"/>
            <p:cNvSpPr/>
            <p:nvPr/>
          </p:nvSpPr>
          <p:spPr>
            <a:xfrm>
              <a:off x="2135160" y="304920"/>
              <a:ext cx="39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cc00ff"/>
                  </a:solidFill>
                  <a:latin typeface="黑体"/>
                  <a:ea typeface="黑体"/>
                </a:rPr>
                <a:t>导入新课</a:t>
              </a:r>
              <a:endParaRPr b="0" lang="en-US" sz="5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2895480" y="10666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表示压力作用效果的物理量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1295280" y="22860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物体单位面积上受到的压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6" name="Rectangle 6"/>
          <p:cNvSpPr/>
          <p:nvPr/>
        </p:nvSpPr>
        <p:spPr>
          <a:xfrm>
            <a:off x="990720" y="304920"/>
            <a:ext cx="3886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  <a:ea typeface="黑体"/>
              </a:rPr>
              <a:t>2. 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  <a:ea typeface="黑体"/>
              </a:rPr>
              <a:t>压强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7" name="Rectangle 7"/>
          <p:cNvSpPr/>
          <p:nvPr/>
        </p:nvSpPr>
        <p:spPr>
          <a:xfrm>
            <a:off x="685800" y="1676520"/>
            <a:ext cx="34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定义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8" name="Text Box 9"/>
          <p:cNvSpPr/>
          <p:nvPr/>
        </p:nvSpPr>
        <p:spPr>
          <a:xfrm>
            <a:off x="685800" y="3124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公式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79" name="Group 38"/>
          <p:cNvGrpSpPr/>
          <p:nvPr/>
        </p:nvGrpSpPr>
        <p:grpSpPr>
          <a:xfrm>
            <a:off x="1828800" y="3886200"/>
            <a:ext cx="2666880" cy="1295280"/>
            <a:chOff x="1828800" y="3886200"/>
            <a:chExt cx="2666880" cy="1295280"/>
          </a:xfrm>
        </p:grpSpPr>
        <p:sp>
          <p:nvSpPr>
            <p:cNvPr id="680" name="Rectangle 30"/>
            <p:cNvSpPr/>
            <p:nvPr/>
          </p:nvSpPr>
          <p:spPr>
            <a:xfrm>
              <a:off x="1828800" y="3886200"/>
              <a:ext cx="2666880" cy="12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1" name="Text Box 11"/>
            <p:cNvSpPr/>
            <p:nvPr/>
          </p:nvSpPr>
          <p:spPr>
            <a:xfrm>
              <a:off x="1946520" y="424800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华文中宋"/>
                  <a:ea typeface="华文中宋"/>
                </a:rPr>
                <a:t>压强 </a:t>
              </a:r>
              <a:r>
                <a:rPr b="1" lang="en-US" sz="2800" spc="-1" strike="noStrike">
                  <a:solidFill>
                    <a:srgbClr val="0033cc"/>
                  </a:solidFill>
                  <a:latin typeface="华文中宋"/>
                  <a:ea typeface="华文中宋"/>
                </a:rPr>
                <a:t>=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3124080" y="4533840"/>
              <a:ext cx="1143000" cy="360"/>
              <a:chOff x="3124080" y="4533840"/>
              <a:chExt cx="1143000" cy="360"/>
            </a:xfrm>
          </p:grpSpPr>
          <p:sp>
            <p:nvSpPr>
              <p:cNvPr id="683" name="Line 12"/>
              <p:cNvSpPr/>
              <p:nvPr/>
            </p:nvSpPr>
            <p:spPr>
              <a:xfrm>
                <a:off x="3124080" y="4533840"/>
                <a:ext cx="114300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 txBox="1"/>
              <p:nvPr/>
            </p:nvSpPr>
            <p:spPr>
              <a:xfrm>
                <a:off x="3124080" y="4533840"/>
                <a:ext cx="11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685" name="Text Box 13"/>
            <p:cNvSpPr/>
            <p:nvPr/>
          </p:nvSpPr>
          <p:spPr>
            <a:xfrm>
              <a:off x="3130560" y="3886200"/>
              <a:ext cx="100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华文中宋"/>
                  <a:ea typeface="华文中宋"/>
                </a:rPr>
                <a:t>压力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6" name="Text Box 14"/>
            <p:cNvSpPr/>
            <p:nvPr/>
          </p:nvSpPr>
          <p:spPr>
            <a:xfrm>
              <a:off x="3194280" y="4630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华文中宋"/>
                  <a:ea typeface="华文中宋"/>
                </a:rPr>
                <a:t>受力面积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87" name="Group 39"/>
          <p:cNvGrpSpPr/>
          <p:nvPr/>
        </p:nvGrpSpPr>
        <p:grpSpPr>
          <a:xfrm>
            <a:off x="4724280" y="3886200"/>
            <a:ext cx="1447920" cy="1295280"/>
            <a:chOff x="4724280" y="3886200"/>
            <a:chExt cx="1447920" cy="1295280"/>
          </a:xfrm>
        </p:grpSpPr>
        <p:sp>
          <p:nvSpPr>
            <p:cNvPr id="688" name="Rectangle 31"/>
            <p:cNvSpPr/>
            <p:nvPr/>
          </p:nvSpPr>
          <p:spPr>
            <a:xfrm>
              <a:off x="4724280" y="3886200"/>
              <a:ext cx="1447920" cy="12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9" name="Text Box 16"/>
            <p:cNvSpPr/>
            <p:nvPr/>
          </p:nvSpPr>
          <p:spPr>
            <a:xfrm>
              <a:off x="4802400" y="4232160"/>
              <a:ext cx="65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p=</a:t>
              </a:r>
              <a:r>
                <a:rPr b="1" i="1" lang="en-US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5502240" y="4470480"/>
              <a:ext cx="533520" cy="360"/>
              <a:chOff x="5502240" y="4470480"/>
              <a:chExt cx="533520" cy="360"/>
            </a:xfrm>
          </p:grpSpPr>
          <p:sp>
            <p:nvSpPr>
              <p:cNvPr id="691" name="Line 17"/>
              <p:cNvSpPr/>
              <p:nvPr/>
            </p:nvSpPr>
            <p:spPr>
              <a:xfrm>
                <a:off x="5502240" y="4470480"/>
                <a:ext cx="53352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 txBox="1"/>
              <p:nvPr/>
            </p:nvSpPr>
            <p:spPr>
              <a:xfrm>
                <a:off x="5502240" y="447048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693" name="Text Box 18"/>
            <p:cNvSpPr/>
            <p:nvPr/>
          </p:nvSpPr>
          <p:spPr>
            <a:xfrm>
              <a:off x="5580360" y="38862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4" name="Text Box 19"/>
            <p:cNvSpPr/>
            <p:nvPr/>
          </p:nvSpPr>
          <p:spPr>
            <a:xfrm>
              <a:off x="5580360" y="4572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695" name="Picture 37" descr="png-0511"/>
          <p:cNvPicPr/>
          <p:nvPr/>
        </p:nvPicPr>
        <p:blipFill>
          <a:blip r:embed="rId1"/>
          <a:stretch/>
        </p:blipFill>
        <p:spPr>
          <a:xfrm>
            <a:off x="7238880" y="56386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AutoShape 52"/>
          <p:cNvSpPr/>
          <p:nvPr/>
        </p:nvSpPr>
        <p:spPr>
          <a:xfrm>
            <a:off x="2209680" y="4724280"/>
            <a:ext cx="990720" cy="609840"/>
          </a:xfrm>
          <a:prstGeom prst="cloudCallout">
            <a:avLst>
              <a:gd name="adj1" fmla="val -19069"/>
              <a:gd name="adj2" fmla="val 101824"/>
            </a:avLst>
          </a:prstGeom>
          <a:solidFill>
            <a:srgbClr val="ccffcc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7" name="Text Box 2"/>
          <p:cNvSpPr/>
          <p:nvPr/>
        </p:nvSpPr>
        <p:spPr>
          <a:xfrm>
            <a:off x="2209680" y="403848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 Pa  = 1 N / m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楷体_GB2312"/>
              </a:rPr>
              <a:t>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8" name="Text Box 15"/>
          <p:cNvSpPr/>
          <p:nvPr/>
        </p:nvSpPr>
        <p:spPr>
          <a:xfrm>
            <a:off x="533520" y="5715000"/>
            <a:ext cx="8208720" cy="520560"/>
          </a:xfrm>
          <a:prstGeom prst="rect">
            <a:avLst/>
          </a:prstGeom>
          <a:solidFill>
            <a:srgbClr val="ffff9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“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帕”的含义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: 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平方米的面积上受到的压力是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牛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9" name="Rectangle 27"/>
          <p:cNvSpPr/>
          <p:nvPr/>
        </p:nvSpPr>
        <p:spPr>
          <a:xfrm>
            <a:off x="1219320" y="8380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压强单位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00" name="Group 36"/>
          <p:cNvGrpSpPr/>
          <p:nvPr/>
        </p:nvGrpSpPr>
        <p:grpSpPr>
          <a:xfrm>
            <a:off x="1828800" y="1523880"/>
            <a:ext cx="2666880" cy="1295640"/>
            <a:chOff x="1828800" y="1523880"/>
            <a:chExt cx="2666880" cy="1295640"/>
          </a:xfrm>
        </p:grpSpPr>
        <p:sp>
          <p:nvSpPr>
            <p:cNvPr id="701" name="Rectangle 37"/>
            <p:cNvSpPr/>
            <p:nvPr/>
          </p:nvSpPr>
          <p:spPr>
            <a:xfrm>
              <a:off x="1828800" y="1523880"/>
              <a:ext cx="2666880" cy="1295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702" name="Group 38"/>
            <p:cNvGrpSpPr/>
            <p:nvPr/>
          </p:nvGrpSpPr>
          <p:grpSpPr>
            <a:xfrm>
              <a:off x="1946520" y="1523880"/>
              <a:ext cx="2320560" cy="1265040"/>
              <a:chOff x="1946520" y="1523880"/>
              <a:chExt cx="2320560" cy="1265040"/>
            </a:xfrm>
          </p:grpSpPr>
          <p:sp>
            <p:nvSpPr>
              <p:cNvPr id="703" name="Text Box 39"/>
              <p:cNvSpPr/>
              <p:nvPr/>
            </p:nvSpPr>
            <p:spPr>
              <a:xfrm>
                <a:off x="1946520" y="1885680"/>
                <a:ext cx="98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33cc"/>
                    </a:solidFill>
                    <a:latin typeface="华文中宋"/>
                    <a:ea typeface="华文中宋"/>
                  </a:rPr>
                  <a:t>压强 </a:t>
                </a:r>
                <a:r>
                  <a:rPr b="1" lang="en-US" sz="2800" spc="-1" strike="noStrike">
                    <a:solidFill>
                      <a:srgbClr val="0033cc"/>
                    </a:solidFill>
                    <a:latin typeface="华文中宋"/>
                    <a:ea typeface="华文中宋"/>
                  </a:rPr>
                  <a:t>=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704" name=""/>
              <p:cNvGrpSpPr/>
              <p:nvPr/>
            </p:nvGrpSpPr>
            <p:grpSpPr>
              <a:xfrm>
                <a:off x="3124080" y="2171520"/>
                <a:ext cx="1143000" cy="360"/>
                <a:chOff x="3124080" y="2171520"/>
                <a:chExt cx="1143000" cy="360"/>
              </a:xfrm>
            </p:grpSpPr>
            <p:sp>
              <p:nvSpPr>
                <p:cNvPr id="705" name="Line 40"/>
                <p:cNvSpPr/>
                <p:nvPr/>
              </p:nvSpPr>
              <p:spPr>
                <a:xfrm>
                  <a:off x="3124080" y="2171520"/>
                  <a:ext cx="1143000" cy="0"/>
                </a:xfrm>
                <a:prstGeom prst="line">
                  <a:avLst/>
                </a:prstGeom>
                <a:ln w="381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 txBox="1"/>
                <p:nvPr/>
              </p:nvSpPr>
              <p:spPr>
                <a:xfrm>
                  <a:off x="3124080" y="2171520"/>
                  <a:ext cx="1143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7" name="Text Box 41"/>
              <p:cNvSpPr/>
              <p:nvPr/>
            </p:nvSpPr>
            <p:spPr>
              <a:xfrm>
                <a:off x="3130560" y="1523880"/>
                <a:ext cx="100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33cc"/>
                    </a:solidFill>
                    <a:latin typeface="华文中宋"/>
                    <a:ea typeface="华文中宋"/>
                  </a:rPr>
                  <a:t>压力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08" name="Text Box 42"/>
              <p:cNvSpPr/>
              <p:nvPr/>
            </p:nvSpPr>
            <p:spPr>
              <a:xfrm>
                <a:off x="3194280" y="22683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33cc"/>
                    </a:solidFill>
                    <a:latin typeface="华文中宋"/>
                    <a:ea typeface="华文中宋"/>
                  </a:rPr>
                  <a:t>受力面积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709" name="Text Box 43"/>
          <p:cNvSpPr/>
          <p:nvPr/>
        </p:nvSpPr>
        <p:spPr>
          <a:xfrm>
            <a:off x="0" y="28195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专用名称叫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帕斯卡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ascal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简称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帕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符号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为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P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0" name="Text Box 44"/>
          <p:cNvSpPr/>
          <p:nvPr/>
        </p:nvSpPr>
        <p:spPr>
          <a:xfrm>
            <a:off x="4343400" y="1219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牛顿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（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N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1" name="Text Box 45"/>
          <p:cNvSpPr/>
          <p:nvPr/>
        </p:nvSpPr>
        <p:spPr>
          <a:xfrm>
            <a:off x="4267080" y="2971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平方米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（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m</a:t>
            </a:r>
            <a:r>
              <a:rPr b="1" lang="en-US" sz="2800" spc="-1" strike="noStrike" baseline="30000">
                <a:solidFill>
                  <a:srgbClr val="ff3399"/>
                </a:solidFill>
                <a:latin typeface="Times New Roman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1676160" y="2438280"/>
            <a:ext cx="609840" cy="381240"/>
            <a:chOff x="1676160" y="2438280"/>
            <a:chExt cx="609840" cy="381240"/>
          </a:xfrm>
        </p:grpSpPr>
        <p:sp>
          <p:nvSpPr>
            <p:cNvPr id="713" name="Line 46"/>
            <p:cNvSpPr/>
            <p:nvPr/>
          </p:nvSpPr>
          <p:spPr>
            <a:xfrm flipH="1">
              <a:off x="1676160" y="2438280"/>
              <a:ext cx="609480" cy="381240"/>
            </a:xfrm>
            <a:prstGeom prst="line">
              <a:avLst/>
            </a:prstGeom>
            <a:ln w="93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4" name=""/>
            <p:cNvSpPr txBox="1"/>
            <p:nvPr/>
          </p:nvSpPr>
          <p:spPr>
            <a:xfrm>
              <a:off x="1676520" y="2438280"/>
              <a:ext cx="60948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962520" y="1523520"/>
            <a:ext cx="380880" cy="304920"/>
            <a:chOff x="3962520" y="1523520"/>
            <a:chExt cx="380880" cy="304920"/>
          </a:xfrm>
        </p:grpSpPr>
        <p:sp>
          <p:nvSpPr>
            <p:cNvPr id="716" name="Line 47"/>
            <p:cNvSpPr/>
            <p:nvPr/>
          </p:nvSpPr>
          <p:spPr>
            <a:xfrm flipV="1">
              <a:off x="3962520" y="1523520"/>
              <a:ext cx="380880" cy="304920"/>
            </a:xfrm>
            <a:prstGeom prst="line">
              <a:avLst/>
            </a:prstGeom>
            <a:ln w="93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7" name=""/>
            <p:cNvSpPr txBox="1"/>
            <p:nvPr/>
          </p:nvSpPr>
          <p:spPr>
            <a:xfrm rot="10800000">
              <a:off x="3962520" y="1523520"/>
              <a:ext cx="380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3809880" y="2743200"/>
            <a:ext cx="533520" cy="380880"/>
            <a:chOff x="3809880" y="2743200"/>
            <a:chExt cx="533520" cy="380880"/>
          </a:xfrm>
        </p:grpSpPr>
        <p:sp>
          <p:nvSpPr>
            <p:cNvPr id="719" name="Line 48"/>
            <p:cNvSpPr/>
            <p:nvPr/>
          </p:nvSpPr>
          <p:spPr>
            <a:xfrm>
              <a:off x="3809880" y="2743200"/>
              <a:ext cx="533520" cy="380880"/>
            </a:xfrm>
            <a:prstGeom prst="line">
              <a:avLst/>
            </a:prstGeom>
            <a:ln w="93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0" name=""/>
            <p:cNvSpPr txBox="1"/>
            <p:nvPr/>
          </p:nvSpPr>
          <p:spPr>
            <a:xfrm>
              <a:off x="3809880" y="2743200"/>
              <a:ext cx="53352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21" name="Rectangle 50"/>
          <p:cNvSpPr/>
          <p:nvPr/>
        </p:nvSpPr>
        <p:spPr>
          <a:xfrm>
            <a:off x="4952880" y="18288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压强的单位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N/m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读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牛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每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平方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2"/>
          <p:cNvSpPr/>
          <p:nvPr/>
        </p:nvSpPr>
        <p:spPr>
          <a:xfrm>
            <a:off x="1676520" y="838080"/>
            <a:ext cx="25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  <a:ea typeface="隶书"/>
              </a:rPr>
              <a:t>小数据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228600" y="2057400"/>
            <a:ext cx="84582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一颗西瓜子平放在桌面上，对桌面的压强约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20 P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一张报纸平放时对桌面的压强约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0.5 P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成年人站立时对地面的压强约为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1.5×10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仿宋_GB2312"/>
              </a:rPr>
              <a:t>4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P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24" name="Picture 7" descr="png-0534"/>
          <p:cNvPicPr/>
          <p:nvPr/>
        </p:nvPicPr>
        <p:blipFill>
          <a:blip r:embed="rId1"/>
          <a:stretch/>
        </p:blipFill>
        <p:spPr>
          <a:xfrm>
            <a:off x="3352680" y="6858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9" descr="094254829"/>
          <p:cNvPicPr/>
          <p:nvPr/>
        </p:nvPicPr>
        <p:blipFill>
          <a:blip r:embed="rId2"/>
          <a:stretch/>
        </p:blipFill>
        <p:spPr>
          <a:xfrm>
            <a:off x="5791320" y="609480"/>
            <a:ext cx="1752480" cy="13147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1" descr="fbab6cdc961434bacd1166a2"/>
          <p:cNvPicPr/>
          <p:nvPr/>
        </p:nvPicPr>
        <p:blipFill>
          <a:blip r:embed="rId3"/>
          <a:stretch/>
        </p:blipFill>
        <p:spPr>
          <a:xfrm>
            <a:off x="6629400" y="26668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3" descr="F200903241001338740301932"/>
          <p:cNvPicPr/>
          <p:nvPr/>
        </p:nvPicPr>
        <p:blipFill>
          <a:blip r:embed="rId4"/>
          <a:stretch/>
        </p:blipFill>
        <p:spPr>
          <a:xfrm>
            <a:off x="3048120" y="518148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3"/>
          <p:cNvSpPr/>
          <p:nvPr/>
        </p:nvSpPr>
        <p:spPr>
          <a:xfrm>
            <a:off x="304920" y="15238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用什么办法可以增大压强，什么办法可以减小强？下面的图中，哪些是要增大压强？哪些是要减小压强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4038480" y="3429000"/>
            <a:ext cx="466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推土机具有宽大的履带和锋利的土铲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30" name="Picture 7" descr="想想议议"/>
          <p:cNvPicPr/>
          <p:nvPr/>
        </p:nvPicPr>
        <p:blipFill>
          <a:blip r:embed="rId1"/>
          <a:stretch/>
        </p:blipFill>
        <p:spPr>
          <a:xfrm>
            <a:off x="380880" y="457200"/>
            <a:ext cx="2590920" cy="10350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9" descr="200681019114459208"/>
          <p:cNvPicPr/>
          <p:nvPr/>
        </p:nvPicPr>
        <p:blipFill>
          <a:blip r:embed="rId2"/>
          <a:stretch/>
        </p:blipFill>
        <p:spPr>
          <a:xfrm>
            <a:off x="228600" y="2819520"/>
            <a:ext cx="3733920" cy="373356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14"/>
          <p:cNvSpPr/>
          <p:nvPr/>
        </p:nvSpPr>
        <p:spPr>
          <a:xfrm>
            <a:off x="6705720" y="3886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减小压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6705720" y="3962160"/>
            <a:ext cx="1676160" cy="360"/>
            <a:chOff x="6705720" y="3962160"/>
            <a:chExt cx="1676160" cy="360"/>
          </a:xfrm>
        </p:grpSpPr>
        <p:sp>
          <p:nvSpPr>
            <p:cNvPr id="734" name="Line 15"/>
            <p:cNvSpPr/>
            <p:nvPr/>
          </p:nvSpPr>
          <p:spPr>
            <a:xfrm>
              <a:off x="6705720" y="3962520"/>
              <a:ext cx="16761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5" name=""/>
            <p:cNvSpPr txBox="1"/>
            <p:nvPr/>
          </p:nvSpPr>
          <p:spPr>
            <a:xfrm rot="10800000">
              <a:off x="6705720" y="3962160"/>
              <a:ext cx="1676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4495680" y="4343400"/>
            <a:ext cx="1905120" cy="360"/>
            <a:chOff x="4495680" y="4343400"/>
            <a:chExt cx="1905120" cy="360"/>
          </a:xfrm>
        </p:grpSpPr>
        <p:sp>
          <p:nvSpPr>
            <p:cNvPr id="737" name="Line 17"/>
            <p:cNvSpPr/>
            <p:nvPr/>
          </p:nvSpPr>
          <p:spPr>
            <a:xfrm>
              <a:off x="4495680" y="4343400"/>
              <a:ext cx="1905120" cy="0"/>
            </a:xfrm>
            <a:prstGeom prst="line">
              <a:avLst/>
            </a:prstGeom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8" name=""/>
            <p:cNvSpPr txBox="1"/>
            <p:nvPr/>
          </p:nvSpPr>
          <p:spPr>
            <a:xfrm>
              <a:off x="4495680" y="4343400"/>
              <a:ext cx="1905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39" name="Text Box 18"/>
          <p:cNvSpPr/>
          <p:nvPr/>
        </p:nvSpPr>
        <p:spPr>
          <a:xfrm>
            <a:off x="4495680" y="43434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增大压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93"/>
          <p:cNvSpPr/>
          <p:nvPr/>
        </p:nvSpPr>
        <p:spPr>
          <a:xfrm>
            <a:off x="3429000" y="3124080"/>
            <a:ext cx="1600200" cy="1143000"/>
          </a:xfrm>
          <a:prstGeom prst="rect">
            <a:avLst/>
          </a:prstGeom>
          <a:solidFill>
            <a:srgbClr val="ffff9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1" name="Rectangle 94"/>
          <p:cNvSpPr/>
          <p:nvPr/>
        </p:nvSpPr>
        <p:spPr>
          <a:xfrm>
            <a:off x="3429000" y="4343400"/>
            <a:ext cx="1600200" cy="1219320"/>
          </a:xfrm>
          <a:prstGeom prst="rect">
            <a:avLst/>
          </a:prstGeom>
          <a:solidFill>
            <a:srgbClr val="ffff9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2" name="Rectangle 92"/>
          <p:cNvSpPr/>
          <p:nvPr/>
        </p:nvSpPr>
        <p:spPr>
          <a:xfrm>
            <a:off x="3429000" y="1828800"/>
            <a:ext cx="1600200" cy="1143000"/>
          </a:xfrm>
          <a:prstGeom prst="rect">
            <a:avLst/>
          </a:prstGeom>
          <a:solidFill>
            <a:srgbClr val="ffff9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3" name="Text Box 2"/>
          <p:cNvSpPr/>
          <p:nvPr/>
        </p:nvSpPr>
        <p:spPr>
          <a:xfrm>
            <a:off x="609480" y="2286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  <a:ea typeface="黑体"/>
              </a:rPr>
              <a:t>3.</a:t>
            </a:r>
            <a:r>
              <a:rPr b="1" lang="zh-CN" sz="4400" spc="-1" strike="noStrike">
                <a:solidFill>
                  <a:srgbClr val="9900cc"/>
                </a:solidFill>
                <a:latin typeface="黑体"/>
                <a:ea typeface="黑体"/>
              </a:rPr>
              <a:t>怎样减小或增大压强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4" name="Text Box 3"/>
          <p:cNvSpPr/>
          <p:nvPr/>
        </p:nvSpPr>
        <p:spPr>
          <a:xfrm>
            <a:off x="914400" y="1219320"/>
            <a:ext cx="37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增大压强的方法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457200" y="33526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受力面积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S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一定时，增大压力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F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6" name="AutoShape 5"/>
          <p:cNvSpPr/>
          <p:nvPr/>
        </p:nvSpPr>
        <p:spPr>
          <a:xfrm>
            <a:off x="228600" y="2286000"/>
            <a:ext cx="228600" cy="2590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7" name="Text Box 6"/>
          <p:cNvSpPr/>
          <p:nvPr/>
        </p:nvSpPr>
        <p:spPr>
          <a:xfrm>
            <a:off x="457200" y="2133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压力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一定时，减小受力面积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48" name="Picture 63" descr="png-0511"/>
          <p:cNvPicPr/>
          <p:nvPr/>
        </p:nvPicPr>
        <p:blipFill>
          <a:blip r:embed="rId1"/>
          <a:stretch/>
        </p:blipFill>
        <p:spPr>
          <a:xfrm>
            <a:off x="304920" y="56386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749" name="Text Box 64"/>
          <p:cNvSpPr/>
          <p:nvPr/>
        </p:nvSpPr>
        <p:spPr>
          <a:xfrm>
            <a:off x="457200" y="44956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增大压力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，减小受力面积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50" name="Group 71"/>
          <p:cNvGrpSpPr/>
          <p:nvPr/>
        </p:nvGrpSpPr>
        <p:grpSpPr>
          <a:xfrm>
            <a:off x="3659400" y="1828800"/>
            <a:ext cx="1233360" cy="1206360"/>
            <a:chOff x="3659400" y="1828800"/>
            <a:chExt cx="1233360" cy="1206360"/>
          </a:xfrm>
        </p:grpSpPr>
        <p:sp>
          <p:nvSpPr>
            <p:cNvPr id="751" name="Text Box 67"/>
            <p:cNvSpPr/>
            <p:nvPr/>
          </p:nvSpPr>
          <p:spPr>
            <a:xfrm>
              <a:off x="3659400" y="2174760"/>
              <a:ext cx="65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p=</a:t>
              </a:r>
              <a:r>
                <a:rPr b="1" i="1" lang="en-US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4359240" y="2413080"/>
              <a:ext cx="533520" cy="360"/>
              <a:chOff x="4359240" y="2413080"/>
              <a:chExt cx="533520" cy="360"/>
            </a:xfrm>
          </p:grpSpPr>
          <p:sp>
            <p:nvSpPr>
              <p:cNvPr id="753" name="Line 68"/>
              <p:cNvSpPr/>
              <p:nvPr/>
            </p:nvSpPr>
            <p:spPr>
              <a:xfrm>
                <a:off x="4359240" y="2413080"/>
                <a:ext cx="53352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 txBox="1"/>
              <p:nvPr/>
            </p:nvSpPr>
            <p:spPr>
              <a:xfrm>
                <a:off x="4359240" y="241308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755" name="Text Box 69"/>
            <p:cNvSpPr/>
            <p:nvPr/>
          </p:nvSpPr>
          <p:spPr>
            <a:xfrm>
              <a:off x="4437360" y="1828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6" name="Text Box 70"/>
            <p:cNvSpPr/>
            <p:nvPr/>
          </p:nvSpPr>
          <p:spPr>
            <a:xfrm>
              <a:off x="4437360" y="2514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57" name="Group 72"/>
          <p:cNvGrpSpPr/>
          <p:nvPr/>
        </p:nvGrpSpPr>
        <p:grpSpPr>
          <a:xfrm>
            <a:off x="3583080" y="3124080"/>
            <a:ext cx="1233360" cy="1206360"/>
            <a:chOff x="3583080" y="3124080"/>
            <a:chExt cx="1233360" cy="1206360"/>
          </a:xfrm>
        </p:grpSpPr>
        <p:sp>
          <p:nvSpPr>
            <p:cNvPr id="758" name="Text Box 73"/>
            <p:cNvSpPr/>
            <p:nvPr/>
          </p:nvSpPr>
          <p:spPr>
            <a:xfrm>
              <a:off x="3583080" y="3470040"/>
              <a:ext cx="65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p=</a:t>
              </a:r>
              <a:r>
                <a:rPr b="1" i="1" lang="en-US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4282920" y="3708360"/>
              <a:ext cx="533520" cy="360"/>
              <a:chOff x="4282920" y="3708360"/>
              <a:chExt cx="533520" cy="360"/>
            </a:xfrm>
          </p:grpSpPr>
          <p:sp>
            <p:nvSpPr>
              <p:cNvPr id="760" name="Line 74"/>
              <p:cNvSpPr/>
              <p:nvPr/>
            </p:nvSpPr>
            <p:spPr>
              <a:xfrm>
                <a:off x="4282920" y="3708360"/>
                <a:ext cx="53352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 txBox="1"/>
              <p:nvPr/>
            </p:nvSpPr>
            <p:spPr>
              <a:xfrm>
                <a:off x="4282920" y="370836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762" name="Text Box 75"/>
            <p:cNvSpPr/>
            <p:nvPr/>
          </p:nvSpPr>
          <p:spPr>
            <a:xfrm>
              <a:off x="4361040" y="3124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3" name="Text Box 76"/>
            <p:cNvSpPr/>
            <p:nvPr/>
          </p:nvSpPr>
          <p:spPr>
            <a:xfrm>
              <a:off x="4361040" y="3809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64" name="Group 77"/>
          <p:cNvGrpSpPr/>
          <p:nvPr/>
        </p:nvGrpSpPr>
        <p:grpSpPr>
          <a:xfrm>
            <a:off x="3583080" y="4343400"/>
            <a:ext cx="1233360" cy="1206360"/>
            <a:chOff x="3583080" y="4343400"/>
            <a:chExt cx="1233360" cy="1206360"/>
          </a:xfrm>
        </p:grpSpPr>
        <p:sp>
          <p:nvSpPr>
            <p:cNvPr id="765" name="Text Box 78"/>
            <p:cNvSpPr/>
            <p:nvPr/>
          </p:nvSpPr>
          <p:spPr>
            <a:xfrm>
              <a:off x="3583080" y="4689360"/>
              <a:ext cx="65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p=</a:t>
              </a:r>
              <a:r>
                <a:rPr b="1" i="1" lang="en-US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4282920" y="4927680"/>
              <a:ext cx="533520" cy="360"/>
              <a:chOff x="4282920" y="4927680"/>
              <a:chExt cx="533520" cy="360"/>
            </a:xfrm>
          </p:grpSpPr>
          <p:sp>
            <p:nvSpPr>
              <p:cNvPr id="767" name="Line 79"/>
              <p:cNvSpPr/>
              <p:nvPr/>
            </p:nvSpPr>
            <p:spPr>
              <a:xfrm>
                <a:off x="4282920" y="4927680"/>
                <a:ext cx="53352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 txBox="1"/>
              <p:nvPr/>
            </p:nvSpPr>
            <p:spPr>
              <a:xfrm>
                <a:off x="4282920" y="492768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769" name="Text Box 80"/>
            <p:cNvSpPr/>
            <p:nvPr/>
          </p:nvSpPr>
          <p:spPr>
            <a:xfrm>
              <a:off x="4361040" y="43434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0" name="Text Box 81"/>
            <p:cNvSpPr/>
            <p:nvPr/>
          </p:nvSpPr>
          <p:spPr>
            <a:xfrm>
              <a:off x="4361040" y="5029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4876920" y="2514600"/>
            <a:ext cx="360" cy="457200"/>
            <a:chOff x="4876920" y="2514600"/>
            <a:chExt cx="360" cy="457200"/>
          </a:xfrm>
        </p:grpSpPr>
        <p:sp>
          <p:nvSpPr>
            <p:cNvPr id="772" name="Line 83"/>
            <p:cNvSpPr/>
            <p:nvPr/>
          </p:nvSpPr>
          <p:spPr>
            <a:xfrm>
              <a:off x="4876920" y="25146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3" name=""/>
            <p:cNvSpPr txBox="1"/>
            <p:nvPr/>
          </p:nvSpPr>
          <p:spPr>
            <a:xfrm>
              <a:off x="4876920" y="251460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4419720" y="1905120"/>
            <a:ext cx="457200" cy="360"/>
            <a:chOff x="4419720" y="1905120"/>
            <a:chExt cx="457200" cy="360"/>
          </a:xfrm>
        </p:grpSpPr>
        <p:sp>
          <p:nvSpPr>
            <p:cNvPr id="775" name="Line 84"/>
            <p:cNvSpPr/>
            <p:nvPr/>
          </p:nvSpPr>
          <p:spPr>
            <a:xfrm>
              <a:off x="4419720" y="190512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6" name=""/>
            <p:cNvSpPr txBox="1"/>
            <p:nvPr/>
          </p:nvSpPr>
          <p:spPr>
            <a:xfrm>
              <a:off x="4419720" y="19051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3581280" y="2286000"/>
            <a:ext cx="152640" cy="457200"/>
            <a:chOff x="3581280" y="2286000"/>
            <a:chExt cx="152640" cy="457200"/>
          </a:xfrm>
        </p:grpSpPr>
        <p:sp>
          <p:nvSpPr>
            <p:cNvPr id="778" name="Line 85"/>
            <p:cNvSpPr/>
            <p:nvPr/>
          </p:nvSpPr>
          <p:spPr>
            <a:xfrm flipV="1">
              <a:off x="3581280" y="2286000"/>
              <a:ext cx="152640" cy="4572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 rot="10800000">
              <a:off x="3581280" y="2286000"/>
              <a:ext cx="152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4724280" y="3200400"/>
            <a:ext cx="152640" cy="457200"/>
            <a:chOff x="4724280" y="3200400"/>
            <a:chExt cx="152640" cy="457200"/>
          </a:xfrm>
        </p:grpSpPr>
        <p:sp>
          <p:nvSpPr>
            <p:cNvPr id="781" name="Line 86"/>
            <p:cNvSpPr/>
            <p:nvPr/>
          </p:nvSpPr>
          <p:spPr>
            <a:xfrm flipV="1">
              <a:off x="4724280" y="3200400"/>
              <a:ext cx="152640" cy="4572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2" name=""/>
            <p:cNvSpPr txBox="1"/>
            <p:nvPr/>
          </p:nvSpPr>
          <p:spPr>
            <a:xfrm rot="10800000">
              <a:off x="4724280" y="3200400"/>
              <a:ext cx="152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4343400" y="3886200"/>
            <a:ext cx="457200" cy="360"/>
            <a:chOff x="4343400" y="3886200"/>
            <a:chExt cx="457200" cy="360"/>
          </a:xfrm>
        </p:grpSpPr>
        <p:sp>
          <p:nvSpPr>
            <p:cNvPr id="784" name="Line 87"/>
            <p:cNvSpPr/>
            <p:nvPr/>
          </p:nvSpPr>
          <p:spPr>
            <a:xfrm>
              <a:off x="4343400" y="38862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5" name=""/>
            <p:cNvSpPr txBox="1"/>
            <p:nvPr/>
          </p:nvSpPr>
          <p:spPr>
            <a:xfrm>
              <a:off x="4343400" y="38862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3504960" y="3581280"/>
            <a:ext cx="152640" cy="457200"/>
            <a:chOff x="3504960" y="3581280"/>
            <a:chExt cx="152640" cy="457200"/>
          </a:xfrm>
        </p:grpSpPr>
        <p:sp>
          <p:nvSpPr>
            <p:cNvPr id="787" name="Line 88"/>
            <p:cNvSpPr/>
            <p:nvPr/>
          </p:nvSpPr>
          <p:spPr>
            <a:xfrm flipV="1">
              <a:off x="3505320" y="3581280"/>
              <a:ext cx="152280" cy="4572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8" name=""/>
            <p:cNvSpPr txBox="1"/>
            <p:nvPr/>
          </p:nvSpPr>
          <p:spPr>
            <a:xfrm rot="10800000">
              <a:off x="3504960" y="3581280"/>
              <a:ext cx="1522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504960" y="4724280"/>
            <a:ext cx="152640" cy="457200"/>
            <a:chOff x="3504960" y="4724280"/>
            <a:chExt cx="152640" cy="457200"/>
          </a:xfrm>
        </p:grpSpPr>
        <p:sp>
          <p:nvSpPr>
            <p:cNvPr id="790" name="Line 89"/>
            <p:cNvSpPr/>
            <p:nvPr/>
          </p:nvSpPr>
          <p:spPr>
            <a:xfrm flipV="1">
              <a:off x="3505320" y="4724280"/>
              <a:ext cx="152280" cy="4572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1" name=""/>
            <p:cNvSpPr txBox="1"/>
            <p:nvPr/>
          </p:nvSpPr>
          <p:spPr>
            <a:xfrm rot="10800000">
              <a:off x="3504960" y="4724280"/>
              <a:ext cx="1522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800240" y="4343400"/>
            <a:ext cx="152640" cy="457200"/>
            <a:chOff x="4800240" y="4343400"/>
            <a:chExt cx="152640" cy="457200"/>
          </a:xfrm>
        </p:grpSpPr>
        <p:sp>
          <p:nvSpPr>
            <p:cNvPr id="793" name="Line 90"/>
            <p:cNvSpPr/>
            <p:nvPr/>
          </p:nvSpPr>
          <p:spPr>
            <a:xfrm flipV="1">
              <a:off x="4800600" y="4343400"/>
              <a:ext cx="152280" cy="4572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4" name=""/>
            <p:cNvSpPr txBox="1"/>
            <p:nvPr/>
          </p:nvSpPr>
          <p:spPr>
            <a:xfrm rot="10800000">
              <a:off x="4800240" y="4343400"/>
              <a:ext cx="1522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4800600" y="5105520"/>
            <a:ext cx="360" cy="457200"/>
            <a:chOff x="4800600" y="5105520"/>
            <a:chExt cx="360" cy="457200"/>
          </a:xfrm>
        </p:grpSpPr>
        <p:sp>
          <p:nvSpPr>
            <p:cNvPr id="796" name="Line 91"/>
            <p:cNvSpPr/>
            <p:nvPr/>
          </p:nvSpPr>
          <p:spPr>
            <a:xfrm>
              <a:off x="4800600" y="510552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7" name=""/>
            <p:cNvSpPr txBox="1"/>
            <p:nvPr/>
          </p:nvSpPr>
          <p:spPr>
            <a:xfrm>
              <a:off x="4800600" y="51055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98" name="Text Box 95"/>
          <p:cNvSpPr/>
          <p:nvPr/>
        </p:nvSpPr>
        <p:spPr>
          <a:xfrm>
            <a:off x="5029200" y="2438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用细线切割皮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9" name="Text Box 96"/>
          <p:cNvSpPr/>
          <p:nvPr/>
        </p:nvSpPr>
        <p:spPr>
          <a:xfrm>
            <a:off x="5029200" y="327672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压路机的磙子是重质实心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0" name="Text Box 97"/>
          <p:cNvSpPr/>
          <p:nvPr/>
        </p:nvSpPr>
        <p:spPr>
          <a:xfrm>
            <a:off x="5029200" y="4343400"/>
            <a:ext cx="281952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木桩底部削尖、用大力气</a:t>
            </a:r>
            <a:r>
              <a:rPr b="1" lang="en-US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容易打入地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01" name="Picture 99" descr="20070604113020382"/>
          <p:cNvPicPr/>
          <p:nvPr/>
        </p:nvPicPr>
        <p:blipFill>
          <a:blip r:embed="rId2"/>
          <a:stretch/>
        </p:blipFill>
        <p:spPr>
          <a:xfrm>
            <a:off x="5638680" y="1371600"/>
            <a:ext cx="1524240" cy="10969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00" descr="20071211104834335"/>
          <p:cNvPicPr/>
          <p:nvPr/>
        </p:nvPicPr>
        <p:blipFill>
          <a:blip r:embed="rId3"/>
          <a:stretch/>
        </p:blipFill>
        <p:spPr>
          <a:xfrm>
            <a:off x="7391520" y="3048120"/>
            <a:ext cx="1752480" cy="12826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02" descr="f2b6303fe75bd6d97c1e714d"/>
          <p:cNvPicPr/>
          <p:nvPr/>
        </p:nvPicPr>
        <p:blipFill>
          <a:blip r:embed="rId4"/>
          <a:stretch/>
        </p:blipFill>
        <p:spPr>
          <a:xfrm>
            <a:off x="7543800" y="464832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3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500"/>
                            </p:stCondLst>
                            <p:childTnLst>
                              <p:par>
                                <p:cTn id="121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1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4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2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4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23"/>
          <p:cNvSpPr/>
          <p:nvPr/>
        </p:nvSpPr>
        <p:spPr>
          <a:xfrm>
            <a:off x="3352680" y="1676520"/>
            <a:ext cx="1600200" cy="1143000"/>
          </a:xfrm>
          <a:prstGeom prst="rect">
            <a:avLst/>
          </a:prstGeom>
          <a:solidFill>
            <a:srgbClr val="ffff9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5" name="Rectangle 24"/>
          <p:cNvSpPr/>
          <p:nvPr/>
        </p:nvSpPr>
        <p:spPr>
          <a:xfrm>
            <a:off x="3429000" y="2971800"/>
            <a:ext cx="1600200" cy="1143000"/>
          </a:xfrm>
          <a:prstGeom prst="rect">
            <a:avLst/>
          </a:prstGeom>
          <a:solidFill>
            <a:srgbClr val="ffff9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6" name="Rectangle 25"/>
          <p:cNvSpPr/>
          <p:nvPr/>
        </p:nvSpPr>
        <p:spPr>
          <a:xfrm>
            <a:off x="3429000" y="4343400"/>
            <a:ext cx="1600200" cy="1143000"/>
          </a:xfrm>
          <a:prstGeom prst="rect">
            <a:avLst/>
          </a:prstGeom>
          <a:solidFill>
            <a:srgbClr val="ffff9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7" name="Text Box 4"/>
          <p:cNvSpPr/>
          <p:nvPr/>
        </p:nvSpPr>
        <p:spPr>
          <a:xfrm>
            <a:off x="1219320" y="990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黑体"/>
              </a:rPr>
              <a:t>减小压强的方法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8" name="Text Box 5"/>
          <p:cNvSpPr/>
          <p:nvPr/>
        </p:nvSpPr>
        <p:spPr>
          <a:xfrm>
            <a:off x="533520" y="1828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压力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一定时，增大受力面积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9" name="Rectangle 6"/>
          <p:cNvSpPr/>
          <p:nvPr/>
        </p:nvSpPr>
        <p:spPr>
          <a:xfrm>
            <a:off x="380880" y="3200400"/>
            <a:ext cx="357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受力面积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S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一定时，减小压力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F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0" name="AutoShape 7"/>
          <p:cNvSpPr/>
          <p:nvPr/>
        </p:nvSpPr>
        <p:spPr>
          <a:xfrm>
            <a:off x="228600" y="2057400"/>
            <a:ext cx="304920" cy="26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811" name="Group 8"/>
          <p:cNvGrpSpPr/>
          <p:nvPr/>
        </p:nvGrpSpPr>
        <p:grpSpPr>
          <a:xfrm>
            <a:off x="3583080" y="1676520"/>
            <a:ext cx="1233360" cy="1206360"/>
            <a:chOff x="3583080" y="1676520"/>
            <a:chExt cx="1233360" cy="1206360"/>
          </a:xfrm>
        </p:grpSpPr>
        <p:sp>
          <p:nvSpPr>
            <p:cNvPr id="812" name="Text Box 9"/>
            <p:cNvSpPr/>
            <p:nvPr/>
          </p:nvSpPr>
          <p:spPr>
            <a:xfrm>
              <a:off x="3583080" y="2022480"/>
              <a:ext cx="65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p=</a:t>
              </a:r>
              <a:r>
                <a:rPr b="1" i="1" lang="en-US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282920" y="2260800"/>
              <a:ext cx="533520" cy="360"/>
              <a:chOff x="4282920" y="2260800"/>
              <a:chExt cx="533520" cy="360"/>
            </a:xfrm>
          </p:grpSpPr>
          <p:sp>
            <p:nvSpPr>
              <p:cNvPr id="814" name="Line 10"/>
              <p:cNvSpPr/>
              <p:nvPr/>
            </p:nvSpPr>
            <p:spPr>
              <a:xfrm>
                <a:off x="4282920" y="2260800"/>
                <a:ext cx="53352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 txBox="1"/>
              <p:nvPr/>
            </p:nvSpPr>
            <p:spPr>
              <a:xfrm>
                <a:off x="4282920" y="22608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816" name="Text Box 11"/>
            <p:cNvSpPr/>
            <p:nvPr/>
          </p:nvSpPr>
          <p:spPr>
            <a:xfrm>
              <a:off x="4361040" y="16765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4361040" y="2362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818" name="Group 13"/>
          <p:cNvGrpSpPr/>
          <p:nvPr/>
        </p:nvGrpSpPr>
        <p:grpSpPr>
          <a:xfrm>
            <a:off x="3507120" y="2971800"/>
            <a:ext cx="1232640" cy="1206360"/>
            <a:chOff x="3507120" y="2971800"/>
            <a:chExt cx="1232640" cy="1206360"/>
          </a:xfrm>
        </p:grpSpPr>
        <p:sp>
          <p:nvSpPr>
            <p:cNvPr id="819" name="Text Box 14"/>
            <p:cNvSpPr/>
            <p:nvPr/>
          </p:nvSpPr>
          <p:spPr>
            <a:xfrm>
              <a:off x="3507120" y="3317760"/>
              <a:ext cx="65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p=</a:t>
              </a:r>
              <a:r>
                <a:rPr b="1" i="1" lang="en-US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4206600" y="3556080"/>
              <a:ext cx="533160" cy="360"/>
              <a:chOff x="4206600" y="3556080"/>
              <a:chExt cx="533160" cy="360"/>
            </a:xfrm>
          </p:grpSpPr>
          <p:sp>
            <p:nvSpPr>
              <p:cNvPr id="821" name="Line 15"/>
              <p:cNvSpPr/>
              <p:nvPr/>
            </p:nvSpPr>
            <p:spPr>
              <a:xfrm>
                <a:off x="4206600" y="3556080"/>
                <a:ext cx="53316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 txBox="1"/>
              <p:nvPr/>
            </p:nvSpPr>
            <p:spPr>
              <a:xfrm>
                <a:off x="4206600" y="3556080"/>
                <a:ext cx="53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823" name="Text Box 16"/>
            <p:cNvSpPr/>
            <p:nvPr/>
          </p:nvSpPr>
          <p:spPr>
            <a:xfrm>
              <a:off x="4284720" y="2971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4" name="Text Box 17"/>
            <p:cNvSpPr/>
            <p:nvPr/>
          </p:nvSpPr>
          <p:spPr>
            <a:xfrm>
              <a:off x="4284720" y="3657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825" name="Group 18"/>
          <p:cNvGrpSpPr/>
          <p:nvPr/>
        </p:nvGrpSpPr>
        <p:grpSpPr>
          <a:xfrm>
            <a:off x="3507120" y="4267080"/>
            <a:ext cx="1232640" cy="1206360"/>
            <a:chOff x="3507120" y="4267080"/>
            <a:chExt cx="1232640" cy="1206360"/>
          </a:xfrm>
        </p:grpSpPr>
        <p:sp>
          <p:nvSpPr>
            <p:cNvPr id="826" name="Text Box 19"/>
            <p:cNvSpPr/>
            <p:nvPr/>
          </p:nvSpPr>
          <p:spPr>
            <a:xfrm>
              <a:off x="3507120" y="4613040"/>
              <a:ext cx="65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p=</a:t>
              </a:r>
              <a:r>
                <a:rPr b="1" i="1" lang="en-US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4206600" y="4851360"/>
              <a:ext cx="533160" cy="360"/>
              <a:chOff x="4206600" y="4851360"/>
              <a:chExt cx="533160" cy="360"/>
            </a:xfrm>
          </p:grpSpPr>
          <p:sp>
            <p:nvSpPr>
              <p:cNvPr id="828" name="Line 20"/>
              <p:cNvSpPr/>
              <p:nvPr/>
            </p:nvSpPr>
            <p:spPr>
              <a:xfrm>
                <a:off x="4206600" y="4851360"/>
                <a:ext cx="53316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 txBox="1"/>
              <p:nvPr/>
            </p:nvSpPr>
            <p:spPr>
              <a:xfrm>
                <a:off x="4206600" y="4851360"/>
                <a:ext cx="53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830" name="Text Box 21"/>
            <p:cNvSpPr/>
            <p:nvPr/>
          </p:nvSpPr>
          <p:spPr>
            <a:xfrm>
              <a:off x="4284720" y="4267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1" name="Text Box 22"/>
            <p:cNvSpPr/>
            <p:nvPr/>
          </p:nvSpPr>
          <p:spPr>
            <a:xfrm>
              <a:off x="4284720" y="4952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832" name="Text Box 26"/>
          <p:cNvSpPr/>
          <p:nvPr/>
        </p:nvSpPr>
        <p:spPr>
          <a:xfrm>
            <a:off x="533520" y="44197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增大受力面积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S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，减小压力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F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3581280" y="2057400"/>
            <a:ext cx="360" cy="457200"/>
            <a:chOff x="3581280" y="2057400"/>
            <a:chExt cx="360" cy="457200"/>
          </a:xfrm>
        </p:grpSpPr>
        <p:sp>
          <p:nvSpPr>
            <p:cNvPr id="834" name="Line 28"/>
            <p:cNvSpPr/>
            <p:nvPr/>
          </p:nvSpPr>
          <p:spPr>
            <a:xfrm>
              <a:off x="3581280" y="20574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5" name=""/>
            <p:cNvSpPr txBox="1"/>
            <p:nvPr/>
          </p:nvSpPr>
          <p:spPr>
            <a:xfrm>
              <a:off x="3581280" y="205740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4343400" y="1752480"/>
            <a:ext cx="457200" cy="360"/>
            <a:chOff x="4343400" y="1752480"/>
            <a:chExt cx="457200" cy="360"/>
          </a:xfrm>
        </p:grpSpPr>
        <p:sp>
          <p:nvSpPr>
            <p:cNvPr id="837" name="Line 29"/>
            <p:cNvSpPr/>
            <p:nvPr/>
          </p:nvSpPr>
          <p:spPr>
            <a:xfrm>
              <a:off x="4343400" y="17524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8" name=""/>
            <p:cNvSpPr txBox="1"/>
            <p:nvPr/>
          </p:nvSpPr>
          <p:spPr>
            <a:xfrm>
              <a:off x="4343400" y="17524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4647960" y="2362320"/>
            <a:ext cx="152640" cy="457200"/>
            <a:chOff x="4647960" y="2362320"/>
            <a:chExt cx="152640" cy="457200"/>
          </a:xfrm>
        </p:grpSpPr>
        <p:sp>
          <p:nvSpPr>
            <p:cNvPr id="840" name="Line 30"/>
            <p:cNvSpPr/>
            <p:nvPr/>
          </p:nvSpPr>
          <p:spPr>
            <a:xfrm flipV="1">
              <a:off x="4648320" y="2362320"/>
              <a:ext cx="152280" cy="4572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1" name=""/>
            <p:cNvSpPr txBox="1"/>
            <p:nvPr/>
          </p:nvSpPr>
          <p:spPr>
            <a:xfrm rot="10800000">
              <a:off x="4647960" y="2362320"/>
              <a:ext cx="1522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3505320" y="3429000"/>
            <a:ext cx="360" cy="457200"/>
            <a:chOff x="3505320" y="3429000"/>
            <a:chExt cx="360" cy="457200"/>
          </a:xfrm>
        </p:grpSpPr>
        <p:sp>
          <p:nvSpPr>
            <p:cNvPr id="843" name="Line 31"/>
            <p:cNvSpPr/>
            <p:nvPr/>
          </p:nvSpPr>
          <p:spPr>
            <a:xfrm>
              <a:off x="3505320" y="34290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4" name=""/>
            <p:cNvSpPr txBox="1"/>
            <p:nvPr/>
          </p:nvSpPr>
          <p:spPr>
            <a:xfrm>
              <a:off x="3505320" y="342900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3505320" y="4724280"/>
            <a:ext cx="360" cy="457200"/>
            <a:chOff x="3505320" y="4724280"/>
            <a:chExt cx="360" cy="457200"/>
          </a:xfrm>
        </p:grpSpPr>
        <p:sp>
          <p:nvSpPr>
            <p:cNvPr id="846" name="Line 32"/>
            <p:cNvSpPr/>
            <p:nvPr/>
          </p:nvSpPr>
          <p:spPr>
            <a:xfrm>
              <a:off x="3505320" y="47242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7" name=""/>
            <p:cNvSpPr txBox="1"/>
            <p:nvPr/>
          </p:nvSpPr>
          <p:spPr>
            <a:xfrm>
              <a:off x="3505320" y="472428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4648320" y="3048120"/>
            <a:ext cx="360" cy="457200"/>
            <a:chOff x="4648320" y="3048120"/>
            <a:chExt cx="360" cy="457200"/>
          </a:xfrm>
        </p:grpSpPr>
        <p:sp>
          <p:nvSpPr>
            <p:cNvPr id="849" name="Line 33"/>
            <p:cNvSpPr/>
            <p:nvPr/>
          </p:nvSpPr>
          <p:spPr>
            <a:xfrm>
              <a:off x="4648320" y="304812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0" name=""/>
            <p:cNvSpPr txBox="1"/>
            <p:nvPr/>
          </p:nvSpPr>
          <p:spPr>
            <a:xfrm>
              <a:off x="4648320" y="30481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4267080" y="3657600"/>
            <a:ext cx="457200" cy="360"/>
            <a:chOff x="4267080" y="3657600"/>
            <a:chExt cx="457200" cy="360"/>
          </a:xfrm>
        </p:grpSpPr>
        <p:sp>
          <p:nvSpPr>
            <p:cNvPr id="852" name="Line 34"/>
            <p:cNvSpPr/>
            <p:nvPr/>
          </p:nvSpPr>
          <p:spPr>
            <a:xfrm>
              <a:off x="4267080" y="36576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3" name=""/>
            <p:cNvSpPr txBox="1"/>
            <p:nvPr/>
          </p:nvSpPr>
          <p:spPr>
            <a:xfrm>
              <a:off x="4267080" y="36576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571640" y="5029200"/>
            <a:ext cx="152640" cy="457200"/>
            <a:chOff x="4571640" y="5029200"/>
            <a:chExt cx="152640" cy="457200"/>
          </a:xfrm>
        </p:grpSpPr>
        <p:sp>
          <p:nvSpPr>
            <p:cNvPr id="855" name="Line 35"/>
            <p:cNvSpPr/>
            <p:nvPr/>
          </p:nvSpPr>
          <p:spPr>
            <a:xfrm flipV="1">
              <a:off x="4572000" y="5029200"/>
              <a:ext cx="152280" cy="4572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6" name=""/>
            <p:cNvSpPr txBox="1"/>
            <p:nvPr/>
          </p:nvSpPr>
          <p:spPr>
            <a:xfrm rot="10800000">
              <a:off x="4571640" y="5029200"/>
              <a:ext cx="1522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4724280" y="4343400"/>
            <a:ext cx="360" cy="457200"/>
            <a:chOff x="4724280" y="4343400"/>
            <a:chExt cx="360" cy="457200"/>
          </a:xfrm>
        </p:grpSpPr>
        <p:sp>
          <p:nvSpPr>
            <p:cNvPr id="858" name="Line 36"/>
            <p:cNvSpPr/>
            <p:nvPr/>
          </p:nvSpPr>
          <p:spPr>
            <a:xfrm>
              <a:off x="4724280" y="43434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9" name=""/>
            <p:cNvSpPr txBox="1"/>
            <p:nvPr/>
          </p:nvSpPr>
          <p:spPr>
            <a:xfrm>
              <a:off x="4724280" y="434340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860" name="Picture 37" descr="png-0511"/>
          <p:cNvPicPr/>
          <p:nvPr/>
        </p:nvPicPr>
        <p:blipFill>
          <a:blip r:embed="rId1"/>
          <a:stretch/>
        </p:blipFill>
        <p:spPr>
          <a:xfrm>
            <a:off x="304920" y="56386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861" name="Text Box 38"/>
          <p:cNvSpPr/>
          <p:nvPr/>
        </p:nvSpPr>
        <p:spPr>
          <a:xfrm>
            <a:off x="5065560" y="167796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书包带宽，背起来舒服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2" name="Text Box 39"/>
          <p:cNvSpPr/>
          <p:nvPr/>
        </p:nvSpPr>
        <p:spPr>
          <a:xfrm>
            <a:off x="4913280" y="3125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从书包中取出一些书背起来舒服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3" name="Text Box 40"/>
          <p:cNvSpPr/>
          <p:nvPr/>
        </p:nvSpPr>
        <p:spPr>
          <a:xfrm>
            <a:off x="4952880" y="441972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高层建筑地基宽厚，且用空心砖代替实心砖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64" name="Picture 41" descr="0339_sm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10280" y="1295280"/>
            <a:ext cx="1889280" cy="1981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43" descr="8cb0e329b12350e498250ac5"/>
          <p:cNvPicPr/>
          <p:nvPr/>
        </p:nvPicPr>
        <p:blipFill>
          <a:blip r:embed="rId4"/>
          <a:stretch/>
        </p:blipFill>
        <p:spPr>
          <a:xfrm>
            <a:off x="7696080" y="4114800"/>
            <a:ext cx="1276560" cy="2362320"/>
          </a:xfrm>
          <a:prstGeom prst="rect">
            <a:avLst/>
          </a:prstGeom>
          <a:ln w="0">
            <a:noFill/>
          </a:ln>
        </p:spPr>
      </p:pic>
      <p:grpSp>
        <p:nvGrpSpPr>
          <p:cNvPr id="866" name=""/>
          <p:cNvGrpSpPr/>
          <p:nvPr/>
        </p:nvGrpSpPr>
        <p:grpSpPr>
          <a:xfrm>
            <a:off x="6553080" y="1981080"/>
            <a:ext cx="914400" cy="360"/>
            <a:chOff x="6553080" y="1981080"/>
            <a:chExt cx="914400" cy="360"/>
          </a:xfrm>
        </p:grpSpPr>
        <p:sp>
          <p:nvSpPr>
            <p:cNvPr id="867" name="Line 44"/>
            <p:cNvSpPr/>
            <p:nvPr/>
          </p:nvSpPr>
          <p:spPr>
            <a:xfrm>
              <a:off x="6553080" y="1981080"/>
              <a:ext cx="914400" cy="0"/>
            </a:xfrm>
            <a:prstGeom prst="line">
              <a:avLst/>
            </a:prstGeom>
            <a:ln w="5724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8" name=""/>
            <p:cNvSpPr txBox="1"/>
            <p:nvPr/>
          </p:nvSpPr>
          <p:spPr>
            <a:xfrm>
              <a:off x="6553080" y="198108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3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8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500"/>
                            </p:stCondLst>
                            <p:childTnLst>
                              <p:par>
                                <p:cTn id="134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0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3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500"/>
                            </p:stCondLst>
                            <p:childTnLst>
                              <p:par>
                                <p:cTn id="142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2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2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2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9" name="Group 56"/>
          <p:cNvGrpSpPr/>
          <p:nvPr/>
        </p:nvGrpSpPr>
        <p:grpSpPr>
          <a:xfrm>
            <a:off x="1219320" y="533520"/>
            <a:ext cx="1728720" cy="1871640"/>
            <a:chOff x="1219320" y="533520"/>
            <a:chExt cx="1728720" cy="1871640"/>
          </a:xfrm>
        </p:grpSpPr>
        <p:grpSp>
          <p:nvGrpSpPr>
            <p:cNvPr id="870" name="Group 5"/>
            <p:cNvGrpSpPr/>
            <p:nvPr/>
          </p:nvGrpSpPr>
          <p:grpSpPr>
            <a:xfrm>
              <a:off x="1219320" y="2260440"/>
              <a:ext cx="1728720" cy="144360"/>
              <a:chOff x="1219320" y="2260440"/>
              <a:chExt cx="1728720" cy="144360"/>
            </a:xfrm>
          </p:grpSpPr>
          <p:grpSp>
            <p:nvGrpSpPr>
              <p:cNvPr id="871" name=""/>
              <p:cNvGrpSpPr/>
              <p:nvPr/>
            </p:nvGrpSpPr>
            <p:grpSpPr>
              <a:xfrm>
                <a:off x="1219320" y="2260440"/>
                <a:ext cx="1728720" cy="360"/>
                <a:chOff x="1219320" y="2260440"/>
                <a:chExt cx="1728720" cy="360"/>
              </a:xfrm>
            </p:grpSpPr>
            <p:sp>
              <p:nvSpPr>
                <p:cNvPr id="872" name="Line 6"/>
                <p:cNvSpPr/>
                <p:nvPr/>
              </p:nvSpPr>
              <p:spPr>
                <a:xfrm>
                  <a:off x="1219320" y="2260440"/>
                  <a:ext cx="1728720" cy="0"/>
                </a:xfrm>
                <a:prstGeom prst="line">
                  <a:avLst/>
                </a:prstGeom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 txBox="1"/>
                <p:nvPr/>
              </p:nvSpPr>
              <p:spPr>
                <a:xfrm>
                  <a:off x="1219320" y="2260440"/>
                  <a:ext cx="172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1219320" y="2260440"/>
                <a:ext cx="71280" cy="144360"/>
                <a:chOff x="1219320" y="2260440"/>
                <a:chExt cx="71280" cy="144360"/>
              </a:xfrm>
            </p:grpSpPr>
            <p:sp>
              <p:nvSpPr>
                <p:cNvPr id="875" name="Line 7"/>
                <p:cNvSpPr/>
                <p:nvPr/>
              </p:nvSpPr>
              <p:spPr>
                <a:xfrm flipH="1">
                  <a:off x="1219320" y="2260440"/>
                  <a:ext cx="71280" cy="144360"/>
                </a:xfrm>
                <a:prstGeom prst="line">
                  <a:avLst/>
                </a:prstGeom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 txBox="1"/>
                <p:nvPr/>
              </p:nvSpPr>
              <p:spPr>
                <a:xfrm>
                  <a:off x="1219320" y="2260440"/>
                  <a:ext cx="7128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1435320" y="2260440"/>
                <a:ext cx="71280" cy="144360"/>
                <a:chOff x="1435320" y="2260440"/>
                <a:chExt cx="71280" cy="144360"/>
              </a:xfrm>
            </p:grpSpPr>
            <p:sp>
              <p:nvSpPr>
                <p:cNvPr id="878" name="Line 8"/>
                <p:cNvSpPr/>
                <p:nvPr/>
              </p:nvSpPr>
              <p:spPr>
                <a:xfrm flipH="1">
                  <a:off x="1435320" y="2260440"/>
                  <a:ext cx="71280" cy="144360"/>
                </a:xfrm>
                <a:prstGeom prst="line">
                  <a:avLst/>
                </a:prstGeom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 txBox="1"/>
                <p:nvPr/>
              </p:nvSpPr>
              <p:spPr>
                <a:xfrm>
                  <a:off x="1435320" y="2260440"/>
                  <a:ext cx="7128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1650600" y="2260440"/>
                <a:ext cx="72000" cy="144360"/>
                <a:chOff x="1650600" y="2260440"/>
                <a:chExt cx="72000" cy="144360"/>
              </a:xfrm>
            </p:grpSpPr>
            <p:sp>
              <p:nvSpPr>
                <p:cNvPr id="881" name="Line 9"/>
                <p:cNvSpPr/>
                <p:nvPr/>
              </p:nvSpPr>
              <p:spPr>
                <a:xfrm flipH="1">
                  <a:off x="1650600" y="2260440"/>
                  <a:ext cx="71640" cy="144360"/>
                </a:xfrm>
                <a:prstGeom prst="line">
                  <a:avLst/>
                </a:prstGeom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 txBox="1"/>
                <p:nvPr/>
              </p:nvSpPr>
              <p:spPr>
                <a:xfrm>
                  <a:off x="1650960" y="2260440"/>
                  <a:ext cx="7164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1866600" y="2260440"/>
                <a:ext cx="72000" cy="144360"/>
                <a:chOff x="1866600" y="2260440"/>
                <a:chExt cx="72000" cy="144360"/>
              </a:xfrm>
            </p:grpSpPr>
            <p:sp>
              <p:nvSpPr>
                <p:cNvPr id="884" name="Line 10"/>
                <p:cNvSpPr/>
                <p:nvPr/>
              </p:nvSpPr>
              <p:spPr>
                <a:xfrm flipH="1">
                  <a:off x="1866600" y="2260440"/>
                  <a:ext cx="71640" cy="144360"/>
                </a:xfrm>
                <a:prstGeom prst="line">
                  <a:avLst/>
                </a:prstGeom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 txBox="1"/>
                <p:nvPr/>
              </p:nvSpPr>
              <p:spPr>
                <a:xfrm>
                  <a:off x="1866960" y="2260440"/>
                  <a:ext cx="7164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2082960" y="2260440"/>
                <a:ext cx="71280" cy="144360"/>
                <a:chOff x="2082960" y="2260440"/>
                <a:chExt cx="71280" cy="144360"/>
              </a:xfrm>
            </p:grpSpPr>
            <p:sp>
              <p:nvSpPr>
                <p:cNvPr id="887" name="Line 11"/>
                <p:cNvSpPr/>
                <p:nvPr/>
              </p:nvSpPr>
              <p:spPr>
                <a:xfrm flipH="1">
                  <a:off x="2082960" y="2260440"/>
                  <a:ext cx="71280" cy="144360"/>
                </a:xfrm>
                <a:prstGeom prst="line">
                  <a:avLst/>
                </a:prstGeom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 txBox="1"/>
                <p:nvPr/>
              </p:nvSpPr>
              <p:spPr>
                <a:xfrm>
                  <a:off x="2082960" y="2260440"/>
                  <a:ext cx="7128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2298960" y="2260440"/>
                <a:ext cx="71280" cy="144360"/>
                <a:chOff x="2298960" y="2260440"/>
                <a:chExt cx="71280" cy="144360"/>
              </a:xfrm>
            </p:grpSpPr>
            <p:sp>
              <p:nvSpPr>
                <p:cNvPr id="890" name="Line 12"/>
                <p:cNvSpPr/>
                <p:nvPr/>
              </p:nvSpPr>
              <p:spPr>
                <a:xfrm flipH="1">
                  <a:off x="2298960" y="2260440"/>
                  <a:ext cx="71280" cy="144360"/>
                </a:xfrm>
                <a:prstGeom prst="line">
                  <a:avLst/>
                </a:prstGeom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 txBox="1"/>
                <p:nvPr/>
              </p:nvSpPr>
              <p:spPr>
                <a:xfrm>
                  <a:off x="2298960" y="2260440"/>
                  <a:ext cx="7128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2514240" y="2260440"/>
                <a:ext cx="72000" cy="144360"/>
                <a:chOff x="2514240" y="2260440"/>
                <a:chExt cx="72000" cy="144360"/>
              </a:xfrm>
            </p:grpSpPr>
            <p:sp>
              <p:nvSpPr>
                <p:cNvPr id="893" name="Line 13"/>
                <p:cNvSpPr/>
                <p:nvPr/>
              </p:nvSpPr>
              <p:spPr>
                <a:xfrm flipH="1">
                  <a:off x="2514240" y="2260440"/>
                  <a:ext cx="71640" cy="144360"/>
                </a:xfrm>
                <a:prstGeom prst="line">
                  <a:avLst/>
                </a:prstGeom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 txBox="1"/>
                <p:nvPr/>
              </p:nvSpPr>
              <p:spPr>
                <a:xfrm>
                  <a:off x="2514600" y="2260440"/>
                  <a:ext cx="7164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2731680" y="2260440"/>
                <a:ext cx="72000" cy="144360"/>
                <a:chOff x="2731680" y="2260440"/>
                <a:chExt cx="72000" cy="144360"/>
              </a:xfrm>
            </p:grpSpPr>
            <p:sp>
              <p:nvSpPr>
                <p:cNvPr id="896" name="Line 14"/>
                <p:cNvSpPr/>
                <p:nvPr/>
              </p:nvSpPr>
              <p:spPr>
                <a:xfrm flipH="1">
                  <a:off x="2731680" y="2260440"/>
                  <a:ext cx="71640" cy="144360"/>
                </a:xfrm>
                <a:prstGeom prst="line">
                  <a:avLst/>
                </a:prstGeom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 txBox="1"/>
                <p:nvPr/>
              </p:nvSpPr>
              <p:spPr>
                <a:xfrm>
                  <a:off x="2732040" y="2260440"/>
                  <a:ext cx="7164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8" name="Rectangle 15"/>
            <p:cNvSpPr/>
            <p:nvPr/>
          </p:nvSpPr>
          <p:spPr>
            <a:xfrm>
              <a:off x="1434960" y="1397160"/>
              <a:ext cx="1296720" cy="863280"/>
            </a:xfrm>
            <a:prstGeom prst="rect">
              <a:avLst/>
            </a:prstGeom>
            <a:noFill/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9" name="未知"/>
            <p:cNvSpPr/>
            <p:nvPr/>
          </p:nvSpPr>
          <p:spPr>
            <a:xfrm>
              <a:off x="1685880" y="1568520"/>
              <a:ext cx="182160" cy="239760"/>
            </a:xfrm>
            <a:custGeom>
              <a:avLst/>
              <a:gdLst/>
              <a:ahLst/>
              <a:rect l="l" t="t" r="r" b="b"/>
              <a:pathLst>
                <a:path w="115" h="151">
                  <a:moveTo>
                    <a:pt x="114" y="0"/>
                  </a:moveTo>
                  <a:cubicBezTo>
                    <a:pt x="100" y="104"/>
                    <a:pt x="115" y="151"/>
                    <a:pt x="0" y="151"/>
                  </a:cubicBez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0" name="未知"/>
            <p:cNvSpPr/>
            <p:nvPr/>
          </p:nvSpPr>
          <p:spPr>
            <a:xfrm>
              <a:off x="2239920" y="1584360"/>
              <a:ext cx="240840" cy="209520"/>
            </a:xfrm>
            <a:custGeom>
              <a:avLst/>
              <a:gdLst/>
              <a:ahLst/>
              <a:rect l="l" t="t" r="r" b="b"/>
              <a:pathLst>
                <a:path w="152" h="132">
                  <a:moveTo>
                    <a:pt x="1" y="0"/>
                  </a:moveTo>
                  <a:cubicBezTo>
                    <a:pt x="4" y="28"/>
                    <a:pt x="0" y="58"/>
                    <a:pt x="10" y="84"/>
                  </a:cubicBezTo>
                  <a:cubicBezTo>
                    <a:pt x="14" y="95"/>
                    <a:pt x="29" y="98"/>
                    <a:pt x="39" y="103"/>
                  </a:cubicBezTo>
                  <a:cubicBezTo>
                    <a:pt x="70" y="119"/>
                    <a:pt x="118" y="132"/>
                    <a:pt x="152" y="132"/>
                  </a:cubicBez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1" name="未知"/>
            <p:cNvSpPr/>
            <p:nvPr/>
          </p:nvSpPr>
          <p:spPr>
            <a:xfrm>
              <a:off x="1906560" y="1940040"/>
              <a:ext cx="318600" cy="104760"/>
            </a:xfrm>
            <a:custGeom>
              <a:avLst/>
              <a:gdLst/>
              <a:ahLst/>
              <a:rect l="l" t="t" r="r" b="b"/>
              <a:pathLst>
                <a:path w="201" h="66">
                  <a:moveTo>
                    <a:pt x="3" y="42"/>
                  </a:moveTo>
                  <a:cubicBezTo>
                    <a:pt x="78" y="66"/>
                    <a:pt x="113" y="58"/>
                    <a:pt x="201" y="51"/>
                  </a:cubicBezTo>
                  <a:cubicBezTo>
                    <a:pt x="166" y="40"/>
                    <a:pt x="135" y="30"/>
                    <a:pt x="98" y="23"/>
                  </a:cubicBezTo>
                  <a:cubicBezTo>
                    <a:pt x="0" y="32"/>
                    <a:pt x="3" y="0"/>
                    <a:pt x="3" y="42"/>
                  </a:cubicBezTo>
                  <a:close/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902" name=""/>
            <p:cNvGrpSpPr/>
            <p:nvPr/>
          </p:nvGrpSpPr>
          <p:grpSpPr>
            <a:xfrm>
              <a:off x="1219320" y="2260440"/>
              <a:ext cx="71280" cy="144720"/>
              <a:chOff x="1219320" y="2260440"/>
              <a:chExt cx="71280" cy="144720"/>
            </a:xfrm>
          </p:grpSpPr>
          <p:sp>
            <p:nvSpPr>
              <p:cNvPr id="903" name="Line 19"/>
              <p:cNvSpPr/>
              <p:nvPr/>
            </p:nvSpPr>
            <p:spPr>
              <a:xfrm flipH="1">
                <a:off x="1219320" y="2260440"/>
                <a:ext cx="71280" cy="144720"/>
              </a:xfrm>
              <a:prstGeom prst="line">
                <a:avLst/>
              </a:prstGeom>
              <a:ln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 txBox="1"/>
              <p:nvPr/>
            </p:nvSpPr>
            <p:spPr>
              <a:xfrm>
                <a:off x="1219320" y="2260440"/>
                <a:ext cx="71280" cy="14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905" name="Rectangle 20"/>
            <p:cNvSpPr/>
            <p:nvPr/>
          </p:nvSpPr>
          <p:spPr>
            <a:xfrm>
              <a:off x="1939680" y="1109520"/>
              <a:ext cx="287280" cy="287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6" name="Rectangle 21"/>
            <p:cNvSpPr/>
            <p:nvPr/>
          </p:nvSpPr>
          <p:spPr>
            <a:xfrm>
              <a:off x="1939680" y="822240"/>
              <a:ext cx="287280" cy="287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7" name="Rectangle 22"/>
            <p:cNvSpPr/>
            <p:nvPr/>
          </p:nvSpPr>
          <p:spPr>
            <a:xfrm>
              <a:off x="1939680" y="533520"/>
              <a:ext cx="287280" cy="287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908" name="Text Box 23"/>
          <p:cNvSpPr/>
          <p:nvPr/>
        </p:nvSpPr>
        <p:spPr>
          <a:xfrm>
            <a:off x="609480" y="2514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  <a:ea typeface="楷体_GB2312"/>
              </a:rPr>
              <a:t>压的我受不了，救救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我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;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09" name="Group 57"/>
          <p:cNvGrpSpPr/>
          <p:nvPr/>
        </p:nvGrpSpPr>
        <p:grpSpPr>
          <a:xfrm>
            <a:off x="3429000" y="2895480"/>
            <a:ext cx="1728720" cy="1295280"/>
            <a:chOff x="3429000" y="2895480"/>
            <a:chExt cx="1728720" cy="1295280"/>
          </a:xfrm>
        </p:grpSpPr>
        <p:sp>
          <p:nvSpPr>
            <p:cNvPr id="910" name="Rectangle 25"/>
            <p:cNvSpPr/>
            <p:nvPr/>
          </p:nvSpPr>
          <p:spPr>
            <a:xfrm>
              <a:off x="3644640" y="3182760"/>
              <a:ext cx="1297080" cy="863640"/>
            </a:xfrm>
            <a:prstGeom prst="rect">
              <a:avLst/>
            </a:prstGeom>
            <a:noFill/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911" name="Group 26"/>
            <p:cNvGrpSpPr/>
            <p:nvPr/>
          </p:nvGrpSpPr>
          <p:grpSpPr>
            <a:xfrm>
              <a:off x="3429000" y="4046400"/>
              <a:ext cx="1728720" cy="144360"/>
              <a:chOff x="3429000" y="4046400"/>
              <a:chExt cx="1728720" cy="144360"/>
            </a:xfrm>
          </p:grpSpPr>
          <p:grpSp>
            <p:nvGrpSpPr>
              <p:cNvPr id="912" name=""/>
              <p:cNvGrpSpPr/>
              <p:nvPr/>
            </p:nvGrpSpPr>
            <p:grpSpPr>
              <a:xfrm>
                <a:off x="3429000" y="4046400"/>
                <a:ext cx="1728720" cy="360"/>
                <a:chOff x="3429000" y="4046400"/>
                <a:chExt cx="1728720" cy="360"/>
              </a:xfrm>
            </p:grpSpPr>
            <p:sp>
              <p:nvSpPr>
                <p:cNvPr id="913" name="Line 27"/>
                <p:cNvSpPr/>
                <p:nvPr/>
              </p:nvSpPr>
              <p:spPr>
                <a:xfrm>
                  <a:off x="3429000" y="4046400"/>
                  <a:ext cx="1728720" cy="0"/>
                </a:xfrm>
                <a:prstGeom prst="line">
                  <a:avLst/>
                </a:prstGeom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 txBox="1"/>
                <p:nvPr/>
              </p:nvSpPr>
              <p:spPr>
                <a:xfrm>
                  <a:off x="3429000" y="4046400"/>
                  <a:ext cx="172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3429000" y="4046400"/>
                <a:ext cx="71280" cy="144360"/>
                <a:chOff x="3429000" y="4046400"/>
                <a:chExt cx="71280" cy="144360"/>
              </a:xfrm>
            </p:grpSpPr>
            <p:sp>
              <p:nvSpPr>
                <p:cNvPr id="916" name="Line 28"/>
                <p:cNvSpPr/>
                <p:nvPr/>
              </p:nvSpPr>
              <p:spPr>
                <a:xfrm flipH="1">
                  <a:off x="3429000" y="4046400"/>
                  <a:ext cx="71280" cy="144360"/>
                </a:xfrm>
                <a:prstGeom prst="line">
                  <a:avLst/>
                </a:prstGeom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 txBox="1"/>
                <p:nvPr/>
              </p:nvSpPr>
              <p:spPr>
                <a:xfrm>
                  <a:off x="3429000" y="4046400"/>
                  <a:ext cx="7128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8" name=""/>
              <p:cNvGrpSpPr/>
              <p:nvPr/>
            </p:nvGrpSpPr>
            <p:grpSpPr>
              <a:xfrm>
                <a:off x="3645000" y="4046400"/>
                <a:ext cx="71280" cy="144360"/>
                <a:chOff x="3645000" y="4046400"/>
                <a:chExt cx="71280" cy="144360"/>
              </a:xfrm>
            </p:grpSpPr>
            <p:sp>
              <p:nvSpPr>
                <p:cNvPr id="919" name="Line 29"/>
                <p:cNvSpPr/>
                <p:nvPr/>
              </p:nvSpPr>
              <p:spPr>
                <a:xfrm flipH="1">
                  <a:off x="3645000" y="4046400"/>
                  <a:ext cx="71280" cy="144360"/>
                </a:xfrm>
                <a:prstGeom prst="line">
                  <a:avLst/>
                </a:prstGeom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 txBox="1"/>
                <p:nvPr/>
              </p:nvSpPr>
              <p:spPr>
                <a:xfrm>
                  <a:off x="3645000" y="4046400"/>
                  <a:ext cx="7128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1" name=""/>
              <p:cNvGrpSpPr/>
              <p:nvPr/>
            </p:nvGrpSpPr>
            <p:grpSpPr>
              <a:xfrm>
                <a:off x="3860280" y="4046400"/>
                <a:ext cx="72000" cy="144360"/>
                <a:chOff x="3860280" y="4046400"/>
                <a:chExt cx="72000" cy="144360"/>
              </a:xfrm>
            </p:grpSpPr>
            <p:sp>
              <p:nvSpPr>
                <p:cNvPr id="922" name="Line 30"/>
                <p:cNvSpPr/>
                <p:nvPr/>
              </p:nvSpPr>
              <p:spPr>
                <a:xfrm flipH="1">
                  <a:off x="3860280" y="4046400"/>
                  <a:ext cx="71640" cy="144360"/>
                </a:xfrm>
                <a:prstGeom prst="line">
                  <a:avLst/>
                </a:prstGeom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 txBox="1"/>
                <p:nvPr/>
              </p:nvSpPr>
              <p:spPr>
                <a:xfrm>
                  <a:off x="3860640" y="4046400"/>
                  <a:ext cx="7164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4076280" y="4046400"/>
                <a:ext cx="72000" cy="144360"/>
                <a:chOff x="4076280" y="4046400"/>
                <a:chExt cx="72000" cy="144360"/>
              </a:xfrm>
            </p:grpSpPr>
            <p:sp>
              <p:nvSpPr>
                <p:cNvPr id="925" name="Line 31"/>
                <p:cNvSpPr/>
                <p:nvPr/>
              </p:nvSpPr>
              <p:spPr>
                <a:xfrm flipH="1">
                  <a:off x="4076280" y="4046400"/>
                  <a:ext cx="71640" cy="144360"/>
                </a:xfrm>
                <a:prstGeom prst="line">
                  <a:avLst/>
                </a:prstGeom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 txBox="1"/>
                <p:nvPr/>
              </p:nvSpPr>
              <p:spPr>
                <a:xfrm>
                  <a:off x="4076640" y="4046400"/>
                  <a:ext cx="7164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4292640" y="4046400"/>
                <a:ext cx="71280" cy="144360"/>
                <a:chOff x="4292640" y="4046400"/>
                <a:chExt cx="71280" cy="144360"/>
              </a:xfrm>
            </p:grpSpPr>
            <p:sp>
              <p:nvSpPr>
                <p:cNvPr id="928" name="Line 32"/>
                <p:cNvSpPr/>
                <p:nvPr/>
              </p:nvSpPr>
              <p:spPr>
                <a:xfrm flipH="1">
                  <a:off x="4292640" y="4046400"/>
                  <a:ext cx="71280" cy="144360"/>
                </a:xfrm>
                <a:prstGeom prst="line">
                  <a:avLst/>
                </a:prstGeom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 txBox="1"/>
                <p:nvPr/>
              </p:nvSpPr>
              <p:spPr>
                <a:xfrm>
                  <a:off x="4292640" y="4046400"/>
                  <a:ext cx="7128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4508640" y="4046400"/>
                <a:ext cx="71280" cy="144360"/>
                <a:chOff x="4508640" y="4046400"/>
                <a:chExt cx="71280" cy="144360"/>
              </a:xfrm>
            </p:grpSpPr>
            <p:sp>
              <p:nvSpPr>
                <p:cNvPr id="931" name="Line 33"/>
                <p:cNvSpPr/>
                <p:nvPr/>
              </p:nvSpPr>
              <p:spPr>
                <a:xfrm flipH="1">
                  <a:off x="4508640" y="4046400"/>
                  <a:ext cx="71280" cy="144360"/>
                </a:xfrm>
                <a:prstGeom prst="line">
                  <a:avLst/>
                </a:prstGeom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 txBox="1"/>
                <p:nvPr/>
              </p:nvSpPr>
              <p:spPr>
                <a:xfrm>
                  <a:off x="4508640" y="4046400"/>
                  <a:ext cx="7128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4723920" y="4046400"/>
                <a:ext cx="72000" cy="144360"/>
                <a:chOff x="4723920" y="4046400"/>
                <a:chExt cx="72000" cy="144360"/>
              </a:xfrm>
            </p:grpSpPr>
            <p:sp>
              <p:nvSpPr>
                <p:cNvPr id="934" name="Line 34"/>
                <p:cNvSpPr/>
                <p:nvPr/>
              </p:nvSpPr>
              <p:spPr>
                <a:xfrm flipH="1">
                  <a:off x="4723920" y="4046400"/>
                  <a:ext cx="71640" cy="144360"/>
                </a:xfrm>
                <a:prstGeom prst="line">
                  <a:avLst/>
                </a:prstGeom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 txBox="1"/>
                <p:nvPr/>
              </p:nvSpPr>
              <p:spPr>
                <a:xfrm>
                  <a:off x="4724280" y="4046400"/>
                  <a:ext cx="7164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6" name=""/>
              <p:cNvGrpSpPr/>
              <p:nvPr/>
            </p:nvGrpSpPr>
            <p:grpSpPr>
              <a:xfrm>
                <a:off x="4941360" y="4046400"/>
                <a:ext cx="72000" cy="144360"/>
                <a:chOff x="4941360" y="4046400"/>
                <a:chExt cx="72000" cy="144360"/>
              </a:xfrm>
            </p:grpSpPr>
            <p:sp>
              <p:nvSpPr>
                <p:cNvPr id="937" name="Line 35"/>
                <p:cNvSpPr/>
                <p:nvPr/>
              </p:nvSpPr>
              <p:spPr>
                <a:xfrm flipH="1">
                  <a:off x="4941360" y="4046400"/>
                  <a:ext cx="71640" cy="144360"/>
                </a:xfrm>
                <a:prstGeom prst="line">
                  <a:avLst/>
                </a:prstGeom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 txBox="1"/>
                <p:nvPr/>
              </p:nvSpPr>
              <p:spPr>
                <a:xfrm>
                  <a:off x="4941720" y="4046400"/>
                  <a:ext cx="7164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9" name="Rectangle 36"/>
            <p:cNvSpPr/>
            <p:nvPr/>
          </p:nvSpPr>
          <p:spPr>
            <a:xfrm>
              <a:off x="3717720" y="2895480"/>
              <a:ext cx="287280" cy="287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0" name="Rectangle 37"/>
            <p:cNvSpPr/>
            <p:nvPr/>
          </p:nvSpPr>
          <p:spPr>
            <a:xfrm>
              <a:off x="4581360" y="2895480"/>
              <a:ext cx="287280" cy="287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1" name="Rectangle 38"/>
            <p:cNvSpPr/>
            <p:nvPr/>
          </p:nvSpPr>
          <p:spPr>
            <a:xfrm>
              <a:off x="4151160" y="2895480"/>
              <a:ext cx="287280" cy="287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2" name="AutoShape 39"/>
            <p:cNvSpPr/>
            <p:nvPr/>
          </p:nvSpPr>
          <p:spPr>
            <a:xfrm>
              <a:off x="4005000" y="3327480"/>
              <a:ext cx="503280" cy="503280"/>
            </a:xfrm>
            <a:prstGeom prst="smileyFace">
              <a:avLst>
                <a:gd name="adj" fmla="val 4653"/>
              </a:avLst>
            </a:pr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943" name="Text Box 40"/>
          <p:cNvSpPr/>
          <p:nvPr/>
        </p:nvSpPr>
        <p:spPr>
          <a:xfrm>
            <a:off x="3429000" y="4343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  <a:ea typeface="楷体_GB2312"/>
              </a:rPr>
              <a:t>这舒服多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了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;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44" name="Group 58"/>
          <p:cNvGrpSpPr/>
          <p:nvPr/>
        </p:nvGrpSpPr>
        <p:grpSpPr>
          <a:xfrm>
            <a:off x="5867280" y="4419720"/>
            <a:ext cx="1728720" cy="1294920"/>
            <a:chOff x="5867280" y="4419720"/>
            <a:chExt cx="1728720" cy="1294920"/>
          </a:xfrm>
        </p:grpSpPr>
        <p:sp>
          <p:nvSpPr>
            <p:cNvPr id="945" name="Rectangle 42"/>
            <p:cNvSpPr/>
            <p:nvPr/>
          </p:nvSpPr>
          <p:spPr>
            <a:xfrm>
              <a:off x="6083280" y="4706640"/>
              <a:ext cx="1297080" cy="863280"/>
            </a:xfrm>
            <a:prstGeom prst="rect">
              <a:avLst/>
            </a:prstGeom>
            <a:noFill/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946" name="Group 43"/>
            <p:cNvGrpSpPr/>
            <p:nvPr/>
          </p:nvGrpSpPr>
          <p:grpSpPr>
            <a:xfrm>
              <a:off x="5867280" y="5570280"/>
              <a:ext cx="1728720" cy="144360"/>
              <a:chOff x="5867280" y="5570280"/>
              <a:chExt cx="1728720" cy="144360"/>
            </a:xfrm>
          </p:grpSpPr>
          <p:grpSp>
            <p:nvGrpSpPr>
              <p:cNvPr id="947" name=""/>
              <p:cNvGrpSpPr/>
              <p:nvPr/>
            </p:nvGrpSpPr>
            <p:grpSpPr>
              <a:xfrm>
                <a:off x="5867280" y="5570280"/>
                <a:ext cx="1728720" cy="360"/>
                <a:chOff x="5867280" y="5570280"/>
                <a:chExt cx="1728720" cy="360"/>
              </a:xfrm>
            </p:grpSpPr>
            <p:sp>
              <p:nvSpPr>
                <p:cNvPr id="948" name="Line 44"/>
                <p:cNvSpPr/>
                <p:nvPr/>
              </p:nvSpPr>
              <p:spPr>
                <a:xfrm>
                  <a:off x="5867280" y="5570280"/>
                  <a:ext cx="1728720" cy="0"/>
                </a:xfrm>
                <a:prstGeom prst="line">
                  <a:avLst/>
                </a:prstGeom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 txBox="1"/>
                <p:nvPr/>
              </p:nvSpPr>
              <p:spPr>
                <a:xfrm>
                  <a:off x="5867280" y="5570280"/>
                  <a:ext cx="172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0" name=""/>
              <p:cNvGrpSpPr/>
              <p:nvPr/>
            </p:nvGrpSpPr>
            <p:grpSpPr>
              <a:xfrm>
                <a:off x="5867280" y="5570280"/>
                <a:ext cx="71280" cy="144360"/>
                <a:chOff x="5867280" y="5570280"/>
                <a:chExt cx="71280" cy="144360"/>
              </a:xfrm>
            </p:grpSpPr>
            <p:sp>
              <p:nvSpPr>
                <p:cNvPr id="951" name="Line 45"/>
                <p:cNvSpPr/>
                <p:nvPr/>
              </p:nvSpPr>
              <p:spPr>
                <a:xfrm flipH="1">
                  <a:off x="5867280" y="5570280"/>
                  <a:ext cx="71280" cy="144360"/>
                </a:xfrm>
                <a:prstGeom prst="line">
                  <a:avLst/>
                </a:prstGeom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 txBox="1"/>
                <p:nvPr/>
              </p:nvSpPr>
              <p:spPr>
                <a:xfrm>
                  <a:off x="5867280" y="5570280"/>
                  <a:ext cx="7128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3" name=""/>
              <p:cNvGrpSpPr/>
              <p:nvPr/>
            </p:nvGrpSpPr>
            <p:grpSpPr>
              <a:xfrm>
                <a:off x="6083280" y="5570280"/>
                <a:ext cx="71280" cy="144360"/>
                <a:chOff x="6083280" y="5570280"/>
                <a:chExt cx="71280" cy="144360"/>
              </a:xfrm>
            </p:grpSpPr>
            <p:sp>
              <p:nvSpPr>
                <p:cNvPr id="954" name="Line 46"/>
                <p:cNvSpPr/>
                <p:nvPr/>
              </p:nvSpPr>
              <p:spPr>
                <a:xfrm flipH="1">
                  <a:off x="6083280" y="5570280"/>
                  <a:ext cx="71280" cy="144360"/>
                </a:xfrm>
                <a:prstGeom prst="line">
                  <a:avLst/>
                </a:prstGeom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 txBox="1"/>
                <p:nvPr/>
              </p:nvSpPr>
              <p:spPr>
                <a:xfrm>
                  <a:off x="6083280" y="5570280"/>
                  <a:ext cx="7128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6" name=""/>
              <p:cNvGrpSpPr/>
              <p:nvPr/>
            </p:nvGrpSpPr>
            <p:grpSpPr>
              <a:xfrm>
                <a:off x="6298560" y="5570280"/>
                <a:ext cx="72000" cy="144360"/>
                <a:chOff x="6298560" y="5570280"/>
                <a:chExt cx="72000" cy="144360"/>
              </a:xfrm>
            </p:grpSpPr>
            <p:sp>
              <p:nvSpPr>
                <p:cNvPr id="957" name="Line 47"/>
                <p:cNvSpPr/>
                <p:nvPr/>
              </p:nvSpPr>
              <p:spPr>
                <a:xfrm flipH="1">
                  <a:off x="6298560" y="5570280"/>
                  <a:ext cx="71640" cy="144360"/>
                </a:xfrm>
                <a:prstGeom prst="line">
                  <a:avLst/>
                </a:prstGeom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 txBox="1"/>
                <p:nvPr/>
              </p:nvSpPr>
              <p:spPr>
                <a:xfrm>
                  <a:off x="6298920" y="5570280"/>
                  <a:ext cx="7164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9" name=""/>
              <p:cNvGrpSpPr/>
              <p:nvPr/>
            </p:nvGrpSpPr>
            <p:grpSpPr>
              <a:xfrm>
                <a:off x="6514560" y="5570280"/>
                <a:ext cx="72000" cy="144360"/>
                <a:chOff x="6514560" y="5570280"/>
                <a:chExt cx="72000" cy="144360"/>
              </a:xfrm>
            </p:grpSpPr>
            <p:sp>
              <p:nvSpPr>
                <p:cNvPr id="960" name="Line 48"/>
                <p:cNvSpPr/>
                <p:nvPr/>
              </p:nvSpPr>
              <p:spPr>
                <a:xfrm flipH="1">
                  <a:off x="6514560" y="5570280"/>
                  <a:ext cx="71640" cy="144360"/>
                </a:xfrm>
                <a:prstGeom prst="line">
                  <a:avLst/>
                </a:prstGeom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 txBox="1"/>
                <p:nvPr/>
              </p:nvSpPr>
              <p:spPr>
                <a:xfrm>
                  <a:off x="6514920" y="5570280"/>
                  <a:ext cx="7164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2" name=""/>
              <p:cNvGrpSpPr/>
              <p:nvPr/>
            </p:nvGrpSpPr>
            <p:grpSpPr>
              <a:xfrm>
                <a:off x="6730920" y="5570280"/>
                <a:ext cx="71280" cy="144360"/>
                <a:chOff x="6730920" y="5570280"/>
                <a:chExt cx="71280" cy="144360"/>
              </a:xfrm>
            </p:grpSpPr>
            <p:sp>
              <p:nvSpPr>
                <p:cNvPr id="963" name="Line 49"/>
                <p:cNvSpPr/>
                <p:nvPr/>
              </p:nvSpPr>
              <p:spPr>
                <a:xfrm flipH="1">
                  <a:off x="6730920" y="5570280"/>
                  <a:ext cx="71280" cy="144360"/>
                </a:xfrm>
                <a:prstGeom prst="line">
                  <a:avLst/>
                </a:prstGeom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 txBox="1"/>
                <p:nvPr/>
              </p:nvSpPr>
              <p:spPr>
                <a:xfrm>
                  <a:off x="6730920" y="5570280"/>
                  <a:ext cx="7128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5" name=""/>
              <p:cNvGrpSpPr/>
              <p:nvPr/>
            </p:nvGrpSpPr>
            <p:grpSpPr>
              <a:xfrm>
                <a:off x="6946920" y="5570280"/>
                <a:ext cx="71280" cy="144360"/>
                <a:chOff x="6946920" y="5570280"/>
                <a:chExt cx="71280" cy="144360"/>
              </a:xfrm>
            </p:grpSpPr>
            <p:sp>
              <p:nvSpPr>
                <p:cNvPr id="966" name="Line 50"/>
                <p:cNvSpPr/>
                <p:nvPr/>
              </p:nvSpPr>
              <p:spPr>
                <a:xfrm flipH="1">
                  <a:off x="6946920" y="5570280"/>
                  <a:ext cx="71280" cy="144360"/>
                </a:xfrm>
                <a:prstGeom prst="line">
                  <a:avLst/>
                </a:prstGeom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 txBox="1"/>
                <p:nvPr/>
              </p:nvSpPr>
              <p:spPr>
                <a:xfrm>
                  <a:off x="6946920" y="5570280"/>
                  <a:ext cx="7128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7162200" y="5570280"/>
                <a:ext cx="72000" cy="144360"/>
                <a:chOff x="7162200" y="5570280"/>
                <a:chExt cx="72000" cy="144360"/>
              </a:xfrm>
            </p:grpSpPr>
            <p:sp>
              <p:nvSpPr>
                <p:cNvPr id="969" name="Line 51"/>
                <p:cNvSpPr/>
                <p:nvPr/>
              </p:nvSpPr>
              <p:spPr>
                <a:xfrm flipH="1">
                  <a:off x="7162200" y="5570280"/>
                  <a:ext cx="71640" cy="144360"/>
                </a:xfrm>
                <a:prstGeom prst="line">
                  <a:avLst/>
                </a:prstGeom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 txBox="1"/>
                <p:nvPr/>
              </p:nvSpPr>
              <p:spPr>
                <a:xfrm>
                  <a:off x="7162560" y="5570280"/>
                  <a:ext cx="7164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7379640" y="5570280"/>
                <a:ext cx="72000" cy="144360"/>
                <a:chOff x="7379640" y="5570280"/>
                <a:chExt cx="72000" cy="144360"/>
              </a:xfrm>
            </p:grpSpPr>
            <p:sp>
              <p:nvSpPr>
                <p:cNvPr id="972" name="Line 52"/>
                <p:cNvSpPr/>
                <p:nvPr/>
              </p:nvSpPr>
              <p:spPr>
                <a:xfrm flipH="1">
                  <a:off x="7379640" y="5570280"/>
                  <a:ext cx="71640" cy="144360"/>
                </a:xfrm>
                <a:prstGeom prst="line">
                  <a:avLst/>
                </a:prstGeom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 txBox="1"/>
                <p:nvPr/>
              </p:nvSpPr>
              <p:spPr>
                <a:xfrm>
                  <a:off x="7380000" y="5570280"/>
                  <a:ext cx="7164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4" name="Rectangle 53"/>
            <p:cNvSpPr/>
            <p:nvPr/>
          </p:nvSpPr>
          <p:spPr>
            <a:xfrm>
              <a:off x="6589800" y="4419720"/>
              <a:ext cx="287280" cy="286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5" name="AutoShape 54"/>
            <p:cNvSpPr/>
            <p:nvPr/>
          </p:nvSpPr>
          <p:spPr>
            <a:xfrm>
              <a:off x="6443640" y="4851360"/>
              <a:ext cx="503280" cy="502920"/>
            </a:xfrm>
            <a:prstGeom prst="smileyFace">
              <a:avLst>
                <a:gd name="adj" fmla="val 4653"/>
              </a:avLst>
            </a:pr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976" name="Text Box 55"/>
          <p:cNvSpPr/>
          <p:nvPr/>
        </p:nvSpPr>
        <p:spPr>
          <a:xfrm>
            <a:off x="5867280" y="5867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  <a:ea typeface="楷体_GB2312"/>
              </a:rPr>
              <a:t>这更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舒服了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7" name="Rectangle 60"/>
          <p:cNvSpPr/>
          <p:nvPr/>
        </p:nvSpPr>
        <p:spPr>
          <a:xfrm>
            <a:off x="1066680" y="36576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减小压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2133720" y="2895480"/>
            <a:ext cx="1066680" cy="1295640"/>
            <a:chOff x="2133720" y="2895480"/>
            <a:chExt cx="1066680" cy="1295640"/>
          </a:xfrm>
        </p:grpSpPr>
        <p:sp>
          <p:nvSpPr>
            <p:cNvPr id="979" name="Line 61"/>
            <p:cNvSpPr/>
            <p:nvPr/>
          </p:nvSpPr>
          <p:spPr>
            <a:xfrm>
              <a:off x="2133720" y="2895480"/>
              <a:ext cx="1066680" cy="12956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0" name=""/>
            <p:cNvSpPr txBox="1"/>
            <p:nvPr/>
          </p:nvSpPr>
          <p:spPr>
            <a:xfrm>
              <a:off x="2133720" y="2895480"/>
              <a:ext cx="1066680" cy="129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981" name="Rectangle 62"/>
          <p:cNvSpPr/>
          <p:nvPr/>
        </p:nvSpPr>
        <p:spPr>
          <a:xfrm>
            <a:off x="5181480" y="25146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减小压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3581280" y="1371600"/>
            <a:ext cx="2971800" cy="2971800"/>
            <a:chOff x="3581280" y="1371600"/>
            <a:chExt cx="2971800" cy="2971800"/>
          </a:xfrm>
        </p:grpSpPr>
        <p:sp>
          <p:nvSpPr>
            <p:cNvPr id="983" name="Line 63"/>
            <p:cNvSpPr/>
            <p:nvPr/>
          </p:nvSpPr>
          <p:spPr>
            <a:xfrm>
              <a:off x="3581280" y="1371600"/>
              <a:ext cx="2971800" cy="29718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4" name=""/>
            <p:cNvSpPr txBox="1"/>
            <p:nvPr/>
          </p:nvSpPr>
          <p:spPr>
            <a:xfrm>
              <a:off x="3581280" y="1371600"/>
              <a:ext cx="2971800" cy="297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3" dur="2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2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2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8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9" dur="2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2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2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7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2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2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2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8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1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 Box 3"/>
          <p:cNvSpPr/>
          <p:nvPr/>
        </p:nvSpPr>
        <p:spPr>
          <a:xfrm>
            <a:off x="685800" y="15238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压力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6" name="Text Box 4"/>
          <p:cNvSpPr/>
          <p:nvPr/>
        </p:nvSpPr>
        <p:spPr>
          <a:xfrm>
            <a:off x="685800" y="2286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压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7" name="Text Box 5"/>
          <p:cNvSpPr/>
          <p:nvPr/>
        </p:nvSpPr>
        <p:spPr>
          <a:xfrm>
            <a:off x="53352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定义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8" name="Text Box 6"/>
          <p:cNvSpPr/>
          <p:nvPr/>
        </p:nvSpPr>
        <p:spPr>
          <a:xfrm>
            <a:off x="533520" y="38098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公式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9" name="Text Box 7"/>
          <p:cNvSpPr/>
          <p:nvPr/>
        </p:nvSpPr>
        <p:spPr>
          <a:xfrm>
            <a:off x="533520" y="4648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单位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0" name="Text Box 8"/>
          <p:cNvSpPr/>
          <p:nvPr/>
        </p:nvSpPr>
        <p:spPr>
          <a:xfrm>
            <a:off x="1752480" y="47242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帕斯卡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N/m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隶书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，简称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帕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用符号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表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1" name="Text Box 10"/>
          <p:cNvSpPr/>
          <p:nvPr/>
        </p:nvSpPr>
        <p:spPr>
          <a:xfrm>
            <a:off x="1828800" y="53341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隶书"/>
              </a:rPr>
              <a:t>1Pa=1N/m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隶书"/>
              </a:rPr>
              <a:t>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92" name="Group 11"/>
          <p:cNvGrpSpPr/>
          <p:nvPr/>
        </p:nvGrpSpPr>
        <p:grpSpPr>
          <a:xfrm>
            <a:off x="1879560" y="3610800"/>
            <a:ext cx="1203120" cy="1023840"/>
            <a:chOff x="1879560" y="3610800"/>
            <a:chExt cx="1203120" cy="1023840"/>
          </a:xfrm>
        </p:grpSpPr>
        <p:sp>
          <p:nvSpPr>
            <p:cNvPr id="993" name="Text Box 12"/>
            <p:cNvSpPr/>
            <p:nvPr/>
          </p:nvSpPr>
          <p:spPr>
            <a:xfrm>
              <a:off x="1879560" y="380268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33cc"/>
                  </a:solidFill>
                  <a:latin typeface="Times New Roman"/>
                </a:rPr>
                <a:t>P=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4" name="Text Box 13"/>
            <p:cNvSpPr/>
            <p:nvPr/>
          </p:nvSpPr>
          <p:spPr>
            <a:xfrm>
              <a:off x="2556000" y="36108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5" name="Text Box 14"/>
            <p:cNvSpPr/>
            <p:nvPr/>
          </p:nvSpPr>
          <p:spPr>
            <a:xfrm>
              <a:off x="2587320" y="39920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33cc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2520360" y="4122000"/>
              <a:ext cx="562320" cy="360"/>
              <a:chOff x="2520360" y="4122000"/>
              <a:chExt cx="562320" cy="360"/>
            </a:xfrm>
          </p:grpSpPr>
          <p:sp>
            <p:nvSpPr>
              <p:cNvPr id="997" name="Line 15"/>
              <p:cNvSpPr/>
              <p:nvPr/>
            </p:nvSpPr>
            <p:spPr>
              <a:xfrm>
                <a:off x="2520360" y="4122000"/>
                <a:ext cx="56232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 txBox="1"/>
              <p:nvPr/>
            </p:nvSpPr>
            <p:spPr>
              <a:xfrm>
                <a:off x="2520360" y="4122000"/>
                <a:ext cx="56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999" name="Rectangle 21"/>
          <p:cNvSpPr/>
          <p:nvPr/>
        </p:nvSpPr>
        <p:spPr>
          <a:xfrm>
            <a:off x="2057400" y="15238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垂直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作用于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物体表面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力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0" name="Rectangle 22"/>
          <p:cNvSpPr/>
          <p:nvPr/>
        </p:nvSpPr>
        <p:spPr>
          <a:xfrm>
            <a:off x="1828800" y="22860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（表示压力的作用效果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1" name="AutoShape 23"/>
          <p:cNvSpPr/>
          <p:nvPr/>
        </p:nvSpPr>
        <p:spPr>
          <a:xfrm>
            <a:off x="380880" y="3200400"/>
            <a:ext cx="152640" cy="1905120"/>
          </a:xfrm>
          <a:custGeom>
            <a:avLst/>
            <a:gdLst>
              <a:gd name="textAreaLeft" fmla="*/ 97560 w 152640"/>
              <a:gd name="textAreaRight" fmla="*/ 153000 w 152640"/>
              <a:gd name="textAreaTop" fmla="*/ 49320 h 1905120"/>
              <a:gd name="textAreaBottom" fmla="*/ 185580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2" name="Rectangle 24"/>
          <p:cNvSpPr/>
          <p:nvPr/>
        </p:nvSpPr>
        <p:spPr>
          <a:xfrm>
            <a:off x="1600200" y="30481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物体单位面积上受到的压力叫做压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03" name="Group 25"/>
          <p:cNvGrpSpPr/>
          <p:nvPr/>
        </p:nvGrpSpPr>
        <p:grpSpPr>
          <a:xfrm>
            <a:off x="3276720" y="380880"/>
            <a:ext cx="2895120" cy="936720"/>
            <a:chOff x="3276720" y="380880"/>
            <a:chExt cx="2895120" cy="936720"/>
          </a:xfrm>
        </p:grpSpPr>
        <p:sp>
          <p:nvSpPr>
            <p:cNvPr id="1004" name="AutoShape 26"/>
            <p:cNvSpPr/>
            <p:nvPr/>
          </p:nvSpPr>
          <p:spPr>
            <a:xfrm>
              <a:off x="3276720" y="452160"/>
              <a:ext cx="2895120" cy="8654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76320">
              <a:solidFill>
                <a:srgbClr val="ff00ff"/>
              </a:solidFill>
              <a:prstDash val="lgDashDot"/>
              <a:round/>
            </a:ln>
            <a:effectLst>
              <a:outerShdw dist="107932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5" name="Text Box 27"/>
            <p:cNvSpPr/>
            <p:nvPr/>
          </p:nvSpPr>
          <p:spPr>
            <a:xfrm>
              <a:off x="3433320" y="380880"/>
              <a:ext cx="2509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小     结</a:t>
              </a:r>
              <a:endParaRPr b="0" lang="en-US" sz="5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1006" name="Picture 28" descr="png-0127"/>
          <p:cNvPicPr/>
          <p:nvPr/>
        </p:nvPicPr>
        <p:blipFill>
          <a:blip r:embed="rId1"/>
          <a:stretch/>
        </p:blipFill>
        <p:spPr>
          <a:xfrm>
            <a:off x="1981080" y="30492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20" descr="png-0269"/>
          <p:cNvPicPr/>
          <p:nvPr/>
        </p:nvPicPr>
        <p:blipFill>
          <a:blip r:embed="rId2"/>
          <a:stretch/>
        </p:blipFill>
        <p:spPr>
          <a:xfrm>
            <a:off x="4114800" y="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6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500"/>
                            </p:stCondLst>
                            <p:childTnLst>
                              <p:par>
                                <p:cTn id="154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2"/>
          <p:cNvGrpSpPr/>
          <p:nvPr/>
        </p:nvGrpSpPr>
        <p:grpSpPr>
          <a:xfrm>
            <a:off x="914040" y="3581280"/>
            <a:ext cx="1944720" cy="791640"/>
            <a:chOff x="914040" y="3581280"/>
            <a:chExt cx="1944720" cy="791640"/>
          </a:xfrm>
        </p:grpSpPr>
        <p:sp>
          <p:nvSpPr>
            <p:cNvPr id="1009" name="Rectangle 3"/>
            <p:cNvSpPr/>
            <p:nvPr/>
          </p:nvSpPr>
          <p:spPr>
            <a:xfrm>
              <a:off x="1417680" y="3581280"/>
              <a:ext cx="1008000" cy="647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010" name="Group 4"/>
            <p:cNvGrpSpPr/>
            <p:nvPr/>
          </p:nvGrpSpPr>
          <p:grpSpPr>
            <a:xfrm>
              <a:off x="914040" y="4228920"/>
              <a:ext cx="1944720" cy="144000"/>
              <a:chOff x="914040" y="4228920"/>
              <a:chExt cx="1944720" cy="144000"/>
            </a:xfrm>
          </p:grpSpPr>
          <p:grpSp>
            <p:nvGrpSpPr>
              <p:cNvPr id="1011" name=""/>
              <p:cNvGrpSpPr/>
              <p:nvPr/>
            </p:nvGrpSpPr>
            <p:grpSpPr>
              <a:xfrm>
                <a:off x="914400" y="4228920"/>
                <a:ext cx="1944360" cy="360"/>
                <a:chOff x="914400" y="4228920"/>
                <a:chExt cx="1944360" cy="360"/>
              </a:xfrm>
            </p:grpSpPr>
            <p:sp>
              <p:nvSpPr>
                <p:cNvPr id="1012" name="Line 5"/>
                <p:cNvSpPr/>
                <p:nvPr/>
              </p:nvSpPr>
              <p:spPr>
                <a:xfrm>
                  <a:off x="914400" y="4228920"/>
                  <a:ext cx="1944360" cy="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 txBox="1"/>
                <p:nvPr/>
              </p:nvSpPr>
              <p:spPr>
                <a:xfrm>
                  <a:off x="914400" y="4228920"/>
                  <a:ext cx="1944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1051560" y="4228920"/>
                <a:ext cx="360" cy="360"/>
                <a:chOff x="1051560" y="4228920"/>
                <a:chExt cx="360" cy="360"/>
              </a:xfrm>
            </p:grpSpPr>
            <p:sp>
              <p:nvSpPr>
                <p:cNvPr id="1015" name="Line 6"/>
                <p:cNvSpPr/>
                <p:nvPr/>
              </p:nvSpPr>
              <p:spPr>
                <a:xfrm>
                  <a:off x="1051560" y="4228920"/>
                  <a:ext cx="0" cy="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 txBox="1"/>
                <p:nvPr/>
              </p:nvSpPr>
              <p:spPr>
                <a:xfrm>
                  <a:off x="1051560" y="422892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914040" y="4228920"/>
                <a:ext cx="137520" cy="144000"/>
                <a:chOff x="914040" y="4228920"/>
                <a:chExt cx="137520" cy="144000"/>
              </a:xfrm>
            </p:grpSpPr>
            <p:sp>
              <p:nvSpPr>
                <p:cNvPr id="1018" name="Line 7"/>
                <p:cNvSpPr/>
                <p:nvPr/>
              </p:nvSpPr>
              <p:spPr>
                <a:xfrm flipH="1">
                  <a:off x="914040" y="4228920"/>
                  <a:ext cx="137160" cy="14400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 txBox="1"/>
                <p:nvPr/>
              </p:nvSpPr>
              <p:spPr>
                <a:xfrm>
                  <a:off x="914400" y="4228920"/>
                  <a:ext cx="13716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1330560" y="4228920"/>
                <a:ext cx="137520" cy="144000"/>
                <a:chOff x="1330560" y="4228920"/>
                <a:chExt cx="137520" cy="144000"/>
              </a:xfrm>
            </p:grpSpPr>
            <p:sp>
              <p:nvSpPr>
                <p:cNvPr id="1021" name="Line 8"/>
                <p:cNvSpPr/>
                <p:nvPr/>
              </p:nvSpPr>
              <p:spPr>
                <a:xfrm flipH="1">
                  <a:off x="1330560" y="4228920"/>
                  <a:ext cx="137160" cy="14400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 txBox="1"/>
                <p:nvPr/>
              </p:nvSpPr>
              <p:spPr>
                <a:xfrm>
                  <a:off x="1330920" y="4228920"/>
                  <a:ext cx="13716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1746360" y="4228920"/>
                <a:ext cx="138240" cy="144000"/>
                <a:chOff x="1746360" y="4228920"/>
                <a:chExt cx="138240" cy="144000"/>
              </a:xfrm>
            </p:grpSpPr>
            <p:sp>
              <p:nvSpPr>
                <p:cNvPr id="1024" name="Line 9"/>
                <p:cNvSpPr/>
                <p:nvPr/>
              </p:nvSpPr>
              <p:spPr>
                <a:xfrm flipH="1">
                  <a:off x="1746360" y="4228920"/>
                  <a:ext cx="137880" cy="14400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 txBox="1"/>
                <p:nvPr/>
              </p:nvSpPr>
              <p:spPr>
                <a:xfrm>
                  <a:off x="1746720" y="4228920"/>
                  <a:ext cx="13788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2163240" y="4228920"/>
                <a:ext cx="138240" cy="144000"/>
                <a:chOff x="2163240" y="4228920"/>
                <a:chExt cx="138240" cy="144000"/>
              </a:xfrm>
            </p:grpSpPr>
            <p:sp>
              <p:nvSpPr>
                <p:cNvPr id="1027" name="Line 10"/>
                <p:cNvSpPr/>
                <p:nvPr/>
              </p:nvSpPr>
              <p:spPr>
                <a:xfrm flipH="1">
                  <a:off x="2163240" y="4228920"/>
                  <a:ext cx="137880" cy="14400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 txBox="1"/>
                <p:nvPr/>
              </p:nvSpPr>
              <p:spPr>
                <a:xfrm>
                  <a:off x="2163600" y="4228920"/>
                  <a:ext cx="13788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2441520" y="4228920"/>
                <a:ext cx="138240" cy="144000"/>
                <a:chOff x="2441520" y="4228920"/>
                <a:chExt cx="138240" cy="144000"/>
              </a:xfrm>
            </p:grpSpPr>
            <p:sp>
              <p:nvSpPr>
                <p:cNvPr id="1030" name="Line 11"/>
                <p:cNvSpPr/>
                <p:nvPr/>
              </p:nvSpPr>
              <p:spPr>
                <a:xfrm flipH="1">
                  <a:off x="2441520" y="4228920"/>
                  <a:ext cx="137880" cy="14400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 txBox="1"/>
                <p:nvPr/>
              </p:nvSpPr>
              <p:spPr>
                <a:xfrm>
                  <a:off x="2441880" y="4228920"/>
                  <a:ext cx="13788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2304000" y="4228920"/>
                <a:ext cx="137520" cy="144000"/>
                <a:chOff x="2304000" y="4228920"/>
                <a:chExt cx="137520" cy="144000"/>
              </a:xfrm>
            </p:grpSpPr>
            <p:sp>
              <p:nvSpPr>
                <p:cNvPr id="1033" name="Line 12"/>
                <p:cNvSpPr/>
                <p:nvPr/>
              </p:nvSpPr>
              <p:spPr>
                <a:xfrm flipH="1">
                  <a:off x="2304000" y="4228920"/>
                  <a:ext cx="137160" cy="14400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34" name=""/>
                <p:cNvSpPr txBox="1"/>
                <p:nvPr/>
              </p:nvSpPr>
              <p:spPr>
                <a:xfrm>
                  <a:off x="2304360" y="4228920"/>
                  <a:ext cx="13716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2579760" y="4228920"/>
                <a:ext cx="137520" cy="144000"/>
                <a:chOff x="2579760" y="4228920"/>
                <a:chExt cx="137520" cy="144000"/>
              </a:xfrm>
            </p:grpSpPr>
            <p:sp>
              <p:nvSpPr>
                <p:cNvPr id="1036" name="Line 13"/>
                <p:cNvSpPr/>
                <p:nvPr/>
              </p:nvSpPr>
              <p:spPr>
                <a:xfrm flipH="1">
                  <a:off x="2579760" y="4228920"/>
                  <a:ext cx="137160" cy="14400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 txBox="1"/>
                <p:nvPr/>
              </p:nvSpPr>
              <p:spPr>
                <a:xfrm>
                  <a:off x="2580120" y="4228920"/>
                  <a:ext cx="13716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1608840" y="4228920"/>
                <a:ext cx="137520" cy="144000"/>
                <a:chOff x="1608840" y="4228920"/>
                <a:chExt cx="137520" cy="144000"/>
              </a:xfrm>
            </p:grpSpPr>
            <p:sp>
              <p:nvSpPr>
                <p:cNvPr id="1039" name="Line 14"/>
                <p:cNvSpPr/>
                <p:nvPr/>
              </p:nvSpPr>
              <p:spPr>
                <a:xfrm flipH="1">
                  <a:off x="1608840" y="4228920"/>
                  <a:ext cx="137160" cy="14400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 txBox="1"/>
                <p:nvPr/>
              </p:nvSpPr>
              <p:spPr>
                <a:xfrm>
                  <a:off x="1609200" y="4228920"/>
                  <a:ext cx="13716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1468080" y="4228920"/>
                <a:ext cx="138240" cy="144000"/>
                <a:chOff x="1468080" y="4228920"/>
                <a:chExt cx="138240" cy="144000"/>
              </a:xfrm>
            </p:grpSpPr>
            <p:sp>
              <p:nvSpPr>
                <p:cNvPr id="1042" name="Line 15"/>
                <p:cNvSpPr/>
                <p:nvPr/>
              </p:nvSpPr>
              <p:spPr>
                <a:xfrm flipH="1">
                  <a:off x="1468080" y="4228920"/>
                  <a:ext cx="137880" cy="14400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 txBox="1"/>
                <p:nvPr/>
              </p:nvSpPr>
              <p:spPr>
                <a:xfrm>
                  <a:off x="1468440" y="4228920"/>
                  <a:ext cx="13788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1887480" y="4228920"/>
                <a:ext cx="138240" cy="144000"/>
                <a:chOff x="1887480" y="4228920"/>
                <a:chExt cx="138240" cy="144000"/>
              </a:xfrm>
            </p:grpSpPr>
            <p:sp>
              <p:nvSpPr>
                <p:cNvPr id="1045" name="Line 16"/>
                <p:cNvSpPr/>
                <p:nvPr/>
              </p:nvSpPr>
              <p:spPr>
                <a:xfrm flipH="1">
                  <a:off x="1887480" y="4228920"/>
                  <a:ext cx="137880" cy="14400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 txBox="1"/>
                <p:nvPr/>
              </p:nvSpPr>
              <p:spPr>
                <a:xfrm>
                  <a:off x="1887840" y="4228920"/>
                  <a:ext cx="13788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2025720" y="4228920"/>
                <a:ext cx="137520" cy="144000"/>
                <a:chOff x="2025720" y="4228920"/>
                <a:chExt cx="137520" cy="144000"/>
              </a:xfrm>
            </p:grpSpPr>
            <p:sp>
              <p:nvSpPr>
                <p:cNvPr id="1048" name="Line 17"/>
                <p:cNvSpPr/>
                <p:nvPr/>
              </p:nvSpPr>
              <p:spPr>
                <a:xfrm flipH="1">
                  <a:off x="2025720" y="4228920"/>
                  <a:ext cx="137160" cy="14400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 txBox="1"/>
                <p:nvPr/>
              </p:nvSpPr>
              <p:spPr>
                <a:xfrm>
                  <a:off x="2026080" y="4228920"/>
                  <a:ext cx="13716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1051200" y="4228920"/>
                <a:ext cx="138240" cy="144000"/>
                <a:chOff x="1051200" y="4228920"/>
                <a:chExt cx="138240" cy="144000"/>
              </a:xfrm>
            </p:grpSpPr>
            <p:sp>
              <p:nvSpPr>
                <p:cNvPr id="1051" name="Line 18"/>
                <p:cNvSpPr/>
                <p:nvPr/>
              </p:nvSpPr>
              <p:spPr>
                <a:xfrm flipH="1">
                  <a:off x="1051200" y="4228920"/>
                  <a:ext cx="137880" cy="14400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 txBox="1"/>
                <p:nvPr/>
              </p:nvSpPr>
              <p:spPr>
                <a:xfrm>
                  <a:off x="1051560" y="4228920"/>
                  <a:ext cx="13788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1192320" y="4228920"/>
                <a:ext cx="138240" cy="144000"/>
                <a:chOff x="1192320" y="4228920"/>
                <a:chExt cx="138240" cy="144000"/>
              </a:xfrm>
            </p:grpSpPr>
            <p:sp>
              <p:nvSpPr>
                <p:cNvPr id="1054" name="Line 19"/>
                <p:cNvSpPr/>
                <p:nvPr/>
              </p:nvSpPr>
              <p:spPr>
                <a:xfrm flipH="1">
                  <a:off x="1192320" y="4228920"/>
                  <a:ext cx="137880" cy="14400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 txBox="1"/>
                <p:nvPr/>
              </p:nvSpPr>
              <p:spPr>
                <a:xfrm>
                  <a:off x="1192680" y="4228920"/>
                  <a:ext cx="13788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56" name="Group 21"/>
          <p:cNvGrpSpPr/>
          <p:nvPr/>
        </p:nvGrpSpPr>
        <p:grpSpPr>
          <a:xfrm>
            <a:off x="1981080" y="4267080"/>
            <a:ext cx="752400" cy="1604880"/>
            <a:chOff x="1981080" y="4267080"/>
            <a:chExt cx="752400" cy="1604880"/>
          </a:xfrm>
        </p:grpSpPr>
        <p:grpSp>
          <p:nvGrpSpPr>
            <p:cNvPr id="1057" name=""/>
            <p:cNvGrpSpPr/>
            <p:nvPr/>
          </p:nvGrpSpPr>
          <p:grpSpPr>
            <a:xfrm>
              <a:off x="1981080" y="4267080"/>
              <a:ext cx="360" cy="1332360"/>
              <a:chOff x="1981080" y="4267080"/>
              <a:chExt cx="360" cy="1332360"/>
            </a:xfrm>
          </p:grpSpPr>
          <p:sp>
            <p:nvSpPr>
              <p:cNvPr id="1058" name="Line 22"/>
              <p:cNvSpPr/>
              <p:nvPr/>
            </p:nvSpPr>
            <p:spPr>
              <a:xfrm>
                <a:off x="1981080" y="4267080"/>
                <a:ext cx="0" cy="1332360"/>
              </a:xfrm>
              <a:prstGeom prst="line">
                <a:avLst/>
              </a:prstGeom>
              <a:ln w="3492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 txBox="1"/>
              <p:nvPr/>
            </p:nvSpPr>
            <p:spPr>
              <a:xfrm>
                <a:off x="1981080" y="4267080"/>
                <a:ext cx="360" cy="133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060" name="Text Box 23"/>
            <p:cNvSpPr/>
            <p:nvPr/>
          </p:nvSpPr>
          <p:spPr>
            <a:xfrm>
              <a:off x="2169000" y="5351400"/>
              <a:ext cx="56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1905120" y="3962520"/>
            <a:ext cx="360" cy="1218960"/>
            <a:chOff x="1905120" y="3962520"/>
            <a:chExt cx="360" cy="1218960"/>
          </a:xfrm>
        </p:grpSpPr>
        <p:sp>
          <p:nvSpPr>
            <p:cNvPr id="1062" name="Line 24"/>
            <p:cNvSpPr/>
            <p:nvPr/>
          </p:nvSpPr>
          <p:spPr>
            <a:xfrm>
              <a:off x="1905120" y="3962520"/>
              <a:ext cx="0" cy="1218960"/>
            </a:xfrm>
            <a:prstGeom prst="line">
              <a:avLst/>
            </a:prstGeom>
            <a:ln w="3816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3" name=""/>
            <p:cNvSpPr txBox="1"/>
            <p:nvPr/>
          </p:nvSpPr>
          <p:spPr>
            <a:xfrm>
              <a:off x="1905120" y="3962520"/>
              <a:ext cx="360" cy="121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064" name="Text Box 25"/>
          <p:cNvSpPr/>
          <p:nvPr/>
        </p:nvSpPr>
        <p:spPr>
          <a:xfrm>
            <a:off x="1066680" y="4572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65" name="Group 26"/>
          <p:cNvGrpSpPr/>
          <p:nvPr/>
        </p:nvGrpSpPr>
        <p:grpSpPr>
          <a:xfrm>
            <a:off x="6324480" y="3359520"/>
            <a:ext cx="791640" cy="1944720"/>
            <a:chOff x="6324480" y="3359520"/>
            <a:chExt cx="791640" cy="1944720"/>
          </a:xfrm>
        </p:grpSpPr>
        <p:sp>
          <p:nvSpPr>
            <p:cNvPr id="1066" name="Rectangle 27"/>
            <p:cNvSpPr/>
            <p:nvPr/>
          </p:nvSpPr>
          <p:spPr>
            <a:xfrm rot="16200000">
              <a:off x="6146280" y="4037400"/>
              <a:ext cx="1008000" cy="651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067" name="Group 28"/>
            <p:cNvGrpSpPr/>
            <p:nvPr/>
          </p:nvGrpSpPr>
          <p:grpSpPr>
            <a:xfrm>
              <a:off x="6971400" y="3359520"/>
              <a:ext cx="144720" cy="1944720"/>
              <a:chOff x="6971400" y="3359520"/>
              <a:chExt cx="144720" cy="1944720"/>
            </a:xfrm>
          </p:grpSpPr>
          <p:grpSp>
            <p:nvGrpSpPr>
              <p:cNvPr id="1068" name=""/>
              <p:cNvGrpSpPr/>
              <p:nvPr/>
            </p:nvGrpSpPr>
            <p:grpSpPr>
              <a:xfrm>
                <a:off x="6971400" y="3359520"/>
                <a:ext cx="360" cy="1944360"/>
                <a:chOff x="6971400" y="3359520"/>
                <a:chExt cx="360" cy="1944360"/>
              </a:xfrm>
            </p:grpSpPr>
            <p:sp>
              <p:nvSpPr>
                <p:cNvPr id="1069" name="Line 29"/>
                <p:cNvSpPr/>
                <p:nvPr/>
              </p:nvSpPr>
              <p:spPr>
                <a:xfrm flipV="1">
                  <a:off x="6971400" y="3359520"/>
                  <a:ext cx="0" cy="194436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 txBox="1"/>
                <p:nvPr/>
              </p:nvSpPr>
              <p:spPr>
                <a:xfrm rot="16200000">
                  <a:off x="5999400" y="4331520"/>
                  <a:ext cx="1944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6971400" y="5166360"/>
                <a:ext cx="360" cy="360"/>
                <a:chOff x="6971400" y="5166360"/>
                <a:chExt cx="360" cy="360"/>
              </a:xfrm>
            </p:grpSpPr>
            <p:sp>
              <p:nvSpPr>
                <p:cNvPr id="1072" name="Line 30"/>
                <p:cNvSpPr/>
                <p:nvPr/>
              </p:nvSpPr>
              <p:spPr>
                <a:xfrm>
                  <a:off x="6971400" y="5166720"/>
                  <a:ext cx="0" cy="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 txBox="1"/>
                <p:nvPr/>
              </p:nvSpPr>
              <p:spPr>
                <a:xfrm rot="16200000">
                  <a:off x="6971400" y="51663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6971400" y="5166720"/>
                <a:ext cx="144720" cy="137520"/>
                <a:chOff x="6971400" y="5166720"/>
                <a:chExt cx="144720" cy="137520"/>
              </a:xfrm>
            </p:grpSpPr>
            <p:sp>
              <p:nvSpPr>
                <p:cNvPr id="1075" name="Line 31"/>
                <p:cNvSpPr/>
                <p:nvPr/>
              </p:nvSpPr>
              <p:spPr>
                <a:xfrm>
                  <a:off x="6971400" y="5167080"/>
                  <a:ext cx="144720" cy="13716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 txBox="1"/>
                <p:nvPr/>
              </p:nvSpPr>
              <p:spPr>
                <a:xfrm rot="16200000">
                  <a:off x="6975000" y="5162760"/>
                  <a:ext cx="137160" cy="1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6971400" y="4750200"/>
                <a:ext cx="144720" cy="137520"/>
                <a:chOff x="6971400" y="4750200"/>
                <a:chExt cx="144720" cy="137520"/>
              </a:xfrm>
            </p:grpSpPr>
            <p:sp>
              <p:nvSpPr>
                <p:cNvPr id="1078" name="Line 32"/>
                <p:cNvSpPr/>
                <p:nvPr/>
              </p:nvSpPr>
              <p:spPr>
                <a:xfrm>
                  <a:off x="6971400" y="4750560"/>
                  <a:ext cx="144720" cy="13716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 txBox="1"/>
                <p:nvPr/>
              </p:nvSpPr>
              <p:spPr>
                <a:xfrm rot="16200000">
                  <a:off x="6975000" y="4746240"/>
                  <a:ext cx="137160" cy="1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6971400" y="4333680"/>
                <a:ext cx="144720" cy="138240"/>
                <a:chOff x="6971400" y="4333680"/>
                <a:chExt cx="144720" cy="138240"/>
              </a:xfrm>
            </p:grpSpPr>
            <p:sp>
              <p:nvSpPr>
                <p:cNvPr id="1081" name="Line 33"/>
                <p:cNvSpPr/>
                <p:nvPr/>
              </p:nvSpPr>
              <p:spPr>
                <a:xfrm>
                  <a:off x="6971400" y="4334040"/>
                  <a:ext cx="144720" cy="13788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 txBox="1"/>
                <p:nvPr/>
              </p:nvSpPr>
              <p:spPr>
                <a:xfrm rot="16200000">
                  <a:off x="6974640" y="4330080"/>
                  <a:ext cx="137880" cy="1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6971400" y="3916800"/>
                <a:ext cx="144720" cy="138240"/>
                <a:chOff x="6971400" y="3916800"/>
                <a:chExt cx="144720" cy="138240"/>
              </a:xfrm>
            </p:grpSpPr>
            <p:sp>
              <p:nvSpPr>
                <p:cNvPr id="1084" name="Line 34"/>
                <p:cNvSpPr/>
                <p:nvPr/>
              </p:nvSpPr>
              <p:spPr>
                <a:xfrm>
                  <a:off x="6971400" y="3917160"/>
                  <a:ext cx="144720" cy="13788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 txBox="1"/>
                <p:nvPr/>
              </p:nvSpPr>
              <p:spPr>
                <a:xfrm rot="16200000">
                  <a:off x="6974640" y="3913200"/>
                  <a:ext cx="137880" cy="1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971400" y="3638520"/>
                <a:ext cx="144720" cy="138240"/>
                <a:chOff x="6971400" y="3638520"/>
                <a:chExt cx="144720" cy="138240"/>
              </a:xfrm>
            </p:grpSpPr>
            <p:sp>
              <p:nvSpPr>
                <p:cNvPr id="1087" name="Line 35"/>
                <p:cNvSpPr/>
                <p:nvPr/>
              </p:nvSpPr>
              <p:spPr>
                <a:xfrm>
                  <a:off x="6971400" y="3638880"/>
                  <a:ext cx="144720" cy="13788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 txBox="1"/>
                <p:nvPr/>
              </p:nvSpPr>
              <p:spPr>
                <a:xfrm rot="16200000">
                  <a:off x="6974640" y="3634920"/>
                  <a:ext cx="137880" cy="1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6971400" y="3776760"/>
                <a:ext cx="144720" cy="137520"/>
                <a:chOff x="6971400" y="3776760"/>
                <a:chExt cx="144720" cy="137520"/>
              </a:xfrm>
            </p:grpSpPr>
            <p:sp>
              <p:nvSpPr>
                <p:cNvPr id="1090" name="Line 36"/>
                <p:cNvSpPr/>
                <p:nvPr/>
              </p:nvSpPr>
              <p:spPr>
                <a:xfrm>
                  <a:off x="6971400" y="3777120"/>
                  <a:ext cx="144720" cy="13716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 txBox="1"/>
                <p:nvPr/>
              </p:nvSpPr>
              <p:spPr>
                <a:xfrm rot="16200000">
                  <a:off x="6975000" y="3772800"/>
                  <a:ext cx="137160" cy="1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6971400" y="3501000"/>
                <a:ext cx="144720" cy="137520"/>
                <a:chOff x="6971400" y="3501000"/>
                <a:chExt cx="144720" cy="137520"/>
              </a:xfrm>
            </p:grpSpPr>
            <p:sp>
              <p:nvSpPr>
                <p:cNvPr id="1093" name="Line 37"/>
                <p:cNvSpPr/>
                <p:nvPr/>
              </p:nvSpPr>
              <p:spPr>
                <a:xfrm>
                  <a:off x="6971400" y="3501360"/>
                  <a:ext cx="144720" cy="13716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 txBox="1"/>
                <p:nvPr/>
              </p:nvSpPr>
              <p:spPr>
                <a:xfrm rot="16200000">
                  <a:off x="6975000" y="3497040"/>
                  <a:ext cx="137160" cy="1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6971400" y="4471920"/>
                <a:ext cx="144720" cy="137520"/>
                <a:chOff x="6971400" y="4471920"/>
                <a:chExt cx="144720" cy="137520"/>
              </a:xfrm>
            </p:grpSpPr>
            <p:sp>
              <p:nvSpPr>
                <p:cNvPr id="1096" name="Line 38"/>
                <p:cNvSpPr/>
                <p:nvPr/>
              </p:nvSpPr>
              <p:spPr>
                <a:xfrm>
                  <a:off x="6971400" y="4472280"/>
                  <a:ext cx="144720" cy="13716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 txBox="1"/>
                <p:nvPr/>
              </p:nvSpPr>
              <p:spPr>
                <a:xfrm rot="16200000">
                  <a:off x="6975000" y="4467960"/>
                  <a:ext cx="137160" cy="1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6971400" y="4611960"/>
                <a:ext cx="144720" cy="138240"/>
                <a:chOff x="6971400" y="4611960"/>
                <a:chExt cx="144720" cy="138240"/>
              </a:xfrm>
            </p:grpSpPr>
            <p:sp>
              <p:nvSpPr>
                <p:cNvPr id="1099" name="Line 39"/>
                <p:cNvSpPr/>
                <p:nvPr/>
              </p:nvSpPr>
              <p:spPr>
                <a:xfrm>
                  <a:off x="6971400" y="4612320"/>
                  <a:ext cx="144720" cy="13788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 txBox="1"/>
                <p:nvPr/>
              </p:nvSpPr>
              <p:spPr>
                <a:xfrm rot="16200000">
                  <a:off x="6974640" y="4608360"/>
                  <a:ext cx="137880" cy="1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6971400" y="4192560"/>
                <a:ext cx="144720" cy="138240"/>
                <a:chOff x="6971400" y="4192560"/>
                <a:chExt cx="144720" cy="138240"/>
              </a:xfrm>
            </p:grpSpPr>
            <p:sp>
              <p:nvSpPr>
                <p:cNvPr id="1102" name="Line 40"/>
                <p:cNvSpPr/>
                <p:nvPr/>
              </p:nvSpPr>
              <p:spPr>
                <a:xfrm>
                  <a:off x="6971400" y="4192920"/>
                  <a:ext cx="144720" cy="13788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 txBox="1"/>
                <p:nvPr/>
              </p:nvSpPr>
              <p:spPr>
                <a:xfrm rot="16200000">
                  <a:off x="6974640" y="4188960"/>
                  <a:ext cx="137880" cy="1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971400" y="4055040"/>
                <a:ext cx="144720" cy="137520"/>
                <a:chOff x="6971400" y="4055040"/>
                <a:chExt cx="144720" cy="137520"/>
              </a:xfrm>
            </p:grpSpPr>
            <p:sp>
              <p:nvSpPr>
                <p:cNvPr id="1105" name="Line 41"/>
                <p:cNvSpPr/>
                <p:nvPr/>
              </p:nvSpPr>
              <p:spPr>
                <a:xfrm>
                  <a:off x="6971400" y="4055400"/>
                  <a:ext cx="144720" cy="13716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 txBox="1"/>
                <p:nvPr/>
              </p:nvSpPr>
              <p:spPr>
                <a:xfrm rot="16200000">
                  <a:off x="6975000" y="4051080"/>
                  <a:ext cx="137160" cy="1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6971400" y="5028840"/>
                <a:ext cx="144720" cy="138240"/>
                <a:chOff x="6971400" y="5028840"/>
                <a:chExt cx="144720" cy="138240"/>
              </a:xfrm>
            </p:grpSpPr>
            <p:sp>
              <p:nvSpPr>
                <p:cNvPr id="1108" name="Line 42"/>
                <p:cNvSpPr/>
                <p:nvPr/>
              </p:nvSpPr>
              <p:spPr>
                <a:xfrm>
                  <a:off x="6971400" y="5029200"/>
                  <a:ext cx="144720" cy="13788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 txBox="1"/>
                <p:nvPr/>
              </p:nvSpPr>
              <p:spPr>
                <a:xfrm rot="16200000">
                  <a:off x="6974640" y="5025240"/>
                  <a:ext cx="137880" cy="1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6971400" y="4887720"/>
                <a:ext cx="144720" cy="138240"/>
                <a:chOff x="6971400" y="4887720"/>
                <a:chExt cx="144720" cy="138240"/>
              </a:xfrm>
            </p:grpSpPr>
            <p:sp>
              <p:nvSpPr>
                <p:cNvPr id="1111" name="Line 43"/>
                <p:cNvSpPr/>
                <p:nvPr/>
              </p:nvSpPr>
              <p:spPr>
                <a:xfrm>
                  <a:off x="6971400" y="4888080"/>
                  <a:ext cx="144720" cy="13788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 txBox="1"/>
                <p:nvPr/>
              </p:nvSpPr>
              <p:spPr>
                <a:xfrm rot="16200000">
                  <a:off x="6974640" y="4884120"/>
                  <a:ext cx="137880" cy="1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13" name="Group 44"/>
          <p:cNvGrpSpPr/>
          <p:nvPr/>
        </p:nvGrpSpPr>
        <p:grpSpPr>
          <a:xfrm>
            <a:off x="3501720" y="3539520"/>
            <a:ext cx="1516680" cy="1603800"/>
            <a:chOff x="3501720" y="3539520"/>
            <a:chExt cx="1516680" cy="1603800"/>
          </a:xfrm>
        </p:grpSpPr>
        <p:sp>
          <p:nvSpPr>
            <p:cNvPr id="1114" name="Rectangle 45"/>
            <p:cNvSpPr/>
            <p:nvPr/>
          </p:nvSpPr>
          <p:spPr>
            <a:xfrm rot="19095000">
              <a:off x="3589200" y="3792600"/>
              <a:ext cx="1008000" cy="647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115" name="Group 46"/>
            <p:cNvGrpSpPr/>
            <p:nvPr/>
          </p:nvGrpSpPr>
          <p:grpSpPr>
            <a:xfrm>
              <a:off x="3573720" y="3734640"/>
              <a:ext cx="1444680" cy="1408680"/>
              <a:chOff x="3573720" y="3734640"/>
              <a:chExt cx="1444680" cy="1408680"/>
            </a:xfrm>
          </p:grpSpPr>
          <p:grpSp>
            <p:nvGrpSpPr>
              <p:cNvPr id="1116" name=""/>
              <p:cNvGrpSpPr/>
              <p:nvPr/>
            </p:nvGrpSpPr>
            <p:grpSpPr>
              <a:xfrm>
                <a:off x="3573720" y="3734640"/>
                <a:ext cx="1444680" cy="1301760"/>
                <a:chOff x="3573720" y="3734640"/>
                <a:chExt cx="1444680" cy="1301760"/>
              </a:xfrm>
            </p:grpSpPr>
            <p:sp>
              <p:nvSpPr>
                <p:cNvPr id="1117" name="Line 47"/>
                <p:cNvSpPr/>
                <p:nvPr/>
              </p:nvSpPr>
              <p:spPr>
                <a:xfrm flipV="1">
                  <a:off x="3573720" y="3734640"/>
                  <a:ext cx="1444320" cy="130140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 txBox="1"/>
                <p:nvPr/>
              </p:nvSpPr>
              <p:spPr>
                <a:xfrm rot="19078800">
                  <a:off x="3323880" y="4385160"/>
                  <a:ext cx="1944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3675600" y="4943880"/>
                <a:ext cx="360" cy="720"/>
                <a:chOff x="3675600" y="4943880"/>
                <a:chExt cx="360" cy="720"/>
              </a:xfrm>
            </p:grpSpPr>
            <p:sp>
              <p:nvSpPr>
                <p:cNvPr id="1120" name="Line 48"/>
                <p:cNvSpPr/>
                <p:nvPr/>
              </p:nvSpPr>
              <p:spPr>
                <a:xfrm>
                  <a:off x="3675600" y="4944240"/>
                  <a:ext cx="0" cy="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 txBox="1"/>
                <p:nvPr/>
              </p:nvSpPr>
              <p:spPr>
                <a:xfrm rot="19078800">
                  <a:off x="3675600" y="49438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3573720" y="4944240"/>
                <a:ext cx="198360" cy="199080"/>
                <a:chOff x="3573720" y="4944240"/>
                <a:chExt cx="198360" cy="199080"/>
              </a:xfrm>
            </p:grpSpPr>
            <p:sp>
              <p:nvSpPr>
                <p:cNvPr id="1123" name="Line 49"/>
                <p:cNvSpPr/>
                <p:nvPr/>
              </p:nvSpPr>
              <p:spPr>
                <a:xfrm flipH="1">
                  <a:off x="3669840" y="4944600"/>
                  <a:ext cx="5400" cy="19872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 txBox="1"/>
                <p:nvPr/>
              </p:nvSpPr>
              <p:spPr>
                <a:xfrm rot="19078800">
                  <a:off x="3603960" y="4971600"/>
                  <a:ext cx="13716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3882960" y="4665600"/>
                <a:ext cx="198360" cy="199080"/>
                <a:chOff x="3882960" y="4665600"/>
                <a:chExt cx="198360" cy="199080"/>
              </a:xfrm>
            </p:grpSpPr>
            <p:sp>
              <p:nvSpPr>
                <p:cNvPr id="1126" name="Line 50"/>
                <p:cNvSpPr/>
                <p:nvPr/>
              </p:nvSpPr>
              <p:spPr>
                <a:xfrm flipH="1">
                  <a:off x="3979080" y="4665960"/>
                  <a:ext cx="5400" cy="19872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 txBox="1"/>
                <p:nvPr/>
              </p:nvSpPr>
              <p:spPr>
                <a:xfrm rot="19078800">
                  <a:off x="3913200" y="4692960"/>
                  <a:ext cx="13716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4191840" y="4386960"/>
                <a:ext cx="198720" cy="199440"/>
                <a:chOff x="4191840" y="4386960"/>
                <a:chExt cx="198720" cy="199440"/>
              </a:xfrm>
            </p:grpSpPr>
            <p:sp>
              <p:nvSpPr>
                <p:cNvPr id="1129" name="Line 51"/>
                <p:cNvSpPr/>
                <p:nvPr/>
              </p:nvSpPr>
              <p:spPr>
                <a:xfrm flipH="1">
                  <a:off x="4287960" y="4386960"/>
                  <a:ext cx="6120" cy="19944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 txBox="1"/>
                <p:nvPr/>
              </p:nvSpPr>
              <p:spPr>
                <a:xfrm rot="19078800">
                  <a:off x="4222080" y="4414320"/>
                  <a:ext cx="13788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4501440" y="4107960"/>
                <a:ext cx="198720" cy="199080"/>
                <a:chOff x="4501440" y="4107960"/>
                <a:chExt cx="198720" cy="199080"/>
              </a:xfrm>
            </p:grpSpPr>
            <p:sp>
              <p:nvSpPr>
                <p:cNvPr id="1132" name="Line 52"/>
                <p:cNvSpPr/>
                <p:nvPr/>
              </p:nvSpPr>
              <p:spPr>
                <a:xfrm flipH="1">
                  <a:off x="4597560" y="4107960"/>
                  <a:ext cx="6120" cy="19908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 txBox="1"/>
                <p:nvPr/>
              </p:nvSpPr>
              <p:spPr>
                <a:xfrm rot="19078800">
                  <a:off x="4531680" y="4135320"/>
                  <a:ext cx="13788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708440" y="3921480"/>
                <a:ext cx="198720" cy="199440"/>
                <a:chOff x="4708440" y="3921480"/>
                <a:chExt cx="198720" cy="199440"/>
              </a:xfrm>
            </p:grpSpPr>
            <p:sp>
              <p:nvSpPr>
                <p:cNvPr id="1135" name="Line 53"/>
                <p:cNvSpPr/>
                <p:nvPr/>
              </p:nvSpPr>
              <p:spPr>
                <a:xfrm flipH="1">
                  <a:off x="4804560" y="3921840"/>
                  <a:ext cx="5760" cy="19908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 txBox="1"/>
                <p:nvPr/>
              </p:nvSpPr>
              <p:spPr>
                <a:xfrm rot="19078800">
                  <a:off x="4738680" y="3948840"/>
                  <a:ext cx="13788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4606200" y="4014000"/>
                <a:ext cx="198360" cy="199080"/>
                <a:chOff x="4606200" y="4014000"/>
                <a:chExt cx="198360" cy="199080"/>
              </a:xfrm>
            </p:grpSpPr>
            <p:sp>
              <p:nvSpPr>
                <p:cNvPr id="1138" name="Line 54"/>
                <p:cNvSpPr/>
                <p:nvPr/>
              </p:nvSpPr>
              <p:spPr>
                <a:xfrm flipH="1">
                  <a:off x="4702320" y="4014360"/>
                  <a:ext cx="5400" cy="19872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 txBox="1"/>
                <p:nvPr/>
              </p:nvSpPr>
              <p:spPr>
                <a:xfrm rot="19078800">
                  <a:off x="4636440" y="4041360"/>
                  <a:ext cx="13716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4811040" y="3829320"/>
                <a:ext cx="198360" cy="199080"/>
                <a:chOff x="4811040" y="3829320"/>
                <a:chExt cx="198360" cy="199080"/>
              </a:xfrm>
            </p:grpSpPr>
            <p:sp>
              <p:nvSpPr>
                <p:cNvPr id="1141" name="Line 55"/>
                <p:cNvSpPr/>
                <p:nvPr/>
              </p:nvSpPr>
              <p:spPr>
                <a:xfrm flipH="1">
                  <a:off x="4907160" y="3829680"/>
                  <a:ext cx="5400" cy="19872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 txBox="1"/>
                <p:nvPr/>
              </p:nvSpPr>
              <p:spPr>
                <a:xfrm rot="19078800">
                  <a:off x="4841280" y="3856680"/>
                  <a:ext cx="13716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4089600" y="4479480"/>
                <a:ext cx="198360" cy="198720"/>
                <a:chOff x="4089600" y="4479480"/>
                <a:chExt cx="198360" cy="198720"/>
              </a:xfrm>
            </p:grpSpPr>
            <p:sp>
              <p:nvSpPr>
                <p:cNvPr id="1144" name="Line 56"/>
                <p:cNvSpPr/>
                <p:nvPr/>
              </p:nvSpPr>
              <p:spPr>
                <a:xfrm flipH="1">
                  <a:off x="4185720" y="4479480"/>
                  <a:ext cx="5760" cy="19872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 txBox="1"/>
                <p:nvPr/>
              </p:nvSpPr>
              <p:spPr>
                <a:xfrm rot="19078800">
                  <a:off x="4119840" y="4506840"/>
                  <a:ext cx="13716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985200" y="4573080"/>
                <a:ext cx="198720" cy="199440"/>
                <a:chOff x="3985200" y="4573080"/>
                <a:chExt cx="198720" cy="199440"/>
              </a:xfrm>
            </p:grpSpPr>
            <p:sp>
              <p:nvSpPr>
                <p:cNvPr id="1147" name="Line 57"/>
                <p:cNvSpPr/>
                <p:nvPr/>
              </p:nvSpPr>
              <p:spPr>
                <a:xfrm flipH="1">
                  <a:off x="4081320" y="4573440"/>
                  <a:ext cx="6120" cy="19908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 txBox="1"/>
                <p:nvPr/>
              </p:nvSpPr>
              <p:spPr>
                <a:xfrm rot="19078800">
                  <a:off x="4015440" y="4600440"/>
                  <a:ext cx="13788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4296600" y="4292280"/>
                <a:ext cx="198720" cy="199440"/>
                <a:chOff x="4296600" y="4292280"/>
                <a:chExt cx="198720" cy="199440"/>
              </a:xfrm>
            </p:grpSpPr>
            <p:sp>
              <p:nvSpPr>
                <p:cNvPr id="1150" name="Line 58"/>
                <p:cNvSpPr/>
                <p:nvPr/>
              </p:nvSpPr>
              <p:spPr>
                <a:xfrm flipH="1">
                  <a:off x="4392720" y="4292640"/>
                  <a:ext cx="6120" cy="19908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 txBox="1"/>
                <p:nvPr/>
              </p:nvSpPr>
              <p:spPr>
                <a:xfrm rot="19078800">
                  <a:off x="4326840" y="4319640"/>
                  <a:ext cx="13788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399560" y="4200120"/>
                <a:ext cx="198360" cy="199080"/>
                <a:chOff x="4399560" y="4200120"/>
                <a:chExt cx="198360" cy="199080"/>
              </a:xfrm>
            </p:grpSpPr>
            <p:sp>
              <p:nvSpPr>
                <p:cNvPr id="1153" name="Line 59"/>
                <p:cNvSpPr/>
                <p:nvPr/>
              </p:nvSpPr>
              <p:spPr>
                <a:xfrm flipH="1">
                  <a:off x="4495680" y="4200480"/>
                  <a:ext cx="5400" cy="19872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 txBox="1"/>
                <p:nvPr/>
              </p:nvSpPr>
              <p:spPr>
                <a:xfrm rot="19078800">
                  <a:off x="4429800" y="4227480"/>
                  <a:ext cx="13716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3675600" y="4852080"/>
                <a:ext cx="198720" cy="199440"/>
                <a:chOff x="3675600" y="4852080"/>
                <a:chExt cx="198720" cy="199440"/>
              </a:xfrm>
            </p:grpSpPr>
            <p:sp>
              <p:nvSpPr>
                <p:cNvPr id="1156" name="Line 60"/>
                <p:cNvSpPr/>
                <p:nvPr/>
              </p:nvSpPr>
              <p:spPr>
                <a:xfrm flipH="1">
                  <a:off x="3771720" y="4852440"/>
                  <a:ext cx="5760" cy="19908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 txBox="1"/>
                <p:nvPr/>
              </p:nvSpPr>
              <p:spPr>
                <a:xfrm rot="19078800">
                  <a:off x="3705840" y="4879440"/>
                  <a:ext cx="13788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3780360" y="4757760"/>
                <a:ext cx="198720" cy="199440"/>
                <a:chOff x="3780360" y="4757760"/>
                <a:chExt cx="198720" cy="199440"/>
              </a:xfrm>
            </p:grpSpPr>
            <p:sp>
              <p:nvSpPr>
                <p:cNvPr id="1159" name="Line 61"/>
                <p:cNvSpPr/>
                <p:nvPr/>
              </p:nvSpPr>
              <p:spPr>
                <a:xfrm flipH="1">
                  <a:off x="3876480" y="4757760"/>
                  <a:ext cx="6120" cy="19944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 txBox="1"/>
                <p:nvPr/>
              </p:nvSpPr>
              <p:spPr>
                <a:xfrm rot="19078800">
                  <a:off x="3810600" y="4785120"/>
                  <a:ext cx="13788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1" name=""/>
          <p:cNvGrpSpPr/>
          <p:nvPr/>
        </p:nvGrpSpPr>
        <p:grpSpPr>
          <a:xfrm>
            <a:off x="4419720" y="4419720"/>
            <a:ext cx="639720" cy="749160"/>
            <a:chOff x="4419720" y="4419720"/>
            <a:chExt cx="639720" cy="749160"/>
          </a:xfrm>
        </p:grpSpPr>
        <p:sp>
          <p:nvSpPr>
            <p:cNvPr id="1162" name="Line 63"/>
            <p:cNvSpPr/>
            <p:nvPr/>
          </p:nvSpPr>
          <p:spPr>
            <a:xfrm>
              <a:off x="4419720" y="4419720"/>
              <a:ext cx="639720" cy="7491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3" name=""/>
            <p:cNvSpPr txBox="1"/>
            <p:nvPr/>
          </p:nvSpPr>
          <p:spPr>
            <a:xfrm>
              <a:off x="4419720" y="4419720"/>
              <a:ext cx="639720" cy="74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64" name="Text Box 64"/>
          <p:cNvSpPr/>
          <p:nvPr/>
        </p:nvSpPr>
        <p:spPr>
          <a:xfrm>
            <a:off x="4800600" y="50292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5" name="Text Box 65"/>
          <p:cNvSpPr/>
          <p:nvPr/>
        </p:nvSpPr>
        <p:spPr>
          <a:xfrm>
            <a:off x="3886200" y="5410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4092480" y="4118040"/>
            <a:ext cx="360" cy="1401840"/>
            <a:chOff x="4092480" y="4118040"/>
            <a:chExt cx="360" cy="1401840"/>
          </a:xfrm>
        </p:grpSpPr>
        <p:sp>
          <p:nvSpPr>
            <p:cNvPr id="1167" name="Line 66"/>
            <p:cNvSpPr/>
            <p:nvPr/>
          </p:nvSpPr>
          <p:spPr>
            <a:xfrm>
              <a:off x="4092480" y="4118040"/>
              <a:ext cx="0" cy="1401840"/>
            </a:xfrm>
            <a:prstGeom prst="line">
              <a:avLst/>
            </a:prstGeom>
            <a:ln w="3816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8" name=""/>
            <p:cNvSpPr txBox="1"/>
            <p:nvPr/>
          </p:nvSpPr>
          <p:spPr>
            <a:xfrm>
              <a:off x="4092480" y="4118040"/>
              <a:ext cx="360" cy="1401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6972480" y="4329000"/>
            <a:ext cx="990360" cy="360"/>
            <a:chOff x="6972480" y="4329000"/>
            <a:chExt cx="990360" cy="360"/>
          </a:xfrm>
        </p:grpSpPr>
        <p:sp>
          <p:nvSpPr>
            <p:cNvPr id="1170" name="Line 68"/>
            <p:cNvSpPr/>
            <p:nvPr/>
          </p:nvSpPr>
          <p:spPr>
            <a:xfrm>
              <a:off x="6972480" y="432900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1" name=""/>
            <p:cNvSpPr txBox="1"/>
            <p:nvPr/>
          </p:nvSpPr>
          <p:spPr>
            <a:xfrm>
              <a:off x="6972480" y="4329000"/>
              <a:ext cx="99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72" name="Text Box 69"/>
          <p:cNvSpPr/>
          <p:nvPr/>
        </p:nvSpPr>
        <p:spPr>
          <a:xfrm>
            <a:off x="7848720" y="4038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3" name="Text Box 70"/>
          <p:cNvSpPr/>
          <p:nvPr/>
        </p:nvSpPr>
        <p:spPr>
          <a:xfrm>
            <a:off x="64771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74" name=""/>
          <p:cNvGrpSpPr/>
          <p:nvPr/>
        </p:nvGrpSpPr>
        <p:grpSpPr>
          <a:xfrm>
            <a:off x="6684840" y="4367160"/>
            <a:ext cx="360" cy="1152720"/>
            <a:chOff x="6684840" y="4367160"/>
            <a:chExt cx="360" cy="1152720"/>
          </a:xfrm>
        </p:grpSpPr>
        <p:sp>
          <p:nvSpPr>
            <p:cNvPr id="1175" name="Line 71"/>
            <p:cNvSpPr/>
            <p:nvPr/>
          </p:nvSpPr>
          <p:spPr>
            <a:xfrm>
              <a:off x="6684840" y="4367160"/>
              <a:ext cx="0" cy="1152720"/>
            </a:xfrm>
            <a:prstGeom prst="line">
              <a:avLst/>
            </a:prstGeom>
            <a:ln w="2844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6" name=""/>
            <p:cNvSpPr txBox="1"/>
            <p:nvPr/>
          </p:nvSpPr>
          <p:spPr>
            <a:xfrm>
              <a:off x="6684840" y="4367160"/>
              <a:ext cx="360" cy="11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77" name="Rectangle 72"/>
          <p:cNvSpPr/>
          <p:nvPr/>
        </p:nvSpPr>
        <p:spPr>
          <a:xfrm>
            <a:off x="324000" y="167652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画出木块对支持面的压力和木块的重力的示意图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78" name="Picture 75" descr="png-0168"/>
          <p:cNvPicPr/>
          <p:nvPr/>
        </p:nvPicPr>
        <p:blipFill>
          <a:blip r:embed="rId4"/>
          <a:stretch/>
        </p:blipFill>
        <p:spPr>
          <a:xfrm>
            <a:off x="1752480" y="533520"/>
            <a:ext cx="990720" cy="990360"/>
          </a:xfrm>
          <a:prstGeom prst="rect">
            <a:avLst/>
          </a:prstGeom>
          <a:ln w="0">
            <a:noFill/>
          </a:ln>
        </p:spPr>
      </p:pic>
      <p:grpSp>
        <p:nvGrpSpPr>
          <p:cNvPr id="1179" name="Group 77"/>
          <p:cNvGrpSpPr/>
          <p:nvPr/>
        </p:nvGrpSpPr>
        <p:grpSpPr>
          <a:xfrm>
            <a:off x="2895480" y="457200"/>
            <a:ext cx="3960720" cy="936360"/>
            <a:chOff x="2895480" y="457200"/>
            <a:chExt cx="3960720" cy="936360"/>
          </a:xfrm>
        </p:grpSpPr>
        <p:sp>
          <p:nvSpPr>
            <p:cNvPr id="1180" name="AutoShape 78"/>
            <p:cNvSpPr/>
            <p:nvPr/>
          </p:nvSpPr>
          <p:spPr>
            <a:xfrm>
              <a:off x="2967120" y="528480"/>
              <a:ext cx="3889080" cy="8650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76320">
              <a:solidFill>
                <a:srgbClr val="ff00ff"/>
              </a:solidFill>
              <a:prstDash val="lgDashDot"/>
              <a:round/>
            </a:ln>
            <a:effectLst>
              <a:outerShdw dist="107932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1" name="Text Box 79"/>
            <p:cNvSpPr/>
            <p:nvPr/>
          </p:nvSpPr>
          <p:spPr>
            <a:xfrm>
              <a:off x="2895480" y="457200"/>
              <a:ext cx="39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巩固练习</a:t>
              </a:r>
              <a:endParaRPr b="0" lang="en-US" sz="5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82" name="Oval 80"/>
          <p:cNvSpPr/>
          <p:nvPr/>
        </p:nvSpPr>
        <p:spPr>
          <a:xfrm>
            <a:off x="4343400" y="43434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93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5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0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5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0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3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8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1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6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4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2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2"/>
          <p:cNvSpPr/>
          <p:nvPr/>
        </p:nvSpPr>
        <p:spPr>
          <a:xfrm>
            <a:off x="609480" y="1921320"/>
            <a:ext cx="8229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学生想出办法：先测出鞋底的面积，让学生清楚地了解这个测量的目的是测量受力面积，获得一般非规则物体的接触面积的测量方法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4" name="Text Box 3"/>
          <p:cNvSpPr/>
          <p:nvPr/>
        </p:nvSpPr>
        <p:spPr>
          <a:xfrm>
            <a:off x="609480" y="3352680"/>
            <a:ext cx="81536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锯、剪刀、斧头等，用过一段时间后，刀口要变钝（也就是接触面积要变大），用起来就比较费力。磨一磨后，刀口会变锋利（也就是接触面积要变小），用起来就比较省力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441360" y="46846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6" name="文本框 8194"/>
          <p:cNvSpPr/>
          <p:nvPr/>
        </p:nvSpPr>
        <p:spPr>
          <a:xfrm>
            <a:off x="1281240" y="51991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9" dur="2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4" dur="2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1904760"/>
            <a:ext cx="822960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    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1. </a:t>
            </a:r>
            <a:r>
              <a:rPr b="0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知识与技能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理解压强的概念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理解压强的大小跟哪些因素有关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能用压强公式进行简单的计算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了解增大和减小压强的主要方法。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5" name="Picture 7" descr="png-0203"/>
          <p:cNvPicPr/>
          <p:nvPr/>
        </p:nvPicPr>
        <p:blipFill>
          <a:blip r:embed="rId5"/>
          <a:stretch/>
        </p:blipFill>
        <p:spPr>
          <a:xfrm>
            <a:off x="6095880" y="533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教学目标"/>
          <p:cNvPicPr/>
          <p:nvPr/>
        </p:nvPicPr>
        <p:blipFill>
          <a:blip r:embed="rId6"/>
          <a:stretch/>
        </p:blipFill>
        <p:spPr>
          <a:xfrm>
            <a:off x="1752480" y="533520"/>
            <a:ext cx="12193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9"/>
          <p:cNvGrpSpPr/>
          <p:nvPr/>
        </p:nvGrpSpPr>
        <p:grpSpPr>
          <a:xfrm>
            <a:off x="2971800" y="609480"/>
            <a:ext cx="3960720" cy="936360"/>
            <a:chOff x="2971800" y="609480"/>
            <a:chExt cx="3960720" cy="936360"/>
          </a:xfrm>
        </p:grpSpPr>
        <p:sp>
          <p:nvSpPr>
            <p:cNvPr id="138" name="AutoShape 10"/>
            <p:cNvSpPr/>
            <p:nvPr/>
          </p:nvSpPr>
          <p:spPr>
            <a:xfrm>
              <a:off x="3043440" y="680760"/>
              <a:ext cx="3889080" cy="8650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76320">
              <a:solidFill>
                <a:srgbClr val="ff00ff"/>
              </a:solidFill>
              <a:prstDash val="lgDashDot"/>
              <a:round/>
            </a:ln>
            <a:effectLst>
              <a:outerShdw dist="107932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" name="Text Box 11"/>
            <p:cNvSpPr/>
            <p:nvPr/>
          </p:nvSpPr>
          <p:spPr>
            <a:xfrm>
              <a:off x="2971800" y="609480"/>
              <a:ext cx="39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教学目标</a:t>
              </a:r>
              <a:endParaRPr b="0" lang="en-US" sz="5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5"/>
          <p:cNvSpPr/>
          <p:nvPr/>
        </p:nvSpPr>
        <p:spPr>
          <a:xfrm>
            <a:off x="304920" y="13543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． 骆驼的体重比马大不了一倍，而它的脚掌面积是马蹄子的三倍。这为“沙漠之舟”提供了什么有利条件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8" name="Rectangle 6"/>
          <p:cNvSpPr/>
          <p:nvPr/>
        </p:nvSpPr>
        <p:spPr>
          <a:xfrm>
            <a:off x="685800" y="21337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答：骆驼的脚掌面积很大，对沙漠的压强相对较小，不容易陷入沙漠里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9" name="Rectangle 7"/>
          <p:cNvSpPr/>
          <p:nvPr/>
        </p:nvSpPr>
        <p:spPr>
          <a:xfrm>
            <a:off x="380880" y="441936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．坦克越过壕沟时，有一个简便办法：坦克上备有气袋，遇到壕沟时把气袋放下去，给气袋充气后，坦克通过壕沟就像走平地一样。设坦克的质量为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4×10</a:t>
            </a:r>
            <a:r>
              <a:rPr b="0" lang="en-US" sz="2800" spc="-1" strike="noStrike" baseline="30000">
                <a:solidFill>
                  <a:srgbClr val="0033cc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千克，履带着地面积为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5m</a:t>
            </a:r>
            <a:r>
              <a:rPr b="0" lang="en-US" sz="28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。当坦克的前一半履带压在气袋上时，坦克对气袋的压强是多大？（设坦克前后是对称的）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答案：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8×10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5"/>
          <p:cNvSpPr/>
          <p:nvPr/>
        </p:nvSpPr>
        <p:spPr>
          <a:xfrm>
            <a:off x="152280" y="2513160"/>
            <a:ext cx="8458200" cy="28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33cc"/>
                </a:solidFill>
                <a:latin typeface="宋体"/>
                <a:ea typeface="Times New Roman"/>
              </a:rPr>
              <a:t>5</a:t>
            </a:r>
            <a:r>
              <a:rPr b="0" lang="zh-CN" sz="2000" spc="-1" strike="noStrike">
                <a:solidFill>
                  <a:srgbClr val="0033cc"/>
                </a:solidFill>
                <a:latin typeface="宋体"/>
                <a:ea typeface="Times New Roman"/>
              </a:rPr>
              <a:t>．一个不漏气的薄塑料袋平放在桌面上，一根饮料吸管插在袋口边缘，把袋口折几折后用胶带封住，使塑料袋口不漏气。把两块正方形硬纸板相隔一定距离平放在塑料袋上，大纸板的边长是小纸板的两倍。在大纸板上放两个一元的硬币，在小纸板上放一个一元的硬币，然后用嘴慢慢向吸管吹气。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 </a:t>
            </a:r>
            <a:r>
              <a:rPr b="0" lang="zh-CN" sz="2000" spc="-1" strike="noStrike">
                <a:solidFill>
                  <a:srgbClr val="0033cc"/>
                </a:solidFill>
                <a:latin typeface="宋体"/>
                <a:ea typeface="Times New Roman"/>
              </a:rPr>
              <a:t>请你判断：哪一个纸板会首先被塑料袋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“</a:t>
            </a:r>
            <a:r>
              <a:rPr b="0" lang="zh-CN" sz="2000" spc="-1" strike="noStrike">
                <a:solidFill>
                  <a:srgbClr val="0033cc"/>
                </a:solidFill>
                <a:latin typeface="宋体"/>
                <a:ea typeface="Times New Roman"/>
              </a:rPr>
              <a:t>抬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”</a:t>
            </a:r>
            <a:r>
              <a:rPr b="0" lang="zh-CN" sz="2000" spc="-1" strike="noStrike">
                <a:solidFill>
                  <a:srgbClr val="0033cc"/>
                </a:solidFill>
                <a:latin typeface="宋体"/>
                <a:ea typeface="Times New Roman"/>
              </a:rPr>
              <a:t>起来？做实验来检验你的判断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宋体"/>
                <a:ea typeface="Times New Roman"/>
              </a:rPr>
              <a:t>如果要使两个硬纸板同时被举高，请你计算：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宋体"/>
                <a:ea typeface="Times New Roman"/>
              </a:rPr>
              <a:t>这两个硬纸板上的硬币数目应满足什么条件？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宋体"/>
                <a:ea typeface="Times New Roman"/>
              </a:rPr>
              <a:t>做实验来检验你的计算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宋体"/>
                <a:ea typeface="Times New Roman"/>
              </a:rPr>
              <a:t>答：大纸板会首先被塑料袋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“</a:t>
            </a:r>
            <a:r>
              <a:rPr b="1" lang="zh-CN" sz="2000" spc="-1" strike="noStrike">
                <a:solidFill>
                  <a:srgbClr val="0033cc"/>
                </a:solidFill>
                <a:latin typeface="宋体"/>
                <a:ea typeface="Times New Roman"/>
              </a:rPr>
              <a:t>抬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”</a:t>
            </a:r>
            <a:r>
              <a:rPr b="1" lang="zh-CN" sz="2000" spc="-1" strike="noStrike">
                <a:solidFill>
                  <a:srgbClr val="0033cc"/>
                </a:solidFill>
                <a:latin typeface="宋体"/>
                <a:ea typeface="Times New Roman"/>
              </a:rPr>
              <a:t>起来。大纸板上的硬币数目是小纸板上的四倍时，两块硬纸板会同时被举高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</a:t>
            </a:r>
            <a:r>
              <a:rPr b="0" lang="zh-CN" sz="7900" spc="-1" strike="noStrike">
                <a:solidFill>
                  <a:srgbClr val="0033cc"/>
                </a:solidFill>
                <a:latin typeface="Arial"/>
                <a:ea typeface="Times New Roman"/>
              </a:rPr>
              <a:t> </a:t>
            </a:r>
            <a:r>
              <a:rPr b="0" lang="zh-CN" sz="1000" spc="-1" strike="noStrike">
                <a:solidFill>
                  <a:srgbClr val="0033cc"/>
                </a:solidFill>
                <a:latin typeface="Arial"/>
                <a:ea typeface="Times New Roman"/>
              </a:rPr>
              <a:t>                                                          </a:t>
            </a: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91" name="Picture 6" descr="wps_clip_image-22719"/>
          <p:cNvPicPr/>
          <p:nvPr/>
        </p:nvPicPr>
        <p:blipFill>
          <a:blip r:embed="rId1"/>
          <a:stretch/>
        </p:blipFill>
        <p:spPr>
          <a:xfrm>
            <a:off x="-4424400" y="1542960"/>
            <a:ext cx="1609920" cy="97164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7" descr="wps_clip_image-364"/>
          <p:cNvPicPr/>
          <p:nvPr/>
        </p:nvPicPr>
        <p:blipFill>
          <a:blip r:embed="rId2"/>
          <a:stretch/>
        </p:blipFill>
        <p:spPr>
          <a:xfrm>
            <a:off x="-4424400" y="2625840"/>
            <a:ext cx="1714680" cy="1228680"/>
          </a:xfrm>
          <a:prstGeom prst="rect">
            <a:avLst/>
          </a:prstGeom>
          <a:ln w="0">
            <a:noFill/>
          </a:ln>
        </p:spPr>
      </p:pic>
      <p:pic>
        <p:nvPicPr>
          <p:cNvPr id="1193" name="Picture 8" descr="wps_clip_image-12052"/>
          <p:cNvPicPr/>
          <p:nvPr/>
        </p:nvPicPr>
        <p:blipFill>
          <a:blip r:embed="rId3"/>
          <a:stretch/>
        </p:blipFill>
        <p:spPr>
          <a:xfrm>
            <a:off x="-4424400" y="4103640"/>
            <a:ext cx="1905120" cy="125748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10" descr="wps_clip_image-23150"/>
          <p:cNvPicPr/>
          <p:nvPr/>
        </p:nvPicPr>
        <p:blipFill>
          <a:blip r:embed="rId4"/>
          <a:stretch/>
        </p:blipFill>
        <p:spPr>
          <a:xfrm>
            <a:off x="6172200" y="3276720"/>
            <a:ext cx="16095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80CD-3272-4C04-831F-EE3A93D0011B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685800" y="1143000"/>
            <a:ext cx="7772400" cy="23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     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2. </a:t>
            </a:r>
            <a:r>
              <a:rPr b="0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过程与方法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观察生活中各种跟压强有关的现象，了解对比是提高物理思维的基本方法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探究压力的作用效果跟什么因素有关？经历探究的主要环节，通过探究实验，观察实验现象、采集的实验数据，获得对压强比较深入的了解，初步学习使用控制变量法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通过实际动手，实践如何改变压强。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914560" y="2503440"/>
            <a:ext cx="50608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黑体"/>
              </a:rPr>
              <a:t>1.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黑体"/>
              </a:rPr>
              <a:t>压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黑体"/>
              </a:rPr>
              <a:t>2.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黑体"/>
              </a:rPr>
              <a:t>压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黑体"/>
              </a:rPr>
              <a:t>3.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黑体"/>
              </a:rPr>
              <a:t>怎样减小或增大压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2" name="Picture 7" descr="png-0276"/>
          <p:cNvPicPr/>
          <p:nvPr/>
        </p:nvPicPr>
        <p:blipFill>
          <a:blip r:embed="rId1"/>
          <a:stretch/>
        </p:blipFill>
        <p:spPr>
          <a:xfrm>
            <a:off x="1066680" y="297180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8"/>
          <p:cNvGrpSpPr/>
          <p:nvPr/>
        </p:nvGrpSpPr>
        <p:grpSpPr>
          <a:xfrm>
            <a:off x="1830240" y="533520"/>
            <a:ext cx="3960720" cy="936000"/>
            <a:chOff x="1830240" y="533520"/>
            <a:chExt cx="3960720" cy="936000"/>
          </a:xfrm>
        </p:grpSpPr>
        <p:sp>
          <p:nvSpPr>
            <p:cNvPr id="144" name="AutoShape 9"/>
            <p:cNvSpPr/>
            <p:nvPr/>
          </p:nvSpPr>
          <p:spPr>
            <a:xfrm>
              <a:off x="1830240" y="604440"/>
              <a:ext cx="3889440" cy="8650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76320">
              <a:solidFill>
                <a:srgbClr val="ff00ff"/>
              </a:solidFill>
              <a:prstDash val="lgDashDot"/>
              <a:round/>
            </a:ln>
            <a:effectLst>
              <a:outerShdw dist="107932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1830240" y="533520"/>
              <a:ext cx="39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本节导航</a:t>
              </a:r>
              <a:endParaRPr b="0" lang="en-US" sz="5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Object 2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7086600" cy="448812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3"/>
          <p:cNvGrpSpPr/>
          <p:nvPr/>
        </p:nvGrpSpPr>
        <p:grpSpPr>
          <a:xfrm>
            <a:off x="4495680" y="4572000"/>
            <a:ext cx="533880" cy="305280"/>
            <a:chOff x="4495680" y="4572000"/>
            <a:chExt cx="533880" cy="305280"/>
          </a:xfrm>
        </p:grpSpPr>
        <p:grpSp>
          <p:nvGrpSpPr>
            <p:cNvPr id="148" name=""/>
            <p:cNvGrpSpPr/>
            <p:nvPr/>
          </p:nvGrpSpPr>
          <p:grpSpPr>
            <a:xfrm>
              <a:off x="5029200" y="4572000"/>
              <a:ext cx="360" cy="304920"/>
              <a:chOff x="5029200" y="4572000"/>
              <a:chExt cx="360" cy="304920"/>
            </a:xfrm>
          </p:grpSpPr>
          <p:sp>
            <p:nvSpPr>
              <p:cNvPr id="149" name="Line 4"/>
              <p:cNvSpPr/>
              <p:nvPr/>
            </p:nvSpPr>
            <p:spPr>
              <a:xfrm>
                <a:off x="5029200" y="4572000"/>
                <a:ext cx="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>
                <a:off x="5029200" y="45720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495680" y="4876920"/>
              <a:ext cx="533520" cy="360"/>
              <a:chOff x="4495680" y="4876920"/>
              <a:chExt cx="533520" cy="360"/>
            </a:xfrm>
          </p:grpSpPr>
          <p:sp>
            <p:nvSpPr>
              <p:cNvPr id="152" name="Line 5"/>
              <p:cNvSpPr/>
              <p:nvPr/>
            </p:nvSpPr>
            <p:spPr>
              <a:xfrm>
                <a:off x="4495680" y="4876920"/>
                <a:ext cx="5335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 txBox="1"/>
              <p:nvPr/>
            </p:nvSpPr>
            <p:spPr>
              <a:xfrm>
                <a:off x="4495680" y="487692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Rectangle 6"/>
          <p:cNvSpPr/>
          <p:nvPr/>
        </p:nvSpPr>
        <p:spPr>
          <a:xfrm>
            <a:off x="4572000" y="52578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495680" y="4572000"/>
            <a:ext cx="360" cy="1219320"/>
            <a:chOff x="4495680" y="4572000"/>
            <a:chExt cx="360" cy="1219320"/>
          </a:xfrm>
        </p:grpSpPr>
        <p:sp>
          <p:nvSpPr>
            <p:cNvPr id="156" name="Line 7"/>
            <p:cNvSpPr/>
            <p:nvPr/>
          </p:nvSpPr>
          <p:spPr>
            <a:xfrm>
              <a:off x="4495680" y="457200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4495680" y="4572000"/>
              <a:ext cx="36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2209680" y="5867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小孩对地面有力的作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990520" y="866880"/>
            <a:ext cx="33210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  <a:ea typeface="黑体"/>
              </a:rPr>
              <a:t>1. 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  <a:ea typeface="黑体"/>
              </a:rPr>
              <a:t>压力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174680" y="2701800"/>
            <a:ext cx="5376960" cy="15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小孩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垂直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压在地面上的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图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垂直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压在墙面上的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木块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垂直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压在斜面上的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6095880" y="2514600"/>
            <a:ext cx="381240" cy="1600200"/>
          </a:xfrm>
          <a:custGeom>
            <a:avLst/>
            <a:gdLst>
              <a:gd name="textAreaLeft" fmla="*/ 0 w 381240"/>
              <a:gd name="textAreaRight" fmla="*/ 137520 w 3812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6553080" y="320040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80880" y="46483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垂直压在物体表面上的力叫压力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685800" y="15238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）概念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5" name="Picture 8" descr="png-0511"/>
          <p:cNvPicPr/>
          <p:nvPr/>
        </p:nvPicPr>
        <p:blipFill>
          <a:blip r:embed="rId1"/>
          <a:stretch/>
        </p:blipFill>
        <p:spPr>
          <a:xfrm>
            <a:off x="6858000" y="5334120"/>
            <a:ext cx="838080" cy="6904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838080" y="1371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）作用点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505320" y="1371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所压表面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38080" y="2286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）方向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895480" y="228600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垂直并指向受压表面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70" name="Group 55"/>
          <p:cNvGrpSpPr/>
          <p:nvPr/>
        </p:nvGrpSpPr>
        <p:grpSpPr>
          <a:xfrm>
            <a:off x="304920" y="3581280"/>
            <a:ext cx="2447640" cy="1224360"/>
            <a:chOff x="304920" y="3581280"/>
            <a:chExt cx="2447640" cy="1224360"/>
          </a:xfrm>
        </p:grpSpPr>
        <p:sp>
          <p:nvSpPr>
            <p:cNvPr id="171" name="Line 14"/>
            <p:cNvSpPr/>
            <p:nvPr/>
          </p:nvSpPr>
          <p:spPr>
            <a:xfrm>
              <a:off x="304920" y="4805280"/>
              <a:ext cx="2447640" cy="360"/>
            </a:xfrm>
            <a:prstGeom prst="line">
              <a:avLst/>
            </a:pr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2" name="AutoShape 13"/>
            <p:cNvSpPr/>
            <p:nvPr/>
          </p:nvSpPr>
          <p:spPr>
            <a:xfrm>
              <a:off x="880920" y="3581280"/>
              <a:ext cx="1366920" cy="12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247480" y="3940200"/>
              <a:ext cx="72000" cy="360360"/>
              <a:chOff x="2247480" y="3940200"/>
              <a:chExt cx="72000" cy="360360"/>
            </a:xfrm>
          </p:grpSpPr>
          <p:sp>
            <p:nvSpPr>
              <p:cNvPr id="174" name="Line 16"/>
              <p:cNvSpPr/>
              <p:nvPr/>
            </p:nvSpPr>
            <p:spPr>
              <a:xfrm flipH="1">
                <a:off x="2247480" y="3940200"/>
                <a:ext cx="71640" cy="360360"/>
              </a:xfrm>
              <a:prstGeom prst="line">
                <a:avLst/>
              </a:prstGeom>
              <a:ln w="38160">
                <a:solidFill>
                  <a:srgbClr val="00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2247840" y="3940200"/>
                <a:ext cx="71640" cy="36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104920" y="3939840"/>
              <a:ext cx="216000" cy="144360"/>
              <a:chOff x="2104920" y="3939840"/>
              <a:chExt cx="216000" cy="144360"/>
            </a:xfrm>
          </p:grpSpPr>
          <p:sp>
            <p:nvSpPr>
              <p:cNvPr id="177" name="Line 17"/>
              <p:cNvSpPr/>
              <p:nvPr/>
            </p:nvSpPr>
            <p:spPr>
              <a:xfrm flipV="1">
                <a:off x="2104920" y="3939840"/>
                <a:ext cx="216000" cy="144360"/>
              </a:xfrm>
              <a:prstGeom prst="line">
                <a:avLst/>
              </a:prstGeom>
              <a:ln w="38160">
                <a:solidFill>
                  <a:srgbClr val="00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 rot="10800000">
                <a:off x="2104920" y="3939840"/>
                <a:ext cx="21600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2031840" y="4300200"/>
              <a:ext cx="216000" cy="144360"/>
              <a:chOff x="2031840" y="4300200"/>
              <a:chExt cx="216000" cy="144360"/>
            </a:xfrm>
          </p:grpSpPr>
          <p:sp>
            <p:nvSpPr>
              <p:cNvPr id="180" name="Line 18"/>
              <p:cNvSpPr/>
              <p:nvPr/>
            </p:nvSpPr>
            <p:spPr>
              <a:xfrm flipV="1">
                <a:off x="2031840" y="4300200"/>
                <a:ext cx="216000" cy="144360"/>
              </a:xfrm>
              <a:prstGeom prst="line">
                <a:avLst/>
              </a:prstGeom>
              <a:ln w="38160">
                <a:solidFill>
                  <a:srgbClr val="00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 txBox="1"/>
              <p:nvPr/>
            </p:nvSpPr>
            <p:spPr>
              <a:xfrm rot="10800000">
                <a:off x="2031840" y="4300200"/>
                <a:ext cx="21600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1457280" y="4807080"/>
            <a:ext cx="360" cy="792000"/>
            <a:chOff x="1457280" y="4807080"/>
            <a:chExt cx="360" cy="792000"/>
          </a:xfrm>
        </p:grpSpPr>
        <p:sp>
          <p:nvSpPr>
            <p:cNvPr id="183" name="Line 20"/>
            <p:cNvSpPr/>
            <p:nvPr/>
          </p:nvSpPr>
          <p:spPr>
            <a:xfrm>
              <a:off x="1457280" y="4807080"/>
              <a:ext cx="0" cy="792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1457280" y="4807080"/>
              <a:ext cx="36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85" name="Text Box 21"/>
          <p:cNvSpPr/>
          <p:nvPr/>
        </p:nvSpPr>
        <p:spPr>
          <a:xfrm>
            <a:off x="1168560" y="5454720"/>
            <a:ext cx="104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86" name="Group 56"/>
          <p:cNvGrpSpPr/>
          <p:nvPr/>
        </p:nvGrpSpPr>
        <p:grpSpPr>
          <a:xfrm>
            <a:off x="3473280" y="3846960"/>
            <a:ext cx="2521080" cy="1091880"/>
            <a:chOff x="3473280" y="3846960"/>
            <a:chExt cx="2521080" cy="1091880"/>
          </a:xfrm>
        </p:grpSpPr>
        <p:sp>
          <p:nvSpPr>
            <p:cNvPr id="187" name="AutoShape 24"/>
            <p:cNvSpPr/>
            <p:nvPr/>
          </p:nvSpPr>
          <p:spPr>
            <a:xfrm>
              <a:off x="3473280" y="3857760"/>
              <a:ext cx="2521080" cy="1081080"/>
            </a:xfrm>
            <a:prstGeom prst="rtTriangl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8" name="Rectangle 25"/>
            <p:cNvSpPr/>
            <p:nvPr/>
          </p:nvSpPr>
          <p:spPr>
            <a:xfrm rot="1392600">
              <a:off x="4481280" y="3928680"/>
              <a:ext cx="504720" cy="43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14440" y="4289400"/>
            <a:ext cx="437040" cy="1044720"/>
            <a:chOff x="4114440" y="4289400"/>
            <a:chExt cx="437040" cy="1044720"/>
          </a:xfrm>
        </p:grpSpPr>
        <p:sp>
          <p:nvSpPr>
            <p:cNvPr id="190" name="Line 29"/>
            <p:cNvSpPr/>
            <p:nvPr/>
          </p:nvSpPr>
          <p:spPr>
            <a:xfrm flipH="1">
              <a:off x="4114440" y="4289400"/>
              <a:ext cx="436680" cy="1044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4114800" y="4289400"/>
              <a:ext cx="436680" cy="10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92" name="Text Box 30"/>
          <p:cNvSpPr/>
          <p:nvPr/>
        </p:nvSpPr>
        <p:spPr>
          <a:xfrm>
            <a:off x="3886200" y="51814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93" name="Group 57"/>
          <p:cNvGrpSpPr/>
          <p:nvPr/>
        </p:nvGrpSpPr>
        <p:grpSpPr>
          <a:xfrm>
            <a:off x="8082000" y="3352680"/>
            <a:ext cx="431640" cy="2521080"/>
            <a:chOff x="8082000" y="3352680"/>
            <a:chExt cx="431640" cy="2521080"/>
          </a:xfrm>
        </p:grpSpPr>
        <p:grpSp>
          <p:nvGrpSpPr>
            <p:cNvPr id="194" name=""/>
            <p:cNvGrpSpPr/>
            <p:nvPr/>
          </p:nvGrpSpPr>
          <p:grpSpPr>
            <a:xfrm>
              <a:off x="8082000" y="3352680"/>
              <a:ext cx="360" cy="2521080"/>
              <a:chOff x="8082000" y="3352680"/>
              <a:chExt cx="360" cy="2521080"/>
            </a:xfrm>
          </p:grpSpPr>
          <p:sp>
            <p:nvSpPr>
              <p:cNvPr id="195" name="Line 33"/>
              <p:cNvSpPr/>
              <p:nvPr/>
            </p:nvSpPr>
            <p:spPr>
              <a:xfrm>
                <a:off x="8082000" y="3352680"/>
                <a:ext cx="0" cy="252108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>
                <a:off x="8082000" y="3352680"/>
                <a:ext cx="360" cy="252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8082000" y="4576680"/>
              <a:ext cx="216000" cy="360"/>
              <a:chOff x="8082000" y="4576680"/>
              <a:chExt cx="216000" cy="360"/>
            </a:xfrm>
          </p:grpSpPr>
          <p:sp>
            <p:nvSpPr>
              <p:cNvPr id="198" name="Line 34"/>
              <p:cNvSpPr/>
              <p:nvPr/>
            </p:nvSpPr>
            <p:spPr>
              <a:xfrm>
                <a:off x="8082000" y="4576680"/>
                <a:ext cx="21600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 txBox="1"/>
              <p:nvPr/>
            </p:nvSpPr>
            <p:spPr>
              <a:xfrm>
                <a:off x="8082000" y="457668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200" name="AutoShape 35"/>
            <p:cNvSpPr/>
            <p:nvPr/>
          </p:nvSpPr>
          <p:spPr>
            <a:xfrm>
              <a:off x="8298000" y="4361040"/>
              <a:ext cx="215640" cy="360360"/>
            </a:xfrm>
            <a:prstGeom prst="flowChartDelay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7002000" y="4576680"/>
            <a:ext cx="1080000" cy="360"/>
            <a:chOff x="7002000" y="4576680"/>
            <a:chExt cx="1080000" cy="360"/>
          </a:xfrm>
        </p:grpSpPr>
        <p:sp>
          <p:nvSpPr>
            <p:cNvPr id="202" name="Line 37"/>
            <p:cNvSpPr/>
            <p:nvPr/>
          </p:nvSpPr>
          <p:spPr>
            <a:xfrm flipH="1">
              <a:off x="7002000" y="4576680"/>
              <a:ext cx="10796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7002360" y="4576680"/>
              <a:ext cx="107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04" name="Text Box 38"/>
          <p:cNvSpPr/>
          <p:nvPr/>
        </p:nvSpPr>
        <p:spPr>
          <a:xfrm>
            <a:off x="6477120" y="4191120"/>
            <a:ext cx="103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5" name="Picture 41" descr="png-0511"/>
          <p:cNvPicPr/>
          <p:nvPr/>
        </p:nvPicPr>
        <p:blipFill>
          <a:blip r:embed="rId4"/>
          <a:srcRect l="0" t="11780" r="0" b="5875"/>
          <a:stretch/>
        </p:blipFill>
        <p:spPr>
          <a:xfrm>
            <a:off x="6324480" y="1219320"/>
            <a:ext cx="914400" cy="75240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1447920" y="4952880"/>
            <a:ext cx="152280" cy="360"/>
            <a:chOff x="1447920" y="4952880"/>
            <a:chExt cx="152280" cy="360"/>
          </a:xfrm>
        </p:grpSpPr>
        <p:sp>
          <p:nvSpPr>
            <p:cNvPr id="207" name="Line 42"/>
            <p:cNvSpPr/>
            <p:nvPr/>
          </p:nvSpPr>
          <p:spPr>
            <a:xfrm>
              <a:off x="1447920" y="4952880"/>
              <a:ext cx="15228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1447920" y="495288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599840" y="4800240"/>
            <a:ext cx="360" cy="152280"/>
            <a:chOff x="1599840" y="4800240"/>
            <a:chExt cx="360" cy="152280"/>
          </a:xfrm>
        </p:grpSpPr>
        <p:sp>
          <p:nvSpPr>
            <p:cNvPr id="210" name="Line 43"/>
            <p:cNvSpPr/>
            <p:nvPr/>
          </p:nvSpPr>
          <p:spPr>
            <a:xfrm flipV="1">
              <a:off x="1600200" y="480024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 rot="10800000">
              <a:off x="1599840" y="480024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495680" y="4495680"/>
            <a:ext cx="152640" cy="76320"/>
            <a:chOff x="4495680" y="4495680"/>
            <a:chExt cx="152640" cy="76320"/>
          </a:xfrm>
        </p:grpSpPr>
        <p:sp>
          <p:nvSpPr>
            <p:cNvPr id="213" name="Line 51"/>
            <p:cNvSpPr/>
            <p:nvPr/>
          </p:nvSpPr>
          <p:spPr>
            <a:xfrm>
              <a:off x="4495680" y="4495680"/>
              <a:ext cx="152640" cy="763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4495680" y="4495680"/>
              <a:ext cx="152640" cy="7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647960" y="4343400"/>
            <a:ext cx="76320" cy="228600"/>
            <a:chOff x="4647960" y="4343400"/>
            <a:chExt cx="76320" cy="228600"/>
          </a:xfrm>
        </p:grpSpPr>
        <p:sp>
          <p:nvSpPr>
            <p:cNvPr id="216" name="Line 52"/>
            <p:cNvSpPr/>
            <p:nvPr/>
          </p:nvSpPr>
          <p:spPr>
            <a:xfrm flipH="1">
              <a:off x="4647960" y="4343400"/>
              <a:ext cx="75960" cy="2286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4648320" y="434340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924680" y="4724280"/>
            <a:ext cx="152640" cy="360"/>
            <a:chOff x="7924680" y="4724280"/>
            <a:chExt cx="152640" cy="360"/>
          </a:xfrm>
        </p:grpSpPr>
        <p:sp>
          <p:nvSpPr>
            <p:cNvPr id="219" name="Line 53"/>
            <p:cNvSpPr/>
            <p:nvPr/>
          </p:nvSpPr>
          <p:spPr>
            <a:xfrm>
              <a:off x="7924680" y="4724280"/>
              <a:ext cx="1526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7924680" y="472428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7924320" y="4571640"/>
            <a:ext cx="360" cy="152280"/>
            <a:chOff x="7924320" y="4571640"/>
            <a:chExt cx="360" cy="152280"/>
          </a:xfrm>
        </p:grpSpPr>
        <p:sp>
          <p:nvSpPr>
            <p:cNvPr id="222" name="Line 54"/>
            <p:cNvSpPr/>
            <p:nvPr/>
          </p:nvSpPr>
          <p:spPr>
            <a:xfrm flipV="1">
              <a:off x="7924680" y="457164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 rot="10800000">
              <a:off x="7924320" y="457164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685800" y="1676520"/>
            <a:ext cx="5715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压力不是重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838080" y="9144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）压力大小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4419720" y="304920"/>
            <a:ext cx="4724280" cy="914400"/>
          </a:xfrm>
          <a:prstGeom prst="cloudCallout">
            <a:avLst>
              <a:gd name="adj1" fmla="val -48754"/>
              <a:gd name="adj2" fmla="val 87675"/>
            </a:avLst>
          </a:prstGeom>
          <a:solidFill>
            <a:srgbClr val="ccffcc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等于重力大小吗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28600" y="2362320"/>
          <a:ext cx="8915400" cy="2590560"/>
        </p:xfrm>
        <a:graphic>
          <a:graphicData uri="http://schemas.openxmlformats.org/drawingml/2006/table">
            <a:tbl>
              <a:tblPr/>
              <a:tblGrid>
                <a:gridCol w="1154160"/>
                <a:gridCol w="1841400"/>
                <a:gridCol w="1924200"/>
                <a:gridCol w="1998720"/>
                <a:gridCol w="1996920"/>
              </a:tblGrid>
              <a:tr h="836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施力物体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受力物体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力的方向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力的大小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压力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重力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Text Box 111"/>
          <p:cNvSpPr/>
          <p:nvPr/>
        </p:nvSpPr>
        <p:spPr>
          <a:xfrm>
            <a:off x="1600200" y="419112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地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Text Box 112"/>
          <p:cNvSpPr/>
          <p:nvPr/>
        </p:nvSpPr>
        <p:spPr>
          <a:xfrm>
            <a:off x="3200400" y="419112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某物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Text Box 113"/>
          <p:cNvSpPr/>
          <p:nvPr/>
        </p:nvSpPr>
        <p:spPr>
          <a:xfrm>
            <a:off x="1219320" y="33526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某物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Text Box 114"/>
          <p:cNvSpPr/>
          <p:nvPr/>
        </p:nvSpPr>
        <p:spPr>
          <a:xfrm>
            <a:off x="3200400" y="3352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接触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Rectangle 162"/>
          <p:cNvSpPr/>
          <p:nvPr/>
        </p:nvSpPr>
        <p:spPr>
          <a:xfrm>
            <a:off x="5181480" y="3200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可以是任何方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Text Box 163"/>
          <p:cNvSpPr/>
          <p:nvPr/>
        </p:nvSpPr>
        <p:spPr>
          <a:xfrm>
            <a:off x="51055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竖直向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Rectangle 164"/>
          <p:cNvSpPr/>
          <p:nvPr/>
        </p:nvSpPr>
        <p:spPr>
          <a:xfrm>
            <a:off x="6858000" y="3200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一般和重力大小无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Text Box 167"/>
          <p:cNvSpPr/>
          <p:nvPr/>
        </p:nvSpPr>
        <p:spPr>
          <a:xfrm>
            <a:off x="7086600" y="4191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G=m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6" name="Picture 169" descr="xiuxianyule2_0364"/>
          <p:cNvPicPr/>
          <p:nvPr/>
        </p:nvPicPr>
        <p:blipFill>
          <a:blip r:embed="rId1"/>
          <a:stretch/>
        </p:blipFill>
        <p:spPr>
          <a:xfrm>
            <a:off x="6400800" y="5257800"/>
            <a:ext cx="1281240" cy="13716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03:41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13Z</dcterms:modified>
  <cp:revision>25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