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gif" ContentType="image/gif"/>
  <Override PartName="/ppt/media/image3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3D9EC-7D93-420D-BBF0-4ECB4FB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A7B08-6C15-4129-9C8C-277C5D9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24C74-3708-47CB-B908-6606552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A3FA3-6AE3-489B-AD99-5C939B0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13E62-FC04-4DF7-991B-BE7098DD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A5C0B-A841-49B9-BC2E-8929C3B3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04454-B828-4A7E-BBE9-8320827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92AFF-41A6-462B-AA88-7E30127E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7E970-A89F-4049-9C27-9C58243A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97B00E-3DF8-407F-BED5-71AD183B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65F6A-53B6-4D74-8397-09B371C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28C2E-0538-4D6A-B8EA-1F6D498A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45BEC-40A0-4726-9D47-AB80F01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A0815-F074-4203-9F47-910D8F6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FE7CC6-13CA-4116-BC34-00823817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9CDE84-0789-4A85-91A7-2A0382C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EB039F-3324-4148-B372-290FE71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5DB6C-F038-480B-A1B5-4CAC493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869CE-3FB9-46F9-A6CE-8C89455F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47A55-0E81-4A37-A3A7-88EA1969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C8CAF-E2C7-4884-86BA-3BCEC9C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EBA71-0215-45EB-9C54-1A86D35D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E7374-79C1-4547-93BC-55B23AC2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722C80-4322-4243-928E-5CCB2C2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22413-2186-42D4-B6A1-1315372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065E1-6332-4BD5-8072-B58560AF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AF6971-2F9E-42ED-8E76-E6448A71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A3D52-D707-4829-8B7D-D4F097C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8387F3-1AB6-4997-B67F-433FBB0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4E9FC4-CCE8-4BF1-9EF9-5A7A3C6F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546-7B49-4E05-A7F0-E03C69AD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FB221-D85B-4614-9075-0322C162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0A926-AA5D-427E-B738-1293F75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C1FCB-E67E-4D56-BE86-CF71ECBF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49B395-0B9E-4D5A-89F8-64245598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D880B-6930-4C0C-B9F3-DA6E862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D0E2DD-D9EB-4AA0-BAD0-6043B0B7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D3EAAF-D0EA-4219-A79B-4367E6A9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8FA334-73BD-4C31-9429-AF6F436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917F80-FEF6-4338-B1EF-EB24FFC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B24A28-96A3-49A9-9A1A-37FB58D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57C-C614-42EE-974D-F8D114EC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9413F-7F67-4AFD-AB0A-DA7E4A00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0493F-FE82-498D-B541-D4B422D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C831D-5341-464E-B3EA-FDB4DCD6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29232-CFDE-48D5-8CCC-D3280F6D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B56731-15CC-4298-916E-E60053AA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CBF7A5-8622-4A38-A6ED-F7DB09D1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D70D83-6249-43CF-8952-6CDBB876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8C6708-D5C2-4746-A6F8-CA032A87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01F6BE-34E1-4149-A886-62DBD2F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54D601-206C-4F60-B7FE-661EF9D6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71A-F34A-4D4F-837B-13E37EB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0D6985-BB76-4ABC-85D5-B14ACD75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4FCE3F-6062-420B-8AD3-872BEBA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FF7C8C-F7A1-4E7A-8E21-F2FB2CD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AEB95B-DE7A-4D51-BD28-CF7600BB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1DE32F-0E8A-442B-9C1D-5D35900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2A1B60-2794-43E0-905A-7CD591B7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EF0220-AB69-442B-BC5F-A9B2F2D9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CBDF7D-C1F6-41FB-BD70-28B20C29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F2535A-8FD9-4950-A6A6-3978588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5AC9BC-A397-413C-BD0A-44BADD2D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D95-C6A2-486B-9E10-50FCBB96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2FA767-7ACC-4F5E-813B-A6CD27C9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0087D-F48A-49AD-B2FA-FBC8557A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000897-1D5C-4A59-B053-2FA15A0B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D74B56-7EBF-488E-9E40-3AF0CE9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795AB3-E7EB-4A8E-8451-E9EF6F02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185EB5-8A07-4E09-91B3-FC6A038D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5028DC-576C-4773-AF7F-38D289B5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118078-DE26-4060-BB12-86ABFA9F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2DCE25-024B-4540-8223-B8E6E98E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5F73D9-D95C-4D39-A22E-E4CB7239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D6-9360-4808-BD44-8DB309A6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F7ED58-6B95-4F1E-A719-F679B51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C4263F-7D54-487B-BF25-086CF0C0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4260E3-CEE6-4B8E-82F4-7549400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617306-8B21-43A1-9114-D2F3576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CEDB5-1E6C-4F8F-8894-9778082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A89129-3FD0-4F4E-B73C-F4EEC124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71953-0286-48E6-955D-D494FAF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9A8340-579F-464D-9AAD-BE7A9667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BA6173-1A32-4259-83EB-1C7EF77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94C97-078C-4908-875A-FB5DEA8F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050-929F-4A04-923C-0C40FAE2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F0EE4B-C23D-4A16-9FFB-8517A0EE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84F812-E77F-49C7-8387-1F6426D8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CCD3C9-9B87-4D20-9916-74757201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E8FB8A-BCF7-49AF-A595-0C0B46F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DF8F8C-2752-43C2-AFB0-F0AA093C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99236D-19B8-4D0D-9875-EF23D5ED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CCF753-9AE8-401D-96C8-CC739D8C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F98BF0-FF3D-4838-A0A4-C55B261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EFA028-ABF3-4841-AC66-5269E5BF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2FF154-2568-4EF9-8150-6A62AA2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060-01F3-49CD-9662-F12984B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56E0CC-09B1-4193-A134-57B9DE68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3BAC8B-AB76-4C5D-8ECD-1704C19D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B6C0C2-2AB1-43DA-A007-3714BF2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B02-373E-4F08-B68A-7327769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891-6E5F-49AB-A34E-25B3572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14F-0E67-4F40-8CE3-445F84E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771-5553-4ECD-AC6B-CCD5F3F8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CB0-8CD6-4452-9C79-128A70BC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70E8-5577-4919-AC51-065BB608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E31C-0040-43C3-B4B0-6CDB198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563-43E0-400F-8664-82035AF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3A29-7C03-4D48-A8D6-A2DB4DD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2E6-17FD-40C6-8BDD-408933F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FEB4-D604-4648-84F7-2AAA787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094B-39CB-439F-A676-BA55973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352-78DC-4521-B267-155F1EE1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1304-977B-478C-9264-20B91B2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1FBF-87DA-458A-9EE1-4437A60C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B4D3-102B-4BF2-961A-56B67755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317-94E2-488F-9784-66C87FBF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EBE40-5ABE-4981-8391-15921D0CB1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7A4D0-4435-46E1-A2B1-3EA791CCB0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9B4C9-C2B5-449B-9D06-E1D4849F7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4F428-6BC9-44B1-86B9-A122F303BC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755FAB-0245-409E-800F-E68E941443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02736-3C0F-4631-A9B5-DB9F257D3E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B686A-9275-4617-8FD6-1C98618A51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DB4068-7C56-4D7B-97AF-6FAAE806E0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6E734-03E2-4256-AF54-551C46D53F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64A19-313B-4BA4-8CBE-8A27610317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4F1A6-ABEC-40AA-8F81-FBF77F2524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478B1-F079-495E-8F61-62444F4B56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68176-0CD4-4CEE-8A90-598E95F6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53F9C-DD3C-4A50-8B6A-D66F24A340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6039D-5019-4218-9354-7CE1683245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CA8F0-AA87-4225-88FD-4D8003A2185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C10BB-8395-4788-934E-753CEA39D2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FC485-B7DA-4DB0-94D7-2EB2BCA61E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56121-E368-4AB3-8E46-FDE31BD7A34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8F067-22E2-4210-B4A2-4B55C71462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E5755-D078-48B4-B28C-E353AACED3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09032-6A95-4E31-9285-BD06933860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EB307-A229-4570-8BCD-727C89F16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6853C-4CF4-433A-98FD-2572F7925E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B1D4E-4C37-4741-B2BF-EC3F9562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11868-E965-4CD8-A9AF-37B16914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5EDB3-2ED6-4AF5-BA46-272AFE5C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340EA-B2E6-4125-8C8B-6E211C0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3E8B3-3D53-48BE-8806-A6473665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C6DC2-3C66-4148-9371-2EB87D33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B60BB-36BA-46E0-A569-C93AF8F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87D35-3BFD-4F0B-82D6-DD1EF17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2095F-AC1F-4C93-8980-546D0D9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CC3D6-8B3C-4C52-B3BF-B66E4D7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BF1A3-22A3-4C7D-A192-71F7605C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1747A-4168-4460-B099-9F7512C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E5877-814E-42EC-8AFF-7412FD0A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E1E1E-8A10-43DE-BF0A-E0E7E16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F3162-85EE-42CE-8080-81C43E6E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AAC05-E269-4954-92F7-3DA6299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C8035-EF98-4A27-9FAB-71C8FA92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C016F-C28F-4D1A-8BC9-56E744C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E07AA-AE43-4FB9-833B-0AE2D9F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CB2BB-0759-4CC1-B1E4-2D9222BB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93FCE-9150-41A9-92A3-D03D041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D16CC-BBB4-4DC7-A1DD-1BCBE813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04057-5A71-472A-B512-33F78538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01CB7-CBD0-49E5-AD2D-C37F2A30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E9949-409F-46E3-BBE4-EF1DF9C6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3F09A-5FBE-4AFF-A0C5-F88FA6AF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63CB4-CDA2-4A2C-A955-397B288E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F531D-03EC-462D-AF93-5413CDE1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F5521-8CFD-421D-983B-09DF4F6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6FB1E-8280-4B75-AF12-35762D5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88B26-9617-42ED-AA0E-39ABE8A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4E1B1-6ECF-460B-AE77-118654ED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27382-00CA-426F-9067-5078728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CBC58-DF6E-488B-BA49-C90E0276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9824A-7B4C-424A-9E97-AB92C7AE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0DCB5-164C-4D47-88C3-9DE61C00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C8B0C-B9B1-4D6B-837F-9DBAAB4E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FFD95-507E-407C-8A34-5C8031CC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F2C93-EB7A-4654-BF84-0CF0484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D95-C5AE-4F5F-933F-6F4CDC2766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C00-04E5-463A-BE30-0B10147BB4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2A2E-96E7-46E1-80B5-5224EB7049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C10-5E89-4C20-95B5-26D0845150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326-E585-4416-8F6C-D958B765C97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3B5B-9D12-4AE7-9AE6-454A6728DE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C53-0762-4721-9D3A-F527422F63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B03-BF2A-4F3C-9AA9-F0019EAB8D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631E-1468-4C0F-8A18-5BC1E3087B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ldNum" idx="7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BB47B67E-B29D-422F-8C00-69130439ED2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ldNum" idx="8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8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fld id="{6BCCFABF-1D07-4458-8F9C-E5B11B800FB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E49E-A472-4B24-859D-E1CBE4C3F87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E1D-AF2C-4C81-BE8C-57C0C3278F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795A-1397-47C7-BFEE-1D9AE8840D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CFC-9290-4665-A3A2-3966A4F3DF4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72,17,&#30693;&#35782;&#25299;&#23637;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72,17,&#30693;&#35782;&#25299;&#23637;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309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的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10920" y="1989000"/>
            <a:ext cx="79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用水测量时间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172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9999"/>
                </a:solidFill>
                <a:latin typeface="Arial"/>
              </a:rPr>
              <a:t>实验一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在瓶子中装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毫升水，观察并记录从瓶中漏出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毫升水需要多少时间？重复观察几次并记录。</a:t>
            </a:r>
            <a:br>
              <a:rPr sz="2100"/>
            </a:b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温馨提示：分工合作，细心操作，仔细观察，认真记录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250920" y="2924280"/>
          <a:ext cx="8280360" cy="3479760"/>
        </p:xfrm>
        <a:graphic>
          <a:graphicData uri="http://schemas.openxmlformats.org/drawingml/2006/table">
            <a:tbl>
              <a:tblPr/>
              <a:tblGrid>
                <a:gridCol w="1655640"/>
                <a:gridCol w="2448000"/>
                <a:gridCol w="2305080"/>
                <a:gridCol w="1871640"/>
              </a:tblGrid>
              <a:tr h="919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水    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第一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测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第二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测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平均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00</a:t>
                      </a: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毫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</a:t>
                      </a: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(  )</a:t>
                      </a: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分（ ）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 ）分 （ ）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</a:t>
                      </a: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）分（ ）秒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观察流水的速度，</a:t>
                      </a:r>
                      <a:r>
                        <a:rPr b="1" lang="zh-CN" sz="3100" spc="-1" strike="noStrike">
                          <a:solidFill>
                            <a:srgbClr val="cc0000"/>
                          </a:solidFill>
                          <a:latin typeface="Arial"/>
                          <a:ea typeface="华文细黑"/>
                        </a:rPr>
                        <a:t>你有什么发现吗？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Arial"/>
              </a:rPr>
              <a:t>实验三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用同样的漏杯装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毫升水，同样让水从瓶盖的小孔中漏出，并用量杯接住从漏杯中漏出的水。如果漏完全部的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毫升水，需要多少时间？我们的推测准确吗？</a:t>
            </a:r>
            <a:br>
              <a:rPr sz="2100"/>
            </a:b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温馨提示：</a:t>
            </a: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1</a:t>
            </a: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、先推测，把推测的结果记录下来，再动手实验。</a:t>
            </a:r>
            <a:br>
              <a:rPr sz="2100"/>
            </a:b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                  </a:t>
            </a: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ff66ff"/>
                </a:solidFill>
                <a:latin typeface="Arial"/>
              </a:rPr>
              <a:t>、分工合作，细心操作，仔细观察，认真记录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684360" y="2492280"/>
          <a:ext cx="7775280" cy="3746520"/>
        </p:xfrm>
        <a:graphic>
          <a:graphicData uri="http://schemas.openxmlformats.org/drawingml/2006/table">
            <a:tbl>
              <a:tblPr/>
              <a:tblGrid>
                <a:gridCol w="1555560"/>
                <a:gridCol w="1430280"/>
                <a:gridCol w="1527120"/>
                <a:gridCol w="1388880"/>
                <a:gridCol w="1873440"/>
              </a:tblGrid>
              <a:tr h="14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水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推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第一次测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第二次测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平均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）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）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）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（）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通过实验观察，</a:t>
                      </a:r>
                      <a:r>
                        <a:rPr b="1" lang="zh-CN" sz="3000" spc="-1" strike="noStrike">
                          <a:solidFill>
                            <a:srgbClr val="ff66ff"/>
                          </a:solidFill>
                          <a:latin typeface="Arial"/>
                          <a:ea typeface="华文细黑"/>
                        </a:rPr>
                        <a:t>流水的速度可能和什么有系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20040526084050"/>
          <p:cNvPicPr/>
          <p:nvPr/>
        </p:nvPicPr>
        <p:blipFill>
          <a:blip r:embed="rId1"/>
          <a:stretch/>
        </p:blipFill>
        <p:spPr>
          <a:xfrm>
            <a:off x="324000" y="115920"/>
            <a:ext cx="1820880" cy="194472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3"/>
          <p:cNvSpPr/>
          <p:nvPr/>
        </p:nvSpPr>
        <p:spPr>
          <a:xfrm>
            <a:off x="755640" y="1989000"/>
            <a:ext cx="734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水是以固定的速度往下流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能让水以固定的速度往下流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古人是怎样保持水钟里的水以固定的速度往下流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2b"/>
          <p:cNvPicPr/>
          <p:nvPr/>
        </p:nvPicPr>
        <p:blipFill>
          <a:blip r:embed="rId1"/>
          <a:stretch/>
        </p:blipFill>
        <p:spPr>
          <a:xfrm>
            <a:off x="212400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AutoShape 3"/>
          <p:cNvSpPr/>
          <p:nvPr/>
        </p:nvSpPr>
        <p:spPr>
          <a:xfrm flipV="1">
            <a:off x="6084720" y="1483560"/>
            <a:ext cx="1943280" cy="1800360"/>
          </a:xfrm>
          <a:prstGeom prst="wedgeRoundRectCallout">
            <a:avLst>
              <a:gd name="adj1" fmla="val -164055"/>
              <a:gd name="adj2" fmla="val -56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0" y="1773360"/>
            <a:ext cx="2195640" cy="1942920"/>
          </a:xfrm>
          <a:prstGeom prst="wedgeEllipseCallout">
            <a:avLst>
              <a:gd name="adj1" fmla="val 72125"/>
              <a:gd name="adj2" fmla="val 12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6300720" y="1628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盛水漏斗中的锥体是用来控制流水孔的大小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24000" y="2421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盛水漏斗边上的泄水孔是用来保持水位高低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design129_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76320">
            <a:solidFill>
              <a:srgbClr val="33cccc"/>
            </a:solidFill>
            <a:custDash>
              <a:ds d="100000" sp="1000"/>
            </a:custDash>
            <a:miter/>
          </a:ln>
        </p:spPr>
      </p:pic>
      <p:sp>
        <p:nvSpPr>
          <p:cNvPr id="695" name="Text Box 3"/>
          <p:cNvSpPr/>
          <p:nvPr/>
        </p:nvSpPr>
        <p:spPr>
          <a:xfrm>
            <a:off x="4643280" y="486900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想一想，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4"/>
          <p:cNvSpPr txBox="1"/>
          <p:nvPr/>
        </p:nvSpPr>
        <p:spPr>
          <a:xfrm>
            <a:off x="324000" y="1268280"/>
            <a:ext cx="82803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怎样设计制作一个每分钟滴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60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滴水的水钟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u=1934708695,841407276&amp;fm=0&amp;gp=0"/>
          <p:cNvPicPr/>
          <p:nvPr/>
        </p:nvPicPr>
        <p:blipFill>
          <a:blip r:embed="rId1"/>
          <a:stretch/>
        </p:blipFill>
        <p:spPr>
          <a:xfrm>
            <a:off x="395280" y="692280"/>
            <a:ext cx="4497480" cy="547344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3"/>
          <p:cNvSpPr/>
          <p:nvPr/>
        </p:nvSpPr>
        <p:spPr>
          <a:xfrm>
            <a:off x="5076720" y="234936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间如流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去不复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古代常说“一柱香”的时间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什么是火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什么是“沙钟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还有什么样的计时方法呢 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8200"/>
          <p:cNvSpPr/>
          <p:nvPr/>
        </p:nvSpPr>
        <p:spPr>
          <a:xfrm>
            <a:off x="1139760" y="8510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燃烧计时也有悠久的历史。我国古代有一种 “火闹钟”：把香放在一个船形的槽里，在香的某一点，用细线系上两个铜铃，横挂在放香的小“龙船”上。香从一头点起，烧到拴细线的地方把线烧断，两个铜铃就落在下面的金属盘里，人们听到响声，就知道预定的时刻到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在人们仍然使用着 “火钟”：引起炸药爆炸的各种导火索都是火钟，从点火到爆炸的时间是由导火索的长度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6877080" y="5300640"/>
            <a:ext cx="1150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沙漏是一种计时仪器，也叫沙钟。由于漏壶中的水受温度影响，为计时的准确性增加了困难，用水银作动力又很不经济，于是用一种新的材料 ——细沙来代替水和水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沙钟由上下两个相同的瓶子组成，中间用小口连在一起，上部瓶子所盛的细沙通过中间小口慢慢流入下部瓶中，这样上部瓶子细沙的平面渐渐降低，瓶子时间刻度就能显示出时间。这种沙钟的优点是可以两面使用，翻过来，就可以下部成为上部继续使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7524720" y="6093000"/>
            <a:ext cx="1150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2DCD-5928-4277-9C11-9D1900EA35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4" descr="design176_1024"/>
          <p:cNvPicPr/>
          <p:nvPr/>
        </p:nvPicPr>
        <p:blipFill>
          <a:blip r:embed="rId1"/>
          <a:stretch/>
        </p:blipFill>
        <p:spPr>
          <a:xfrm>
            <a:off x="-333360" y="0"/>
            <a:ext cx="9477360" cy="6858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日晷"/>
          <p:cNvPicPr/>
          <p:nvPr/>
        </p:nvPicPr>
        <p:blipFill>
          <a:blip r:embed="rId2"/>
          <a:stretch/>
        </p:blipFill>
        <p:spPr>
          <a:xfrm>
            <a:off x="6396120" y="333360"/>
            <a:ext cx="2747880" cy="367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3" name="Picture 6" descr="日晷1"/>
          <p:cNvPicPr/>
          <p:nvPr/>
        </p:nvPicPr>
        <p:blipFill>
          <a:blip r:embed="rId3"/>
          <a:stretch/>
        </p:blipFill>
        <p:spPr>
          <a:xfrm>
            <a:off x="0" y="404640"/>
            <a:ext cx="4313160" cy="554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4" name="Picture 7" descr="地平日晷"/>
          <p:cNvPicPr/>
          <p:nvPr/>
        </p:nvPicPr>
        <p:blipFill>
          <a:blip r:embed="rId4"/>
          <a:stretch/>
        </p:blipFill>
        <p:spPr>
          <a:xfrm>
            <a:off x="4405320" y="3789360"/>
            <a:ext cx="4032360" cy="29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5" name="WordArt 8"/>
          <p:cNvSpPr txBox="1"/>
          <p:nvPr/>
        </p:nvSpPr>
        <p:spPr>
          <a:xfrm rot="5400000">
            <a:off x="4211640" y="1484280"/>
            <a:ext cx="2448000" cy="100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日晷</a:t>
            </a:r>
            <a:endParaRPr b="0" lang="en-US" sz="1800" spc="1" strike="noStrike">
              <a:ln w="25560">
                <a:solidFill>
                  <a:srgbClr val="ffffff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57200" y="980640"/>
            <a:ext cx="8229600" cy="4319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灯钟：就是用油灯计时的装置，它是通过燃烧后油量的减少而指示出当时的时间的。蜡钟：蜡烛本身的燃料数量定好，燃烧时的速度也就基本相同。那么烧完一支蜡烛的时间也大体相同。如在蜡烛上刻上相应的刻度就可以计算简单的时间间隔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圭表"/>
          <p:cNvPicPr/>
          <p:nvPr/>
        </p:nvPicPr>
        <p:blipFill>
          <a:blip r:embed="rId1"/>
          <a:stretch/>
        </p:blipFill>
        <p:spPr>
          <a:xfrm>
            <a:off x="3924360" y="333360"/>
            <a:ext cx="4535280" cy="612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7" name="Text Box 3"/>
          <p:cNvSpPr/>
          <p:nvPr/>
        </p:nvSpPr>
        <p:spPr>
          <a:xfrm>
            <a:off x="2271960" y="2565360"/>
            <a:ext cx="1277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圭  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design176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沙漏"/>
          <p:cNvPicPr/>
          <p:nvPr/>
        </p:nvPicPr>
        <p:blipFill>
          <a:blip r:embed="rId2"/>
          <a:stretch/>
        </p:blipFill>
        <p:spPr>
          <a:xfrm>
            <a:off x="395280" y="260280"/>
            <a:ext cx="3313080" cy="453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2" name="Picture 6" descr="沙漏1"/>
          <p:cNvPicPr/>
          <p:nvPr/>
        </p:nvPicPr>
        <p:blipFill>
          <a:blip r:embed="rId3"/>
          <a:stretch/>
        </p:blipFill>
        <p:spPr>
          <a:xfrm>
            <a:off x="4932360" y="1916280"/>
            <a:ext cx="4062240" cy="43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3" name="Picture 7" descr="沙漏2"/>
          <p:cNvPicPr/>
          <p:nvPr/>
        </p:nvPicPr>
        <p:blipFill>
          <a:blip r:embed="rId4"/>
          <a:stretch/>
        </p:blipFill>
        <p:spPr>
          <a:xfrm>
            <a:off x="3348000" y="1125360"/>
            <a:ext cx="300852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4" name="WordArt 8"/>
          <p:cNvSpPr txBox="1"/>
          <p:nvPr/>
        </p:nvSpPr>
        <p:spPr>
          <a:xfrm>
            <a:off x="826920" y="5445000"/>
            <a:ext cx="252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沙  漏</a:t>
            </a:r>
            <a:endParaRPr b="0" lang="en-US" sz="1800" spc="1" strike="noStrike">
              <a:ln w="2556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250920" y="1773360"/>
            <a:ext cx="4319640" cy="3095640"/>
          </a:xfrm>
          <a:prstGeom prst="wedgeRoundRectCallout">
            <a:avLst>
              <a:gd name="adj1" fmla="val 48898"/>
              <a:gd name="adj2" fmla="val 59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800" spc="-1" strike="noStrike">
                <a:solidFill>
                  <a:srgbClr val="0066cc"/>
                </a:solidFill>
                <a:latin typeface="Arial"/>
              </a:rPr>
              <a:t>古代的水钟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9" descr="u=2245658078,1038753266&amp;fm=0&amp;gp=0[1]"/>
          <p:cNvPicPr/>
          <p:nvPr/>
        </p:nvPicPr>
        <p:blipFill>
          <a:blip r:embed="rId1"/>
          <a:stretch/>
        </p:blipFill>
        <p:spPr>
          <a:xfrm>
            <a:off x="4029120" y="3195720"/>
            <a:ext cx="1085760" cy="133344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835280" y="292428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684360" y="19162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水钟在我国古代又叫“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刻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，是根据滴水的等时性原理来计时的工具。滴水记时有两种方法：一种是用特殊容器记录</a:t>
            </a:r>
            <a:r>
              <a:rPr b="0" lang="zh-CN" sz="2000" spc="-1" strike="noStrike">
                <a:solidFill>
                  <a:srgbClr val="660033"/>
                </a:solidFill>
                <a:latin typeface="Arial"/>
              </a:rPr>
              <a:t>水漏完的时间（泄水型）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种是底部不开口的容器，记录</a:t>
            </a:r>
            <a:r>
              <a:rPr b="0" lang="zh-CN" sz="2000" spc="-1" strike="noStrike">
                <a:solidFill>
                  <a:srgbClr val="660033"/>
                </a:solidFill>
                <a:latin typeface="Arial"/>
              </a:rPr>
              <a:t>它用多少时间把水接满（受水型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国的水钟，最先是泄水型的，后来发展到泄水型与受水型同时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2b"/>
          <p:cNvPicPr/>
          <p:nvPr/>
        </p:nvPicPr>
        <p:blipFill>
          <a:blip r:embed="rId1"/>
          <a:stretch/>
        </p:blipFill>
        <p:spPr>
          <a:xfrm>
            <a:off x="-392040" y="-382680"/>
            <a:ext cx="5180040" cy="7412040"/>
          </a:xfrm>
          <a:prstGeom prst="rect">
            <a:avLst/>
          </a:prstGeom>
          <a:ln w="0">
            <a:noFill/>
          </a:ln>
        </p:spPr>
      </p:pic>
      <p:sp>
        <p:nvSpPr>
          <p:cNvPr id="674" name="AutoShape 3"/>
          <p:cNvSpPr/>
          <p:nvPr/>
        </p:nvSpPr>
        <p:spPr>
          <a:xfrm>
            <a:off x="4067280" y="2492280"/>
            <a:ext cx="4717800" cy="3961080"/>
          </a:xfrm>
          <a:prstGeom prst="wedgeRoundRectCallout">
            <a:avLst>
              <a:gd name="adj1" fmla="val -56157"/>
              <a:gd name="adj2" fmla="val -65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方正舒体"/>
              </a:rPr>
              <a:t>受水型水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140360" y="364500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滴以固定的速度滴入圆筒，使得浮标随水量的增加而逐渐上升，从而显示流逝的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667800" y="716040"/>
            <a:ext cx="4999320" cy="2400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a0e5c"/>
                </a:solidFill>
                <a:latin typeface="Arial"/>
              </a:rPr>
              <a:t>泄水型水钟</a:t>
            </a:r>
            <a:br>
              <a:rPr sz="5400"/>
            </a:b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容器内的水面随水的流出而下降，就可以测出过去了多少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2c"/>
          <p:cNvPicPr/>
          <p:nvPr/>
        </p:nvPicPr>
        <p:blipFill>
          <a:blip r:embed="rId1"/>
          <a:stretch/>
        </p:blipFill>
        <p:spPr>
          <a:xfrm>
            <a:off x="3543480" y="1990800"/>
            <a:ext cx="2057400" cy="3744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20040526084050"/>
          <p:cNvPicPr/>
          <p:nvPr/>
        </p:nvPicPr>
        <p:blipFill>
          <a:blip r:embed="rId1"/>
          <a:stretch/>
        </p:blipFill>
        <p:spPr>
          <a:xfrm>
            <a:off x="250920" y="333360"/>
            <a:ext cx="2160360" cy="2879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2771640" y="620640"/>
            <a:ext cx="561672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观察，你能解答下面的问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古代的水钟分为几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它们是如何报时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古人是怎样想到用流水来制成计时的工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水钟”的制作必须解决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验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用一个量杯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漏杯固定在铁架台合适的位置，漏杯盖的正下方放另一个量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手指抵住漏杯的小孔，再把量好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水全部倒入漏杯中，然后松开手指让水流入量杯中，同时计时，当积聚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升水时停止计时，把时间记录在“实验记录单”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2:3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20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