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gif" ContentType="image/gif"/>
  <Override PartName="/ppt/media/image21.gif" ContentType="image/gif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5.jpeg" ContentType="image/jpeg"/>
  <Override PartName="/ppt/media/image26.jpeg" ContentType="image/jpeg"/>
  <Override PartName="/ppt/media/msg.wav" ContentType="audio/x-wav"/>
  <Override PartName="/ppt/media/image12.jpeg" ContentType="image/jpeg"/>
  <Override PartName="/ppt/media/image34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gif" ContentType="image/gif"/>
  <Override PartName="/ppt/media/image33.png" ContentType="image/png"/>
  <Override PartName="/ppt/media/image31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656-F23A-41F0-B5C5-01196B08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10E-4B70-4259-B6DA-8DEAACF2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806-50C5-4E6F-8C06-7ECF9B41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BB7-625D-4795-A94A-5628D6D4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B89A-F10B-40A8-9844-1498EE02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88B1-CE3D-4AAE-B368-49AF6F94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E57C-3DF9-447D-BB91-6405DEED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76F0-D712-4887-86BE-03BDACEC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0ED0-7463-43E2-B974-1B2EDEE0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1165-E571-439E-88D1-41CC2A3F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1757-F436-4983-B4C0-681E2E47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D53-33A7-413A-BE10-586EEC77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6897-2CD3-424F-AC66-A184CB86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F604-421D-49EB-A506-8F6AB5AA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A4B2-1C4B-4296-8602-0D55C946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C707-5D3B-47CC-9A0A-2A943919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C2EC-4304-4D11-9845-BB42FB30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061F8-4C54-4980-BECE-0F713A1D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6A746-88DB-4E6A-A06D-4A1E8FE0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2C16A-7A63-447D-BA19-1F3C8B07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759A-F908-46B8-A3CC-20C44EDF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6BF4E-F85A-41EE-8896-AC18D0BE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E5F-68BF-4783-8D59-C1633B8E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F76C-D70A-414C-B9BD-8825E075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16EF2-25B2-446D-8A66-7110FEA9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85F9-1411-4580-984F-5C6920FE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1288A-459D-4A94-B9C6-76A7C3CF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BC096-4BDB-42B3-9DB5-3324A5A9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2FA6C-9B98-4C2A-ABD9-F9E39527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7B86B-0CDC-4775-9630-AD8318C8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7F2C-0E50-41F3-BC6B-3F9BBC45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696A0-57F0-45F0-BB4D-75296569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C7518-DEB0-46E7-B747-4F91BC7C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5B52-193B-4B06-BA65-D59E1998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3275A-DB8D-4578-95DB-B3E2D849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6DC11-596B-4353-83F7-0CD50CD1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A409-25D7-4CD5-BBFB-0E9C86D4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2D4FA-B3A7-4E30-B379-FEB0D4EB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BC502-79AA-48E5-B683-24EC4CDA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3E7B3-2477-4D69-B25A-1CCA5771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D4F35-3EDF-4583-A288-B285BF81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760F6-6074-4C0D-8C95-CF98B6C4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74515-5A30-4751-859A-A793FDC8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BB7-8980-4440-9EE2-97F09E3F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B92-F08F-4C6C-A75E-CF6C7FEF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4D9-3838-46B4-8255-3965C5CB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B83-FB7C-4F0F-885A-1FF063C1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2DB-D921-4DFE-8F57-6BCE5398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A4FD-43FB-43ED-9948-2805ECAC4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F7A6-1D70-401E-B406-3029E82D0A5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5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1CBC-78E1-48A6-BA98-943B3AE4F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7282-9AD2-472B-AB7A-CE047D80B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273,20,&#24187;&#28783;&#29255; 20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hyperlink" Target="../../../&#31038;&#20250;.ppt" TargetMode="External"/><Relationship Id="rId5" Type="http://schemas.openxmlformats.org/officeDocument/2006/relationships/hyperlink" Target="../../../&#23398;&#26657;.ppt" TargetMode="External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msg.wav"/><Relationship Id="rId3" Type="http://schemas.openxmlformats.org/officeDocument/2006/relationships/audio" Target="../media/msg.wav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WordArt 3"/>
          <p:cNvSpPr txBox="1"/>
          <p:nvPr/>
        </p:nvSpPr>
        <p:spPr>
          <a:xfrm>
            <a:off x="1279440" y="1557360"/>
            <a:ext cx="6913800" cy="12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隐私和隐私权课件</a:t>
            </a:r>
            <a:r>
              <a:rPr b="1" lang="en-US" sz="36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PPT</a:t>
            </a:r>
            <a:r>
              <a:rPr b="1" lang="zh-CN" sz="36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模板下载</a:t>
            </a:r>
            <a:endParaRPr b="1" lang="en-US" sz="3600" spc="-1" strike="noStrike">
              <a:ln w="0">
                <a:noFill/>
              </a:ln>
              <a:solidFill>
                <a:srgbClr val="c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6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imagesCAW0X209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6408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images"/>
          <p:cNvPicPr/>
          <p:nvPr/>
        </p:nvPicPr>
        <p:blipFill>
          <a:blip r:embed="rId2"/>
          <a:stretch/>
        </p:blipFill>
        <p:spPr>
          <a:xfrm>
            <a:off x="4500720" y="189000"/>
            <a:ext cx="4464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1276"/>
          <p:cNvSpPr/>
          <p:nvPr/>
        </p:nvSpPr>
        <p:spPr>
          <a:xfrm>
            <a:off x="0" y="-630360"/>
            <a:ext cx="2070000" cy="1544760"/>
          </a:xfrm>
          <a:custGeom>
            <a:avLst/>
            <a:gdLst/>
            <a:ahLst/>
            <a:rect l="l" t="t" r="r" b="b"/>
            <a:pathLst>
              <a:path w="642" h="479">
                <a:moveTo>
                  <a:pt x="524" y="435"/>
                </a:moveTo>
                <a:cubicBezTo>
                  <a:pt x="539" y="424"/>
                  <a:pt x="557" y="404"/>
                  <a:pt x="553" y="374"/>
                </a:cubicBezTo>
                <a:cubicBezTo>
                  <a:pt x="548" y="335"/>
                  <a:pt x="539" y="313"/>
                  <a:pt x="524" y="297"/>
                </a:cubicBezTo>
                <a:cubicBezTo>
                  <a:pt x="524" y="435"/>
                  <a:pt x="524" y="435"/>
                  <a:pt x="524" y="435"/>
                </a:cubicBezTo>
                <a:close/>
                <a:moveTo>
                  <a:pt x="524" y="278"/>
                </a:moveTo>
                <a:cubicBezTo>
                  <a:pt x="529" y="281"/>
                  <a:pt x="534" y="282"/>
                  <a:pt x="537" y="283"/>
                </a:cubicBezTo>
                <a:cubicBezTo>
                  <a:pt x="562" y="287"/>
                  <a:pt x="578" y="271"/>
                  <a:pt x="588" y="265"/>
                </a:cubicBezTo>
                <a:cubicBezTo>
                  <a:pt x="597" y="259"/>
                  <a:pt x="608" y="265"/>
                  <a:pt x="608" y="265"/>
                </a:cubicBezTo>
                <a:cubicBezTo>
                  <a:pt x="608" y="265"/>
                  <a:pt x="603" y="247"/>
                  <a:pt x="588" y="247"/>
                </a:cubicBezTo>
                <a:cubicBezTo>
                  <a:pt x="574" y="247"/>
                  <a:pt x="557" y="256"/>
                  <a:pt x="550" y="248"/>
                </a:cubicBezTo>
                <a:cubicBezTo>
                  <a:pt x="543" y="239"/>
                  <a:pt x="580" y="233"/>
                  <a:pt x="585" y="230"/>
                </a:cubicBezTo>
                <a:cubicBezTo>
                  <a:pt x="591" y="227"/>
                  <a:pt x="619" y="203"/>
                  <a:pt x="623" y="188"/>
                </a:cubicBezTo>
                <a:cubicBezTo>
                  <a:pt x="629" y="174"/>
                  <a:pt x="628" y="174"/>
                  <a:pt x="628" y="174"/>
                </a:cubicBezTo>
                <a:cubicBezTo>
                  <a:pt x="628" y="174"/>
                  <a:pt x="632" y="172"/>
                  <a:pt x="635" y="168"/>
                </a:cubicBezTo>
                <a:cubicBezTo>
                  <a:pt x="640" y="162"/>
                  <a:pt x="642" y="156"/>
                  <a:pt x="642" y="150"/>
                </a:cubicBezTo>
                <a:cubicBezTo>
                  <a:pt x="642" y="149"/>
                  <a:pt x="642" y="149"/>
                  <a:pt x="642" y="149"/>
                </a:cubicBezTo>
                <a:cubicBezTo>
                  <a:pt x="642" y="147"/>
                  <a:pt x="642" y="147"/>
                  <a:pt x="642" y="147"/>
                </a:cubicBezTo>
                <a:cubicBezTo>
                  <a:pt x="642" y="137"/>
                  <a:pt x="636" y="125"/>
                  <a:pt x="628" y="120"/>
                </a:cubicBezTo>
                <a:cubicBezTo>
                  <a:pt x="628" y="120"/>
                  <a:pt x="630" y="114"/>
                  <a:pt x="625" y="112"/>
                </a:cubicBezTo>
                <a:cubicBezTo>
                  <a:pt x="620" y="110"/>
                  <a:pt x="609" y="109"/>
                  <a:pt x="608" y="119"/>
                </a:cubicBezTo>
                <a:cubicBezTo>
                  <a:pt x="608" y="122"/>
                  <a:pt x="608" y="125"/>
                  <a:pt x="610" y="127"/>
                </a:cubicBezTo>
                <a:cubicBezTo>
                  <a:pt x="611" y="129"/>
                  <a:pt x="614" y="131"/>
                  <a:pt x="618" y="130"/>
                </a:cubicBezTo>
                <a:cubicBezTo>
                  <a:pt x="623" y="130"/>
                  <a:pt x="627" y="125"/>
                  <a:pt x="627" y="123"/>
                </a:cubicBezTo>
                <a:cubicBezTo>
                  <a:pt x="630" y="125"/>
                  <a:pt x="632" y="128"/>
                  <a:pt x="635" y="132"/>
                </a:cubicBezTo>
                <a:cubicBezTo>
                  <a:pt x="637" y="135"/>
                  <a:pt x="639" y="140"/>
                  <a:pt x="639" y="145"/>
                </a:cubicBezTo>
                <a:cubicBezTo>
                  <a:pt x="640" y="154"/>
                  <a:pt x="636" y="163"/>
                  <a:pt x="625" y="168"/>
                </a:cubicBezTo>
                <a:cubicBezTo>
                  <a:pt x="618" y="171"/>
                  <a:pt x="606" y="171"/>
                  <a:pt x="601" y="164"/>
                </a:cubicBezTo>
                <a:cubicBezTo>
                  <a:pt x="596" y="157"/>
                  <a:pt x="585" y="151"/>
                  <a:pt x="571" y="151"/>
                </a:cubicBezTo>
                <a:cubicBezTo>
                  <a:pt x="556" y="152"/>
                  <a:pt x="530" y="159"/>
                  <a:pt x="529" y="160"/>
                </a:cubicBezTo>
                <a:cubicBezTo>
                  <a:pt x="528" y="160"/>
                  <a:pt x="526" y="161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526" y="208"/>
                  <a:pt x="529" y="207"/>
                  <a:pt x="531" y="206"/>
                </a:cubicBezTo>
                <a:cubicBezTo>
                  <a:pt x="565" y="195"/>
                  <a:pt x="586" y="189"/>
                  <a:pt x="586" y="189"/>
                </a:cubicBezTo>
                <a:cubicBezTo>
                  <a:pt x="567" y="202"/>
                  <a:pt x="546" y="211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lose/>
                <a:moveTo>
                  <a:pt x="524" y="157"/>
                </a:moveTo>
                <a:cubicBezTo>
                  <a:pt x="524" y="116"/>
                  <a:pt x="524" y="116"/>
                  <a:pt x="524" y="116"/>
                </a:cubicBezTo>
                <a:cubicBezTo>
                  <a:pt x="538" y="114"/>
                  <a:pt x="549" y="113"/>
                  <a:pt x="551" y="113"/>
                </a:cubicBezTo>
                <a:cubicBezTo>
                  <a:pt x="554" y="112"/>
                  <a:pt x="562" y="95"/>
                  <a:pt x="562" y="95"/>
                </a:cubicBezTo>
                <a:cubicBezTo>
                  <a:pt x="562" y="95"/>
                  <a:pt x="562" y="99"/>
                  <a:pt x="560" y="108"/>
                </a:cubicBezTo>
                <a:cubicBezTo>
                  <a:pt x="558" y="116"/>
                  <a:pt x="552" y="128"/>
                  <a:pt x="546" y="133"/>
                </a:cubicBezTo>
                <a:cubicBezTo>
                  <a:pt x="542" y="137"/>
                  <a:pt x="531" y="149"/>
                  <a:pt x="524" y="157"/>
                </a:cubicBezTo>
                <a:close/>
                <a:moveTo>
                  <a:pt x="455" y="452"/>
                </a:moveTo>
                <a:cubicBezTo>
                  <a:pt x="466" y="463"/>
                  <a:pt x="468" y="463"/>
                  <a:pt x="468" y="463"/>
                </a:cubicBezTo>
                <a:cubicBezTo>
                  <a:pt x="468" y="463"/>
                  <a:pt x="477" y="436"/>
                  <a:pt x="477" y="427"/>
                </a:cubicBezTo>
                <a:cubicBezTo>
                  <a:pt x="477" y="417"/>
                  <a:pt x="468" y="401"/>
                  <a:pt x="479" y="403"/>
                </a:cubicBezTo>
                <a:cubicBezTo>
                  <a:pt x="491" y="405"/>
                  <a:pt x="508" y="445"/>
                  <a:pt x="508" y="445"/>
                </a:cubicBezTo>
                <a:cubicBezTo>
                  <a:pt x="508" y="445"/>
                  <a:pt x="515" y="442"/>
                  <a:pt x="524" y="435"/>
                </a:cubicBezTo>
                <a:cubicBezTo>
                  <a:pt x="524" y="297"/>
                  <a:pt x="524" y="297"/>
                  <a:pt x="524" y="297"/>
                </a:cubicBezTo>
                <a:cubicBezTo>
                  <a:pt x="520" y="292"/>
                  <a:pt x="516" y="289"/>
                  <a:pt x="511" y="285"/>
                </a:cubicBezTo>
                <a:cubicBezTo>
                  <a:pt x="496" y="275"/>
                  <a:pt x="472" y="263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62" y="283"/>
                  <a:pt x="468" y="289"/>
                  <a:pt x="472" y="295"/>
                </a:cubicBezTo>
                <a:cubicBezTo>
                  <a:pt x="487" y="320"/>
                  <a:pt x="497" y="353"/>
                  <a:pt x="497" y="353"/>
                </a:cubicBezTo>
                <a:cubicBezTo>
                  <a:pt x="497" y="353"/>
                  <a:pt x="479" y="319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lose/>
                <a:moveTo>
                  <a:pt x="455" y="233"/>
                </a:moveTo>
                <a:cubicBezTo>
                  <a:pt x="455" y="158"/>
                  <a:pt x="455" y="158"/>
                  <a:pt x="455" y="158"/>
                </a:cubicBezTo>
                <a:cubicBezTo>
                  <a:pt x="463" y="144"/>
                  <a:pt x="479" y="135"/>
                  <a:pt x="495" y="125"/>
                </a:cubicBezTo>
                <a:cubicBezTo>
                  <a:pt x="504" y="121"/>
                  <a:pt x="515" y="118"/>
                  <a:pt x="524" y="116"/>
                </a:cubicBezTo>
                <a:cubicBezTo>
                  <a:pt x="524" y="157"/>
                  <a:pt x="524" y="157"/>
                  <a:pt x="524" y="157"/>
                </a:cubicBezTo>
                <a:cubicBezTo>
                  <a:pt x="520" y="162"/>
                  <a:pt x="517" y="166"/>
                  <a:pt x="517" y="166"/>
                </a:cubicBezTo>
                <a:cubicBezTo>
                  <a:pt x="517" y="166"/>
                  <a:pt x="521" y="164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492" y="218"/>
                  <a:pt x="462" y="222"/>
                  <a:pt x="462" y="222"/>
                </a:cubicBezTo>
                <a:cubicBezTo>
                  <a:pt x="473" y="224"/>
                  <a:pt x="484" y="224"/>
                  <a:pt x="494" y="223"/>
                </a:cubicBezTo>
                <a:cubicBezTo>
                  <a:pt x="505" y="222"/>
                  <a:pt x="515" y="220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ubicBezTo>
                  <a:pt x="502" y="268"/>
                  <a:pt x="473" y="242"/>
                  <a:pt x="459" y="234"/>
                </a:cubicBezTo>
                <a:cubicBezTo>
                  <a:pt x="458" y="234"/>
                  <a:pt x="456" y="233"/>
                  <a:pt x="455" y="233"/>
                </a:cubicBezTo>
                <a:close/>
                <a:moveTo>
                  <a:pt x="388" y="453"/>
                </a:moveTo>
                <a:cubicBezTo>
                  <a:pt x="392" y="456"/>
                  <a:pt x="396" y="458"/>
                  <a:pt x="400" y="460"/>
                </a:cubicBezTo>
                <a:cubicBezTo>
                  <a:pt x="407" y="463"/>
                  <a:pt x="414" y="460"/>
                  <a:pt x="418" y="456"/>
                </a:cubicBezTo>
                <a:cubicBezTo>
                  <a:pt x="423" y="450"/>
                  <a:pt x="424" y="441"/>
                  <a:pt x="414" y="437"/>
                </a:cubicBezTo>
                <a:cubicBezTo>
                  <a:pt x="405" y="433"/>
                  <a:pt x="398" y="433"/>
                  <a:pt x="398" y="433"/>
                </a:cubicBezTo>
                <a:cubicBezTo>
                  <a:pt x="398" y="433"/>
                  <a:pt x="399" y="437"/>
                  <a:pt x="406" y="439"/>
                </a:cubicBezTo>
                <a:cubicBezTo>
                  <a:pt x="416" y="442"/>
                  <a:pt x="419" y="448"/>
                  <a:pt x="416" y="452"/>
                </a:cubicBezTo>
                <a:cubicBezTo>
                  <a:pt x="410" y="460"/>
                  <a:pt x="401" y="457"/>
                  <a:pt x="393" y="452"/>
                </a:cubicBezTo>
                <a:cubicBezTo>
                  <a:pt x="391" y="451"/>
                  <a:pt x="390" y="450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lose/>
                <a:moveTo>
                  <a:pt x="388" y="316"/>
                </a:moveTo>
                <a:cubicBezTo>
                  <a:pt x="388" y="134"/>
                  <a:pt x="388" y="134"/>
                  <a:pt x="388" y="134"/>
                </a:cubicBezTo>
                <a:cubicBezTo>
                  <a:pt x="400" y="164"/>
                  <a:pt x="392" y="227"/>
                  <a:pt x="392" y="227"/>
                </a:cubicBezTo>
                <a:cubicBezTo>
                  <a:pt x="411" y="212"/>
                  <a:pt x="409" y="175"/>
                  <a:pt x="399" y="144"/>
                </a:cubicBezTo>
                <a:cubicBezTo>
                  <a:pt x="396" y="134"/>
                  <a:pt x="393" y="125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92" y="31"/>
                  <a:pt x="395" y="33"/>
                  <a:pt x="398" y="35"/>
                </a:cubicBezTo>
                <a:cubicBezTo>
                  <a:pt x="418" y="50"/>
                  <a:pt x="427" y="78"/>
                  <a:pt x="436" y="107"/>
                </a:cubicBezTo>
                <a:cubicBezTo>
                  <a:pt x="445" y="136"/>
                  <a:pt x="426" y="188"/>
                  <a:pt x="420" y="197"/>
                </a:cubicBezTo>
                <a:cubicBezTo>
                  <a:pt x="414" y="206"/>
                  <a:pt x="424" y="228"/>
                  <a:pt x="424" y="228"/>
                </a:cubicBezTo>
                <a:cubicBezTo>
                  <a:pt x="424" y="228"/>
                  <a:pt x="440" y="218"/>
                  <a:pt x="445" y="213"/>
                </a:cubicBezTo>
                <a:cubicBezTo>
                  <a:pt x="449" y="208"/>
                  <a:pt x="446" y="189"/>
                  <a:pt x="451" y="169"/>
                </a:cubicBezTo>
                <a:cubicBezTo>
                  <a:pt x="452" y="165"/>
                  <a:pt x="453" y="161"/>
                  <a:pt x="455" y="158"/>
                </a:cubicBezTo>
                <a:cubicBezTo>
                  <a:pt x="455" y="233"/>
                  <a:pt x="455" y="233"/>
                  <a:pt x="455" y="233"/>
                </a:cubicBezTo>
                <a:cubicBezTo>
                  <a:pt x="441" y="228"/>
                  <a:pt x="439" y="248"/>
                  <a:pt x="439" y="248"/>
                </a:cubicBezTo>
                <a:cubicBezTo>
                  <a:pt x="439" y="248"/>
                  <a:pt x="446" y="251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37" y="261"/>
                  <a:pt x="414" y="251"/>
                  <a:pt x="414" y="251"/>
                </a:cubicBezTo>
                <a:cubicBezTo>
                  <a:pt x="414" y="251"/>
                  <a:pt x="428" y="260"/>
                  <a:pt x="453" y="289"/>
                </a:cubicBezTo>
                <a:cubicBezTo>
                  <a:pt x="454" y="290"/>
                  <a:pt x="454" y="291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ubicBezTo>
                  <a:pt x="453" y="449"/>
                  <a:pt x="451" y="447"/>
                  <a:pt x="448" y="443"/>
                </a:cubicBezTo>
                <a:cubicBezTo>
                  <a:pt x="432" y="424"/>
                  <a:pt x="413" y="371"/>
                  <a:pt x="412" y="365"/>
                </a:cubicBezTo>
                <a:cubicBezTo>
                  <a:pt x="411" y="358"/>
                  <a:pt x="410" y="299"/>
                  <a:pt x="403" y="292"/>
                </a:cubicBezTo>
                <a:cubicBezTo>
                  <a:pt x="396" y="286"/>
                  <a:pt x="394" y="306"/>
                  <a:pt x="388" y="316"/>
                </a:cubicBezTo>
                <a:close/>
                <a:moveTo>
                  <a:pt x="341" y="182"/>
                </a:moveTo>
                <a:cubicBezTo>
                  <a:pt x="344" y="185"/>
                  <a:pt x="346" y="187"/>
                  <a:pt x="348" y="188"/>
                </a:cubicBezTo>
                <a:cubicBezTo>
                  <a:pt x="355" y="193"/>
                  <a:pt x="363" y="206"/>
                  <a:pt x="352" y="206"/>
                </a:cubicBezTo>
                <a:cubicBezTo>
                  <a:pt x="349" y="206"/>
                  <a:pt x="346" y="205"/>
                  <a:pt x="341" y="203"/>
                </a:cubicBezTo>
                <a:cubicBezTo>
                  <a:pt x="341" y="230"/>
                  <a:pt x="341" y="230"/>
                  <a:pt x="341" y="230"/>
                </a:cubicBezTo>
                <a:cubicBezTo>
                  <a:pt x="358" y="238"/>
                  <a:pt x="370" y="244"/>
                  <a:pt x="367" y="243"/>
                </a:cubicBezTo>
                <a:cubicBezTo>
                  <a:pt x="358" y="240"/>
                  <a:pt x="349" y="238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49" y="269"/>
                  <a:pt x="357" y="264"/>
                  <a:pt x="357" y="264"/>
                </a:cubicBezTo>
                <a:cubicBezTo>
                  <a:pt x="357" y="264"/>
                  <a:pt x="350" y="277"/>
                  <a:pt x="344" y="288"/>
                </a:cubicBezTo>
                <a:cubicBezTo>
                  <a:pt x="343" y="290"/>
                  <a:pt x="342" y="29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57" y="357"/>
                  <a:pt x="382" y="327"/>
                  <a:pt x="388" y="317"/>
                </a:cubicBezTo>
                <a:cubicBezTo>
                  <a:pt x="388" y="317"/>
                  <a:pt x="388" y="317"/>
                  <a:pt x="388" y="316"/>
                </a:cubicBezTo>
                <a:cubicBezTo>
                  <a:pt x="388" y="134"/>
                  <a:pt x="388" y="134"/>
                  <a:pt x="388" y="134"/>
                </a:cubicBezTo>
                <a:cubicBezTo>
                  <a:pt x="388" y="134"/>
                  <a:pt x="388" y="134"/>
                  <a:pt x="388" y="133"/>
                </a:cubicBezTo>
                <a:cubicBezTo>
                  <a:pt x="376" y="104"/>
                  <a:pt x="371" y="98"/>
                  <a:pt x="371" y="98"/>
                </a:cubicBezTo>
                <a:cubicBezTo>
                  <a:pt x="376" y="98"/>
                  <a:pt x="383" y="106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69" y="15"/>
                  <a:pt x="347" y="0"/>
                  <a:pt x="347" y="0"/>
                </a:cubicBezTo>
                <a:cubicBezTo>
                  <a:pt x="347" y="0"/>
                  <a:pt x="360" y="22"/>
                  <a:pt x="353" y="28"/>
                </a:cubicBezTo>
                <a:cubicBezTo>
                  <a:pt x="348" y="32"/>
                  <a:pt x="344" y="31"/>
                  <a:pt x="341" y="28"/>
                </a:cubicBezTo>
                <a:cubicBezTo>
                  <a:pt x="341" y="182"/>
                  <a:pt x="341" y="182"/>
                  <a:pt x="341" y="182"/>
                </a:cubicBezTo>
                <a:close/>
                <a:moveTo>
                  <a:pt x="341" y="459"/>
                </a:moveTo>
                <a:cubicBezTo>
                  <a:pt x="351" y="479"/>
                  <a:pt x="351" y="479"/>
                  <a:pt x="351" y="479"/>
                </a:cubicBezTo>
                <a:cubicBezTo>
                  <a:pt x="351" y="479"/>
                  <a:pt x="364" y="478"/>
                  <a:pt x="359" y="466"/>
                </a:cubicBezTo>
                <a:cubicBezTo>
                  <a:pt x="355" y="459"/>
                  <a:pt x="350" y="448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lose/>
                <a:moveTo>
                  <a:pt x="341" y="411"/>
                </a:moveTo>
                <a:cubicBezTo>
                  <a:pt x="341" y="404"/>
                  <a:pt x="341" y="404"/>
                  <a:pt x="341" y="404"/>
                </a:cubicBezTo>
                <a:cubicBezTo>
                  <a:pt x="345" y="405"/>
                  <a:pt x="349" y="406"/>
                  <a:pt x="353" y="407"/>
                </a:cubicBezTo>
                <a:cubicBezTo>
                  <a:pt x="375" y="413"/>
                  <a:pt x="375" y="431"/>
                  <a:pt x="377" y="435"/>
                </a:cubicBezTo>
                <a:cubicBezTo>
                  <a:pt x="378" y="438"/>
                  <a:pt x="383" y="443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ubicBezTo>
                  <a:pt x="384" y="450"/>
                  <a:pt x="381" y="447"/>
                  <a:pt x="381" y="447"/>
                </a:cubicBezTo>
                <a:cubicBezTo>
                  <a:pt x="381" y="447"/>
                  <a:pt x="380" y="452"/>
                  <a:pt x="378" y="460"/>
                </a:cubicBezTo>
                <a:cubicBezTo>
                  <a:pt x="376" y="468"/>
                  <a:pt x="364" y="477"/>
                  <a:pt x="364" y="477"/>
                </a:cubicBezTo>
                <a:cubicBezTo>
                  <a:pt x="364" y="477"/>
                  <a:pt x="376" y="452"/>
                  <a:pt x="376" y="445"/>
                </a:cubicBezTo>
                <a:cubicBezTo>
                  <a:pt x="376" y="439"/>
                  <a:pt x="375" y="438"/>
                  <a:pt x="370" y="439"/>
                </a:cubicBezTo>
                <a:cubicBezTo>
                  <a:pt x="366" y="439"/>
                  <a:pt x="369" y="431"/>
                  <a:pt x="369" y="431"/>
                </a:cubicBezTo>
                <a:cubicBezTo>
                  <a:pt x="370" y="421"/>
                  <a:pt x="360" y="415"/>
                  <a:pt x="347" y="412"/>
                </a:cubicBezTo>
                <a:cubicBezTo>
                  <a:pt x="345" y="412"/>
                  <a:pt x="343" y="411"/>
                  <a:pt x="341" y="411"/>
                </a:cubicBezTo>
                <a:close/>
                <a:moveTo>
                  <a:pt x="296" y="12"/>
                </a:moveTo>
                <a:cubicBezTo>
                  <a:pt x="296" y="12"/>
                  <a:pt x="301" y="26"/>
                  <a:pt x="295" y="34"/>
                </a:cubicBezTo>
                <a:cubicBezTo>
                  <a:pt x="289" y="42"/>
                  <a:pt x="274" y="89"/>
                  <a:pt x="297" y="127"/>
                </a:cubicBezTo>
                <a:cubicBezTo>
                  <a:pt x="315" y="158"/>
                  <a:pt x="331" y="174"/>
                  <a:pt x="341" y="182"/>
                </a:cubicBezTo>
                <a:cubicBezTo>
                  <a:pt x="341" y="28"/>
                  <a:pt x="341" y="28"/>
                  <a:pt x="341" y="28"/>
                </a:cubicBezTo>
                <a:cubicBezTo>
                  <a:pt x="340" y="26"/>
                  <a:pt x="339" y="24"/>
                  <a:pt x="338" y="22"/>
                </a:cubicBezTo>
                <a:cubicBezTo>
                  <a:pt x="335" y="16"/>
                  <a:pt x="329" y="6"/>
                  <a:pt x="329" y="6"/>
                </a:cubicBezTo>
                <a:cubicBezTo>
                  <a:pt x="329" y="6"/>
                  <a:pt x="338" y="28"/>
                  <a:pt x="334" y="32"/>
                </a:cubicBezTo>
                <a:cubicBezTo>
                  <a:pt x="330" y="37"/>
                  <a:pt x="324" y="43"/>
                  <a:pt x="319" y="36"/>
                </a:cubicBezTo>
                <a:cubicBezTo>
                  <a:pt x="313" y="28"/>
                  <a:pt x="311" y="20"/>
                  <a:pt x="306" y="16"/>
                </a:cubicBezTo>
                <a:cubicBezTo>
                  <a:pt x="302" y="13"/>
                  <a:pt x="296" y="12"/>
                  <a:pt x="296" y="12"/>
                </a:cubicBezTo>
                <a:close/>
                <a:moveTo>
                  <a:pt x="341" y="203"/>
                </a:moveTo>
                <a:cubicBezTo>
                  <a:pt x="341" y="230"/>
                  <a:pt x="341" y="230"/>
                  <a:pt x="341" y="230"/>
                </a:cubicBezTo>
                <a:cubicBezTo>
                  <a:pt x="308" y="215"/>
                  <a:pt x="259" y="193"/>
                  <a:pt x="273" y="202"/>
                </a:cubicBezTo>
                <a:cubicBezTo>
                  <a:pt x="294" y="216"/>
                  <a:pt x="313" y="227"/>
                  <a:pt x="337" y="234"/>
                </a:cubicBezTo>
                <a:cubicBezTo>
                  <a:pt x="338" y="234"/>
                  <a:pt x="340" y="235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37" y="284"/>
                  <a:pt x="332" y="292"/>
                  <a:pt x="330" y="301"/>
                </a:cubicBezTo>
                <a:cubicBezTo>
                  <a:pt x="324" y="326"/>
                  <a:pt x="325" y="351"/>
                  <a:pt x="325" y="351"/>
                </a:cubicBezTo>
                <a:cubicBezTo>
                  <a:pt x="325" y="351"/>
                  <a:pt x="335" y="31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41" y="359"/>
                  <a:pt x="340" y="359"/>
                  <a:pt x="339" y="359"/>
                </a:cubicBezTo>
                <a:cubicBezTo>
                  <a:pt x="324" y="359"/>
                  <a:pt x="326" y="377"/>
                  <a:pt x="326" y="377"/>
                </a:cubicBezTo>
                <a:cubicBezTo>
                  <a:pt x="326" y="377"/>
                  <a:pt x="313" y="365"/>
                  <a:pt x="308" y="338"/>
                </a:cubicBezTo>
                <a:cubicBezTo>
                  <a:pt x="305" y="313"/>
                  <a:pt x="323" y="278"/>
                  <a:pt x="328" y="269"/>
                </a:cubicBezTo>
                <a:cubicBezTo>
                  <a:pt x="321" y="270"/>
                  <a:pt x="310" y="272"/>
                  <a:pt x="300" y="275"/>
                </a:cubicBezTo>
                <a:cubicBezTo>
                  <a:pt x="289" y="279"/>
                  <a:pt x="281" y="283"/>
                  <a:pt x="276" y="288"/>
                </a:cubicBezTo>
                <a:cubicBezTo>
                  <a:pt x="270" y="294"/>
                  <a:pt x="266" y="302"/>
                  <a:pt x="264" y="313"/>
                </a:cubicBezTo>
                <a:cubicBezTo>
                  <a:pt x="264" y="313"/>
                  <a:pt x="270" y="310"/>
                  <a:pt x="275" y="311"/>
                </a:cubicBezTo>
                <a:cubicBezTo>
                  <a:pt x="280" y="312"/>
                  <a:pt x="275" y="322"/>
                  <a:pt x="272" y="323"/>
                </a:cubicBezTo>
                <a:cubicBezTo>
                  <a:pt x="269" y="324"/>
                  <a:pt x="261" y="318"/>
                  <a:pt x="261" y="318"/>
                </a:cubicBezTo>
                <a:cubicBezTo>
                  <a:pt x="256" y="334"/>
                  <a:pt x="259" y="406"/>
                  <a:pt x="296" y="405"/>
                </a:cubicBezTo>
                <a:cubicBezTo>
                  <a:pt x="313" y="405"/>
                  <a:pt x="326" y="402"/>
                  <a:pt x="341" y="404"/>
                </a:cubicBezTo>
                <a:cubicBezTo>
                  <a:pt x="341" y="411"/>
                  <a:pt x="341" y="411"/>
                  <a:pt x="341" y="411"/>
                </a:cubicBezTo>
                <a:cubicBezTo>
                  <a:pt x="324" y="409"/>
                  <a:pt x="305" y="411"/>
                  <a:pt x="303" y="413"/>
                </a:cubicBezTo>
                <a:cubicBezTo>
                  <a:pt x="303" y="413"/>
                  <a:pt x="307" y="414"/>
                  <a:pt x="325" y="424"/>
                </a:cubicBezTo>
                <a:cubicBezTo>
                  <a:pt x="331" y="427"/>
                  <a:pt x="336" y="432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ubicBezTo>
                  <a:pt x="335" y="445"/>
                  <a:pt x="335" y="445"/>
                  <a:pt x="335" y="445"/>
                </a:cubicBezTo>
                <a:cubicBezTo>
                  <a:pt x="315" y="432"/>
                  <a:pt x="315" y="432"/>
                  <a:pt x="315" y="432"/>
                </a:cubicBezTo>
                <a:cubicBezTo>
                  <a:pt x="315" y="432"/>
                  <a:pt x="294" y="421"/>
                  <a:pt x="275" y="406"/>
                </a:cubicBezTo>
                <a:cubicBezTo>
                  <a:pt x="257" y="391"/>
                  <a:pt x="250" y="352"/>
                  <a:pt x="251" y="339"/>
                </a:cubicBezTo>
                <a:cubicBezTo>
                  <a:pt x="252" y="327"/>
                  <a:pt x="257" y="294"/>
                  <a:pt x="256" y="274"/>
                </a:cubicBezTo>
                <a:cubicBezTo>
                  <a:pt x="255" y="257"/>
                  <a:pt x="252" y="249"/>
                  <a:pt x="247" y="245"/>
                </a:cubicBezTo>
                <a:cubicBezTo>
                  <a:pt x="232" y="237"/>
                  <a:pt x="211" y="245"/>
                  <a:pt x="214" y="265"/>
                </a:cubicBezTo>
                <a:cubicBezTo>
                  <a:pt x="216" y="273"/>
                  <a:pt x="220" y="281"/>
                  <a:pt x="221" y="283"/>
                </a:cubicBezTo>
                <a:cubicBezTo>
                  <a:pt x="225" y="283"/>
                  <a:pt x="228" y="283"/>
                  <a:pt x="229" y="281"/>
                </a:cubicBezTo>
                <a:cubicBezTo>
                  <a:pt x="232" y="277"/>
                  <a:pt x="232" y="270"/>
                  <a:pt x="232" y="270"/>
                </a:cubicBezTo>
                <a:cubicBezTo>
                  <a:pt x="232" y="270"/>
                  <a:pt x="239" y="286"/>
                  <a:pt x="234" y="304"/>
                </a:cubicBezTo>
                <a:cubicBezTo>
                  <a:pt x="229" y="319"/>
                  <a:pt x="211" y="334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209" y="317"/>
                  <a:pt x="211" y="316"/>
                  <a:pt x="212" y="314"/>
                </a:cubicBezTo>
                <a:cubicBezTo>
                  <a:pt x="219" y="304"/>
                  <a:pt x="226" y="291"/>
                  <a:pt x="226" y="291"/>
                </a:cubicBezTo>
                <a:cubicBezTo>
                  <a:pt x="226" y="291"/>
                  <a:pt x="214" y="305"/>
                  <a:pt x="209" y="310"/>
                </a:cubicBezTo>
                <a:cubicBezTo>
                  <a:pt x="208" y="311"/>
                  <a:pt x="208" y="312"/>
                  <a:pt x="207" y="312"/>
                </a:cubicBezTo>
                <a:cubicBezTo>
                  <a:pt x="207" y="283"/>
                  <a:pt x="207" y="283"/>
                  <a:pt x="207" y="283"/>
                </a:cubicBezTo>
                <a:cubicBezTo>
                  <a:pt x="209" y="283"/>
                  <a:pt x="211" y="283"/>
                  <a:pt x="214" y="283"/>
                </a:cubicBezTo>
                <a:cubicBezTo>
                  <a:pt x="213" y="279"/>
                  <a:pt x="211" y="274"/>
                  <a:pt x="210" y="270"/>
                </a:cubicBezTo>
                <a:cubicBezTo>
                  <a:pt x="207" y="261"/>
                  <a:pt x="207" y="252"/>
                  <a:pt x="212" y="245"/>
                </a:cubicBezTo>
                <a:cubicBezTo>
                  <a:pt x="217" y="240"/>
                  <a:pt x="222" y="237"/>
                  <a:pt x="227" y="236"/>
                </a:cubicBezTo>
                <a:cubicBezTo>
                  <a:pt x="243" y="232"/>
                  <a:pt x="254" y="241"/>
                  <a:pt x="259" y="252"/>
                </a:cubicBezTo>
                <a:cubicBezTo>
                  <a:pt x="264" y="265"/>
                  <a:pt x="262" y="279"/>
                  <a:pt x="264" y="293"/>
                </a:cubicBezTo>
                <a:cubicBezTo>
                  <a:pt x="264" y="293"/>
                  <a:pt x="266" y="291"/>
                  <a:pt x="269" y="288"/>
                </a:cubicBezTo>
                <a:cubicBezTo>
                  <a:pt x="278" y="279"/>
                  <a:pt x="284" y="275"/>
                  <a:pt x="297" y="271"/>
                </a:cubicBezTo>
                <a:cubicBezTo>
                  <a:pt x="321" y="263"/>
                  <a:pt x="321" y="263"/>
                  <a:pt x="321" y="263"/>
                </a:cubicBezTo>
                <a:cubicBezTo>
                  <a:pt x="307" y="258"/>
                  <a:pt x="280" y="246"/>
                  <a:pt x="267" y="227"/>
                </a:cubicBezTo>
                <a:cubicBezTo>
                  <a:pt x="249" y="201"/>
                  <a:pt x="252" y="173"/>
                  <a:pt x="252" y="173"/>
                </a:cubicBezTo>
                <a:cubicBezTo>
                  <a:pt x="252" y="173"/>
                  <a:pt x="258" y="184"/>
                  <a:pt x="264" y="188"/>
                </a:cubicBezTo>
                <a:cubicBezTo>
                  <a:pt x="270" y="194"/>
                  <a:pt x="295" y="179"/>
                  <a:pt x="302" y="179"/>
                </a:cubicBezTo>
                <a:cubicBezTo>
                  <a:pt x="308" y="179"/>
                  <a:pt x="327" y="195"/>
                  <a:pt x="341" y="203"/>
                </a:cubicBezTo>
                <a:close/>
                <a:moveTo>
                  <a:pt x="207" y="391"/>
                </a:moveTo>
                <a:cubicBezTo>
                  <a:pt x="211" y="392"/>
                  <a:pt x="215" y="393"/>
                  <a:pt x="217" y="392"/>
                </a:cubicBezTo>
                <a:cubicBezTo>
                  <a:pt x="226" y="389"/>
                  <a:pt x="229" y="400"/>
                  <a:pt x="229" y="400"/>
                </a:cubicBezTo>
                <a:cubicBezTo>
                  <a:pt x="229" y="400"/>
                  <a:pt x="234" y="390"/>
                  <a:pt x="231" y="374"/>
                </a:cubicBezTo>
                <a:cubicBezTo>
                  <a:pt x="229" y="359"/>
                  <a:pt x="211" y="341"/>
                  <a:pt x="207" y="338"/>
                </a:cubicBezTo>
                <a:cubicBezTo>
                  <a:pt x="207" y="350"/>
                  <a:pt x="207" y="350"/>
                  <a:pt x="207" y="350"/>
                </a:cubicBezTo>
                <a:cubicBezTo>
                  <a:pt x="209" y="352"/>
                  <a:pt x="211" y="354"/>
                  <a:pt x="212" y="357"/>
                </a:cubicBezTo>
                <a:cubicBezTo>
                  <a:pt x="220" y="370"/>
                  <a:pt x="224" y="385"/>
                  <a:pt x="224" y="385"/>
                </a:cubicBezTo>
                <a:cubicBezTo>
                  <a:pt x="224" y="385"/>
                  <a:pt x="214" y="368"/>
                  <a:pt x="207" y="358"/>
                </a:cubicBezTo>
                <a:lnTo>
                  <a:pt x="207" y="391"/>
                </a:lnTo>
                <a:close/>
                <a:moveTo>
                  <a:pt x="207" y="283"/>
                </a:moveTo>
                <a:cubicBezTo>
                  <a:pt x="206" y="283"/>
                  <a:pt x="206" y="283"/>
                  <a:pt x="205" y="283"/>
                </a:cubicBezTo>
                <a:cubicBezTo>
                  <a:pt x="201" y="284"/>
                  <a:pt x="188" y="305"/>
                  <a:pt x="182" y="307"/>
                </a:cubicBezTo>
                <a:cubicBezTo>
                  <a:pt x="176" y="310"/>
                  <a:pt x="178" y="300"/>
                  <a:pt x="181" y="296"/>
                </a:cubicBezTo>
                <a:cubicBezTo>
                  <a:pt x="184" y="292"/>
                  <a:pt x="193" y="279"/>
                  <a:pt x="199" y="253"/>
                </a:cubicBezTo>
                <a:cubicBezTo>
                  <a:pt x="204" y="227"/>
                  <a:pt x="188" y="203"/>
                  <a:pt x="183" y="199"/>
                </a:cubicBezTo>
                <a:cubicBezTo>
                  <a:pt x="178" y="196"/>
                  <a:pt x="178" y="187"/>
                  <a:pt x="178" y="187"/>
                </a:cubicBezTo>
                <a:cubicBezTo>
                  <a:pt x="178" y="187"/>
                  <a:pt x="175" y="188"/>
                  <a:pt x="173" y="192"/>
                </a:cubicBezTo>
                <a:cubicBezTo>
                  <a:pt x="171" y="195"/>
                  <a:pt x="171" y="200"/>
                  <a:pt x="169" y="205"/>
                </a:cubicBezTo>
                <a:cubicBezTo>
                  <a:pt x="168" y="210"/>
                  <a:pt x="164" y="208"/>
                  <a:pt x="160" y="206"/>
                </a:cubicBezTo>
                <a:cubicBezTo>
                  <a:pt x="157" y="203"/>
                  <a:pt x="158" y="190"/>
                  <a:pt x="158" y="190"/>
                </a:cubicBezTo>
                <a:cubicBezTo>
                  <a:pt x="158" y="190"/>
                  <a:pt x="157" y="197"/>
                  <a:pt x="156" y="200"/>
                </a:cubicBezTo>
                <a:cubicBezTo>
                  <a:pt x="156" y="203"/>
                  <a:pt x="155" y="205"/>
                  <a:pt x="154" y="206"/>
                </a:cubicBezTo>
                <a:cubicBezTo>
                  <a:pt x="154" y="302"/>
                  <a:pt x="154" y="302"/>
                  <a:pt x="154" y="302"/>
                </a:cubicBezTo>
                <a:cubicBezTo>
                  <a:pt x="158" y="315"/>
                  <a:pt x="164" y="326"/>
                  <a:pt x="164" y="326"/>
                </a:cubicBezTo>
                <a:cubicBezTo>
                  <a:pt x="164" y="326"/>
                  <a:pt x="159" y="326"/>
                  <a:pt x="155" y="319"/>
                </a:cubicBezTo>
                <a:cubicBezTo>
                  <a:pt x="154" y="318"/>
                  <a:pt x="154" y="317"/>
                  <a:pt x="154" y="316"/>
                </a:cubicBezTo>
                <a:cubicBezTo>
                  <a:pt x="154" y="346"/>
                  <a:pt x="154" y="346"/>
                  <a:pt x="154" y="346"/>
                </a:cubicBezTo>
                <a:cubicBezTo>
                  <a:pt x="154" y="344"/>
                  <a:pt x="155" y="344"/>
                  <a:pt x="155" y="344"/>
                </a:cubicBezTo>
                <a:cubicBezTo>
                  <a:pt x="155" y="344"/>
                  <a:pt x="155" y="345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7" y="466"/>
                  <a:pt x="164" y="474"/>
                  <a:pt x="164" y="474"/>
                </a:cubicBezTo>
                <a:cubicBezTo>
                  <a:pt x="164" y="474"/>
                  <a:pt x="165" y="474"/>
                  <a:pt x="171" y="460"/>
                </a:cubicBezTo>
                <a:cubicBezTo>
                  <a:pt x="177" y="445"/>
                  <a:pt x="178" y="412"/>
                  <a:pt x="177" y="408"/>
                </a:cubicBezTo>
                <a:cubicBezTo>
                  <a:pt x="177" y="404"/>
                  <a:pt x="166" y="370"/>
                  <a:pt x="169" y="365"/>
                </a:cubicBezTo>
                <a:cubicBezTo>
                  <a:pt x="172" y="361"/>
                  <a:pt x="177" y="372"/>
                  <a:pt x="182" y="377"/>
                </a:cubicBezTo>
                <a:cubicBezTo>
                  <a:pt x="186" y="380"/>
                  <a:pt x="197" y="387"/>
                  <a:pt x="207" y="391"/>
                </a:cubicBezTo>
                <a:cubicBezTo>
                  <a:pt x="207" y="358"/>
                  <a:pt x="207" y="358"/>
                  <a:pt x="207" y="358"/>
                </a:cubicBezTo>
                <a:cubicBezTo>
                  <a:pt x="205" y="356"/>
                  <a:pt x="203" y="353"/>
                  <a:pt x="202" y="352"/>
                </a:cubicBezTo>
                <a:cubicBezTo>
                  <a:pt x="196" y="347"/>
                  <a:pt x="190" y="341"/>
                  <a:pt x="190" y="341"/>
                </a:cubicBezTo>
                <a:cubicBezTo>
                  <a:pt x="190" y="341"/>
                  <a:pt x="199" y="343"/>
                  <a:pt x="207" y="350"/>
                </a:cubicBezTo>
                <a:cubicBezTo>
                  <a:pt x="207" y="338"/>
                  <a:pt x="207" y="338"/>
                  <a:pt x="207" y="338"/>
                </a:cubicBezTo>
                <a:cubicBezTo>
                  <a:pt x="206" y="337"/>
                  <a:pt x="206" y="337"/>
                  <a:pt x="206" y="337"/>
                </a:cubicBezTo>
                <a:cubicBezTo>
                  <a:pt x="206" y="337"/>
                  <a:pt x="206" y="337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197" y="326"/>
                  <a:pt x="180" y="330"/>
                  <a:pt x="180" y="330"/>
                </a:cubicBezTo>
                <a:cubicBezTo>
                  <a:pt x="182" y="328"/>
                  <a:pt x="182" y="328"/>
                  <a:pt x="182" y="328"/>
                </a:cubicBezTo>
                <a:cubicBezTo>
                  <a:pt x="182" y="328"/>
                  <a:pt x="199" y="318"/>
                  <a:pt x="207" y="312"/>
                </a:cubicBezTo>
                <a:lnTo>
                  <a:pt x="207" y="283"/>
                </a:lnTo>
                <a:close/>
                <a:moveTo>
                  <a:pt x="154" y="206"/>
                </a:moveTo>
                <a:cubicBezTo>
                  <a:pt x="152" y="207"/>
                  <a:pt x="151" y="208"/>
                  <a:pt x="149" y="206"/>
                </a:cubicBezTo>
                <a:cubicBezTo>
                  <a:pt x="144" y="204"/>
                  <a:pt x="147" y="189"/>
                  <a:pt x="147" y="189"/>
                </a:cubicBezTo>
                <a:cubicBezTo>
                  <a:pt x="147" y="189"/>
                  <a:pt x="144" y="192"/>
                  <a:pt x="141" y="197"/>
                </a:cubicBezTo>
                <a:cubicBezTo>
                  <a:pt x="141" y="314"/>
                  <a:pt x="141" y="314"/>
                  <a:pt x="141" y="314"/>
                </a:cubicBezTo>
                <a:cubicBezTo>
                  <a:pt x="141" y="314"/>
                  <a:pt x="141" y="314"/>
                  <a:pt x="142" y="315"/>
                </a:cubicBezTo>
                <a:cubicBezTo>
                  <a:pt x="147" y="319"/>
                  <a:pt x="145" y="333"/>
                  <a:pt x="145" y="333"/>
                </a:cubicBezTo>
                <a:cubicBezTo>
                  <a:pt x="145" y="333"/>
                  <a:pt x="143" y="332"/>
                  <a:pt x="141" y="331"/>
                </a:cubicBezTo>
                <a:cubicBezTo>
                  <a:pt x="141" y="359"/>
                  <a:pt x="141" y="359"/>
                  <a:pt x="141" y="359"/>
                </a:cubicBezTo>
                <a:cubicBezTo>
                  <a:pt x="146" y="353"/>
                  <a:pt x="151" y="348"/>
                  <a:pt x="154" y="346"/>
                </a:cubicBezTo>
                <a:cubicBezTo>
                  <a:pt x="154" y="316"/>
                  <a:pt x="154" y="316"/>
                  <a:pt x="154" y="316"/>
                </a:cubicBezTo>
                <a:cubicBezTo>
                  <a:pt x="151" y="308"/>
                  <a:pt x="148" y="293"/>
                  <a:pt x="144" y="282"/>
                </a:cubicBezTo>
                <a:cubicBezTo>
                  <a:pt x="141" y="270"/>
                  <a:pt x="152" y="250"/>
                  <a:pt x="152" y="250"/>
                </a:cubicBezTo>
                <a:cubicBezTo>
                  <a:pt x="152" y="250"/>
                  <a:pt x="149" y="253"/>
                  <a:pt x="148" y="273"/>
                </a:cubicBezTo>
                <a:cubicBezTo>
                  <a:pt x="147" y="281"/>
                  <a:pt x="150" y="292"/>
                  <a:pt x="154" y="302"/>
                </a:cubicBezTo>
                <a:cubicBezTo>
                  <a:pt x="154" y="206"/>
                  <a:pt x="154" y="206"/>
                  <a:pt x="154" y="206"/>
                </a:cubicBezTo>
                <a:close/>
                <a:moveTo>
                  <a:pt x="141" y="452"/>
                </a:moveTo>
                <a:cubicBezTo>
                  <a:pt x="141" y="370"/>
                  <a:pt x="141" y="370"/>
                  <a:pt x="141" y="370"/>
                </a:cubicBezTo>
                <a:cubicBezTo>
                  <a:pt x="147" y="357"/>
                  <a:pt x="151" y="350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3" y="458"/>
                  <a:pt x="152" y="456"/>
                  <a:pt x="152" y="456"/>
                </a:cubicBezTo>
                <a:cubicBezTo>
                  <a:pt x="150" y="450"/>
                  <a:pt x="152" y="439"/>
                  <a:pt x="146" y="442"/>
                </a:cubicBezTo>
                <a:cubicBezTo>
                  <a:pt x="144" y="443"/>
                  <a:pt x="142" y="448"/>
                  <a:pt x="141" y="452"/>
                </a:cubicBezTo>
                <a:close/>
                <a:moveTo>
                  <a:pt x="141" y="197"/>
                </a:moveTo>
                <a:cubicBezTo>
                  <a:pt x="136" y="203"/>
                  <a:pt x="130" y="212"/>
                  <a:pt x="125" y="219"/>
                </a:cubicBezTo>
                <a:cubicBezTo>
                  <a:pt x="116" y="231"/>
                  <a:pt x="116" y="248"/>
                  <a:pt x="116" y="266"/>
                </a:cubicBezTo>
                <a:cubicBezTo>
                  <a:pt x="116" y="284"/>
                  <a:pt x="135" y="309"/>
                  <a:pt x="141" y="314"/>
                </a:cubicBezTo>
                <a:cubicBezTo>
                  <a:pt x="141" y="197"/>
                  <a:pt x="141" y="197"/>
                  <a:pt x="141" y="197"/>
                </a:cubicBezTo>
                <a:close/>
                <a:moveTo>
                  <a:pt x="141" y="331"/>
                </a:moveTo>
                <a:cubicBezTo>
                  <a:pt x="141" y="359"/>
                  <a:pt x="141" y="359"/>
                  <a:pt x="141" y="359"/>
                </a:cubicBezTo>
                <a:cubicBezTo>
                  <a:pt x="136" y="365"/>
                  <a:pt x="132" y="373"/>
                  <a:pt x="130" y="380"/>
                </a:cubicBezTo>
                <a:cubicBezTo>
                  <a:pt x="126" y="397"/>
                  <a:pt x="127" y="417"/>
                  <a:pt x="127" y="417"/>
                </a:cubicBezTo>
                <a:cubicBezTo>
                  <a:pt x="127" y="417"/>
                  <a:pt x="131" y="393"/>
                  <a:pt x="140" y="373"/>
                </a:cubicBezTo>
                <a:cubicBezTo>
                  <a:pt x="140" y="372"/>
                  <a:pt x="141" y="371"/>
                  <a:pt x="141" y="370"/>
                </a:cubicBezTo>
                <a:cubicBezTo>
                  <a:pt x="141" y="452"/>
                  <a:pt x="141" y="452"/>
                  <a:pt x="141" y="452"/>
                </a:cubicBezTo>
                <a:cubicBezTo>
                  <a:pt x="139" y="461"/>
                  <a:pt x="138" y="472"/>
                  <a:pt x="138" y="472"/>
                </a:cubicBezTo>
                <a:cubicBezTo>
                  <a:pt x="138" y="472"/>
                  <a:pt x="104" y="468"/>
                  <a:pt x="99" y="440"/>
                </a:cubicBezTo>
                <a:cubicBezTo>
                  <a:pt x="94" y="411"/>
                  <a:pt x="96" y="395"/>
                  <a:pt x="107" y="381"/>
                </a:cubicBezTo>
                <a:cubicBezTo>
                  <a:pt x="117" y="367"/>
                  <a:pt x="140" y="347"/>
                  <a:pt x="140" y="347"/>
                </a:cubicBezTo>
                <a:cubicBezTo>
                  <a:pt x="140" y="347"/>
                  <a:pt x="135" y="334"/>
                  <a:pt x="127" y="343"/>
                </a:cubicBezTo>
                <a:cubicBezTo>
                  <a:pt x="118" y="351"/>
                  <a:pt x="104" y="378"/>
                  <a:pt x="91" y="385"/>
                </a:cubicBezTo>
                <a:cubicBezTo>
                  <a:pt x="89" y="386"/>
                  <a:pt x="86" y="387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97" y="344"/>
                  <a:pt x="114" y="341"/>
                  <a:pt x="114" y="341"/>
                </a:cubicBezTo>
                <a:cubicBezTo>
                  <a:pt x="123" y="336"/>
                  <a:pt x="123" y="336"/>
                  <a:pt x="123" y="336"/>
                </a:cubicBezTo>
                <a:cubicBezTo>
                  <a:pt x="123" y="336"/>
                  <a:pt x="104" y="340"/>
                  <a:pt x="84" y="340"/>
                </a:cubicBezTo>
                <a:cubicBezTo>
                  <a:pt x="84" y="288"/>
                  <a:pt x="84" y="288"/>
                  <a:pt x="84" y="288"/>
                </a:cubicBezTo>
                <a:cubicBezTo>
                  <a:pt x="85" y="288"/>
                  <a:pt x="86" y="288"/>
                  <a:pt x="86" y="288"/>
                </a:cubicBezTo>
                <a:cubicBezTo>
                  <a:pt x="100" y="291"/>
                  <a:pt x="113" y="294"/>
                  <a:pt x="119" y="305"/>
                </a:cubicBezTo>
                <a:cubicBezTo>
                  <a:pt x="126" y="315"/>
                  <a:pt x="128" y="326"/>
                  <a:pt x="131" y="328"/>
                </a:cubicBezTo>
                <a:cubicBezTo>
                  <a:pt x="133" y="329"/>
                  <a:pt x="138" y="331"/>
                  <a:pt x="141" y="331"/>
                </a:cubicBezTo>
                <a:close/>
                <a:moveTo>
                  <a:pt x="84" y="288"/>
                </a:moveTo>
                <a:cubicBezTo>
                  <a:pt x="71" y="286"/>
                  <a:pt x="53" y="291"/>
                  <a:pt x="52" y="291"/>
                </a:cubicBezTo>
                <a:cubicBezTo>
                  <a:pt x="50" y="291"/>
                  <a:pt x="42" y="283"/>
                  <a:pt x="42" y="283"/>
                </a:cubicBezTo>
                <a:cubicBezTo>
                  <a:pt x="42" y="283"/>
                  <a:pt x="43" y="286"/>
                  <a:pt x="46" y="290"/>
                </a:cubicBezTo>
                <a:cubicBezTo>
                  <a:pt x="48" y="294"/>
                  <a:pt x="54" y="300"/>
                  <a:pt x="59" y="302"/>
                </a:cubicBezTo>
                <a:cubicBezTo>
                  <a:pt x="63" y="304"/>
                  <a:pt x="81" y="314"/>
                  <a:pt x="81" y="314"/>
                </a:cubicBezTo>
                <a:cubicBezTo>
                  <a:pt x="81" y="314"/>
                  <a:pt x="74" y="313"/>
                  <a:pt x="73" y="313"/>
                </a:cubicBezTo>
                <a:cubicBezTo>
                  <a:pt x="73" y="313"/>
                  <a:pt x="56" y="314"/>
                  <a:pt x="48" y="316"/>
                </a:cubicBezTo>
                <a:cubicBezTo>
                  <a:pt x="40" y="318"/>
                  <a:pt x="35" y="324"/>
                  <a:pt x="33" y="329"/>
                </a:cubicBezTo>
                <a:cubicBezTo>
                  <a:pt x="31" y="334"/>
                  <a:pt x="25" y="335"/>
                  <a:pt x="20" y="335"/>
                </a:cubicBezTo>
                <a:cubicBezTo>
                  <a:pt x="10" y="336"/>
                  <a:pt x="4" y="327"/>
                  <a:pt x="8" y="318"/>
                </a:cubicBezTo>
                <a:cubicBezTo>
                  <a:pt x="9" y="314"/>
                  <a:pt x="11" y="311"/>
                  <a:pt x="11" y="311"/>
                </a:cubicBezTo>
                <a:cubicBezTo>
                  <a:pt x="11" y="311"/>
                  <a:pt x="15" y="313"/>
                  <a:pt x="18" y="312"/>
                </a:cubicBezTo>
                <a:cubicBezTo>
                  <a:pt x="21" y="312"/>
                  <a:pt x="22" y="311"/>
                  <a:pt x="21" y="305"/>
                </a:cubicBezTo>
                <a:cubicBezTo>
                  <a:pt x="19" y="299"/>
                  <a:pt x="12" y="302"/>
                  <a:pt x="10" y="304"/>
                </a:cubicBezTo>
                <a:cubicBezTo>
                  <a:pt x="8" y="307"/>
                  <a:pt x="9" y="310"/>
                  <a:pt x="9" y="310"/>
                </a:cubicBezTo>
                <a:cubicBezTo>
                  <a:pt x="0" y="319"/>
                  <a:pt x="3" y="336"/>
                  <a:pt x="19" y="338"/>
                </a:cubicBezTo>
                <a:cubicBezTo>
                  <a:pt x="19" y="338"/>
                  <a:pt x="19" y="340"/>
                  <a:pt x="25" y="347"/>
                </a:cubicBezTo>
                <a:cubicBezTo>
                  <a:pt x="42" y="369"/>
                  <a:pt x="61" y="356"/>
                  <a:pt x="76" y="365"/>
                </a:cubicBezTo>
                <a:cubicBezTo>
                  <a:pt x="78" y="365"/>
                  <a:pt x="78" y="366"/>
                  <a:pt x="78" y="367"/>
                </a:cubicBezTo>
                <a:cubicBezTo>
                  <a:pt x="75" y="373"/>
                  <a:pt x="64" y="371"/>
                  <a:pt x="55" y="374"/>
                </a:cubicBezTo>
                <a:cubicBezTo>
                  <a:pt x="47" y="376"/>
                  <a:pt x="48" y="388"/>
                  <a:pt x="48" y="388"/>
                </a:cubicBezTo>
                <a:cubicBezTo>
                  <a:pt x="48" y="388"/>
                  <a:pt x="53" y="382"/>
                  <a:pt x="60" y="384"/>
                </a:cubicBezTo>
                <a:cubicBezTo>
                  <a:pt x="65" y="385"/>
                  <a:pt x="74" y="390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82" y="345"/>
                  <a:pt x="81" y="345"/>
                  <a:pt x="79" y="346"/>
                </a:cubicBezTo>
                <a:cubicBezTo>
                  <a:pt x="66" y="346"/>
                  <a:pt x="46" y="340"/>
                  <a:pt x="46" y="340"/>
                </a:cubicBezTo>
                <a:cubicBezTo>
                  <a:pt x="46" y="340"/>
                  <a:pt x="59" y="340"/>
                  <a:pt x="80" y="340"/>
                </a:cubicBezTo>
                <a:cubicBezTo>
                  <a:pt x="82" y="340"/>
                  <a:pt x="83" y="340"/>
                  <a:pt x="84" y="340"/>
                </a:cubicBezTo>
                <a:lnTo>
                  <a:pt x="84" y="288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矩形 1黄色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/>
            <a:ahLst/>
            <a:rect l="l" t="t" r="r" b="b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/>
            <a:ahLst/>
            <a:rect l="l" t="t" r="r" b="b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281"/>
          <p:cNvSpPr/>
          <p:nvPr/>
        </p:nvSpPr>
        <p:spPr>
          <a:xfrm>
            <a:off x="0" y="20520"/>
            <a:ext cx="925560" cy="817560"/>
          </a:xfrm>
          <a:custGeom>
            <a:avLst/>
            <a:gdLst/>
            <a:ahLst/>
            <a:rect l="l" t="t" r="r" b="b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/>
            <a:ahLst/>
            <a:rect l="l" t="t" r="r" b="b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/>
            <a:ahLst/>
            <a:rect l="l" t="t" r="r" b="b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/>
            <a:ahLst/>
            <a:rect l="l" t="t" r="r" b="b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/>
            <a:ahLst/>
            <a:rect l="l" t="t" r="r" b="b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281"/>
          <p:cNvSpPr/>
          <p:nvPr/>
        </p:nvSpPr>
        <p:spPr>
          <a:xfrm>
            <a:off x="0" y="20520"/>
            <a:ext cx="925560" cy="817560"/>
          </a:xfrm>
          <a:custGeom>
            <a:avLst/>
            <a:gdLst/>
            <a:ahLst/>
            <a:rect l="l" t="t" r="r" b="b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/>
            <a:ahLst/>
            <a:rect l="l" t="t" r="r" b="b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281"/>
          <p:cNvSpPr/>
          <p:nvPr/>
        </p:nvSpPr>
        <p:spPr>
          <a:xfrm>
            <a:off x="12600" y="0"/>
            <a:ext cx="925560" cy="817560"/>
          </a:xfrm>
          <a:custGeom>
            <a:avLst/>
            <a:gdLst/>
            <a:ahLst/>
            <a:rect l="l" t="t" r="r" b="b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395280" y="1557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5" descr="news-20051109-0749-15"/>
          <p:cNvPicPr/>
          <p:nvPr/>
        </p:nvPicPr>
        <p:blipFill>
          <a:blip r:embed="rId5"/>
          <a:stretch/>
        </p:blipFill>
        <p:spPr>
          <a:xfrm>
            <a:off x="0" y="0"/>
            <a:ext cx="460836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6" descr="68811248123604828"/>
          <p:cNvPicPr/>
          <p:nvPr/>
        </p:nvPicPr>
        <p:blipFill>
          <a:blip r:embed="rId6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195" dur="6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197" dur="6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202" dur="5500" fill="hold"/>
                                        <p:tgtEl>
                                          <p:spTgt spid="217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204" dur="5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209" dur="4500" fill="hold"/>
                                        <p:tgtEl>
                                          <p:spTgt spid="21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211" dur="4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216" dur="5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8" repeatCount="indefinite">
                                  <p:stCondLst>
                                    <p:cond delay="14200"/>
                                  </p:stCondLst>
                                  <p:childTnLst>
                                    <p:animRot by="-10800000">
                                      <p:cBhvr>
                                        <p:cTn id="218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223" dur="7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225" dur="7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230" dur="6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232" dur="6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237" dur="5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242" dur="4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247" dur="7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249" dur="7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254" dur="7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256" dur="7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43231227630982907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3632122754176758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p47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611280" y="260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见课本 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47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页案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看了这幅漫画你想到了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377960" y="31082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324000" y="414972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３）是建设以人为本、崇尚人性与个性的现代社会的需要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2502360" y="907920"/>
            <a:ext cx="172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3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、保护隐私的必要性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976320" y="1989000"/>
            <a:ext cx="36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１）人独立自由的需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513800" y="3068640"/>
            <a:ext cx="53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２）是人们对自身安宁和安全的需要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308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隐私就是丑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247760" y="83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判断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j015589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672160" y="692280"/>
            <a:ext cx="3130560" cy="1557360"/>
          </a:xfrm>
          <a:prstGeom prst="rect">
            <a:avLst/>
          </a:prstGeom>
          <a:ln w="0">
            <a:noFill/>
          </a:ln>
        </p:spPr>
      </p:pic>
      <p:sp>
        <p:nvSpPr>
          <p:cNvPr id="242" name="WordArt 3"/>
          <p:cNvSpPr txBox="1"/>
          <p:nvPr/>
        </p:nvSpPr>
        <p:spPr>
          <a:xfrm>
            <a:off x="684360" y="954000"/>
            <a:ext cx="259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扬帆论坛</a:t>
            </a:r>
            <a:endParaRPr b="1" lang="en-US" sz="3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380880" y="2971800"/>
            <a:ext cx="8229600" cy="825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让自己心灵有个家的权利—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隐私权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5"/>
          <p:cNvSpPr txBox="1"/>
          <p:nvPr/>
        </p:nvSpPr>
        <p:spPr>
          <a:xfrm>
            <a:off x="554040" y="51588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社会热点</a:t>
            </a:r>
            <a:endParaRPr b="1" lang="en-US" sz="36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276720" y="3808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名明星电话曝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144792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533520" y="1295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某一黑客黑了一家经纪公司的电脑，并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名明星电话号码公布在网络坛论中，造成众多明星纷纷接到不明电话的骚扰。而自称是“黑客高手”的人士说，这一切不过是他们的一场恶作剧游戏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990720" y="48006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该黑客是否构成</a:t>
            </a:r>
            <a:r>
              <a:rPr b="0" i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侵权？他</a:t>
            </a:r>
            <a:r>
              <a:rPr b="0" i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侵犯了明星的什么权利？什么是</a:t>
            </a: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隐私权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395280" y="981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二、让自己心灵有个家的权利－－隐私权（权利内容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5280" y="2852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１、隐私权的含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指公民依法享有私人生活安宁和私人信息保密的权利．　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468360" y="90792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2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、法律保护公民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隐私权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的意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92200" y="2276640"/>
            <a:ext cx="77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隐私权赋予公民对其个人秘密的自由决定权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它划定了个人空间与公共空间的界限，维护了个人的人格独立和人格自由。法律保护公民的隐私权，能够促进社会和谐，维护社会的安定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11280" y="83664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预习检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隐私的含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隐私的具体内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保护隐私的必要性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意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隐私权的含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隐私权的内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457200" y="1905120"/>
            <a:ext cx="8223120" cy="1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一天深夜，某地公安派出所以“扫黄打非”为名，在无搜查证的情况下，对某小区住房进行全面搜查。有人认为该派出所的行为是合法的，因为他们有搜查权；有人认为派出所的行为是非法的，因为他们没有依据法定程序搜查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你同意哪种看法，为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WordArt 6"/>
          <p:cNvSpPr txBox="1"/>
          <p:nvPr/>
        </p:nvSpPr>
        <p:spPr>
          <a:xfrm>
            <a:off x="2435400" y="1042920"/>
            <a:ext cx="4267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学法、用法</a:t>
            </a:r>
            <a:endParaRPr b="1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466560" y="5587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533520" y="1600200"/>
            <a:ext cx="82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838080" y="1219320"/>
            <a:ext cx="7696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228600" y="762120"/>
            <a:ext cx="8763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中华人民共和国公民的住宅不受侵犯，禁止非法搜查或非法侵入公民的住宅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　－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中华人民共和国宪法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非法搜查他人身体、住宅，或者非法侵入他人住宅的，处三年以下有期徒刑或都拘役。司法人员滥用职权，犯前款罪的，从重处罚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　－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中华人民共和国刑法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04920" y="152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684360" y="2852640"/>
            <a:ext cx="6048360" cy="1477080"/>
          </a:xfrm>
          <a:prstGeom prst="rect">
            <a:avLst/>
          </a:prstGeom>
          <a:noFill/>
          <a:ln w="57240">
            <a:solidFill>
              <a:srgbClr val="2124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何种情况下的搜查没有侵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民的个人生活安宁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755640" y="620640"/>
            <a:ext cx="208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63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1" lang="en-US" sz="3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59160" cy="7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识权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"/>
          <p:cNvSpPr/>
          <p:nvPr/>
        </p:nvSpPr>
        <p:spPr>
          <a:xfrm>
            <a:off x="1258920" y="1773360"/>
            <a:ext cx="216000" cy="3457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90000 h 3457440"/>
              <a:gd name="textAreaBottom" fmla="*/ 336744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547640" y="1413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公民的住宅未经本人允许，任何人不得擅自侵入或非法监听、监视，执法人员不得无视法定程序非法搜查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私人生活安宁权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476360" y="31417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公民有权对个人信息保密，并禁止他人非法搜集、传播和利用自己的私人信息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个人信息保密权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540360" y="1341360"/>
            <a:ext cx="72756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376200" y="895320"/>
            <a:ext cx="8516880" cy="27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生活中会有这种现象：未经同意，老师拆看学生的信件；父母拆看子女的信件；领导检查下属的信件。拆看信件者均认为自己有教育或者管理的权利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上述行为是否合法？说说理由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　　假如老师或父母拆看未满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周岁的学生或子女的信件是否合法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380880" y="304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1447920" y="1273320"/>
            <a:ext cx="685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不合法。我国宪法第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条规定（书本第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5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页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中华人民共和国公民的通信自由和通信秘密受法律保护。除因国家安全或者追查刑事犯罪的需要，由公安机关或者检察机关依照法律规定的程序对通信进行检查外，任何组织或者个人不得以任何理由侵犯公民的通信自由和通信秘密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宋体"/>
                <a:hlinkClick r:id="rId1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457200" y="9907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华文新魏"/>
              </a:rPr>
              <a:t>未满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华文新魏"/>
              </a:rPr>
              <a:t>周岁的公民为无民事行为能力人，我国未成年人保护法第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华文新魏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华文新魏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华文新魏"/>
              </a:rPr>
              <a:t>条有关规定（第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华文新魏"/>
              </a:rPr>
              <a:t>5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华文新魏"/>
              </a:rPr>
              <a:t>页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对无行为能力的未成年人的信件可由其父母或者其他监护人为开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外，任何组织或者个人不得开拆。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华文新魏"/>
              </a:rPr>
              <a:t>所以父母拆看未满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华文新魏"/>
              </a:rPr>
              <a:t>周岁未成年人的信件是合法的，老师不是学生的监护人，无论学生是否达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华文新魏"/>
              </a:rPr>
              <a:t>周岁，拆看学生信件都是不合法的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59160" cy="7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识权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/>
          <p:cNvSpPr/>
          <p:nvPr/>
        </p:nvSpPr>
        <p:spPr>
          <a:xfrm>
            <a:off x="1258920" y="1773360"/>
            <a:ext cx="216000" cy="3457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90000 h 3457440"/>
              <a:gd name="textAreaBottom" fmla="*/ 336744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547640" y="1413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公民的住宅未经本人允许，任何人不得擅自侵入或非法监听、监视，执法人员不得无视法定程序非法搜查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私人生活安宁权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476360" y="31417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公民有权对个人信息保密，并禁止他人非法搜集、传播和利用自己的私人信息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个人信息保密权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547640" y="501336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公民有权对个人通信内容保密，对自己的信件、电话、传真、电子邮件等禁止他人擅自查看、刺探或公开 。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私人通信密秘权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540360" y="1341360"/>
            <a:ext cx="72756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文本框 8199"/>
          <p:cNvSpPr/>
          <p:nvPr/>
        </p:nvSpPr>
        <p:spPr>
          <a:xfrm>
            <a:off x="3065400" y="717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2"/>
          <p:cNvSpPr txBox="1"/>
          <p:nvPr/>
        </p:nvSpPr>
        <p:spPr>
          <a:xfrm>
            <a:off x="990720" y="304920"/>
            <a:ext cx="336528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：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755640" y="1700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法律保护公民隐私权的意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11280" y="263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隐私权赋予公民对其个人秘密的自由决定权，它划定了个人窨与公共空间的界限，维护了个人的人格独立和人格自由。法律保护公民的隐私权，能够促进社会和谐，维护社会的安定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cherry_s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83" name="WordArt 3"/>
          <p:cNvSpPr txBox="1"/>
          <p:nvPr/>
        </p:nvSpPr>
        <p:spPr>
          <a:xfrm>
            <a:off x="539640" y="260280"/>
            <a:ext cx="4753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侵犯隐私权吗？</a:t>
            </a:r>
            <a:endParaRPr b="1" lang="en-US" sz="36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611280" y="220500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95280" y="2060640"/>
            <a:ext cx="3456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师家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班主任询问家庭情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上报道明星秘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师检查学生作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别人写传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手机偷拍同学聊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偷听别人打电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3995640" y="2060640"/>
            <a:ext cx="49672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聘时填写表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入户人口调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户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安人员对犯罪嫌疑人的询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好朋友偷看自己的日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将我的家庭住址告诉别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校检查学生宿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7m0o96k6iy81"/>
          <p:cNvPicPr/>
          <p:nvPr/>
        </p:nvPicPr>
        <p:blipFill>
          <a:blip r:embed="rId1"/>
          <a:stretch/>
        </p:blipFill>
        <p:spPr>
          <a:xfrm>
            <a:off x="5410080" y="2362320"/>
            <a:ext cx="3189240" cy="4275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685800" y="5335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         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一个初中女生，和大家一样，喜欢听音乐上网，可是，生活中也有不少烦恼，让她很困惑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62120" y="457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幼圆"/>
              </a:rPr>
              <a:t>荣荣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057400" y="457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-------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838080" y="3429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吃过晚饭，和往常一样，荣荣和网名为苹果的同班好友肖肖在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QQ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上聊天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838080" y="243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烦恼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1"/>
          <p:cNvPicPr/>
          <p:nvPr/>
        </p:nvPicPr>
        <p:blipFill>
          <a:blip r:embed="rId1"/>
          <a:stretch/>
        </p:blipFill>
        <p:spPr>
          <a:xfrm>
            <a:off x="0" y="4076640"/>
            <a:ext cx="3564000" cy="2781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1"/>
          <p:cNvPicPr/>
          <p:nvPr/>
        </p:nvPicPr>
        <p:blipFill>
          <a:blip r:embed="rId2"/>
          <a:stretch/>
        </p:blipFill>
        <p:spPr>
          <a:xfrm>
            <a:off x="5580000" y="4005360"/>
            <a:ext cx="3564000" cy="2852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1"/>
          <p:cNvPicPr/>
          <p:nvPr/>
        </p:nvPicPr>
        <p:blipFill>
          <a:blip r:embed="rId3"/>
          <a:stretch/>
        </p:blipFill>
        <p:spPr>
          <a:xfrm>
            <a:off x="2771640" y="4076640"/>
            <a:ext cx="3564000" cy="2781360"/>
          </a:xfrm>
          <a:prstGeom prst="rect">
            <a:avLst/>
          </a:prstGeom>
          <a:ln w="0">
            <a:noFill/>
          </a:ln>
        </p:spPr>
      </p:pic>
      <p:sp>
        <p:nvSpPr>
          <p:cNvPr id="290" name="WordArt 5"/>
          <p:cNvSpPr txBox="1"/>
          <p:nvPr/>
        </p:nvSpPr>
        <p:spPr>
          <a:xfrm>
            <a:off x="324000" y="476280"/>
            <a:ext cx="403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拓展实践</a:t>
            </a:r>
            <a:endParaRPr b="1" lang="en-US" sz="36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grpSp>
        <p:nvGrpSpPr>
          <p:cNvPr id="291" name="Group 7"/>
          <p:cNvGrpSpPr/>
          <p:nvPr/>
        </p:nvGrpSpPr>
        <p:grpSpPr>
          <a:xfrm>
            <a:off x="6012000" y="476280"/>
            <a:ext cx="2592360" cy="1081080"/>
            <a:chOff x="6012000" y="476280"/>
            <a:chExt cx="2592360" cy="1081080"/>
          </a:xfrm>
        </p:grpSpPr>
        <p:sp>
          <p:nvSpPr>
            <p:cNvPr id="292" name="Oval 8"/>
            <p:cNvSpPr/>
            <p:nvPr/>
          </p:nvSpPr>
          <p:spPr>
            <a:xfrm>
              <a:off x="6012000" y="476280"/>
              <a:ext cx="2376360" cy="1081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6156360" y="646200"/>
              <a:ext cx="244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家庭方面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10"/>
          <p:cNvGrpSpPr/>
          <p:nvPr/>
        </p:nvGrpSpPr>
        <p:grpSpPr>
          <a:xfrm>
            <a:off x="6135840" y="3056040"/>
            <a:ext cx="2633040" cy="1081080"/>
            <a:chOff x="6135840" y="3056040"/>
            <a:chExt cx="2633040" cy="1081080"/>
          </a:xfrm>
        </p:grpSpPr>
        <p:sp>
          <p:nvSpPr>
            <p:cNvPr id="295" name="Oval 11">
              <a:hlinkClick r:id="rId4"/>
            </p:cNvPr>
            <p:cNvSpPr/>
            <p:nvPr/>
          </p:nvSpPr>
          <p:spPr>
            <a:xfrm>
              <a:off x="6135840" y="3056040"/>
              <a:ext cx="2376000" cy="1081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12"/>
            <p:cNvSpPr/>
            <p:nvPr/>
          </p:nvSpPr>
          <p:spPr>
            <a:xfrm>
              <a:off x="6321240" y="3246480"/>
              <a:ext cx="24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社会侵害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13"/>
          <p:cNvGrpSpPr/>
          <p:nvPr/>
        </p:nvGrpSpPr>
        <p:grpSpPr>
          <a:xfrm>
            <a:off x="6059520" y="1776240"/>
            <a:ext cx="2599920" cy="1081080"/>
            <a:chOff x="6059520" y="1776240"/>
            <a:chExt cx="2599920" cy="1081080"/>
          </a:xfrm>
        </p:grpSpPr>
        <p:sp>
          <p:nvSpPr>
            <p:cNvPr id="298" name="Oval 14">
              <a:hlinkClick r:id="rId5"/>
            </p:cNvPr>
            <p:cNvSpPr/>
            <p:nvPr/>
          </p:nvSpPr>
          <p:spPr>
            <a:xfrm>
              <a:off x="6059520" y="1776240"/>
              <a:ext cx="2376360" cy="1081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5"/>
            <p:cNvSpPr/>
            <p:nvPr/>
          </p:nvSpPr>
          <p:spPr>
            <a:xfrm>
              <a:off x="6211800" y="1954080"/>
              <a:ext cx="24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校园范围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Rectangle 16"/>
          <p:cNvSpPr/>
          <p:nvPr/>
        </p:nvSpPr>
        <p:spPr>
          <a:xfrm>
            <a:off x="324000" y="1773360"/>
            <a:ext cx="50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说身边侵害隐私权的行为？并说出依据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2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77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770" fill="hold"/>
                                        <p:tgtEl>
                                          <p:spTgt spid="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0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77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770" fill="hold"/>
                                        <p:tgtEl>
                                          <p:spTgt spid="2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cherry_s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02" name="WordArt 3"/>
          <p:cNvSpPr txBox="1"/>
          <p:nvPr/>
        </p:nvSpPr>
        <p:spPr>
          <a:xfrm>
            <a:off x="1763640" y="836640"/>
            <a:ext cx="560088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家庭中的侵犯隐私权行为：</a:t>
            </a:r>
            <a:endParaRPr b="1" lang="en-US" sz="36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900000" y="1844640"/>
            <a:ext cx="7417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父母偷看子女信件、日记（已满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周岁的未成年人）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查看孩子的手机短信、留言、电子邮件及聊天记录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偷听孩子电话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翻看孩子书包、个人物品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6" descr="0017"/>
          <p:cNvPicPr/>
          <p:nvPr/>
        </p:nvPicPr>
        <p:blipFill>
          <a:blip r:embed="rId4"/>
          <a:stretch/>
        </p:blipFill>
        <p:spPr>
          <a:xfrm>
            <a:off x="324000" y="765000"/>
            <a:ext cx="9046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cherry_s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06" name="WordArt 3"/>
          <p:cNvSpPr txBox="1"/>
          <p:nvPr/>
        </p:nvSpPr>
        <p:spPr>
          <a:xfrm>
            <a:off x="539640" y="404640"/>
            <a:ext cx="356076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校园中的侵权</a:t>
            </a:r>
            <a:endParaRPr b="1" lang="en-US" sz="3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900000" y="1844640"/>
            <a:ext cx="7417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私拆同学的信件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同学间打探他人隐私，并将其传播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私自翻看同学的日记本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cherry_s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09" name="WordArt 3"/>
          <p:cNvSpPr txBox="1"/>
          <p:nvPr/>
        </p:nvSpPr>
        <p:spPr>
          <a:xfrm>
            <a:off x="684360" y="692280"/>
            <a:ext cx="6048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社会中的侵权</a:t>
            </a:r>
            <a:endParaRPr b="1" lang="en-US" sz="36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cherry_s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1098587861_WIaGHi"/>
          <p:cNvPicPr/>
          <p:nvPr/>
        </p:nvPicPr>
        <p:blipFill>
          <a:blip r:embed="rId2"/>
          <a:stretch/>
        </p:blipFill>
        <p:spPr>
          <a:xfrm>
            <a:off x="4643280" y="-17640"/>
            <a:ext cx="4249800" cy="3175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1106619773_SDaqbJ"/>
          <p:cNvPicPr/>
          <p:nvPr/>
        </p:nvPicPr>
        <p:blipFill>
          <a:blip r:embed="rId3"/>
          <a:stretch/>
        </p:blipFill>
        <p:spPr>
          <a:xfrm>
            <a:off x="0" y="3284640"/>
            <a:ext cx="4716360" cy="3538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0008"/>
          <p:cNvPicPr/>
          <p:nvPr/>
        </p:nvPicPr>
        <p:blipFill>
          <a:blip r:embed="rId4"/>
          <a:stretch/>
        </p:blipFill>
        <p:spPr>
          <a:xfrm>
            <a:off x="4284720" y="292428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中国式“隐私权”前景：已完全无秘密可言"/>
          <p:cNvPicPr/>
          <p:nvPr/>
        </p:nvPicPr>
        <p:blipFill>
          <a:blip r:embed="rId5"/>
          <a:stretch/>
        </p:blipFill>
        <p:spPr>
          <a:xfrm>
            <a:off x="0" y="0"/>
            <a:ext cx="4321080" cy="3213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030812133801jyw0307718"/>
          <p:cNvPicPr/>
          <p:nvPr/>
        </p:nvPicPr>
        <p:blipFill>
          <a:blip r:embed="rId6"/>
          <a:stretch/>
        </p:blipFill>
        <p:spPr>
          <a:xfrm>
            <a:off x="4572000" y="3500280"/>
            <a:ext cx="43210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cherry_s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Img209259626"/>
          <p:cNvPicPr/>
          <p:nvPr/>
        </p:nvPicPr>
        <p:blipFill>
          <a:blip r:embed="rId2"/>
          <a:stretch/>
        </p:blipFill>
        <p:spPr>
          <a:xfrm>
            <a:off x="250920" y="189000"/>
            <a:ext cx="3278160" cy="220644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4"/>
          <p:cNvSpPr/>
          <p:nvPr/>
        </p:nvSpPr>
        <p:spPr>
          <a:xfrm>
            <a:off x="755640" y="3141720"/>
            <a:ext cx="5111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床头卡曝光病人病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隐私被候诊者“旁听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医学观摩未经病人同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化验单随时公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注射室不分男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WordArt 5"/>
          <p:cNvSpPr txBox="1"/>
          <p:nvPr/>
        </p:nvSpPr>
        <p:spPr>
          <a:xfrm>
            <a:off x="1908000" y="765000"/>
            <a:ext cx="66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5769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医院泄露病人隐私现象让人惊心</a:t>
            </a:r>
            <a:endParaRPr b="1" lang="en-US" sz="36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20" name="Picture 6" descr="hyd34"/>
          <p:cNvPicPr/>
          <p:nvPr/>
        </p:nvPicPr>
        <p:blipFill>
          <a:blip r:embed="rId5"/>
          <a:stretch/>
        </p:blipFill>
        <p:spPr>
          <a:xfrm>
            <a:off x="5292720" y="4292640"/>
            <a:ext cx="3392640" cy="1771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0004"/>
          <p:cNvPicPr/>
          <p:nvPr/>
        </p:nvPicPr>
        <p:blipFill>
          <a:blip r:embed="rId6"/>
          <a:stretch/>
        </p:blipFill>
        <p:spPr>
          <a:xfrm>
            <a:off x="6659640" y="2492280"/>
            <a:ext cx="10684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cherry_s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23" name="WordArt 3"/>
          <p:cNvSpPr txBox="1"/>
          <p:nvPr/>
        </p:nvSpPr>
        <p:spPr>
          <a:xfrm>
            <a:off x="4356000" y="476280"/>
            <a:ext cx="2881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说隐私之最</a:t>
            </a:r>
            <a:endParaRPr b="1" lang="en-US" sz="3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4" name="WordArt 4"/>
          <p:cNvSpPr txBox="1"/>
          <p:nvPr/>
        </p:nvSpPr>
        <p:spPr>
          <a:xfrm>
            <a:off x="539640" y="1773360"/>
            <a:ext cx="460872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最没有隐私的空间</a:t>
            </a:r>
            <a:r>
              <a: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---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25" name="WordArt 5"/>
          <p:cNvSpPr txBox="1"/>
          <p:nvPr/>
        </p:nvSpPr>
        <p:spPr>
          <a:xfrm>
            <a:off x="971640" y="2565360"/>
            <a:ext cx="460836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最没有隐私的人群</a:t>
            </a:r>
            <a:r>
              <a: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---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26" name="WordArt 6"/>
          <p:cNvSpPr txBox="1"/>
          <p:nvPr/>
        </p:nvSpPr>
        <p:spPr>
          <a:xfrm>
            <a:off x="1979640" y="4149720"/>
            <a:ext cx="460836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最积极的揭隐私者</a:t>
            </a:r>
            <a:r>
              <a: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---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27" name="WordArt 7"/>
          <p:cNvSpPr txBox="1"/>
          <p:nvPr/>
        </p:nvSpPr>
        <p:spPr>
          <a:xfrm>
            <a:off x="2484360" y="4869000"/>
            <a:ext cx="511200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最让人恼火的无隐私场所</a:t>
            </a:r>
            <a:r>
              <a: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---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28" name="WordArt 8"/>
          <p:cNvSpPr txBox="1"/>
          <p:nvPr/>
        </p:nvSpPr>
        <p:spPr>
          <a:xfrm>
            <a:off x="1403280" y="5805360"/>
            <a:ext cx="460872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最维护隐私的场所</a:t>
            </a:r>
            <a:r>
              <a: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---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29" name="WordArt 9"/>
          <p:cNvSpPr txBox="1"/>
          <p:nvPr/>
        </p:nvSpPr>
        <p:spPr>
          <a:xfrm>
            <a:off x="1403280" y="3357720"/>
            <a:ext cx="460872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最合法获得隐私者</a:t>
            </a:r>
            <a:r>
              <a: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---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0" name="WordArt 10"/>
          <p:cNvSpPr txBox="1"/>
          <p:nvPr/>
        </p:nvSpPr>
        <p:spPr>
          <a:xfrm>
            <a:off x="5292720" y="1700280"/>
            <a:ext cx="118728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网络</a:t>
            </a:r>
            <a:endParaRPr b="1" lang="en-US" sz="36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1" name="WordArt 11"/>
          <p:cNvSpPr txBox="1"/>
          <p:nvPr/>
        </p:nvSpPr>
        <p:spPr>
          <a:xfrm>
            <a:off x="5724360" y="2492280"/>
            <a:ext cx="223236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公众人物</a:t>
            </a:r>
            <a:endParaRPr b="1" lang="en-US" sz="36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2" name="WordArt 12"/>
          <p:cNvSpPr txBox="1"/>
          <p:nvPr/>
        </p:nvSpPr>
        <p:spPr>
          <a:xfrm>
            <a:off x="6227640" y="3284640"/>
            <a:ext cx="118764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律师</a:t>
            </a:r>
            <a:endParaRPr b="1" lang="en-US" sz="36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3" name="WordArt 13"/>
          <p:cNvSpPr txBox="1"/>
          <p:nvPr/>
        </p:nvSpPr>
        <p:spPr>
          <a:xfrm>
            <a:off x="6659640" y="4005360"/>
            <a:ext cx="223344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娱乐记者</a:t>
            </a:r>
            <a:endParaRPr b="1" lang="en-US" sz="36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4" name="WordArt 14"/>
          <p:cNvSpPr txBox="1"/>
          <p:nvPr/>
        </p:nvSpPr>
        <p:spPr>
          <a:xfrm>
            <a:off x="7667640" y="4869000"/>
            <a:ext cx="118728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医院</a:t>
            </a:r>
            <a:endParaRPr b="1" lang="en-US" sz="36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5" name="WordArt 15"/>
          <p:cNvSpPr txBox="1"/>
          <p:nvPr/>
        </p:nvSpPr>
        <p:spPr>
          <a:xfrm>
            <a:off x="6300720" y="5805360"/>
            <a:ext cx="118764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银行</a:t>
            </a:r>
            <a:endParaRPr b="1" lang="en-US" sz="36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6" name="WordArt 16"/>
          <p:cNvSpPr txBox="1"/>
          <p:nvPr/>
        </p:nvSpPr>
        <p:spPr>
          <a:xfrm>
            <a:off x="611280" y="333360"/>
            <a:ext cx="26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轻松片刻</a:t>
            </a:r>
            <a:endParaRPr b="1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1908000" y="333360"/>
            <a:ext cx="50403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Bodoni MT Black"/>
              </a:rPr>
              <a:t>隐私是绿草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Bodoni MT Black"/>
              </a:rPr>
              <a:t>需要我们精心呵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Bodoni MT Black"/>
              </a:rPr>
              <a:t>愿人人都树立隐私意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Bodoni MT Black"/>
              </a:rPr>
              <a:t>同时尊重他人的隐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Bodoni MT Black"/>
              </a:rPr>
              <a:t>才能享受着自由和舒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Bodoni MT Black"/>
              </a:rPr>
              <a:t>才能享受着安宁和惬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xiangkuang2_198"/>
          <p:cNvPicPr/>
          <p:nvPr/>
        </p:nvPicPr>
        <p:blipFill>
          <a:blip r:embed="rId1"/>
          <a:stretch/>
        </p:blipFill>
        <p:spPr>
          <a:xfrm>
            <a:off x="5927760" y="2492280"/>
            <a:ext cx="3216240" cy="43657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900000" y="2781360"/>
            <a:ext cx="6048360" cy="1191240"/>
          </a:xfrm>
          <a:prstGeom prst="rect">
            <a:avLst/>
          </a:prstGeom>
          <a:noFill/>
          <a:ln w="57240">
            <a:solidFill>
              <a:srgbClr val="2124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父母的关爱与自己的隐私权发生矛盾和冲突时我们该怎么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WordArt 4"/>
          <p:cNvSpPr txBox="1"/>
          <p:nvPr/>
        </p:nvSpPr>
        <p:spPr>
          <a:xfrm>
            <a:off x="755640" y="620640"/>
            <a:ext cx="208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63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1" lang="en-US" sz="3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41" name="Picture 5" descr="1"/>
          <p:cNvPicPr/>
          <p:nvPr/>
        </p:nvPicPr>
        <p:blipFill>
          <a:blip r:embed="rId2"/>
          <a:stretch/>
        </p:blipFill>
        <p:spPr>
          <a:xfrm>
            <a:off x="6173640" y="285840"/>
            <a:ext cx="237996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窗前少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3"/>
          <p:cNvSpPr/>
          <p:nvPr/>
        </p:nvSpPr>
        <p:spPr>
          <a:xfrm>
            <a:off x="612720" y="990720"/>
            <a:ext cx="82803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构成隐私的两个要件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一为“隐”， 二为“私”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隐”即隐藏， 是当事人不愿公开，不愿让他人介入，或不宜公开，他人不宜介入的事情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私”即个人之事， 与“公”相对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是指纯粹个人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与公共利益、群体利益无关的事情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文本框 8199"/>
          <p:cNvSpPr/>
          <p:nvPr/>
        </p:nvSpPr>
        <p:spPr>
          <a:xfrm>
            <a:off x="919080" y="655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1905120" y="1143000"/>
            <a:ext cx="350496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cc66"/>
                </a:solidFill>
                <a:latin typeface="Times New Roman"/>
              </a:rPr>
              <a:t>毛茸茸 </a:t>
            </a:r>
            <a:r>
              <a:rPr b="1" lang="en-US" sz="1200" spc="-1" strike="noStrike">
                <a:solidFill>
                  <a:srgbClr val="00cc66"/>
                </a:solidFill>
                <a:latin typeface="Times New Roman"/>
              </a:rPr>
              <a:t>19:57:4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003300"/>
                </a:solidFill>
                <a:latin typeface="Times New Roman"/>
                <a:ea typeface="华文新魏"/>
              </a:rPr>
              <a:t>最近妈妈老是问我上网在干什么，想看聊天记录，烦死了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981080" y="2057400"/>
            <a:ext cx="34290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ff"/>
                </a:solidFill>
                <a:latin typeface="Times New Roman"/>
              </a:rPr>
              <a:t>苹果 </a:t>
            </a:r>
            <a:r>
              <a:rPr b="1" lang="en-US" sz="1200" spc="-1" strike="noStrike">
                <a:solidFill>
                  <a:srgbClr val="3333ff"/>
                </a:solidFill>
                <a:latin typeface="Times New Roman"/>
              </a:rPr>
              <a:t>19:58: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66"/>
                </a:solidFill>
                <a:latin typeface="幼圆"/>
                <a:ea typeface="幼圆"/>
              </a:rPr>
              <a:t>我妈妈也老是在我上</a:t>
            </a:r>
            <a:r>
              <a:rPr b="1" lang="en-US" sz="1600" spc="-1" strike="noStrike">
                <a:solidFill>
                  <a:srgbClr val="ff0066"/>
                </a:solidFill>
                <a:latin typeface="幼圆"/>
                <a:ea typeface="幼圆"/>
              </a:rPr>
              <a:t>QQ</a:t>
            </a:r>
            <a:r>
              <a:rPr b="1" lang="zh-CN" sz="1600" spc="-1" strike="noStrike">
                <a:solidFill>
                  <a:srgbClr val="ff0066"/>
                </a:solidFill>
                <a:latin typeface="幼圆"/>
                <a:ea typeface="幼圆"/>
              </a:rPr>
              <a:t>的时候张望电脑屏幕，好象我在干坏事一样</a:t>
            </a:r>
            <a:r>
              <a:rPr b="1" lang="zh-CN" sz="1600" spc="-1" strike="noStrike">
                <a:solidFill>
                  <a:srgbClr val="ff0066"/>
                </a:solidFill>
                <a:latin typeface="Wingdings"/>
                <a:ea typeface="Wingdings"/>
              </a:rPr>
              <a:t>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981080" y="2971800"/>
            <a:ext cx="3429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cc66"/>
                </a:solidFill>
                <a:latin typeface="Times New Roman"/>
              </a:rPr>
              <a:t>毛茸茸</a:t>
            </a:r>
            <a:r>
              <a:rPr b="1" lang="en-US" sz="1200" spc="-1" strike="noStrike">
                <a:solidFill>
                  <a:srgbClr val="00cc66"/>
                </a:solidFill>
                <a:latin typeface="Times New Roman"/>
              </a:rPr>
              <a:t>19:57:4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003300"/>
                </a:solidFill>
                <a:latin typeface="Times New Roman"/>
                <a:ea typeface="华文新魏"/>
              </a:rPr>
              <a:t>她还一定要我的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华文新魏"/>
              </a:rPr>
              <a:t>QQ</a:t>
            </a:r>
            <a:r>
              <a:rPr b="1" lang="zh-CN" sz="1800" spc="-1" strike="noStrike">
                <a:solidFill>
                  <a:srgbClr val="003300"/>
                </a:solidFill>
                <a:latin typeface="Times New Roman"/>
                <a:ea typeface="华文新魏"/>
              </a:rPr>
              <a:t>密码，不然不让我上网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981080" y="3962520"/>
            <a:ext cx="342900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ff"/>
                </a:solidFill>
                <a:latin typeface="Times New Roman"/>
              </a:rPr>
              <a:t>苹果 </a:t>
            </a:r>
            <a:r>
              <a:rPr b="1" lang="en-US" sz="1200" spc="-1" strike="noStrike">
                <a:solidFill>
                  <a:srgbClr val="3333ff"/>
                </a:solidFill>
                <a:latin typeface="Times New Roman"/>
              </a:rPr>
              <a:t>19:58: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66"/>
                </a:solidFill>
                <a:latin typeface="幼圆"/>
                <a:ea typeface="幼圆"/>
              </a:rPr>
              <a:t>那怎么办呀，我以后都不敢确定是不是在和你聊天了，搞不好是你妈！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s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s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背景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533520" y="1844640"/>
            <a:ext cx="8243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深夜偷车被小李发现，小李马上报警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762120" y="2697120"/>
            <a:ext cx="81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乙的父母离婚了，小李得知后广为传播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900000" y="373392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Verdana"/>
              </a:rPr>
              <a:t>问：甲的行为和乙的事情哪个属于隐私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250920" y="765000"/>
            <a:ext cx="1512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判断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E778-5909-4C70-BEE4-83CF590FED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200581161836810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01680" y="475920"/>
            <a:ext cx="8540640" cy="554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共同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甲和乙都不愿让他人知道自己的事情。具有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“隐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同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甲的行为已侵害社会秩序的行为，乙的纯属私事。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484200" y="314172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结：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任何人都不得滥用权利，如果他的私生活和个人信息与社会公共利益、社会政治生活有关，则不属于隐私，不受隐私权保护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1981080" y="3962520"/>
            <a:ext cx="3429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cc66"/>
                </a:solidFill>
                <a:latin typeface="Times New Roman"/>
              </a:rPr>
              <a:t>毛茸茸 </a:t>
            </a:r>
            <a:r>
              <a:rPr b="1" lang="en-US" sz="1200" spc="-1" strike="noStrike">
                <a:solidFill>
                  <a:srgbClr val="00cc66"/>
                </a:solidFill>
                <a:latin typeface="Times New Roman"/>
              </a:rPr>
              <a:t>19:57:4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003300"/>
                </a:solidFill>
                <a:latin typeface="Times New Roman"/>
                <a:ea typeface="华文新魏"/>
              </a:rPr>
              <a:t>唉，你说我该怎么办呀？帮帮我吧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981080" y="3048120"/>
            <a:ext cx="342900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ff"/>
                </a:solidFill>
                <a:latin typeface="Times New Roman"/>
              </a:rPr>
              <a:t>苹果 </a:t>
            </a:r>
            <a:r>
              <a:rPr b="1" lang="en-US" sz="1200" spc="-1" strike="noStrike">
                <a:solidFill>
                  <a:srgbClr val="3333ff"/>
                </a:solidFill>
                <a:latin typeface="Times New Roman"/>
              </a:rPr>
              <a:t>19:58: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66"/>
                </a:solidFill>
                <a:latin typeface="幼圆"/>
                <a:ea typeface="幼圆"/>
              </a:rPr>
              <a:t>那怎么办呀，我以后都不敢确定是不是在和你聊天了，搞不好是你妈！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981080" y="2133720"/>
            <a:ext cx="3429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cc66"/>
                </a:solidFill>
                <a:latin typeface="Times New Roman"/>
              </a:rPr>
              <a:t>毛茸茸 </a:t>
            </a:r>
            <a:r>
              <a:rPr b="1" lang="en-US" sz="1200" spc="-1" strike="noStrike">
                <a:solidFill>
                  <a:srgbClr val="00cc66"/>
                </a:solidFill>
                <a:latin typeface="Times New Roman"/>
              </a:rPr>
              <a:t>19:57:4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003300"/>
                </a:solidFill>
                <a:latin typeface="Times New Roman"/>
                <a:ea typeface="华文新魏"/>
              </a:rPr>
              <a:t>她还一定要我的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华文新魏"/>
              </a:rPr>
              <a:t>QQ</a:t>
            </a:r>
            <a:r>
              <a:rPr b="1" lang="zh-CN" sz="1800" spc="-1" strike="noStrike">
                <a:solidFill>
                  <a:srgbClr val="003300"/>
                </a:solidFill>
                <a:latin typeface="Times New Roman"/>
                <a:ea typeface="华文新魏"/>
              </a:rPr>
              <a:t>密码，不然不让我上网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905120" y="1219320"/>
            <a:ext cx="34290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ff"/>
                </a:solidFill>
                <a:latin typeface="Times New Roman"/>
              </a:rPr>
              <a:t>苹果 </a:t>
            </a:r>
            <a:r>
              <a:rPr b="1" lang="en-US" sz="1200" spc="-1" strike="noStrike">
                <a:solidFill>
                  <a:srgbClr val="3333ff"/>
                </a:solidFill>
                <a:latin typeface="Times New Roman"/>
              </a:rPr>
              <a:t>19:58: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66"/>
                </a:solidFill>
                <a:latin typeface="幼圆"/>
                <a:ea typeface="幼圆"/>
              </a:rPr>
              <a:t>我妈妈也老是在我上</a:t>
            </a:r>
            <a:r>
              <a:rPr b="1" lang="en-US" sz="1600" spc="-1" strike="noStrike">
                <a:solidFill>
                  <a:srgbClr val="ff0066"/>
                </a:solidFill>
                <a:latin typeface="幼圆"/>
                <a:ea typeface="幼圆"/>
              </a:rPr>
              <a:t>QQ</a:t>
            </a:r>
            <a:r>
              <a:rPr b="1" lang="zh-CN" sz="1600" spc="-1" strike="noStrike">
                <a:solidFill>
                  <a:srgbClr val="ff0066"/>
                </a:solidFill>
                <a:latin typeface="幼圆"/>
                <a:ea typeface="幼圆"/>
              </a:rPr>
              <a:t>的时候张望电脑屏幕，好象我在干坏事一样</a:t>
            </a:r>
            <a:r>
              <a:rPr b="1" lang="zh-CN" sz="1600" spc="-1" strike="noStrike">
                <a:solidFill>
                  <a:srgbClr val="ff0066"/>
                </a:solidFill>
                <a:latin typeface="Wingdings"/>
                <a:ea typeface="Wingdings"/>
              </a:rPr>
              <a:t>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24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838080" y="7621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04920" y="38088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大家来帮帮她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505320" y="12193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给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？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867280" y="121932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不给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？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3048120" y="60948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这个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QQ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密码到底是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947880" y="6951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一、人人有隐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511280" y="236844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08000" y="1503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隐私的涵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934920" y="215280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公民不愿为人所知或不愿公开的、与公共利益、群众利益无关的个人私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008000" y="316080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隐私的具体内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1008000" y="3718080"/>
            <a:ext cx="453564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庭住址、身体缺陷、婚恋情况、家庭关系、财产状况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5761080" y="3933720"/>
            <a:ext cx="21607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——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私人信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079640" y="4941720"/>
            <a:ext cx="446400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常生活、社会交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5761080" y="4941720"/>
            <a:ext cx="21607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——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个人私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1008000" y="5877000"/>
            <a:ext cx="446400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住宅、个人行李、书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5832360" y="5877000"/>
            <a:ext cx="21607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——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私人领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8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老师的收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甲同学向老师报告乙同学偷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个人病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著名影星刘晓庆被有关部门查出她的收入状况，发现她有偷税漏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往来的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双休日的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犯罪嫌疑人的信件往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916360" y="148428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587680" y="252108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427640" y="344952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6877080" y="206064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132000" y="402264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533760" y="450864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2716920" y="730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幼圆"/>
              </a:rPr>
              <a:t>请判断下列哪些为隐私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4427640" y="502272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412640"/>
            <a:ext cx="8229600" cy="471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信息技术越发达，隐私被披露的可能性就越大，那么，保护隐私的意义</a:t>
            </a:r>
            <a:r>
              <a:rPr b="0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必要性就十分重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8:13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05Z</dcterms:modified>
  <cp:revision>1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