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6CBE-7F11-4723-929B-1075216B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CE2-8B6E-43D8-A9C6-534F79B8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B4A-7B25-48F3-BD6D-DC6EA2C9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88F-5997-4BBA-9488-7253DE29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1BD3-764B-483E-97A4-5BAE598D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67E4-1579-4606-B78B-688EC698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F48E-676A-4135-9D91-DAAF458E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C3FB-EF56-4FE2-BB67-626F6C59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BEB4-DC6C-4511-A63D-EFC25DBD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B627-7152-4385-BB9A-0218F5ED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5084-AD9D-4134-BDC9-213E15C8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3DB-57DC-4EB2-A3C3-B111FB11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930D-F955-4064-910A-B3FE4074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B1B2-A16C-4173-A9CD-9A8540B0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5AC9-97AB-4FA1-9DC6-7193EFD9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434A-3C0F-465C-92A1-2BD2697C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3697-B20C-425C-B6C3-E67005C9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D4A-5FCB-4875-B6BB-E5C1771B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C80-4964-4C04-AC67-B44583C8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886-E3C3-4EE3-B787-176C6065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1B3-9836-4293-9B9B-D5CF806B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319-2CB4-40DF-9A19-5F3E68DF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02F-B3B4-470C-A4CF-0D065550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8C5-1ED6-436E-A780-A3B56DC3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87FC-EF14-4A84-9924-B48ED960D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6F43-C65C-4300-AB43-72A8FBC40A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yan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Text Box 3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7754760" cy="6998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9372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在梁国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有一户姓杨的人家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家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有个九岁的儿子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非常聪明。一天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君平来拜见他的父亲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恰巧他父亲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在家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孔君平就把这个孩子叫了出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孩子给孔君平端来水果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其中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孔君平指着杨梅给孩子看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并说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是你家的水果。”孩子马上答道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可没听说孔雀是先生您家的鸟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1" descr="1"/>
          <p:cNvPicPr/>
          <p:nvPr/>
        </p:nvPicPr>
        <p:blipFill>
          <a:blip r:embed="rId2"/>
          <a:stretch/>
        </p:blipFill>
        <p:spPr>
          <a:xfrm>
            <a:off x="0" y="0"/>
            <a:ext cx="8991720" cy="6743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1143000" y="144792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熟读而精思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81080" y="266688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杨氏之子的回答妙在哪里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图片1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4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447920" y="1676520"/>
            <a:ext cx="769608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孔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指以示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曰：“此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是君家果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应声答曰：“未闻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孔雀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是夫子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禽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杨氏之子的言外之意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280" y="134100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果您认为杨梅是我家的水果，那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果孔雀不是您家的鸟，那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250920" y="2276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言风趣机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50920" y="386064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想：孔君平听了孩子的话会是什么反应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26920" y="47628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79280" y="4762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说杨氏之子是个什么样的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梁国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杨氏子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九岁，甚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聪慧。孔君平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诣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其父，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在，乃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呼儿出。为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设果，果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有杨梅。孔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指以示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曰：“此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君家果。”儿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应声答曰：“未闻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孔雀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是夫子家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禽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79280" y="18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33"/>
                </a:solidFill>
                <a:latin typeface="Arial"/>
                <a:ea typeface="隶书"/>
              </a:rPr>
              <a:t>美美地读一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6F37-2945-474E-B9CB-6A0FBE0A24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1619280" y="692280"/>
            <a:ext cx="5638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拓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有关于言语表达的小故事（广告词、对联、歇后语等）吗？和同学们交流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3880" y="45720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03280" y="364500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东坡难对的千古绝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西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锡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锡壶掉西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惜乎锡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403280" y="5157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逢甲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家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子遇甲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佳姿家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634032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yang2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5560" y="0"/>
            <a:ext cx="47527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杨氏之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梁国杨氏子九岁，甚聪惠。孔君平诣其父，父不在，乃呼儿出。为设果，果有杨梅。孔指以示儿曰：“此是君家果。”儿应声答曰：“未闻孔雀是夫子家禽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2920" y="1700280"/>
            <a:ext cx="712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桥梁     优惠     造诣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乃至     子曰     家禽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762120" y="17524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4000" y="47628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梁国杨氏子九岁，甚聪惠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2781360"/>
            <a:ext cx="4262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惠：同“慧”，智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8199"/>
          <p:cNvSpPr/>
          <p:nvPr/>
        </p:nvSpPr>
        <p:spPr>
          <a:xfrm>
            <a:off x="395280" y="115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90720" y="1981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95280" y="260280"/>
            <a:ext cx="49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孔君平诣其父，父不在，乃呼儿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3657600"/>
            <a:ext cx="4648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诣：拜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乃：就，于是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4000" y="33336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为设果，果有杨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1700280"/>
            <a:ext cx="5327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  ）为（  ）设果，果有杨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468360" y="476280"/>
            <a:ext cx="38098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设果，果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儿）为（孔）设果，果有杨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设：摆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39640" y="54936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孔指以示儿曰：“此是君家果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50920" y="2781360"/>
            <a:ext cx="3581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：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曰：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yang2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95280" y="404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儿应声答曰：“未闻孔雀是夫子家禽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24000" y="3141720"/>
            <a:ext cx="3581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未：没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夫子：旧时对学者或老师的尊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8199"/>
          <p:cNvSpPr/>
          <p:nvPr/>
        </p:nvSpPr>
        <p:spPr>
          <a:xfrm>
            <a:off x="971640" y="18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3:27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48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