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83B-A4DE-430B-A6CE-6669BCEC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F09-52CC-4BF5-8FA4-40D5E552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263-265E-4A21-977D-6222A0A7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E95-64DE-48D4-AB7B-64058566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27E5-2643-45D4-821E-1882B808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E1FD-8C24-4E17-814A-750DA6CE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4072-B0E8-4FAC-852D-29342D73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175B-C432-4AE3-9AE8-A249AB71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7D94-4733-49E9-8806-557FD779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687E-7000-4BFA-AC94-CF075D31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E82B-7759-4E20-9B85-DE4F4E5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661-9443-4F28-93B5-FCAB18D0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4ED2-A05D-46C3-A1A8-15D27F82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D002-1DFD-457E-89D1-22B99ED6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6A1F-1174-45FE-B732-08224930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4AC1-EF70-40AB-A788-ED8E61D5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676C-ED51-4618-A0F7-BD33998E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BC60-F1B5-41C3-9E77-D7940F01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82A6-0E9A-443B-8DAF-9B84772F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8BA7C-AB66-4841-9B34-64F3401F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B428-010F-414B-9D91-2B467B39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F3A5F-78C1-4102-BFE2-F2104E82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10F-64B4-46DF-B979-0DD9233A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97CE-6FC0-4118-8FBC-BA573145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4DB6-65C7-43E8-8724-C99370EC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EF06E-D745-4979-8109-77E44079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168D-3691-4268-9C71-E177E2B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34B2-8FAA-4739-8D49-0763E7CA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AC72-B056-467F-888A-223248CC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94B0-D7DF-4FE3-8FE6-A2CFF26C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1FC-92DE-454F-A2BB-F22169B6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528-3FAD-4600-8D8A-1A3D0510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8DD-F801-4DF5-9BAA-593BA5FE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71C-79CB-451C-B53B-CFEC33CE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FA7-412B-4FB8-871A-979DD5B5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859-CC38-4908-BFE4-FBC572E1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图片1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6EB0-A163-4B74-BD3D-660F1E2CC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95B0-DCC7-45FB-B517-421CB7CBC5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图片1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4284720" y="0"/>
            <a:ext cx="21589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1A5C-0A22-4EAB-A035-BD152856D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2280" y="138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天的生活用水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" descr=""/>
          <p:cNvPicPr/>
          <p:nvPr/>
        </p:nvPicPr>
        <p:blipFill>
          <a:blip r:embed="rId1"/>
          <a:stretch/>
        </p:blipFill>
        <p:spPr>
          <a:xfrm>
            <a:off x="2236680" y="2852640"/>
            <a:ext cx="4516560" cy="29322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4000" y="105264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于人口迅速增长、环境污染和全球气候变暖，世界人均供水量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以来开始减少，而且持续下降。目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大陆面临淡水资源不足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个国家严重缺水，其中最严重的国家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个。预计未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全球人均供水量还将减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8200"/>
          <p:cNvSpPr/>
          <p:nvPr/>
        </p:nvSpPr>
        <p:spPr>
          <a:xfrm>
            <a:off x="1292400" y="4419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制定我的节水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约用水，从我做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AFEA-5FB9-4E49-8D93-ED07259DB0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节水计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淋浴时，抓紧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把洗脸水存起来，用于冲厕所、拖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淡水是我们人类和其他生物生存的必需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地球上的淡水资源十分有限，地球上的多数地区缺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一天要用掉多少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用哪些节约用水的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一天用了多少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拧开水龙头，水哗哗地流出来，我们每天都在用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估计一下，我一天要用掉多少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4365720"/>
          <a:ext cx="8362800" cy="1887480"/>
        </p:xfrm>
        <a:graphic>
          <a:graphicData uri="http://schemas.openxmlformats.org/drawingml/2006/table">
            <a:tbl>
              <a:tblPr/>
              <a:tblGrid>
                <a:gridCol w="1655640"/>
                <a:gridCol w="852480"/>
                <a:gridCol w="836640"/>
                <a:gridCol w="835200"/>
                <a:gridCol w="838080"/>
                <a:gridCol w="836640"/>
                <a:gridCol w="836640"/>
                <a:gridCol w="834840"/>
                <a:gridCol w="836640"/>
              </a:tblGrid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早上刷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早上洗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上午喝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估计用水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未标题-32"/>
          <p:cNvPicPr/>
          <p:nvPr/>
        </p:nvPicPr>
        <p:blipFill>
          <a:blip r:embed="rId1"/>
          <a:stretch/>
        </p:blipFill>
        <p:spPr>
          <a:xfrm>
            <a:off x="4788000" y="3908520"/>
            <a:ext cx="4356000" cy="2949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95280" y="764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查看家里的水表，我们一家一天要用掉多少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一天的用水量除以家里的人口数，就是一个人一天的平均用水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未标题-31"/>
          <p:cNvPicPr/>
          <p:nvPr/>
        </p:nvPicPr>
        <p:blipFill>
          <a:blip r:embed="rId2"/>
          <a:stretch/>
        </p:blipFill>
        <p:spPr>
          <a:xfrm>
            <a:off x="0" y="3068640"/>
            <a:ext cx="6048360" cy="3411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水量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着水龙头刷一次牙用多少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未标题-33"/>
          <p:cNvPicPr/>
          <p:nvPr/>
        </p:nvPicPr>
        <p:blipFill>
          <a:blip r:embed="rId1"/>
          <a:stretch/>
        </p:blipFill>
        <p:spPr>
          <a:xfrm>
            <a:off x="2124000" y="3141720"/>
            <a:ext cx="4781520" cy="321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539640" y="83664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杯子接水刷一次牙用多少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未标题-34"/>
          <p:cNvPicPr/>
          <p:nvPr/>
        </p:nvPicPr>
        <p:blipFill>
          <a:blip r:embed="rId1"/>
          <a:stretch/>
        </p:blipFill>
        <p:spPr>
          <a:xfrm>
            <a:off x="1692360" y="2276640"/>
            <a:ext cx="4895640" cy="334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未标题-35"/>
          <p:cNvPicPr/>
          <p:nvPr/>
        </p:nvPicPr>
        <p:blipFill>
          <a:blip r:embed="rId1"/>
          <a:stretch/>
        </p:blipFill>
        <p:spPr>
          <a:xfrm>
            <a:off x="611280" y="1771560"/>
            <a:ext cx="7848360" cy="5086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24000" y="83664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有什么原因使不同家庭之间一天的用水量不相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未标题-36"/>
          <p:cNvPicPr/>
          <p:nvPr/>
        </p:nvPicPr>
        <p:blipFill>
          <a:blip r:embed="rId1"/>
          <a:stretch/>
        </p:blipFill>
        <p:spPr>
          <a:xfrm>
            <a:off x="1116000" y="1197000"/>
            <a:ext cx="6343560" cy="459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未标题-37"/>
          <p:cNvPicPr/>
          <p:nvPr/>
        </p:nvPicPr>
        <p:blipFill>
          <a:blip r:embed="rId1"/>
          <a:stretch/>
        </p:blipFill>
        <p:spPr>
          <a:xfrm>
            <a:off x="1403280" y="1341360"/>
            <a:ext cx="5915160" cy="468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6:36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16Z</dcterms:modified>
  <cp:revision>3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