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0.gif" ContentType="image/gif"/>
  <Override PartName="/ppt/media/image55.jpeg" ContentType="image/jpeg"/>
  <Override PartName="/ppt/media/image53.jpeg" ContentType="image/jpeg"/>
  <Override PartName="/ppt/media/image20.gif" ContentType="image/gif"/>
  <Override PartName="/ppt/media/image51.jpeg" ContentType="image/jpeg"/>
  <Override PartName="/ppt/media/image48.jpeg" ContentType="image/jpeg"/>
  <Override PartName="/ppt/media/image47.jpeg" ContentType="image/jpeg"/>
  <Override PartName="/ppt/media/image90.wmf" ContentType="image/x-wmf"/>
  <Override PartName="/ppt/media/image46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56.jpeg" ContentType="image/jpeg"/>
  <Override PartName="/ppt/media/image33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jpeg" ContentType="image/jpeg"/>
  <Override PartName="/ppt/media/image23.gif" ContentType="image/gif"/>
  <Override PartName="/ppt/media/image26.png" ContentType="image/png"/>
  <Override PartName="/ppt/media/image91.png" ContentType="image/png"/>
  <Override PartName="/ppt/media/image43.jpeg" ContentType="image/jpeg"/>
  <Override PartName="/ppt/media/image28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81.png" ContentType="image/png"/>
  <Override PartName="/ppt/media/image6.png" ContentType="image/png"/>
  <Override PartName="/ppt/media/image42.jpeg" ContentType="image/jpeg"/>
  <Override PartName="/ppt/media/image59.jpeg" ContentType="image/jpeg"/>
  <Override PartName="/ppt/media/image4.jpeg" ContentType="image/jpeg"/>
  <Override PartName="/ppt/media/image25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5.jpeg" ContentType="image/jpeg"/>
  <Override PartName="/ppt/media/image74.jpeg" ContentType="image/jpeg"/>
  <Override PartName="/ppt/media/image76.jpeg" ContentType="image/jpeg"/>
  <Override PartName="/ppt/media/image102.png" ContentType="image/png"/>
  <Override PartName="/ppt/media/image85.gif" ContentType="image/gif"/>
  <Override PartName="/ppt/media/image49.jpeg" ContentType="image/jpeg"/>
  <Override PartName="/ppt/media/image82.jpeg" ContentType="image/jpeg"/>
  <Override PartName="/ppt/media/image71.jpeg" ContentType="image/jpeg"/>
  <Override PartName="/ppt/media/image89.gif" ContentType="image/gif"/>
  <Override PartName="/ppt/media/image77.png" ContentType="image/png"/>
  <Override PartName="/ppt/media/image83.jpeg" ContentType="image/jpeg"/>
  <Override PartName="/ppt/media/image95.png" ContentType="image/png"/>
  <Override PartName="/ppt/media/image103.jpeg" ContentType="image/jpeg"/>
  <Override PartName="/ppt/media/image92.jpeg" ContentType="image/jpeg"/>
  <Override PartName="/ppt/media/image65.jpeg" ContentType="image/jpeg"/>
  <Override PartName="/ppt/media/image18.jpeg" ContentType="image/jpeg"/>
  <Override PartName="/ppt/media/image50.jpeg" ContentType="image/jpeg"/>
  <Override PartName="/ppt/media/image96.gif" ContentType="image/gif"/>
  <Override PartName="/ppt/media/image99.png" ContentType="image/png"/>
  <Override PartName="/ppt/media/image86.wmf" ContentType="image/x-wmf"/>
  <Override PartName="/ppt/media/image101.png" ContentType="image/png"/>
  <Override PartName="/ppt/media/image105.jpeg" ContentType="image/jpeg"/>
  <Override PartName="/ppt/media/image97.gif" ContentType="image/gif"/>
  <Override PartName="/ppt/media/image14.jpeg" ContentType="image/jpeg"/>
  <Override PartName="/ppt/media/image41.jpeg" ContentType="image/jpeg"/>
  <Override PartName="/ppt/media/image94.gif" ContentType="image/gif"/>
  <Override PartName="/ppt/media/image87.png" ContentType="image/png"/>
  <Override PartName="/ppt/media/image80.jpeg" ContentType="image/jpeg"/>
  <Override PartName="/ppt/media/image100.jpeg" ContentType="image/jpeg"/>
  <Override PartName="/ppt/media/image93.jpeg" ContentType="image/jpeg"/>
  <Override PartName="/ppt/media/image88.gif" ContentType="image/gif"/>
  <Override PartName="/ppt/media/image84.jpeg" ContentType="image/jpeg"/>
  <Override PartName="/ppt/media/image104.jpeg" ContentType="image/jpeg"/>
  <Override PartName="/ppt/media/image67.jpeg" ContentType="image/jpeg"/>
  <Override PartName="/ppt/media/image66.jpeg" ContentType="image/jpeg"/>
  <Override PartName="/ppt/media/image64.jpeg" ContentType="image/jpeg"/>
  <Override PartName="/ppt/media/image63.jpeg" ContentType="image/jpeg"/>
  <Override PartName="/ppt/media/image61.jpeg" ContentType="image/jpeg"/>
  <Override PartName="/ppt/media/image78.jpeg" ContentType="image/jpeg"/>
  <Override PartName="/ppt/media/image24.gif" ContentType="image/gif"/>
  <Override PartName="/ppt/media/image32.jpeg" ContentType="image/jpeg"/>
  <Override PartName="/ppt/media/image73.jpeg" ContentType="image/jpeg"/>
  <Override PartName="/ppt/media/image21.gif" ContentType="image/gif"/>
  <Override PartName="/ppt/media/image27.jpeg" ContentType="image/jpeg"/>
  <Override PartName="/ppt/media/image10.jpeg" ContentType="image/jpeg"/>
  <Override PartName="/ppt/media/image17.jpeg" ContentType="image/jpeg"/>
  <Override PartName="/ppt/media/CAMERA.WAV" ContentType="audio/x-wav"/>
  <Override PartName="/ppt/media/image79.jpeg" ContentType="image/jpeg"/>
  <Override PartName="/ppt/media/image62.jpeg" ContentType="image/jpeg"/>
  <Override PartName="/ppt/media/image16.gif" ContentType="image/gif"/>
  <Override PartName="/ppt/media/image19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549-676B-4E82-9EBB-703305C8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961-CD48-40EE-87D7-1CCA4841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F44-D19A-462B-95E8-3CA5F41C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FB2-F76F-4B5E-BF5C-3C0DA7D4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A931-C049-45A4-9640-4F606B4E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DBAD-92EE-4BFC-9021-F3BC19F4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4C2A-2E2D-4773-A007-C77DED32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3CEC-25DE-4279-8964-D826D18C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C197-7DE2-4D44-9DE3-290F7BFA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008-638B-4128-9D57-3D31FD0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2161-1C68-400D-A311-85EE488C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B4A-7DB9-4DF5-9A2E-5DD24C22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832B-E72B-4EE0-AC1A-EC05895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61C0-F5E9-434C-9FA7-38C12F9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3BE5-5205-4182-84D5-3083A549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E5B3-8B7A-427B-96E3-22A56F28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5651-413E-41AA-B1C2-8A73B233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4723-7F23-44BE-95D1-3D02732D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B7F8-3071-41D1-8F0E-7ACC3EE9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4E1A-1479-4A70-A57E-FDE1A2F4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6F7B-2CD3-4E1C-82B9-FD4B5F2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52AA-CA8A-4504-BC69-20D69FA2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F94-DC48-4A1E-8CA5-D5621F5D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3E4B-3125-452E-8196-B4120690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ED61-5130-4EF6-AA16-E1AF146D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B5DD-2E22-417F-A6D7-E8275EC4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8CFD-09CE-46A9-BDD6-B6C07C85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6E8A-4FE3-4C3B-A78F-42DEEB5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AF2C-8349-4BDB-9557-9B58D602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787F-C145-4884-8107-B8E142AE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36096-B9F4-4A05-A1E4-71631908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8805-37D7-455D-8B62-23F55C77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E77A-331B-40A9-91CA-E58D3C84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9EA-D600-4297-B29B-A7949B5B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CA2D-EEAE-4598-A392-5B9ACA01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7E65-27C8-4546-BB41-769E19A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E65C-5BB6-4B7D-ADA4-6247BCC8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BD8A-407B-4981-AD9F-BDEF22E3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2561C-56C8-4EDE-86DA-BC0033E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FE19-7671-4FEB-A130-0C059A0E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489D-6A17-43DC-BCD8-ED898545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85D1-9F41-4B03-9C06-42094132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C4BC-E910-42A9-BBA5-F6D63F57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0BA61-DAEA-4600-A3A9-8AA90BFD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10F-70E2-4911-A843-58EA318C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AB18-6C88-48EE-9367-E0731C5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47DA2-132C-44C7-A001-A06B726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E9F7E-AC65-41D6-947D-86C4139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D714E-1030-4D3A-BB22-DDA0A5A3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D8A8A-BEE1-44E8-B0E6-BA095EDC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5412F-44F1-4CF1-9291-AFE0EC9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EF29-4D10-492A-8596-2204FB1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87BAB-FB37-4E2F-8CC9-22DA702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CDEA-B79A-4341-9BB6-F7DC1E7D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89EC-7B8D-4E53-B393-6832E64B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81F-23F8-4EAE-A489-42BC4C88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4ADF4-9F99-45D3-98FE-5D74A36C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A488C-0996-4CA1-939C-6E8CD06C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76C0-6383-4170-A335-D9C51F4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ACCC3-F4CB-445B-B9CA-76C58D5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2366-32FF-4797-8B32-E7522DC7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387D-5964-4AAA-A920-AB9D4D2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BA101-376D-4221-A40A-8D57392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5CB03-6E23-423C-8FA9-1F609A9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950DD-9C15-4217-B8A5-F011694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34918-1FDC-4E1A-B846-0A7BD84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D4C-0FDC-431E-B009-689FF053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1AFD0-B2EB-4E5A-99B9-FC92C648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A5651-FFD8-4185-9D91-6D00F1FD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95ACF-1C1E-455B-9275-F1B61615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2120C-050E-4FE1-A799-A7C2DD1D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9389-D3D6-4719-A64F-4076C622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D641C-3E8D-4104-B9BD-347DCAE3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40543-B774-4D4E-A164-6B52EE91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760D1-7858-48F0-938A-AD7996EF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A5D2A-01C1-4764-95AE-4664F19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7D7E2-418E-46DA-9D87-C8CB50A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5B2-6030-4928-8C82-EA216F0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F3C7-071E-4440-8441-3189AE1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F3A48-BA61-4433-86CC-7B6A5AF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3D15A-3C4C-4B0A-96BD-014F8ECB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C1156-BA5E-4FEB-AC59-D29AECC2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2E506-9793-4BEA-B073-AE3283CA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C00FF-4F6C-49A8-B3AD-04D4E0A4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9AC82-63FE-4B35-917F-9FE4C12E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9566-C918-475A-A7BF-E7D3DB66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F6886-E779-4720-BBE1-30568C8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C7C3D-6034-40CD-B38D-2F0DEB92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909-57E0-41E7-86EB-0474A818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18AAB-4703-4893-A820-9FB2B8CC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9728-CD08-4D1C-AE2C-8A8616C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51395-F984-4CC5-9D3E-29EBD914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0AEA5-F117-4349-9BE7-AA97A326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2D840-0C32-45FB-9BF4-0A0BCAF4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AAA7B-3578-4247-832A-926447C7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44A24-F067-4739-BC11-0EF95D42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7B06-615B-4581-AB49-8341573C30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9A05-2B74-4B90-A76B-8A44DF2B7A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e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0922-1AF5-4F25-B25C-D1C4907DA163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25" name="未知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9902-0F61-48EE-A890-3879AD134C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C3C9-5B8C-42AE-BC89-39C2F43FF9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1F0-81CF-4DB1-99E2-35ED4E400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Te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7C85-922E-413D-92B7-BEAA7117F39C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-1033560" y="1552680"/>
            <a:ext cx="10177200" cy="5305320"/>
            <a:chOff x="-1033560" y="1552680"/>
            <a:chExt cx="10177200" cy="5305320"/>
          </a:xfrm>
        </p:grpSpPr>
        <p:sp>
          <p:nvSpPr>
            <p:cNvPr id="293" name="未知"/>
            <p:cNvSpPr/>
            <p:nvPr/>
          </p:nvSpPr>
          <p:spPr>
            <a:xfrm>
              <a:off x="3272760" y="2710080"/>
              <a:ext cx="5870880" cy="41479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rc 4"/>
            <p:cNvSpPr/>
            <p:nvPr/>
          </p:nvSpPr>
          <p:spPr>
            <a:xfrm>
              <a:off x="-1033560" y="1552680"/>
              <a:ext cx="672516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6517-F728-40B0-8D01-93367AE11F1B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32.jpe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27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gif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64.jpeg"/><Relationship Id="rId6" Type="http://schemas.openxmlformats.org/officeDocument/2006/relationships/image" Target="../media/image6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5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wmf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268,19,&#24187;&#28783;&#29255; 19" TargetMode="External"/><Relationship Id="rId2" Type="http://schemas.openxmlformats.org/officeDocument/2006/relationships/hyperlink" Target="267,20,&#24187;&#28783;&#29255; 20" TargetMode="Externa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94.gif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96.gif"/><Relationship Id="rId3" Type="http://schemas.openxmlformats.org/officeDocument/2006/relationships/image" Target="../media/image9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jpeg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28.png"/><Relationship Id="rId7" Type="http://schemas.openxmlformats.org/officeDocument/2006/relationships/image" Target="../media/image34.jpe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9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Box 5" descr=""/>
          <p:cNvPicPr/>
          <p:nvPr/>
        </p:nvPicPr>
        <p:blipFill>
          <a:blip r:embed="rId1"/>
          <a:stretch/>
        </p:blipFill>
        <p:spPr>
          <a:xfrm>
            <a:off x="1336680" y="1090440"/>
            <a:ext cx="6048360" cy="131004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6" descr=""/>
          <p:cNvPicPr/>
          <p:nvPr/>
        </p:nvPicPr>
        <p:blipFill>
          <a:blip r:embed="rId2"/>
          <a:stretch/>
        </p:blipFill>
        <p:spPr>
          <a:xfrm>
            <a:off x="5062680" y="2538360"/>
            <a:ext cx="3747960" cy="36306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7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4572000" cy="28573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8"/>
          <p:cNvSpPr/>
          <p:nvPr/>
        </p:nvSpPr>
        <p:spPr>
          <a:xfrm>
            <a:off x="2123280" y="333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教科版四年级科学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3200400" y="304920"/>
            <a:ext cx="2666880" cy="916920"/>
          </a:xfrm>
          <a:prstGeom prst="rect">
            <a:avLst/>
          </a:prstGeom>
          <a:solidFill>
            <a:srgbClr val="ffff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99"/>
                </a:solidFill>
                <a:latin typeface="DFKai-SB"/>
                <a:ea typeface="DFKai-SB"/>
              </a:rPr>
              <a:t> </a:t>
            </a:r>
            <a:r>
              <a:rPr b="1" lang="zh-TW" sz="5400" spc="-1" strike="noStrike">
                <a:solidFill>
                  <a:srgbClr val="ff3300"/>
                </a:solidFill>
                <a:latin typeface="DFKai-SB"/>
                <a:ea typeface="DFKai-SB"/>
              </a:rPr>
              <a:t>肉 </a:t>
            </a:r>
            <a:r>
              <a:rPr b="1" lang="zh-CN" sz="5400" spc="-1" strike="noStrike">
                <a:solidFill>
                  <a:srgbClr val="ff3300"/>
                </a:solidFill>
                <a:latin typeface="DFKai-SB"/>
                <a:ea typeface="DFKai-SB"/>
              </a:rPr>
              <a:t>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牛扒"/>
          <p:cNvPicPr/>
          <p:nvPr/>
        </p:nvPicPr>
        <p:blipFill>
          <a:blip r:embed="rId1"/>
          <a:stretch/>
        </p:blipFill>
        <p:spPr>
          <a:xfrm>
            <a:off x="609480" y="4038480"/>
            <a:ext cx="3353040" cy="2598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魚"/>
          <p:cNvPicPr/>
          <p:nvPr/>
        </p:nvPicPr>
        <p:blipFill>
          <a:blip r:embed="rId2"/>
          <a:stretch/>
        </p:blipFill>
        <p:spPr>
          <a:xfrm>
            <a:off x="228600" y="1371600"/>
            <a:ext cx="2590920" cy="2341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豬扒2"/>
          <p:cNvPicPr/>
          <p:nvPr/>
        </p:nvPicPr>
        <p:blipFill>
          <a:blip r:embed="rId3"/>
          <a:stretch/>
        </p:blipFill>
        <p:spPr>
          <a:xfrm>
            <a:off x="4876920" y="4121280"/>
            <a:ext cx="3429000" cy="2508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蝦"/>
          <p:cNvPicPr/>
          <p:nvPr/>
        </p:nvPicPr>
        <p:blipFill>
          <a:blip r:embed="rId4"/>
          <a:stretch/>
        </p:blipFill>
        <p:spPr>
          <a:xfrm>
            <a:off x="2971800" y="1371600"/>
            <a:ext cx="2944800" cy="23414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蟹"/>
          <p:cNvPicPr/>
          <p:nvPr/>
        </p:nvPicPr>
        <p:blipFill>
          <a:blip r:embed="rId5"/>
          <a:stretch/>
        </p:blipFill>
        <p:spPr>
          <a:xfrm>
            <a:off x="6031080" y="1371600"/>
            <a:ext cx="3112920" cy="23414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991440" y="3068640"/>
            <a:ext cx="9396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66"/>
                </a:solidFill>
                <a:latin typeface="Arial"/>
                <a:ea typeface="PMingLiU"/>
              </a:rPr>
              <a:t>  </a:t>
            </a:r>
            <a:r>
              <a:rPr b="1" lang="zh-TW" sz="3200" spc="-1" strike="noStrike">
                <a:solidFill>
                  <a:srgbClr val="ff9966"/>
                </a:solidFill>
                <a:latin typeface="DFKai-SB"/>
                <a:ea typeface="DFKai-SB"/>
              </a:rPr>
              <a:t>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4069080" y="2990880"/>
            <a:ext cx="10090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虾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7072200" y="3048120"/>
            <a:ext cx="8953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cc"/>
                </a:solidFill>
                <a:latin typeface="Arial"/>
                <a:ea typeface="PMingLiU"/>
              </a:rPr>
              <a:t>  </a:t>
            </a:r>
            <a:r>
              <a:rPr b="0" lang="zh-TW" sz="3200" spc="-1" strike="noStrike">
                <a:solidFill>
                  <a:srgbClr val="ff66cc"/>
                </a:solidFill>
                <a:latin typeface="DFKai-SB"/>
                <a:ea typeface="DFKai-SB"/>
              </a:rPr>
              <a:t>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2524320" y="5888160"/>
            <a:ext cx="140004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cc"/>
                </a:solidFill>
                <a:latin typeface="DFKai-SB"/>
                <a:ea typeface="DFKai-SB"/>
              </a:rPr>
              <a:t>牛   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7977960" y="5992920"/>
            <a:ext cx="6681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猪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3952440" y="404640"/>
            <a:ext cx="1003680" cy="916920"/>
          </a:xfrm>
          <a:prstGeom prst="rect">
            <a:avLst/>
          </a:prstGeom>
          <a:solidFill>
            <a:srgbClr val="ffff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谷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3" descr="sd"/>
          <p:cNvPicPr/>
          <p:nvPr/>
        </p:nvPicPr>
        <p:blipFill>
          <a:blip r:embed="rId1"/>
          <a:stretch/>
        </p:blipFill>
        <p:spPr>
          <a:xfrm>
            <a:off x="5867280" y="1413000"/>
            <a:ext cx="2897280" cy="18907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toast"/>
          <p:cNvPicPr/>
          <p:nvPr/>
        </p:nvPicPr>
        <p:blipFill>
          <a:blip r:embed="rId2"/>
          <a:stretch/>
        </p:blipFill>
        <p:spPr>
          <a:xfrm>
            <a:off x="1219320" y="1600200"/>
            <a:ext cx="2481120" cy="170496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5791320" y="3276720"/>
            <a:ext cx="2985840" cy="855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馒  头</a:t>
            </a:r>
            <a:r>
              <a:rPr b="1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2614680" y="3421080"/>
            <a:ext cx="8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19320" y="2971800"/>
            <a:ext cx="25146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面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   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8" descr="1"/>
          <p:cNvPicPr/>
          <p:nvPr/>
        </p:nvPicPr>
        <p:blipFill>
          <a:blip r:embed="rId3"/>
          <a:stretch/>
        </p:blipFill>
        <p:spPr>
          <a:xfrm>
            <a:off x="2362320" y="3809880"/>
            <a:ext cx="4160880" cy="25131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9"/>
          <p:cNvSpPr/>
          <p:nvPr/>
        </p:nvSpPr>
        <p:spPr>
          <a:xfrm>
            <a:off x="2362320" y="6172200"/>
            <a:ext cx="40384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米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895480" y="457200"/>
            <a:ext cx="4038840" cy="916920"/>
          </a:xfrm>
          <a:prstGeom prst="rect">
            <a:avLst/>
          </a:prstGeom>
          <a:solidFill>
            <a:srgbClr val="ffff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黑体"/>
                <a:ea typeface="黑体"/>
              </a:rPr>
              <a:t>蔬  果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apple"/>
          <p:cNvPicPr/>
          <p:nvPr/>
        </p:nvPicPr>
        <p:blipFill>
          <a:blip r:embed="rId1"/>
          <a:stretch/>
        </p:blipFill>
        <p:spPr>
          <a:xfrm>
            <a:off x="6858000" y="18478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vg1"/>
          <p:cNvPicPr/>
          <p:nvPr/>
        </p:nvPicPr>
        <p:blipFill>
          <a:blip r:embed="rId2"/>
          <a:stretch/>
        </p:blipFill>
        <p:spPr>
          <a:xfrm>
            <a:off x="6877080" y="4292640"/>
            <a:ext cx="1846080" cy="1430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potata"/>
          <p:cNvPicPr/>
          <p:nvPr/>
        </p:nvPicPr>
        <p:blipFill>
          <a:blip r:embed="rId3"/>
          <a:stretch/>
        </p:blipFill>
        <p:spPr>
          <a:xfrm>
            <a:off x="685800" y="4419720"/>
            <a:ext cx="2878200" cy="1868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西蘭花"/>
          <p:cNvPicPr/>
          <p:nvPr/>
        </p:nvPicPr>
        <p:blipFill>
          <a:blip r:embed="rId4"/>
          <a:stretch/>
        </p:blipFill>
        <p:spPr>
          <a:xfrm>
            <a:off x="4427640" y="4149720"/>
            <a:ext cx="1520640" cy="2209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菠菜"/>
          <p:cNvPicPr/>
          <p:nvPr/>
        </p:nvPicPr>
        <p:blipFill>
          <a:blip r:embed="rId5"/>
          <a:stretch/>
        </p:blipFill>
        <p:spPr>
          <a:xfrm>
            <a:off x="1143000" y="1371600"/>
            <a:ext cx="1725480" cy="28116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or"/>
          <p:cNvPicPr/>
          <p:nvPr/>
        </p:nvPicPr>
        <p:blipFill>
          <a:blip r:embed="rId6"/>
          <a:stretch/>
        </p:blipFill>
        <p:spPr>
          <a:xfrm>
            <a:off x="3962520" y="1828800"/>
            <a:ext cx="2209680" cy="1704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9"/>
          <p:cNvSpPr/>
          <p:nvPr/>
        </p:nvSpPr>
        <p:spPr>
          <a:xfrm>
            <a:off x="4133160" y="1900800"/>
            <a:ext cx="4546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DFKai-SB"/>
              </a:rPr>
              <a:t>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7477920" y="3573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DFKai-SB"/>
              </a:rPr>
              <a:t>苹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DFKai-SB"/>
              </a:rPr>
              <a:t>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7484400" y="5943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DFKai-SB"/>
              </a:rPr>
              <a:t>白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4873320" y="3500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500"/>
                            </p:stCondLst>
                            <p:childTnLst>
                              <p:par>
                                <p:cTn id="29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3615840" y="304920"/>
            <a:ext cx="2210400" cy="916920"/>
          </a:xfrm>
          <a:prstGeom prst="rect">
            <a:avLst/>
          </a:prstGeom>
          <a:solidFill>
            <a:srgbClr val="ffff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  <a:ea typeface="DFKai-SB"/>
              </a:rPr>
              <a:t> </a:t>
            </a:r>
            <a:r>
              <a:rPr b="1" lang="zh-TW" sz="5400" spc="-1" strike="noStrike">
                <a:solidFill>
                  <a:srgbClr val="ff3300"/>
                </a:solidFill>
                <a:latin typeface="DFKai-SB"/>
                <a:ea typeface="DFKai-SB"/>
              </a:rPr>
              <a:t>乳  </a:t>
            </a:r>
            <a:r>
              <a:rPr b="1" lang="zh-CN" sz="5400" spc="-1" strike="noStrike">
                <a:solidFill>
                  <a:srgbClr val="ff3300"/>
                </a:solidFill>
                <a:latin typeface="DFKai-SB"/>
                <a:ea typeface="DFKai-SB"/>
              </a:rPr>
              <a:t>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milk"/>
          <p:cNvPicPr/>
          <p:nvPr/>
        </p:nvPicPr>
        <p:blipFill>
          <a:blip r:embed="rId1"/>
          <a:stretch/>
        </p:blipFill>
        <p:spPr>
          <a:xfrm>
            <a:off x="4114800" y="2438280"/>
            <a:ext cx="1763640" cy="2590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牛油"/>
          <p:cNvPicPr/>
          <p:nvPr/>
        </p:nvPicPr>
        <p:blipFill>
          <a:blip r:embed="rId2"/>
          <a:stretch/>
        </p:blipFill>
        <p:spPr>
          <a:xfrm>
            <a:off x="609480" y="1752480"/>
            <a:ext cx="2764080" cy="2027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乳酪"/>
          <p:cNvPicPr/>
          <p:nvPr/>
        </p:nvPicPr>
        <p:blipFill>
          <a:blip r:embed="rId3"/>
          <a:stretch/>
        </p:blipFill>
        <p:spPr>
          <a:xfrm>
            <a:off x="762120" y="4343400"/>
            <a:ext cx="2666880" cy="19699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芝士"/>
          <p:cNvPicPr/>
          <p:nvPr/>
        </p:nvPicPr>
        <p:blipFill>
          <a:blip r:embed="rId4"/>
          <a:stretch/>
        </p:blipFill>
        <p:spPr>
          <a:xfrm>
            <a:off x="6095880" y="1432080"/>
            <a:ext cx="2590920" cy="21016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雪"/>
          <p:cNvPicPr/>
          <p:nvPr/>
        </p:nvPicPr>
        <p:blipFill>
          <a:blip r:embed="rId5"/>
          <a:stretch/>
        </p:blipFill>
        <p:spPr>
          <a:xfrm>
            <a:off x="6172200" y="4724280"/>
            <a:ext cx="2492280" cy="168768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8"/>
          <p:cNvSpPr/>
          <p:nvPr/>
        </p:nvSpPr>
        <p:spPr>
          <a:xfrm>
            <a:off x="2256480" y="3144960"/>
            <a:ext cx="6685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Arial"/>
                <a:ea typeface="DFKai-SB"/>
              </a:rPr>
              <a:t>牛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7861680" y="2971800"/>
            <a:ext cx="6685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Arial"/>
                <a:ea typeface="DFKai-SB"/>
              </a:rPr>
              <a:t>芝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2332440" y="5811840"/>
            <a:ext cx="6685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Arial"/>
                <a:ea typeface="DFKai-SB"/>
              </a:rPr>
              <a:t>乳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7437960" y="5888160"/>
            <a:ext cx="6685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Arial"/>
                <a:ea typeface="DFKai-SB"/>
              </a:rPr>
              <a:t>雪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3735720" y="2416320"/>
            <a:ext cx="2390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Arial"/>
                <a:ea typeface="DFKai-SB"/>
              </a:rPr>
              <a:t>牛奶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DFKai-SB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-360" y="188640"/>
            <a:ext cx="96138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了解了食物的分类方法，那么具体地说每一类中都有那些食物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谷类及薯类：谷类包括米、面、杂粮，薯类包括马铃薯、红薯等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物性食物，包括肉、禽、鱼、奶、蛋等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豆类及其制品，包括大豆及其他干豆类；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蔬菜水果类，包括鲜豆、根茎、叶菜、茄果等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纯热能食物，包括动植物油、淀粉、食用糖和酒类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1"/>
          <p:cNvPicPr/>
          <p:nvPr/>
        </p:nvPicPr>
        <p:blipFill>
          <a:blip r:embed="rId1"/>
          <a:stretch/>
        </p:blipFill>
        <p:spPr>
          <a:xfrm>
            <a:off x="250920" y="3933720"/>
            <a:ext cx="4032000" cy="270504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3"/>
          <p:cNvSpPr/>
          <p:nvPr/>
        </p:nvSpPr>
        <p:spPr>
          <a:xfrm>
            <a:off x="3060720" y="404640"/>
            <a:ext cx="5256360" cy="3637080"/>
          </a:xfrm>
          <a:prstGeom prst="wedgeEllipseCallout">
            <a:avLst>
              <a:gd name="adj1" fmla="val -45638"/>
              <a:gd name="adj2" fmla="val 46273"/>
            </a:avLst>
          </a:prstGeom>
          <a:solidFill>
            <a:srgbClr val="dafeba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119480" y="907920"/>
            <a:ext cx="3335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黑体"/>
                <a:ea typeface="黑体"/>
              </a:rPr>
              <a:t>我们生活中有这么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黑体"/>
                <a:ea typeface="黑体"/>
              </a:rPr>
              <a:t>给食物分类的方法</a:t>
            </a:r>
            <a:r>
              <a:rPr b="1" lang="en-US" sz="4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黑体"/>
                <a:ea typeface="黑体"/>
              </a:rPr>
              <a:t>是不是能让吃变得更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黑体"/>
                <a:ea typeface="黑体"/>
              </a:rPr>
              <a:t>健康</a:t>
            </a:r>
            <a:r>
              <a:rPr b="1" lang="en-US" sz="4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  <a:ea typeface="黑体"/>
              </a:rPr>
              <a:t>更科学呢</a:t>
            </a:r>
            <a:r>
              <a:rPr b="1" lang="en-US" sz="4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611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有些食物给我们提供能量，如食用油、肉类、淀粉类等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有些能为我们提供水分和维生素，如蔬菜、水果等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我们所吃的零食也有营养素，但要合理选择零食和安排进食时间 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零食的选择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1125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营养丰富的零食酸奶、牛奶和牛肉干等食物含优质蛋白质及丰富钙质，有利于儿童生长发育及骨骼、牙齿健康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健康；一些时令水果，如苹果、番茄等含丰富的维生素、矿物质和膳食纤维，可促进肠蠕动，能防止便秘；坚果类食物如核桃、花生、瓜子等含丰富的微量元素，这些食品不仅营养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营养价值较高，而且经济实惠，是零食的首选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Arial"/>
                <a:ea typeface="黑体"/>
              </a:rPr>
              <a:t>小结：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在对一天中食物的统计中会发现，我们一天中吃的食物是很丰富的，这里面有着不同类别的食物，摄取种类丰富的食物是我们人类进食的特点。当我们吃下这样丰富的食物后，食物会给我们提供些什么营养呢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同学们可以查阅一些资料，解答这个问题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46384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195912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8" descr="10101783_200701092048401"/>
          <p:cNvPicPr/>
          <p:nvPr/>
        </p:nvPicPr>
        <p:blipFill>
          <a:blip r:embed="rId1"/>
          <a:stretch/>
        </p:blipFill>
        <p:spPr>
          <a:xfrm>
            <a:off x="5003640" y="3357720"/>
            <a:ext cx="2583000" cy="3166920"/>
          </a:xfrm>
          <a:prstGeom prst="rect">
            <a:avLst/>
          </a:prstGeom>
          <a:ln w="0">
            <a:noFill/>
          </a:ln>
        </p:spPr>
      </p:pic>
      <p:sp>
        <p:nvSpPr>
          <p:cNvPr id="492" name="WordArt 5"/>
          <p:cNvSpPr txBox="1"/>
          <p:nvPr/>
        </p:nvSpPr>
        <p:spPr>
          <a:xfrm>
            <a:off x="1042920" y="1546200"/>
            <a:ext cx="685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今天早餐你们吃了哪几种食物呢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AZ075_L"/>
          <p:cNvPicPr/>
          <p:nvPr/>
        </p:nvPicPr>
        <p:blipFill>
          <a:blip r:embed="rId1"/>
          <a:stretch/>
        </p:blipFill>
        <p:spPr>
          <a:xfrm>
            <a:off x="2050920" y="550872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DX012_L"/>
          <p:cNvPicPr/>
          <p:nvPr/>
        </p:nvPicPr>
        <p:blipFill>
          <a:blip r:embed="rId2"/>
          <a:stretch/>
        </p:blipFill>
        <p:spPr>
          <a:xfrm>
            <a:off x="3924360" y="5589720"/>
            <a:ext cx="1122480" cy="1268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Z184_L"/>
          <p:cNvPicPr/>
          <p:nvPr/>
        </p:nvPicPr>
        <p:blipFill>
          <a:blip r:embed="rId3"/>
          <a:stretch/>
        </p:blipFill>
        <p:spPr>
          <a:xfrm>
            <a:off x="5076720" y="5589720"/>
            <a:ext cx="1106640" cy="1268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Z092_L"/>
          <p:cNvPicPr/>
          <p:nvPr/>
        </p:nvPicPr>
        <p:blipFill>
          <a:blip r:embed="rId4"/>
          <a:stretch/>
        </p:blipFill>
        <p:spPr>
          <a:xfrm>
            <a:off x="7451640" y="5587920"/>
            <a:ext cx="1692360" cy="1270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CZ113_L"/>
          <p:cNvPicPr/>
          <p:nvPr/>
        </p:nvPicPr>
        <p:blipFill>
          <a:blip r:embed="rId5"/>
          <a:stretch/>
        </p:blipFill>
        <p:spPr>
          <a:xfrm>
            <a:off x="7812000" y="4508640"/>
            <a:ext cx="1332000" cy="998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CZ122_L"/>
          <p:cNvPicPr/>
          <p:nvPr/>
        </p:nvPicPr>
        <p:blipFill>
          <a:blip r:embed="rId6"/>
          <a:stretch/>
        </p:blipFill>
        <p:spPr>
          <a:xfrm>
            <a:off x="6227640" y="5589720"/>
            <a:ext cx="1108080" cy="1268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AZ188_L"/>
          <p:cNvPicPr/>
          <p:nvPr/>
        </p:nvPicPr>
        <p:blipFill>
          <a:blip r:embed="rId7"/>
          <a:stretch/>
        </p:blipFill>
        <p:spPr>
          <a:xfrm>
            <a:off x="250920" y="5484960"/>
            <a:ext cx="1763640" cy="1373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welcome"/>
          <p:cNvPicPr/>
          <p:nvPr/>
        </p:nvPicPr>
        <p:blipFill>
          <a:blip r:embed="rId8"/>
          <a:stretch/>
        </p:blipFill>
        <p:spPr>
          <a:xfrm>
            <a:off x="144360" y="147600"/>
            <a:ext cx="8748720" cy="1913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0001"/>
          <p:cNvPicPr/>
          <p:nvPr/>
        </p:nvPicPr>
        <p:blipFill>
          <a:blip r:embed="rId9"/>
          <a:stretch/>
        </p:blipFill>
        <p:spPr>
          <a:xfrm>
            <a:off x="7885080" y="2276640"/>
            <a:ext cx="1258920" cy="1133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DV161_L"/>
          <p:cNvPicPr/>
          <p:nvPr/>
        </p:nvPicPr>
        <p:blipFill>
          <a:blip r:embed="rId10"/>
          <a:stretch/>
        </p:blipFill>
        <p:spPr>
          <a:xfrm>
            <a:off x="7885080" y="3500280"/>
            <a:ext cx="1258920" cy="993960"/>
          </a:xfrm>
          <a:prstGeom prst="rect">
            <a:avLst/>
          </a:prstGeom>
          <a:ln w="0">
            <a:noFill/>
          </a:ln>
        </p:spPr>
      </p:pic>
      <p:sp>
        <p:nvSpPr>
          <p:cNvPr id="351" name="WordArt 12"/>
          <p:cNvSpPr txBox="1"/>
          <p:nvPr/>
        </p:nvSpPr>
        <p:spPr>
          <a:xfrm>
            <a:off x="71280" y="2692440"/>
            <a:ext cx="7705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latin typeface="MS PGothic"/>
              </a:rPr>
              <a:t>一天我们要吃多少种食物呢</a:t>
            </a: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latin typeface="MS PGothic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latin typeface="MS PGothic"/>
              <a:ea typeface="MS P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3104d"/>
          <p:cNvPicPr/>
          <p:nvPr/>
        </p:nvPicPr>
        <p:blipFill>
          <a:blip r:embed="rId1"/>
          <a:stretch/>
        </p:blipFill>
        <p:spPr>
          <a:xfrm>
            <a:off x="3851280" y="3186000"/>
            <a:ext cx="4896000" cy="3672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绿豆稀饭"/>
          <p:cNvPicPr/>
          <p:nvPr/>
        </p:nvPicPr>
        <p:blipFill>
          <a:blip r:embed="rId2"/>
          <a:stretch/>
        </p:blipFill>
        <p:spPr>
          <a:xfrm>
            <a:off x="322200" y="3357720"/>
            <a:ext cx="3962520" cy="3240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面包"/>
          <p:cNvPicPr/>
          <p:nvPr/>
        </p:nvPicPr>
        <p:blipFill>
          <a:blip r:embed="rId3"/>
          <a:stretch/>
        </p:blipFill>
        <p:spPr>
          <a:xfrm>
            <a:off x="4427640" y="47628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包子"/>
          <p:cNvPicPr/>
          <p:nvPr/>
        </p:nvPicPr>
        <p:blipFill>
          <a:blip r:embed="rId4"/>
          <a:stretch/>
        </p:blipFill>
        <p:spPr>
          <a:xfrm>
            <a:off x="250920" y="476280"/>
            <a:ext cx="4105080" cy="30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粗面包中含维生素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橙类水果富含维生素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几种常见的水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11731bce448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3"/>
          <p:cNvSpPr/>
          <p:nvPr/>
        </p:nvSpPr>
        <p:spPr>
          <a:xfrm>
            <a:off x="1749600" y="592200"/>
            <a:ext cx="46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注意过一天中你所吃过的食物吗？请观察下面一组图片并回答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cc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早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8640" y="1269720"/>
            <a:ext cx="84362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清晨时吃的食物记录为早餐；大多数人们喜欢在早晨吃一些易消化，热的食物（一般有，粥类，奶类，与其搭配的有面包，油条，包子，馒头等），因为早上吃这样的食物即方便消化又不会给身体带来伤害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华文仿宋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33"/>
          <p:cNvPicPr/>
          <p:nvPr/>
        </p:nvPicPr>
        <p:blipFill>
          <a:blip r:embed="rId1"/>
          <a:stretch/>
        </p:blipFill>
        <p:spPr>
          <a:xfrm>
            <a:off x="758880" y="4869000"/>
            <a:ext cx="2446200" cy="151416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5"/>
          <p:cNvGrpSpPr/>
          <p:nvPr/>
        </p:nvGrpSpPr>
        <p:grpSpPr>
          <a:xfrm>
            <a:off x="828720" y="3068640"/>
            <a:ext cx="4750920" cy="1728360"/>
            <a:chOff x="828720" y="3068640"/>
            <a:chExt cx="4750920" cy="1728360"/>
          </a:xfrm>
        </p:grpSpPr>
        <p:pic>
          <p:nvPicPr>
            <p:cNvPr id="506" name="Picture 6" descr="20100322100303_14578"/>
            <p:cNvPicPr/>
            <p:nvPr/>
          </p:nvPicPr>
          <p:blipFill>
            <a:blip r:embed="rId2"/>
            <a:stretch/>
          </p:blipFill>
          <p:spPr>
            <a:xfrm>
              <a:off x="828720" y="3068640"/>
              <a:ext cx="142452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7" descr="W020100402462518119403"/>
            <p:cNvPicPr/>
            <p:nvPr/>
          </p:nvPicPr>
          <p:blipFill>
            <a:blip r:embed="rId3"/>
            <a:stretch/>
          </p:blipFill>
          <p:spPr>
            <a:xfrm>
              <a:off x="2253240" y="3068640"/>
              <a:ext cx="1583640" cy="171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8" descr="00138f9a839c0a95ef962b"/>
            <p:cNvPicPr/>
            <p:nvPr/>
          </p:nvPicPr>
          <p:blipFill>
            <a:blip r:embed="rId4"/>
            <a:stretch/>
          </p:blipFill>
          <p:spPr>
            <a:xfrm>
              <a:off x="3837240" y="3068640"/>
              <a:ext cx="1742400" cy="170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Group 9"/>
          <p:cNvGrpSpPr/>
          <p:nvPr/>
        </p:nvGrpSpPr>
        <p:grpSpPr>
          <a:xfrm>
            <a:off x="3781440" y="3068640"/>
            <a:ext cx="4176360" cy="1728360"/>
            <a:chOff x="3781440" y="3068640"/>
            <a:chExt cx="4176360" cy="1728360"/>
          </a:xfrm>
        </p:grpSpPr>
        <p:pic>
          <p:nvPicPr>
            <p:cNvPr id="510" name="Picture 10" descr="包子"/>
            <p:cNvPicPr/>
            <p:nvPr/>
          </p:nvPicPr>
          <p:blipFill>
            <a:blip r:embed="rId5"/>
            <a:stretch/>
          </p:blipFill>
          <p:spPr>
            <a:xfrm>
              <a:off x="3781440" y="3068640"/>
              <a:ext cx="196380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1" descr="绿豆稀饭"/>
            <p:cNvPicPr/>
            <p:nvPr/>
          </p:nvPicPr>
          <p:blipFill>
            <a:blip r:embed="rId6"/>
            <a:stretch/>
          </p:blipFill>
          <p:spPr>
            <a:xfrm>
              <a:off x="5746680" y="3068640"/>
              <a:ext cx="2211120" cy="171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2" name="Picture 12" descr="豆浆"/>
          <p:cNvPicPr/>
          <p:nvPr/>
        </p:nvPicPr>
        <p:blipFill>
          <a:blip r:embed="rId7"/>
          <a:stretch/>
        </p:blipFill>
        <p:spPr>
          <a:xfrm>
            <a:off x="3203640" y="4869000"/>
            <a:ext cx="2881080" cy="15127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3" descr="1072520_180048022_2"/>
          <p:cNvPicPr/>
          <p:nvPr/>
        </p:nvPicPr>
        <p:blipFill>
          <a:blip r:embed="rId8"/>
          <a:stretch/>
        </p:blipFill>
        <p:spPr>
          <a:xfrm>
            <a:off x="6084720" y="4869000"/>
            <a:ext cx="2808360" cy="15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中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62028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华文仿宋"/>
              </a:rPr>
              <a:t>午后时为了缓解上午的体力消耗而提供的食物记录为中餐；我国的北方人喜欢吃面食，在面食中可以获得大量的糖来补充身体消耗的能力，而南方人则通过米饭获得大量的糖来补充身体消耗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826920" y="3357720"/>
            <a:ext cx="7416360" cy="1904760"/>
            <a:chOff x="826920" y="3357720"/>
            <a:chExt cx="7416360" cy="1904760"/>
          </a:xfrm>
        </p:grpSpPr>
        <p:pic>
          <p:nvPicPr>
            <p:cNvPr id="517" name="Picture 5" descr="2"/>
            <p:cNvPicPr/>
            <p:nvPr/>
          </p:nvPicPr>
          <p:blipFill>
            <a:blip r:embed="rId1"/>
            <a:stretch/>
          </p:blipFill>
          <p:spPr>
            <a:xfrm>
              <a:off x="826920" y="3357720"/>
              <a:ext cx="2540160" cy="190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8" name="Group 6"/>
            <p:cNvGrpSpPr/>
            <p:nvPr/>
          </p:nvGrpSpPr>
          <p:grpSpPr>
            <a:xfrm>
              <a:off x="3348000" y="3357720"/>
              <a:ext cx="4895280" cy="1901520"/>
              <a:chOff x="3348000" y="3357720"/>
              <a:chExt cx="4895280" cy="1901520"/>
            </a:xfrm>
          </p:grpSpPr>
          <p:pic>
            <p:nvPicPr>
              <p:cNvPr id="519" name="Picture 7" descr="1003020000225211"/>
              <p:cNvPicPr/>
              <p:nvPr/>
            </p:nvPicPr>
            <p:blipFill>
              <a:blip r:embed="rId2"/>
              <a:stretch/>
            </p:blipFill>
            <p:spPr>
              <a:xfrm>
                <a:off x="5724000" y="3357720"/>
                <a:ext cx="2519280" cy="18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0" name="Picture 8" descr="xc_ltz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3357720"/>
                <a:ext cx="2376000" cy="1901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1" name="文本框 8199"/>
          <p:cNvSpPr/>
          <p:nvPr/>
        </p:nvSpPr>
        <p:spPr>
          <a:xfrm>
            <a:off x="1909800" y="5586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Z092_L"/>
          <p:cNvPicPr/>
          <p:nvPr/>
        </p:nvPicPr>
        <p:blipFill>
          <a:blip r:embed="rId1"/>
          <a:stretch/>
        </p:blipFill>
        <p:spPr>
          <a:xfrm>
            <a:off x="4643280" y="333360"/>
            <a:ext cx="4105440" cy="2865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2"/>
          <p:cNvPicPr/>
          <p:nvPr/>
        </p:nvPicPr>
        <p:blipFill>
          <a:blip r:embed="rId2"/>
          <a:stretch/>
        </p:blipFill>
        <p:spPr>
          <a:xfrm>
            <a:off x="395280" y="3357720"/>
            <a:ext cx="3889440" cy="3024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00138f9a839c0a95ef962b"/>
          <p:cNvPicPr/>
          <p:nvPr/>
        </p:nvPicPr>
        <p:blipFill>
          <a:blip r:embed="rId3"/>
          <a:stretch/>
        </p:blipFill>
        <p:spPr>
          <a:xfrm>
            <a:off x="395280" y="333360"/>
            <a:ext cx="4176720" cy="3092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红烧鱼"/>
          <p:cNvPicPr/>
          <p:nvPr/>
        </p:nvPicPr>
        <p:blipFill>
          <a:blip r:embed="rId4"/>
          <a:stretch/>
        </p:blipFill>
        <p:spPr>
          <a:xfrm>
            <a:off x="4427640" y="3213000"/>
            <a:ext cx="4392360" cy="3311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0p93277700x1158304782"/>
          <p:cNvPicPr/>
          <p:nvPr/>
        </p:nvPicPr>
        <p:blipFill>
          <a:blip r:embed="rId5"/>
          <a:stretch/>
        </p:blipFill>
        <p:spPr>
          <a:xfrm>
            <a:off x="3348000" y="2276640"/>
            <a:ext cx="216072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晚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50560" y="691920"/>
            <a:ext cx="8893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下午或晚上时吃的食物记录为晚餐；劳累一天给疲惫的身体适当的补充一些食物来增加身体的能量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63360" y="3097080"/>
            <a:ext cx="9001080" cy="2886120"/>
            <a:chOff x="63360" y="3097080"/>
            <a:chExt cx="9001080" cy="2886120"/>
          </a:xfrm>
        </p:grpSpPr>
        <p:pic>
          <p:nvPicPr>
            <p:cNvPr id="530" name="Picture 5" descr="20080515133856502"/>
            <p:cNvPicPr/>
            <p:nvPr/>
          </p:nvPicPr>
          <p:blipFill>
            <a:blip r:embed="rId1"/>
            <a:stretch/>
          </p:blipFill>
          <p:spPr>
            <a:xfrm>
              <a:off x="63360" y="3097080"/>
              <a:ext cx="277164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6" descr="01161717555"/>
            <p:cNvPicPr/>
            <p:nvPr/>
          </p:nvPicPr>
          <p:blipFill>
            <a:blip r:embed="rId2"/>
            <a:stretch/>
          </p:blipFill>
          <p:spPr>
            <a:xfrm>
              <a:off x="2835000" y="3125520"/>
              <a:ext cx="28576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7" descr="肯得鸡"/>
            <p:cNvPicPr/>
            <p:nvPr/>
          </p:nvPicPr>
          <p:blipFill>
            <a:blip r:embed="rId3"/>
            <a:stretch/>
          </p:blipFill>
          <p:spPr>
            <a:xfrm>
              <a:off x="5673600" y="3119400"/>
              <a:ext cx="3390840" cy="28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3" name="Group 8"/>
          <p:cNvGrpSpPr/>
          <p:nvPr/>
        </p:nvGrpSpPr>
        <p:grpSpPr>
          <a:xfrm>
            <a:off x="7885080" y="6235560"/>
            <a:ext cx="1042920" cy="576360"/>
            <a:chOff x="7885080" y="6235560"/>
            <a:chExt cx="1042920" cy="576360"/>
          </a:xfrm>
        </p:grpSpPr>
        <p:sp>
          <p:nvSpPr>
            <p:cNvPr id="534" name="AutoShape 9"/>
            <p:cNvSpPr/>
            <p:nvPr/>
          </p:nvSpPr>
          <p:spPr>
            <a:xfrm>
              <a:off x="7885080" y="6235560"/>
              <a:ext cx="1042920" cy="576360"/>
            </a:xfrm>
            <a:custGeom>
              <a:avLst/>
              <a:gdLst>
                <a:gd name="textAreaLeft" fmla="*/ 37080 w 1042920"/>
                <a:gd name="textAreaRight" fmla="*/ 1005840 w 1042920"/>
                <a:gd name="textAreaTop" fmla="*/ 37080 h 576360"/>
                <a:gd name="textAreaBottom" fmla="*/ 539280 h 576360"/>
              </a:gdLst>
              <a:ahLst/>
              <a:rect l="textAreaLeft" t="textAreaTop" r="textAreaRight" b="textAreaBottom"/>
              <a:pathLst>
                <a:path w="39074" h="21600">
                  <a:moveTo>
                    <a:pt x="0" y="0"/>
                  </a:moveTo>
                  <a:lnTo>
                    <a:pt x="39074" y="0"/>
                  </a:lnTo>
                  <a:lnTo>
                    <a:pt x="39074" y="21600"/>
                  </a:lnTo>
                  <a:lnTo>
                    <a:pt x="0" y="21600"/>
                  </a:lnTo>
                  <a:close/>
                </a:path>
                <a:path fill="lightenLess" w="39074" h="21600">
                  <a:moveTo>
                    <a:pt x="0" y="0"/>
                  </a:moveTo>
                  <a:lnTo>
                    <a:pt x="39074" y="0"/>
                  </a:lnTo>
                  <a:lnTo>
                    <a:pt x="37674" y="1400"/>
                  </a:lnTo>
                  <a:lnTo>
                    <a:pt x="1400" y="1400"/>
                  </a:lnTo>
                  <a:close/>
                </a:path>
                <a:path fill="darken" w="39074" h="21600">
                  <a:moveTo>
                    <a:pt x="39074" y="0"/>
                  </a:moveTo>
                  <a:lnTo>
                    <a:pt x="39074" y="21600"/>
                  </a:lnTo>
                  <a:lnTo>
                    <a:pt x="37674" y="20200"/>
                  </a:lnTo>
                  <a:lnTo>
                    <a:pt x="37674" y="1400"/>
                  </a:lnTo>
                  <a:close/>
                </a:path>
                <a:path fill="darkenLess" w="39074" h="21600">
                  <a:moveTo>
                    <a:pt x="3907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674" y="20200"/>
                  </a:lnTo>
                  <a:close/>
                </a:path>
                <a:path fill="lighten" w="3907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7956360" y="6308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2771640" y="620640"/>
            <a:ext cx="5112000" cy="2446560"/>
          </a:xfrm>
          <a:prstGeom prst="cloudCallout">
            <a:avLst>
              <a:gd name="adj1" fmla="val -45092"/>
              <a:gd name="adj2" fmla="val 7706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299120" y="14018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4651200" y="1297080"/>
            <a:ext cx="123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一天要吃多少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食物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0009"/>
          <p:cNvPicPr/>
          <p:nvPr/>
        </p:nvPicPr>
        <p:blipFill>
          <a:blip r:embed="rId1"/>
          <a:stretch/>
        </p:blipFill>
        <p:spPr>
          <a:xfrm>
            <a:off x="971640" y="2970360"/>
            <a:ext cx="2838240" cy="38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" descr=""/>
          <p:cNvPicPr/>
          <p:nvPr/>
        </p:nvPicPr>
        <p:blipFill>
          <a:blip r:embed="rId1"/>
          <a:stretch/>
        </p:blipFill>
        <p:spPr>
          <a:xfrm>
            <a:off x="1185840" y="995400"/>
            <a:ext cx="7972560" cy="5862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1"/>
          <p:cNvPicPr/>
          <p:nvPr/>
        </p:nvPicPr>
        <p:blipFill>
          <a:blip r:embed="rId2"/>
          <a:stretch/>
        </p:blipFill>
        <p:spPr>
          <a:xfrm>
            <a:off x="912960" y="-22320"/>
            <a:ext cx="1439640" cy="19051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255240" y="12376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  <a:ea typeface="DFKai-SB"/>
              </a:rPr>
              <a:t>早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-364680" y="3141720"/>
            <a:ext cx="1277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  <a:ea typeface="DFKai-SB"/>
              </a:rPr>
              <a:t>午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83960" y="51256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  <a:ea typeface="DFKai-SB"/>
              </a:rPr>
              <a:t>晚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895480" y="228600"/>
            <a:ext cx="498168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ff"/>
                </a:solidFill>
                <a:latin typeface="黑体"/>
                <a:ea typeface="黑体"/>
              </a:rPr>
              <a:t>你昨天吃了什麼食物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396720" y="2925720"/>
            <a:ext cx="37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记录一天中的食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"/>
          <p:cNvSpPr/>
          <p:nvPr/>
        </p:nvSpPr>
        <p:spPr>
          <a:xfrm>
            <a:off x="3708360" y="170172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4140360" y="1989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早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4140360" y="3068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午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4140360" y="400536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晚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4140360" y="4941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零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500364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鸡蛋、牛奶、包子、稀饭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5003640" y="3068640"/>
            <a:ext cx="35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饭、瘦肉、土豆、辣椒、鱼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5003640" y="4076640"/>
            <a:ext cx="35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饭、白菜、胡萝卜、茄子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5076720" y="49417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牛肉干、酸奶、瓜子、水果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2627280" y="2602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温馨提示</a:t>
            </a:r>
            <a:r>
              <a:rPr b="0" lang="zh-CN" sz="6000" spc="-1" strike="noStrike">
                <a:solidFill>
                  <a:srgbClr val="0066ff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324000" y="1068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自己一天吃的每种食物写在卡片上，每张卡片只写一种食物。重复吃的要分多次记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统计一下，小组内同学一共吃了几种食物，吃的最多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长把统计数据填到展示台上的汇总表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2744280" y="0"/>
            <a:ext cx="3807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温馨提示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在记录时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我们可以按早餐、中餐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晚餐和其他来记录，可以避免遗漏，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个小组内可以分工合作，每人记录一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记录是一定要事实求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7920" y="0"/>
            <a:ext cx="140976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4" name=""/>
          <p:cNvGraphicFramePr/>
          <p:nvPr/>
        </p:nvGraphicFramePr>
        <p:xfrm>
          <a:off x="1428840" y="2643120"/>
          <a:ext cx="6429240" cy="3832200"/>
        </p:xfrm>
        <a:graphic>
          <a:graphicData uri="http://schemas.openxmlformats.org/drawingml/2006/table">
            <a:tbl>
              <a:tblPr/>
              <a:tblGrid>
                <a:gridCol w="1606680"/>
                <a:gridCol w="1608120"/>
                <a:gridCol w="1606320"/>
                <a:gridCol w="1608120"/>
              </a:tblGrid>
              <a:tr h="67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早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餐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餐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晚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餐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零  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天中，我们一共要吃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种食物，吃的最多的是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食物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e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1979640" y="260280"/>
            <a:ext cx="1224000" cy="1224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468360" y="2492280"/>
            <a:ext cx="1224000" cy="1224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5"/>
          <p:cNvSpPr/>
          <p:nvPr/>
        </p:nvSpPr>
        <p:spPr>
          <a:xfrm>
            <a:off x="3492360" y="2492280"/>
            <a:ext cx="1224000" cy="1224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6"/>
          <p:cNvSpPr/>
          <p:nvPr/>
        </p:nvSpPr>
        <p:spPr>
          <a:xfrm>
            <a:off x="1979640" y="1844640"/>
            <a:ext cx="1224000" cy="1224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0001"/>
          <p:cNvPicPr/>
          <p:nvPr/>
        </p:nvPicPr>
        <p:blipFill>
          <a:blip r:embed="rId1"/>
          <a:stretch/>
        </p:blipFill>
        <p:spPr>
          <a:xfrm>
            <a:off x="2124000" y="404640"/>
            <a:ext cx="971640" cy="962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0002"/>
          <p:cNvPicPr/>
          <p:nvPr/>
        </p:nvPicPr>
        <p:blipFill>
          <a:blip r:embed="rId2"/>
          <a:stretch/>
        </p:blipFill>
        <p:spPr>
          <a:xfrm>
            <a:off x="2124000" y="1916280"/>
            <a:ext cx="868320" cy="1009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DV190_L"/>
          <p:cNvPicPr/>
          <p:nvPr/>
        </p:nvPicPr>
        <p:blipFill>
          <a:blip r:embed="rId3"/>
          <a:stretch/>
        </p:blipFill>
        <p:spPr>
          <a:xfrm>
            <a:off x="6975360" y="0"/>
            <a:ext cx="2168640" cy="3933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0006"/>
          <p:cNvPicPr/>
          <p:nvPr/>
        </p:nvPicPr>
        <p:blipFill>
          <a:blip r:embed="rId4"/>
          <a:stretch/>
        </p:blipFill>
        <p:spPr>
          <a:xfrm>
            <a:off x="611280" y="263700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1" descr="0004"/>
          <p:cNvPicPr/>
          <p:nvPr/>
        </p:nvPicPr>
        <p:blipFill>
          <a:blip r:embed="rId5"/>
          <a:stretch/>
        </p:blipFill>
        <p:spPr>
          <a:xfrm>
            <a:off x="3635280" y="263700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565" name="WordArt 12"/>
          <p:cNvSpPr txBox="1"/>
          <p:nvPr/>
        </p:nvSpPr>
        <p:spPr>
          <a:xfrm rot="20797200">
            <a:off x="1959120" y="4000320"/>
            <a:ext cx="6394320" cy="25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990099"/>
                </a:soli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给食物分类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990099"/>
              </a:soli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116000" y="1052640"/>
            <a:ext cx="792000" cy="1439640"/>
            <a:chOff x="1116000" y="1052640"/>
            <a:chExt cx="792000" cy="1439640"/>
          </a:xfrm>
        </p:grpSpPr>
        <p:sp>
          <p:nvSpPr>
            <p:cNvPr id="567" name="Line 13"/>
            <p:cNvSpPr/>
            <p:nvPr/>
          </p:nvSpPr>
          <p:spPr>
            <a:xfrm flipH="1">
              <a:off x="1116000" y="1052640"/>
              <a:ext cx="79200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1116000" y="1052640"/>
              <a:ext cx="79200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116000" y="3789360"/>
            <a:ext cx="1081080" cy="1079640"/>
            <a:chOff x="1116000" y="3789360"/>
            <a:chExt cx="1081080" cy="1079640"/>
          </a:xfrm>
        </p:grpSpPr>
        <p:sp>
          <p:nvSpPr>
            <p:cNvPr id="570" name="Line 14"/>
            <p:cNvSpPr/>
            <p:nvPr/>
          </p:nvSpPr>
          <p:spPr>
            <a:xfrm>
              <a:off x="1116000" y="3789360"/>
              <a:ext cx="1081080" cy="107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1116000" y="378936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132000" y="1268280"/>
            <a:ext cx="792360" cy="1297080"/>
            <a:chOff x="3132000" y="1268280"/>
            <a:chExt cx="792360" cy="1297080"/>
          </a:xfrm>
        </p:grpSpPr>
        <p:sp>
          <p:nvSpPr>
            <p:cNvPr id="573" name="Line 15"/>
            <p:cNvSpPr/>
            <p:nvPr/>
          </p:nvSpPr>
          <p:spPr>
            <a:xfrm>
              <a:off x="3132000" y="1268280"/>
              <a:ext cx="792360" cy="1297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3132000" y="1268280"/>
              <a:ext cx="792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627280" y="1484280"/>
            <a:ext cx="360" cy="358920"/>
            <a:chOff x="2627280" y="1484280"/>
            <a:chExt cx="360" cy="358920"/>
          </a:xfrm>
        </p:grpSpPr>
        <p:sp>
          <p:nvSpPr>
            <p:cNvPr id="576" name="Line 16"/>
            <p:cNvSpPr/>
            <p:nvPr/>
          </p:nvSpPr>
          <p:spPr>
            <a:xfrm>
              <a:off x="2627280" y="14842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2627280" y="1484280"/>
              <a:ext cx="36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132000" y="2924280"/>
            <a:ext cx="360360" cy="360360"/>
            <a:chOff x="3132000" y="2924280"/>
            <a:chExt cx="360360" cy="360360"/>
          </a:xfrm>
        </p:grpSpPr>
        <p:sp>
          <p:nvSpPr>
            <p:cNvPr id="579" name="Line 17"/>
            <p:cNvSpPr/>
            <p:nvPr/>
          </p:nvSpPr>
          <p:spPr>
            <a:xfrm>
              <a:off x="3132000" y="292428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3132000" y="29242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547280" y="2708280"/>
            <a:ext cx="360720" cy="289080"/>
            <a:chOff x="1547280" y="2708280"/>
            <a:chExt cx="360720" cy="289080"/>
          </a:xfrm>
        </p:grpSpPr>
        <p:sp>
          <p:nvSpPr>
            <p:cNvPr id="582" name="Line 18"/>
            <p:cNvSpPr/>
            <p:nvPr/>
          </p:nvSpPr>
          <p:spPr>
            <a:xfrm flipH="1">
              <a:off x="1547280" y="2708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1547640" y="2708280"/>
              <a:ext cx="36036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700360" y="3141720"/>
            <a:ext cx="431640" cy="1150920"/>
            <a:chOff x="2700360" y="3141720"/>
            <a:chExt cx="431640" cy="1150920"/>
          </a:xfrm>
        </p:grpSpPr>
        <p:sp>
          <p:nvSpPr>
            <p:cNvPr id="585" name="Line 19"/>
            <p:cNvSpPr/>
            <p:nvPr/>
          </p:nvSpPr>
          <p:spPr>
            <a:xfrm>
              <a:off x="2700360" y="3141720"/>
              <a:ext cx="431640" cy="115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2700360" y="3141720"/>
              <a:ext cx="43164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" name="Picture 20" descr="AZ066_L"/>
          <p:cNvPicPr/>
          <p:nvPr/>
        </p:nvPicPr>
        <p:blipFill>
          <a:blip r:embed="rId6"/>
          <a:stretch/>
        </p:blipFill>
        <p:spPr>
          <a:xfrm rot="2903400">
            <a:off x="156600" y="5108400"/>
            <a:ext cx="1711440" cy="1282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1" descr="AZ066_L"/>
          <p:cNvPicPr/>
          <p:nvPr/>
        </p:nvPicPr>
        <p:blipFill>
          <a:blip r:embed="rId7"/>
          <a:stretch/>
        </p:blipFill>
        <p:spPr>
          <a:xfrm rot="7060200">
            <a:off x="4317840" y="799920"/>
            <a:ext cx="2593800" cy="19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5"/>
          <p:cNvSpPr/>
          <p:nvPr/>
        </p:nvSpPr>
        <p:spPr>
          <a:xfrm>
            <a:off x="3995640" y="981000"/>
            <a:ext cx="3384720" cy="15843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6" descr="0012"/>
          <p:cNvPicPr/>
          <p:nvPr/>
        </p:nvPicPr>
        <p:blipFill>
          <a:blip r:embed="rId2"/>
          <a:stretch/>
        </p:blipFill>
        <p:spPr>
          <a:xfrm>
            <a:off x="4284720" y="836640"/>
            <a:ext cx="1324080" cy="1628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0006"/>
          <p:cNvPicPr/>
          <p:nvPr/>
        </p:nvPicPr>
        <p:blipFill>
          <a:blip r:embed="rId3"/>
          <a:stretch/>
        </p:blipFill>
        <p:spPr>
          <a:xfrm>
            <a:off x="5724360" y="1125360"/>
            <a:ext cx="979560" cy="12240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8"/>
          <p:cNvSpPr/>
          <p:nvPr/>
        </p:nvSpPr>
        <p:spPr>
          <a:xfrm>
            <a:off x="4140360" y="314172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自己的生活经验进行分类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说出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"/>
          <p:cNvPicPr/>
          <p:nvPr/>
        </p:nvPicPr>
        <p:blipFill>
          <a:blip r:embed="rId4"/>
          <a:stretch/>
        </p:blipFill>
        <p:spPr>
          <a:xfrm>
            <a:off x="0" y="3174840"/>
            <a:ext cx="4105440" cy="36831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3851280" cy="3079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2008124141529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684360" y="1162080"/>
            <a:ext cx="777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议一议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可以怎么分，分几类，理由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分一分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把同一类的食物摆成竖行，插在分类记录表上，并在排头写上食物的类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想一想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还可以怎么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252360" y="3141720"/>
            <a:ext cx="22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给食物分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/>
          <p:cNvSpPr/>
          <p:nvPr/>
        </p:nvSpPr>
        <p:spPr>
          <a:xfrm>
            <a:off x="2629080" y="1052640"/>
            <a:ext cx="288720" cy="4752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123840 h 4752720"/>
              <a:gd name="textAreaBottom" fmla="*/ 4628880 h 47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3132000" y="4508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食物来源分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3203640" y="551808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熟和生分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3132000" y="357336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生活习惯分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3132000" y="2925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味道分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132000" y="981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主副食分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132000" y="1628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时间分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5148360" y="1628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、中、晚餐和其他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5148360" y="2349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、不喜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5148360" y="29257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甜、咸、苦、辣、酸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5148360" y="35020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粮食、蔬菜、肉类、奶制品、水果、调味品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5292720" y="55180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食、生食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5148360" y="4437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类（素食）、动物类（荤食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6"/>
          <p:cNvSpPr/>
          <p:nvPr/>
        </p:nvSpPr>
        <p:spPr>
          <a:xfrm>
            <a:off x="3132000" y="2349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喜好分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7"/>
          <p:cNvSpPr/>
          <p:nvPr/>
        </p:nvSpPr>
        <p:spPr>
          <a:xfrm>
            <a:off x="5221440" y="981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食、副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cc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按食物的来源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为两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一类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植物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类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物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934200" y="199980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植物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"/>
          <p:cNvSpPr/>
          <p:nvPr/>
        </p:nvSpPr>
        <p:spPr>
          <a:xfrm>
            <a:off x="1763640" y="1268280"/>
            <a:ext cx="360360" cy="3745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97200 h 3745080"/>
              <a:gd name="textAreaBottom" fmla="*/ 364788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243252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359800" y="27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2484360" y="4437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2432520" y="4365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8" descr="0004"/>
          <p:cNvPicPr/>
          <p:nvPr/>
        </p:nvPicPr>
        <p:blipFill>
          <a:blip r:embed="rId1"/>
          <a:stretch/>
        </p:blipFill>
        <p:spPr>
          <a:xfrm>
            <a:off x="3924360" y="6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9" descr="014n"/>
          <p:cNvPicPr/>
          <p:nvPr/>
        </p:nvPicPr>
        <p:blipFill>
          <a:blip r:embed="rId2"/>
          <a:stretch/>
        </p:blipFill>
        <p:spPr>
          <a:xfrm>
            <a:off x="4067280" y="2421000"/>
            <a:ext cx="1047600" cy="17272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" descr="0p93277700x1158304782"/>
          <p:cNvPicPr/>
          <p:nvPr/>
        </p:nvPicPr>
        <p:blipFill>
          <a:blip r:embed="rId3"/>
          <a:stretch/>
        </p:blipFill>
        <p:spPr>
          <a:xfrm>
            <a:off x="3708360" y="4076640"/>
            <a:ext cx="2160720" cy="180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/>
          <p:cNvSpPr/>
          <p:nvPr/>
        </p:nvSpPr>
        <p:spPr>
          <a:xfrm>
            <a:off x="1547640" y="907920"/>
            <a:ext cx="648000" cy="4824720"/>
          </a:xfrm>
          <a:custGeom>
            <a:avLst/>
            <a:gdLst>
              <a:gd name="textAreaLeft" fmla="*/ 414000 w 648000"/>
              <a:gd name="textAreaRight" fmla="*/ 648000 w 648000"/>
              <a:gd name="textAreaTop" fmla="*/ 125280 h 4824720"/>
              <a:gd name="textAreaBottom" fmla="*/ 469944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925200" y="231300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动物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2351520" y="83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235152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2432520" y="501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7" descr="0006"/>
          <p:cNvPicPr/>
          <p:nvPr/>
        </p:nvPicPr>
        <p:blipFill>
          <a:blip r:embed="rId1"/>
          <a:stretch/>
        </p:blipFill>
        <p:spPr>
          <a:xfrm>
            <a:off x="3564000" y="4653000"/>
            <a:ext cx="1873080" cy="14349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0001"/>
          <p:cNvPicPr/>
          <p:nvPr/>
        </p:nvPicPr>
        <p:blipFill>
          <a:blip r:embed="rId2"/>
          <a:stretch/>
        </p:blipFill>
        <p:spPr>
          <a:xfrm>
            <a:off x="3564000" y="2852640"/>
            <a:ext cx="1601640" cy="14414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9" descr="0008"/>
          <p:cNvPicPr/>
          <p:nvPr/>
        </p:nvPicPr>
        <p:blipFill>
          <a:blip r:embed="rId3"/>
          <a:stretch/>
        </p:blipFill>
        <p:spPr>
          <a:xfrm>
            <a:off x="3059280" y="549360"/>
            <a:ext cx="2160360" cy="88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e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"/>
          <p:cNvSpPr/>
          <p:nvPr/>
        </p:nvSpPr>
        <p:spPr>
          <a:xfrm>
            <a:off x="1979640" y="260280"/>
            <a:ext cx="1224000" cy="1224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"/>
          <p:cNvSpPr/>
          <p:nvPr/>
        </p:nvSpPr>
        <p:spPr>
          <a:xfrm>
            <a:off x="468360" y="2492280"/>
            <a:ext cx="1224000" cy="1224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3492360" y="2492280"/>
            <a:ext cx="1224000" cy="1224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1979640" y="1844640"/>
            <a:ext cx="1224000" cy="1224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7" descr="0001"/>
          <p:cNvPicPr/>
          <p:nvPr/>
        </p:nvPicPr>
        <p:blipFill>
          <a:blip r:embed="rId1"/>
          <a:stretch/>
        </p:blipFill>
        <p:spPr>
          <a:xfrm>
            <a:off x="2124000" y="404640"/>
            <a:ext cx="971640" cy="962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0002"/>
          <p:cNvPicPr/>
          <p:nvPr/>
        </p:nvPicPr>
        <p:blipFill>
          <a:blip r:embed="rId2"/>
          <a:stretch/>
        </p:blipFill>
        <p:spPr>
          <a:xfrm>
            <a:off x="2124000" y="1916280"/>
            <a:ext cx="868320" cy="1009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DV190_L"/>
          <p:cNvPicPr/>
          <p:nvPr/>
        </p:nvPicPr>
        <p:blipFill>
          <a:blip r:embed="rId3"/>
          <a:stretch/>
        </p:blipFill>
        <p:spPr>
          <a:xfrm>
            <a:off x="6975360" y="0"/>
            <a:ext cx="2168640" cy="3933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0006"/>
          <p:cNvPicPr/>
          <p:nvPr/>
        </p:nvPicPr>
        <p:blipFill>
          <a:blip r:embed="rId4"/>
          <a:stretch/>
        </p:blipFill>
        <p:spPr>
          <a:xfrm>
            <a:off x="611280" y="263700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0004"/>
          <p:cNvPicPr/>
          <p:nvPr/>
        </p:nvPicPr>
        <p:blipFill>
          <a:blip r:embed="rId5"/>
          <a:stretch/>
        </p:blipFill>
        <p:spPr>
          <a:xfrm>
            <a:off x="3635280" y="263700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368" name="WordArt 12"/>
          <p:cNvSpPr txBox="1"/>
          <p:nvPr/>
        </p:nvSpPr>
        <p:spPr>
          <a:xfrm rot="20797200">
            <a:off x="1959120" y="4000320"/>
            <a:ext cx="6394320" cy="25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99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对食物进行分类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99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16000" y="1052640"/>
            <a:ext cx="792000" cy="1439640"/>
            <a:chOff x="1116000" y="1052640"/>
            <a:chExt cx="792000" cy="1439640"/>
          </a:xfrm>
        </p:grpSpPr>
        <p:sp>
          <p:nvSpPr>
            <p:cNvPr id="370" name="Line 13"/>
            <p:cNvSpPr/>
            <p:nvPr/>
          </p:nvSpPr>
          <p:spPr>
            <a:xfrm flipH="1">
              <a:off x="1116000" y="1052640"/>
              <a:ext cx="79200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1116000" y="1052640"/>
              <a:ext cx="79200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16000" y="3789360"/>
            <a:ext cx="1081080" cy="1079640"/>
            <a:chOff x="1116000" y="3789360"/>
            <a:chExt cx="1081080" cy="1079640"/>
          </a:xfrm>
        </p:grpSpPr>
        <p:sp>
          <p:nvSpPr>
            <p:cNvPr id="373" name="Line 14"/>
            <p:cNvSpPr/>
            <p:nvPr/>
          </p:nvSpPr>
          <p:spPr>
            <a:xfrm>
              <a:off x="1116000" y="3789360"/>
              <a:ext cx="1081080" cy="107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1116000" y="378936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132000" y="1268280"/>
            <a:ext cx="792360" cy="1297080"/>
            <a:chOff x="3132000" y="1268280"/>
            <a:chExt cx="792360" cy="1297080"/>
          </a:xfrm>
        </p:grpSpPr>
        <p:sp>
          <p:nvSpPr>
            <p:cNvPr id="376" name="Line 15"/>
            <p:cNvSpPr/>
            <p:nvPr/>
          </p:nvSpPr>
          <p:spPr>
            <a:xfrm>
              <a:off x="3132000" y="1268280"/>
              <a:ext cx="792360" cy="1297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132000" y="1268280"/>
              <a:ext cx="792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627280" y="1484280"/>
            <a:ext cx="360" cy="358920"/>
            <a:chOff x="2627280" y="1484280"/>
            <a:chExt cx="360" cy="358920"/>
          </a:xfrm>
        </p:grpSpPr>
        <p:sp>
          <p:nvSpPr>
            <p:cNvPr id="379" name="Line 16"/>
            <p:cNvSpPr/>
            <p:nvPr/>
          </p:nvSpPr>
          <p:spPr>
            <a:xfrm>
              <a:off x="2627280" y="14842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627280" y="1484280"/>
              <a:ext cx="36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132000" y="2924280"/>
            <a:ext cx="360360" cy="360360"/>
            <a:chOff x="3132000" y="2924280"/>
            <a:chExt cx="360360" cy="360360"/>
          </a:xfrm>
        </p:grpSpPr>
        <p:sp>
          <p:nvSpPr>
            <p:cNvPr id="382" name="Line 17"/>
            <p:cNvSpPr/>
            <p:nvPr/>
          </p:nvSpPr>
          <p:spPr>
            <a:xfrm>
              <a:off x="3132000" y="292428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132000" y="29242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547280" y="2708280"/>
            <a:ext cx="360720" cy="289080"/>
            <a:chOff x="1547280" y="2708280"/>
            <a:chExt cx="360720" cy="289080"/>
          </a:xfrm>
        </p:grpSpPr>
        <p:sp>
          <p:nvSpPr>
            <p:cNvPr id="385" name="Line 18"/>
            <p:cNvSpPr/>
            <p:nvPr/>
          </p:nvSpPr>
          <p:spPr>
            <a:xfrm flipH="1">
              <a:off x="1547280" y="2708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1547640" y="2708280"/>
              <a:ext cx="36036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700360" y="3141720"/>
            <a:ext cx="431640" cy="1150920"/>
            <a:chOff x="2700360" y="3141720"/>
            <a:chExt cx="431640" cy="1150920"/>
          </a:xfrm>
        </p:grpSpPr>
        <p:sp>
          <p:nvSpPr>
            <p:cNvPr id="388" name="Line 19"/>
            <p:cNvSpPr/>
            <p:nvPr/>
          </p:nvSpPr>
          <p:spPr>
            <a:xfrm>
              <a:off x="2700360" y="3141720"/>
              <a:ext cx="431640" cy="115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2700360" y="3141720"/>
              <a:ext cx="43164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0" descr="AZ066_L"/>
          <p:cNvPicPr/>
          <p:nvPr/>
        </p:nvPicPr>
        <p:blipFill>
          <a:blip r:embed="rId6"/>
          <a:stretch/>
        </p:blipFill>
        <p:spPr>
          <a:xfrm rot="2903400">
            <a:off x="156600" y="5108400"/>
            <a:ext cx="1711440" cy="1282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1" descr="AZ066_L"/>
          <p:cNvPicPr/>
          <p:nvPr/>
        </p:nvPicPr>
        <p:blipFill>
          <a:blip r:embed="rId7"/>
          <a:stretch/>
        </p:blipFill>
        <p:spPr>
          <a:xfrm rot="7060200">
            <a:off x="4317840" y="799920"/>
            <a:ext cx="259380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p20095290344613474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根据食物的生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为两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熟食：不能生吃，必须加热熟了才能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生食：能生吃，不一定加热熟了才能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2"/>
          <p:cNvSpPr/>
          <p:nvPr/>
        </p:nvSpPr>
        <p:spPr>
          <a:xfrm>
            <a:off x="826920" y="2276640"/>
            <a:ext cx="576360" cy="2232000"/>
          </a:xfrm>
          <a:custGeom>
            <a:avLst/>
            <a:gdLst>
              <a:gd name="textAreaLeft" fmla="*/ 73080 w 576360"/>
              <a:gd name="textAreaRight" fmla="*/ 503280 w 576360"/>
              <a:gd name="textAreaTop" fmla="*/ 73080 h 2232000"/>
              <a:gd name="textAreaBottom" fmla="*/ 2158920 h 2232000"/>
            </a:gdLst>
            <a:ahLst/>
            <a:rect l="textAreaLeft" t="textAreaTop" r="textAreaRight" b="textAreaBottom"/>
            <a:pathLst>
              <a:path w="21600" h="83609">
                <a:moveTo>
                  <a:pt x="9371" y="0"/>
                </a:moveTo>
                <a:arcTo wR="9371" hR="9371" stAng="16200000" swAng="-5400000"/>
                <a:lnTo>
                  <a:pt x="0" y="74238"/>
                </a:lnTo>
                <a:arcTo wR="9371" hR="9371" stAng="10800000" swAng="-5400000"/>
                <a:lnTo>
                  <a:pt x="12229" y="83609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3"/>
          <p:cNvSpPr/>
          <p:nvPr/>
        </p:nvSpPr>
        <p:spPr>
          <a:xfrm>
            <a:off x="1547640" y="1413000"/>
            <a:ext cx="287640" cy="3959280"/>
          </a:xfrm>
          <a:custGeom>
            <a:avLst/>
            <a:gdLst>
              <a:gd name="textAreaLeft" fmla="*/ 183960 w 287640"/>
              <a:gd name="textAreaRight" fmla="*/ 288000 w 287640"/>
              <a:gd name="textAreaTop" fmla="*/ 125280 h 3959280"/>
              <a:gd name="textAreaBottom" fmla="*/ 383400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3"/>
                  <a:pt x="10800" y="2186"/>
                </a:cubicBezTo>
                <a:lnTo>
                  <a:pt x="10800" y="8614"/>
                </a:lnTo>
                <a:cubicBezTo>
                  <a:pt x="10800" y="9707"/>
                  <a:pt x="5400" y="10800"/>
                  <a:pt x="0" y="10800"/>
                </a:cubicBezTo>
                <a:cubicBezTo>
                  <a:pt x="5400" y="10800"/>
                  <a:pt x="10800" y="11893"/>
                  <a:pt x="10800" y="12986"/>
                </a:cubicBezTo>
                <a:lnTo>
                  <a:pt x="10800" y="19414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4"/>
          <p:cNvSpPr/>
          <p:nvPr/>
        </p:nvSpPr>
        <p:spPr>
          <a:xfrm>
            <a:off x="2916360" y="333360"/>
            <a:ext cx="287280" cy="237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84600 h 2376360"/>
              <a:gd name="textAreaBottom" fmla="*/ 229176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2"/>
                  <a:pt x="10800" y="2464"/>
                </a:cubicBezTo>
                <a:lnTo>
                  <a:pt x="10800" y="8459"/>
                </a:lnTo>
                <a:cubicBezTo>
                  <a:pt x="10800" y="9691"/>
                  <a:pt x="5400" y="10923"/>
                  <a:pt x="0" y="10923"/>
                </a:cubicBezTo>
                <a:cubicBezTo>
                  <a:pt x="5400" y="10923"/>
                  <a:pt x="10800" y="12155"/>
                  <a:pt x="10800" y="13387"/>
                </a:cubicBezTo>
                <a:lnTo>
                  <a:pt x="10800" y="19136"/>
                </a:lnTo>
                <a:cubicBezTo>
                  <a:pt x="10800" y="20368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/>
          <p:cNvSpPr/>
          <p:nvPr/>
        </p:nvSpPr>
        <p:spPr>
          <a:xfrm>
            <a:off x="2959200" y="4076640"/>
            <a:ext cx="287280" cy="2376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84600 h 2376720"/>
              <a:gd name="textAreaBottom" fmla="*/ 229212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2"/>
                  <a:pt x="10800" y="2464"/>
                </a:cubicBezTo>
                <a:lnTo>
                  <a:pt x="10800" y="8459"/>
                </a:lnTo>
                <a:cubicBezTo>
                  <a:pt x="10800" y="9691"/>
                  <a:pt x="5400" y="10923"/>
                  <a:pt x="0" y="10923"/>
                </a:cubicBezTo>
                <a:cubicBezTo>
                  <a:pt x="5400" y="10923"/>
                  <a:pt x="10800" y="12155"/>
                  <a:pt x="10800" y="13387"/>
                </a:cubicBezTo>
                <a:lnTo>
                  <a:pt x="10800" y="19136"/>
                </a:lnTo>
                <a:cubicBezTo>
                  <a:pt x="10800" y="20368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6"/>
          <p:cNvSpPr/>
          <p:nvPr/>
        </p:nvSpPr>
        <p:spPr>
          <a:xfrm>
            <a:off x="2195640" y="3860640"/>
            <a:ext cx="576000" cy="2232360"/>
          </a:xfrm>
          <a:custGeom>
            <a:avLst/>
            <a:gdLst>
              <a:gd name="textAreaLeft" fmla="*/ 73080 w 576000"/>
              <a:gd name="textAreaRight" fmla="*/ 502920 w 576000"/>
              <a:gd name="textAreaTop" fmla="*/ 73080 h 2232360"/>
              <a:gd name="textAreaBottom" fmla="*/ 2159280 h 2232360"/>
            </a:gdLst>
            <a:ahLst/>
            <a:rect l="textAreaLeft" t="textAreaTop" r="textAreaRight" b="textAreaBottom"/>
            <a:pathLst>
              <a:path w="21600" h="83675">
                <a:moveTo>
                  <a:pt x="9371" y="0"/>
                </a:moveTo>
                <a:arcTo wR="9371" hR="9371" stAng="16200000" swAng="-5400000"/>
                <a:lnTo>
                  <a:pt x="0" y="74304"/>
                </a:lnTo>
                <a:arcTo wR="9371" hR="9371" stAng="10800000" swAng="-5400000"/>
                <a:lnTo>
                  <a:pt x="12229" y="83675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1979640" y="476280"/>
            <a:ext cx="576360" cy="2232000"/>
          </a:xfrm>
          <a:custGeom>
            <a:avLst/>
            <a:gdLst>
              <a:gd name="textAreaLeft" fmla="*/ 73080 w 576360"/>
              <a:gd name="textAreaRight" fmla="*/ 503280 w 576360"/>
              <a:gd name="textAreaTop" fmla="*/ 73080 h 2232000"/>
              <a:gd name="textAreaBottom" fmla="*/ 2158920 h 2232000"/>
            </a:gdLst>
            <a:ahLst/>
            <a:rect l="textAreaLeft" t="textAreaTop" r="textAreaRight" b="textAreaBottom"/>
            <a:pathLst>
              <a:path w="21600" h="83609">
                <a:moveTo>
                  <a:pt x="9371" y="0"/>
                </a:moveTo>
                <a:arcTo wR="9371" hR="9371" stAng="16200000" swAng="-5400000"/>
                <a:lnTo>
                  <a:pt x="0" y="74238"/>
                </a:lnTo>
                <a:arcTo wR="9371" hR="9371" stAng="10800000" swAng="-5400000"/>
                <a:lnTo>
                  <a:pt x="12229" y="83609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"/>
          <p:cNvSpPr/>
          <p:nvPr/>
        </p:nvSpPr>
        <p:spPr>
          <a:xfrm rot="5400000">
            <a:off x="4171320" y="-639000"/>
            <a:ext cx="576000" cy="2232000"/>
          </a:xfrm>
          <a:custGeom>
            <a:avLst/>
            <a:gdLst>
              <a:gd name="textAreaLeft" fmla="*/ 73080 w 576000"/>
              <a:gd name="textAreaRight" fmla="*/ 502920 w 576000"/>
              <a:gd name="textAreaTop" fmla="*/ 73080 h 2232000"/>
              <a:gd name="textAreaBottom" fmla="*/ 2158920 h 2232000"/>
            </a:gdLst>
            <a:ahLst/>
            <a:rect l="textAreaLeft" t="textAreaTop" r="textAreaRight" b="textAreaBottom"/>
            <a:pathLst>
              <a:path w="21600" h="83661">
                <a:moveTo>
                  <a:pt x="9371" y="0"/>
                </a:moveTo>
                <a:arcTo wR="9371" hR="9371" stAng="16200000" swAng="-5400000"/>
                <a:lnTo>
                  <a:pt x="0" y="74290"/>
                </a:lnTo>
                <a:arcTo wR="9371" hR="9371" stAng="10800000" swAng="-5400000"/>
                <a:lnTo>
                  <a:pt x="12229" y="83661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9"/>
          <p:cNvSpPr/>
          <p:nvPr/>
        </p:nvSpPr>
        <p:spPr>
          <a:xfrm rot="5400000">
            <a:off x="4173120" y="106200"/>
            <a:ext cx="574920" cy="2232000"/>
          </a:xfrm>
          <a:custGeom>
            <a:avLst/>
            <a:gdLst>
              <a:gd name="textAreaLeft" fmla="*/ 73080 w 574920"/>
              <a:gd name="textAreaRight" fmla="*/ 501840 w 574920"/>
              <a:gd name="textAreaTop" fmla="*/ 73080 h 2232000"/>
              <a:gd name="textAreaBottom" fmla="*/ 2158920 h 2232000"/>
            </a:gdLst>
            <a:ahLst/>
            <a:rect l="textAreaLeft" t="textAreaTop" r="textAreaRight" b="textAreaBottom"/>
            <a:pathLst>
              <a:path w="21600" h="83818">
                <a:moveTo>
                  <a:pt x="9371" y="0"/>
                </a:moveTo>
                <a:arcTo wR="9371" hR="9371" stAng="16200000" swAng="-5400000"/>
                <a:lnTo>
                  <a:pt x="0" y="74447"/>
                </a:lnTo>
                <a:arcTo wR="9371" hR="9371" stAng="10800000" swAng="-5400000"/>
                <a:lnTo>
                  <a:pt x="12229" y="83818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0"/>
          <p:cNvSpPr/>
          <p:nvPr/>
        </p:nvSpPr>
        <p:spPr>
          <a:xfrm rot="5400000">
            <a:off x="4155120" y="838800"/>
            <a:ext cx="576360" cy="2232000"/>
          </a:xfrm>
          <a:custGeom>
            <a:avLst/>
            <a:gdLst>
              <a:gd name="textAreaLeft" fmla="*/ 73080 w 576360"/>
              <a:gd name="textAreaRight" fmla="*/ 503280 w 576360"/>
              <a:gd name="textAreaTop" fmla="*/ 73080 h 2232000"/>
              <a:gd name="textAreaBottom" fmla="*/ 2158920 h 2232000"/>
            </a:gdLst>
            <a:ahLst/>
            <a:rect l="textAreaLeft" t="textAreaTop" r="textAreaRight" b="textAreaBottom"/>
            <a:pathLst>
              <a:path w="21600" h="83609">
                <a:moveTo>
                  <a:pt x="9371" y="0"/>
                </a:moveTo>
                <a:arcTo wR="9371" hR="9371" stAng="16200000" swAng="-5400000"/>
                <a:lnTo>
                  <a:pt x="0" y="74238"/>
                </a:lnTo>
                <a:arcTo wR="9371" hR="9371" stAng="10800000" swAng="-5400000"/>
                <a:lnTo>
                  <a:pt x="12229" y="83609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1"/>
          <p:cNvSpPr/>
          <p:nvPr/>
        </p:nvSpPr>
        <p:spPr>
          <a:xfrm rot="5400000">
            <a:off x="4171320" y="1587960"/>
            <a:ext cx="576000" cy="2232000"/>
          </a:xfrm>
          <a:custGeom>
            <a:avLst/>
            <a:gdLst>
              <a:gd name="textAreaLeft" fmla="*/ 73080 w 576000"/>
              <a:gd name="textAreaRight" fmla="*/ 502920 w 576000"/>
              <a:gd name="textAreaTop" fmla="*/ 73080 h 2232000"/>
              <a:gd name="textAreaBottom" fmla="*/ 2158920 h 2232000"/>
            </a:gdLst>
            <a:ahLst/>
            <a:rect l="textAreaLeft" t="textAreaTop" r="textAreaRight" b="textAreaBottom"/>
            <a:pathLst>
              <a:path w="21600" h="83661">
                <a:moveTo>
                  <a:pt x="9371" y="0"/>
                </a:moveTo>
                <a:arcTo wR="9371" hR="9371" stAng="16200000" swAng="-5400000"/>
                <a:lnTo>
                  <a:pt x="0" y="74290"/>
                </a:lnTo>
                <a:arcTo wR="9371" hR="9371" stAng="10800000" swAng="-5400000"/>
                <a:lnTo>
                  <a:pt x="12229" y="83661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2"/>
          <p:cNvSpPr/>
          <p:nvPr/>
        </p:nvSpPr>
        <p:spPr>
          <a:xfrm rot="5400000">
            <a:off x="4233960" y="2960640"/>
            <a:ext cx="574560" cy="2232000"/>
          </a:xfrm>
          <a:custGeom>
            <a:avLst/>
            <a:gdLst>
              <a:gd name="textAreaLeft" fmla="*/ 72720 w 574560"/>
              <a:gd name="textAreaRight" fmla="*/ 501840 w 574560"/>
              <a:gd name="textAreaTop" fmla="*/ 72720 h 2232000"/>
              <a:gd name="textAreaBottom" fmla="*/ 2159280 h 2232000"/>
            </a:gdLst>
            <a:ahLst/>
            <a:rect l="textAreaLeft" t="textAreaTop" r="textAreaRight" b="textAreaBottom"/>
            <a:pathLst>
              <a:path w="21600" h="83871">
                <a:moveTo>
                  <a:pt x="9371" y="0"/>
                </a:moveTo>
                <a:arcTo wR="9371" hR="9371" stAng="16200000" swAng="-5400000"/>
                <a:lnTo>
                  <a:pt x="0" y="74500"/>
                </a:lnTo>
                <a:arcTo wR="9371" hR="9371" stAng="10800000" swAng="-5400000"/>
                <a:lnTo>
                  <a:pt x="12229" y="83871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3"/>
          <p:cNvSpPr/>
          <p:nvPr/>
        </p:nvSpPr>
        <p:spPr>
          <a:xfrm rot="5400000">
            <a:off x="4246200" y="3678120"/>
            <a:ext cx="574920" cy="2232000"/>
          </a:xfrm>
          <a:custGeom>
            <a:avLst/>
            <a:gdLst>
              <a:gd name="textAreaLeft" fmla="*/ 73080 w 574920"/>
              <a:gd name="textAreaRight" fmla="*/ 501840 w 574920"/>
              <a:gd name="textAreaTop" fmla="*/ 73080 h 2232000"/>
              <a:gd name="textAreaBottom" fmla="*/ 2158920 h 2232000"/>
            </a:gdLst>
            <a:ahLst/>
            <a:rect l="textAreaLeft" t="textAreaTop" r="textAreaRight" b="textAreaBottom"/>
            <a:pathLst>
              <a:path w="21600" h="83818">
                <a:moveTo>
                  <a:pt x="9371" y="0"/>
                </a:moveTo>
                <a:arcTo wR="9371" hR="9371" stAng="16200000" swAng="-5400000"/>
                <a:lnTo>
                  <a:pt x="0" y="74447"/>
                </a:lnTo>
                <a:arcTo wR="9371" hR="9371" stAng="10800000" swAng="-5400000"/>
                <a:lnTo>
                  <a:pt x="12229" y="83818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4"/>
          <p:cNvSpPr/>
          <p:nvPr/>
        </p:nvSpPr>
        <p:spPr>
          <a:xfrm rot="5400000">
            <a:off x="4246560" y="4456080"/>
            <a:ext cx="574560" cy="2232000"/>
          </a:xfrm>
          <a:custGeom>
            <a:avLst/>
            <a:gdLst>
              <a:gd name="textAreaLeft" fmla="*/ 72720 w 574560"/>
              <a:gd name="textAreaRight" fmla="*/ 501840 w 574560"/>
              <a:gd name="textAreaTop" fmla="*/ 72720 h 2232000"/>
              <a:gd name="textAreaBottom" fmla="*/ 2159280 h 2232000"/>
            </a:gdLst>
            <a:ahLst/>
            <a:rect l="textAreaLeft" t="textAreaTop" r="textAreaRight" b="textAreaBottom"/>
            <a:pathLst>
              <a:path w="21600" h="83871">
                <a:moveTo>
                  <a:pt x="9371" y="0"/>
                </a:moveTo>
                <a:arcTo wR="9371" hR="9371" stAng="16200000" swAng="-5400000"/>
                <a:lnTo>
                  <a:pt x="0" y="74500"/>
                </a:lnTo>
                <a:arcTo wR="9371" hR="9371" stAng="10800000" swAng="-5400000"/>
                <a:lnTo>
                  <a:pt x="12229" y="83871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5"/>
          <p:cNvSpPr/>
          <p:nvPr/>
        </p:nvSpPr>
        <p:spPr>
          <a:xfrm rot="5400000">
            <a:off x="4287960" y="5262480"/>
            <a:ext cx="574560" cy="2232000"/>
          </a:xfrm>
          <a:custGeom>
            <a:avLst/>
            <a:gdLst>
              <a:gd name="textAreaLeft" fmla="*/ 72720 w 574560"/>
              <a:gd name="textAreaRight" fmla="*/ 501840 w 574560"/>
              <a:gd name="textAreaTop" fmla="*/ 72720 h 2232000"/>
              <a:gd name="textAreaBottom" fmla="*/ 2159280 h 2232000"/>
            </a:gdLst>
            <a:ahLst/>
            <a:rect l="textAreaLeft" t="textAreaTop" r="textAreaRight" b="textAreaBottom"/>
            <a:pathLst>
              <a:path w="21600" h="83871">
                <a:moveTo>
                  <a:pt x="9371" y="0"/>
                </a:moveTo>
                <a:arcTo wR="9371" hR="9371" stAng="16200000" swAng="-5400000"/>
                <a:lnTo>
                  <a:pt x="0" y="74500"/>
                </a:lnTo>
                <a:arcTo wR="9371" hR="9371" stAng="10800000" swAng="-5400000"/>
                <a:lnTo>
                  <a:pt x="12229" y="83871"/>
                </a:lnTo>
                <a:arcTo wR="9371" hR="9371" stAng="5400000" swAng="-5400000"/>
                <a:lnTo>
                  <a:pt x="21600" y="9371"/>
                </a:lnTo>
                <a:arcTo wR="9371" hR="937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6"/>
          <p:cNvSpPr/>
          <p:nvPr/>
        </p:nvSpPr>
        <p:spPr>
          <a:xfrm>
            <a:off x="323640" y="2521080"/>
            <a:ext cx="10940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食   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1742760" y="4192560"/>
            <a:ext cx="10940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动物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526760" y="809640"/>
            <a:ext cx="10940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植物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3765600" y="14616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白   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0"/>
          <p:cNvSpPr/>
          <p:nvPr/>
        </p:nvSpPr>
        <p:spPr>
          <a:xfrm>
            <a:off x="3780000" y="95256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洋   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3780000" y="164304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胡萝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2"/>
          <p:cNvSpPr/>
          <p:nvPr/>
        </p:nvSpPr>
        <p:spPr>
          <a:xfrm>
            <a:off x="3780000" y="243540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黄   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3"/>
          <p:cNvSpPr/>
          <p:nvPr/>
        </p:nvSpPr>
        <p:spPr>
          <a:xfrm>
            <a:off x="3767040" y="378936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羊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4"/>
          <p:cNvSpPr/>
          <p:nvPr/>
        </p:nvSpPr>
        <p:spPr>
          <a:xfrm>
            <a:off x="3780000" y="450864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鸡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5"/>
          <p:cNvSpPr/>
          <p:nvPr/>
        </p:nvSpPr>
        <p:spPr>
          <a:xfrm>
            <a:off x="3836880" y="522936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鱼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6"/>
          <p:cNvSpPr/>
          <p:nvPr/>
        </p:nvSpPr>
        <p:spPr>
          <a:xfrm>
            <a:off x="3867120" y="602136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鸡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27"/>
          <p:cNvGrpSpPr/>
          <p:nvPr/>
        </p:nvGrpSpPr>
        <p:grpSpPr>
          <a:xfrm>
            <a:off x="0" y="0"/>
            <a:ext cx="2519280" cy="606600"/>
            <a:chOff x="0" y="0"/>
            <a:chExt cx="2519280" cy="606600"/>
          </a:xfrm>
        </p:grpSpPr>
        <p:pic>
          <p:nvPicPr>
            <p:cNvPr id="661" name="Picture 28" descr="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435400" cy="6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Text Box 29"/>
            <p:cNvSpPr/>
            <p:nvPr/>
          </p:nvSpPr>
          <p:spPr>
            <a:xfrm>
              <a:off x="647640" y="0"/>
              <a:ext cx="187164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Arial"/>
                  <a:ea typeface="黑体"/>
                </a:rPr>
                <a:t>课堂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a217978de1ba28c5f11f36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3"/>
          <p:cNvSpPr/>
          <p:nvPr/>
        </p:nvSpPr>
        <p:spPr>
          <a:xfrm rot="20613000">
            <a:off x="1763640" y="620640"/>
            <a:ext cx="5310360" cy="5616720"/>
          </a:xfrm>
          <a:prstGeom prst="flowChartDocumen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WordArt 4"/>
          <p:cNvSpPr txBox="1"/>
          <p:nvPr/>
        </p:nvSpPr>
        <p:spPr>
          <a:xfrm rot="20305200">
            <a:off x="2410920" y="169992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楷体_GB2312"/>
              </a:rPr>
              <a:t>熟食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66" name="WordArt 5"/>
          <p:cNvSpPr txBox="1"/>
          <p:nvPr/>
        </p:nvSpPr>
        <p:spPr>
          <a:xfrm rot="20305200">
            <a:off x="4571640" y="98064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楷体_GB2312"/>
              </a:rPr>
              <a:t>生食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967200" y="1773360"/>
            <a:ext cx="1009440" cy="3240000"/>
            <a:chOff x="3967200" y="1773360"/>
            <a:chExt cx="1009440" cy="3240000"/>
          </a:xfrm>
        </p:grpSpPr>
        <p:sp>
          <p:nvSpPr>
            <p:cNvPr id="668" name="Line 6"/>
            <p:cNvSpPr/>
            <p:nvPr/>
          </p:nvSpPr>
          <p:spPr>
            <a:xfrm>
              <a:off x="3967200" y="1773360"/>
              <a:ext cx="1009440" cy="3240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3967200" y="1773360"/>
              <a:ext cx="1009440" cy="32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7"/>
          <p:cNvSpPr/>
          <p:nvPr/>
        </p:nvSpPr>
        <p:spPr>
          <a:xfrm rot="20544600">
            <a:off x="2912760" y="2140560"/>
            <a:ext cx="165600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米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馒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包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稀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煮鸡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各种炒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 rot="20571600">
            <a:off x="5013000" y="1392840"/>
            <a:ext cx="165744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草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梨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地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番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黄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77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6" dur="770" fill="hold"/>
                                        <p:tgtEl>
                                          <p:spTgt spid="6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0" dur="77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6360" y="259920"/>
            <a:ext cx="909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生活小贴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610920" y="1125000"/>
            <a:ext cx="60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仿宋"/>
              </a:rPr>
              <a:t>营养师的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仿宋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食物的搭配要合理，早上不宜吃凉的食物，这些凉的食物会给身体带来一定的影响，吃好为宜；中午可以适当的搭配凉的食物但也不宜多，适中吃饱就可以了；晚上不宜多吃，适当补充食物即可，合理的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4" descr="a5"/>
          <p:cNvPicPr/>
          <p:nvPr/>
        </p:nvPicPr>
        <p:blipFill>
          <a:blip r:embed="rId1"/>
          <a:stretch/>
        </p:blipFill>
        <p:spPr>
          <a:xfrm>
            <a:off x="6516720" y="3429000"/>
            <a:ext cx="2401920" cy="251460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8199"/>
          <p:cNvSpPr/>
          <p:nvPr/>
        </p:nvSpPr>
        <p:spPr>
          <a:xfrm>
            <a:off x="2400480" y="26028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347840" y="132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牛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3465720" y="1355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面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347840" y="2684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鸡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456000" y="270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7189920" y="4114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5234040" y="2706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豆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7062840" y="2782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347840" y="4154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3424320" y="41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土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5205600" y="4097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黄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6986520" y="1219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米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5157720" y="1247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青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324000" y="54936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★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课堂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819000" y="1484280"/>
            <a:ext cx="51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活动名称：小小营养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826920" y="2187720"/>
            <a:ext cx="75614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全班学生分成六个小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假如今天你们小组去郊游，设计一个你们午餐的食物搭配方案，将结果写下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每个小组派一名学生当“营养师”，将本组的任意一餐的食物搭配方案向全班展示，并说明搭配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5"/>
          <p:cNvGrpSpPr/>
          <p:nvPr/>
        </p:nvGrpSpPr>
        <p:grpSpPr>
          <a:xfrm>
            <a:off x="7380360" y="5950080"/>
            <a:ext cx="1510920" cy="642960"/>
            <a:chOff x="7380360" y="5950080"/>
            <a:chExt cx="1510920" cy="642960"/>
          </a:xfrm>
        </p:grpSpPr>
        <p:sp>
          <p:nvSpPr>
            <p:cNvPr id="692" name="AutoShape 6"/>
            <p:cNvSpPr/>
            <p:nvPr/>
          </p:nvSpPr>
          <p:spPr>
            <a:xfrm>
              <a:off x="7380360" y="5950080"/>
              <a:ext cx="1510920" cy="642960"/>
            </a:xfrm>
            <a:custGeom>
              <a:avLst/>
              <a:gdLst>
                <a:gd name="textAreaLeft" fmla="*/ 41400 w 1510920"/>
                <a:gd name="textAreaRight" fmla="*/ 1469520 w 1510920"/>
                <a:gd name="textAreaTop" fmla="*/ 41400 h 642960"/>
                <a:gd name="textAreaBottom" fmla="*/ 601560 h 642960"/>
              </a:gdLst>
              <a:ahLst/>
              <a:rect l="textAreaLeft" t="textAreaTop" r="textAreaRight" b="textAreaBottom"/>
              <a:pathLst>
                <a:path w="50742" h="21600">
                  <a:moveTo>
                    <a:pt x="0" y="0"/>
                  </a:moveTo>
                  <a:lnTo>
                    <a:pt x="50742" y="0"/>
                  </a:lnTo>
                  <a:lnTo>
                    <a:pt x="50742" y="21600"/>
                  </a:lnTo>
                  <a:lnTo>
                    <a:pt x="0" y="21600"/>
                  </a:lnTo>
                  <a:close/>
                </a:path>
                <a:path fill="lightenLess" w="50742" h="21600">
                  <a:moveTo>
                    <a:pt x="0" y="0"/>
                  </a:moveTo>
                  <a:lnTo>
                    <a:pt x="50742" y="0"/>
                  </a:lnTo>
                  <a:lnTo>
                    <a:pt x="49343" y="1400"/>
                  </a:lnTo>
                  <a:lnTo>
                    <a:pt x="1400" y="1400"/>
                  </a:lnTo>
                  <a:close/>
                </a:path>
                <a:path fill="darken" w="50742" h="21600">
                  <a:moveTo>
                    <a:pt x="50742" y="0"/>
                  </a:moveTo>
                  <a:lnTo>
                    <a:pt x="50742" y="21600"/>
                  </a:lnTo>
                  <a:lnTo>
                    <a:pt x="49343" y="20200"/>
                  </a:lnTo>
                  <a:lnTo>
                    <a:pt x="49343" y="1400"/>
                  </a:lnTo>
                  <a:close/>
                </a:path>
                <a:path fill="darkenLess" w="50742" h="21600">
                  <a:moveTo>
                    <a:pt x="507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9343" y="20200"/>
                  </a:lnTo>
                  <a:close/>
                </a:path>
                <a:path fill="lighten" w="507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7"/>
            <p:cNvSpPr/>
            <p:nvPr/>
          </p:nvSpPr>
          <p:spPr>
            <a:xfrm>
              <a:off x="7562160" y="6079320"/>
              <a:ext cx="12092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方案举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0C3-2424-420F-89A1-FEBFA10A9A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图片 1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3"/>
          <p:cNvSpPr/>
          <p:nvPr/>
        </p:nvSpPr>
        <p:spPr>
          <a:xfrm>
            <a:off x="1403280" y="1197000"/>
            <a:ext cx="453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午餐搭配方案示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米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炒三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麻辣豆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辣子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西红柿炒鸡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黄瓜皮蛋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7740720" y="6021360"/>
            <a:ext cx="1006560" cy="576360"/>
            <a:chOff x="7740720" y="6021360"/>
            <a:chExt cx="1006560" cy="576360"/>
          </a:xfrm>
        </p:grpSpPr>
        <p:sp>
          <p:nvSpPr>
            <p:cNvPr id="701" name="AutoShape 5"/>
            <p:cNvSpPr/>
            <p:nvPr/>
          </p:nvSpPr>
          <p:spPr>
            <a:xfrm>
              <a:off x="7740720" y="6021360"/>
              <a:ext cx="1006560" cy="576360"/>
            </a:xfrm>
            <a:custGeom>
              <a:avLst/>
              <a:gdLst>
                <a:gd name="textAreaLeft" fmla="*/ 37080 w 1006560"/>
                <a:gd name="textAreaRight" fmla="*/ 969480 w 1006560"/>
                <a:gd name="textAreaTop" fmla="*/ 37080 h 576360"/>
                <a:gd name="textAreaBottom" fmla="*/ 539280 h 576360"/>
              </a:gdLst>
              <a:ahLst/>
              <a:rect l="textAreaLeft" t="textAreaTop" r="textAreaRight" b="textAreaBottom"/>
              <a:pathLst>
                <a:path w="37712" h="21600">
                  <a:moveTo>
                    <a:pt x="0" y="0"/>
                  </a:moveTo>
                  <a:lnTo>
                    <a:pt x="37712" y="0"/>
                  </a:lnTo>
                  <a:lnTo>
                    <a:pt x="37712" y="21600"/>
                  </a:lnTo>
                  <a:lnTo>
                    <a:pt x="0" y="21600"/>
                  </a:lnTo>
                  <a:close/>
                </a:path>
                <a:path fill="lightenLess" w="37712" h="21600">
                  <a:moveTo>
                    <a:pt x="0" y="0"/>
                  </a:moveTo>
                  <a:lnTo>
                    <a:pt x="37712" y="0"/>
                  </a:lnTo>
                  <a:lnTo>
                    <a:pt x="36312" y="1400"/>
                  </a:lnTo>
                  <a:lnTo>
                    <a:pt x="1400" y="1400"/>
                  </a:lnTo>
                  <a:close/>
                </a:path>
                <a:path fill="darken" w="37712" h="21600">
                  <a:moveTo>
                    <a:pt x="37712" y="0"/>
                  </a:moveTo>
                  <a:lnTo>
                    <a:pt x="37712" y="21600"/>
                  </a:lnTo>
                  <a:lnTo>
                    <a:pt x="36312" y="20200"/>
                  </a:lnTo>
                  <a:lnTo>
                    <a:pt x="36312" y="1400"/>
                  </a:lnTo>
                  <a:close/>
                </a:path>
                <a:path fill="darkenLess" w="37712" h="21600">
                  <a:moveTo>
                    <a:pt x="377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312" y="20200"/>
                  </a:lnTo>
                  <a:close/>
                </a:path>
                <a:path fill="lighten" w="377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7861680" y="6137280"/>
              <a:ext cx="805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0" y="1123920"/>
            <a:ext cx="9142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、我们可以有几种不同的方法来分类</a:t>
            </a: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、标准分别是什么</a:t>
            </a: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、每一种方法产生的结果有什么不同</a:t>
            </a: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、将讨论的结果填写在记录表里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1763640" y="44280"/>
            <a:ext cx="61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바탕"/>
                <a:ea typeface="바탕"/>
              </a:rPr>
              <a:t>小组讨论要求</a:t>
            </a:r>
            <a:r>
              <a:rPr b="1" lang="en-US" sz="6000" spc="-1" strike="noStrike">
                <a:solidFill>
                  <a:srgbClr val="000000"/>
                </a:solidFill>
                <a:latin typeface="바탕"/>
                <a:ea typeface="바탕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记录方法：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34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按生食、熟食分类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134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按味道分类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134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按生活习惯分类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按食物来源分类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植物类、动物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4983840" y="234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酸甜苦辣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6496200" y="112536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加工过的的食物，未加工过的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533960" y="4076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粮食蔬菜肉类奶制品水果调味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1364760" y="3556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黑体"/>
              </a:rPr>
              <a:t>茄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4183920" y="3556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黑体"/>
              </a:rPr>
              <a:t>乳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7022520" y="361944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牛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黑体"/>
              </a:rPr>
              <a:t>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1669320" y="5842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黑体"/>
              </a:rPr>
              <a:t>豬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188240" y="591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黑体"/>
              </a:rPr>
              <a:t>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7079760" y="5918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乳酪"/>
          <p:cNvPicPr/>
          <p:nvPr/>
        </p:nvPicPr>
        <p:blipFill>
          <a:blip r:embed="rId1"/>
          <a:stretch/>
        </p:blipFill>
        <p:spPr>
          <a:xfrm>
            <a:off x="3581280" y="2108160"/>
            <a:ext cx="1905120" cy="140652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9"/>
          <p:cNvSpPr/>
          <p:nvPr/>
        </p:nvSpPr>
        <p:spPr>
          <a:xfrm>
            <a:off x="533520" y="228600"/>
            <a:ext cx="5562360" cy="1676520"/>
          </a:xfrm>
          <a:prstGeom prst="wedgeEllipseCallout">
            <a:avLst>
              <a:gd name="adj1" fmla="val 68550"/>
              <a:gd name="adj2" fmla="val 170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7c80"/>
                </a:solidFill>
                <a:latin typeface="DFKai-SB"/>
                <a:ea typeface="DFKai-SB"/>
              </a:rPr>
              <a:t>小朋友</a:t>
            </a:r>
            <a:r>
              <a:rPr b="1" lang="en-US" sz="4400" spc="-1" strike="noStrike">
                <a:solidFill>
                  <a:srgbClr val="ff7c80"/>
                </a:solidFill>
                <a:latin typeface="DFKai-SB"/>
                <a:ea typeface="DFKai-SB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7c80"/>
                </a:solidFill>
                <a:latin typeface="DFKai-SB"/>
                <a:ea typeface="DFKai-SB"/>
              </a:rPr>
              <a:t>你能替我分類嗎</a:t>
            </a:r>
            <a:r>
              <a:rPr b="1" lang="en-US" sz="4400" spc="-1" strike="noStrike">
                <a:solidFill>
                  <a:srgbClr val="ff7c80"/>
                </a:solidFill>
                <a:latin typeface="Arial"/>
                <a:ea typeface="PMingLiU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0" descr="wppiglet"/>
          <p:cNvPicPr/>
          <p:nvPr/>
        </p:nvPicPr>
        <p:blipFill>
          <a:blip r:embed="rId2"/>
          <a:stretch/>
        </p:blipFill>
        <p:spPr>
          <a:xfrm>
            <a:off x="6934320" y="0"/>
            <a:ext cx="1307880" cy="2133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1" descr="茄子"/>
          <p:cNvPicPr/>
          <p:nvPr/>
        </p:nvPicPr>
        <p:blipFill>
          <a:blip r:embed="rId3"/>
          <a:stretch/>
        </p:blipFill>
        <p:spPr>
          <a:xfrm>
            <a:off x="685800" y="2057400"/>
            <a:ext cx="2286000" cy="1473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餅"/>
          <p:cNvPicPr/>
          <p:nvPr/>
        </p:nvPicPr>
        <p:blipFill>
          <a:blip r:embed="rId4"/>
          <a:stretch/>
        </p:blipFill>
        <p:spPr>
          <a:xfrm>
            <a:off x="5972040" y="4138560"/>
            <a:ext cx="2708280" cy="1762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豬扒"/>
          <p:cNvPicPr/>
          <p:nvPr/>
        </p:nvPicPr>
        <p:blipFill>
          <a:blip r:embed="rId5"/>
          <a:stretch/>
        </p:blipFill>
        <p:spPr>
          <a:xfrm>
            <a:off x="685800" y="4311720"/>
            <a:ext cx="2057400" cy="1461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" descr="or"/>
          <p:cNvPicPr/>
          <p:nvPr/>
        </p:nvPicPr>
        <p:blipFill>
          <a:blip r:embed="rId6"/>
          <a:stretch/>
        </p:blipFill>
        <p:spPr>
          <a:xfrm>
            <a:off x="3484440" y="4191120"/>
            <a:ext cx="2210040" cy="1704960"/>
          </a:xfrm>
          <a:prstGeom prst="rect">
            <a:avLst/>
          </a:prstGeom>
          <a:ln w="0">
            <a:noFill/>
          </a:ln>
        </p:spPr>
      </p:pic>
      <p:pic>
        <p:nvPicPr>
          <p:cNvPr id="412" name="8.wav" descr=""/>
          <p:cNvPicPr/>
          <p:nvPr/>
        </p:nvPicPr>
        <p:blipFill>
          <a:blip r:embed="rId7"/>
          <a:stretch/>
        </p:blipFill>
        <p:spPr>
          <a:xfrm>
            <a:off x="60199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6" descr="牛扒"/>
          <p:cNvPicPr/>
          <p:nvPr/>
        </p:nvPicPr>
        <p:blipFill>
          <a:blip r:embed="rId8"/>
          <a:stretch/>
        </p:blipFill>
        <p:spPr>
          <a:xfrm>
            <a:off x="6156360" y="2133720"/>
            <a:ext cx="194292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"/>
                            </p:stCondLst>
                            <p:childTnLst>
                              <p:par>
                                <p:cTn id="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"/>
                            </p:stCondLst>
                            <p:childTnLst>
                              <p:par>
                                <p:cTn id="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00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"/>
                            </p:stCondLst>
                            <p:childTnLst>
                              <p:par>
                                <p:cTn id="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200"/>
                            </p:stCondLst>
                            <p:childTnLst>
                              <p:par>
                                <p:cTn id="7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700"/>
                            </p:stCondLst>
                            <p:childTnLst>
                              <p:par>
                                <p:cTn id="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200"/>
                            </p:stCondLst>
                            <p:childTnLst>
                              <p:par>
                                <p:cTn id="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700"/>
                            </p:stCondLst>
                            <p:childTnLst>
                              <p:par>
                                <p:cTn id="9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200"/>
                            </p:stCondLst>
                            <p:childTnLst>
                              <p:par>
                                <p:cTn id="9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700"/>
                            </p:stCondLst>
                            <p:childTnLst>
                              <p:par>
                                <p:cTn id="9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200"/>
                            </p:stCondLst>
                            <p:childTnLst>
                              <p:par>
                                <p:cTn id="10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700"/>
                            </p:stCondLst>
                            <p:childTnLst>
                              <p:par>
                                <p:cTn id="10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701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茄子"/>
          <p:cNvPicPr/>
          <p:nvPr/>
        </p:nvPicPr>
        <p:blipFill>
          <a:blip r:embed="rId1"/>
          <a:stretch/>
        </p:blipFill>
        <p:spPr>
          <a:xfrm>
            <a:off x="457200" y="762120"/>
            <a:ext cx="2286000" cy="1473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乳酪"/>
          <p:cNvPicPr/>
          <p:nvPr/>
        </p:nvPicPr>
        <p:blipFill>
          <a:blip r:embed="rId2"/>
          <a:stretch/>
        </p:blipFill>
        <p:spPr>
          <a:xfrm>
            <a:off x="4191120" y="1066680"/>
            <a:ext cx="1904760" cy="140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豬扒"/>
          <p:cNvPicPr/>
          <p:nvPr/>
        </p:nvPicPr>
        <p:blipFill>
          <a:blip r:embed="rId3"/>
          <a:stretch/>
        </p:blipFill>
        <p:spPr>
          <a:xfrm>
            <a:off x="4500720" y="5084640"/>
            <a:ext cx="2209680" cy="1462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or"/>
          <p:cNvPicPr/>
          <p:nvPr/>
        </p:nvPicPr>
        <p:blipFill>
          <a:blip r:embed="rId4"/>
          <a:stretch/>
        </p:blipFill>
        <p:spPr>
          <a:xfrm>
            <a:off x="457200" y="2133720"/>
            <a:ext cx="2209680" cy="1423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餅"/>
          <p:cNvPicPr/>
          <p:nvPr/>
        </p:nvPicPr>
        <p:blipFill>
          <a:blip r:embed="rId5"/>
          <a:stretch/>
        </p:blipFill>
        <p:spPr>
          <a:xfrm>
            <a:off x="457200" y="4114800"/>
            <a:ext cx="2286000" cy="17622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7"/>
          <p:cNvSpPr/>
          <p:nvPr/>
        </p:nvSpPr>
        <p:spPr>
          <a:xfrm>
            <a:off x="2666880" y="1066680"/>
            <a:ext cx="68580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DFKai-SB"/>
              </a:rPr>
              <a:t>蔬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DFKai-SB"/>
              </a:rPr>
              <a:t>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019920" y="1066680"/>
            <a:ext cx="6094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DFKai-SB"/>
              </a:rPr>
              <a:t>乳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2987640" y="4292640"/>
            <a:ext cx="68580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DFKai-SB"/>
              </a:rPr>
              <a:t>谷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DFKai-SB"/>
              </a:rPr>
              <a:t>  類</a:t>
            </a:r>
            <a:r>
              <a:rPr b="0" lang="zh-TW" sz="4000" spc="-1" strike="noStrike">
                <a:solidFill>
                  <a:srgbClr val="0000ff"/>
                </a:solidFill>
                <a:latin typeface="Arial"/>
                <a:ea typeface="DFKai-SB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0" descr="wppiglet"/>
          <p:cNvPicPr/>
          <p:nvPr/>
        </p:nvPicPr>
        <p:blipFill>
          <a:blip r:embed="rId6"/>
          <a:stretch/>
        </p:blipFill>
        <p:spPr>
          <a:xfrm>
            <a:off x="7835760" y="2057400"/>
            <a:ext cx="1308240" cy="213372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1"/>
          <p:cNvSpPr/>
          <p:nvPr/>
        </p:nvSpPr>
        <p:spPr>
          <a:xfrm>
            <a:off x="6126840" y="4076640"/>
            <a:ext cx="1399320" cy="17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DFKai-SB"/>
              </a:rPr>
              <a:t>肉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DFKai-SB"/>
              </a:rPr>
              <a:t>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2"/>
          <p:cNvSpPr/>
          <p:nvPr/>
        </p:nvSpPr>
        <p:spPr>
          <a:xfrm>
            <a:off x="3809880" y="2590920"/>
            <a:ext cx="3962520" cy="609480"/>
          </a:xfrm>
          <a:prstGeom prst="wedgeEllipseCallout">
            <a:avLst>
              <a:gd name="adj1" fmla="val 61740"/>
              <a:gd name="adj2" fmla="val 1823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473360" y="2516040"/>
            <a:ext cx="236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  <a:ea typeface="DFKai-SB"/>
              </a:rPr>
              <a:t>我是這樣分類的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DFKai-SB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4" descr="牛扒"/>
          <p:cNvPicPr/>
          <p:nvPr/>
        </p:nvPicPr>
        <p:blipFill>
          <a:blip r:embed="rId7"/>
          <a:stretch/>
        </p:blipFill>
        <p:spPr>
          <a:xfrm>
            <a:off x="4788000" y="3573360"/>
            <a:ext cx="1942920" cy="1506600"/>
          </a:xfrm>
          <a:prstGeom prst="rect">
            <a:avLst/>
          </a:prstGeom>
          <a:ln w="0">
            <a:noFill/>
          </a:ln>
        </p:spPr>
      </p:pic>
      <p:sp>
        <p:nvSpPr>
          <p:cNvPr id="427" name="文本框 8199"/>
          <p:cNvSpPr/>
          <p:nvPr/>
        </p:nvSpPr>
        <p:spPr>
          <a:xfrm>
            <a:off x="2886120" y="61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Times New Roman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Lazyrn.wav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1"/>
          <p:cNvPicPr/>
          <p:nvPr/>
        </p:nvPicPr>
        <p:blipFill>
          <a:blip r:embed="rId2"/>
          <a:stretch/>
        </p:blipFill>
        <p:spPr>
          <a:xfrm>
            <a:off x="3657600" y="2362320"/>
            <a:ext cx="2075040" cy="27432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4"/>
          <p:cNvSpPr/>
          <p:nvPr/>
        </p:nvSpPr>
        <p:spPr>
          <a:xfrm>
            <a:off x="3124080" y="380880"/>
            <a:ext cx="3046680" cy="916920"/>
          </a:xfrm>
          <a:prstGeom prst="rect">
            <a:avLst/>
          </a:prstGeom>
          <a:solidFill>
            <a:srgbClr val="ffff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DFKai-SB"/>
                <a:ea typeface="DFKai-SB"/>
              </a:rPr>
              <a:t>食    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1440720" y="328464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黑体"/>
              </a:rPr>
              <a:t>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bread,rice"/>
          <p:cNvPicPr/>
          <p:nvPr/>
        </p:nvPicPr>
        <p:blipFill>
          <a:blip r:embed="rId3"/>
          <a:stretch/>
        </p:blipFill>
        <p:spPr>
          <a:xfrm>
            <a:off x="6019920" y="1523880"/>
            <a:ext cx="2589120" cy="172260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7"/>
          <p:cNvSpPr/>
          <p:nvPr/>
        </p:nvSpPr>
        <p:spPr>
          <a:xfrm>
            <a:off x="6989040" y="3381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谷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7141680" y="589608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黑体"/>
              </a:rPr>
              <a:t>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1360440" y="5826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黑体"/>
              </a:rPr>
              <a:t>蔬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0" descr="肉2類"/>
          <p:cNvPicPr/>
          <p:nvPr/>
        </p:nvPicPr>
        <p:blipFill>
          <a:blip r:embed="rId4"/>
          <a:stretch/>
        </p:blipFill>
        <p:spPr>
          <a:xfrm>
            <a:off x="533520" y="1447920"/>
            <a:ext cx="2743200" cy="1703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蔬果類"/>
          <p:cNvPicPr/>
          <p:nvPr/>
        </p:nvPicPr>
        <p:blipFill>
          <a:blip r:embed="rId5"/>
          <a:stretch/>
        </p:blipFill>
        <p:spPr>
          <a:xfrm>
            <a:off x="609480" y="3962520"/>
            <a:ext cx="2756160" cy="18525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乳類"/>
          <p:cNvPicPr/>
          <p:nvPr/>
        </p:nvPicPr>
        <p:blipFill>
          <a:blip r:embed="rId6"/>
          <a:stretch/>
        </p:blipFill>
        <p:spPr>
          <a:xfrm>
            <a:off x="6019920" y="4038480"/>
            <a:ext cx="268740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04:33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18Z</dcterms:modified>
  <cp:revision>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