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96C-EAC8-40B3-9A3A-36166F8A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B8A-45C9-461B-BE50-68097405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BA0-B3A5-41AD-A4D5-E5237C1E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CF4-565F-48CD-A67B-034CDEC0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C289-5224-4830-AA46-7BA6FC8F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F5AD-2590-4F6B-B0FB-0D134561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5460-35DA-4FC3-ACBC-C2452897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A44E-1AFD-4DB4-9AA1-07C627F0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ED09-CAD4-45DA-B8C4-B7F3338C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633C-E553-49E7-9C34-D8C0714F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563D-27F1-45A6-B8FD-DEC75BA2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5A2-8EF9-44F2-A5FD-02E79FF5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02BE-1BE3-4DE7-90A4-D4B44F2E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E134-57A4-4E85-807E-18B53E56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3A9F-8750-467D-9A01-E19A821F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AEE4-6166-456E-9A7C-D64988EA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E431-E694-4812-9072-2A4EBDBD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A179-3DD0-43ED-894D-3698400F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D020-ED71-4192-B89B-7AAB9C3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EEA0-D589-4690-BE8F-7B9195D7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6839-493F-46CE-A49A-BEAAB15E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59B8-2DF6-4C03-B235-C54CE898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EA3-E456-4D21-98EF-406CE1FC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D51D-FEF2-48AB-8B77-0016D4E4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1C32F-E8C3-4E15-AAAF-F62E6AF9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4490-0A13-419A-BD93-5573CD3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9E38-B855-44C3-BB8A-802B6E46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7E12-102A-45A0-AFB8-9C18460E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6F69-47AD-4377-A0AE-D56B2858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3A2C-58FB-431D-AC30-081B02AB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453-81F0-4DB7-852B-3832853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95B-CC64-4214-9768-5C61A128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AA5-D963-43D6-AF7B-1AA13306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89D-71F1-4DEB-87CB-77F09FAE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340-B603-430E-9426-A209C239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1BF-B18B-4C41-BEEE-39AFC2F2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264-7EA1-4765-87D0-C4C8DCBA0E7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49F6-3211-4DE9-B8D3-4D0C7E8E0C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131B-B95B-4632-80D3-2313AE7B714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57sc.com/Showlook.asp?id=1668&amp;x_name=&#27888;&#22269;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dcd.scol.com.cn/html/2008/12/007002001_691027.s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ic.daqi.com/editor/huandeng/pic_huandeng/2503876/19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n.xinhuanet.com/newscenter/2009-01/03/content_15347215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ic.daqi.com/editor/huandeng/pic_huandeng/2503876/3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bbs.elong.com/viewthread.php?tid=111156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hi.baidu.com/jyqwzone/album/item/7cdabcf2c08c0de80b46e05b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hi.baidu.com/fieldsky/album/item/c5c274c78089d6399d163dd2.html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ic_251539"/>
          <p:cNvPicPr/>
          <p:nvPr/>
        </p:nvPicPr>
        <p:blipFill>
          <a:blip r:embed="rId1"/>
          <a:stretch/>
        </p:blipFill>
        <p:spPr>
          <a:xfrm>
            <a:off x="3419640" y="404640"/>
            <a:ext cx="5184720" cy="5646960"/>
          </a:xfrm>
          <a:prstGeom prst="rect">
            <a:avLst/>
          </a:prstGeom>
          <a:ln w="0">
            <a:noFill/>
          </a:ln>
        </p:spPr>
      </p:pic>
      <p:sp>
        <p:nvSpPr>
          <p:cNvPr id="129" name="WordArt 3"/>
          <p:cNvSpPr txBox="1"/>
          <p:nvPr/>
        </p:nvSpPr>
        <p:spPr>
          <a:xfrm rot="5400000">
            <a:off x="-722880" y="2433600"/>
            <a:ext cx="511524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16200000"/>
                </a:gradFill>
                <a:latin typeface="华文新魏"/>
              </a:rPr>
              <a:t>与象共舞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16200000"/>
              </a:gradFill>
              <a:latin typeface="华文新魏"/>
              <a:ea typeface="华文新魏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1008000" y="44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与象共舞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P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使我难以忘怀的，是看大象跳舞。那是在芭堤雅的东巴乐园，一群大象为人们表演。 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979640" y="692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品析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71640" y="479736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中心句，揭示本段内容是看大象表演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363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演的尾声，也是最高潮，在欢乐的音乐声中，象群翩翩起舞，观众都拥到了宽阔的场地上，人群和象群混杂在一起舞之蹈之，热烈的气氛感染了在场的每一个人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24000" y="54450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写人与象共舞的热闹场面，照应文题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268360" y="765000"/>
            <a:ext cx="44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品析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45840" y="981000"/>
            <a:ext cx="7886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舞蹈的大象，没有一点儿笨重的感觉，它们随着音乐的节奏摇头晃脑，踮脚抬腿，前后左右颤动着身子，长长的鼻子在空中挥舞。毫无疑问，它们和人一样，陶醉在音乐之中了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900000" y="5013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写大象是怎样舞蹈的，描写的细腻而生动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200832816194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4335480" y="3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07002001_691027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这时，它们的表情仿佛也是快乐的。我想，如果大象会笑，此刻所展示的便是它们独特的笑颜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8172360" y="5877000"/>
            <a:ext cx="432000" cy="647640"/>
          </a:xfrm>
          <a:custGeom>
            <a:avLst/>
            <a:gdLst>
              <a:gd name="textAreaLeft" fmla="*/ 57600 w 432000"/>
              <a:gd name="textAreaRight" fmla="*/ 374400 w 43200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443"/>
                <a:lnTo>
                  <a:pt x="7197" y="21168"/>
                </a:lnTo>
                <a:lnTo>
                  <a:pt x="0" y="17280"/>
                </a:lnTo>
                <a:lnTo>
                  <a:pt x="7197" y="12528"/>
                </a:lnTo>
                <a:lnTo>
                  <a:pt x="7197" y="14688"/>
                </a:lnTo>
                <a:arcTo wR="21600" hR="7560" stAng="2683443" swAng="-2326008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155412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000000"/>
                </a:solidFill>
                <a:latin typeface="Verdana"/>
                <a:ea typeface="华文新魏"/>
              </a:rPr>
              <a:t>       </a:t>
            </a:r>
            <a:r>
              <a:rPr b="0" lang="zh-CN" sz="4700" spc="-1" strike="noStrike">
                <a:solidFill>
                  <a:srgbClr val="000000"/>
                </a:solidFill>
                <a:latin typeface="Verdana"/>
                <a:ea typeface="华文新魏"/>
              </a:rPr>
              <a:t>通过学习课文，我知道了</a:t>
            </a:r>
            <a:r>
              <a:rPr b="0" lang="zh-CN" sz="47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4700" spc="-1" strike="noStrike">
                <a:solidFill>
                  <a:srgbClr val="000000"/>
                </a:solidFill>
                <a:latin typeface="Verdana"/>
                <a:ea typeface="华文新魏"/>
              </a:rPr>
              <a:t>与象共舞</a:t>
            </a:r>
            <a:r>
              <a:rPr b="0" lang="zh-CN" sz="47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4700" spc="-1" strike="noStrike">
                <a:solidFill>
                  <a:srgbClr val="000000"/>
                </a:solidFill>
                <a:latin typeface="Verdana"/>
                <a:ea typeface="华文新魏"/>
              </a:rPr>
              <a:t>不仅仅指</a:t>
            </a:r>
            <a:r>
              <a:rPr b="0" lang="zh-CN" sz="47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4700" spc="-1" strike="noStrike">
                <a:solidFill>
                  <a:srgbClr val="000000"/>
                </a:solidFill>
                <a:latin typeface="Verdana"/>
                <a:ea typeface="华文新魏"/>
              </a:rPr>
              <a:t>和大象一起跳舞</a:t>
            </a:r>
            <a:r>
              <a:rPr b="0" lang="zh-CN" sz="47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4700" spc="-1" strike="noStrike">
                <a:solidFill>
                  <a:srgbClr val="000000"/>
                </a:solidFill>
                <a:latin typeface="Verdana"/>
                <a:ea typeface="华文新魏"/>
              </a:rPr>
              <a:t>，它还表示：泰国人与大象之间亲密和谐的关系。展示了泰国独特的地域文化。                   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-2520" y="-720"/>
            <a:ext cx="123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  <a:ea typeface="华文新魏"/>
              </a:rPr>
              <a:t>        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  <a:ea typeface="华文新魏"/>
              </a:rPr>
              <a:t>在泰国，如果在公路边或者树林里遇到大象，那是一件很自然的事。不必惊奇，也不必惊慌，大象对人群已经熟视无睹，它会对着你摇一摇它那对蒲扇般的大耳朵，不慌不忙地继续走它自己的路，一副悠闲沉着的样子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39640" y="4869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拟人的手法写出大象的神态。红色的两个词可以体会出人与象和谐友好的关系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411280" y="47628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品析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86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象是泰国的国宝。这个国家最初的发展和兴盛，和象有着密切的关系。大象曾经驮着武士冲锋陷阵，攻城守垒；曾经以一当十、以一抵百地为泰国人做工服役。被驯服的大象走出丛林的那一天，也许就是当地生产、生活发生较大变化的日子。泰国人对大象存有亲切的感情，一点儿也不奇怪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916360" y="4762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品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332000" y="5589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大象在泰国发挥的巨大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文本框 8199"/>
          <p:cNvSpPr/>
          <p:nvPr/>
        </p:nvSpPr>
        <p:spPr>
          <a:xfrm>
            <a:off x="154764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品析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  <a:ea typeface="黑体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686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  <a:ea typeface="华文新魏"/>
              </a:rPr>
              <a:t>       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  <a:ea typeface="华文新魏"/>
              </a:rPr>
              <a:t>在国内看大象，都是在动物园里远观，人和象离得很远。在泰国，人和象之间没有距离。很多次，我和象站在一起，象的耳朵拍到了我的肩膀，象的鼻息喷到了我的身上。起初我有些紧张，但看到周围那些平静坦然的泰国人，神经也就松弛了。在很近的距离看大象，我发现，象的表情非常平静。那对眼睛相对它的大脑袋，显得极小，目光却晶莹温和。和这样的目光相对，你紧张的心情自然就会松弛下来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971640" y="5300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写大象的样子和表情。从中体会到人与象之间态度友好、相处融洽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476360" y="90792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47640" y="162864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与象共舞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84360" y="83664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黑体"/>
              </a:rPr>
              <a:t>解题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11280" y="2565360"/>
            <a:ext cx="81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与：跟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象：大象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共：在一起；一齐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舞：随着节奏表演舞蹈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6868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据说象是一种聪明而有灵气的动物。在泰国，大象用它们的行动证实了这种说法。在城市里看到的大象，多半是一些会表演节目的动物演员。在人的训练下，它们会踢球，会倒立，会用可笑的姿态行礼谢幕。最有意思的是大象为人做按摩。成排的人躺在地上，大象慢慢地从人丛里走过去，它们小心翼翼地在人与人之间寻找落脚点，每经过一个人，都会伸出粗壮的脚，在他们的身上轻轻地抚弄一番，有时也会用鼻子给人按摩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24000" y="2602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品析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5661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可以看出，大象虽然体态庞大，却训练有素，心思细腻，聪明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泰国大象表演 好可爱哦 - hubao.an - hubao.an的博客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33360"/>
            <a:ext cx="7920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xin_13301060311278901610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0"/>
            <a:ext cx="71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admin\Desktop\与象共舞\图片\200714154934DSCN78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泰国大象表演 好可爱哦 - hubao.an - hubao.an的博客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4"/>
          <p:cNvPicPr/>
          <p:nvPr/>
        </p:nvPicPr>
        <p:blipFill>
          <a:blip r:embed="rId1"/>
          <a:stretch/>
        </p:blipFill>
        <p:spPr>
          <a:xfrm>
            <a:off x="0" y="838080"/>
            <a:ext cx="5105520" cy="6019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5334120" y="620640"/>
            <a:ext cx="34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排的人躺在地上，大象慢慢地从人丛里走过去，它们小心翼翼地在人与人之间寻找落脚点，每经过一个人，都会伸出粗壮的脚，在他们的身上轻轻地抚弄一番，有时也会用鼻子给人按摩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24000" y="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象是一种聪明而有灵气的动物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94703_UGjQORHLmjZ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7667640" cy="571500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8199"/>
          <p:cNvSpPr/>
          <p:nvPr/>
        </p:nvSpPr>
        <p:spPr>
          <a:xfrm>
            <a:off x="118728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7cdabcf2c08c0de80b46e05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品析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趣的是，它偶尔也会和人开开玩笑。有一次，我看到一头象用鼻子把一位女士的皮鞋脱下来，然后卷着皮鞋悠然而去，把那位躺在地上的女士急得哇哇乱叫。脱皮鞋的大象一点儿也不理会女士的喊叫，用鼻子挥舞着皮鞋，绕着围观的人群转了一圈，才不慌不忙地回到那位女士身边，把皮鞋还给了她。那位女士又惊奇又尴尬，只见大象面对着她，行了一个屈膝礼，好像是在道歉。那庞大的身躯，屈膝点头时竟然优雅得像一个彬彬有礼的绅士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403280" y="59500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实例写出了大象是有灵气的动物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4427640" y="0"/>
            <a:ext cx="471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看到一头象用鼻子把一位女士的皮鞋悠然而去，把那位躺在地上的女士急得哇哇乱叫。此时，这头大象心里在想           ；当大象用鼻子挥舞完皮鞋，才不慌不忙地回到那位女士的身边，把皮鞋还了她。如果大象会说话，当他面对受到惊吓的女士行屈膝礼时，他会（           ）　　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1042920" y="19162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初读课文，找出生字新词，并思考：在泰国，人与象的关系是怎样的？再联系上一篇课文比较一下两篇课文在写法上的异同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395280" y="9810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本文在写法上与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威尼斯的小艇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有何异同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68360" y="234936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篇课文在表达上的共同之处有这样几点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都能抓住事物的特点来写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威尼斯的小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抓住威尼斯城市、小艇、人驾驶小艇的特点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象共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抓住了大象的外貌、神态、动作以及性格、聪明、善于表演等方面的特点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都抓住人与物（或动物）之间相互的紧密关系来写，并列举实例加以说明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叙述条理清楚，语言生动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95280" y="9810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本文在写法上与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威尼斯的小艇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有何异同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39640" y="27082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不同点主要是：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威尼斯的小艇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是按照事物的几个方面分别叙述的。而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与象共舞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是按先概括后分述的顺序叙述的，每一个自然段都有一个中心句放在该段的开头，是非常典型的先概述再具体叙述的方式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龙共舞              与鲨共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雪共舞              与狼共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肖邦共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世界杯共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奥运会共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西游记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共舞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风筝共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压力共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与蝴蝶共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619280" y="98100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我知道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933480" y="2162160"/>
            <a:ext cx="74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泰国，大象对人群已经（               ）所以，你遇到大象神经完全可以（        ）下来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562720" y="1981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视无睹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943600" y="2362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松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914400" y="30765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泰国，据说最有意思的是大象为人做按摩，去那里旅游的人都想（               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睹为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914400" y="40212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泰国 ，做按摩的大象偶尔也会跟人开开玩笑，这是观众（              ）的事儿，你不必惊奇，也不必（         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3733920" y="42051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目共睹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505320" y="4648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尴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914400" y="518004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泰国你（              ）象群和人群在欢乐的音乐声中翩翩起舞的场面，你陶醉其中，难以忘怀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3048120" y="5181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耳闻目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1219320" y="898560"/>
            <a:ext cx="76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选词填空：熟视无睹  有目共睹  先睹为快  耳闻目睹    松弛  按摩  尴尬  气氛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58560" y="907920"/>
            <a:ext cx="878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泰国，大象对人群已经</a:t>
            </a:r>
            <a:r>
              <a:rPr b="1" lang="en-US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)</a:t>
            </a: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征战时，大象曾经驮着武士</a:t>
            </a:r>
            <a:r>
              <a:rPr b="1" lang="en-US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) </a:t>
            </a: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 ) </a:t>
            </a: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做工服役时，它们又</a:t>
            </a:r>
            <a:r>
              <a:rPr b="1" lang="en-US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 )</a:t>
            </a: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 </a:t>
            </a:r>
            <a:r>
              <a:rPr b="1" lang="en-US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 )</a:t>
            </a: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辛勤劳作；表演时，它们会</a:t>
            </a:r>
            <a:r>
              <a:rPr b="1" lang="en-US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 )</a:t>
            </a: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为人按摩，还会 </a:t>
            </a:r>
            <a:r>
              <a:rPr b="1" lang="en-US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 )</a:t>
            </a: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像个绅士一样。最让人难以忘怀的，还是看大象</a:t>
            </a:r>
            <a:r>
              <a:rPr b="1" lang="en-US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    ) </a:t>
            </a:r>
            <a:r>
              <a:rPr b="1" lang="zh-CN" sz="39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258920" y="1484280"/>
            <a:ext cx="26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0314"/>
                </a:solidFill>
                <a:latin typeface="Arial"/>
                <a:ea typeface="黑体"/>
              </a:rPr>
              <a:t>熟视无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2843280" y="2133720"/>
            <a:ext cx="26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0314"/>
                </a:solidFill>
                <a:latin typeface="Arial"/>
                <a:ea typeface="黑体"/>
              </a:rPr>
              <a:t>冲锋陷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187280" y="278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0314"/>
                </a:solidFill>
                <a:latin typeface="Arial"/>
                <a:ea typeface="黑体"/>
              </a:rPr>
              <a:t>攻城守垒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403280" y="328464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0314"/>
                </a:solidFill>
                <a:latin typeface="Arial"/>
                <a:ea typeface="黑体"/>
              </a:rPr>
              <a:t>以一当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580000" y="335772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0314"/>
                </a:solidFill>
                <a:latin typeface="Arial"/>
                <a:ea typeface="黑体"/>
              </a:rPr>
              <a:t>以一抵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1187280" y="4437000"/>
            <a:ext cx="28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0314"/>
                </a:solidFill>
                <a:latin typeface="Arial"/>
                <a:ea typeface="黑体"/>
              </a:rPr>
              <a:t>小心翼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332000" y="4941720"/>
            <a:ext cx="28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0314"/>
                </a:solidFill>
                <a:latin typeface="Arial"/>
                <a:ea typeface="黑体"/>
              </a:rPr>
              <a:t>彬彬有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332000" y="6093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b0314"/>
                </a:solidFill>
                <a:latin typeface="Arial"/>
                <a:ea typeface="黑体"/>
              </a:rPr>
              <a:t>翩翩起舞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5"/>
          <p:cNvSpPr/>
          <p:nvPr/>
        </p:nvSpPr>
        <p:spPr>
          <a:xfrm>
            <a:off x="1295280" y="2438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亲密无间   和谐相处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80880" y="1492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象之间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295280" y="2438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请你欣赏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演奏曲目：泰国欢迎你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5592600"/>
          </a:xfrm>
          <a:prstGeom prst="rect">
            <a:avLst/>
          </a:prstGeom>
          <a:ln w="0">
            <a:noFill/>
          </a:ln>
        </p:spPr>
      </p:pic>
      <p:sp>
        <p:nvSpPr>
          <p:cNvPr id="227" name="WordArt 3"/>
          <p:cNvSpPr txBox="1"/>
          <p:nvPr/>
        </p:nvSpPr>
        <p:spPr>
          <a:xfrm>
            <a:off x="1835280" y="5805360"/>
            <a:ext cx="47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演奏曲目：欢迎你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轻轻一吻"/>
          <p:cNvPicPr/>
          <p:nvPr/>
        </p:nvPicPr>
        <p:blipFill>
          <a:blip r:embed="rId1"/>
          <a:stretch/>
        </p:blipFill>
        <p:spPr>
          <a:xfrm>
            <a:off x="324000" y="11736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229" name="WordArt 3"/>
          <p:cNvSpPr txBox="1"/>
          <p:nvPr/>
        </p:nvSpPr>
        <p:spPr>
          <a:xfrm>
            <a:off x="2700360" y="6022800"/>
            <a:ext cx="374472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隶书"/>
              </a:rPr>
              <a:t>轻轻一吻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med" advTm="4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5c274c78089d6399d163dd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5"/>
          <p:cNvSpPr/>
          <p:nvPr/>
        </p:nvSpPr>
        <p:spPr>
          <a:xfrm>
            <a:off x="4091040" y="413244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32" descr="q1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884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900000" y="184464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宋体"/>
              </a:rPr>
              <a:t>熟视无睹    松弛   按摩尴尬  彬彬有礼  绅士   气氛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826920" y="1125360"/>
            <a:ext cx="280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Users\admin\Desktop\与象共舞\图片\photo_1180670957250.jpg"/>
          <p:cNvPicPr/>
          <p:nvPr/>
        </p:nvPicPr>
        <p:blipFill>
          <a:blip r:embed="rId1"/>
          <a:stretch/>
        </p:blipFill>
        <p:spPr>
          <a:xfrm>
            <a:off x="1785960" y="642960"/>
            <a:ext cx="5214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1258920" y="170028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黑体"/>
              </a:rPr>
              <a:t>人与动物和谐相处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admin\Desktop\与象共舞\图片\Img227336305.jpg"/>
          <p:cNvPicPr/>
          <p:nvPr/>
        </p:nvPicPr>
        <p:blipFill>
          <a:blip r:embed="rId1"/>
          <a:stretch/>
        </p:blipFill>
        <p:spPr>
          <a:xfrm>
            <a:off x="285840" y="642960"/>
            <a:ext cx="4143240" cy="542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admin\Desktop\与象共舞\图片\NewsMedia_6660.jpg"/>
          <p:cNvPicPr/>
          <p:nvPr/>
        </p:nvPicPr>
        <p:blipFill>
          <a:blip r:embed="rId2"/>
          <a:stretch/>
        </p:blipFill>
        <p:spPr>
          <a:xfrm>
            <a:off x="4357800" y="642960"/>
            <a:ext cx="4572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Users\admin\Desktop\与象共舞\图片\W020071023362215056641.jpg"/>
          <p:cNvPicPr/>
          <p:nvPr/>
        </p:nvPicPr>
        <p:blipFill>
          <a:blip r:embed="rId1"/>
          <a:stretch/>
        </p:blipFill>
        <p:spPr>
          <a:xfrm>
            <a:off x="2643120" y="642960"/>
            <a:ext cx="2928960" cy="5429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Users\admin\Desktop\与象共舞\图片\W020071023362216118700.jpg"/>
          <p:cNvPicPr/>
          <p:nvPr/>
        </p:nvPicPr>
        <p:blipFill>
          <a:blip r:embed="rId2"/>
          <a:stretch/>
        </p:blipFill>
        <p:spPr>
          <a:xfrm>
            <a:off x="0" y="642960"/>
            <a:ext cx="2643120" cy="542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C:\Users\admin\Desktop\与象共舞\图片\滕头.jpg"/>
          <p:cNvPicPr/>
          <p:nvPr/>
        </p:nvPicPr>
        <p:blipFill>
          <a:blip r:embed="rId3"/>
          <a:stretch/>
        </p:blipFill>
        <p:spPr>
          <a:xfrm>
            <a:off x="5572080" y="642960"/>
            <a:ext cx="3357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042920" y="105264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黑体"/>
              </a:rPr>
              <a:t>拓展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WordArt 5"/>
          <p:cNvSpPr txBox="1"/>
          <p:nvPr/>
        </p:nvSpPr>
        <p:spPr>
          <a:xfrm>
            <a:off x="1908000" y="2637000"/>
            <a:ext cx="57596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66ff"/>
                </a:solidFill>
                <a:latin typeface="宋体"/>
              </a:rPr>
              <a:t>泰国的大象节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66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admin\Desktop\与象共舞\图片\xinsrc_021103271054345185495.jpg"/>
          <p:cNvPicPr/>
          <p:nvPr/>
        </p:nvPicPr>
        <p:blipFill>
          <a:blip r:embed="rId1"/>
          <a:stretch/>
        </p:blipFill>
        <p:spPr>
          <a:xfrm>
            <a:off x="250920" y="50760"/>
            <a:ext cx="8130960" cy="67564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8366040" y="2143080"/>
            <a:ext cx="77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95280" y="18900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泰国“大象节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年１１月的第三个周末，泰国都要在产象最多的素林府举行盛大的“大象节”。这是当地最富特色的传统宗教节日之一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大象节这天，人们挑选出最威风最矫健的大象，给它们身上披上彩带、盖布，挂上小铃铛，举行大象游行。象群后面，１００多名男女身穿鲜艳服装，婆娑起舞。舞蹈队后面是一个巨型火箭，人们把火箭射上天空，祈求降雨、五谷丰登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此后，是各种表演活动，如“捕捉野象”、“跑象拾物”、“象人拔河”、“大象跨人”、“古代象阵”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文本框 8199"/>
          <p:cNvSpPr/>
          <p:nvPr/>
        </p:nvSpPr>
        <p:spPr>
          <a:xfrm>
            <a:off x="539640" y="5373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468360" y="25808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今大象日子不好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泰国，大象是荣誉和吉祥的象征，是泰国人心中的尊贵动物。可近年来，由于现代社会很少用到大象进行传统劳作，“失业”的大象无所事事，开始变得命运多蹇。贫穷的驯象人不顾法律限制，赶着大象进城讨生活，既影响市容，又伤害大象，成为首都曼谷的一块心病。驯象人利用大象吸引行人注意，向他们兜售甘蔗、香蕉等大象喜爱的食物，从中获利。 有时候，大象会踏坏汽车玻璃，或者陷进路边的沟槽，或者因为踩到尖锐的异物而弄伤自己。对此，动物保护者心痛不已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A956-BE54-458D-9C3C-A299DB9059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250920" y="25498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今大象日子不好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警察却表示无能为力。政客有时会令行禁止，可最终不了了之。据泰国官方数据显示，泰国现有３８３７头家养大象，其中只有一小部分在曼谷。虽然数量少，但它们每天晚上都会出没于曼谷街头。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前，泰国前首相阿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班雅拉春叹息道，每当看见大象出没在曼谷街头，“我们不仅替大象感到难过，也为自己感到羞耻”。  阿南说：“大象是荣誉、尊严和领袖的象征，可如今，它却成为失败和不公平的象征。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731600"/>
            <a:ext cx="721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悠闲沉着    冲锋陷阵   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攻城守垒    以一当十   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以一抵百    小心翼翼   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彬彬有礼    翩翩起舞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68360" y="620640"/>
            <a:ext cx="43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490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道歉  摇头晃脑  陶醉   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踮脚抬腿    毫无疑问   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熟视无睹    有目共睹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Verdana"/>
              </a:rPr>
              <a:t>先睹为快    耳闻目睹</a:t>
            </a:r>
            <a:endParaRPr b="0" lang="en-US" sz="5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124000" y="50796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82640" y="1752480"/>
            <a:ext cx="756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快速阅读课文，用找中心句的方法，了解课文每一段的主要内容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在泰国</a:t>
            </a:r>
            <a:r>
              <a:rPr b="1" lang="en-US" sz="39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遇到大象是一件很自然的事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象是泰国的国宝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在泰国，人和象之间没有距离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象是一种聪明而有灵性的动物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900" spc="-1" strike="noStrike">
                <a:solidFill>
                  <a:srgbClr val="000000"/>
                </a:solidFill>
                <a:latin typeface="黑体"/>
                <a:ea typeface="黑体"/>
              </a:rPr>
              <a:t>最使我难以忘怀的，是看大象跳舞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33360"/>
            <a:ext cx="868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Franklin Gothic Medium"/>
                <a:ea typeface="隶书"/>
              </a:rPr>
              <a:t>27.</a:t>
            </a:r>
            <a:r>
              <a:rPr b="0" lang="zh-CN" sz="3600" spc="-1" strike="noStrike">
                <a:solidFill>
                  <a:srgbClr val="ff3300"/>
                </a:solidFill>
                <a:latin typeface="Franklin Gothic Medium"/>
                <a:ea typeface="隶书"/>
              </a:rPr>
              <a:t>与象共舞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8101080" y="623736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20712" y="10800"/>
                </a:moveTo>
                <a:lnTo>
                  <a:pt x="10207" y="17806"/>
                </a:lnTo>
                <a:lnTo>
                  <a:pt x="10207" y="3794"/>
                </a:lnTo>
                <a:close/>
              </a:path>
              <a:path fill="darken" w="34426" h="21600">
                <a:moveTo>
                  <a:pt x="22557" y="3794"/>
                </a:moveTo>
                <a:lnTo>
                  <a:pt x="22557" y="17806"/>
                </a:lnTo>
                <a:lnTo>
                  <a:pt x="24220" y="17806"/>
                </a:lnTo>
                <a:lnTo>
                  <a:pt x="24220" y="3794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  <a:ea typeface="黑体"/>
              </a:rPr>
              <a:t>小组学习提纲（研读第五段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7120" y="1755360"/>
            <a:ext cx="777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有感情地朗读第五自然段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划出让你们印象深刻的词语或句子，重点读一读，品一品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准备小组汇报展示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（汇报形式可多样化，可以展示演读课文，可以品析好词，也可以谈对句子的体会）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47Z</dcterms:modified>
  <cp:revision>11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fc1c000000000001024120</vt:lpwstr>
  </property>
</Properties>
</file>