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AF51-046E-4D3C-AC80-5E7B79403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D840-E520-423C-9C5C-DB7AAEC4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C329-7D5C-48C0-B524-50F00B92A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F2FD-44EE-4F12-8D63-5438D84EE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5A45-120B-4F70-8EFF-1D09B1A56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8FD9-BB0D-40E9-BA76-62314B79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0DB9-334F-47F1-BB37-DC19A866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F07D-5313-4730-BEC7-D123EB09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589A-EAF5-473F-A8E4-DD29C345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B0F1-A3BB-48BD-AEB2-7BE0B969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D210-C8D4-4CFB-A39F-CB68C6FA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C494-E53F-451D-89D6-6BE88086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124A-54D2-40FE-A245-D700FC6D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4311-EF69-45FD-8AAC-39E85583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A90B-E4BE-4A2B-BBB3-67A55B3B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D5EF-7A2C-4FF8-80E8-395F3613B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3A77-F96F-408A-98F7-DD40B4AD8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A72E-A8A8-4A8A-B9AB-EC8D7EEC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19BA-E8C4-4FFE-A5B3-E88CE508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7B7D-1564-45A0-A05B-1F43E5BE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0897-76D6-4C96-939A-2524D882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82BE-81E1-44F4-8226-18449865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1F54-2D8F-4F0D-8B51-609C64C5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AB74-C4B5-44E2-9A49-67BA4A9C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E213-E39B-497D-9C6B-653889C63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3FEE-D7B7-4A1D-9BA5-AE458CF03E6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hyperlink" Target="http://www.eeppt.com/moban/" TargetMode="Externa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2476800" y="4437000"/>
            <a:ext cx="42645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夜的工作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作者：何其芳（现代诗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2005_11_8_36371_736371"/>
          <p:cNvPicPr/>
          <p:nvPr/>
        </p:nvPicPr>
        <p:blipFill>
          <a:blip r:embed="rId1"/>
          <a:stretch/>
        </p:blipFill>
        <p:spPr>
          <a:xfrm>
            <a:off x="3132000" y="1052640"/>
            <a:ext cx="2602080" cy="329220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看啊，这就是我们中华人民共和国的总理。我看见了他一夜的工作。他每个夜晚都是这样工作的。你们看见过这样的总理吗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18"/>
          <p:cNvPicPr/>
          <p:nvPr/>
        </p:nvPicPr>
        <p:blipFill>
          <a:blip r:embed="rId1"/>
          <a:stretch/>
        </p:blipFill>
        <p:spPr>
          <a:xfrm>
            <a:off x="1835280" y="1270080"/>
            <a:ext cx="5545080" cy="4201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200451210412511720"/>
          <p:cNvPicPr/>
          <p:nvPr/>
        </p:nvPicPr>
        <p:blipFill>
          <a:blip r:embed="rId2"/>
          <a:stretch/>
        </p:blipFill>
        <p:spPr>
          <a:xfrm>
            <a:off x="1835280" y="1270080"/>
            <a:ext cx="5545080" cy="4227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200451210443892828"/>
          <p:cNvPicPr/>
          <p:nvPr/>
        </p:nvPicPr>
        <p:blipFill>
          <a:blip r:embed="rId3"/>
          <a:stretch/>
        </p:blipFill>
        <p:spPr>
          <a:xfrm>
            <a:off x="1835280" y="1270080"/>
            <a:ext cx="5545080" cy="4227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NewsMedia_162849"/>
          <p:cNvPicPr/>
          <p:nvPr/>
        </p:nvPicPr>
        <p:blipFill>
          <a:blip r:embed="rId4"/>
          <a:stretch/>
        </p:blipFill>
        <p:spPr>
          <a:xfrm>
            <a:off x="1835280" y="1197000"/>
            <a:ext cx="5616360" cy="4281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NewsMedia_162850"/>
          <p:cNvPicPr/>
          <p:nvPr/>
        </p:nvPicPr>
        <p:blipFill>
          <a:blip r:embed="rId5"/>
          <a:stretch/>
        </p:blipFill>
        <p:spPr>
          <a:xfrm>
            <a:off x="1835280" y="1197000"/>
            <a:ext cx="5616360" cy="4319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QJUTBzUgrp"/>
          <p:cNvPicPr/>
          <p:nvPr/>
        </p:nvPicPr>
        <p:blipFill>
          <a:blip r:embed="rId6"/>
          <a:stretch/>
        </p:blipFill>
        <p:spPr>
          <a:xfrm>
            <a:off x="1835280" y="1197000"/>
            <a:ext cx="5616360" cy="4319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NewsMedia_162865"/>
          <p:cNvPicPr/>
          <p:nvPr/>
        </p:nvPicPr>
        <p:blipFill>
          <a:blip r:embed="rId7"/>
          <a:stretch/>
        </p:blipFill>
        <p:spPr>
          <a:xfrm>
            <a:off x="1835280" y="1197000"/>
            <a:ext cx="5616360" cy="43196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2"/>
          <p:cNvSpPr/>
          <p:nvPr/>
        </p:nvSpPr>
        <p:spPr>
          <a:xfrm>
            <a:off x="395280" y="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为人民服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8197"/>
          <p:cNvSpPr/>
          <p:nvPr/>
        </p:nvSpPr>
        <p:spPr>
          <a:xfrm>
            <a:off x="1260360" y="55897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8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"/>
                            </p:stCondLst>
                            <p:childTnLst>
                              <p:par>
                                <p:cTn id="90" dur="indefinite" nodeType="afterEffect" fill="hold" presetClass="entr" presetID="2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2"/>
                            </p:stCondLst>
                            <p:childTnLst>
                              <p:par>
                                <p:cTn id="96" dur="indefinite" nodeType="afterEffect" fill="hold" presetClass="entr" presetID="2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8003"/>
                            </p:stCondLst>
                            <p:childTnLst>
                              <p:par>
                                <p:cTn id="103" dur="indefinite" nodeType="afterEffect" fill="hold" presetClass="entr" presetID="2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2004"/>
                            </p:stCondLst>
                            <p:childTnLst>
                              <p:par>
                                <p:cTn id="110" dur="indefinite" nodeType="afterEffect" fill="hold" presetClass="entr" presetID="2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6004"/>
                            </p:stCondLst>
                            <p:childTnLst>
                              <p:par>
                                <p:cTn id="127" dur="indefinite" nodeType="afterEffect" fill="hold" presetClass="entr" presetID="2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6"/>
                            </p:stCondLst>
                            <p:childTnLst>
                              <p:par>
                                <p:cTn id="133" dur="indefinite" nodeType="afterEffect" fill="hold" presetClass="entr" presetID="2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647720" y="260280"/>
            <a:ext cx="626580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最后时刻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197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月诊断为膀胱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197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日上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5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分逝世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新魏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新魏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cetmucJSsHNJA"/>
          <p:cNvPicPr/>
          <p:nvPr/>
        </p:nvPicPr>
        <p:blipFill>
          <a:blip r:embed="rId1"/>
          <a:stretch/>
        </p:blipFill>
        <p:spPr>
          <a:xfrm>
            <a:off x="2124000" y="1916280"/>
            <a:ext cx="5256360" cy="3889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showimg"/>
          <p:cNvPicPr/>
          <p:nvPr/>
        </p:nvPicPr>
        <p:blipFill>
          <a:blip r:embed="rId2"/>
          <a:stretch/>
        </p:blipFill>
        <p:spPr>
          <a:xfrm>
            <a:off x="2124000" y="1916280"/>
            <a:ext cx="5256360" cy="3889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200451210473818066"/>
          <p:cNvPicPr/>
          <p:nvPr/>
        </p:nvPicPr>
        <p:blipFill>
          <a:blip r:embed="rId3"/>
          <a:stretch/>
        </p:blipFill>
        <p:spPr>
          <a:xfrm>
            <a:off x="2124000" y="1916280"/>
            <a:ext cx="5256360" cy="3960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showimg"/>
          <p:cNvPicPr/>
          <p:nvPr/>
        </p:nvPicPr>
        <p:blipFill>
          <a:blip r:embed="rId4"/>
          <a:stretch/>
        </p:blipFill>
        <p:spPr>
          <a:xfrm>
            <a:off x="2124000" y="1916280"/>
            <a:ext cx="5256360" cy="3960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"/>
                            </p:stCondLst>
                            <p:childTnLst>
                              <p:par>
                                <p:cTn id="144" dur="indefinite" nodeType="afterEffect" fill="hold" presetClass="entr" presetID="2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002"/>
                            </p:stCondLst>
                            <p:childTnLst>
                              <p:par>
                                <p:cTn id="150" dur="indefinite" nodeType="afterEffect" fill="hold" presetClass="entr" presetID="2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8003"/>
                            </p:stCondLst>
                            <p:childTnLst>
                              <p:par>
                                <p:cTn id="155" dur="indefinite" nodeType="afterEffect" fill="hold" presetClass="entr" presetID="2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8417-1232-42D2-B93B-C3AEC79F3FF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20031024092151"/>
          <p:cNvPicPr/>
          <p:nvPr/>
        </p:nvPicPr>
        <p:blipFill>
          <a:blip r:embed="rId1"/>
          <a:stretch/>
        </p:blipFill>
        <p:spPr>
          <a:xfrm>
            <a:off x="1692360" y="836640"/>
            <a:ext cx="6235560" cy="46893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4457160" y="57340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周总理是一代伟人，是人民的好总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6"/>
          <p:cNvSpPr/>
          <p:nvPr/>
        </p:nvSpPr>
        <p:spPr>
          <a:xfrm>
            <a:off x="1619280" y="7542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cekm9MXgKCBwA"/>
          <p:cNvPicPr/>
          <p:nvPr/>
        </p:nvPicPr>
        <p:blipFill>
          <a:blip r:embed="rId1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1042920" y="5877000"/>
            <a:ext cx="74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你在屋里看到什么？有什么感觉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544760" y="404640"/>
            <a:ext cx="383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令我想不到的是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684360" y="1484280"/>
            <a:ext cx="779436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华文新魏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室内陈设极其简单，一张不大的写字台，两把小转椅，一盏台灯，如此而已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4303080" y="18032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极其简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3928680" y="31748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如此而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931480" y="1268280"/>
            <a:ext cx="292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轻声读课文，看看周总理在这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夜中做了哪些工作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540160" y="2852640"/>
            <a:ext cx="444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总理是怎样批阅我的记录稿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（快速读第四节，划出句子。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042920" y="1268280"/>
            <a:ext cx="7796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他一句一句地审阅，看完一句就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铅笔在那一句后面画一个小圆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他不是浏览一遍就算了，而是一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看一边思索，有时停笔想一想，有时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我一两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4329720" y="1244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审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8197"/>
          <p:cNvSpPr/>
          <p:nvPr/>
        </p:nvSpPr>
        <p:spPr>
          <a:xfrm>
            <a:off x="1260360" y="486900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55640" y="1341360"/>
            <a:ext cx="817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一位新中国的总理有多少事等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他来处理，有多少困难等着他去解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这时候的周总理他可能会想些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900000" y="90792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这时候，值班室的同志送来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两杯热腾腾的绿茶，一小碟花生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放在写字台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花生米并不多，可以数得清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粒，好像并没有因为多了一个人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增加了分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971640" y="4581360"/>
            <a:ext cx="87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他的生活极其简朴，和普通人没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什么两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2988720" y="1676520"/>
            <a:ext cx="3782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这就是我们新中国的总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我看见了他一夜的工作。他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多么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劳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，多么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简朴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！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60948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74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日的工作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1295280" y="1371600"/>
            <a:ext cx="8001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点            与雷尼尔会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晚上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点            陪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晚上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点           开政治局会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凌晨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点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        约民航同志谈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早上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点            办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点           去东郊迎外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点            休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12:43:3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1:15Z</dcterms:modified>
  <cp:revision>2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