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2CB-4169-4B54-926A-729A5914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47F-EFB7-4968-B9C9-F0DE312D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62F-6F0E-44DC-B474-895C10C0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C1C-AD42-439E-9801-6FB619E4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7F19-A588-4F92-AA72-99589DED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0926-1C6E-4A2D-BF96-990E4B3F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1EB-445E-4B0A-B8FF-FA0604EF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7420-2EB0-4BA2-B3EB-E683A9F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29C9-1B9D-4412-926B-2E216BC0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43E-713B-4F2E-B11D-046A686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A214-2394-4C1C-97F3-7330BAB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4EA-DBDB-4E49-BD84-E74244A8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DC6-3E61-4426-90A1-0E36D73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09F-306F-4385-AA0F-7D77608C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6D25-7824-4060-8E65-3B60E115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F643-B5C3-408D-BBEB-9E313CC4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07D8-E815-4EB1-9503-3E66477D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AE5-7D0A-4AF1-96F7-DCC6880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F91-BC46-4DA8-80FB-5206455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09C-FDB9-4DF2-871E-E75D20B7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B74-9DBE-4EB9-A7F5-BDA4E1B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197-27D1-4436-BFAB-45DDA16B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AD0-2267-43DC-A8F5-8B0F14A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2CA-BE2F-4D9F-9552-C214E5C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999F-2E23-41F6-9722-6CDF6089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190-BB54-455A-92D3-85E259FD80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fengjing2_078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826920" y="1927080"/>
            <a:ext cx="590580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拥有好心情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24000" y="5934240"/>
            <a:ext cx="2960640" cy="815760"/>
            <a:chOff x="324000" y="5934240"/>
            <a:chExt cx="2960640" cy="815760"/>
          </a:xfrm>
        </p:grpSpPr>
        <p:pic>
          <p:nvPicPr>
            <p:cNvPr id="87" name="Picture 7" descr="1-28-36"/>
            <p:cNvPicPr/>
            <p:nvPr/>
          </p:nvPicPr>
          <p:blipFill>
            <a:blip r:embed="rId2"/>
            <a:stretch/>
          </p:blipFill>
          <p:spPr>
            <a:xfrm>
              <a:off x="324000" y="5950080"/>
              <a:ext cx="7999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8" descr="1-28-36"/>
            <p:cNvPicPr/>
            <p:nvPr/>
          </p:nvPicPr>
          <p:blipFill>
            <a:blip r:embed="rId3"/>
            <a:stretch/>
          </p:blipFill>
          <p:spPr>
            <a:xfrm>
              <a:off x="1042920" y="5942160"/>
              <a:ext cx="8002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1-28-36"/>
            <p:cNvPicPr/>
            <p:nvPr/>
          </p:nvPicPr>
          <p:blipFill>
            <a:blip r:embed="rId4"/>
            <a:stretch/>
          </p:blipFill>
          <p:spPr>
            <a:xfrm>
              <a:off x="1763640" y="5942160"/>
              <a:ext cx="8002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1-28-36"/>
            <p:cNvPicPr/>
            <p:nvPr/>
          </p:nvPicPr>
          <p:blipFill>
            <a:blip r:embed="rId5"/>
            <a:stretch/>
          </p:blipFill>
          <p:spPr>
            <a:xfrm>
              <a:off x="2484360" y="5934240"/>
              <a:ext cx="80028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1"/>
          <p:cNvSpPr/>
          <p:nvPr/>
        </p:nvSpPr>
        <p:spPr>
          <a:xfrm>
            <a:off x="2742120" y="668160"/>
            <a:ext cx="18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品德与社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年级下册第一单元第二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Btflymon1"/>
          <p:cNvPicPr/>
          <p:nvPr/>
        </p:nvPicPr>
        <p:blipFill>
          <a:blip r:embed="rId6"/>
          <a:stretch/>
        </p:blipFill>
        <p:spPr>
          <a:xfrm>
            <a:off x="95400" y="3920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9975813"/>
          <p:cNvPicPr/>
          <p:nvPr/>
        </p:nvPicPr>
        <p:blipFill>
          <a:blip r:embed="rId7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1187280" y="262080"/>
            <a:ext cx="3475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情绪放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47640" y="1268280"/>
            <a:ext cx="6048720" cy="17398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倾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向老师、同学、朋友、亲戚等倾诉。写日记、写信、打电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放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听音乐、看风景、散步、唱歌、跳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转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不想眼前的事情，不做眼前的事情，找同学一起玩游戏，看书，看电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8196"/>
          <p:cNvSpPr/>
          <p:nvPr/>
        </p:nvSpPr>
        <p:spPr>
          <a:xfrm>
            <a:off x="1741320" y="9334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/>
          <p:cNvSpPr/>
          <p:nvPr/>
        </p:nvSpPr>
        <p:spPr>
          <a:xfrm>
            <a:off x="1187280" y="262080"/>
            <a:ext cx="3456000" cy="934920"/>
          </a:xfrm>
          <a:prstGeom prst="cloudCallout">
            <a:avLst>
              <a:gd name="adj1" fmla="val -47518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别烦恼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47640" y="1268280"/>
            <a:ext cx="6048720" cy="47862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烦恼烦恼人人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烦恼别往心里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在心里人难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哭就哭，想唱就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冷静反思，自开良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亲朋好友，倾诉衷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快乐转移，心情开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19975813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1187280" y="262080"/>
            <a:ext cx="3745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名言名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00040" y="233532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快乐不在于事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在于我们自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90D3-59AD-4114-8A6C-18CE0D4B82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engjing2_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1763640" y="1701720"/>
            <a:ext cx="475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76" name="Picture 6" descr="1-28-36"/>
          <p:cNvPicPr/>
          <p:nvPr/>
        </p:nvPicPr>
        <p:blipFill>
          <a:blip r:embed="rId2"/>
          <a:stretch/>
        </p:blipFill>
        <p:spPr>
          <a:xfrm>
            <a:off x="304920" y="602136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1-28-36"/>
          <p:cNvPicPr/>
          <p:nvPr/>
        </p:nvPicPr>
        <p:blipFill>
          <a:blip r:embed="rId3"/>
          <a:stretch/>
        </p:blipFill>
        <p:spPr>
          <a:xfrm>
            <a:off x="1042920" y="603576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1-28-36"/>
          <p:cNvPicPr/>
          <p:nvPr/>
        </p:nvPicPr>
        <p:blipFill>
          <a:blip r:embed="rId4"/>
          <a:stretch/>
        </p:blipFill>
        <p:spPr>
          <a:xfrm>
            <a:off x="1763640" y="603576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-28-36"/>
          <p:cNvPicPr/>
          <p:nvPr/>
        </p:nvPicPr>
        <p:blipFill>
          <a:blip r:embed="rId5"/>
          <a:stretch/>
        </p:blipFill>
        <p:spPr>
          <a:xfrm>
            <a:off x="2484360" y="60278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Btflymon1"/>
          <p:cNvPicPr/>
          <p:nvPr/>
        </p:nvPicPr>
        <p:blipFill>
          <a:blip r:embed="rId6"/>
          <a:stretch/>
        </p:blipFill>
        <p:spPr>
          <a:xfrm>
            <a:off x="539640" y="54936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19975813"/>
          <p:cNvPicPr/>
          <p:nvPr/>
        </p:nvPicPr>
        <p:blipFill>
          <a:blip r:embed="rId7"/>
          <a:stretch/>
        </p:blipFill>
        <p:spPr>
          <a:xfrm>
            <a:off x="0" y="631332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30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826920" y="1341360"/>
            <a:ext cx="7883640" cy="119124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一般认为事业有成、生活富裕的人快乐会更多一些，穷人更多一些烦恼。事实是这样吗？科学家曾对非洲绝对贫困人口、发展中国家的普通老百姓和发达国家的富翁、大人物，做过一个调查。问题是：他们认为自己的生活快乐吗？结果大家的回答差不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3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9"/>
          <p:cNvSpPr/>
          <p:nvPr/>
        </p:nvSpPr>
        <p:spPr>
          <a:xfrm>
            <a:off x="418608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G_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L1R35MI01TO0032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fan"/>
          <p:cNvPicPr/>
          <p:nvPr/>
        </p:nvPicPr>
        <p:blipFill>
          <a:blip r:embed="rId3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11280" y="1268280"/>
          <a:ext cx="7993080" cy="4140360"/>
        </p:xfrm>
        <a:graphic>
          <a:graphicData uri="http://schemas.openxmlformats.org/drawingml/2006/table">
            <a:tbl>
              <a:tblPr/>
              <a:tblGrid>
                <a:gridCol w="1944720"/>
                <a:gridCol w="1511280"/>
                <a:gridCol w="2709720"/>
                <a:gridCol w="1827360"/>
              </a:tblGrid>
              <a:tr h="1306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的生活快乐吗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快乐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不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快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的生活中有烦恼吗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没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时有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烦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1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9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小调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1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8196"/>
          <p:cNvSpPr/>
          <p:nvPr/>
        </p:nvSpPr>
        <p:spPr>
          <a:xfrm>
            <a:off x="1817640" y="9334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1187280" y="262080"/>
            <a:ext cx="2737080" cy="934920"/>
          </a:xfrm>
          <a:prstGeom prst="cloudCallout">
            <a:avLst>
              <a:gd name="adj1" fmla="val -46865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考考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403280" y="1844640"/>
            <a:ext cx="6696000" cy="143460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你是李萌，你遇到这样的情况，你会怎么想，怎么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5"/>
          <p:cNvSpPr/>
          <p:nvPr/>
        </p:nvSpPr>
        <p:spPr>
          <a:xfrm>
            <a:off x="1187280" y="262080"/>
            <a:ext cx="3581640" cy="934920"/>
          </a:xfrm>
          <a:prstGeom prst="cloudCallout">
            <a:avLst>
              <a:gd name="adj1" fmla="val -47467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灵丹妙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1773360"/>
            <a:ext cx="7883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诊断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萌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所以她很生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药　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李萌这样想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，就不会生气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79080" y="111600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当一回医生，为李萌开个“药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1187280" y="262080"/>
            <a:ext cx="331344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116000" y="1484280"/>
            <a:ext cx="6408720" cy="7642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种看问题的角度不同，结果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9975813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课本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课本2"/>
          <p:cNvPicPr/>
          <p:nvPr/>
        </p:nvPicPr>
        <p:blipFill>
          <a:blip r:embed="rId2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课本2"/>
          <p:cNvPicPr/>
          <p:nvPr/>
        </p:nvPicPr>
        <p:blipFill>
          <a:blip r:embed="rId3"/>
          <a:stretch/>
        </p:blipFill>
        <p:spPr>
          <a:xfrm>
            <a:off x="-34920" y="44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557360"/>
            <a:ext cx="81471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木框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蝴蝶"/>
          <p:cNvPicPr/>
          <p:nvPr/>
        </p:nvPicPr>
        <p:blipFill>
          <a:blip r:embed="rId2"/>
          <a:stretch/>
        </p:blipFill>
        <p:spPr>
          <a:xfrm>
            <a:off x="-181080" y="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1187280" y="262080"/>
            <a:ext cx="3529080" cy="934920"/>
          </a:xfrm>
          <a:prstGeom prst="cloudCallout">
            <a:avLst>
              <a:gd name="adj1" fmla="val -47412"/>
              <a:gd name="adj2" fmla="val 50171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自我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042920" y="1197000"/>
            <a:ext cx="7056360" cy="228744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曾为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事生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时我的想法是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当时我的心情是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867280" y="2637000"/>
            <a:ext cx="2017800" cy="360"/>
            <a:chOff x="5867280" y="2637000"/>
            <a:chExt cx="2017800" cy="360"/>
          </a:xfrm>
        </p:grpSpPr>
        <p:sp>
          <p:nvSpPr>
            <p:cNvPr id="142" name="Line 7"/>
            <p:cNvSpPr/>
            <p:nvPr/>
          </p:nvSpPr>
          <p:spPr>
            <a:xfrm>
              <a:off x="5867280" y="2637000"/>
              <a:ext cx="201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5867280" y="2637000"/>
              <a:ext cx="201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0360" y="3284640"/>
            <a:ext cx="1944720" cy="360"/>
            <a:chOff x="5940360" y="3284640"/>
            <a:chExt cx="1944720" cy="360"/>
          </a:xfrm>
        </p:grpSpPr>
        <p:sp>
          <p:nvSpPr>
            <p:cNvPr id="145" name="Line 8"/>
            <p:cNvSpPr/>
            <p:nvPr/>
          </p:nvSpPr>
          <p:spPr>
            <a:xfrm>
              <a:off x="5940360" y="328464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940360" y="328464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2" descr="19975813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684360" y="3500280"/>
            <a:ext cx="3600360" cy="935280"/>
          </a:xfrm>
          <a:prstGeom prst="cloudCallout">
            <a:avLst>
              <a:gd name="adj1" fmla="val -25708"/>
              <a:gd name="adj2" fmla="val -273087"/>
            </a:avLst>
          </a:prstGeom>
          <a:gradFill rotWithShape="0">
            <a:gsLst>
              <a:gs pos="0">
                <a:srgbClr val="d6f44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锦囊妙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187280" y="4508640"/>
            <a:ext cx="6840720" cy="916920"/>
          </a:xfrm>
          <a:prstGeom prst="rect">
            <a:avLst/>
          </a:prstGeom>
          <a:solidFill>
            <a:srgbClr val="d6f442"/>
          </a:solidFill>
          <a:ln cap="rnd" w="57240">
            <a:solidFill>
              <a:srgbClr val="ff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谁的金点子最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3:34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59Z</dcterms:modified>
  <cp:revision>5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