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click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81CE-5DA7-4335-9F77-E580324A3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C000-F508-4739-9633-14F19064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A614-2384-4848-A9F7-39DB50A69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3B8C-6988-4402-AD38-6F0D81370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D1A4-7759-4067-B2F5-33538D9E1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4C67-D4A0-427B-AD1C-949B046A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83FA-0EAB-4DE2-A56D-C46CE477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3CFF-5299-4159-8F7F-477F0BA3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570F-1C03-4397-9C0D-293B8FAD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BD27-DB55-495A-A216-0B6F892C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0457-CC67-4D02-8855-1EDD11F2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D0E8-BD8C-433E-AD68-77955BBC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0916-A0D9-4418-B7D2-960EEDAD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7D74-8971-4023-9275-4ADAC90F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FD37-C2BB-43C1-BBBE-4EB3F50B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DEF0-3892-4C3A-8707-E3247A5D8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464D-1129-45F8-90A6-164546CE0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5B73-695F-461E-B071-CE5BF6CD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FAB7-9594-4804-8A3A-AADE3A87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297A-B4E8-46B7-9F54-1FEEAEDB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41D3-D077-4D2E-BACB-65DCBB9F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A5C0-C133-4C90-A9AF-B6BA7DFA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DA81-0B39-405F-8D35-693D6CE9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D055-5E13-4A91-8F5C-8089A3AB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5402-4114-42CA-85B7-AC71F1592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5655-FEC8-4436-9764-ABA343D978D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-1,-1,NEXT" TargetMode="External"/><Relationship Id="rId3" Type="http://schemas.openxmlformats.org/officeDocument/2006/relationships/hyperlink" Target="304,5,&#24187;&#28783;&#29255; 5" TargetMode="External"/><Relationship Id="rId4" Type="http://schemas.openxmlformats.org/officeDocument/2006/relationships/hyperlink" Target="305,6,&#24187;&#28783;&#29255; 6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762120" y="1981080"/>
            <a:ext cx="754380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严也是一种爱</a:t>
            </a:r>
            <a:r>
              <a:rPr b="1" lang="en-US" sz="40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PPT</a:t>
            </a:r>
            <a:r>
              <a:rPr b="1" lang="zh-CN" sz="40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课件模板下载</a:t>
            </a:r>
            <a:endParaRPr b="1" lang="en-US" sz="4000" spc="1" strike="noStrike">
              <a:ln w="9360">
                <a:solidFill>
                  <a:srgbClr val="ffff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24000" y="533520"/>
            <a:ext cx="843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第二课  我与父母交朋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609480" y="205740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逆反心理的产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971640" y="1484280"/>
            <a:ext cx="503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660680" y="93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609480" y="28195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我们对父母的思想观念、管教方法、严格要求，有时产生反感，甚至产生逆反心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609480" y="396252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逆反心理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具体表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685800" y="46483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要我这样，我偏要那样；你说这个好，我非说那个好；让我相信这个，我非相信那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228600" y="1119240"/>
            <a:ext cx="7924680" cy="70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逆反心理有危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0" y="0"/>
            <a:ext cx="9144000" cy="35676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Arial"/>
                <a:ea typeface="黑体"/>
              </a:rPr>
              <a:t>　　　　　　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家庭教育的误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cc"/>
                </a:solidFill>
                <a:latin typeface="Arial"/>
                <a:ea typeface="黑体"/>
              </a:rPr>
              <a:t>棍棒出孝子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粗暴型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容易让孩子消极模仿，助长暴力倾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cc"/>
                </a:solidFill>
                <a:latin typeface="Arial"/>
                <a:ea typeface="黑体"/>
              </a:rPr>
              <a:t>可怜天下父母心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溺爱型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孩子丧失磨炼机会，产生依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cc"/>
                </a:solidFill>
                <a:latin typeface="Arial"/>
                <a:ea typeface="黑体"/>
              </a:rPr>
              <a:t>孩子自家好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袒护型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孩子唯我独尊，稍有不如意就发脾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cc"/>
                </a:solidFill>
                <a:latin typeface="Arial"/>
                <a:ea typeface="黑体"/>
              </a:rPr>
              <a:t>树长大了自然直</a:t>
            </a:r>
            <a:r>
              <a:rPr b="1" lang="en-US" sz="2700" spc="-1" strike="noStrike">
                <a:solidFill>
                  <a:srgbClr val="0000cc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放纵型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放荡不羁，脾气暴躁，顶顶撞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cc"/>
                </a:solidFill>
                <a:latin typeface="Arial"/>
                <a:ea typeface="黑体"/>
              </a:rPr>
              <a:t>冷热无常</a:t>
            </a:r>
            <a:r>
              <a:rPr b="1" lang="en-US" sz="2700" spc="-1" strike="noStrike">
                <a:solidFill>
                  <a:srgbClr val="0000cc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情绪型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─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家长的情绪与子女吻合时还好，不吻合时，子女容易逆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cc"/>
                </a:solidFill>
                <a:latin typeface="Arial"/>
                <a:ea typeface="黑体"/>
              </a:rPr>
              <a:t>滥施奖励</a:t>
            </a:r>
            <a:r>
              <a:rPr b="1" lang="en-US" sz="2700" spc="-1" strike="noStrike">
                <a:solidFill>
                  <a:srgbClr val="0000cc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物欲型</a:t>
            </a:r>
            <a:r>
              <a:rPr b="1" lang="zh-CN" sz="1800" spc="-1" strike="noStrike">
                <a:solidFill>
                  <a:srgbClr val="008000"/>
                </a:solidFill>
                <a:latin typeface="Arial"/>
              </a:rPr>
              <a:t>─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导学生不择手段攫取钱财，让子女的物欲不能得到满足时，就会反抗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cc"/>
                </a:solidFill>
                <a:latin typeface="Arial"/>
                <a:ea typeface="黑体"/>
              </a:rPr>
              <a:t>众星捧月</a:t>
            </a:r>
            <a:r>
              <a:rPr b="1" lang="en-US" sz="2700" spc="-1" strike="noStrike">
                <a:solidFill>
                  <a:srgbClr val="0000cc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至尊型</a:t>
            </a:r>
            <a:r>
              <a:rPr b="1" lang="zh-CN" sz="1800" spc="-1" strike="noStrike">
                <a:solidFill>
                  <a:srgbClr val="008000"/>
                </a:solidFill>
                <a:latin typeface="Arial"/>
              </a:rPr>
              <a:t>─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容易助长学生的虚荣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u=2540504640,899106480&amp;gp=11"/>
          <p:cNvPicPr/>
          <p:nvPr/>
        </p:nvPicPr>
        <p:blipFill>
          <a:blip r:embed="rId1"/>
          <a:stretch/>
        </p:blipFill>
        <p:spPr>
          <a:xfrm>
            <a:off x="0" y="4503600"/>
            <a:ext cx="3733920" cy="2354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hljt007"/>
          <p:cNvPicPr/>
          <p:nvPr/>
        </p:nvPicPr>
        <p:blipFill>
          <a:blip r:embed="rId2"/>
          <a:stretch/>
        </p:blipFill>
        <p:spPr>
          <a:xfrm>
            <a:off x="5334120" y="4538520"/>
            <a:ext cx="3809880" cy="23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IMG_0043"/>
          <p:cNvPicPr/>
          <p:nvPr/>
        </p:nvPicPr>
        <p:blipFill>
          <a:blip r:embed="rId1"/>
          <a:stretch/>
        </p:blipFill>
        <p:spPr>
          <a:xfrm>
            <a:off x="380880" y="1523880"/>
            <a:ext cx="8458200" cy="518184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3"/>
          <p:cNvSpPr/>
          <p:nvPr/>
        </p:nvSpPr>
        <p:spPr>
          <a:xfrm flipH="1">
            <a:off x="3886200" y="2057400"/>
            <a:ext cx="2362320" cy="1295280"/>
          </a:xfrm>
          <a:prstGeom prst="cloudCallout">
            <a:avLst>
              <a:gd name="adj1" fmla="val 13773"/>
              <a:gd name="adj2" fmla="val 113722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4191120" y="23464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所有的逆反心理都不对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669960" y="76320"/>
            <a:ext cx="809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如何看待逆反心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于逆反心理和逆反行为，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具体分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不能一概说是错的，有的反抗不无道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"/>
          <p:cNvSpPr/>
          <p:nvPr/>
        </p:nvSpPr>
        <p:spPr>
          <a:xfrm>
            <a:off x="685800" y="220968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逆反心理的危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971640" y="1484280"/>
            <a:ext cx="503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1660680" y="93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685800" y="297180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）在多数情况下，逆反心理导致的对父母的反抗，其结果都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惩罚了自己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—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不是拿自己的错误惩罚自己，就是拿父母的错误惩罚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）这种结果也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对父母的一种伤害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—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不是拿自己的错误伤害父母， 就是拿父母的错误伤害父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0" y="1143000"/>
            <a:ext cx="7924680" cy="70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逆反心理有危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D405-B3F4-439A-8C23-A00BAE6DB62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457200" y="762120"/>
            <a:ext cx="8381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为什么子女与父母之间会产生矛盾？（产生烦恼的原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685800" y="14479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直接原因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（年龄差距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685800" y="19810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根本原因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（多重代际差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57200" y="2666880"/>
            <a:ext cx="960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我们应该如何正确认识与父母之间的矛盾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如何理解严也是一种爱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0" y="228600"/>
            <a:ext cx="7924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成长也会有烦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457200" y="411480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逆反心理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产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0" y="3657600"/>
            <a:ext cx="626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、逆反心理有危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457200" y="472428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逆反心理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具体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457200" y="571500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逆反心理的危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457200" y="533412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如何正确地认识逆反心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12"/>
          <p:cNvSpPr txBox="1"/>
          <p:nvPr/>
        </p:nvSpPr>
        <p:spPr>
          <a:xfrm>
            <a:off x="7315200" y="0"/>
            <a:ext cx="914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总结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5"/>
          <p:cNvSpPr/>
          <p:nvPr/>
        </p:nvSpPr>
        <p:spPr>
          <a:xfrm>
            <a:off x="838080" y="6095880"/>
            <a:ext cx="79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个讨论小组的存在反映了什么现象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304920" y="0"/>
            <a:ext cx="8381880" cy="628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图片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826920" y="1484280"/>
            <a:ext cx="7345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971640" y="1484280"/>
            <a:ext cx="503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1660680" y="93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4494960" y="609480"/>
            <a:ext cx="366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为什么我们与父母之间会产生矛盾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1219320" y="1752480"/>
            <a:ext cx="6781680" cy="21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方面，进入青春期后，我们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（子女）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了自己的思想，开始独立行事，渴望从家长那里拿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放证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渴望父母像对待大人那样对待我们，甚至挑战父母的权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另一方面，望子成龙，是天下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3"/>
              </a:rPr>
              <a:t>父母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共同的心愿。我们与父母的冲突，往往基于父母对我们的高期待、严要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2735280" y="1249200"/>
            <a:ext cx="21524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、直接原因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4"/>
              </a:rPr>
              <a:t>（年龄差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20101220161503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-360" y="1676160"/>
            <a:ext cx="40006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时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800600" y="175248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青春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16360" y="1628640"/>
            <a:ext cx="360" cy="4537080"/>
            <a:chOff x="4716360" y="1628640"/>
            <a:chExt cx="360" cy="4537080"/>
          </a:xfrm>
        </p:grpSpPr>
        <p:sp>
          <p:nvSpPr>
            <p:cNvPr id="98" name="Line 5"/>
            <p:cNvSpPr/>
            <p:nvPr/>
          </p:nvSpPr>
          <p:spPr>
            <a:xfrm>
              <a:off x="4716360" y="1628640"/>
              <a:ext cx="0" cy="4537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4716360" y="1628640"/>
              <a:ext cx="360" cy="453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 Box 6"/>
          <p:cNvSpPr/>
          <p:nvPr/>
        </p:nvSpPr>
        <p:spPr>
          <a:xfrm>
            <a:off x="3122280" y="16765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对父母依附，崇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952880" y="1295280"/>
            <a:ext cx="419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有自己的思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开始独立行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8"/>
          <p:cNvSpPr txBox="1"/>
          <p:nvPr/>
        </p:nvSpPr>
        <p:spPr>
          <a:xfrm>
            <a:off x="228600" y="914400"/>
            <a:ext cx="2590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是你变了吗？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03" name="Picture 9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1323142076273"/>
          <p:cNvPicPr/>
          <p:nvPr/>
        </p:nvPicPr>
        <p:blipFill>
          <a:blip r:embed="rId3"/>
          <a:stretch/>
        </p:blipFill>
        <p:spPr>
          <a:xfrm>
            <a:off x="4800600" y="2209680"/>
            <a:ext cx="4189320" cy="4648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"/>
          <p:cNvPicPr/>
          <p:nvPr/>
        </p:nvPicPr>
        <p:blipFill>
          <a:blip r:embed="rId4"/>
          <a:stretch/>
        </p:blipFill>
        <p:spPr>
          <a:xfrm>
            <a:off x="0" y="2286000"/>
            <a:ext cx="4648320" cy="422424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12"/>
          <p:cNvSpPr/>
          <p:nvPr/>
        </p:nvSpPr>
        <p:spPr>
          <a:xfrm>
            <a:off x="3657600" y="6248520"/>
            <a:ext cx="685800" cy="304560"/>
          </a:xfrm>
          <a:prstGeom prst="leftArrow">
            <a:avLst>
              <a:gd name="adj1" fmla="val 50000"/>
              <a:gd name="adj2" fmla="val 562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3" descr="1HR05342-2"/>
          <p:cNvPicPr/>
          <p:nvPr/>
        </p:nvPicPr>
        <p:blipFill>
          <a:blip r:embed="rId5"/>
          <a:stretch/>
        </p:blipFill>
        <p:spPr>
          <a:xfrm>
            <a:off x="4952880" y="2362320"/>
            <a:ext cx="3748320" cy="4495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Img328102242"/>
          <p:cNvPicPr/>
          <p:nvPr/>
        </p:nvPicPr>
        <p:blipFill>
          <a:blip r:embed="rId6"/>
          <a:stretch/>
        </p:blipFill>
        <p:spPr>
          <a:xfrm>
            <a:off x="5105520" y="2286000"/>
            <a:ext cx="338616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r"/>
    <p:sndAc>
      <p:stSnd>
        <p:snd r:embed="rId7" name="click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304920" y="2057400"/>
            <a:ext cx="9144000" cy="36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『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中国式家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岁：孩子，我给你报了少年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岁：孩子，我给你报了奥数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岁：孩子，我给你报了重点中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岁：孩子，我给你报了高考突击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岁：孩子，我给你报了公务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371600" y="52578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孩子，我给你报了</a:t>
            </a: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非诚勿扰</a:t>
            </a: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》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7696080" y="6019920"/>
            <a:ext cx="685800" cy="304560"/>
          </a:xfrm>
          <a:prstGeom prst="leftArrow">
            <a:avLst>
              <a:gd name="adj1" fmla="val 50000"/>
              <a:gd name="adj2" fmla="val 562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6"/>
          <p:cNvSpPr txBox="1"/>
          <p:nvPr/>
        </p:nvSpPr>
        <p:spPr>
          <a:xfrm>
            <a:off x="380880" y="1143000"/>
            <a:ext cx="2590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父母变了吗？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1066680"/>
          <a:ext cx="9144000" cy="4614840"/>
        </p:xfrm>
        <a:graphic>
          <a:graphicData uri="http://schemas.openxmlformats.org/drawingml/2006/table">
            <a:tbl>
              <a:tblPr/>
              <a:tblGrid>
                <a:gridCol w="2057400"/>
                <a:gridCol w="3630600"/>
                <a:gridCol w="3456000"/>
              </a:tblGrid>
              <a:tr h="609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父  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我  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生理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d0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d0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d0ea"/>
                    </a:solidFill>
                  </a:tcPr>
                </a:tc>
              </a:tr>
              <a:tr h="566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心理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阅历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d0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d0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d0ea"/>
                    </a:solidFill>
                  </a:tcPr>
                </a:tc>
              </a:tr>
              <a:tr h="566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知识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思想方法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d0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d0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d0ea"/>
                    </a:solidFill>
                  </a:tcPr>
                </a:tc>
              </a:tr>
              <a:tr h="566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行为方式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社会角色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4d0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4d0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4d0ea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40"/>
          <p:cNvSpPr/>
          <p:nvPr/>
        </p:nvSpPr>
        <p:spPr>
          <a:xfrm>
            <a:off x="2057400" y="1676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成人，正值中年，壮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1"/>
          <p:cNvSpPr/>
          <p:nvPr/>
        </p:nvSpPr>
        <p:spPr>
          <a:xfrm>
            <a:off x="5791320" y="16765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青春期，并未成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2"/>
          <p:cNvSpPr/>
          <p:nvPr/>
        </p:nvSpPr>
        <p:spPr>
          <a:xfrm>
            <a:off x="2057400" y="2286000"/>
            <a:ext cx="28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成熟，有主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3"/>
          <p:cNvSpPr/>
          <p:nvPr/>
        </p:nvSpPr>
        <p:spPr>
          <a:xfrm>
            <a:off x="5715000" y="2286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渴望独立，自控能力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4"/>
          <p:cNvSpPr/>
          <p:nvPr/>
        </p:nvSpPr>
        <p:spPr>
          <a:xfrm>
            <a:off x="2057400" y="28195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经验丰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5"/>
          <p:cNvSpPr/>
          <p:nvPr/>
        </p:nvSpPr>
        <p:spPr>
          <a:xfrm>
            <a:off x="5715000" y="28195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经验不丰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6"/>
          <p:cNvSpPr/>
          <p:nvPr/>
        </p:nvSpPr>
        <p:spPr>
          <a:xfrm>
            <a:off x="2057400" y="34290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知识多但有些陈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7"/>
          <p:cNvSpPr/>
          <p:nvPr/>
        </p:nvSpPr>
        <p:spPr>
          <a:xfrm>
            <a:off x="5791320" y="34290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知识虽有限但较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8"/>
          <p:cNvSpPr/>
          <p:nvPr/>
        </p:nvSpPr>
        <p:spPr>
          <a:xfrm>
            <a:off x="2057400" y="39625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求稳，保守，全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9"/>
          <p:cNvSpPr/>
          <p:nvPr/>
        </p:nvSpPr>
        <p:spPr>
          <a:xfrm>
            <a:off x="5791320" y="39765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开放，创新，偏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0"/>
          <p:cNvSpPr/>
          <p:nvPr/>
        </p:nvSpPr>
        <p:spPr>
          <a:xfrm>
            <a:off x="1981080" y="457200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冷静，谨慎，恪守规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1"/>
          <p:cNvSpPr/>
          <p:nvPr/>
        </p:nvSpPr>
        <p:spPr>
          <a:xfrm>
            <a:off x="5638680" y="462456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冒险，讲效率，不拘传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2"/>
          <p:cNvSpPr/>
          <p:nvPr/>
        </p:nvSpPr>
        <p:spPr>
          <a:xfrm>
            <a:off x="2057400" y="51195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家长、职业人员等角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3"/>
          <p:cNvSpPr/>
          <p:nvPr/>
        </p:nvSpPr>
        <p:spPr>
          <a:xfrm>
            <a:off x="5819760" y="5105520"/>
            <a:ext cx="33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子女、学生等角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4"/>
          <p:cNvSpPr/>
          <p:nvPr/>
        </p:nvSpPr>
        <p:spPr>
          <a:xfrm>
            <a:off x="22860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比较我们与父母的差异，探讨造成两代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隔阂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根本原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"/>
          <p:cNvSpPr/>
          <p:nvPr/>
        </p:nvSpPr>
        <p:spPr>
          <a:xfrm>
            <a:off x="228600" y="35812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根本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0" y="44197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我们与父母的人生经历、生活经验、社会地位不同，对社会规范的熟悉程度也不同，在生活态度、价值观念、兴趣爱好、行为方式等方面难免产生较大差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16000" y="1903320"/>
            <a:ext cx="7924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为什么子女与父母之间会产生矛盾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50920" y="792000"/>
            <a:ext cx="7924680" cy="70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成长也会有烦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3706200" y="3581280"/>
            <a:ext cx="213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（多重代际差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228600" y="27432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直接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3465720" y="27432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（年龄差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Scan10007"/>
          <p:cNvPicPr/>
          <p:nvPr/>
        </p:nvPicPr>
        <p:blipFill>
          <a:blip r:embed="rId1"/>
          <a:stretch/>
        </p:blipFill>
        <p:spPr>
          <a:xfrm>
            <a:off x="304920" y="2906640"/>
            <a:ext cx="8839080" cy="2503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Scan10021"/>
          <p:cNvPicPr/>
          <p:nvPr/>
        </p:nvPicPr>
        <p:blipFill>
          <a:blip r:embed="rId2"/>
          <a:stretch/>
        </p:blipFill>
        <p:spPr>
          <a:xfrm>
            <a:off x="304920" y="2362320"/>
            <a:ext cx="8610480" cy="3240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Scan10013"/>
          <p:cNvPicPr/>
          <p:nvPr/>
        </p:nvPicPr>
        <p:blipFill>
          <a:blip r:embed="rId3"/>
          <a:stretch/>
        </p:blipFill>
        <p:spPr>
          <a:xfrm>
            <a:off x="228600" y="2286000"/>
            <a:ext cx="8915400" cy="35035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304920" y="2133720"/>
            <a:ext cx="8686800" cy="3733560"/>
          </a:xfrm>
          <a:prstGeom prst="rect">
            <a:avLst/>
          </a:prstGeom>
          <a:noFill/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858040" y="5943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幼圆"/>
              </a:rPr>
              <a:t>你能感受到父母的一片苦心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8"/>
          <p:cNvSpPr txBox="1"/>
          <p:nvPr/>
        </p:nvSpPr>
        <p:spPr>
          <a:xfrm>
            <a:off x="228600" y="1295280"/>
            <a:ext cx="25909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父母也会有烦恼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228600" y="2057400"/>
            <a:ext cx="960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我们该如何正确认识与父母之间的矛盾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如何理解严也是一种爱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0" y="30481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望子成龙，是天下父母共同的心愿，我们与父母的冲突，往往基于父母对我们的高期待、严要求。</a:t>
            </a:r>
            <a:r>
              <a:rPr b="1" lang="zh-CN" sz="3200" spc="-1" strike="noStrike">
                <a:solidFill>
                  <a:srgbClr val="ff0000"/>
                </a:solidFill>
                <a:latin typeface="华文仿宋"/>
                <a:ea typeface="华文仿宋"/>
              </a:rPr>
              <a:t>这种在我们看来有些苛刻的“严”，反映出父母对于我们的爱。我们要学会理解、体谅父母的一片苦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287280" y="1106640"/>
            <a:ext cx="7924680" cy="70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成长也会有烦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5T02:00:3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2:18Z</dcterms:modified>
  <cp:revision>4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