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E136-90EB-4FF2-B5A5-226F75864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F208-1962-4A29-9E17-8FEA1B11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B9B5-4B30-4E95-B293-8BD9C669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1BCC-F9ED-4D4F-83FF-88F9CD54A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B790-4028-4FCE-8B59-0F449F6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B647A-B72C-4724-93B4-16ACFAA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023F-559A-4297-80BB-E8AECAC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45D9C-1EDA-421A-A5FC-0FC1B242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97A24-A9D3-4F24-B2EC-C9960D0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C1302-777D-4968-8A2C-4EB6C1F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617B9-45E4-42F7-9918-206487E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165F-8305-44F5-A292-90C8ACE6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70C1-B12E-41C2-AB86-4DF4E61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8DD64-140A-4F58-9B37-EB502C7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5DABA-BAB1-4C5D-B77C-7DAC9718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372C1-1D4D-44D5-9587-F6032B67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CB52-901E-4D88-94D3-19BBC25C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1ABDF-9CEA-4D1F-B749-B0AC44CDE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06E47-BCE6-4306-B5FE-0A7B008D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B776E-3DCE-4A5C-B5BA-E17666F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2048A-B146-4329-A5D2-B189F1D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49A2D-2CCA-41B0-8033-2DB57AA9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0EA3-D0F4-4BFF-A6D7-AB737F10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0BA88-C132-4B96-A633-E474185E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582FA-9A5D-4048-A68E-35D74B3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A3914-FB02-423E-B4B5-DE94E8F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6FEDE-A5CF-4601-8BDD-34FC52F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21AAD-839B-4CCA-962A-B0E56B8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A9C50-084D-4265-A000-3265020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5E6C8-C1E2-40EA-B986-D76B7C4F8D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5321-AF1F-4467-9FC8-D4B32E8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2570-73E3-45C7-9811-3839FD23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C431-EE39-4620-938D-6E007312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032F-326A-4203-AC0E-F0F2CBA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7684-56C0-4518-A5E7-2B5879B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2BD4-447D-430F-91DE-8AE1D43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EA4-5892-48D5-B55E-9ADFAD9C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6592-94FD-49ED-945B-FD23992AF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F99-66E8-4E74-B83F-9E678C31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6410;&#30693;\&#26080;&#26631;&#39064; - 04-11-15\51 - &#26354;&#30446; 51.mp3" TargetMode="External"/><Relationship Id="rId2" Type="http://schemas.openxmlformats.org/officeDocument/2006/relationships/hyperlink" Target="&#26410;&#30693;\&#26080;&#26631;&#39064; - 04-11-15\22 - &#26354;&#30446; 22.mp3" TargetMode="External"/><Relationship Id="rId3" Type="http://schemas.openxmlformats.org/officeDocument/2006/relationships/hyperlink" Target="&#26410;&#30693;\&#26080;&#26631;&#39064; - 04-11-15\55 - &#26354;&#30446; 55.mp3" TargetMode="External"/><Relationship Id="rId4" Type="http://schemas.openxmlformats.org/officeDocument/2006/relationships/hyperlink" Target="&#26410;&#30693;\&#26080;&#26631;&#39064; - 04-11-15\65 - &#26354;&#30446; 65(1).mp3" TargetMode="External"/><Relationship Id="rId5" Type="http://schemas.openxmlformats.org/officeDocument/2006/relationships/hyperlink" Target="&#26410;&#30693;\&#26080;&#26631;&#39064; - 04-11-15\67 - &#26354;&#30446; 67.mp3" TargetMode="External"/><Relationship Id="rId6" Type="http://schemas.openxmlformats.org/officeDocument/2006/relationships/hyperlink" Target="&#26410;&#30693;\&#26080;&#26631;&#39064; - 04-11-15\20 - &#26354;&#30446; 20.mp3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2182680" y="836640"/>
            <a:ext cx="152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50b15"/>
                </a:solidFill>
                <a:latin typeface="宋体"/>
              </a:rPr>
              <a:t>吆  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999600" y="2781360"/>
            <a:ext cx="667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e50b15"/>
                </a:solidFill>
                <a:latin typeface="Arial"/>
              </a:rPr>
              <a:t>萧    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2662200" y="1890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吆喝语文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762120"/>
            <a:ext cx="8305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_x000b__x000c_"/>
              </a:rPr>
              <a:t>泽国镇天皇花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swdt2003072103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331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914400"/>
            <a:ext cx="81421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岭民间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石桥头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滚八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   石桥头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迎大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石塘镇纸扎   温岭洒尺    温岭剪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_x000b__x000c_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14400" y="297180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_x000b__x000c_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除了上面所述的以外，温岭的民间文化尚有荡湖船、三句半、道情、滩簧、快板、吊梗台阁、踏地故事、舞龙、舞狮、舞五兽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田洋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_x000b__x000c_"/>
              </a:rPr>
              <a:t> （已失传） 、流徒传（已失传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197"/>
          <p:cNvSpPr/>
          <p:nvPr/>
        </p:nvSpPr>
        <p:spPr>
          <a:xfrm>
            <a:off x="1187280" y="1486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0" y="380880"/>
            <a:ext cx="914400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找文化历史的足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岭“吆喝”文化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52280" y="1600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的意义背景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66880" y="1600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湮没　遗忘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522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的目标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2590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掘　保护　继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152280" y="3124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的内容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59092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岭“吆喝”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22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的方法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590920" y="3809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调查访问  上网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152280" y="4495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计成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25146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资料整理成册  编辑影视录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D00-6640-4E0F-801F-007648808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并不缺少美，只是缺少发现美的眼睛。” 寻找一种历史的积淀、品味这个城市的脉动、回想一些曾经与这片土地上的人们的生活息息相关的市井风情，既是一种很特别也很有意义的消遣也是一条学习语文的良好途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韩国申报端午节为文化遗产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日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表了一篇题为“不要冷落了自己的传统节日”的报道，说东北一大学教授给文化部副部长周和平发来急件，称亚洲某国准备向联合国教科文组织申报端午节为本国文化遗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口头和非物质遗产代表作”。一时间，该报道引起了我国舆论的很大反响。另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光明日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发表的一篇文章透露，“某国”是韩国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，韩国江陵市“端午祭”被批准为国家级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“重要无形文化遗产”予以保护，每年吸引国内外百万人次参与和观光，目前韩国文化部门正准备把江陵端午节入遗产申报名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57200" y="1143000"/>
            <a:ext cx="80773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_x000b__x000c_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_x000b__x000c_"/>
              </a:rPr>
              <a:t>不要让我们的后人将来到外国去看我们中国的文化遗产</a:t>
            </a:r>
            <a:r>
              <a:rPr b="1" lang="en-US" sz="6000" spc="-1" strike="noStrike">
                <a:solidFill>
                  <a:srgbClr val="000000"/>
                </a:solidFill>
                <a:latin typeface="_x000b__x000c_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_x000b__x000c_"/>
              </a:rPr>
              <a:t>尤其是无形的文化遗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作者简介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80920" y="990720"/>
            <a:ext cx="5448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_x000b__x000c_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_x000b__x000c_"/>
              </a:rPr>
              <a:t>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萧乾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――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9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）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原名萧秉乾，生于北京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蒙古族。世界闻名的记者，卓有成就的翻译家、作家。主要著译作有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梦之谷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人生百味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莎士比亚戏剧故事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尤利西斯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wx_t4_1"/>
          <p:cNvPicPr/>
          <p:nvPr/>
        </p:nvPicPr>
        <p:blipFill>
          <a:blip r:embed="rId1"/>
          <a:stretch/>
        </p:blipFill>
        <p:spPr>
          <a:xfrm>
            <a:off x="1143000" y="1752480"/>
            <a:ext cx="2743200" cy="405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整体感知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837720"/>
            <a:ext cx="708984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作者介绍了老北京的哪些吆喝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3880" y="1600200"/>
          <a:ext cx="6095880" cy="4657680"/>
        </p:xfrm>
        <a:graphic>
          <a:graphicData uri="http://schemas.openxmlformats.org/drawingml/2006/table">
            <a:tbl>
              <a:tblPr/>
              <a:tblGrid>
                <a:gridCol w="2031840"/>
                <a:gridCol w="1168560"/>
                <a:gridCol w="289548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行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卖馄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夜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馄饨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—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开锅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卖玩具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天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玩艺儿赛活的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文本框 8197"/>
          <p:cNvSpPr/>
          <p:nvPr/>
        </p:nvSpPr>
        <p:spPr>
          <a:xfrm>
            <a:off x="1476360" y="6308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457200"/>
            <a:ext cx="891540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磨剪子、磨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磨剪子嘞 戗菜刀喂</a:t>
            </a:r>
            <a:br>
              <a:rPr sz="1800"/>
            </a:b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卖青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香菜哎 辣青椒喂 黄瓜哎 大苤蓝来哟   西红柿哎 蒜来嘿 韭菜 西葫芦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洋白菜耶 夏冬瓜 胡萝卜 扁萝卜哈    嫩了芽的香椿   腌雪里红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腌疙瘩头哎</a:t>
            </a:r>
            <a:br>
              <a:rPr sz="1800"/>
            </a:b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肉包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来哎 热包儿的咧哎 发了面的包儿要热的哎   哎 包儿得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烤白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哎烤白薯哇 热乎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卖破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破烂的我买耶   有破鞋烂袜子我也买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换洋取灯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西    瓜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哎 这斗大的西瓜 你就船这么大的个块儿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               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吃了呗呶快来哎</a:t>
            </a:r>
            <a:br>
              <a:rPr sz="1800"/>
            </a:b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                     润嗓子 甜嘞   这两个 大俩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无标题2"/>
          <p:cNvPicPr/>
          <p:nvPr/>
        </p:nvPicPr>
        <p:blipFill>
          <a:blip r:embed="rId7"/>
          <a:stretch/>
        </p:blipFill>
        <p:spPr>
          <a:xfrm>
            <a:off x="6172200" y="236232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-685800" y="2514600"/>
            <a:ext cx="5715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温岭古石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w06"/>
          <p:cNvPicPr/>
          <p:nvPr/>
        </p:nvPicPr>
        <p:blipFill>
          <a:blip r:embed="rId1"/>
          <a:stretch/>
        </p:blipFill>
        <p:spPr>
          <a:xfrm>
            <a:off x="4572000" y="914400"/>
            <a:ext cx="285912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533520"/>
            <a:ext cx="883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_x000b__x000c_"/>
              </a:rPr>
              <a:t>石塘镇箬山大奏鼓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wdt2003072101"/>
          <p:cNvPicPr/>
          <p:nvPr/>
        </p:nvPicPr>
        <p:blipFill>
          <a:blip r:embed="rId1"/>
          <a:stretch/>
        </p:blipFill>
        <p:spPr>
          <a:xfrm>
            <a:off x="1752480" y="2209680"/>
            <a:ext cx="50292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572000" y="1828800"/>
            <a:ext cx="4724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_x000b__x000c_"/>
              </a:rPr>
              <a:t>温岭石塘镇                                                     箬山扛台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wdt2003072102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8:31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4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