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CBF7-95E0-49F7-B5FB-14845B6A7A4C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F63-EADD-44CF-A3C2-F5DB67ECB1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71640" y="17748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乘法口诀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-28800" y="62895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971640" y="47610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755720" y="5624640"/>
            <a:ext cx="57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有多少个蘑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怎样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60"/>
          <p:cNvSpPr/>
          <p:nvPr/>
        </p:nvSpPr>
        <p:spPr>
          <a:xfrm>
            <a:off x="1755720" y="6056280"/>
            <a:ext cx="62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用哪句口诀计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47"/>
          <p:cNvSpPr/>
          <p:nvPr/>
        </p:nvSpPr>
        <p:spPr>
          <a:xfrm>
            <a:off x="1755720" y="519264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这些信息，你能提出用乘法计算解决的数学问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151"/>
          <p:cNvSpPr/>
          <p:nvPr/>
        </p:nvSpPr>
        <p:spPr>
          <a:xfrm>
            <a:off x="611280" y="1690200"/>
            <a:ext cx="136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1" name="Group 208"/>
          <p:cNvGrpSpPr/>
          <p:nvPr/>
        </p:nvGrpSpPr>
        <p:grpSpPr>
          <a:xfrm>
            <a:off x="1835280" y="2421000"/>
            <a:ext cx="5371560" cy="1077840"/>
            <a:chOff x="1835280" y="2421000"/>
            <a:chExt cx="5371560" cy="1077840"/>
          </a:xfrm>
        </p:grpSpPr>
        <p:grpSp>
          <p:nvGrpSpPr>
            <p:cNvPr id="222" name="Group 62"/>
            <p:cNvGrpSpPr/>
            <p:nvPr/>
          </p:nvGrpSpPr>
          <p:grpSpPr>
            <a:xfrm>
              <a:off x="1835280" y="2421000"/>
              <a:ext cx="1257120" cy="430200"/>
              <a:chOff x="1835280" y="2421000"/>
              <a:chExt cx="1257120" cy="430200"/>
            </a:xfrm>
          </p:grpSpPr>
          <p:grpSp>
            <p:nvGrpSpPr>
              <p:cNvPr id="223" name="Group 63"/>
              <p:cNvGrpSpPr/>
              <p:nvPr/>
            </p:nvGrpSpPr>
            <p:grpSpPr>
              <a:xfrm>
                <a:off x="1894680" y="2491200"/>
                <a:ext cx="1107000" cy="318240"/>
                <a:chOff x="1894680" y="2491200"/>
                <a:chExt cx="1107000" cy="318240"/>
              </a:xfrm>
            </p:grpSpPr>
            <p:pic>
              <p:nvPicPr>
                <p:cNvPr id="224" name="Object 6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9468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Object 6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7440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Object 6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54480" y="249120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Object 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21600" y="252828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8" name="Oval 68"/>
              <p:cNvSpPr/>
              <p:nvPr/>
            </p:nvSpPr>
            <p:spPr>
              <a:xfrm>
                <a:off x="183528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29" name="Group 152"/>
            <p:cNvGrpSpPr/>
            <p:nvPr/>
          </p:nvGrpSpPr>
          <p:grpSpPr>
            <a:xfrm>
              <a:off x="3206520" y="2421000"/>
              <a:ext cx="1257120" cy="430200"/>
              <a:chOff x="3206520" y="2421000"/>
              <a:chExt cx="1257120" cy="430200"/>
            </a:xfrm>
          </p:grpSpPr>
          <p:grpSp>
            <p:nvGrpSpPr>
              <p:cNvPr id="230" name="Group 153"/>
              <p:cNvGrpSpPr/>
              <p:nvPr/>
            </p:nvGrpSpPr>
            <p:grpSpPr>
              <a:xfrm>
                <a:off x="3265920" y="2491200"/>
                <a:ext cx="1107000" cy="318240"/>
                <a:chOff x="3265920" y="2491200"/>
                <a:chExt cx="1107000" cy="318240"/>
              </a:xfrm>
            </p:grpSpPr>
            <p:pic>
              <p:nvPicPr>
                <p:cNvPr id="231" name="Object 1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6592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Object 15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4564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Object 15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825720" y="249120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Object 15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092840" y="252828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5" name="Oval 158"/>
              <p:cNvSpPr/>
              <p:nvPr/>
            </p:nvSpPr>
            <p:spPr>
              <a:xfrm>
                <a:off x="32065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6" name="Group 166"/>
            <p:cNvGrpSpPr/>
            <p:nvPr/>
          </p:nvGrpSpPr>
          <p:grpSpPr>
            <a:xfrm>
              <a:off x="4578120" y="2421000"/>
              <a:ext cx="1257120" cy="430200"/>
              <a:chOff x="4578120" y="2421000"/>
              <a:chExt cx="1257120" cy="430200"/>
            </a:xfrm>
          </p:grpSpPr>
          <p:grpSp>
            <p:nvGrpSpPr>
              <p:cNvPr id="237" name="Group 167"/>
              <p:cNvGrpSpPr/>
              <p:nvPr/>
            </p:nvGrpSpPr>
            <p:grpSpPr>
              <a:xfrm>
                <a:off x="4637520" y="2491200"/>
                <a:ext cx="1107000" cy="318240"/>
                <a:chOff x="4637520" y="2491200"/>
                <a:chExt cx="1107000" cy="318240"/>
              </a:xfrm>
            </p:grpSpPr>
            <p:pic>
              <p:nvPicPr>
                <p:cNvPr id="238" name="Object 168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752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Object 16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91724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Object 17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197320" y="249120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Object 17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464440" y="252828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2" name="Oval 172"/>
              <p:cNvSpPr/>
              <p:nvPr/>
            </p:nvSpPr>
            <p:spPr>
              <a:xfrm>
                <a:off x="45781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3" name="Group 173"/>
            <p:cNvGrpSpPr/>
            <p:nvPr/>
          </p:nvGrpSpPr>
          <p:grpSpPr>
            <a:xfrm>
              <a:off x="5949720" y="2421000"/>
              <a:ext cx="1257120" cy="430200"/>
              <a:chOff x="5949720" y="2421000"/>
              <a:chExt cx="1257120" cy="430200"/>
            </a:xfrm>
          </p:grpSpPr>
          <p:grpSp>
            <p:nvGrpSpPr>
              <p:cNvPr id="244" name="Group 174"/>
              <p:cNvGrpSpPr/>
              <p:nvPr/>
            </p:nvGrpSpPr>
            <p:grpSpPr>
              <a:xfrm>
                <a:off x="6009120" y="2491200"/>
                <a:ext cx="1107000" cy="318240"/>
                <a:chOff x="6009120" y="2491200"/>
                <a:chExt cx="1107000" cy="318240"/>
              </a:xfrm>
            </p:grpSpPr>
            <p:pic>
              <p:nvPicPr>
                <p:cNvPr id="245" name="Object 17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0912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Object 17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288840" y="249120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Object 17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568920" y="249120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Object 178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836040" y="252828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9" name="Oval 179"/>
              <p:cNvSpPr/>
              <p:nvPr/>
            </p:nvSpPr>
            <p:spPr>
              <a:xfrm>
                <a:off x="5949720" y="242100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0" name="Group 180"/>
            <p:cNvGrpSpPr/>
            <p:nvPr/>
          </p:nvGrpSpPr>
          <p:grpSpPr>
            <a:xfrm>
              <a:off x="1835280" y="3068640"/>
              <a:ext cx="1257120" cy="430200"/>
              <a:chOff x="1835280" y="3068640"/>
              <a:chExt cx="1257120" cy="430200"/>
            </a:xfrm>
          </p:grpSpPr>
          <p:grpSp>
            <p:nvGrpSpPr>
              <p:cNvPr id="251" name="Group 181"/>
              <p:cNvGrpSpPr/>
              <p:nvPr/>
            </p:nvGrpSpPr>
            <p:grpSpPr>
              <a:xfrm>
                <a:off x="1894680" y="3138840"/>
                <a:ext cx="1107000" cy="318240"/>
                <a:chOff x="1894680" y="3138840"/>
                <a:chExt cx="1107000" cy="318240"/>
              </a:xfrm>
            </p:grpSpPr>
            <p:pic>
              <p:nvPicPr>
                <p:cNvPr id="252" name="Object 182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89468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Object 183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17440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Object 184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54480" y="313884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Object 185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721600" y="317592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6" name="Oval 186"/>
              <p:cNvSpPr/>
              <p:nvPr/>
            </p:nvSpPr>
            <p:spPr>
              <a:xfrm>
                <a:off x="183528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7" name="Group 187"/>
            <p:cNvGrpSpPr/>
            <p:nvPr/>
          </p:nvGrpSpPr>
          <p:grpSpPr>
            <a:xfrm>
              <a:off x="3206520" y="3068640"/>
              <a:ext cx="1257120" cy="430200"/>
              <a:chOff x="3206520" y="3068640"/>
              <a:chExt cx="1257120" cy="430200"/>
            </a:xfrm>
          </p:grpSpPr>
          <p:grpSp>
            <p:nvGrpSpPr>
              <p:cNvPr id="258" name="Group 188"/>
              <p:cNvGrpSpPr/>
              <p:nvPr/>
            </p:nvGrpSpPr>
            <p:grpSpPr>
              <a:xfrm>
                <a:off x="3265920" y="3138840"/>
                <a:ext cx="1107000" cy="318240"/>
                <a:chOff x="3265920" y="3138840"/>
                <a:chExt cx="1107000" cy="318240"/>
              </a:xfrm>
            </p:grpSpPr>
            <p:pic>
              <p:nvPicPr>
                <p:cNvPr id="259" name="Object 18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26592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Object 19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54564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Object 19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825720" y="313884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Object 19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092840" y="317592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3" name="Oval 193"/>
              <p:cNvSpPr/>
              <p:nvPr/>
            </p:nvSpPr>
            <p:spPr>
              <a:xfrm>
                <a:off x="32065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4" name="Group 194"/>
            <p:cNvGrpSpPr/>
            <p:nvPr/>
          </p:nvGrpSpPr>
          <p:grpSpPr>
            <a:xfrm>
              <a:off x="4578120" y="3068640"/>
              <a:ext cx="1257120" cy="430200"/>
              <a:chOff x="4578120" y="3068640"/>
              <a:chExt cx="1257120" cy="430200"/>
            </a:xfrm>
          </p:grpSpPr>
          <p:grpSp>
            <p:nvGrpSpPr>
              <p:cNvPr id="265" name="Group 195"/>
              <p:cNvGrpSpPr/>
              <p:nvPr/>
            </p:nvGrpSpPr>
            <p:grpSpPr>
              <a:xfrm>
                <a:off x="4637520" y="3138840"/>
                <a:ext cx="1107000" cy="318240"/>
                <a:chOff x="4637520" y="3138840"/>
                <a:chExt cx="1107000" cy="318240"/>
              </a:xfrm>
            </p:grpSpPr>
            <p:pic>
              <p:nvPicPr>
                <p:cNvPr id="266" name="Object 19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463752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Object 197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91724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Object 19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5197320" y="313884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Object 19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5464440" y="317592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0" name="Oval 200"/>
              <p:cNvSpPr/>
              <p:nvPr/>
            </p:nvSpPr>
            <p:spPr>
              <a:xfrm>
                <a:off x="45781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1" name="Group 201"/>
            <p:cNvGrpSpPr/>
            <p:nvPr/>
          </p:nvGrpSpPr>
          <p:grpSpPr>
            <a:xfrm>
              <a:off x="5949720" y="3068640"/>
              <a:ext cx="1257120" cy="430200"/>
              <a:chOff x="5949720" y="3068640"/>
              <a:chExt cx="1257120" cy="430200"/>
            </a:xfrm>
          </p:grpSpPr>
          <p:grpSp>
            <p:nvGrpSpPr>
              <p:cNvPr id="272" name="Group 202"/>
              <p:cNvGrpSpPr/>
              <p:nvPr/>
            </p:nvGrpSpPr>
            <p:grpSpPr>
              <a:xfrm>
                <a:off x="6009120" y="3138840"/>
                <a:ext cx="1107000" cy="318240"/>
                <a:chOff x="6009120" y="3138840"/>
                <a:chExt cx="1107000" cy="318240"/>
              </a:xfrm>
            </p:grpSpPr>
            <p:pic>
              <p:nvPicPr>
                <p:cNvPr id="273" name="Object 203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600912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Object 204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6288840" y="3138840"/>
                  <a:ext cx="279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Object 205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6568920" y="3138840"/>
                  <a:ext cx="28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Object 206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6836040" y="3175920"/>
                  <a:ext cx="2800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7" name="Oval 207"/>
              <p:cNvSpPr/>
              <p:nvPr/>
            </p:nvSpPr>
            <p:spPr>
              <a:xfrm>
                <a:off x="5949720" y="3068640"/>
                <a:ext cx="1257120" cy="43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78" name="Rectangle 209"/>
          <p:cNvSpPr/>
          <p:nvPr/>
        </p:nvSpPr>
        <p:spPr>
          <a:xfrm>
            <a:off x="1824120" y="3868560"/>
            <a:ext cx="3098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Rectangle 210"/>
          <p:cNvSpPr/>
          <p:nvPr/>
        </p:nvSpPr>
        <p:spPr>
          <a:xfrm>
            <a:off x="1030320" y="1596960"/>
            <a:ext cx="4118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共有多少个蘑菇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文本框 1"/>
          <p:cNvSpPr/>
          <p:nvPr/>
        </p:nvSpPr>
        <p:spPr>
          <a:xfrm>
            <a:off x="1155600" y="514656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F22-46F1-4A86-85E1-3ABE25FC3B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9072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763640" y="57340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63640" y="6164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看来，乘法口诀可以使我们的口算又对又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801800" y="2276640"/>
            <a:ext cx="3692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6229440" y="316548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2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0"/>
          <p:cNvSpPr/>
          <p:nvPr/>
        </p:nvSpPr>
        <p:spPr>
          <a:xfrm>
            <a:off x="215424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6" name="Picture 31" descr="75-1"/>
          <p:cNvPicPr/>
          <p:nvPr/>
        </p:nvPicPr>
        <p:blipFill>
          <a:blip r:embed="rId2"/>
          <a:stretch/>
        </p:blipFill>
        <p:spPr>
          <a:xfrm>
            <a:off x="1596960" y="4179960"/>
            <a:ext cx="387504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476360" y="50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273400" y="5445000"/>
            <a:ext cx="47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怎么这么快就算出结果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273400" y="580536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都是用几的口诀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273400" y="6164280"/>
            <a:ext cx="42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乘法口诀有几句，哪几句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81772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22884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4140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05108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447336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4892400" y="460548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9" name="Group 35"/>
          <p:cNvGrpSpPr/>
          <p:nvPr/>
        </p:nvGrpSpPr>
        <p:grpSpPr>
          <a:xfrm>
            <a:off x="6624720" y="3232080"/>
            <a:ext cx="1911240" cy="3210120"/>
            <a:chOff x="6624720" y="3232080"/>
            <a:chExt cx="1911240" cy="3210120"/>
          </a:xfrm>
        </p:grpSpPr>
        <p:sp>
          <p:nvSpPr>
            <p:cNvPr id="120" name="AutoShape 34"/>
            <p:cNvSpPr/>
            <p:nvPr/>
          </p:nvSpPr>
          <p:spPr>
            <a:xfrm>
              <a:off x="6624720" y="3232080"/>
              <a:ext cx="1911240" cy="3210120"/>
            </a:xfrm>
            <a:custGeom>
              <a:avLst/>
              <a:gdLst>
                <a:gd name="textAreaLeft" fmla="*/ 93240 w 1911240"/>
                <a:gd name="textAreaRight" fmla="*/ 1818000 w 1911240"/>
                <a:gd name="textAreaTop" fmla="*/ 93240 h 3210120"/>
                <a:gd name="textAreaBottom" fmla="*/ 3116880 h 321012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1f7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7045560" y="3296880"/>
              <a:ext cx="1095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八得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八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三八二十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四八三十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五八四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六八四十八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七八五十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八八六十四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2" name="Picture 37" descr="乐队"/>
          <p:cNvPicPr/>
          <p:nvPr/>
        </p:nvPicPr>
        <p:blipFill>
          <a:blip r:embed="rId3"/>
          <a:stretch/>
        </p:blipFill>
        <p:spPr>
          <a:xfrm>
            <a:off x="1474920" y="2133720"/>
            <a:ext cx="37526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12720" y="4599000"/>
            <a:ext cx="67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能任选一句口诀，边指着主题图，边说说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514520" y="5459400"/>
            <a:ext cx="67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能不看着主题图，选一句口诀说说它表示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14520" y="58910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说出每句口诀分别可以计算哪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8" name="Picture 29" descr="乐队"/>
          <p:cNvPicPr/>
          <p:nvPr/>
        </p:nvPicPr>
        <p:blipFill>
          <a:blip r:embed="rId2"/>
          <a:stretch/>
        </p:blipFill>
        <p:spPr>
          <a:xfrm>
            <a:off x="1474920" y="2133720"/>
            <a:ext cx="37526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30"/>
          <p:cNvSpPr/>
          <p:nvPr/>
        </p:nvSpPr>
        <p:spPr>
          <a:xfrm>
            <a:off x="3298680" y="2276640"/>
            <a:ext cx="1911600" cy="3416040"/>
          </a:xfrm>
          <a:custGeom>
            <a:avLst/>
            <a:gdLst>
              <a:gd name="textAreaLeft" fmla="*/ 93240 w 1911600"/>
              <a:gd name="textAreaRight" fmla="*/ 1818360 w 1911600"/>
              <a:gd name="textAreaTop" fmla="*/ 93240 h 3416040"/>
              <a:gd name="textAreaBottom" fmla="*/ 3322800 h 3416040"/>
            </a:gdLst>
            <a:ahLst/>
            <a:rect l="textAreaLeft" t="textAreaTop" r="textAreaRight" b="textAreaBottom"/>
            <a:pathLst>
              <a:path w="21600" h="38596">
                <a:moveTo>
                  <a:pt x="3600" y="0"/>
                </a:moveTo>
                <a:arcTo wR="3600" hR="3600" stAng="16200000" swAng="-5400000"/>
                <a:lnTo>
                  <a:pt x="0" y="34996"/>
                </a:lnTo>
                <a:arcTo wR="3600" hR="3600" stAng="10800000" swAng="-5400000"/>
                <a:lnTo>
                  <a:pt x="18000" y="38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47840" y="5986440"/>
            <a:ext cx="57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来读读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516480" y="235584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八得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532480" y="2386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516480" y="276696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八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516480" y="320040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八二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516480" y="359568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八三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516480" y="3992400"/>
            <a:ext cx="14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八四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516480" y="438768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四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375000" y="478476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530680" y="278136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530680" y="321300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530680" y="360828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5530680" y="400536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30680" y="440064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530680" y="479592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3371760" y="5180040"/>
            <a:ext cx="22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八八六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1654200" y="2386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654200" y="278136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1654200" y="321300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1654200" y="360828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654200" y="400536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1654200" y="440064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1654200" y="479592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1654200" y="519264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主题图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19320" y="429264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不看着黑板背一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乘法口诀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01720" y="472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句口诀难记？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701720" y="515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想出办法帮他记住这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219320" y="5587920"/>
            <a:ext cx="78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同学们用了不同的方法记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，其他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同学们也可以用这些方法来帮助记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1" name="Group 34"/>
          <p:cNvGrpSpPr/>
          <p:nvPr/>
        </p:nvGrpSpPr>
        <p:grpSpPr>
          <a:xfrm>
            <a:off x="1403280" y="2332080"/>
            <a:ext cx="3097440" cy="1655640"/>
            <a:chOff x="1403280" y="2332080"/>
            <a:chExt cx="3097440" cy="1655640"/>
          </a:xfrm>
        </p:grpSpPr>
        <p:sp>
          <p:nvSpPr>
            <p:cNvPr id="162" name="Rectangle 28"/>
            <p:cNvSpPr/>
            <p:nvPr/>
          </p:nvSpPr>
          <p:spPr>
            <a:xfrm>
              <a:off x="1403280" y="2332080"/>
              <a:ext cx="3097440" cy="1655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1940040" y="26370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连加算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1544760" y="3267720"/>
              <a:ext cx="27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5" name="Group 36"/>
          <p:cNvGrpSpPr/>
          <p:nvPr/>
        </p:nvGrpSpPr>
        <p:grpSpPr>
          <a:xfrm>
            <a:off x="4788000" y="2330280"/>
            <a:ext cx="3311280" cy="1670040"/>
            <a:chOff x="4788000" y="2330280"/>
            <a:chExt cx="3311280" cy="1670040"/>
          </a:xfrm>
        </p:grpSpPr>
        <p:sp>
          <p:nvSpPr>
            <p:cNvPr id="166" name="Rectangle 32"/>
            <p:cNvSpPr/>
            <p:nvPr/>
          </p:nvSpPr>
          <p:spPr>
            <a:xfrm>
              <a:off x="4788000" y="2330280"/>
              <a:ext cx="3311280" cy="165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5002200" y="2381760"/>
              <a:ext cx="2908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8" name="Rectangle 4"/>
          <p:cNvSpPr/>
          <p:nvPr/>
        </p:nvSpPr>
        <p:spPr>
          <a:xfrm>
            <a:off x="392040" y="15908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发现规律，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4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六八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1692360" y="47260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说一说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2473200" y="522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60"/>
          <p:cNvSpPr/>
          <p:nvPr/>
        </p:nvSpPr>
        <p:spPr>
          <a:xfrm>
            <a:off x="2473200" y="56959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61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四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6" name="Picture 62" descr="10"/>
          <p:cNvPicPr/>
          <p:nvPr/>
        </p:nvPicPr>
        <p:blipFill>
          <a:blip r:embed="rId2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3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八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9"/>
          <p:cNvSpPr/>
          <p:nvPr/>
        </p:nvSpPr>
        <p:spPr>
          <a:xfrm>
            <a:off x="4838760" y="3622680"/>
            <a:ext cx="3143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4838760" y="4091040"/>
            <a:ext cx="343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4838760" y="4559400"/>
            <a:ext cx="357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428840" y="5877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计算这些题时你们用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2050920" y="2637000"/>
            <a:ext cx="1297080" cy="1079280"/>
            <a:chOff x="2050920" y="2637000"/>
            <a:chExt cx="1297080" cy="1079280"/>
          </a:xfrm>
        </p:grpSpPr>
        <p:pic>
          <p:nvPicPr>
            <p:cNvPr id="183" name="Picture 40" descr="花"/>
            <p:cNvPicPr/>
            <p:nvPr/>
          </p:nvPicPr>
          <p:blipFill>
            <a:blip r:embed="rId2"/>
            <a:srcRect l="13228" t="0" r="39170" b="33348"/>
            <a:stretch/>
          </p:blipFill>
          <p:spPr>
            <a:xfrm>
              <a:off x="2050920" y="2637000"/>
              <a:ext cx="1297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8"/>
            <p:cNvSpPr/>
            <p:nvPr/>
          </p:nvSpPr>
          <p:spPr>
            <a:xfrm>
              <a:off x="2422080" y="27558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5" name="Text Box 9"/>
          <p:cNvSpPr/>
          <p:nvPr/>
        </p:nvSpPr>
        <p:spPr>
          <a:xfrm>
            <a:off x="1284120" y="3622680"/>
            <a:ext cx="3143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284120" y="4091040"/>
            <a:ext cx="343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1284120" y="4559400"/>
            <a:ext cx="3576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284120" y="5062680"/>
            <a:ext cx="324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906560" y="362592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1906560" y="4106880"/>
            <a:ext cx="19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1906560" y="457344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1906560" y="5078520"/>
            <a:ext cx="1943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5508720" y="3622680"/>
            <a:ext cx="1942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5508720" y="4105440"/>
            <a:ext cx="201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5508720" y="4573440"/>
            <a:ext cx="1942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" name="Group 43"/>
          <p:cNvGrpSpPr/>
          <p:nvPr/>
        </p:nvGrpSpPr>
        <p:grpSpPr>
          <a:xfrm>
            <a:off x="5651640" y="2565360"/>
            <a:ext cx="1296720" cy="1079640"/>
            <a:chOff x="5651640" y="2565360"/>
            <a:chExt cx="1296720" cy="1079640"/>
          </a:xfrm>
        </p:grpSpPr>
        <p:pic>
          <p:nvPicPr>
            <p:cNvPr id="198" name="Picture 38" descr="花"/>
            <p:cNvPicPr/>
            <p:nvPr/>
          </p:nvPicPr>
          <p:blipFill>
            <a:blip r:embed="rId3"/>
            <a:srcRect l="13228" t="0" r="39170" b="33348"/>
            <a:stretch/>
          </p:blipFill>
          <p:spPr>
            <a:xfrm>
              <a:off x="5651640" y="2565360"/>
              <a:ext cx="1296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34"/>
            <p:cNvSpPr/>
            <p:nvPr/>
          </p:nvSpPr>
          <p:spPr>
            <a:xfrm>
              <a:off x="6038640" y="269892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0" name="Group 45"/>
          <p:cNvGrpSpPr/>
          <p:nvPr/>
        </p:nvGrpSpPr>
        <p:grpSpPr>
          <a:xfrm>
            <a:off x="611280" y="1700280"/>
            <a:ext cx="7969320" cy="885960"/>
            <a:chOff x="611280" y="1700280"/>
            <a:chExt cx="7969320" cy="885960"/>
          </a:xfrm>
        </p:grpSpPr>
        <p:sp>
          <p:nvSpPr>
            <p:cNvPr id="201" name="Text Box 4"/>
            <p:cNvSpPr/>
            <p:nvPr/>
          </p:nvSpPr>
          <p:spPr>
            <a:xfrm>
              <a:off x="611280" y="1700280"/>
              <a:ext cx="7969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哪个乘法算式的积与   上的数相等，请写在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13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括号里。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2" name="Picture 39" descr="花"/>
            <p:cNvPicPr/>
            <p:nvPr/>
          </p:nvPicPr>
          <p:blipFill>
            <a:blip r:embed="rId4"/>
            <a:srcRect l="13228" t="0" r="39170" b="33348"/>
            <a:stretch/>
          </p:blipFill>
          <p:spPr>
            <a:xfrm>
              <a:off x="4067280" y="1700280"/>
              <a:ext cx="57600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030320" y="44737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808280" y="490536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花坛的一周长多少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你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11280" y="146160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花坛的一周长多少米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1808280" y="533700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里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是怎么得到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1808280" y="576900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1808280" y="6200640"/>
            <a:ext cx="58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用哪句口诀计算出结果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1549440" y="3809880"/>
            <a:ext cx="3098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46"/>
          <p:cNvGrpSpPr/>
          <p:nvPr/>
        </p:nvGrpSpPr>
        <p:grpSpPr>
          <a:xfrm>
            <a:off x="4788000" y="1916280"/>
            <a:ext cx="3963960" cy="2898720"/>
            <a:chOff x="4788000" y="1916280"/>
            <a:chExt cx="3963960" cy="2898720"/>
          </a:xfrm>
        </p:grpSpPr>
        <p:sp>
          <p:nvSpPr>
            <p:cNvPr id="212" name="AutoShape 36"/>
            <p:cNvSpPr/>
            <p:nvPr/>
          </p:nvSpPr>
          <p:spPr>
            <a:xfrm>
              <a:off x="4788000" y="1916280"/>
              <a:ext cx="3960720" cy="496440"/>
            </a:xfrm>
            <a:prstGeom prst="wedgeRoundRectCallout">
              <a:avLst>
                <a:gd name="adj1" fmla="val 30310"/>
                <a:gd name="adj2" fmla="val 168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椭圆形花坛一周共摆放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盆花，每两盆花之间都相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3" name="Picture 41" descr="20"/>
            <p:cNvPicPr/>
            <p:nvPr/>
          </p:nvPicPr>
          <p:blipFill>
            <a:blip r:embed="rId2"/>
            <a:srcRect l="0" t="11480" r="19837" b="13518"/>
            <a:stretch/>
          </p:blipFill>
          <p:spPr>
            <a:xfrm>
              <a:off x="7020000" y="2886120"/>
              <a:ext cx="1731960" cy="19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44" descr="花坛"/>
          <p:cNvPicPr/>
          <p:nvPr/>
        </p:nvPicPr>
        <p:blipFill>
          <a:blip r:embed="rId3"/>
          <a:stretch/>
        </p:blipFill>
        <p:spPr>
          <a:xfrm>
            <a:off x="1042920" y="1916280"/>
            <a:ext cx="32400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9Z</dcterms:modified>
  <cp:revision>4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