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DD6-1AD6-42B7-AB12-1037987E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C4F-84E9-4D1D-BDBD-DDDB130E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B4E-0372-45B7-AFF9-C1D83E4E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645-F49E-4E36-AC7D-BB410D8C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191-7C0E-4450-8E1D-10DBF619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AA2-B15A-4F10-8307-089D7231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812-6B5F-4A88-950F-9432C973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7B0-5023-46E7-9EE6-B1BAAB4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8E4-024D-47C5-8A80-0E701F49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DD6-9E05-4EF4-BC42-ACE68AD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050-6068-4AC5-9211-3D200413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79E-F03D-4533-B5E4-A99C05E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5E07-B5EA-4E84-90F1-3CC33B26A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63640" y="20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黑体"/>
                <a:ea typeface="黑体"/>
              </a:rPr>
              <a:t>百分数应用题（</a:t>
            </a:r>
            <a:r>
              <a:rPr b="1" lang="en-US" sz="7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7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509920" y="60213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3708360" y="3005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79280" y="941400"/>
            <a:ext cx="8964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用关系式表示下列各题的数量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男生人数是女生人数的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实际产量占计划的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今年比去年增产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实际投资比计划节约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42920" y="333360"/>
            <a:ext cx="7201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、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45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少（  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45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多（  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76360" y="439416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实际造价是计划的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87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实际造价比计划节约了（  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84360" y="333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计划生产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零件，实际超过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，超过计划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84360" y="335772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计划生产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零件，实际生产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6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，超过计划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84360" y="765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一件上衣现价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9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原价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降低了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4360" y="335772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一件上衣现价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比原价降低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9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比原价降低了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4360" y="1557360"/>
            <a:ext cx="8064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甲数是乙数的  ，乙数比甲数多（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甲数比乙数少（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5940360" y="1413000"/>
            <a:ext cx="655560" cy="1131840"/>
            <a:chOff x="5940360" y="1413000"/>
            <a:chExt cx="655560" cy="1131840"/>
          </a:xfrm>
        </p:grpSpPr>
        <p:sp>
          <p:nvSpPr>
            <p:cNvPr id="53" name="Line 4"/>
            <p:cNvSpPr/>
            <p:nvPr/>
          </p:nvSpPr>
          <p:spPr>
            <a:xfrm>
              <a:off x="5940360" y="1917360"/>
              <a:ext cx="584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5"/>
            <p:cNvSpPr/>
            <p:nvPr/>
          </p:nvSpPr>
          <p:spPr>
            <a:xfrm>
              <a:off x="6011640" y="1841400"/>
              <a:ext cx="58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6011640" y="1413000"/>
              <a:ext cx="5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1"/>
          <p:cNvSpPr/>
          <p:nvPr/>
        </p:nvSpPr>
        <p:spPr>
          <a:xfrm>
            <a:off x="1008000" y="57592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CD97-7CF0-4966-877D-0BD18EF016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2:10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07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