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m260.wav" ContentType="audio/x-wav"/>
  <Override PartName="/ppt/media/%E8%BD%AC%E6%8D%A2.wav" ContentType="audio/x-wav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873-30C5-48D7-99B6-4D716C5A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6B3-3D88-4878-A8E7-F2E4ACD7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4BC-5099-4AE2-92A8-7DB93203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334-7E4C-4AB6-A708-F3254CF0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D1D-80BA-4484-A535-462A602F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331-9873-4DE0-A6E1-A2654616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159-3545-463A-9B8D-ACBEAB34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9A1-5844-4A4C-B51D-52A23D67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989-48E0-4583-B3B0-664C2E18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27C-BC7A-4872-80FB-402D97E1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63E-C8DA-4831-82DD-70BA2FA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2E1-4CDF-4CED-A907-CCB20278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5C42-E1E9-4FDB-98D3-4D72A035C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260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36716;&#25442;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audio" Target="../media/&#36716;&#25442;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audio" Target="../media/&#36716;&#25442;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audio" Target="../media/&#36716;&#25442;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audio" Target="../media/&#36716;&#25442;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audio" Target="../media/&#36716;&#25442;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audio" Target="../media/&#36716;&#25442;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audio" Target="../media/&#36716;&#25442;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36716;&#25442;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36716;&#25442;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36716;&#25442;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&#36716;&#25442;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36716;&#25442;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audio" Target="../media/&#36716;&#25442;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audio" Target="../media/&#36716;&#25442;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audio" Target="../media/&#36716;&#25442;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2367000" y="1971720"/>
            <a:ext cx="42800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c00000"/>
                </a:solidFill>
                <a:latin typeface="方正粗倩简体"/>
                <a:ea typeface="方正粗倩简体"/>
              </a:rPr>
              <a:t>草 原</a:t>
            </a:r>
            <a:endParaRPr b="0" lang="en-US" sz="1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539640" y="519120"/>
            <a:ext cx="7934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（北师大版）四年级语文上册第三单元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18340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26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57200" y="609480"/>
            <a:ext cx="81532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那些</a:t>
            </a:r>
            <a:r>
              <a:rPr b="1" lang="zh-CN" sz="8800" spc="-1" strike="noStrike">
                <a:solidFill>
                  <a:srgbClr val="ff3300"/>
                </a:solidFill>
                <a:latin typeface="楷体_GB2312"/>
              </a:rPr>
              <a:t>小丘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的线条是那么柔美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就像只用绿色渲染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不用墨线勾勒的中国画那样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到处翠色欲流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轻轻流入云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5"/>
          <p:cNvSpPr/>
          <p:nvPr/>
        </p:nvSpPr>
        <p:spPr>
          <a:xfrm>
            <a:off x="160020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63868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7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8"/>
          <p:cNvSpPr/>
          <p:nvPr/>
        </p:nvSpPr>
        <p:spPr>
          <a:xfrm>
            <a:off x="5638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9"/>
          <p:cNvSpPr/>
          <p:nvPr/>
        </p:nvSpPr>
        <p:spPr>
          <a:xfrm>
            <a:off x="716292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64008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83808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792468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%E8%BD%AC%E6%8D%A2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草原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143000" y="129528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</a:rPr>
              <a:t>小丘柔美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4" name="%E8%BD%AC%E6%8D%A2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26" descr="7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33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"/>
          <p:cNvSpPr/>
          <p:nvPr/>
        </p:nvSpPr>
        <p:spPr>
          <a:xfrm>
            <a:off x="249120" y="5370480"/>
            <a:ext cx="83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4" name="%E8%BD%AC%E6%8D%A2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026" descr="草原3"/>
          <p:cNvPicPr/>
          <p:nvPr/>
        </p:nvPicPr>
        <p:blipFill>
          <a:blip r:embed="rId2"/>
          <a:stretch/>
        </p:blipFill>
        <p:spPr>
          <a:xfrm>
            <a:off x="-10058400" y="-6324480"/>
            <a:ext cx="29260800" cy="19506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27" descr="草原3"/>
          <p:cNvPicPr/>
          <p:nvPr/>
        </p:nvPicPr>
        <p:blipFill>
          <a:blip r:embed="rId3"/>
          <a:stretch/>
        </p:blipFill>
        <p:spPr>
          <a:xfrm>
            <a:off x="-10058400" y="-6324480"/>
            <a:ext cx="29260800" cy="19506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28"/>
          <p:cNvSpPr/>
          <p:nvPr/>
        </p:nvSpPr>
        <p:spPr>
          <a:xfrm>
            <a:off x="468360" y="83664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这种境界，即使人惊叹，又叫人舒服，既愿久立四望，又想坐下低吟一首奇丽的小诗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29"/>
          <p:cNvSpPr/>
          <p:nvPr/>
        </p:nvSpPr>
        <p:spPr>
          <a:xfrm>
            <a:off x="2124000" y="49417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Times New Roman"/>
              </a:rPr>
              <a:t>人陶醉了</a:t>
            </a:r>
            <a:r>
              <a:rPr b="1" lang="en-US" sz="5400" spc="-1" strike="noStrike">
                <a:solidFill>
                  <a:srgbClr val="ff33cc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4" name="%E8%BD%AC%E6%8D%A2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草原3"/>
          <p:cNvPicPr/>
          <p:nvPr/>
        </p:nvPicPr>
        <p:blipFill>
          <a:blip r:embed="rId2"/>
          <a:stretch/>
        </p:blipFill>
        <p:spPr>
          <a:xfrm>
            <a:off x="-10058400" y="-6324480"/>
            <a:ext cx="29260800" cy="19506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草原3"/>
          <p:cNvPicPr/>
          <p:nvPr/>
        </p:nvPicPr>
        <p:blipFill>
          <a:blip r:embed="rId3"/>
          <a:stretch/>
        </p:blipFill>
        <p:spPr>
          <a:xfrm>
            <a:off x="-1836720" y="-2548080"/>
            <a:ext cx="29260800" cy="19507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609480" y="7621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</a:rPr>
              <a:t>在这境界里，连</a:t>
            </a:r>
            <a:r>
              <a:rPr b="1" lang="zh-CN" sz="8800" spc="-1" strike="noStrike">
                <a:solidFill>
                  <a:srgbClr val="ff3300"/>
                </a:solidFill>
                <a:latin typeface="楷体_GB2312"/>
              </a:rPr>
              <a:t>骏马和大牛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</a:rPr>
              <a:t>都有时候静立不动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</a:rPr>
              <a:t>好像回味着草原的无限乐趣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4" name="%E8%BD%AC%E6%8D%A2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草原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7623720" y="380880"/>
            <a:ext cx="1094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ff"/>
                </a:solidFill>
                <a:latin typeface="Times New Roman"/>
                <a:ea typeface="隶书"/>
              </a:rPr>
              <a:t>牛儿陶醉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4" name="%E8%BD%AC%E6%8D%A2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3" descr="7"/>
          <p:cNvPicPr/>
          <p:nvPr/>
        </p:nvPicPr>
        <p:blipFill>
          <a:blip r:embed="rId2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-380880" y="762120"/>
            <a:ext cx="11125080" cy="55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空气（清鲜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      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天空（明朗）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　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　　　　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小丘（绿）  一碧千里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997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翠色欲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	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平地（绿）　羊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85800" y="12193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6212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1828800" y="388620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1828800" y="99072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5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4" name="%E8%BD%AC%E6%8D%A2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6395-5F79-4DB8-9A7E-130241E403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0" name="%E8%BD%AC%E6%8D%A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609480" y="1600200"/>
            <a:ext cx="891540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</a:rPr>
              <a:t>勾勒　骏马　无限　鞭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</a:rPr>
              <a:t>疾驰　马蹄　奶茶　礼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</a:rPr>
              <a:t>举杯　摔跤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宋体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3049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生字词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%E8%BD%AC%E6%8D%A2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685800" y="1752480"/>
            <a:ext cx="73152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课文第一自然段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要抓住草原上的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	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来描写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楷体_GB2312"/>
              </a:rPr>
              <a:t>朗读课文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楷体_GB2312"/>
              </a:rPr>
              <a:t>, 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楷体_GB2312"/>
              </a:rPr>
              <a:t>思考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楷体_GB2312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31240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　　　　　　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	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	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哪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　景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%E8%BD%AC%E6%8D%A2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5335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那里的</a:t>
            </a:r>
            <a:r>
              <a:rPr b="1" lang="zh-CN" sz="9600" spc="-1" strike="noStrike">
                <a:solidFill>
                  <a:srgbClr val="ff3300"/>
                </a:solidFill>
                <a:latin typeface="楷体_GB2312"/>
              </a:rPr>
              <a:t>天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比别处的更可爱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空气是那么清鲜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天空是那么明朗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使我总想高歌一曲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表示我满心的愉快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%E8%BD%AC%E6%8D%A2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2843280" y="1789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草原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-561240" y="0"/>
            <a:ext cx="2009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草原的天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3" name="%E8%BD%AC%E6%8D%A2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38088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在天底下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一碧千里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而并不茫茫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%E8%BD%AC%E6%8D%A2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草原6"/>
          <p:cNvPicPr/>
          <p:nvPr/>
        </p:nvPicPr>
        <p:blipFill>
          <a:blip r:embed="rId2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304920" y="53341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天涯碧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4" name="%E8%BD%AC%E6%8D%A2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草原3"/>
          <p:cNvPicPr/>
          <p:nvPr/>
        </p:nvPicPr>
        <p:blipFill>
          <a:blip r:embed="rId2"/>
          <a:stretch/>
        </p:blipFill>
        <p:spPr>
          <a:xfrm>
            <a:off x="-10058400" y="-6324480"/>
            <a:ext cx="29260800" cy="1950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草原3"/>
          <p:cNvPicPr/>
          <p:nvPr/>
        </p:nvPicPr>
        <p:blipFill>
          <a:blip r:embed="rId3"/>
          <a:stretch/>
        </p:blipFill>
        <p:spPr>
          <a:xfrm>
            <a:off x="-10058400" y="-6324480"/>
            <a:ext cx="29260800" cy="19506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80880" y="10666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8000" spc="-1" strike="noStrike">
                <a:solidFill>
                  <a:srgbClr val="3333ff"/>
                </a:solidFill>
                <a:latin typeface="楷体_GB2312"/>
              </a:rPr>
              <a:t>羊群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一会儿上了小丘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一会儿又下来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走到哪里都像给无边的绿毯绣上了白色的大花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4" name="%E8%BD%AC%E6%8D%A2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草原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533520" y="8380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99"/>
                </a:solidFill>
                <a:latin typeface="楷体_GB2312"/>
              </a:rPr>
              <a:t>草原像绿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57200" y="16765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99"/>
                </a:solidFill>
                <a:latin typeface="楷体_GB2312"/>
              </a:rPr>
              <a:t>羊群像白花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4" name="%E8%BD%AC%E6%8D%A2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08:58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3:07Z</dcterms:modified>
  <cp:revision>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NXTAG2">
    <vt:lpwstr>000800620e000000000001024120</vt:lpwstr>
  </property>
</Properties>
</file>