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403280" y="2100240"/>
            <a:ext cx="403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除法的含义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774720" y="99072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74256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75A-811D-46F9-929F-698B900578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8"/>
          <p:cNvSpPr/>
          <p:nvPr/>
        </p:nvSpPr>
        <p:spPr>
          <a:xfrm>
            <a:off x="2158920" y="3068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7" name="Group 25"/>
          <p:cNvGrpSpPr/>
          <p:nvPr/>
        </p:nvGrpSpPr>
        <p:grpSpPr>
          <a:xfrm>
            <a:off x="2124000" y="4292640"/>
            <a:ext cx="4392720" cy="663480"/>
            <a:chOff x="2124000" y="4292640"/>
            <a:chExt cx="4392720" cy="663480"/>
          </a:xfrm>
        </p:grpSpPr>
        <p:pic>
          <p:nvPicPr>
            <p:cNvPr id="118" name="Picture 21" descr="未标题-17"/>
            <p:cNvPicPr/>
            <p:nvPr/>
          </p:nvPicPr>
          <p:blipFill>
            <a:blip r:embed="rId1"/>
            <a:srcRect l="6918" t="3994" r="13837" b="39785"/>
            <a:stretch/>
          </p:blipFill>
          <p:spPr>
            <a:xfrm>
              <a:off x="2124000" y="4292640"/>
              <a:ext cx="10810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2" descr="未标题-17"/>
            <p:cNvPicPr/>
            <p:nvPr/>
          </p:nvPicPr>
          <p:blipFill>
            <a:blip r:embed="rId2"/>
            <a:srcRect l="6918" t="3994" r="13837" b="39785"/>
            <a:stretch/>
          </p:blipFill>
          <p:spPr>
            <a:xfrm>
              <a:off x="3203640" y="4292640"/>
              <a:ext cx="10810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3" descr="未标题-17"/>
            <p:cNvPicPr/>
            <p:nvPr/>
          </p:nvPicPr>
          <p:blipFill>
            <a:blip r:embed="rId3"/>
            <a:srcRect l="6918" t="3994" r="13837" b="39785"/>
            <a:stretch/>
          </p:blipFill>
          <p:spPr>
            <a:xfrm>
              <a:off x="4284720" y="4292640"/>
              <a:ext cx="10810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4" descr="未标题-17"/>
            <p:cNvPicPr/>
            <p:nvPr/>
          </p:nvPicPr>
          <p:blipFill>
            <a:blip r:embed="rId4"/>
            <a:srcRect l="6918" t="3994" r="13837" b="39785"/>
            <a:stretch/>
          </p:blipFill>
          <p:spPr>
            <a:xfrm>
              <a:off x="5435640" y="4297320"/>
              <a:ext cx="108108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引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577600" y="5310360"/>
            <a:ext cx="212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试着分一分，并思考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可以怎样分竹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到底每盘应放几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4" name="Group 18"/>
          <p:cNvGrpSpPr/>
          <p:nvPr/>
        </p:nvGrpSpPr>
        <p:grpSpPr>
          <a:xfrm>
            <a:off x="395280" y="1523880"/>
            <a:ext cx="6988320" cy="1400040"/>
            <a:chOff x="395280" y="1523880"/>
            <a:chExt cx="6988320" cy="1400040"/>
          </a:xfrm>
        </p:grpSpPr>
        <p:sp>
          <p:nvSpPr>
            <p:cNvPr id="125" name="AutoShape 27"/>
            <p:cNvSpPr/>
            <p:nvPr/>
          </p:nvSpPr>
          <p:spPr>
            <a:xfrm>
              <a:off x="2124000" y="1595160"/>
              <a:ext cx="5259600" cy="496440"/>
            </a:xfrm>
            <a:prstGeom prst="wedgeRoundRectCallout">
              <a:avLst>
                <a:gd name="adj1" fmla="val -56787"/>
                <a:gd name="adj2" fmla="val 8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好！我想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竹笋平均放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盘里，请你帮我分一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6" name="Picture 16" descr="未标题-014"/>
            <p:cNvPicPr/>
            <p:nvPr/>
          </p:nvPicPr>
          <p:blipFill>
            <a:blip r:embed="rId5"/>
            <a:stretch/>
          </p:blipFill>
          <p:spPr>
            <a:xfrm>
              <a:off x="395280" y="1523880"/>
              <a:ext cx="1548000" cy="14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20" descr="未标题-16"/>
          <p:cNvPicPr/>
          <p:nvPr/>
        </p:nvPicPr>
        <p:blipFill>
          <a:blip r:embed="rId6"/>
          <a:stretch/>
        </p:blipFill>
        <p:spPr>
          <a:xfrm>
            <a:off x="1979640" y="2457360"/>
            <a:ext cx="475308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9"/>
          <p:cNvGrpSpPr/>
          <p:nvPr/>
        </p:nvGrpSpPr>
        <p:grpSpPr>
          <a:xfrm>
            <a:off x="5738760" y="3608280"/>
            <a:ext cx="3108240" cy="2369520"/>
            <a:chOff x="5738760" y="3608280"/>
            <a:chExt cx="3108240" cy="2369520"/>
          </a:xfrm>
        </p:grpSpPr>
        <p:pic>
          <p:nvPicPr>
            <p:cNvPr id="129" name="Picture 15" descr="男天使"/>
            <p:cNvPicPr/>
            <p:nvPr/>
          </p:nvPicPr>
          <p:blipFill>
            <a:blip r:embed="rId7"/>
            <a:stretch/>
          </p:blipFill>
          <p:spPr>
            <a:xfrm>
              <a:off x="7323120" y="3608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5738760" y="5481360"/>
              <a:ext cx="3095640" cy="496440"/>
            </a:xfrm>
            <a:prstGeom prst="wedgeRoundRectCallout">
              <a:avLst>
                <a:gd name="adj1" fmla="val 19171"/>
                <a:gd name="adj2" fmla="val -117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平均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1" name="Oval 19"/>
          <p:cNvSpPr/>
          <p:nvPr/>
        </p:nvSpPr>
        <p:spPr>
          <a:xfrm>
            <a:off x="5472000" y="1652760"/>
            <a:ext cx="540000" cy="423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0" descr="19"/>
          <p:cNvPicPr/>
          <p:nvPr/>
        </p:nvPicPr>
        <p:blipFill>
          <a:blip r:embed="rId1"/>
          <a:stretch/>
        </p:blipFill>
        <p:spPr>
          <a:xfrm>
            <a:off x="3406680" y="2062080"/>
            <a:ext cx="3978360" cy="1251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除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498760" y="458964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291360" y="458964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29080" y="5089680"/>
            <a:ext cx="28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385440" y="61405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9640" y="135396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除号，读除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104"/>
          <p:cNvSpPr/>
          <p:nvPr/>
        </p:nvSpPr>
        <p:spPr>
          <a:xfrm>
            <a:off x="4210200" y="5494680"/>
            <a:ext cx="5461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105"/>
          <p:cNvSpPr/>
          <p:nvPr/>
        </p:nvSpPr>
        <p:spPr>
          <a:xfrm>
            <a:off x="4032360" y="5708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除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Group 23"/>
          <p:cNvGrpSpPr/>
          <p:nvPr/>
        </p:nvGrpSpPr>
        <p:grpSpPr>
          <a:xfrm>
            <a:off x="179280" y="1844640"/>
            <a:ext cx="2811600" cy="2726280"/>
            <a:chOff x="179280" y="1844640"/>
            <a:chExt cx="2811600" cy="2726280"/>
          </a:xfrm>
        </p:grpSpPr>
        <p:sp>
          <p:nvSpPr>
            <p:cNvPr id="143" name="AutoShape 27"/>
            <p:cNvSpPr/>
            <p:nvPr/>
          </p:nvSpPr>
          <p:spPr>
            <a:xfrm>
              <a:off x="179280" y="3284640"/>
              <a:ext cx="2811600" cy="1286280"/>
            </a:xfrm>
            <a:prstGeom prst="wedgeRoundRectCallout">
              <a:avLst>
                <a:gd name="adj1" fmla="val 1666"/>
                <a:gd name="adj2" fmla="val -614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能把刚才分竹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情况和结果用一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算式来表示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4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179280" y="1844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4" descr="未标题-25"/>
          <p:cNvPicPr/>
          <p:nvPr/>
        </p:nvPicPr>
        <p:blipFill>
          <a:blip r:embed="rId3"/>
          <a:stretch/>
        </p:blipFill>
        <p:spPr>
          <a:xfrm>
            <a:off x="2987640" y="3141720"/>
            <a:ext cx="532944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9"/>
          <p:cNvGrpSpPr/>
          <p:nvPr/>
        </p:nvGrpSpPr>
        <p:grpSpPr>
          <a:xfrm>
            <a:off x="5651640" y="4525920"/>
            <a:ext cx="3205080" cy="1702800"/>
            <a:chOff x="5651640" y="4525920"/>
            <a:chExt cx="3205080" cy="1702800"/>
          </a:xfrm>
        </p:grpSpPr>
        <p:sp>
          <p:nvSpPr>
            <p:cNvPr id="147" name="AutoShape 27"/>
            <p:cNvSpPr/>
            <p:nvPr/>
          </p:nvSpPr>
          <p:spPr>
            <a:xfrm>
              <a:off x="5651640" y="5732280"/>
              <a:ext cx="2449440" cy="496440"/>
            </a:xfrm>
            <a:prstGeom prst="wedgeRoundRectCallout">
              <a:avLst>
                <a:gd name="adj1" fmla="val 31643"/>
                <a:gd name="adj2" fmla="val -8449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除法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8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332840" y="452592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Rectangle 23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3" descr="19"/>
          <p:cNvPicPr/>
          <p:nvPr/>
        </p:nvPicPr>
        <p:blipFill>
          <a:blip r:embed="rId1"/>
          <a:stretch/>
        </p:blipFill>
        <p:spPr>
          <a:xfrm>
            <a:off x="2556000" y="2205000"/>
            <a:ext cx="3978000" cy="1251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除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3525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除号的由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3" name="Picture 19" descr="未标题-25"/>
          <p:cNvPicPr/>
          <p:nvPr/>
        </p:nvPicPr>
        <p:blipFill>
          <a:blip r:embed="rId2"/>
          <a:stretch/>
        </p:blipFill>
        <p:spPr>
          <a:xfrm>
            <a:off x="1979640" y="3284640"/>
            <a:ext cx="532908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1"/>
          <p:cNvGrpSpPr/>
          <p:nvPr/>
        </p:nvGrpSpPr>
        <p:grpSpPr>
          <a:xfrm>
            <a:off x="1763640" y="1052640"/>
            <a:ext cx="6337440" cy="3049200"/>
            <a:chOff x="1763640" y="1052640"/>
            <a:chExt cx="6337440" cy="3049200"/>
          </a:xfrm>
        </p:grpSpPr>
        <p:pic>
          <p:nvPicPr>
            <p:cNvPr id="155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6577200" y="1052640"/>
              <a:ext cx="152388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7"/>
            <p:cNvSpPr/>
            <p:nvPr/>
          </p:nvSpPr>
          <p:spPr>
            <a:xfrm>
              <a:off x="1763640" y="2420640"/>
              <a:ext cx="6048360" cy="1681200"/>
            </a:xfrm>
            <a:prstGeom prst="wedgeRoundRectCallout">
              <a:avLst>
                <a:gd name="adj1" fmla="val 33277"/>
                <a:gd name="adj2" fmla="val -63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5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年，瑞士数学家拉恩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. H. Rahn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在他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《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代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》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书中，第一次用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÷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除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÷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一条横线把两个圆点分开，恰好表示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均分的意思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498760" y="458964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629080" y="5089680"/>
            <a:ext cx="28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385440" y="61405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104"/>
          <p:cNvSpPr/>
          <p:nvPr/>
        </p:nvSpPr>
        <p:spPr>
          <a:xfrm>
            <a:off x="4210200" y="5494680"/>
            <a:ext cx="5461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105"/>
          <p:cNvSpPr/>
          <p:nvPr/>
        </p:nvSpPr>
        <p:spPr>
          <a:xfrm>
            <a:off x="4032360" y="5708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除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291360" y="458964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"/>
          <p:cNvSpPr/>
          <p:nvPr/>
        </p:nvSpPr>
        <p:spPr>
          <a:xfrm>
            <a:off x="2849400" y="50594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除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9640" y="13525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理解除法算式的含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4518000" y="5165640"/>
            <a:ext cx="252360" cy="2523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221000" y="4527720"/>
            <a:ext cx="567000" cy="38880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9" name="Group 24"/>
          <p:cNvGrpSpPr/>
          <p:nvPr/>
        </p:nvGrpSpPr>
        <p:grpSpPr>
          <a:xfrm>
            <a:off x="182520" y="2066760"/>
            <a:ext cx="3015360" cy="3106800"/>
            <a:chOff x="182520" y="2066760"/>
            <a:chExt cx="3015360" cy="3106800"/>
          </a:xfrm>
        </p:grpSpPr>
        <p:sp>
          <p:nvSpPr>
            <p:cNvPr id="170" name="AutoShape 27"/>
            <p:cNvSpPr/>
            <p:nvPr/>
          </p:nvSpPr>
          <p:spPr>
            <a:xfrm>
              <a:off x="290520" y="3492360"/>
              <a:ext cx="2562120" cy="1681200"/>
            </a:xfrm>
            <a:prstGeom prst="wedgeRoundRectCallout">
              <a:avLst>
                <a:gd name="adj1" fmla="val 1671"/>
                <a:gd name="adj2" fmla="val -61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1" name="Group 23"/>
            <p:cNvGrpSpPr/>
            <p:nvPr/>
          </p:nvGrpSpPr>
          <p:grpSpPr>
            <a:xfrm>
              <a:off x="182520" y="2066760"/>
              <a:ext cx="3015360" cy="2901240"/>
              <a:chOff x="182520" y="2066760"/>
              <a:chExt cx="3015360" cy="2901240"/>
            </a:xfrm>
          </p:grpSpPr>
          <p:pic>
            <p:nvPicPr>
              <p:cNvPr id="172" name="Picture 20" descr="男天使副本"/>
              <p:cNvPicPr/>
              <p:nvPr/>
            </p:nvPicPr>
            <p:blipFill>
              <a:blip r:embed="rId1"/>
              <a:stretch/>
            </p:blipFill>
            <p:spPr>
              <a:xfrm>
                <a:off x="182520" y="2066760"/>
                <a:ext cx="1523880" cy="14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Box 16"/>
              <p:cNvSpPr/>
              <p:nvPr/>
            </p:nvSpPr>
            <p:spPr>
              <a:xfrm rot="19862400">
                <a:off x="2034000" y="3785400"/>
                <a:ext cx="98100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000" spc="-1" strike="noStrike">
                    <a:solidFill>
                      <a:srgbClr val="ff0000"/>
                    </a:solidFill>
                    <a:latin typeface="楷体_GB2312"/>
                  </a:rPr>
                  <a:t>？</a:t>
                </a:r>
                <a:endParaRPr b="1" lang="en-US" sz="5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74" name="Picture 25" descr="未标题-25"/>
          <p:cNvPicPr/>
          <p:nvPr/>
        </p:nvPicPr>
        <p:blipFill>
          <a:blip r:embed="rId2"/>
          <a:stretch/>
        </p:blipFill>
        <p:spPr>
          <a:xfrm>
            <a:off x="2987640" y="3141720"/>
            <a:ext cx="5329440" cy="1195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649680" y="448308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445160" y="44830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593160" y="61866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4460760" y="5541480"/>
            <a:ext cx="5461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4284720" y="57070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除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0" name="Picture 46" descr="19"/>
          <p:cNvPicPr/>
          <p:nvPr/>
        </p:nvPicPr>
        <p:blipFill>
          <a:blip r:embed="rId3"/>
          <a:stretch/>
        </p:blipFill>
        <p:spPr>
          <a:xfrm>
            <a:off x="3406680" y="2062080"/>
            <a:ext cx="3978360" cy="1251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除法意义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35320" y="496728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176800" y="49687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802560" y="4938840"/>
            <a:ext cx="11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539640" y="1352520"/>
            <a:ext cx="73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改写中深化除法意义的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537960" y="4484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算式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6372360" y="5370480"/>
            <a:ext cx="208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435320" y="547200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435320" y="5977080"/>
            <a:ext cx="42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盘放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6372360" y="5853240"/>
            <a:ext cx="208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6372360" y="6334200"/>
            <a:ext cx="20890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176800" y="54817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802560" y="5421240"/>
            <a:ext cx="11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5176800" y="596736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802560" y="5902200"/>
            <a:ext cx="11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7" name="Picture 24" descr="19"/>
          <p:cNvPicPr/>
          <p:nvPr/>
        </p:nvPicPr>
        <p:blipFill>
          <a:blip r:embed="rId1"/>
          <a:stretch/>
        </p:blipFill>
        <p:spPr>
          <a:xfrm>
            <a:off x="2556000" y="2205000"/>
            <a:ext cx="397800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未标题-25"/>
          <p:cNvPicPr/>
          <p:nvPr/>
        </p:nvPicPr>
        <p:blipFill>
          <a:blip r:embed="rId2"/>
          <a:stretch/>
        </p:blipFill>
        <p:spPr>
          <a:xfrm>
            <a:off x="1979640" y="3284640"/>
            <a:ext cx="5329080" cy="1195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417600"/>
            <a:ext cx="7043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深化除法意义的理解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9640" y="1352520"/>
            <a:ext cx="73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805040" y="2135160"/>
            <a:ext cx="32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出下列除法算式，说一说算式的意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89040" y="29131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1446120" y="47307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589040" y="4124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446120" y="53355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1589040" y="3519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780000" y="2846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3780000" y="3436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780000" y="4037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780000" y="4665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780000" y="5256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4592520" y="28749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4592520" y="346536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4592520" y="40654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4592520" y="46944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4592520" y="52848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文本框 1"/>
          <p:cNvSpPr/>
          <p:nvPr/>
        </p:nvSpPr>
        <p:spPr>
          <a:xfrm>
            <a:off x="244440" y="6080040"/>
            <a:ext cx="63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690560" y="2133720"/>
            <a:ext cx="48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鱼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盘里，每个盘里放（    ）条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457200" y="417600"/>
            <a:ext cx="7043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深化除法意义的理解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9640" y="1352520"/>
            <a:ext cx="73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3708360" y="5057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986440" y="21337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786200" y="50338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768920" y="5108400"/>
            <a:ext cx="3603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7" name="Picture 20" descr="002"/>
          <p:cNvPicPr/>
          <p:nvPr/>
        </p:nvPicPr>
        <p:blipFill>
          <a:blip r:embed="rId1"/>
          <a:stretch/>
        </p:blipFill>
        <p:spPr>
          <a:xfrm>
            <a:off x="608040" y="2843280"/>
            <a:ext cx="7819920" cy="2235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6"/>
          <p:cNvSpPr/>
          <p:nvPr/>
        </p:nvSpPr>
        <p:spPr>
          <a:xfrm>
            <a:off x="1613880" y="3068640"/>
            <a:ext cx="3826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  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份，每份（    ）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  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  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份，每份（    ）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  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0" name="Picture 8" descr="p70_1根小棒"/>
          <p:cNvPicPr/>
          <p:nvPr/>
        </p:nvPicPr>
        <p:blipFill>
          <a:blip r:embed="rId1"/>
          <a:stretch/>
        </p:blipFill>
        <p:spPr>
          <a:xfrm>
            <a:off x="2238480" y="305424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p70_1根小棒"/>
          <p:cNvPicPr/>
          <p:nvPr/>
        </p:nvPicPr>
        <p:blipFill>
          <a:blip r:embed="rId2"/>
          <a:stretch/>
        </p:blipFill>
        <p:spPr>
          <a:xfrm>
            <a:off x="2228760" y="4400640"/>
            <a:ext cx="38124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3313080" y="3691080"/>
            <a:ext cx="287280" cy="28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3600" y="3691080"/>
            <a:ext cx="287280" cy="28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313080" y="5073480"/>
            <a:ext cx="28728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873600" y="5075280"/>
            <a:ext cx="28728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57200" y="417600"/>
            <a:ext cx="7043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深化除法意义的理解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39640" y="1352520"/>
            <a:ext cx="73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辨析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473840" y="2411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一分，填一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48280" y="31464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3278160" y="35845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832200" y="3586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013360" y="450864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286080" y="4968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3821040" y="496728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01Z</dcterms:modified>
  <cp:revision>3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