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96760" y="2109960"/>
            <a:ext cx="5267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除法算式各部分的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名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除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670920" y="609300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785880" y="1617840"/>
            <a:ext cx="73198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读算式，说说算式的意思，并说出算式中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5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各部分的名称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1033560" y="3130560"/>
            <a:ext cx="72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÷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       15÷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        18÷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÷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         56÷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         28÷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457200" y="417600"/>
            <a:ext cx="77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练习中深化除法算式的理解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7"/>
          <p:cNvSpPr/>
          <p:nvPr/>
        </p:nvSpPr>
        <p:spPr>
          <a:xfrm>
            <a:off x="4790880" y="58942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9" name="Group 31"/>
          <p:cNvGrpSpPr/>
          <p:nvPr/>
        </p:nvGrpSpPr>
        <p:grpSpPr>
          <a:xfrm>
            <a:off x="4849920" y="3639960"/>
            <a:ext cx="1917720" cy="459720"/>
            <a:chOff x="4849920" y="3639960"/>
            <a:chExt cx="1917720" cy="459720"/>
          </a:xfrm>
        </p:grpSpPr>
        <p:sp>
          <p:nvSpPr>
            <p:cNvPr id="340" name="Rectangle 21"/>
            <p:cNvSpPr/>
            <p:nvPr/>
          </p:nvSpPr>
          <p:spPr>
            <a:xfrm>
              <a:off x="4849920" y="371952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1" name="Text Box 22"/>
            <p:cNvSpPr/>
            <p:nvPr/>
          </p:nvSpPr>
          <p:spPr>
            <a:xfrm>
              <a:off x="5148360" y="363996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>
              <a:off x="5508720" y="371952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3" name="Rectangle 24"/>
            <p:cNvSpPr/>
            <p:nvPr/>
          </p:nvSpPr>
          <p:spPr>
            <a:xfrm>
              <a:off x="6149880" y="371952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44" name="Rectangle 2"/>
          <p:cNvSpPr/>
          <p:nvPr/>
        </p:nvSpPr>
        <p:spPr>
          <a:xfrm>
            <a:off x="784080" y="1736640"/>
            <a:ext cx="7320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圈一圈，填一填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1627560" y="368784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里面有（   ）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2762280" y="368784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6122880" y="366228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5487840" y="365112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1627560" y="591336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里面有（   ）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4790880" y="36511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2762280" y="59133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6132600" y="589428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5487840" y="58942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4" name="Picture 18" descr="未标题-19"/>
          <p:cNvPicPr/>
          <p:nvPr/>
        </p:nvPicPr>
        <p:blipFill>
          <a:blip r:embed="rId1"/>
          <a:stretch/>
        </p:blipFill>
        <p:spPr>
          <a:xfrm>
            <a:off x="1258920" y="2395440"/>
            <a:ext cx="5832360" cy="1244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0" descr="未标题-20"/>
          <p:cNvPicPr/>
          <p:nvPr/>
        </p:nvPicPr>
        <p:blipFill>
          <a:blip r:embed="rId2"/>
          <a:stretch/>
        </p:blipFill>
        <p:spPr>
          <a:xfrm>
            <a:off x="1258920" y="4549680"/>
            <a:ext cx="5832360" cy="12384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"/>
          <p:cNvSpPr/>
          <p:nvPr/>
        </p:nvSpPr>
        <p:spPr>
          <a:xfrm>
            <a:off x="457200" y="417600"/>
            <a:ext cx="778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练习中深化除法算式的理解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4849920" y="5891040"/>
            <a:ext cx="1917720" cy="459720"/>
            <a:chOff x="4849920" y="5891040"/>
            <a:chExt cx="1917720" cy="459720"/>
          </a:xfrm>
        </p:grpSpPr>
        <p:sp>
          <p:nvSpPr>
            <p:cNvPr id="358" name="Text Box 22"/>
            <p:cNvSpPr/>
            <p:nvPr/>
          </p:nvSpPr>
          <p:spPr>
            <a:xfrm>
              <a:off x="5148360" y="589104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4849920" y="59706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5508720" y="59706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>
              <a:off x="6149880" y="59706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62" name="Rectangle 32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2492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文本框 1"/>
          <p:cNvSpPr/>
          <p:nvPr/>
        </p:nvSpPr>
        <p:spPr>
          <a:xfrm>
            <a:off x="684360" y="6080040"/>
            <a:ext cx="57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7450-DB23-4F30-8E84-D4DDBF1369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2"/>
          <p:cNvSpPr/>
          <p:nvPr/>
        </p:nvSpPr>
        <p:spPr>
          <a:xfrm>
            <a:off x="1474920" y="35654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AutoShape 27"/>
          <p:cNvSpPr/>
          <p:nvPr/>
        </p:nvSpPr>
        <p:spPr>
          <a:xfrm>
            <a:off x="2627280" y="1628640"/>
            <a:ext cx="4608720" cy="891000"/>
          </a:xfrm>
          <a:prstGeom prst="wedgeRoundRectCallout">
            <a:avLst>
              <a:gd name="adj1" fmla="val -59504"/>
              <a:gd name="adj2" fmla="val 275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同学们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扣子，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份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每份（   ）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作好铺垫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3627360" y="205884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3564000" y="59292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÷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1" name="Picture 20" descr="男天使副本"/>
          <p:cNvPicPr/>
          <p:nvPr/>
        </p:nvPicPr>
        <p:blipFill>
          <a:blip r:embed="rId1"/>
          <a:stretch/>
        </p:blipFill>
        <p:spPr>
          <a:xfrm>
            <a:off x="611280" y="167472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41"/>
          <p:cNvGrpSpPr/>
          <p:nvPr/>
        </p:nvGrpSpPr>
        <p:grpSpPr>
          <a:xfrm>
            <a:off x="4213080" y="4653000"/>
            <a:ext cx="4643280" cy="1279440"/>
            <a:chOff x="4213080" y="4653000"/>
            <a:chExt cx="4643280" cy="1279440"/>
          </a:xfrm>
        </p:grpSpPr>
        <p:sp>
          <p:nvSpPr>
            <p:cNvPr id="123" name="AutoShape 27"/>
            <p:cNvSpPr/>
            <p:nvPr/>
          </p:nvSpPr>
          <p:spPr>
            <a:xfrm>
              <a:off x="4213080" y="5302080"/>
              <a:ext cx="2735280" cy="496440"/>
            </a:xfrm>
            <a:prstGeom prst="wedgeRoundRectCallout">
              <a:avLst>
                <a:gd name="adj1" fmla="val 65250"/>
                <a:gd name="adj2" fmla="val 165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列算式来表示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4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332480" y="4653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35"/>
          <p:cNvGrpSpPr/>
          <p:nvPr/>
        </p:nvGrpSpPr>
        <p:grpSpPr>
          <a:xfrm>
            <a:off x="1187280" y="3357720"/>
            <a:ext cx="6645600" cy="1439640"/>
            <a:chOff x="1187280" y="3357720"/>
            <a:chExt cx="6645600" cy="1439640"/>
          </a:xfrm>
        </p:grpSpPr>
        <p:pic>
          <p:nvPicPr>
            <p:cNvPr id="126" name="Picture 42" descr="u2jx04-2"/>
            <p:cNvPicPr/>
            <p:nvPr/>
          </p:nvPicPr>
          <p:blipFill>
            <a:blip r:embed="rId3"/>
            <a:stretch/>
          </p:blipFill>
          <p:spPr>
            <a:xfrm>
              <a:off x="1187280" y="3357720"/>
              <a:ext cx="648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3" descr="u2jx04-2"/>
            <p:cNvPicPr/>
            <p:nvPr/>
          </p:nvPicPr>
          <p:blipFill>
            <a:blip r:embed="rId4"/>
            <a:stretch/>
          </p:blipFill>
          <p:spPr>
            <a:xfrm>
              <a:off x="2122560" y="3357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4" descr="u2jx04-2"/>
            <p:cNvPicPr/>
            <p:nvPr/>
          </p:nvPicPr>
          <p:blipFill>
            <a:blip r:embed="rId5"/>
            <a:stretch/>
          </p:blipFill>
          <p:spPr>
            <a:xfrm>
              <a:off x="1619280" y="4149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5" descr="u2jx04-2"/>
            <p:cNvPicPr/>
            <p:nvPr/>
          </p:nvPicPr>
          <p:blipFill>
            <a:blip r:embed="rId6"/>
            <a:stretch/>
          </p:blipFill>
          <p:spPr>
            <a:xfrm>
              <a:off x="2997360" y="3357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6" descr="u2jx04-2"/>
            <p:cNvPicPr/>
            <p:nvPr/>
          </p:nvPicPr>
          <p:blipFill>
            <a:blip r:embed="rId7"/>
            <a:stretch/>
          </p:blipFill>
          <p:spPr>
            <a:xfrm>
              <a:off x="2554200" y="4149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7" descr="u2jx04-2"/>
            <p:cNvPicPr/>
            <p:nvPr/>
          </p:nvPicPr>
          <p:blipFill>
            <a:blip r:embed="rId8"/>
            <a:stretch/>
          </p:blipFill>
          <p:spPr>
            <a:xfrm>
              <a:off x="3419640" y="4149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8" descr="u2jx04-2"/>
            <p:cNvPicPr/>
            <p:nvPr/>
          </p:nvPicPr>
          <p:blipFill>
            <a:blip r:embed="rId9"/>
            <a:stretch/>
          </p:blipFill>
          <p:spPr>
            <a:xfrm>
              <a:off x="3851280" y="3357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9" descr="u2jx04-2"/>
            <p:cNvPicPr/>
            <p:nvPr/>
          </p:nvPicPr>
          <p:blipFill>
            <a:blip r:embed="rId10"/>
            <a:stretch/>
          </p:blipFill>
          <p:spPr>
            <a:xfrm>
              <a:off x="4781520" y="3357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0" descr="u2jx04-2"/>
            <p:cNvPicPr/>
            <p:nvPr/>
          </p:nvPicPr>
          <p:blipFill>
            <a:blip r:embed="rId11"/>
            <a:stretch/>
          </p:blipFill>
          <p:spPr>
            <a:xfrm>
              <a:off x="4282920" y="4149720"/>
              <a:ext cx="648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1" descr="u2jx04-2"/>
            <p:cNvPicPr/>
            <p:nvPr/>
          </p:nvPicPr>
          <p:blipFill>
            <a:blip r:embed="rId12"/>
            <a:stretch/>
          </p:blipFill>
          <p:spPr>
            <a:xfrm>
              <a:off x="5568840" y="3357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2" descr="u2jx04-2"/>
            <p:cNvPicPr/>
            <p:nvPr/>
          </p:nvPicPr>
          <p:blipFill>
            <a:blip r:embed="rId13"/>
            <a:stretch/>
          </p:blipFill>
          <p:spPr>
            <a:xfrm>
              <a:off x="5210280" y="4149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3" descr="u2jx04-2"/>
            <p:cNvPicPr/>
            <p:nvPr/>
          </p:nvPicPr>
          <p:blipFill>
            <a:blip r:embed="rId14"/>
            <a:stretch/>
          </p:blipFill>
          <p:spPr>
            <a:xfrm>
              <a:off x="6002280" y="4149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54" descr="u2jx04-2"/>
            <p:cNvPicPr/>
            <p:nvPr/>
          </p:nvPicPr>
          <p:blipFill>
            <a:blip r:embed="rId15"/>
            <a:stretch/>
          </p:blipFill>
          <p:spPr>
            <a:xfrm>
              <a:off x="6392880" y="335772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5" descr="u2jx04-2"/>
            <p:cNvPicPr/>
            <p:nvPr/>
          </p:nvPicPr>
          <p:blipFill>
            <a:blip r:embed="rId16"/>
            <a:stretch/>
          </p:blipFill>
          <p:spPr>
            <a:xfrm>
              <a:off x="7184880" y="3357720"/>
              <a:ext cx="648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6" descr="u2jx04-2"/>
            <p:cNvPicPr/>
            <p:nvPr/>
          </p:nvPicPr>
          <p:blipFill>
            <a:blip r:embed="rId17"/>
            <a:stretch/>
          </p:blipFill>
          <p:spPr>
            <a:xfrm>
              <a:off x="6859440" y="4149720"/>
              <a:ext cx="64800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Freeform 59"/>
          <p:cNvSpPr/>
          <p:nvPr/>
        </p:nvSpPr>
        <p:spPr>
          <a:xfrm>
            <a:off x="1087560" y="3219480"/>
            <a:ext cx="1765080" cy="1716120"/>
          </a:xfrm>
          <a:custGeom>
            <a:avLst/>
            <a:gdLst/>
            <a:ahLst/>
            <a:rect l="l" t="t" r="r" b="b"/>
            <a:pathLst>
              <a:path w="1112" h="1081">
                <a:moveTo>
                  <a:pt x="113" y="91"/>
                </a:moveTo>
                <a:cubicBezTo>
                  <a:pt x="196" y="61"/>
                  <a:pt x="371" y="0"/>
                  <a:pt x="522" y="0"/>
                </a:cubicBezTo>
                <a:cubicBezTo>
                  <a:pt x="673" y="0"/>
                  <a:pt x="930" y="15"/>
                  <a:pt x="1021" y="91"/>
                </a:cubicBezTo>
                <a:cubicBezTo>
                  <a:pt x="1112" y="167"/>
                  <a:pt x="1104" y="371"/>
                  <a:pt x="1066" y="454"/>
                </a:cubicBezTo>
                <a:cubicBezTo>
                  <a:pt x="1028" y="537"/>
                  <a:pt x="839" y="530"/>
                  <a:pt x="794" y="590"/>
                </a:cubicBezTo>
                <a:cubicBezTo>
                  <a:pt x="749" y="650"/>
                  <a:pt x="817" y="741"/>
                  <a:pt x="794" y="816"/>
                </a:cubicBezTo>
                <a:cubicBezTo>
                  <a:pt x="771" y="891"/>
                  <a:pt x="726" y="1005"/>
                  <a:pt x="658" y="1043"/>
                </a:cubicBezTo>
                <a:cubicBezTo>
                  <a:pt x="590" y="1081"/>
                  <a:pt x="454" y="1073"/>
                  <a:pt x="386" y="1043"/>
                </a:cubicBezTo>
                <a:cubicBezTo>
                  <a:pt x="318" y="1013"/>
                  <a:pt x="258" y="930"/>
                  <a:pt x="250" y="862"/>
                </a:cubicBezTo>
                <a:cubicBezTo>
                  <a:pt x="242" y="794"/>
                  <a:pt x="325" y="688"/>
                  <a:pt x="340" y="635"/>
                </a:cubicBezTo>
                <a:cubicBezTo>
                  <a:pt x="355" y="582"/>
                  <a:pt x="370" y="559"/>
                  <a:pt x="340" y="544"/>
                </a:cubicBezTo>
                <a:cubicBezTo>
                  <a:pt x="310" y="529"/>
                  <a:pt x="212" y="574"/>
                  <a:pt x="159" y="544"/>
                </a:cubicBezTo>
                <a:cubicBezTo>
                  <a:pt x="106" y="514"/>
                  <a:pt x="46" y="424"/>
                  <a:pt x="23" y="363"/>
                </a:cubicBezTo>
                <a:cubicBezTo>
                  <a:pt x="0" y="302"/>
                  <a:pt x="8" y="226"/>
                  <a:pt x="23" y="181"/>
                </a:cubicBezTo>
                <a:cubicBezTo>
                  <a:pt x="38" y="136"/>
                  <a:pt x="30" y="121"/>
                  <a:pt x="113" y="91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Freeform 60"/>
          <p:cNvSpPr/>
          <p:nvPr/>
        </p:nvSpPr>
        <p:spPr>
          <a:xfrm>
            <a:off x="2460600" y="3181320"/>
            <a:ext cx="1679760" cy="1789200"/>
          </a:xfrm>
          <a:custGeom>
            <a:avLst/>
            <a:gdLst/>
            <a:ahLst/>
            <a:rect l="l" t="t" r="r" b="b"/>
            <a:pathLst>
              <a:path w="1058" h="1127">
                <a:moveTo>
                  <a:pt x="332" y="99"/>
                </a:moveTo>
                <a:cubicBezTo>
                  <a:pt x="377" y="61"/>
                  <a:pt x="483" y="0"/>
                  <a:pt x="559" y="8"/>
                </a:cubicBezTo>
                <a:cubicBezTo>
                  <a:pt x="635" y="16"/>
                  <a:pt x="751" y="82"/>
                  <a:pt x="786" y="144"/>
                </a:cubicBezTo>
                <a:cubicBezTo>
                  <a:pt x="821" y="206"/>
                  <a:pt x="777" y="316"/>
                  <a:pt x="772" y="378"/>
                </a:cubicBezTo>
                <a:cubicBezTo>
                  <a:pt x="767" y="440"/>
                  <a:pt x="742" y="485"/>
                  <a:pt x="754" y="516"/>
                </a:cubicBezTo>
                <a:cubicBezTo>
                  <a:pt x="766" y="547"/>
                  <a:pt x="809" y="543"/>
                  <a:pt x="844" y="564"/>
                </a:cubicBezTo>
                <a:cubicBezTo>
                  <a:pt x="879" y="585"/>
                  <a:pt x="931" y="600"/>
                  <a:pt x="967" y="643"/>
                </a:cubicBezTo>
                <a:cubicBezTo>
                  <a:pt x="1003" y="686"/>
                  <a:pt x="1058" y="756"/>
                  <a:pt x="1058" y="824"/>
                </a:cubicBezTo>
                <a:cubicBezTo>
                  <a:pt x="1058" y="892"/>
                  <a:pt x="1028" y="1006"/>
                  <a:pt x="967" y="1051"/>
                </a:cubicBezTo>
                <a:cubicBezTo>
                  <a:pt x="906" y="1096"/>
                  <a:pt x="831" y="1089"/>
                  <a:pt x="695" y="1097"/>
                </a:cubicBezTo>
                <a:cubicBezTo>
                  <a:pt x="559" y="1105"/>
                  <a:pt x="264" y="1127"/>
                  <a:pt x="151" y="1097"/>
                </a:cubicBezTo>
                <a:cubicBezTo>
                  <a:pt x="38" y="1067"/>
                  <a:pt x="30" y="983"/>
                  <a:pt x="15" y="915"/>
                </a:cubicBezTo>
                <a:cubicBezTo>
                  <a:pt x="0" y="847"/>
                  <a:pt x="26" y="744"/>
                  <a:pt x="60" y="688"/>
                </a:cubicBezTo>
                <a:cubicBezTo>
                  <a:pt x="94" y="632"/>
                  <a:pt x="168" y="604"/>
                  <a:pt x="220" y="576"/>
                </a:cubicBezTo>
                <a:cubicBezTo>
                  <a:pt x="272" y="548"/>
                  <a:pt x="355" y="551"/>
                  <a:pt x="370" y="522"/>
                </a:cubicBezTo>
                <a:cubicBezTo>
                  <a:pt x="385" y="493"/>
                  <a:pt x="324" y="450"/>
                  <a:pt x="310" y="402"/>
                </a:cubicBezTo>
                <a:cubicBezTo>
                  <a:pt x="296" y="354"/>
                  <a:pt x="283" y="286"/>
                  <a:pt x="287" y="235"/>
                </a:cubicBezTo>
                <a:cubicBezTo>
                  <a:pt x="291" y="184"/>
                  <a:pt x="287" y="137"/>
                  <a:pt x="332" y="99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Freeform 61"/>
          <p:cNvSpPr/>
          <p:nvPr/>
        </p:nvSpPr>
        <p:spPr>
          <a:xfrm>
            <a:off x="3755880" y="3192480"/>
            <a:ext cx="1760760" cy="1760400"/>
          </a:xfrm>
          <a:custGeom>
            <a:avLst/>
            <a:gdLst/>
            <a:ahLst/>
            <a:rect l="l" t="t" r="r" b="b"/>
            <a:pathLst>
              <a:path w="1109" h="1109">
                <a:moveTo>
                  <a:pt x="298" y="23"/>
                </a:moveTo>
                <a:cubicBezTo>
                  <a:pt x="366" y="14"/>
                  <a:pt x="450" y="0"/>
                  <a:pt x="562" y="5"/>
                </a:cubicBezTo>
                <a:cubicBezTo>
                  <a:pt x="674" y="10"/>
                  <a:pt x="880" y="14"/>
                  <a:pt x="970" y="53"/>
                </a:cubicBezTo>
                <a:cubicBezTo>
                  <a:pt x="1060" y="92"/>
                  <a:pt x="1099" y="162"/>
                  <a:pt x="1104" y="240"/>
                </a:cubicBezTo>
                <a:cubicBezTo>
                  <a:pt x="1109" y="318"/>
                  <a:pt x="1061" y="468"/>
                  <a:pt x="1000" y="521"/>
                </a:cubicBezTo>
                <a:cubicBezTo>
                  <a:pt x="939" y="574"/>
                  <a:pt x="777" y="513"/>
                  <a:pt x="741" y="557"/>
                </a:cubicBezTo>
                <a:cubicBezTo>
                  <a:pt x="705" y="601"/>
                  <a:pt x="786" y="708"/>
                  <a:pt x="786" y="784"/>
                </a:cubicBezTo>
                <a:cubicBezTo>
                  <a:pt x="786" y="860"/>
                  <a:pt x="794" y="958"/>
                  <a:pt x="741" y="1011"/>
                </a:cubicBezTo>
                <a:cubicBezTo>
                  <a:pt x="688" y="1064"/>
                  <a:pt x="542" y="1109"/>
                  <a:pt x="469" y="1102"/>
                </a:cubicBezTo>
                <a:cubicBezTo>
                  <a:pt x="396" y="1095"/>
                  <a:pt x="334" y="1031"/>
                  <a:pt x="304" y="971"/>
                </a:cubicBezTo>
                <a:cubicBezTo>
                  <a:pt x="274" y="911"/>
                  <a:pt x="275" y="808"/>
                  <a:pt x="287" y="739"/>
                </a:cubicBezTo>
                <a:cubicBezTo>
                  <a:pt x="299" y="670"/>
                  <a:pt x="398" y="592"/>
                  <a:pt x="378" y="557"/>
                </a:cubicBezTo>
                <a:cubicBezTo>
                  <a:pt x="358" y="522"/>
                  <a:pt x="219" y="550"/>
                  <a:pt x="166" y="527"/>
                </a:cubicBezTo>
                <a:cubicBezTo>
                  <a:pt x="113" y="504"/>
                  <a:pt x="85" y="469"/>
                  <a:pt x="60" y="421"/>
                </a:cubicBezTo>
                <a:cubicBezTo>
                  <a:pt x="35" y="373"/>
                  <a:pt x="0" y="300"/>
                  <a:pt x="15" y="240"/>
                </a:cubicBezTo>
                <a:cubicBezTo>
                  <a:pt x="30" y="180"/>
                  <a:pt x="104" y="94"/>
                  <a:pt x="151" y="58"/>
                </a:cubicBezTo>
                <a:cubicBezTo>
                  <a:pt x="198" y="22"/>
                  <a:pt x="238" y="31"/>
                  <a:pt x="298" y="23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Freeform 62"/>
          <p:cNvSpPr/>
          <p:nvPr/>
        </p:nvSpPr>
        <p:spPr>
          <a:xfrm>
            <a:off x="5156280" y="3287880"/>
            <a:ext cx="1571400" cy="1666800"/>
          </a:xfrm>
          <a:custGeom>
            <a:avLst/>
            <a:gdLst/>
            <a:ahLst/>
            <a:rect l="l" t="t" r="r" b="b"/>
            <a:pathLst>
              <a:path w="990" h="1050">
                <a:moveTo>
                  <a:pt x="385" y="11"/>
                </a:moveTo>
                <a:cubicBezTo>
                  <a:pt x="444" y="0"/>
                  <a:pt x="564" y="8"/>
                  <a:pt x="616" y="53"/>
                </a:cubicBezTo>
                <a:cubicBezTo>
                  <a:pt x="668" y="98"/>
                  <a:pt x="689" y="215"/>
                  <a:pt x="694" y="281"/>
                </a:cubicBezTo>
                <a:cubicBezTo>
                  <a:pt x="699" y="347"/>
                  <a:pt x="632" y="411"/>
                  <a:pt x="645" y="452"/>
                </a:cubicBezTo>
                <a:cubicBezTo>
                  <a:pt x="658" y="493"/>
                  <a:pt x="727" y="504"/>
                  <a:pt x="772" y="527"/>
                </a:cubicBezTo>
                <a:cubicBezTo>
                  <a:pt x="817" y="550"/>
                  <a:pt x="881" y="548"/>
                  <a:pt x="917" y="588"/>
                </a:cubicBezTo>
                <a:cubicBezTo>
                  <a:pt x="953" y="628"/>
                  <a:pt x="986" y="707"/>
                  <a:pt x="988" y="767"/>
                </a:cubicBezTo>
                <a:cubicBezTo>
                  <a:pt x="990" y="827"/>
                  <a:pt x="974" y="902"/>
                  <a:pt x="928" y="947"/>
                </a:cubicBezTo>
                <a:cubicBezTo>
                  <a:pt x="882" y="992"/>
                  <a:pt x="812" y="1024"/>
                  <a:pt x="712" y="1037"/>
                </a:cubicBezTo>
                <a:cubicBezTo>
                  <a:pt x="612" y="1050"/>
                  <a:pt x="437" y="1039"/>
                  <a:pt x="328" y="1025"/>
                </a:cubicBezTo>
                <a:cubicBezTo>
                  <a:pt x="219" y="1011"/>
                  <a:pt x="108" y="1001"/>
                  <a:pt x="55" y="951"/>
                </a:cubicBezTo>
                <a:cubicBezTo>
                  <a:pt x="2" y="901"/>
                  <a:pt x="0" y="791"/>
                  <a:pt x="10" y="724"/>
                </a:cubicBezTo>
                <a:cubicBezTo>
                  <a:pt x="20" y="657"/>
                  <a:pt x="67" y="586"/>
                  <a:pt x="112" y="551"/>
                </a:cubicBezTo>
                <a:cubicBezTo>
                  <a:pt x="157" y="516"/>
                  <a:pt x="244" y="531"/>
                  <a:pt x="280" y="515"/>
                </a:cubicBezTo>
                <a:cubicBezTo>
                  <a:pt x="316" y="499"/>
                  <a:pt x="333" y="482"/>
                  <a:pt x="327" y="452"/>
                </a:cubicBezTo>
                <a:cubicBezTo>
                  <a:pt x="321" y="422"/>
                  <a:pt x="255" y="390"/>
                  <a:pt x="244" y="335"/>
                </a:cubicBezTo>
                <a:cubicBezTo>
                  <a:pt x="233" y="280"/>
                  <a:pt x="238" y="173"/>
                  <a:pt x="262" y="119"/>
                </a:cubicBezTo>
                <a:cubicBezTo>
                  <a:pt x="286" y="65"/>
                  <a:pt x="360" y="33"/>
                  <a:pt x="385" y="11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Freeform 63"/>
          <p:cNvSpPr/>
          <p:nvPr/>
        </p:nvSpPr>
        <p:spPr>
          <a:xfrm>
            <a:off x="6323040" y="3216240"/>
            <a:ext cx="1573200" cy="1712880"/>
          </a:xfrm>
          <a:custGeom>
            <a:avLst/>
            <a:gdLst/>
            <a:ahLst/>
            <a:rect l="l" t="t" r="r" b="b"/>
            <a:pathLst>
              <a:path w="991" h="1079">
                <a:moveTo>
                  <a:pt x="157" y="50"/>
                </a:moveTo>
                <a:cubicBezTo>
                  <a:pt x="231" y="33"/>
                  <a:pt x="360" y="33"/>
                  <a:pt x="475" y="32"/>
                </a:cubicBezTo>
                <a:cubicBezTo>
                  <a:pt x="590" y="31"/>
                  <a:pt x="761" y="0"/>
                  <a:pt x="847" y="43"/>
                </a:cubicBezTo>
                <a:cubicBezTo>
                  <a:pt x="933" y="86"/>
                  <a:pt x="991" y="207"/>
                  <a:pt x="991" y="290"/>
                </a:cubicBezTo>
                <a:cubicBezTo>
                  <a:pt x="991" y="373"/>
                  <a:pt x="891" y="494"/>
                  <a:pt x="847" y="542"/>
                </a:cubicBezTo>
                <a:cubicBezTo>
                  <a:pt x="803" y="590"/>
                  <a:pt x="742" y="555"/>
                  <a:pt x="727" y="578"/>
                </a:cubicBezTo>
                <a:cubicBezTo>
                  <a:pt x="712" y="601"/>
                  <a:pt x="745" y="639"/>
                  <a:pt x="757" y="678"/>
                </a:cubicBezTo>
                <a:cubicBezTo>
                  <a:pt x="769" y="717"/>
                  <a:pt x="817" y="754"/>
                  <a:pt x="802" y="814"/>
                </a:cubicBezTo>
                <a:cubicBezTo>
                  <a:pt x="787" y="874"/>
                  <a:pt x="734" y="1003"/>
                  <a:pt x="666" y="1041"/>
                </a:cubicBezTo>
                <a:cubicBezTo>
                  <a:pt x="598" y="1079"/>
                  <a:pt x="455" y="1064"/>
                  <a:pt x="394" y="1041"/>
                </a:cubicBezTo>
                <a:cubicBezTo>
                  <a:pt x="333" y="1018"/>
                  <a:pt x="318" y="965"/>
                  <a:pt x="303" y="905"/>
                </a:cubicBezTo>
                <a:cubicBezTo>
                  <a:pt x="288" y="845"/>
                  <a:pt x="318" y="738"/>
                  <a:pt x="303" y="678"/>
                </a:cubicBezTo>
                <a:cubicBezTo>
                  <a:pt x="288" y="618"/>
                  <a:pt x="253" y="580"/>
                  <a:pt x="212" y="542"/>
                </a:cubicBezTo>
                <a:cubicBezTo>
                  <a:pt x="171" y="504"/>
                  <a:pt x="90" y="495"/>
                  <a:pt x="55" y="452"/>
                </a:cubicBezTo>
                <a:cubicBezTo>
                  <a:pt x="20" y="409"/>
                  <a:pt x="2" y="336"/>
                  <a:pt x="1" y="284"/>
                </a:cubicBezTo>
                <a:cubicBezTo>
                  <a:pt x="0" y="232"/>
                  <a:pt x="23" y="179"/>
                  <a:pt x="49" y="140"/>
                </a:cubicBezTo>
                <a:cubicBezTo>
                  <a:pt x="75" y="101"/>
                  <a:pt x="135" y="69"/>
                  <a:pt x="157" y="50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36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8"/>
          <p:cNvGrpSpPr/>
          <p:nvPr/>
        </p:nvGrpSpPr>
        <p:grpSpPr>
          <a:xfrm>
            <a:off x="539640" y="1666800"/>
            <a:ext cx="7358040" cy="1309680"/>
            <a:chOff x="539640" y="1666800"/>
            <a:chExt cx="7358040" cy="1309680"/>
          </a:xfrm>
        </p:grpSpPr>
        <p:pic>
          <p:nvPicPr>
            <p:cNvPr id="148" name="Picture 20" descr="未标题-014"/>
            <p:cNvPicPr/>
            <p:nvPr/>
          </p:nvPicPr>
          <p:blipFill>
            <a:blip r:embed="rId1"/>
            <a:stretch/>
          </p:blipFill>
          <p:spPr>
            <a:xfrm>
              <a:off x="539640" y="1666800"/>
              <a:ext cx="144792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7"/>
            <p:cNvSpPr/>
            <p:nvPr/>
          </p:nvSpPr>
          <p:spPr>
            <a:xfrm>
              <a:off x="2266920" y="1676520"/>
              <a:ext cx="5630760" cy="891000"/>
            </a:xfrm>
            <a:prstGeom prst="wedgeRoundRectCallout">
              <a:avLst>
                <a:gd name="adj1" fmla="val -55606"/>
                <a:gd name="adj2" fmla="val 14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好！我想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竹笋，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放一盘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能放几盘？请你帮帮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引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39280" y="4729320"/>
            <a:ext cx="22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思考问题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们要帮熊猫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分的要求是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5848200" y="1730520"/>
            <a:ext cx="1584360" cy="441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1763640" y="59817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用学具帮熊猫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4" name="Picture 18" descr="未标题-24"/>
          <p:cNvPicPr/>
          <p:nvPr/>
        </p:nvPicPr>
        <p:blipFill>
          <a:blip r:embed="rId2"/>
          <a:stretch/>
        </p:blipFill>
        <p:spPr>
          <a:xfrm>
            <a:off x="3460680" y="3905280"/>
            <a:ext cx="863640" cy="7826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4"/>
          <p:cNvGrpSpPr/>
          <p:nvPr/>
        </p:nvGrpSpPr>
        <p:grpSpPr>
          <a:xfrm>
            <a:off x="5867280" y="3600360"/>
            <a:ext cx="2808360" cy="2537280"/>
            <a:chOff x="5867280" y="3600360"/>
            <a:chExt cx="2808360" cy="2537280"/>
          </a:xfrm>
        </p:grpSpPr>
        <p:pic>
          <p:nvPicPr>
            <p:cNvPr id="156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151760" y="3600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27"/>
            <p:cNvSpPr/>
            <p:nvPr/>
          </p:nvSpPr>
          <p:spPr>
            <a:xfrm>
              <a:off x="5867280" y="5246640"/>
              <a:ext cx="2745000" cy="891000"/>
            </a:xfrm>
            <a:prstGeom prst="wedgeRoundRectCallout">
              <a:avLst>
                <a:gd name="adj1" fmla="val 17018"/>
                <a:gd name="adj2" fmla="val -75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放一盘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58" name="Picture 27" descr="20"/>
          <p:cNvPicPr/>
          <p:nvPr/>
        </p:nvPicPr>
        <p:blipFill>
          <a:blip r:embed="rId4"/>
          <a:stretch/>
        </p:blipFill>
        <p:spPr>
          <a:xfrm>
            <a:off x="1852560" y="2674800"/>
            <a:ext cx="5578560" cy="1179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91240" cy="62769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7" descr="20"/>
          <p:cNvPicPr/>
          <p:nvPr/>
        </p:nvPicPr>
        <p:blipFill>
          <a:blip r:embed="rId1"/>
          <a:stretch/>
        </p:blipFill>
        <p:spPr>
          <a:xfrm>
            <a:off x="3230640" y="2170080"/>
            <a:ext cx="5445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45"/>
          <p:cNvGrpSpPr/>
          <p:nvPr/>
        </p:nvGrpSpPr>
        <p:grpSpPr>
          <a:xfrm>
            <a:off x="250920" y="2241720"/>
            <a:ext cx="2879280" cy="2475000"/>
            <a:chOff x="250920" y="2241720"/>
            <a:chExt cx="2879280" cy="2475000"/>
          </a:xfrm>
        </p:grpSpPr>
        <p:sp>
          <p:nvSpPr>
            <p:cNvPr id="164" name="AutoShape 27"/>
            <p:cNvSpPr/>
            <p:nvPr/>
          </p:nvSpPr>
          <p:spPr>
            <a:xfrm>
              <a:off x="682560" y="3825720"/>
              <a:ext cx="2447640" cy="891000"/>
            </a:xfrm>
            <a:prstGeom prst="wedgeRoundRectCallout">
              <a:avLst>
                <a:gd name="adj1" fmla="val -29324"/>
                <a:gd name="adj2" fmla="val -75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分的结果是什么？你是怎样分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250920" y="2241720"/>
              <a:ext cx="1523880" cy="141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 Box 5"/>
          <p:cNvSpPr/>
          <p:nvPr/>
        </p:nvSpPr>
        <p:spPr>
          <a:xfrm>
            <a:off x="2050920" y="513252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放一盘，能放（   ）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617400" y="137016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汇报交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引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47"/>
          <p:cNvSpPr/>
          <p:nvPr/>
        </p:nvSpPr>
        <p:spPr>
          <a:xfrm>
            <a:off x="5913360" y="5129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0" name="Picture 37" descr="未标题-23"/>
          <p:cNvPicPr/>
          <p:nvPr/>
        </p:nvPicPr>
        <p:blipFill>
          <a:blip r:embed="rId3"/>
          <a:stretch/>
        </p:blipFill>
        <p:spPr>
          <a:xfrm>
            <a:off x="3193920" y="3719520"/>
            <a:ext cx="1148040" cy="847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9" descr="20-1"/>
          <p:cNvPicPr/>
          <p:nvPr/>
        </p:nvPicPr>
        <p:blipFill>
          <a:blip r:embed="rId4"/>
          <a:stretch/>
        </p:blipFill>
        <p:spPr>
          <a:xfrm>
            <a:off x="324180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0"/>
          <p:cNvGrpSpPr/>
          <p:nvPr/>
        </p:nvGrpSpPr>
        <p:grpSpPr>
          <a:xfrm>
            <a:off x="3243240" y="2205000"/>
            <a:ext cx="990720" cy="1498680"/>
            <a:chOff x="3243240" y="2205000"/>
            <a:chExt cx="990720" cy="1498680"/>
          </a:xfrm>
        </p:grpSpPr>
        <p:sp>
          <p:nvSpPr>
            <p:cNvPr id="173" name="Rectangle 31"/>
            <p:cNvSpPr/>
            <p:nvPr/>
          </p:nvSpPr>
          <p:spPr>
            <a:xfrm>
              <a:off x="32432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37558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75" name="Picture 51" descr="未标题-23"/>
          <p:cNvPicPr/>
          <p:nvPr/>
        </p:nvPicPr>
        <p:blipFill>
          <a:blip r:embed="rId5"/>
          <a:stretch/>
        </p:blipFill>
        <p:spPr>
          <a:xfrm>
            <a:off x="4270320" y="3719520"/>
            <a:ext cx="1147680" cy="84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2" descr="20-1"/>
          <p:cNvPicPr/>
          <p:nvPr/>
        </p:nvPicPr>
        <p:blipFill>
          <a:blip r:embed="rId6"/>
          <a:stretch/>
        </p:blipFill>
        <p:spPr>
          <a:xfrm>
            <a:off x="4317840" y="2214720"/>
            <a:ext cx="9972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3"/>
          <p:cNvGrpSpPr/>
          <p:nvPr/>
        </p:nvGrpSpPr>
        <p:grpSpPr>
          <a:xfrm>
            <a:off x="4319640" y="2205000"/>
            <a:ext cx="990720" cy="1498680"/>
            <a:chOff x="4319640" y="2205000"/>
            <a:chExt cx="990720" cy="1498680"/>
          </a:xfrm>
        </p:grpSpPr>
        <p:sp>
          <p:nvSpPr>
            <p:cNvPr id="178" name="Rectangle 31"/>
            <p:cNvSpPr/>
            <p:nvPr/>
          </p:nvSpPr>
          <p:spPr>
            <a:xfrm>
              <a:off x="43196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48322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0" name="Picture 66" descr="未标题-23"/>
          <p:cNvPicPr/>
          <p:nvPr/>
        </p:nvPicPr>
        <p:blipFill>
          <a:blip r:embed="rId7"/>
          <a:stretch/>
        </p:blipFill>
        <p:spPr>
          <a:xfrm>
            <a:off x="5337000" y="3719520"/>
            <a:ext cx="1148040" cy="847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7" descr="20-1"/>
          <p:cNvPicPr/>
          <p:nvPr/>
        </p:nvPicPr>
        <p:blipFill>
          <a:blip r:embed="rId8"/>
          <a:stretch/>
        </p:blipFill>
        <p:spPr>
          <a:xfrm>
            <a:off x="538488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68"/>
          <p:cNvGrpSpPr/>
          <p:nvPr/>
        </p:nvGrpSpPr>
        <p:grpSpPr>
          <a:xfrm>
            <a:off x="5386320" y="2205000"/>
            <a:ext cx="990720" cy="1498680"/>
            <a:chOff x="5386320" y="2205000"/>
            <a:chExt cx="990720" cy="1498680"/>
          </a:xfrm>
        </p:grpSpPr>
        <p:sp>
          <p:nvSpPr>
            <p:cNvPr id="183" name="Rectangle 31"/>
            <p:cNvSpPr/>
            <p:nvPr/>
          </p:nvSpPr>
          <p:spPr>
            <a:xfrm>
              <a:off x="538632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589896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5" name="Picture 71" descr="未标题-23"/>
          <p:cNvPicPr/>
          <p:nvPr/>
        </p:nvPicPr>
        <p:blipFill>
          <a:blip r:embed="rId9"/>
          <a:stretch/>
        </p:blipFill>
        <p:spPr>
          <a:xfrm>
            <a:off x="6461280" y="3719520"/>
            <a:ext cx="1147680" cy="847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2" descr="20-1"/>
          <p:cNvPicPr/>
          <p:nvPr/>
        </p:nvPicPr>
        <p:blipFill>
          <a:blip r:embed="rId10"/>
          <a:stretch/>
        </p:blipFill>
        <p:spPr>
          <a:xfrm>
            <a:off x="650880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73"/>
          <p:cNvGrpSpPr/>
          <p:nvPr/>
        </p:nvGrpSpPr>
        <p:grpSpPr>
          <a:xfrm>
            <a:off x="6510240" y="2205000"/>
            <a:ext cx="990720" cy="1498680"/>
            <a:chOff x="6510240" y="2205000"/>
            <a:chExt cx="990720" cy="1498680"/>
          </a:xfrm>
        </p:grpSpPr>
        <p:sp>
          <p:nvSpPr>
            <p:cNvPr id="188" name="Rectangle 31"/>
            <p:cNvSpPr/>
            <p:nvPr/>
          </p:nvSpPr>
          <p:spPr>
            <a:xfrm>
              <a:off x="65102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70228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90" name="Picture 76" descr="未标题-23"/>
          <p:cNvPicPr/>
          <p:nvPr/>
        </p:nvPicPr>
        <p:blipFill>
          <a:blip r:embed="rId11"/>
          <a:stretch/>
        </p:blipFill>
        <p:spPr>
          <a:xfrm>
            <a:off x="7604280" y="3719520"/>
            <a:ext cx="1147680" cy="84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7" descr="20-1"/>
          <p:cNvPicPr/>
          <p:nvPr/>
        </p:nvPicPr>
        <p:blipFill>
          <a:blip r:embed="rId12"/>
          <a:stretch/>
        </p:blipFill>
        <p:spPr>
          <a:xfrm>
            <a:off x="765180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78"/>
          <p:cNvGrpSpPr/>
          <p:nvPr/>
        </p:nvGrpSpPr>
        <p:grpSpPr>
          <a:xfrm>
            <a:off x="7653240" y="2205000"/>
            <a:ext cx="990720" cy="1498680"/>
            <a:chOff x="7653240" y="2205000"/>
            <a:chExt cx="990720" cy="1498680"/>
          </a:xfrm>
        </p:grpSpPr>
        <p:sp>
          <p:nvSpPr>
            <p:cNvPr id="193" name="Rectangle 31"/>
            <p:cNvSpPr/>
            <p:nvPr/>
          </p:nvSpPr>
          <p:spPr>
            <a:xfrm>
              <a:off x="76532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Line 32"/>
            <p:cNvSpPr/>
            <p:nvPr/>
          </p:nvSpPr>
          <p:spPr>
            <a:xfrm>
              <a:off x="81658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5" name="Rectangle 40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引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2509920" y="57085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除法算式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8" name="组合 36"/>
          <p:cNvGrpSpPr/>
          <p:nvPr/>
        </p:nvGrpSpPr>
        <p:grpSpPr>
          <a:xfrm>
            <a:off x="6469200" y="5145120"/>
            <a:ext cx="2543040" cy="1611000"/>
            <a:chOff x="6469200" y="5145120"/>
            <a:chExt cx="2543040" cy="1611000"/>
          </a:xfrm>
        </p:grpSpPr>
        <p:sp>
          <p:nvSpPr>
            <p:cNvPr id="199" name="爆炸形 1 35"/>
            <p:cNvSpPr/>
            <p:nvPr/>
          </p:nvSpPr>
          <p:spPr>
            <a:xfrm rot="21359400">
              <a:off x="6516720" y="5229000"/>
              <a:ext cx="2448000" cy="1442880"/>
            </a:xfrm>
            <a:custGeom>
              <a:avLst/>
              <a:gdLst>
                <a:gd name="textAreaLeft" fmla="*/ 574920 w 2448000"/>
                <a:gd name="textAreaRight" fmla="*/ 1873080 w 2448000"/>
                <a:gd name="textAreaTop" fmla="*/ 338760 h 1442880"/>
                <a:gd name="textAreaBottom" fmla="*/ 1104120 h 14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 rot="21415800">
              <a:off x="6804360" y="5516640"/>
              <a:ext cx="2095560" cy="89100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个算式表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1" name="Group 48"/>
          <p:cNvGrpSpPr/>
          <p:nvPr/>
        </p:nvGrpSpPr>
        <p:grpSpPr>
          <a:xfrm>
            <a:off x="119160" y="1919160"/>
            <a:ext cx="3095640" cy="1936440"/>
            <a:chOff x="119160" y="1919160"/>
            <a:chExt cx="3095640" cy="1936440"/>
          </a:xfrm>
        </p:grpSpPr>
        <p:sp>
          <p:nvSpPr>
            <p:cNvPr id="202" name="AutoShape 27"/>
            <p:cNvSpPr/>
            <p:nvPr/>
          </p:nvSpPr>
          <p:spPr>
            <a:xfrm>
              <a:off x="838440" y="3359160"/>
              <a:ext cx="2376360" cy="496440"/>
            </a:xfrm>
            <a:prstGeom prst="wedgeRoundRectCallout">
              <a:avLst>
                <a:gd name="adj1" fmla="val -32310"/>
                <a:gd name="adj2" fmla="val -889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能把刚才分竹笋的情况和结果也用一个算式表示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3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119160" y="191916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Picture 37" descr="未标题-23"/>
          <p:cNvPicPr/>
          <p:nvPr/>
        </p:nvPicPr>
        <p:blipFill>
          <a:blip r:embed="rId2"/>
          <a:stretch/>
        </p:blipFill>
        <p:spPr>
          <a:xfrm>
            <a:off x="3193920" y="3719520"/>
            <a:ext cx="1148040" cy="847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9" descr="20-1"/>
          <p:cNvPicPr/>
          <p:nvPr/>
        </p:nvPicPr>
        <p:blipFill>
          <a:blip r:embed="rId3"/>
          <a:stretch/>
        </p:blipFill>
        <p:spPr>
          <a:xfrm>
            <a:off x="324180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0"/>
          <p:cNvGrpSpPr/>
          <p:nvPr/>
        </p:nvGrpSpPr>
        <p:grpSpPr>
          <a:xfrm>
            <a:off x="3243240" y="2205000"/>
            <a:ext cx="990720" cy="1498680"/>
            <a:chOff x="3243240" y="2205000"/>
            <a:chExt cx="990720" cy="1498680"/>
          </a:xfrm>
        </p:grpSpPr>
        <p:sp>
          <p:nvSpPr>
            <p:cNvPr id="207" name="Rectangle 31"/>
            <p:cNvSpPr/>
            <p:nvPr/>
          </p:nvSpPr>
          <p:spPr>
            <a:xfrm>
              <a:off x="32432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Line 32"/>
            <p:cNvSpPr/>
            <p:nvPr/>
          </p:nvSpPr>
          <p:spPr>
            <a:xfrm>
              <a:off x="37558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09" name="Picture 51" descr="未标题-23"/>
          <p:cNvPicPr/>
          <p:nvPr/>
        </p:nvPicPr>
        <p:blipFill>
          <a:blip r:embed="rId4"/>
          <a:stretch/>
        </p:blipFill>
        <p:spPr>
          <a:xfrm>
            <a:off x="4270320" y="3719520"/>
            <a:ext cx="1147680" cy="84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2" descr="20-1"/>
          <p:cNvPicPr/>
          <p:nvPr/>
        </p:nvPicPr>
        <p:blipFill>
          <a:blip r:embed="rId5"/>
          <a:stretch/>
        </p:blipFill>
        <p:spPr>
          <a:xfrm>
            <a:off x="4317840" y="2214720"/>
            <a:ext cx="9972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53"/>
          <p:cNvGrpSpPr/>
          <p:nvPr/>
        </p:nvGrpSpPr>
        <p:grpSpPr>
          <a:xfrm>
            <a:off x="4319640" y="2205000"/>
            <a:ext cx="990720" cy="1498680"/>
            <a:chOff x="4319640" y="2205000"/>
            <a:chExt cx="990720" cy="1498680"/>
          </a:xfrm>
        </p:grpSpPr>
        <p:sp>
          <p:nvSpPr>
            <p:cNvPr id="212" name="Rectangle 31"/>
            <p:cNvSpPr/>
            <p:nvPr/>
          </p:nvSpPr>
          <p:spPr>
            <a:xfrm>
              <a:off x="43196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Line 32"/>
            <p:cNvSpPr/>
            <p:nvPr/>
          </p:nvSpPr>
          <p:spPr>
            <a:xfrm>
              <a:off x="48322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14" name="Picture 66" descr="未标题-23"/>
          <p:cNvPicPr/>
          <p:nvPr/>
        </p:nvPicPr>
        <p:blipFill>
          <a:blip r:embed="rId6"/>
          <a:stretch/>
        </p:blipFill>
        <p:spPr>
          <a:xfrm>
            <a:off x="5337000" y="3719520"/>
            <a:ext cx="1148040" cy="847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7" descr="20-1"/>
          <p:cNvPicPr/>
          <p:nvPr/>
        </p:nvPicPr>
        <p:blipFill>
          <a:blip r:embed="rId7"/>
          <a:stretch/>
        </p:blipFill>
        <p:spPr>
          <a:xfrm>
            <a:off x="538488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68"/>
          <p:cNvGrpSpPr/>
          <p:nvPr/>
        </p:nvGrpSpPr>
        <p:grpSpPr>
          <a:xfrm>
            <a:off x="5386320" y="2205000"/>
            <a:ext cx="990720" cy="1498680"/>
            <a:chOff x="5386320" y="2205000"/>
            <a:chExt cx="990720" cy="1498680"/>
          </a:xfrm>
        </p:grpSpPr>
        <p:sp>
          <p:nvSpPr>
            <p:cNvPr id="217" name="Rectangle 31"/>
            <p:cNvSpPr/>
            <p:nvPr/>
          </p:nvSpPr>
          <p:spPr>
            <a:xfrm>
              <a:off x="538632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" name="Line 32"/>
            <p:cNvSpPr/>
            <p:nvPr/>
          </p:nvSpPr>
          <p:spPr>
            <a:xfrm>
              <a:off x="589896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19" name="Picture 71" descr="未标题-23"/>
          <p:cNvPicPr/>
          <p:nvPr/>
        </p:nvPicPr>
        <p:blipFill>
          <a:blip r:embed="rId8"/>
          <a:stretch/>
        </p:blipFill>
        <p:spPr>
          <a:xfrm>
            <a:off x="6461280" y="3719520"/>
            <a:ext cx="1147680" cy="847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2" descr="20-1"/>
          <p:cNvPicPr/>
          <p:nvPr/>
        </p:nvPicPr>
        <p:blipFill>
          <a:blip r:embed="rId9"/>
          <a:stretch/>
        </p:blipFill>
        <p:spPr>
          <a:xfrm>
            <a:off x="650880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73"/>
          <p:cNvGrpSpPr/>
          <p:nvPr/>
        </p:nvGrpSpPr>
        <p:grpSpPr>
          <a:xfrm>
            <a:off x="6510240" y="2205000"/>
            <a:ext cx="990720" cy="1498680"/>
            <a:chOff x="6510240" y="2205000"/>
            <a:chExt cx="990720" cy="1498680"/>
          </a:xfrm>
        </p:grpSpPr>
        <p:sp>
          <p:nvSpPr>
            <p:cNvPr id="222" name="Rectangle 31"/>
            <p:cNvSpPr/>
            <p:nvPr/>
          </p:nvSpPr>
          <p:spPr>
            <a:xfrm>
              <a:off x="65102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>
              <a:off x="70228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24" name="Picture 76" descr="未标题-23"/>
          <p:cNvPicPr/>
          <p:nvPr/>
        </p:nvPicPr>
        <p:blipFill>
          <a:blip r:embed="rId10"/>
          <a:stretch/>
        </p:blipFill>
        <p:spPr>
          <a:xfrm>
            <a:off x="7604280" y="3719520"/>
            <a:ext cx="1147680" cy="847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7" descr="20-1"/>
          <p:cNvPicPr/>
          <p:nvPr/>
        </p:nvPicPr>
        <p:blipFill>
          <a:blip r:embed="rId11"/>
          <a:stretch/>
        </p:blipFill>
        <p:spPr>
          <a:xfrm>
            <a:off x="7651800" y="221472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78"/>
          <p:cNvGrpSpPr/>
          <p:nvPr/>
        </p:nvGrpSpPr>
        <p:grpSpPr>
          <a:xfrm>
            <a:off x="7653240" y="2205000"/>
            <a:ext cx="990720" cy="1498680"/>
            <a:chOff x="7653240" y="2205000"/>
            <a:chExt cx="990720" cy="1498680"/>
          </a:xfrm>
        </p:grpSpPr>
        <p:sp>
          <p:nvSpPr>
            <p:cNvPr id="227" name="Rectangle 31"/>
            <p:cNvSpPr/>
            <p:nvPr/>
          </p:nvSpPr>
          <p:spPr>
            <a:xfrm>
              <a:off x="7653240" y="22050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Line 32"/>
            <p:cNvSpPr/>
            <p:nvPr/>
          </p:nvSpPr>
          <p:spPr>
            <a:xfrm>
              <a:off x="8165880" y="33526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9" name="Text Box 5"/>
          <p:cNvSpPr/>
          <p:nvPr/>
        </p:nvSpPr>
        <p:spPr>
          <a:xfrm>
            <a:off x="2050920" y="513252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竹笋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放一盘，能放（   ）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 Box 47"/>
          <p:cNvSpPr/>
          <p:nvPr/>
        </p:nvSpPr>
        <p:spPr>
          <a:xfrm>
            <a:off x="5913360" y="5129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617400" y="137016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探讨新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87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979640" y="4627440"/>
            <a:ext cx="56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竹笋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放一盘，能放（     ）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617400" y="137016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认识除法算式各部分的名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引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5807160" y="46306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2916360" y="5060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除法算式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÷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923080" y="3933720"/>
            <a:ext cx="2825640" cy="2491200"/>
            <a:chOff x="5923080" y="3933720"/>
            <a:chExt cx="2825640" cy="2491200"/>
          </a:xfrm>
        </p:grpSpPr>
        <p:pic>
          <p:nvPicPr>
            <p:cNvPr id="239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223400" y="39337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utoShape 27"/>
            <p:cNvSpPr/>
            <p:nvPr/>
          </p:nvSpPr>
          <p:spPr>
            <a:xfrm>
              <a:off x="5923080" y="5533920"/>
              <a:ext cx="2825640" cy="891000"/>
            </a:xfrm>
            <a:prstGeom prst="wedgeRoundRectCallout">
              <a:avLst>
                <a:gd name="adj1" fmla="val 17018"/>
                <a:gd name="adj2" fmla="val -75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算式，记住算式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各部分的名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41" name="Picture 53" descr="未标题-23"/>
          <p:cNvPicPr/>
          <p:nvPr/>
        </p:nvPicPr>
        <p:blipFill>
          <a:blip r:embed="rId2"/>
          <a:stretch/>
        </p:blipFill>
        <p:spPr>
          <a:xfrm>
            <a:off x="1619280" y="3733920"/>
            <a:ext cx="1147680" cy="847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4" descr="20-1"/>
          <p:cNvPicPr/>
          <p:nvPr/>
        </p:nvPicPr>
        <p:blipFill>
          <a:blip r:embed="rId3"/>
          <a:stretch/>
        </p:blipFill>
        <p:spPr>
          <a:xfrm>
            <a:off x="1666800" y="2228760"/>
            <a:ext cx="9972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55"/>
          <p:cNvGrpSpPr/>
          <p:nvPr/>
        </p:nvGrpSpPr>
        <p:grpSpPr>
          <a:xfrm>
            <a:off x="1668600" y="2219400"/>
            <a:ext cx="990360" cy="1498680"/>
            <a:chOff x="1668600" y="2219400"/>
            <a:chExt cx="990360" cy="1498680"/>
          </a:xfrm>
        </p:grpSpPr>
        <p:sp>
          <p:nvSpPr>
            <p:cNvPr id="244" name="Rectangle 31"/>
            <p:cNvSpPr/>
            <p:nvPr/>
          </p:nvSpPr>
          <p:spPr>
            <a:xfrm>
              <a:off x="1668600" y="2219400"/>
              <a:ext cx="99036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>
              <a:off x="2180880" y="33670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46" name="Picture 58" descr="未标题-23"/>
          <p:cNvPicPr/>
          <p:nvPr/>
        </p:nvPicPr>
        <p:blipFill>
          <a:blip r:embed="rId4"/>
          <a:stretch/>
        </p:blipFill>
        <p:spPr>
          <a:xfrm>
            <a:off x="2695680" y="3733920"/>
            <a:ext cx="1147680" cy="847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9" descr="20-1"/>
          <p:cNvPicPr/>
          <p:nvPr/>
        </p:nvPicPr>
        <p:blipFill>
          <a:blip r:embed="rId5"/>
          <a:stretch/>
        </p:blipFill>
        <p:spPr>
          <a:xfrm>
            <a:off x="2743200" y="2228760"/>
            <a:ext cx="99684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60"/>
          <p:cNvGrpSpPr/>
          <p:nvPr/>
        </p:nvGrpSpPr>
        <p:grpSpPr>
          <a:xfrm>
            <a:off x="2744640" y="2219400"/>
            <a:ext cx="990720" cy="1498680"/>
            <a:chOff x="2744640" y="2219400"/>
            <a:chExt cx="990720" cy="1498680"/>
          </a:xfrm>
        </p:grpSpPr>
        <p:sp>
          <p:nvSpPr>
            <p:cNvPr id="249" name="Rectangle 31"/>
            <p:cNvSpPr/>
            <p:nvPr/>
          </p:nvSpPr>
          <p:spPr>
            <a:xfrm>
              <a:off x="2744640" y="2219400"/>
              <a:ext cx="99072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3257280" y="33670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51" name="Picture 63" descr="未标题-23"/>
          <p:cNvPicPr/>
          <p:nvPr/>
        </p:nvPicPr>
        <p:blipFill>
          <a:blip r:embed="rId6"/>
          <a:stretch/>
        </p:blipFill>
        <p:spPr>
          <a:xfrm>
            <a:off x="3762360" y="3733920"/>
            <a:ext cx="1147680" cy="847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4" descr="20-1"/>
          <p:cNvPicPr/>
          <p:nvPr/>
        </p:nvPicPr>
        <p:blipFill>
          <a:blip r:embed="rId7"/>
          <a:stretch/>
        </p:blipFill>
        <p:spPr>
          <a:xfrm>
            <a:off x="3809880" y="2228760"/>
            <a:ext cx="9972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65"/>
          <p:cNvGrpSpPr/>
          <p:nvPr/>
        </p:nvGrpSpPr>
        <p:grpSpPr>
          <a:xfrm>
            <a:off x="3811680" y="2219400"/>
            <a:ext cx="990360" cy="1498680"/>
            <a:chOff x="3811680" y="2219400"/>
            <a:chExt cx="990360" cy="1498680"/>
          </a:xfrm>
        </p:grpSpPr>
        <p:sp>
          <p:nvSpPr>
            <p:cNvPr id="254" name="Rectangle 31"/>
            <p:cNvSpPr/>
            <p:nvPr/>
          </p:nvSpPr>
          <p:spPr>
            <a:xfrm>
              <a:off x="3811680" y="2219400"/>
              <a:ext cx="99036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>
              <a:off x="4323960" y="33670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56" name="Picture 68" descr="未标题-23"/>
          <p:cNvPicPr/>
          <p:nvPr/>
        </p:nvPicPr>
        <p:blipFill>
          <a:blip r:embed="rId8"/>
          <a:stretch/>
        </p:blipFill>
        <p:spPr>
          <a:xfrm>
            <a:off x="4886280" y="3733920"/>
            <a:ext cx="1147680" cy="847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9" descr="20-1"/>
          <p:cNvPicPr/>
          <p:nvPr/>
        </p:nvPicPr>
        <p:blipFill>
          <a:blip r:embed="rId9"/>
          <a:stretch/>
        </p:blipFill>
        <p:spPr>
          <a:xfrm>
            <a:off x="4933800" y="2228760"/>
            <a:ext cx="9972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70"/>
          <p:cNvGrpSpPr/>
          <p:nvPr/>
        </p:nvGrpSpPr>
        <p:grpSpPr>
          <a:xfrm>
            <a:off x="4935600" y="2219400"/>
            <a:ext cx="990360" cy="1498680"/>
            <a:chOff x="4935600" y="2219400"/>
            <a:chExt cx="990360" cy="1498680"/>
          </a:xfrm>
        </p:grpSpPr>
        <p:sp>
          <p:nvSpPr>
            <p:cNvPr id="259" name="Rectangle 31"/>
            <p:cNvSpPr/>
            <p:nvPr/>
          </p:nvSpPr>
          <p:spPr>
            <a:xfrm>
              <a:off x="4935600" y="2219400"/>
              <a:ext cx="99036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0" name="Line 32"/>
            <p:cNvSpPr/>
            <p:nvPr/>
          </p:nvSpPr>
          <p:spPr>
            <a:xfrm>
              <a:off x="5447880" y="33670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61" name="Picture 73" descr="未标题-23"/>
          <p:cNvPicPr/>
          <p:nvPr/>
        </p:nvPicPr>
        <p:blipFill>
          <a:blip r:embed="rId10"/>
          <a:stretch/>
        </p:blipFill>
        <p:spPr>
          <a:xfrm>
            <a:off x="6029280" y="3733920"/>
            <a:ext cx="1147680" cy="847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4" descr="20-1"/>
          <p:cNvPicPr/>
          <p:nvPr/>
        </p:nvPicPr>
        <p:blipFill>
          <a:blip r:embed="rId11"/>
          <a:stretch/>
        </p:blipFill>
        <p:spPr>
          <a:xfrm>
            <a:off x="6076800" y="2228760"/>
            <a:ext cx="9972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75"/>
          <p:cNvGrpSpPr/>
          <p:nvPr/>
        </p:nvGrpSpPr>
        <p:grpSpPr>
          <a:xfrm>
            <a:off x="6078600" y="2219400"/>
            <a:ext cx="990360" cy="1498680"/>
            <a:chOff x="6078600" y="2219400"/>
            <a:chExt cx="990360" cy="1498680"/>
          </a:xfrm>
        </p:grpSpPr>
        <p:sp>
          <p:nvSpPr>
            <p:cNvPr id="264" name="Rectangle 31"/>
            <p:cNvSpPr/>
            <p:nvPr/>
          </p:nvSpPr>
          <p:spPr>
            <a:xfrm>
              <a:off x="6078600" y="2219400"/>
              <a:ext cx="990360" cy="1149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>
              <a:off x="6590880" y="3367080"/>
              <a:ext cx="0" cy="35100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6" name="Text Box 104"/>
          <p:cNvSpPr/>
          <p:nvPr/>
        </p:nvSpPr>
        <p:spPr>
          <a:xfrm>
            <a:off x="4230000" y="5423400"/>
            <a:ext cx="45468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 Box 105"/>
          <p:cNvSpPr/>
          <p:nvPr/>
        </p:nvSpPr>
        <p:spPr>
          <a:xfrm>
            <a:off x="4206960" y="5681520"/>
            <a:ext cx="360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被除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104"/>
          <p:cNvSpPr/>
          <p:nvPr/>
        </p:nvSpPr>
        <p:spPr>
          <a:xfrm>
            <a:off x="4696920" y="5423400"/>
            <a:ext cx="45468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105"/>
          <p:cNvSpPr/>
          <p:nvPr/>
        </p:nvSpPr>
        <p:spPr>
          <a:xfrm>
            <a:off x="4714920" y="5681520"/>
            <a:ext cx="36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除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104"/>
          <p:cNvSpPr/>
          <p:nvPr/>
        </p:nvSpPr>
        <p:spPr>
          <a:xfrm>
            <a:off x="5084280" y="5407200"/>
            <a:ext cx="45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 Box 105"/>
          <p:cNvSpPr/>
          <p:nvPr/>
        </p:nvSpPr>
        <p:spPr>
          <a:xfrm>
            <a:off x="5076720" y="5681520"/>
            <a:ext cx="3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商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3" descr="20-2"/>
          <p:cNvPicPr/>
          <p:nvPr/>
        </p:nvPicPr>
        <p:blipFill>
          <a:blip r:embed="rId1"/>
          <a:stretch/>
        </p:blipFill>
        <p:spPr>
          <a:xfrm>
            <a:off x="1806480" y="3083040"/>
            <a:ext cx="5578560" cy="14983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2"/>
          <p:cNvSpPr/>
          <p:nvPr/>
        </p:nvSpPr>
        <p:spPr>
          <a:xfrm>
            <a:off x="1979640" y="4627440"/>
            <a:ext cx="54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竹笋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放一盘，能放（     ）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29"/>
          <p:cNvSpPr/>
          <p:nvPr/>
        </p:nvSpPr>
        <p:spPr>
          <a:xfrm>
            <a:off x="5819760" y="462744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2916360" y="506088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除法算式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÷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617400" y="1370160"/>
            <a:ext cx="7320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深化除法算式中各部分的理解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Rectangle 14"/>
          <p:cNvSpPr/>
          <p:nvPr/>
        </p:nvSpPr>
        <p:spPr>
          <a:xfrm>
            <a:off x="1816200" y="3111480"/>
            <a:ext cx="2665440" cy="655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9" name="Group 28"/>
          <p:cNvGrpSpPr/>
          <p:nvPr/>
        </p:nvGrpSpPr>
        <p:grpSpPr>
          <a:xfrm>
            <a:off x="539640" y="2133720"/>
            <a:ext cx="5761080" cy="1309680"/>
            <a:chOff x="539640" y="2133720"/>
            <a:chExt cx="5761080" cy="1309680"/>
          </a:xfrm>
        </p:grpSpPr>
        <p:pic>
          <p:nvPicPr>
            <p:cNvPr id="280" name="Picture 26" descr="未标题-014"/>
            <p:cNvPicPr/>
            <p:nvPr/>
          </p:nvPicPr>
          <p:blipFill>
            <a:blip r:embed="rId2"/>
            <a:stretch/>
          </p:blipFill>
          <p:spPr>
            <a:xfrm>
              <a:off x="539640" y="2133720"/>
              <a:ext cx="144792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AutoShape 27"/>
            <p:cNvSpPr/>
            <p:nvPr/>
          </p:nvSpPr>
          <p:spPr>
            <a:xfrm>
              <a:off x="2124000" y="2135160"/>
              <a:ext cx="4176720" cy="891000"/>
            </a:xfrm>
            <a:prstGeom prst="wedgeRoundRectCallout">
              <a:avLst>
                <a:gd name="adj1" fmla="val -57555"/>
                <a:gd name="adj2" fmla="val 218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！如果我想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竹笋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放一盘，能放几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2" name="Group 31"/>
          <p:cNvGrpSpPr/>
          <p:nvPr/>
        </p:nvGrpSpPr>
        <p:grpSpPr>
          <a:xfrm>
            <a:off x="5796000" y="3573360"/>
            <a:ext cx="3095640" cy="2225520"/>
            <a:chOff x="5796000" y="3573360"/>
            <a:chExt cx="3095640" cy="2225520"/>
          </a:xfrm>
        </p:grpSpPr>
        <p:pic>
          <p:nvPicPr>
            <p:cNvPr id="283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367760" y="3573360"/>
              <a:ext cx="15238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27"/>
            <p:cNvSpPr/>
            <p:nvPr/>
          </p:nvSpPr>
          <p:spPr>
            <a:xfrm>
              <a:off x="5796000" y="5302440"/>
              <a:ext cx="3095640" cy="496440"/>
            </a:xfrm>
            <a:prstGeom prst="wedgeRoundRectCallout">
              <a:avLst>
                <a:gd name="adj1" fmla="val 17023"/>
                <a:gd name="adj2" fmla="val -115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列出除法算式，说一说算式的意思，并说说算式中各部分的名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5" name="Rectangle 14"/>
          <p:cNvSpPr/>
          <p:nvPr/>
        </p:nvSpPr>
        <p:spPr>
          <a:xfrm>
            <a:off x="1816200" y="3911760"/>
            <a:ext cx="2665440" cy="655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578480" y="3111480"/>
            <a:ext cx="2814480" cy="655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4578480" y="3911760"/>
            <a:ext cx="2814480" cy="655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 Box 104"/>
          <p:cNvSpPr/>
          <p:nvPr/>
        </p:nvSpPr>
        <p:spPr>
          <a:xfrm>
            <a:off x="4230000" y="5423400"/>
            <a:ext cx="45468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Text Box 105"/>
          <p:cNvSpPr/>
          <p:nvPr/>
        </p:nvSpPr>
        <p:spPr>
          <a:xfrm>
            <a:off x="4206960" y="5681520"/>
            <a:ext cx="360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被除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Text Box 104"/>
          <p:cNvSpPr/>
          <p:nvPr/>
        </p:nvSpPr>
        <p:spPr>
          <a:xfrm>
            <a:off x="4696920" y="5423400"/>
            <a:ext cx="45468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105"/>
          <p:cNvSpPr/>
          <p:nvPr/>
        </p:nvSpPr>
        <p:spPr>
          <a:xfrm>
            <a:off x="4714920" y="5681520"/>
            <a:ext cx="360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除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104"/>
          <p:cNvSpPr/>
          <p:nvPr/>
        </p:nvSpPr>
        <p:spPr>
          <a:xfrm>
            <a:off x="5084280" y="5407200"/>
            <a:ext cx="45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105"/>
          <p:cNvSpPr/>
          <p:nvPr/>
        </p:nvSpPr>
        <p:spPr>
          <a:xfrm>
            <a:off x="5076720" y="5681520"/>
            <a:ext cx="3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</a:rPr>
              <a:t>商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创设情境，引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2692440" y="3222720"/>
            <a:ext cx="2105640" cy="2958120"/>
            <a:chOff x="2692440" y="3222720"/>
            <a:chExt cx="2105640" cy="2958120"/>
          </a:xfrm>
        </p:grpSpPr>
        <p:sp>
          <p:nvSpPr>
            <p:cNvPr id="297" name="Text Box 36"/>
            <p:cNvSpPr/>
            <p:nvPr/>
          </p:nvSpPr>
          <p:spPr>
            <a:xfrm>
              <a:off x="2950560" y="3222720"/>
              <a:ext cx="1847520" cy="29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，分成了（   ）份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，分成了（   ）份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，分成了（   ）份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3349800" y="37656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9" name="Text Box 36"/>
            <p:cNvSpPr/>
            <p:nvPr/>
          </p:nvSpPr>
          <p:spPr>
            <a:xfrm>
              <a:off x="2978280" y="47275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0" name="Rectangle 33"/>
            <p:cNvSpPr/>
            <p:nvPr/>
          </p:nvSpPr>
          <p:spPr>
            <a:xfrm>
              <a:off x="3968640" y="37656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1" name="Rectangle 33"/>
            <p:cNvSpPr/>
            <p:nvPr/>
          </p:nvSpPr>
          <p:spPr>
            <a:xfrm>
              <a:off x="3349800" y="48132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2" name="Rectangle 33"/>
            <p:cNvSpPr/>
            <p:nvPr/>
          </p:nvSpPr>
          <p:spPr>
            <a:xfrm>
              <a:off x="3968640" y="48132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3" name="Rectangle 33"/>
            <p:cNvSpPr/>
            <p:nvPr/>
          </p:nvSpPr>
          <p:spPr>
            <a:xfrm>
              <a:off x="2692440" y="481320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4" name="Text Box 36"/>
            <p:cNvSpPr/>
            <p:nvPr/>
          </p:nvSpPr>
          <p:spPr>
            <a:xfrm>
              <a:off x="2978280" y="571824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5" name="Rectangle 33"/>
            <p:cNvSpPr/>
            <p:nvPr/>
          </p:nvSpPr>
          <p:spPr>
            <a:xfrm>
              <a:off x="3349800" y="580392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>
              <a:off x="3968640" y="580392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2692440" y="5803920"/>
              <a:ext cx="3603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7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练习中深化除法算式的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784080" y="1736640"/>
            <a:ext cx="7320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分一分，填一填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Oval 21"/>
          <p:cNvSpPr/>
          <p:nvPr/>
        </p:nvSpPr>
        <p:spPr>
          <a:xfrm>
            <a:off x="1403280" y="2460600"/>
            <a:ext cx="3952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Oval 24"/>
          <p:cNvSpPr/>
          <p:nvPr/>
        </p:nvSpPr>
        <p:spPr>
          <a:xfrm>
            <a:off x="1887480" y="2460600"/>
            <a:ext cx="3970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Oval 25"/>
          <p:cNvSpPr/>
          <p:nvPr/>
        </p:nvSpPr>
        <p:spPr>
          <a:xfrm>
            <a:off x="2371680" y="2460600"/>
            <a:ext cx="3970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Oval 26"/>
          <p:cNvSpPr/>
          <p:nvPr/>
        </p:nvSpPr>
        <p:spPr>
          <a:xfrm>
            <a:off x="2855880" y="2460600"/>
            <a:ext cx="3970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Oval 27"/>
          <p:cNvSpPr/>
          <p:nvPr/>
        </p:nvSpPr>
        <p:spPr>
          <a:xfrm>
            <a:off x="3341520" y="2460600"/>
            <a:ext cx="3952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Oval 28"/>
          <p:cNvSpPr/>
          <p:nvPr/>
        </p:nvSpPr>
        <p:spPr>
          <a:xfrm>
            <a:off x="3825720" y="2460600"/>
            <a:ext cx="3952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Oval 29"/>
          <p:cNvSpPr/>
          <p:nvPr/>
        </p:nvSpPr>
        <p:spPr>
          <a:xfrm>
            <a:off x="4309920" y="2460600"/>
            <a:ext cx="3952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Oval 30"/>
          <p:cNvSpPr/>
          <p:nvPr/>
        </p:nvSpPr>
        <p:spPr>
          <a:xfrm>
            <a:off x="4794120" y="2460600"/>
            <a:ext cx="3970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Oval 31"/>
          <p:cNvSpPr/>
          <p:nvPr/>
        </p:nvSpPr>
        <p:spPr>
          <a:xfrm>
            <a:off x="5278320" y="2460600"/>
            <a:ext cx="3970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Oval 32"/>
          <p:cNvSpPr/>
          <p:nvPr/>
        </p:nvSpPr>
        <p:spPr>
          <a:xfrm>
            <a:off x="5762520" y="2460600"/>
            <a:ext cx="3970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Oval 33"/>
          <p:cNvSpPr/>
          <p:nvPr/>
        </p:nvSpPr>
        <p:spPr>
          <a:xfrm>
            <a:off x="6248520" y="2460600"/>
            <a:ext cx="3952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Oval 34"/>
          <p:cNvSpPr/>
          <p:nvPr/>
        </p:nvSpPr>
        <p:spPr>
          <a:xfrm>
            <a:off x="6732720" y="2460600"/>
            <a:ext cx="395280" cy="3952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4383000" y="3260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3924360" y="3708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 Box 39"/>
          <p:cNvSpPr/>
          <p:nvPr/>
        </p:nvSpPr>
        <p:spPr>
          <a:xfrm>
            <a:off x="3335400" y="369900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40"/>
          <p:cNvSpPr/>
          <p:nvPr/>
        </p:nvSpPr>
        <p:spPr>
          <a:xfrm>
            <a:off x="4383000" y="4264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41"/>
          <p:cNvSpPr/>
          <p:nvPr/>
        </p:nvSpPr>
        <p:spPr>
          <a:xfrm>
            <a:off x="3941640" y="473868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3309840" y="473868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 Box 43"/>
          <p:cNvSpPr/>
          <p:nvPr/>
        </p:nvSpPr>
        <p:spPr>
          <a:xfrm>
            <a:off x="2622600" y="473868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4383000" y="52722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 Box 45"/>
          <p:cNvSpPr/>
          <p:nvPr/>
        </p:nvSpPr>
        <p:spPr>
          <a:xfrm>
            <a:off x="2630160" y="572760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300480" y="5727600"/>
            <a:ext cx="4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3932280" y="572760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4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03Z</dcterms:modified>
  <cp:revision>40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