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CA8-1EE9-4DBD-98CC-C5024BCF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8380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FF59-C89E-4456-A7F1-F0C07B63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07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380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8207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762E-891F-464F-89F7-63365295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660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93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8380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660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93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8B8-C156-4F57-B49D-7B8C2536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F68F-C26F-4075-B1B6-4C50B0C5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A0CE-749E-43AD-8BDF-1B138BC3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D8BA-5C02-4853-B03D-6EB168D2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B013-BD4B-4D03-9CBD-42904CC4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9B08-F848-479E-AF33-57374A4B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209680" y="1519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166D-27F9-4F66-98A2-9A438551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207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D300-9BCB-4E57-B4D6-E631C138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374-345B-4E67-A8E2-430E5D84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207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34C3-83CE-4102-AB05-4796EF39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111E-3A90-47EF-BD34-D3A62FFB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B16D-6AFB-4DC6-B4C0-1EBCE8AC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207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97A6-72DD-4C60-9903-FDC92544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6608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3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6608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93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4830-A660-4A55-ADAC-AFB407B1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0F5C-6E78-4F5F-82CF-A4F3A268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E09-3BBD-45D0-A9D8-BBDE20C5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1026-E245-4273-ADA8-22D95B9A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09680" y="15192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39D-AB63-4798-B1A0-0D3B88C6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5FF-F231-47BB-A14A-CAFF2BDE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2076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98E-09AC-4514-9737-5CCDF862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AD5-47FF-4D1D-9598-EBBC821A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1519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4B70-04D6-48A6-96B5-C7CDE6C077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组合 3078"/>
          <p:cNvGrpSpPr/>
          <p:nvPr/>
        </p:nvGrpSpPr>
        <p:grpSpPr>
          <a:xfrm>
            <a:off x="228600" y="152280"/>
            <a:ext cx="914400" cy="762120"/>
            <a:chOff x="228600" y="152280"/>
            <a:chExt cx="914400" cy="762120"/>
          </a:xfrm>
        </p:grpSpPr>
        <p:sp>
          <p:nvSpPr>
            <p:cNvPr id="6" name="菱形 3079"/>
            <p:cNvSpPr/>
            <p:nvPr/>
          </p:nvSpPr>
          <p:spPr>
            <a:xfrm>
              <a:off x="228600" y="152280"/>
              <a:ext cx="914400" cy="762120"/>
            </a:xfrm>
            <a:prstGeom prst="diamond">
              <a:avLst/>
            </a:prstGeom>
            <a:blipFill rotWithShape="0">
              <a:blip r:embed="rId2"/>
              <a:srcRect/>
              <a:stretch/>
            </a:blip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流程图: 排序 3080"/>
            <p:cNvSpPr/>
            <p:nvPr/>
          </p:nvSpPr>
          <p:spPr>
            <a:xfrm>
              <a:off x="457200" y="152280"/>
              <a:ext cx="457200" cy="762120"/>
            </a:xfrm>
            <a:prstGeom prst="flowChartSort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1219320" y="1066680"/>
            <a:ext cx="7086600" cy="360"/>
            <a:chOff x="1219320" y="1066680"/>
            <a:chExt cx="7086600" cy="360"/>
          </a:xfrm>
        </p:grpSpPr>
        <p:sp>
          <p:nvSpPr>
            <p:cNvPr id="9" name="直接连接符 3081"/>
            <p:cNvSpPr/>
            <p:nvPr/>
          </p:nvSpPr>
          <p:spPr>
            <a:xfrm>
              <a:off x="1219320" y="1066680"/>
              <a:ext cx="708660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1219320" y="1066680"/>
              <a:ext cx="7086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1295280" y="609480"/>
            <a:ext cx="685800" cy="360"/>
            <a:chOff x="1295280" y="609480"/>
            <a:chExt cx="685800" cy="360"/>
          </a:xfrm>
        </p:grpSpPr>
        <p:sp>
          <p:nvSpPr>
            <p:cNvPr id="12" name="直接连接符 3082"/>
            <p:cNvSpPr/>
            <p:nvPr/>
          </p:nvSpPr>
          <p:spPr>
            <a:xfrm>
              <a:off x="1295280" y="609480"/>
              <a:ext cx="685800" cy="0"/>
            </a:xfrm>
            <a:prstGeom prst="line">
              <a:avLst/>
            </a:prstGeom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 txBox="1"/>
            <p:nvPr/>
          </p:nvSpPr>
          <p:spPr>
            <a:xfrm>
              <a:off x="1295280" y="60948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矩形 3083"/>
          <p:cNvSpPr/>
          <p:nvPr/>
        </p:nvSpPr>
        <p:spPr>
          <a:xfrm>
            <a:off x="0" y="6705720"/>
            <a:ext cx="6477120" cy="1522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矩形 3084"/>
          <p:cNvSpPr/>
          <p:nvPr/>
        </p:nvSpPr>
        <p:spPr>
          <a:xfrm>
            <a:off x="6553080" y="6705720"/>
            <a:ext cx="2590920" cy="1522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1BA4-5837-4EE0-9F4F-CD5F5E3035A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F3CA-0CAD-4E3D-93DB-612FCE791DC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19564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财 务 分 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图片 2051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2133720" cy="1797120"/>
          </a:xfrm>
          <a:prstGeom prst="rect">
            <a:avLst/>
          </a:prstGeom>
          <a:ln w="0">
            <a:noFill/>
          </a:ln>
        </p:spPr>
      </p:pic>
      <p:sp>
        <p:nvSpPr>
          <p:cNvPr id="95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169720" y="2782800"/>
            <a:ext cx="5257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二、案例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一、内 容 框 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二、考点讲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9047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三、案 例 分 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720" y="1523520"/>
            <a:ext cx="4572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0000"/>
                </a:solidFill>
                <a:latin typeface="Times New Roman"/>
              </a:rPr>
              <a:t>第 二 部 分</a:t>
            </a:r>
            <a:endParaRPr b="0" i="1" lang="en-US" sz="5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90920" y="3581280"/>
            <a:ext cx="487656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华文隶书"/>
                <a:ea typeface="华文隶书"/>
              </a:rPr>
              <a:t>企 业 并 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017800" y="2859120"/>
            <a:ext cx="4876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</a:rPr>
              <a:t>一、基础知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75777"/>
          <p:cNvSpPr/>
          <p:nvPr/>
        </p:nvSpPr>
        <p:spPr>
          <a:xfrm>
            <a:off x="22096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00"/>
                </a:solidFill>
                <a:latin typeface="宋体"/>
              </a:rPr>
              <a:t>二、案例分析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398320" y="2172960"/>
            <a:ext cx="4876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b2b2b2"/>
                </a:solidFill>
                <a:latin typeface="Times New Roman"/>
              </a:rPr>
              <a:t>第 三 部 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矩形 92162"/>
          <p:cNvSpPr/>
          <p:nvPr/>
        </p:nvSpPr>
        <p:spPr>
          <a:xfrm>
            <a:off x="2514600" y="388620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  <a:ea typeface="华文隶书"/>
              </a:rPr>
              <a:t>资 金 管 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093760" y="2858760"/>
            <a:ext cx="5105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Times New Roman"/>
              </a:rPr>
              <a:t>一、基础知识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2:11Z</dcterms:created>
  <dc:creator/>
  <dc:description/>
  <cp:keywords>财务 分析</cp:keywords>
  <dc:language>en-US</dc:language>
  <cp:lastModifiedBy>An</cp:lastModifiedBy>
  <dcterms:modified xsi:type="dcterms:W3CDTF">2016-05-01T01:02:1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