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B409-0D51-4011-9CCF-3C540F359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BBD0-5188-4454-8B8C-277F7EF6C5F4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8E94-4247-4647-8B35-87A7238E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365-2BEF-4EAF-B2F9-FAE086B8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B12A-AA00-45E6-8367-E554C966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82A-1DB4-4FEB-8A8A-96E2A33E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B621-6DDA-43D2-AEC4-67441A8B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8778-C7B5-49CE-9643-06CD4060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50B8-BDD3-4874-82B5-B10AEB3A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822D-F90E-4807-AA1C-EFCE6C13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733D-9811-464A-B996-F57C3AD7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17B8-B387-4756-8127-66C9B727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A3D7-1F09-4B0B-8CB1-99EC3293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3C5-D2A5-4CAA-94F0-CC67D58B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70DD-D86D-4461-B981-17968B6B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6A1E-4925-414F-BCE8-72D6F71D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D930-A7E6-4C5F-9270-704B3D20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A99A-6F03-4978-BB69-54286EBD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8375-C4E5-4CF2-8F99-9D04FDED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20A-0DB7-46F0-A7F7-DB1D5780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918-1D3A-49BF-8D52-6ABDE033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DEF-42E2-465A-AB7A-05C2D22E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572-60D8-4205-BDE4-FCC5B1BE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FCDB-D9DD-4E23-86EC-9DF6E002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D1E-9485-4864-B146-F16D0519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A670-F066-4DE5-A1C3-2152DA53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3A05-72F1-4E51-A1B1-A8C25CA73F5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E1A7-E624-4EAD-81B2-E0482FBC8EA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066680" y="259092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</a:t>
            </a:r>
            <a:r>
              <a:rPr b="1" lang="en-US" sz="8800" spc="-1" strike="noStrike">
                <a:solidFill>
                  <a:srgbClr val="5b5249"/>
                </a:solidFill>
                <a:latin typeface="华文新魏"/>
                <a:ea typeface="华文新魏"/>
              </a:rPr>
              <a:t>18   </a:t>
            </a:r>
            <a:r>
              <a:rPr b="1" lang="zh-CN" sz="8800" spc="-1" strike="noStrike">
                <a:solidFill>
                  <a:srgbClr val="5b5249"/>
                </a:solidFill>
                <a:latin typeface="华文新魏"/>
                <a:ea typeface="华文新魏"/>
              </a:rPr>
              <a:t>称 赞      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4788000" y="1844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2326320" y="5877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5b5249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4419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刺  猬  板  凳  糙</a:t>
            </a:r>
            <a:br>
              <a:rPr sz="4400"/>
            </a:br>
            <a:r>
              <a:rPr b="0" lang="zh-CN" sz="44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 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但  傍  椅  瞧  留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600200" y="18730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ì     wèi    bǎn  dèng   cāo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600200" y="39625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dàn   bàng    yǐ    qiáo    li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2302200" y="2043000"/>
            <a:ext cx="453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刺  猬  板  凳  糙</a:t>
            </a:r>
            <a:br>
              <a:rPr sz="4400"/>
            </a:br>
            <a:r>
              <a:rPr b="0" lang="zh-CN" sz="44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 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但  傍  椅  瞧  留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5" descr="F:\haha\返回\back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211720"/>
            <a:ext cx="1676160" cy="1341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小刺猬走到小獾身边，拿起板凳仔细地看了看。他对小獾说：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你真能干，小板凳做的一个比一个好！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小刺猬走到小獾身边，拿起板凳仔细地看了看。他对小獾说：</a:t>
            </a:r>
            <a:r>
              <a:rPr b="1" lang="zh-CN" sz="4000" spc="-1" strike="noStrike">
                <a:solidFill>
                  <a:srgbClr val="fc7d5a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c7d5a"/>
                </a:solidFill>
                <a:latin typeface="楷体_GB2312"/>
                <a:ea typeface="楷体_GB2312"/>
              </a:rPr>
              <a:t>你真能干，小板凳做得一个比一个好！</a:t>
            </a:r>
            <a:r>
              <a:rPr b="1" lang="zh-CN" sz="4000" spc="-1" strike="noStrike">
                <a:solidFill>
                  <a:srgbClr val="fc7d5a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625320" y="6308640"/>
            <a:ext cx="74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143000" y="16765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小獾拉着小刺猬的手，说：</a:t>
            </a:r>
            <a:r>
              <a:rPr b="1" lang="zh-CN" sz="4000" spc="-1" strike="noStrike">
                <a:solidFill>
                  <a:srgbClr val="fc7d5a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c7d5a"/>
                </a:solidFill>
                <a:latin typeface="楷体_GB2312"/>
                <a:ea typeface="楷体_GB2312"/>
              </a:rPr>
              <a:t>在我有点儿泄气的时候，是你称赞了我，让我有了自信。瞧，我已经学会做椅子了。这是我的一点儿心意，收下吧。</a:t>
            </a:r>
            <a:r>
              <a:rPr b="1" lang="zh-CN" sz="4000" spc="-1" strike="noStrike">
                <a:solidFill>
                  <a:srgbClr val="fc7d5a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990720" y="14479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小獾接过苹果闻了闻，说：</a:t>
            </a:r>
            <a:r>
              <a:rPr b="1" lang="zh-CN" sz="4000" spc="-1" strike="noStrike">
                <a:solidFill>
                  <a:srgbClr val="fc7d5a"/>
                </a:solidFill>
                <a:latin typeface="Times New Roman"/>
                <a:ea typeface="楷体_GB2312"/>
              </a:rPr>
              <a:t>“你的苹果香极了，我从来没有见过这么好的苹果。”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143000" y="3505320"/>
            <a:ext cx="7696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小刺猬也高兴极了，说：</a:t>
            </a:r>
            <a:r>
              <a:rPr b="1" lang="zh-CN" sz="4000" spc="-1" strike="noStrike">
                <a:solidFill>
                  <a:srgbClr val="fc7d5a"/>
                </a:solidFill>
                <a:latin typeface="Times New Roman"/>
                <a:ea typeface="楷体_GB2312"/>
              </a:rPr>
              <a:t>“谢谢你，你的称赞消除了我一天的疲劳！”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4D01-DC78-4523-9D8E-6EE24603B60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08:05:38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6:04:44Z</dcterms:modified>
  <cp:revision>7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