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72776"/>
              </a:solidFill>
              <a:latin typeface="Comic Sans MS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Comic Sans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Comic Sans M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Comic Sans MS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26A3-A567-4E33-83F2-6CA4E6211CFA}" type="slidenum">
              <a:rPr b="0" lang="zh-CN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83B9-F8DD-4CA9-A29A-B282145376D3}" type="slidenum">
              <a:rPr b="0" lang="zh-CN" sz="1200" spc="-1" strike="noStrike">
                <a:solidFill>
                  <a:srgbClr val="272776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FE3A-9CE9-4858-AA03-7CC934907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AB23-DE09-433C-BFF7-B531DB52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C7B22-9D77-4746-8C70-89B99CDF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D6B2D-0ABE-4CFA-830B-0D5D1BE3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32B61-3C54-46A6-9C8D-C6CCFE24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62852-36FE-42BA-BB06-8271508B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42636-82CA-4B05-A23A-CFB5DDA1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09115-7C81-4395-94A6-F0D16608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9092A-45E6-499B-B85F-CF951FD1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26C658-BC0D-4837-9C76-7D8ECAA00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0CB44-0C80-41B7-AC62-7F07C2E4C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A6CB04-33A2-4614-995C-7CCE94B95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3C8F-6990-4A3F-BC7D-ED5B2CF82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609220-EDD7-49ED-88C9-493B7BDB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24A8B7-8F0F-46A0-A7F9-DFF7DC2F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8AB08-CA98-430B-BA4F-D85F1479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D23922-BB0D-4D0F-AB10-24A1E180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085FA-8B48-4919-A92B-0F34A9AB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47499D-A04B-4144-B38F-569548E4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1608F-AF40-40E9-A738-AD7EBAC9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C1E064-4C20-4FF4-A21A-1FC8B1F0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27B50E-9033-44F4-986C-732D629E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3F1B99-548F-4B16-9576-33098C23D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1824-24C8-41AA-AAA0-A8CE8B7D6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F2568-36AA-4336-BD51-94375373E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E0EAD-A246-4001-82F7-DB85156D9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32521-93BB-4661-B3E5-16C92CA0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1C7B1-B542-4568-AC79-01E2B3E8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896A6-0AEC-44A0-87E6-462835AA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F0D81-6785-435A-9F35-FBED8CDA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13490-58CC-4A44-A572-DD432354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366D0-3898-48DF-BFD2-2849F9C2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8ED7F-DA96-4E2D-8FB7-CC1A009F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F5A3BD-B95C-474A-8C0E-EE174178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2573-88ED-4C86-9E40-951DF4051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56A5D-309D-48A7-BB08-8BA587F8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9C074-5C6C-499E-8948-F5FFDE050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1FC84-CE51-4A45-8C5C-EF2844C83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9DA41A-9F3F-4AF1-9A21-DBF498370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86543-4C4D-4ABB-B478-5B93ED83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01E39F-0A3A-4775-BCF7-9B1945DB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5A1D8D-92C1-465C-B106-C5A9E28A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0242F8-CEDC-48F5-81BC-A3919A0F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5B20CF-A0C1-4041-93D6-DE350E94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8A6BFD-4E58-4349-AF3D-E27DB7E4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C853-FB5A-4D2B-8E5A-BF211369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D52E3F-B680-4940-AA27-F44530A2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28DCB5-CCC0-4136-9495-EF7B84AC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B999D4-F1C2-4B62-8D65-6172D500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10A62C-ECDB-47E5-B7DA-131FC353E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076754-C2C4-4485-B207-49D60C71A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025BF3-C3A9-44E5-B83A-2D789425C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7E90DF-0B9E-4F36-9FD6-8D777992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1CEBD1-28BA-4D74-B36A-13AC048B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4796A6-C35F-40CD-AB37-4EF19BB2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B25DB8-D3DA-4921-9687-9BC3481F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6B17-9EB8-47AF-8202-6F8AEABF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6BF669-3397-4BB7-9B46-2EEC3A10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BDDE54-B524-43C1-A700-0A022E4A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0C680A-7860-42E5-8A01-F63E2F33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1BBC49-2645-4639-B4FA-2C0839F9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5CA6DC-48AC-4C89-8AC2-EABF84CB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F791EA-DE21-4FD9-A3A4-8C07C4D4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FF6735-53AF-4816-93E8-41E1783A2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B7DF38-7BD9-4667-8267-A44B86BB1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641D0A-01C1-4AC3-90F5-BBED7BB2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E64D18-FD3E-4A60-9B5B-BC256D64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37FA-89CF-418E-B92C-5A1A4A36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9B8CD9-2D5D-4EA3-826C-B16A6B74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188974-5350-4F41-98CA-0DF65CDF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C4B4CF-39A8-4B9F-9497-B34132BA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F70129-2664-44DE-B87A-9801CEFE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82D17B-87C4-4F36-A5AF-451692AF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53C9F6-2CCF-4FF9-8BC7-68E82553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911D25-EFB7-45D6-AD11-4498BD8D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2EADA9-A83A-4FC4-A2F0-A3AC8073C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CC91D1-865F-413B-9862-5D057C0FF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99AF-D7EF-4820-8DBF-66B88F58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FE26-C085-4E87-AAE6-215C76F5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D402-3624-4BD6-9F73-4EC1EEB5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43ED-F421-4F2E-BE17-7BCD1A29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A40E2-43D9-4756-AB05-2D189400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4AF8-E5A2-4ABB-9435-E31482AE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6DA9-EB4B-4685-9192-D0148E53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656B-3194-497B-B89C-EE1132346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7A02-B1E2-4463-9FD4-C395F92AC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063CA-835D-449B-B8F5-998992D1E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A7B9A-0924-4C6A-8348-808AA2E1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C5097-BCCC-42DB-9C71-A126DBCD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97FF8-0EAC-4622-AD6B-38752BAE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4137D-30A7-4B70-A474-D2EBB157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B9C0-0930-4CB0-B213-B1CFF1F1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CDA5D-ACF7-46D6-A2FA-2EAE9D66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6611A-6CBE-48D6-A685-82F08196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D9724-9466-4377-A47D-D8CB66EE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51A76-9DC6-4945-85A5-E21D6D01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76C11-6061-454D-A78E-E6A99874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68AEC-E87B-4875-A357-1DAC61487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64308-64EE-4AB7-9C05-DCC747D83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D10AB-4C9A-4327-BD87-A8EA2A1B7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F955B-E0C1-4EB2-9FB1-D029E554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B0EB6-3744-4B70-9265-DEF76725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5AE8-6D82-4ED5-896D-C2E19E9F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849F1-58D1-4E48-8641-5CDAA034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58C7B-99DD-4A61-9E89-D9AF4E23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E32BB-9494-40FB-8D73-3FF3231B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5D490-920B-4C7F-8869-B99F0ED2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18D38-65C4-4381-A988-DCB05ABC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D16FD-5D64-4880-BB86-F387F747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4EF5A-0B97-4CEB-A753-F3CAFA91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B0B64-2808-4B06-939B-E737CE30F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C6167-0143-4329-9583-0F4C79651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B36C3-C62D-426A-ABFE-F8BA8977C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A622-FFE0-431F-8BA2-2A0F8CB8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A5647-7E24-4DC0-BD33-7D6A0759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6AC20-503E-4D6F-B064-5AE4064B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A5C90-1187-4B0E-953C-C00418F6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69D81-0390-4714-9B81-F7338296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04301-1A01-4CDE-BE2D-BD57A3C7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49CD5-5A77-4FC6-B590-138FEBF5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E8280-B247-4817-A16F-5B4B3DFC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BDF2F-C641-46AE-8CE7-FD1C1FD2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362A6-5512-4A8F-8CA8-0A7382F7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8AA21-D1C0-4CEA-9ACF-9A07C1B11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103D-E2CE-4846-928C-4A566792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4CABF-5115-4528-89C0-CE2A32284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2D70E-BE33-4008-ABDA-D61C0A2FD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7B4EB-6FA0-4584-8CEE-AABE925B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7E3C1-FB5C-4538-B31C-C2E38310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AA86F-EA93-4635-8AD9-38642850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F5184-A6F5-420E-A675-B01098C8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C71B8-E54A-4726-B29D-288AA395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09083-7E25-4918-B33E-2308E3A2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B1F0C-329F-445E-9271-C87B2592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C2705-95D4-4B19-8E0F-901B3C99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3635-5FBE-4D7C-AED6-84D04CD2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4EED2-FAB9-4042-ADAC-80BA75F0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A59D3-3A26-45B3-BF89-0493FBCE5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1F28F-7CE4-42ED-85A9-8F4DC3FF3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CCDD0-47E3-49F8-8BD1-2353A4D9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31B95-ACD2-4EFC-BBD7-D8527017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9D766-B8FF-47F4-AE3B-8B13CA7A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F63F6-060B-4AD7-A0AE-77C567ED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FA90C-6196-41FC-8FB4-F80042D9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912B8-E77B-4BE1-8F74-849CF338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A72DC-BB7D-4E0E-9E13-9B3B1177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435D-6BCB-409C-98FC-46E1EE94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71410-8AB2-45F7-A62E-7F4BC395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5C71C-9B84-4BD7-A932-60340975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2B86B-5C9E-48C2-847A-B8515FAB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F44CC-3D57-43DB-A1A3-FBA71A406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17D65-EDE0-429E-A53E-68E7C38AB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10D7C-C706-4260-A45C-01523F3DB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1AC6B-04B6-4D99-A340-2E78FAFC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1B166-51C5-42B5-AC44-8A6CE4C5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1C375-FEBE-4172-925D-6717D6C3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F4B4B-E348-4B9A-AE88-0CDE4750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07A9-407E-47CE-8C8E-4927F957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FDB2B-DCCE-4D20-83F2-266DD290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EDE69-4A3A-4D62-8A6F-2E24B5BE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AB97C-5B08-4341-9823-FDAA09AF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5461D-30E0-4FF7-A284-A849CC49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9B067-A305-4513-BC8B-4D291541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740A9-31F7-4C85-B5CB-D6724D39E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3C1D7-C89B-4E8B-9B11-5E4F0F225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6C8F3-B68E-4849-B900-503E6FD74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896C9-3C35-455F-A105-A122E62D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604D3-4109-4D7E-8FFA-624E57EF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D064-78CB-424E-BBC5-D1EC442C129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Comic Sans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Comic Sans M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ACA6-003C-4EF8-BC63-FA98110B60E9}" type="slidenum">
              <a:rPr b="0" lang="zh-CN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Comic Sans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Comic Sans M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7E59-7737-42E9-AC4C-E92AF38DC294}" type="slidenum">
              <a:rPr b="0" lang="zh-CN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Comic Sans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Comic Sans MS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723B-2A94-457A-A27D-FBAD273B66E9}" type="slidenum">
              <a:rPr b="0" lang="zh-CN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Comic Sans M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Comic Sans MS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D85D-7E40-4372-BFB7-57969AEDB598}" type="slidenum">
              <a:rPr b="0" lang="zh-CN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Comic Sans MS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Comic Sans MS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BE40-ABDF-430D-8640-FDF8EED9938F}" type="slidenum">
              <a:rPr b="0" lang="zh-CN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A802-9B11-4677-A2B8-263B9F0AF30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2776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27277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5C28-1BA1-4F5B-9456-30A63A5CFD9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FB6D-AD51-4917-A766-7BA60E702D8C}" type="slidenum">
              <a:rPr b="0" lang="zh-CN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Comic Sans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Comic Sans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563A-60E3-4958-BA9D-3DBEE33167D0}" type="slidenum">
              <a:rPr b="0" lang="zh-CN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Comic Sans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Comic Sans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A96C-4B93-49D4-8E0A-9AC19D410EF7}" type="slidenum">
              <a:rPr b="0" lang="zh-CN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Comic Sans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Comic Sans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E3A1-8606-4591-A9EA-33EE620B4A18}" type="slidenum">
              <a:rPr b="0" lang="zh-CN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Comic Sans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Comic Sans M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7D0A-B7C0-42D3-8180-0EB3366AE806}" type="slidenum">
              <a:rPr b="0" lang="zh-CN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Comic Sans M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Comic Sans M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40AF-1235-452D-93A3-69A75CAD8B60}" type="slidenum">
              <a:rPr b="0" lang="zh-CN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矩形 3"/>
          <p:cNvSpPr/>
          <p:nvPr/>
        </p:nvSpPr>
        <p:spPr>
          <a:xfrm>
            <a:off x="2877480" y="981000"/>
            <a:ext cx="300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e5"/>
                </a:solidFill>
                <a:latin typeface="华文中宋"/>
                <a:ea typeface="华文中宋"/>
              </a:rPr>
              <a:t>电 和 磁</a:t>
            </a:r>
            <a:endParaRPr b="0" lang="en-US" sz="9600" spc="-1" strike="noStrike">
              <a:solidFill>
                <a:srgbClr val="272776"/>
              </a:solidFill>
              <a:latin typeface="Comic Sans MS"/>
            </a:endParaRPr>
          </a:p>
        </p:txBody>
      </p:sp>
      <p:sp>
        <p:nvSpPr>
          <p:cNvPr id="584" name="矩形 4"/>
          <p:cNvSpPr/>
          <p:nvPr/>
        </p:nvSpPr>
        <p:spPr>
          <a:xfrm>
            <a:off x="1893600" y="5877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e5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e5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272776"/>
              </a:solidFill>
              <a:latin typeface="Comic Sans MS"/>
            </a:endParaRPr>
          </a:p>
        </p:txBody>
      </p:sp>
      <p:pic>
        <p:nvPicPr>
          <p:cNvPr id="585" name="图片 5" descr=""/>
          <p:cNvPicPr/>
          <p:nvPr/>
        </p:nvPicPr>
        <p:blipFill>
          <a:blip r:embed="rId1"/>
          <a:stretch/>
        </p:blipFill>
        <p:spPr>
          <a:xfrm>
            <a:off x="1838160" y="2852640"/>
            <a:ext cx="547056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870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72776"/>
                </a:solidFill>
                <a:latin typeface="Century Gothic"/>
                <a:ea typeface="宋体"/>
              </a:rPr>
              <a:t>奥斯特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995280" y="1395000"/>
            <a:ext cx="4753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Century Gothic"/>
                <a:ea typeface="宋体"/>
              </a:rPr>
              <a:t>          </a:t>
            </a:r>
            <a:r>
              <a:rPr b="0" lang="en-US" sz="3200" spc="-1" strike="noStrike">
                <a:solidFill>
                  <a:srgbClr val="272776"/>
                </a:solidFill>
                <a:latin typeface="Century Gothic"/>
                <a:ea typeface="宋体"/>
              </a:rPr>
              <a:t>1820</a:t>
            </a:r>
            <a:r>
              <a:rPr b="0" lang="zh-CN" sz="3200" spc="-1" strike="noStrike">
                <a:solidFill>
                  <a:srgbClr val="272776"/>
                </a:solidFill>
                <a:latin typeface="Century Gothic"/>
                <a:ea typeface="宋体"/>
              </a:rPr>
              <a:t>年，丹麦科学家奥斯特在一次实验时，偶然让通电导线靠近指南针，发现了一个奇怪的现象。他发现了一个什么现象呢？</a:t>
            </a:r>
            <a:endParaRPr b="0" lang="en-US" sz="3200" spc="-1" strike="noStrike">
              <a:solidFill>
                <a:srgbClr val="272776"/>
              </a:solidFill>
              <a:latin typeface="Century Gothic"/>
            </a:endParaRPr>
          </a:p>
        </p:txBody>
      </p:sp>
      <p:pic>
        <p:nvPicPr>
          <p:cNvPr id="588" name="Picture 8" descr="2f3295d40a88c312a18bb78d"/>
          <p:cNvPicPr/>
          <p:nvPr/>
        </p:nvPicPr>
        <p:blipFill>
          <a:blip r:embed="rId1"/>
          <a:stretch/>
        </p:blipFill>
        <p:spPr>
          <a:xfrm>
            <a:off x="684360" y="1413000"/>
            <a:ext cx="3213000" cy="41767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0" descr="20071171690983"/>
          <p:cNvPicPr/>
          <p:nvPr/>
        </p:nvPicPr>
        <p:blipFill>
          <a:blip r:embed="rId2"/>
          <a:stretch/>
        </p:blipFill>
        <p:spPr>
          <a:xfrm>
            <a:off x="7740720" y="4869000"/>
            <a:ext cx="8017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72776"/>
                </a:solidFill>
                <a:latin typeface="Century Gothic"/>
                <a:ea typeface="宋体"/>
              </a:rPr>
              <a:t>友情提示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91" name="Text Box 4"/>
          <p:cNvSpPr/>
          <p:nvPr/>
        </p:nvSpPr>
        <p:spPr>
          <a:xfrm>
            <a:off x="250920" y="1557360"/>
            <a:ext cx="871380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72776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27277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272776"/>
                </a:solidFill>
                <a:latin typeface="Times New Roman"/>
              </a:rPr>
              <a:t>）用双手拿住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导线拉直</a:t>
            </a:r>
            <a:r>
              <a:rPr b="1" lang="zh-CN" sz="2800" spc="-1" strike="noStrike">
                <a:solidFill>
                  <a:srgbClr val="272776"/>
                </a:solidFill>
                <a:latin typeface="Times New Roman"/>
              </a:rPr>
              <a:t>靠在指南针的上方，</a:t>
            </a:r>
            <a:r>
              <a:rPr b="1" i="1" lang="zh-CN" sz="2800" spc="-1" strike="noStrike">
                <a:solidFill>
                  <a:srgbClr val="272776"/>
                </a:solidFill>
                <a:latin typeface="Times New Roman"/>
              </a:rPr>
              <a:t>与磁针的方向一致</a:t>
            </a:r>
            <a:r>
              <a:rPr b="1" lang="zh-CN" sz="2800" spc="-1" strike="noStrike">
                <a:solidFill>
                  <a:srgbClr val="27277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272776"/>
              </a:solidFill>
              <a:latin typeface="Comic Sans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72776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27277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272776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指南针静止后</a:t>
            </a:r>
            <a:r>
              <a:rPr b="1" lang="zh-CN" sz="2800" spc="-1" strike="noStrike">
                <a:solidFill>
                  <a:srgbClr val="272776"/>
                </a:solidFill>
                <a:latin typeface="Times New Roman"/>
              </a:rPr>
              <a:t>，闭合开关接通电流，观察指南针有没有变化？断开开关切断电流，观察指南针有什么变化？</a:t>
            </a:r>
            <a:endParaRPr b="0" lang="en-US" sz="2800" spc="-1" strike="noStrike">
              <a:solidFill>
                <a:srgbClr val="272776"/>
              </a:solidFill>
              <a:latin typeface="Comic Sans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72776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27277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272776"/>
                </a:solidFill>
                <a:latin typeface="Times New Roman"/>
              </a:rPr>
              <a:t>）反复做几次，结果怎样？</a:t>
            </a:r>
            <a:endParaRPr b="0" lang="en-US" sz="2800" spc="-1" strike="noStrike">
              <a:solidFill>
                <a:srgbClr val="272776"/>
              </a:solidFill>
              <a:latin typeface="Comic Sans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7277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71280" y="475920"/>
            <a:ext cx="68706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72776"/>
                </a:solidFill>
                <a:latin typeface="Century Gothic"/>
                <a:ea typeface="宋体"/>
              </a:rPr>
              <a:t>电路短路实验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93" name="Text Box 5"/>
          <p:cNvSpPr/>
          <p:nvPr/>
        </p:nvSpPr>
        <p:spPr>
          <a:xfrm>
            <a:off x="1332000" y="2349360"/>
            <a:ext cx="6624720" cy="916560"/>
          </a:xfrm>
          <a:prstGeom prst="rect">
            <a:avLst/>
          </a:prstGeom>
          <a:noFill/>
          <a:ln w="9360">
            <a:solidFill>
              <a:srgbClr val="f3f1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52e"/>
                </a:solidFill>
                <a:latin typeface="Comic Sans MS"/>
              </a:rPr>
              <a:t>提示：</a:t>
            </a:r>
            <a:r>
              <a:rPr b="1" lang="zh-CN" sz="4000" spc="-1" strike="noStrike">
                <a:solidFill>
                  <a:srgbClr val="272776"/>
                </a:solidFill>
                <a:latin typeface="Comic Sans MS"/>
              </a:rPr>
              <a:t>电路短路，电流很强，电池会很快发热。所以只能接通一下，马上断开，时间不能长。</a:t>
            </a:r>
            <a:endParaRPr b="0" lang="en-US" sz="4000" spc="-1" strike="noStrike">
              <a:solidFill>
                <a:srgbClr val="27277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68706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72776"/>
                </a:solidFill>
                <a:latin typeface="Century Gothic"/>
                <a:ea typeface="宋体"/>
              </a:rPr>
              <a:t>电路短路实验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595" name="Text Box 9"/>
          <p:cNvSpPr/>
          <p:nvPr/>
        </p:nvSpPr>
        <p:spPr>
          <a:xfrm>
            <a:off x="1332000" y="1628640"/>
            <a:ext cx="6912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黑体"/>
              </a:rPr>
              <a:t>提示：</a:t>
            </a:r>
            <a:endParaRPr b="0" lang="en-US" sz="4000" spc="-1" strike="noStrike">
              <a:solidFill>
                <a:srgbClr val="272776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72776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272776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272776"/>
                </a:solidFill>
                <a:latin typeface="黑体"/>
                <a:ea typeface="黑体"/>
              </a:rPr>
              <a:t>）拿掉小灯泡和灯座，保留开关；</a:t>
            </a:r>
            <a:endParaRPr b="0" lang="en-US" sz="4000" spc="-1" strike="noStrike">
              <a:solidFill>
                <a:srgbClr val="272776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72776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272776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272776"/>
                </a:solidFill>
                <a:latin typeface="黑体"/>
                <a:ea typeface="黑体"/>
              </a:rPr>
              <a:t>）一切准备就绪，通电，开关做到一触即放。</a:t>
            </a:r>
            <a:endParaRPr b="0" lang="en-US" sz="4000" spc="-1" strike="noStrike">
              <a:solidFill>
                <a:srgbClr val="27277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矩形 6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27277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27277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27277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27277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27277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27277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27277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27277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27277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27277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272776"/>
              </a:solidFill>
              <a:latin typeface="Comic Sans MS"/>
            </a:endParaRPr>
          </a:p>
        </p:txBody>
      </p:sp>
      <p:pic>
        <p:nvPicPr>
          <p:cNvPr id="597" name="Picture 9" descr="IMGP0047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402920" y="-360"/>
            <a:ext cx="68706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72776"/>
                </a:solidFill>
                <a:latin typeface="Century Gothic"/>
                <a:ea typeface="宋体"/>
              </a:rPr>
              <a:t>线圈对磁针偏转影响实验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68706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72776"/>
                </a:solidFill>
                <a:latin typeface="Century Gothic"/>
                <a:ea typeface="宋体"/>
              </a:rPr>
              <a:t>友情提示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539640" y="1268280"/>
            <a:ext cx="806472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Comic Sans MS"/>
              </a:rPr>
              <a:t>用线圈替代电路中的一根电线</a:t>
            </a:r>
            <a:endParaRPr b="0" lang="en-US" sz="3200" spc="-1" strike="noStrike">
              <a:solidFill>
                <a:srgbClr val="272776"/>
              </a:solidFill>
              <a:latin typeface="Comic Sans MS"/>
            </a:endParaRPr>
          </a:p>
          <a:p>
            <a:pPr>
              <a:lnSpc>
                <a:spcPct val="13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72776"/>
                </a:solidFill>
                <a:latin typeface="Comic Sans MS"/>
              </a:rPr>
              <a:t>（</a:t>
            </a:r>
            <a:r>
              <a:rPr b="1" lang="en-US" sz="3200" spc="-1" strike="noStrike">
                <a:solidFill>
                  <a:srgbClr val="272776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272776"/>
                </a:solidFill>
                <a:latin typeface="Comic Sans MS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线圈与磁针方向一致</a:t>
            </a:r>
            <a:r>
              <a:rPr b="1" lang="zh-CN" sz="3200" spc="-1" strike="noStrike">
                <a:solidFill>
                  <a:srgbClr val="272776"/>
                </a:solidFill>
                <a:latin typeface="Comic Sans MS"/>
              </a:rPr>
              <a:t>，线圈与一根导线相比哪个使磁针偏转角度更大？ </a:t>
            </a:r>
            <a:endParaRPr b="0" lang="en-US" sz="3200" spc="-1" strike="noStrike">
              <a:solidFill>
                <a:srgbClr val="272776"/>
              </a:solidFill>
              <a:latin typeface="Comic Sans MS"/>
            </a:endParaRPr>
          </a:p>
          <a:p>
            <a:pPr>
              <a:lnSpc>
                <a:spcPct val="13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72776"/>
                </a:solidFill>
                <a:latin typeface="Comic Sans MS"/>
              </a:rPr>
              <a:t>（</a:t>
            </a:r>
            <a:r>
              <a:rPr b="1" lang="en-US" sz="3200" spc="-1" strike="noStrike">
                <a:solidFill>
                  <a:srgbClr val="272776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272776"/>
                </a:solidFill>
                <a:latin typeface="Comic Sans MS"/>
              </a:rPr>
              <a:t>）线圈可以采用平放和竖放等方式，磁针可以放在线圈里面，也可以放在前后左右等位置，观察记录磁针偏转的方向。哪一种方法磁针偏转的角度最大？</a:t>
            </a:r>
            <a:endParaRPr b="0" lang="en-US" sz="3200" spc="-1" strike="noStrike">
              <a:solidFill>
                <a:srgbClr val="27277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870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72776"/>
                </a:solidFill>
                <a:latin typeface="Century Gothic"/>
                <a:ea typeface="宋体"/>
              </a:rPr>
              <a:t>奥斯特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140000" y="1341000"/>
            <a:ext cx="4105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Century Gothic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272776"/>
                </a:solidFill>
                <a:latin typeface="Century Gothic"/>
                <a:ea typeface="宋体"/>
              </a:rPr>
              <a:t>奥斯特发现通电导线会使磁针发生偏转现象以后，他接连三个月深入研究，终于搞明白了电产生磁。这为人类大规模的开发和利用电能打开了大门。 </a:t>
            </a:r>
            <a:endParaRPr b="0" lang="en-US" sz="2800" spc="-1" strike="noStrike">
              <a:solidFill>
                <a:srgbClr val="272776"/>
              </a:solidFill>
              <a:latin typeface="Century Gothic"/>
            </a:endParaRPr>
          </a:p>
        </p:txBody>
      </p:sp>
      <p:pic>
        <p:nvPicPr>
          <p:cNvPr id="603" name="Picture 4" descr="2f3295d40a88c312a18bb78d"/>
          <p:cNvPicPr/>
          <p:nvPr/>
        </p:nvPicPr>
        <p:blipFill>
          <a:blip r:embed="rId1"/>
          <a:stretch/>
        </p:blipFill>
        <p:spPr>
          <a:xfrm>
            <a:off x="684360" y="1413000"/>
            <a:ext cx="3213000" cy="4176720"/>
          </a:xfrm>
          <a:prstGeom prst="rect">
            <a:avLst/>
          </a:prstGeom>
          <a:ln w="0">
            <a:noFill/>
          </a:ln>
        </p:spPr>
      </p:pic>
      <p:sp>
        <p:nvSpPr>
          <p:cNvPr id="604" name="文本框 1"/>
          <p:cNvSpPr/>
          <p:nvPr/>
        </p:nvSpPr>
        <p:spPr>
          <a:xfrm>
            <a:off x="1284120" y="6089760"/>
            <a:ext cx="607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72776"/>
                </a:solidFill>
                <a:latin typeface="Comic Sans MS"/>
              </a:rPr>
              <a:t>更多免费</a:t>
            </a:r>
            <a:r>
              <a:rPr b="0" lang="zh-CN" sz="1800" spc="-1" strike="noStrike">
                <a:solidFill>
                  <a:srgbClr val="272776"/>
                </a:solidFill>
                <a:latin typeface="Comic Sans MS"/>
              </a:rPr>
              <a:t>PPT</a:t>
            </a:r>
            <a:r>
              <a:rPr b="0" lang="zh-CN" sz="1800" spc="-1" strike="noStrike">
                <a:solidFill>
                  <a:srgbClr val="272776"/>
                </a:solidFill>
                <a:latin typeface="Comic Sans MS"/>
              </a:rPr>
              <a:t>模板下载：</a:t>
            </a:r>
            <a:r>
              <a:rPr b="0" lang="zh-CN" sz="1800" spc="-1" strike="noStrike">
                <a:solidFill>
                  <a:srgbClr val="272776"/>
                </a:solidFill>
                <a:latin typeface="Comic Sans MS"/>
              </a:rPr>
              <a:t>http://www.eeppt.com</a:t>
            </a:r>
            <a:endParaRPr b="0" lang="en-US" sz="1800" spc="-1" strike="noStrike">
              <a:solidFill>
                <a:srgbClr val="27277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72776"/>
                </a:solidFill>
                <a:latin typeface="Century Gothic"/>
              </a:rPr>
              <a:t>使用规范说明</a:t>
            </a:r>
            <a:endParaRPr b="0" lang="en-US" sz="44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站点介绍：</a:t>
            </a:r>
            <a:endParaRPr b="0" lang="en-US" sz="14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entury Gothic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entury Gothic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entury Gothic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entury Gothic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entury Gothic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entury Gothic"/>
              </a:rPr>
              <a:t> </a:t>
            </a:r>
            <a:r>
              <a:rPr b="0" lang="zh-CN" sz="1400" spc="-1" strike="noStrike" u="sng">
                <a:solidFill>
                  <a:srgbClr val="3333cc"/>
                </a:solidFill>
                <a:uFillTx/>
                <a:latin typeface="Century Gothic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3333cc"/>
                </a:solidFill>
                <a:uFillTx/>
                <a:latin typeface="Century Gothic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特别说明：</a:t>
            </a:r>
            <a:endParaRPr b="0" lang="en-US" sz="14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栏目推荐：</a:t>
            </a:r>
            <a:endParaRPr b="0" lang="en-US" sz="14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entury Gothic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entury Gothic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http://www.eeppt.com/dongtai/</a:t>
            </a:r>
            <a:endParaRPr b="0" lang="en-US" sz="12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entury Gothic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http://www.eeppt.com/moban/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entury Gothic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http://www.eeppt.com/moban/chuangyi/</a:t>
            </a:r>
            <a:endParaRPr b="0" lang="en-US" sz="12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entury Gothic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entury Gothic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http://www.eeppt.com/moban/gongzuo/</a:t>
            </a:r>
            <a:endParaRPr b="0" lang="en-US" sz="12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entury Gothic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entury Gothic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entury Gothic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kejian/</a:t>
            </a:r>
            <a:endParaRPr b="0" lang="en-US" sz="12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entury Gothic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entury Gothic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http://www.eeppt.com/moban/shangwu/</a:t>
            </a:r>
            <a:endParaRPr b="0" lang="en-US" sz="12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entury Gothic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Century Gothic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http://www.eeppt.com/sucai/</a:t>
            </a:r>
            <a:endParaRPr b="0" lang="en-US" sz="12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Century Gothic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http://www.eeppt.com/moban/fengjing/</a:t>
            </a:r>
            <a:endParaRPr b="0" lang="en-US" sz="12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http://www.eeppt.com/moban/jianjie/</a:t>
            </a:r>
            <a:endParaRPr b="0" lang="en-US" sz="12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http://www.eeppt.com/moban/jiaoyu/</a:t>
            </a:r>
            <a:endParaRPr b="0" lang="en-US" sz="12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http://www.eeppt.com/moban/lunwen/</a:t>
            </a:r>
            <a:endParaRPr b="0" lang="en-US" sz="12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entury Gothic"/>
              </a:rPr>
              <a:t>http://www.eeppt.com/moban/yiliao/</a:t>
            </a:r>
            <a:endParaRPr b="0" lang="en-US" sz="12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7277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72776"/>
              </a:solidFill>
              <a:latin typeface="Century Gothic"/>
            </a:endParaRPr>
          </a:p>
        </p:txBody>
      </p:sp>
      <p:sp>
        <p:nvSpPr>
          <p:cNvPr id="6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72776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272776"/>
              </a:solidFill>
              <a:latin typeface="Comic Sans MS"/>
            </a:endParaRPr>
          </a:p>
        </p:txBody>
      </p:sp>
      <p:sp>
        <p:nvSpPr>
          <p:cNvPr id="60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2CE4-AD53-4019-A40A-D88B089A462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7277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59:5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2:18Z</dcterms:modified>
  <cp:revision>2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NXTAG2">
    <vt:lpwstr>000800d606000000000001024120</vt:lpwstr>
  </property>
</Properties>
</file>