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Baseball%20startup.wav" ContentType="audio/x-wav"/>
  <Override PartName="/ppt/media/drumroll.wav" ContentType="audio/x-wav"/>
  <Override PartName="/ppt/media/Underwater%20beep.wav" ContentType="audio/x-wav"/>
  <Override PartName="/ppt/media/type.wav" ContentType="audio/x-wav"/>
  <Override PartName="/ppt/media/Inside%20your%20Computer%20beep.wav" ContentType="audio/x-wav"/>
  <Override PartName="/ppt/media/Baseball%20question.wav" ContentType="audio/x-wav"/>
  <Override PartName="/ppt/media/image2.jpeg" ContentType="image/jpeg"/>
  <Override PartName="/ppt/media/Inside%20your%20Computer%20minimize.wav" ContentType="audio/x-wav"/>
  <Override PartName="/ppt/media/Nature%20critical%20stop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2E9-9C90-4CAC-9567-F2A20E6C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C7E-DD46-4BFF-AEBB-93401EF1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835-91EE-4F0D-9A2F-6D3B0CDF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4DB-72FC-4034-9B15-9720E9AD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B70A-3E7E-46A0-BDFB-81EAF1BE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EE0E-2382-4931-A9EB-AE90CF67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AC37-2A13-4C32-8DDD-CC3B1BD8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CEC8-7B0D-4DF4-A19B-7FC3407C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7F2-0DC2-4340-B253-E4507E3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556-8893-435D-88B8-64FB9300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D156-EE59-40AF-B85E-AB3B670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5C4-AFD9-4813-ACFA-AF6E727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AC34-DB6B-4FC6-98B2-06C06B9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684-6A93-440A-B10E-CDF2F4D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5BA2-7F0E-419D-98C4-AA292960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5E6-F668-4EF0-AEDA-96B750D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8ECD-5DEA-4ED8-BBD9-FF9C512D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858-E3CD-49C0-BCC4-623DD19C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15C-8454-44D8-92FC-B64D1946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192-2679-4F23-92B1-DF48598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6DB-24CC-47D2-B869-5BB2639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2D8-5821-4516-BC17-D8DB86D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743-6A72-4F0A-83C9-DD6E44C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1B1-2992-4E77-B932-F3DF98DF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6F2F-E424-49AE-A9C6-4A3A75AD7D0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EAA6-A79D-4409-AD53-9A3CC47613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428D-4F59-4A26-A610-C3703D0F27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aseball%20startup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Inside%20your%20Computer%20minimiz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Nature%20critical%20stop.wav"/><Relationship Id="rId2" Type="http://schemas.openxmlformats.org/officeDocument/2006/relationships/audio" Target="../media/Underwater%20beep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Inside%20your%20Computer%20beep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Inside%20your%20Computer%20beep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Inside%20your%20Computer%20beep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aseball%20startup.wav"/><Relationship Id="rId3" Type="http://schemas.openxmlformats.org/officeDocument/2006/relationships/audio" Target="../media/type.wav"/><Relationship Id="rId4" Type="http://schemas.openxmlformats.org/officeDocument/2006/relationships/audio" Target="../media/Baseball%20question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XXX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會書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XX-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組員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aseball%20startup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天后寶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區廟宇也有好幾所，浪船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天后廟；滘西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洪聖古廟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天后廟；白沙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觀音廟和車公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大受居民信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每年的四月份就是天后寶誕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居民為了慶祝天后誕，就會在天后廟前搭起戲棚，會請來著名的粵劇團來演戲給居民欣賞，增添熱鬧的氣氛，而大多數的觀眾也是年老的一輩，代表年青人未懂得欣賞中國民間的藝術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联机映像占位符 3081" descr="7"/>
          <p:cNvPicPr/>
          <p:nvPr/>
        </p:nvPicPr>
        <p:blipFill>
          <a:blip r:embed="rId1"/>
          <a:stretch/>
        </p:blipFill>
        <p:spPr>
          <a:xfrm>
            <a:off x="4343400" y="2308320"/>
            <a:ext cx="4495680" cy="3003480"/>
          </a:xfrm>
          <a:prstGeom prst="rect">
            <a:avLst/>
          </a:prstGeom>
          <a:ln w="0">
            <a:noFill/>
          </a:ln>
        </p:spPr>
      </p:pic>
      <p:sp>
        <p:nvSpPr>
          <p:cNvPr id="8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side%20your%20Computer%20min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小小的漁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是我的出生地，在我出生前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是一個小小的漁港，有不少的漁船在港灣生活，在這時也是一個繁榮的小都市。到我出生後，因南中國海的漁獲減少，令到漁民生計受到極大影響，所以大部份漁民把自己的漁船賣掉上岸另尋生計，到現在再看不到漁村的風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nderwater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旅遊重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現在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發展成為一個旅遊地區，每到假期都有大批旅遊人士到此遊覽。到每年的夏天，這個季節來旅遊的人士更多，因為沿海一帶有不少水清沙幼的泳灘，給巿民享用，還有很多中或西式的遊艇給遊人租用，到遠處欣賞海灣的風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nside%20your%20Computer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旅遊重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除了有不少玩樂的地方，大小食肆林立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原本是一個漁村，所以最著名的是海鮮，在近幾年來，海鮮業發展迅速，在海旁一帶，海鮮店和飯店成行成巿，每逢假日，在海旁你會看到人山人海的遊客，比得上中環的皇后像廣場一樣熱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nside%20your%20Computer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旅遊重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大部份郊野公園分佈整條西沙公路旁，西沙公路設在山邊沿海，所以在這些郊野公園旅遊燒烤，環境優美，空氣清新，一面活動，又可以看到海灣的風光，多寧靜又休閒，使你們可以拋開繁忙的工作，享受一下健康無休的假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nside%20your%20Computer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PMingLiU"/>
              </a:rPr>
              <a:t>總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XX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一個旅遊的好去處，若你有空餘的時間，不妨到此一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对象 9220" descr=""/>
          <p:cNvPicPr/>
          <p:nvPr/>
        </p:nvPicPr>
        <p:blipFill>
          <a:blip r:embed="rId1"/>
          <a:stretch/>
        </p:blipFill>
        <p:spPr>
          <a:xfrm>
            <a:off x="5248440" y="0"/>
            <a:ext cx="3895560" cy="3676680"/>
          </a:xfrm>
          <a:prstGeom prst="rect">
            <a:avLst/>
          </a:prstGeom>
          <a:ln w="0">
            <a:noFill/>
          </a:ln>
        </p:spPr>
      </p:pic>
      <p:sp>
        <p:nvSpPr>
          <p:cNvPr id="1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seball%20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seball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7:01Z</dcterms:created>
  <dc:creator/>
  <dc:description/>
  <cp:keywords>地理报告</cp:keywords>
  <dc:language>en-US</dc:language>
  <cp:lastModifiedBy>An</cp:lastModifiedBy>
  <dcterms:modified xsi:type="dcterms:W3CDTF">2016-05-01T00:37:0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