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9.jpeg" ContentType="image/jpeg"/>
  <Override PartName="/ppt/media/image11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0.png" ContentType="image/png"/>
  <Override PartName="/ppt/media/image36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12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5325-3A51-4457-A82F-23656DFE4E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EC40-3D55-4C6B-9C5E-70553EBC89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A2E-9AC4-47D9-BBFC-3EA945E3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569-B723-4F11-B1D0-55C3FD60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7125-625F-4357-B4B1-E340ED70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C39-D6DE-43A8-8949-5030495C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376-34F4-4654-8AFB-1EC5F2A4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F76-6FB1-4B16-B990-7B04F1FB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5757-21A1-49D1-83DA-23D11AFA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EA2C-A190-4905-8EB9-9503CF07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882-BD56-4C9F-B1A6-18CCDA4C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8E6C-C123-487F-A0E5-09350D7A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F3F-ECC6-4369-9C73-D323975B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59E-A652-4DDC-A9EC-14C038A7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CC64-DEEA-40F5-A46F-E29F964B5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" Target="slide33.xml"/><Relationship Id="rId5" Type="http://schemas.openxmlformats.org/officeDocument/2006/relationships/image" Target="../media/image18.png"/><Relationship Id="rId6" Type="http://schemas.openxmlformats.org/officeDocument/2006/relationships/slide" Target="slide9.xml"/><Relationship Id="rId7" Type="http://schemas.openxmlformats.org/officeDocument/2006/relationships/image" Target="../media/image19.png"/><Relationship Id="rId8" Type="http://schemas.openxmlformats.org/officeDocument/2006/relationships/slide" Target="slide7.xml"/><Relationship Id="rId9" Type="http://schemas.openxmlformats.org/officeDocument/2006/relationships/image" Target="../media/image20.png"/><Relationship Id="rId10" Type="http://schemas.openxmlformats.org/officeDocument/2006/relationships/slide" Target="slide23.xml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5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ews.qq.com/a/20100414/003127_2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tech.enorth.com.cn/system/2009/07/27/004140096.shtml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6.png"/><Relationship Id="rId4" Type="http://schemas.openxmlformats.org/officeDocument/2006/relationships/image" Target="../media/image38.png"/><Relationship Id="rId5" Type="http://schemas.openxmlformats.org/officeDocument/2006/relationships/image" Target="../media/image36.png"/><Relationship Id="rId6" Type="http://schemas.openxmlformats.org/officeDocument/2006/relationships/image" Target="../media/image39.png"/><Relationship Id="rId7" Type="http://schemas.openxmlformats.org/officeDocument/2006/relationships/image" Target="../media/image36.png"/><Relationship Id="rId8" Type="http://schemas.openxmlformats.org/officeDocument/2006/relationships/image" Target="../media/image40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dqb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412920" y="1773360"/>
            <a:ext cx="83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b0f0"/>
                </a:solidFill>
                <a:latin typeface="微软雅黑"/>
                <a:ea typeface="微软雅黑"/>
              </a:rPr>
              <a:t>地球内部运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b0f0"/>
                </a:solidFill>
                <a:latin typeface="微软雅黑"/>
                <a:ea typeface="微软雅黑"/>
              </a:rPr>
              <a:t>引起的地形变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192760" y="60055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001e4fdb81bf098cb06903"/>
          <p:cNvPicPr/>
          <p:nvPr/>
        </p:nvPicPr>
        <p:blipFill>
          <a:blip r:embed="rId1"/>
          <a:stretch/>
        </p:blipFill>
        <p:spPr>
          <a:xfrm>
            <a:off x="468360" y="189000"/>
            <a:ext cx="5640480" cy="6408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6520680" y="476280"/>
            <a:ext cx="7898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怕的火山爆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ac1a7a8f199a4fc6f11f36d8"/>
          <p:cNvPicPr/>
          <p:nvPr/>
        </p:nvPicPr>
        <p:blipFill>
          <a:blip r:embed="rId1"/>
          <a:stretch/>
        </p:blipFill>
        <p:spPr>
          <a:xfrm>
            <a:off x="324000" y="254160"/>
            <a:ext cx="6235560" cy="6349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7168320" y="476280"/>
            <a:ext cx="7898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猛烈的火山爆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538fe6ff72f088095d6008ed"/>
          <p:cNvPicPr/>
          <p:nvPr/>
        </p:nvPicPr>
        <p:blipFill>
          <a:blip r:embed="rId1"/>
          <a:stretch/>
        </p:blipFill>
        <p:spPr>
          <a:xfrm>
            <a:off x="863640" y="260280"/>
            <a:ext cx="4572000" cy="6318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6160320" y="476280"/>
            <a:ext cx="7898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壮观的火山喷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长白山天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长白山天池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日本富士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富士山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地震前后遥感图片2jpg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4959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0" y="5516640"/>
            <a:ext cx="9144000" cy="8650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2124000" y="55897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11640" y="4941720"/>
            <a:ext cx="285840" cy="257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651640" y="3284640"/>
            <a:ext cx="360360" cy="20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164360" y="3573360"/>
            <a:ext cx="289080" cy="187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>
            <a:off x="7576920" y="189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3">
            <a:hlinkClick r:id="rId2" action="ppaction://hlinksldjump"/>
          </p:cNvPr>
          <p:cNvSpPr/>
          <p:nvPr/>
        </p:nvSpPr>
        <p:spPr>
          <a:xfrm>
            <a:off x="824400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1030" y="10800"/>
                </a:moveTo>
                <a:lnTo>
                  <a:pt x="25042" y="3794"/>
                </a:lnTo>
                <a:lnTo>
                  <a:pt x="25042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tjs2"/>
          <p:cNvPicPr/>
          <p:nvPr/>
        </p:nvPicPr>
        <p:blipFill>
          <a:blip r:embed="rId3"/>
          <a:stretch/>
        </p:blipFill>
        <p:spPr>
          <a:xfrm>
            <a:off x="611280" y="620640"/>
            <a:ext cx="7850160" cy="56674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276720" y="64008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地震堰塞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320070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1332000" y="549360"/>
            <a:ext cx="5976720" cy="703440"/>
          </a:xfrm>
          <a:prstGeom prst="rect">
            <a:avLst/>
          </a:prstGeom>
          <a:solidFill>
            <a:srgbClr val="00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青海省玉树县 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7.1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级地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200882112465847332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1_200904241453441Au58"/>
          <p:cNvPicPr/>
          <p:nvPr/>
        </p:nvPicPr>
        <p:blipFill>
          <a:blip r:embed="rId2"/>
          <a:stretch/>
        </p:blipFill>
        <p:spPr>
          <a:xfrm>
            <a:off x="464328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W020080615301104686184"/>
          <p:cNvPicPr/>
          <p:nvPr/>
        </p:nvPicPr>
        <p:blipFill>
          <a:blip r:embed="rId1"/>
          <a:stretch/>
        </p:blipFill>
        <p:spPr>
          <a:xfrm>
            <a:off x="0" y="2465280"/>
            <a:ext cx="4427640" cy="4392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e262af0f9e639fc6aa6457f5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716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1761840" y="92232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裂   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学教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几个事例中，火山和地震使地形发生了什么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4000" y="2205000"/>
          <a:ext cx="8286480" cy="4054320"/>
        </p:xfrm>
        <a:graphic>
          <a:graphicData uri="http://schemas.openxmlformats.org/drawingml/2006/table">
            <a:tbl>
              <a:tblPr/>
              <a:tblGrid>
                <a:gridCol w="1655280"/>
                <a:gridCol w="1584360"/>
                <a:gridCol w="5046840"/>
              </a:tblGrid>
              <a:tr h="103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事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生的地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生了什么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事例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事例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事例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震毁坏我们的家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20087319223580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</a:rPr>
              <a:t>防震知识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避震6招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400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692360" y="18900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室外遇到地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IMAG12106683588375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9144000" cy="5650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476360" y="44280"/>
            <a:ext cx="57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室内遇到地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arth2"/>
          <p:cNvPicPr/>
          <p:nvPr/>
        </p:nvPicPr>
        <p:blipFill>
          <a:blip r:embed="rId1"/>
          <a:stretch/>
        </p:blipFill>
        <p:spPr>
          <a:xfrm>
            <a:off x="71280" y="549360"/>
            <a:ext cx="5796000" cy="5796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6372360" y="156996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443640" y="2781360"/>
            <a:ext cx="122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443640" y="4522680"/>
            <a:ext cx="11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4572000" y="1916280"/>
            <a:ext cx="1944720" cy="0"/>
          </a:xfrm>
          <a:prstGeom prst="line">
            <a:avLst/>
          </a:prstGeom>
          <a:ln w="76320">
            <a:solidFill>
              <a:srgbClr val="ff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4427640" y="3068640"/>
            <a:ext cx="2160360" cy="0"/>
          </a:xfrm>
          <a:prstGeom prst="line">
            <a:avLst/>
          </a:prstGeom>
          <a:ln w="76320">
            <a:solidFill>
              <a:srgbClr val="ff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961040" y="31212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地球的内部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3348000" y="3860280"/>
            <a:ext cx="3095280" cy="936720"/>
            <a:chOff x="3348000" y="3860280"/>
            <a:chExt cx="3095280" cy="936720"/>
          </a:xfrm>
        </p:grpSpPr>
        <p:sp>
          <p:nvSpPr>
            <p:cNvPr id="126" name="Line 10"/>
            <p:cNvSpPr/>
            <p:nvPr/>
          </p:nvSpPr>
          <p:spPr>
            <a:xfrm>
              <a:off x="4271040" y="4797000"/>
              <a:ext cx="217224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H="1" flipV="1">
              <a:off x="3348000" y="3860280"/>
              <a:ext cx="923040" cy="936360"/>
            </a:xfrm>
            <a:prstGeom prst="line">
              <a:avLst/>
            </a:prstGeom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25"/>
          <p:cNvGrpSpPr/>
          <p:nvPr/>
        </p:nvGrpSpPr>
        <p:grpSpPr>
          <a:xfrm>
            <a:off x="8388360" y="6308640"/>
            <a:ext cx="755640" cy="549360"/>
            <a:chOff x="8388360" y="6308640"/>
            <a:chExt cx="755640" cy="549360"/>
          </a:xfrm>
        </p:grpSpPr>
        <p:sp>
          <p:nvSpPr>
            <p:cNvPr id="129" name="Rectangle 26"/>
            <p:cNvSpPr/>
            <p:nvPr/>
          </p:nvSpPr>
          <p:spPr>
            <a:xfrm>
              <a:off x="8484120" y="6308640"/>
              <a:ext cx="563760" cy="4932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72727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7"/>
            <p:cNvSpPr/>
            <p:nvPr/>
          </p:nvSpPr>
          <p:spPr>
            <a:xfrm>
              <a:off x="8388360" y="6359760"/>
              <a:ext cx="755640" cy="390240"/>
            </a:xfrm>
            <a:prstGeom prst="rect">
              <a:avLst/>
            </a:prstGeom>
            <a:gradFill rotWithShape="0">
              <a:gsLst>
                <a:gs pos="0">
                  <a:srgbClr val="ffc5e2"/>
                </a:gs>
                <a:gs pos="100000">
                  <a:srgbClr val="ff99cc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8">
              <a:hlinkClick r:id="rId2" action="ppaction://hlinksldjump"/>
            </p:cNvPr>
            <p:cNvSpPr/>
            <p:nvPr/>
          </p:nvSpPr>
          <p:spPr>
            <a:xfrm>
              <a:off x="8445240" y="6327720"/>
              <a:ext cx="641880" cy="456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9"/>
            <p:cNvSpPr/>
            <p:nvPr/>
          </p:nvSpPr>
          <p:spPr>
            <a:xfrm>
              <a:off x="8484120" y="6793200"/>
              <a:ext cx="563760" cy="64800"/>
            </a:xfrm>
            <a:prstGeom prst="rect">
              <a:avLst/>
            </a:prstGeom>
            <a:gradFill rotWithShape="0">
              <a:gsLst>
                <a:gs pos="0">
                  <a:srgbClr val="1c1c1c">
                    <a:alpha val="60392"/>
                  </a:srgbClr>
                </a:gs>
                <a:gs pos="100000">
                  <a:srgbClr val="0c0c0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IMAG1237791524705245"/>
          <p:cNvPicPr/>
          <p:nvPr/>
        </p:nvPicPr>
        <p:blipFill>
          <a:blip r:embed="rId1"/>
          <a:stretch/>
        </p:blipFill>
        <p:spPr>
          <a:xfrm>
            <a:off x="4753080" y="260280"/>
            <a:ext cx="4390920" cy="4390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BKTQ`53QTNM0`HUA%%[5E~Y"/>
          <p:cNvPicPr/>
          <p:nvPr/>
        </p:nvPicPr>
        <p:blipFill>
          <a:blip r:embed="rId2"/>
          <a:stretch/>
        </p:blipFill>
        <p:spPr>
          <a:xfrm>
            <a:off x="324000" y="2349360"/>
            <a:ext cx="5891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世界六大板块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2340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24000" y="59500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些大陆板块就像漂浮在煮沸的热粥上的柚皮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32000" y="189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注意：整个地球表面展开来就是下面的这幅地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067280" y="105264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碰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84360" y="3213000"/>
            <a:ext cx="158292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平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826920" y="371628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分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0" y="-68400"/>
            <a:ext cx="9144000" cy="6994440"/>
            <a:chOff x="0" y="-68400"/>
            <a:chExt cx="9144000" cy="6994440"/>
          </a:xfrm>
        </p:grpSpPr>
        <p:sp>
          <p:nvSpPr>
            <p:cNvPr id="144" name="Rectangle 4"/>
            <p:cNvSpPr/>
            <p:nvPr/>
          </p:nvSpPr>
          <p:spPr>
            <a:xfrm>
              <a:off x="0" y="-68400"/>
              <a:ext cx="8686800" cy="69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5"/>
            <p:cNvGrpSpPr/>
            <p:nvPr/>
          </p:nvGrpSpPr>
          <p:grpSpPr>
            <a:xfrm>
              <a:off x="0" y="-68400"/>
              <a:ext cx="9144000" cy="5406840"/>
              <a:chOff x="0" y="-68400"/>
              <a:chExt cx="9144000" cy="5406840"/>
            </a:xfrm>
          </p:grpSpPr>
          <p:sp>
            <p:nvSpPr>
              <p:cNvPr id="146" name="Rectangle 6"/>
              <p:cNvSpPr/>
              <p:nvPr/>
            </p:nvSpPr>
            <p:spPr>
              <a:xfrm>
                <a:off x="0" y="-68400"/>
                <a:ext cx="8686800" cy="540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7"/>
              <p:cNvSpPr/>
              <p:nvPr/>
            </p:nvSpPr>
            <p:spPr>
              <a:xfrm>
                <a:off x="0" y="-68400"/>
                <a:ext cx="9144000" cy="15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</a:t>
                </a:r>
                <a:r>
                  <a:rPr b="0" lang="en-US" sz="93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8"/>
          <p:cNvGrpSpPr/>
          <p:nvPr/>
        </p:nvGrpSpPr>
        <p:grpSpPr>
          <a:xfrm>
            <a:off x="216000" y="147600"/>
            <a:ext cx="9144000" cy="6994440"/>
            <a:chOff x="216000" y="147600"/>
            <a:chExt cx="9144000" cy="6994440"/>
          </a:xfrm>
        </p:grpSpPr>
        <p:sp>
          <p:nvSpPr>
            <p:cNvPr id="149" name="Rectangle 9"/>
            <p:cNvSpPr/>
            <p:nvPr/>
          </p:nvSpPr>
          <p:spPr>
            <a:xfrm>
              <a:off x="216000" y="147600"/>
              <a:ext cx="8686800" cy="69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10"/>
            <p:cNvGrpSpPr/>
            <p:nvPr/>
          </p:nvGrpSpPr>
          <p:grpSpPr>
            <a:xfrm>
              <a:off x="216000" y="147600"/>
              <a:ext cx="9144000" cy="5406840"/>
              <a:chOff x="216000" y="147600"/>
              <a:chExt cx="9144000" cy="5406840"/>
            </a:xfrm>
          </p:grpSpPr>
          <p:sp>
            <p:nvSpPr>
              <p:cNvPr id="151" name="Rectangle 11"/>
              <p:cNvSpPr/>
              <p:nvPr/>
            </p:nvSpPr>
            <p:spPr>
              <a:xfrm>
                <a:off x="216000" y="147600"/>
                <a:ext cx="8686800" cy="540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12"/>
              <p:cNvSpPr/>
              <p:nvPr/>
            </p:nvSpPr>
            <p:spPr>
              <a:xfrm>
                <a:off x="216000" y="147600"/>
                <a:ext cx="9144000" cy="15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</a:t>
                </a:r>
                <a:r>
                  <a:rPr b="0" lang="en-US" sz="93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Text Box 13"/>
          <p:cNvSpPr/>
          <p:nvPr/>
        </p:nvSpPr>
        <p:spPr>
          <a:xfrm>
            <a:off x="2144160" y="69228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动动手：用书桌上的东西来做板块运动的模拟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539640" y="49417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板块这样的碰撞、分离、平移运动会使地表产生怎样的地形地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468360" y="1557360"/>
            <a:ext cx="7777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两本科学书表示两个大陆板块，把两本书平放在桌面，模拟板块碰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三块橡皮泥叠在一起表示一个大陆板块，把它向两边拉伸，模拟板块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块长方形木块，从中间斜着切开。模拟两块岩层的上下平移、水平平移等不同的平移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喜马拉雅山脉2"/>
          <p:cNvPicPr/>
          <p:nvPr/>
        </p:nvPicPr>
        <p:blipFill>
          <a:blip r:embed="rId1"/>
          <a:stretch/>
        </p:blipFill>
        <p:spPr>
          <a:xfrm>
            <a:off x="250920" y="549360"/>
            <a:ext cx="5545080" cy="54324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1116000" y="62164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喜 马 拉 雅 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5867280" y="0"/>
            <a:ext cx="2700360" cy="31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雄居世界之颠的喜马拉雅山，是印度版块向亚洲版块冲撞挤压后隆起的巨大褶皱。山上那些沉积岩和三叶虫、海葵、石菊等水生物化石，都向我们诉说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年前这里曾经是一片古地中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喜马拉雅山形成"/>
          <p:cNvPicPr/>
          <p:nvPr/>
        </p:nvPicPr>
        <p:blipFill>
          <a:blip r:embed="rId2"/>
          <a:stretch/>
        </p:blipFill>
        <p:spPr>
          <a:xfrm>
            <a:off x="5830920" y="414972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6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一艘渔船漂泊在漫无边际的大西洋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79280" y="5877000"/>
            <a:ext cx="432144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4321440" cy="525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4157640" cy="5111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5"/>
          <a:stretch/>
        </p:blipFill>
        <p:spPr>
          <a:xfrm>
            <a:off x="4716360" y="189000"/>
            <a:ext cx="4248360" cy="338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6"/>
          <a:stretch/>
        </p:blipFill>
        <p:spPr>
          <a:xfrm>
            <a:off x="4859280" y="260280"/>
            <a:ext cx="3995640" cy="3213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7"/>
          <a:stretch/>
        </p:blipFill>
        <p:spPr>
          <a:xfrm>
            <a:off x="4716360" y="3860640"/>
            <a:ext cx="4284720" cy="2521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8"/>
          <a:stretch/>
        </p:blipFill>
        <p:spPr>
          <a:xfrm>
            <a:off x="4932360" y="3933720"/>
            <a:ext cx="3889440" cy="237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"/>
          <p:cNvPicPr/>
          <p:nvPr/>
        </p:nvPicPr>
        <p:blipFill>
          <a:blip r:embed="rId9"/>
          <a:stretch/>
        </p:blipFill>
        <p:spPr>
          <a:xfrm>
            <a:off x="250920" y="5805360"/>
            <a:ext cx="4176720" cy="6271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1"/>
          <p:cNvSpPr/>
          <p:nvPr/>
        </p:nvSpPr>
        <p:spPr>
          <a:xfrm>
            <a:off x="1055160" y="58770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喜马拉雅山中的海洋生物化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284360" y="259920"/>
            <a:ext cx="41050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非洲大陆的卫星照片上科学家惊讶的发现有一条大裂缝。纵穿非洲东部。裂谷宽约几十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里深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谷壁如刀削斧劈一般。总长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里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张裂的平均速度为每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厘米～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厘米。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5589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900000" y="5877000"/>
            <a:ext cx="22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东非大裂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5BPFY}IE$`QJ3Q]D71VSI)N"/>
          <p:cNvPicPr/>
          <p:nvPr/>
        </p:nvPicPr>
        <p:blipFill>
          <a:blip r:embed="rId1"/>
          <a:stretch/>
        </p:blipFill>
        <p:spPr>
          <a:xfrm>
            <a:off x="304920" y="685800"/>
            <a:ext cx="8448480" cy="2895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WJ_S0B}]MJM27$9655_FB3J"/>
          <p:cNvPicPr/>
          <p:nvPr/>
        </p:nvPicPr>
        <p:blipFill>
          <a:blip r:embed="rId2"/>
          <a:stretch/>
        </p:blipFill>
        <p:spPr>
          <a:xfrm>
            <a:off x="3429000" y="3247920"/>
            <a:ext cx="55627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火山和地震能快速改变地形地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火山和地震是由地球内部运动引起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球内部运动造就了自然界的海洋、高山、河流、高原、湖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"/>
          <p:cNvSpPr/>
          <p:nvPr/>
        </p:nvSpPr>
        <p:spPr>
          <a:xfrm>
            <a:off x="457200" y="5662440"/>
            <a:ext cx="66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 rot="5400000">
            <a:off x="2455200" y="2162160"/>
            <a:ext cx="3382920" cy="1741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谢谢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7354-33A3-4AAD-88AF-B532E7997C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u=2565444345,4157838142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755640" y="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971640" y="54936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忽然间远处海水汹涌翻滚，转眼间升腾起数十丈烟柱，弥漫了整个上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苏尔特塞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苏尔特塞岛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406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所罗门群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105520" y="33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所罗门群岛发生里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级地震，在引发海啸造成人员伤亡的同时，将一座名为拉农加的岛屿</a:t>
            </a:r>
            <a:r>
              <a:rPr b="1" lang="zh-CN" sz="3200" spc="-1" strike="noStrike">
                <a:solidFill>
                  <a:srgbClr val="cc3399"/>
                </a:solidFill>
                <a:latin typeface="Arial"/>
              </a:rPr>
              <a:t>突然“拔高”了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cc3399"/>
                </a:solidFill>
                <a:latin typeface="Arial"/>
              </a:rPr>
              <a:t>米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岛屿周围的珊瑚礁受到影响露出水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所罗门群岛地震导致海岛抬升3米 珊瑚礁露出海面(1)"/>
          <p:cNvPicPr/>
          <p:nvPr/>
        </p:nvPicPr>
        <p:blipFill>
          <a:blip r:embed="rId1"/>
          <a:stretch/>
        </p:blipFill>
        <p:spPr>
          <a:xfrm>
            <a:off x="395280" y="1197000"/>
            <a:ext cx="496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震湖1"/>
          <p:cNvPicPr/>
          <p:nvPr/>
        </p:nvPicPr>
        <p:blipFill>
          <a:blip r:embed="rId1"/>
          <a:stretch/>
        </p:blipFill>
        <p:spPr>
          <a:xfrm>
            <a:off x="0" y="1149480"/>
            <a:ext cx="9144000" cy="5708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1763640" y="155520"/>
            <a:ext cx="63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92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宁夏地震形成的湖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755640" y="189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裂缝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871960" y="23184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震产生的裂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2"/>
          <p:cNvGrpSpPr/>
          <p:nvPr/>
        </p:nvGrpSpPr>
        <p:grpSpPr>
          <a:xfrm>
            <a:off x="8440560" y="6512040"/>
            <a:ext cx="721800" cy="691920"/>
            <a:chOff x="8440560" y="6512040"/>
            <a:chExt cx="721800" cy="691920"/>
          </a:xfrm>
        </p:grpSpPr>
        <p:sp>
          <p:nvSpPr>
            <p:cNvPr id="71" name="Oval 13"/>
            <p:cNvSpPr/>
            <p:nvPr/>
          </p:nvSpPr>
          <p:spPr>
            <a:xfrm>
              <a:off x="8550000" y="7023240"/>
              <a:ext cx="514440" cy="18072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4"/>
            <p:cNvSpPr/>
            <p:nvPr/>
          </p:nvSpPr>
          <p:spPr>
            <a:xfrm>
              <a:off x="8555040" y="6512040"/>
              <a:ext cx="475200" cy="4719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5"/>
            <p:cNvSpPr/>
            <p:nvPr/>
          </p:nvSpPr>
          <p:spPr>
            <a:xfrm>
              <a:off x="8565120" y="6515280"/>
              <a:ext cx="420840" cy="417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392"/>
                  </a:srgbClr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6"/>
            <p:cNvSpPr/>
            <p:nvPr/>
          </p:nvSpPr>
          <p:spPr>
            <a:xfrm>
              <a:off x="8633880" y="6538320"/>
              <a:ext cx="315000" cy="3128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17"/>
            <p:cNvGrpSpPr/>
            <p:nvPr/>
          </p:nvGrpSpPr>
          <p:grpSpPr>
            <a:xfrm>
              <a:off x="8440560" y="6573960"/>
              <a:ext cx="721800" cy="402480"/>
              <a:chOff x="8440560" y="6573960"/>
              <a:chExt cx="721800" cy="402480"/>
            </a:xfrm>
          </p:grpSpPr>
          <p:sp>
            <p:nvSpPr>
              <p:cNvPr id="76" name="AutoShape 18"/>
              <p:cNvSpPr/>
              <p:nvPr/>
            </p:nvSpPr>
            <p:spPr>
              <a:xfrm rot="9900000">
                <a:off x="8456040" y="6658560"/>
                <a:ext cx="682200" cy="212760"/>
              </a:xfrm>
              <a:custGeom>
                <a:avLst/>
                <a:gdLst/>
                <a:ahLst/>
                <a:rect l="l" t="t" r="r" b="b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lnTo>
                      <a:pt x="3636" y="182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19"/>
              <p:cNvSpPr/>
              <p:nvPr/>
            </p:nvSpPr>
            <p:spPr>
              <a:xfrm rot="15300000">
                <a:off x="8749800" y="6482880"/>
                <a:ext cx="129960" cy="68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Oval 20">
              <a:hlinkClick r:id="rId2" action="ppaction://hlinksldjump"/>
            </p:cNvPr>
            <p:cNvSpPr/>
            <p:nvPr/>
          </p:nvSpPr>
          <p:spPr>
            <a:xfrm>
              <a:off x="8606880" y="6554880"/>
              <a:ext cx="368280" cy="4381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6"/>
          <p:cNvSpPr/>
          <p:nvPr/>
        </p:nvSpPr>
        <p:spPr>
          <a:xfrm>
            <a:off x="619200" y="1557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火山爆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火山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9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5:54Z</dcterms:modified>
  <cp:revision>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