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23EA-74E4-4B3D-BAF6-CC766D744C2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C42-3842-4A9D-B70C-DD937950AE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166760" y="2071800"/>
            <a:ext cx="378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和千克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239920" y="93672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总复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5" descr="未标题-05"/>
          <p:cNvPicPr/>
          <p:nvPr/>
        </p:nvPicPr>
        <p:blipFill>
          <a:blip r:embed="rId2"/>
          <a:stretch/>
        </p:blipFill>
        <p:spPr>
          <a:xfrm>
            <a:off x="1030320" y="912960"/>
            <a:ext cx="1219320" cy="982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813840" y="60213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DE1-A363-49AE-BDA7-7B4E3828A1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1"/>
          <p:cNvSpPr/>
          <p:nvPr/>
        </p:nvSpPr>
        <p:spPr>
          <a:xfrm>
            <a:off x="1836720" y="5445000"/>
            <a:ext cx="662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746520" y="3483000"/>
            <a:ext cx="115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楷体_GB2312"/>
              </a:rPr>
              <a:t>天平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6845400" y="31780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楷体_GB2312"/>
              </a:rPr>
              <a:t>电子秤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503360" y="6002280"/>
            <a:ext cx="115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楷体_GB2312"/>
              </a:rPr>
              <a:t>磅秤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365720" y="5783400"/>
            <a:ext cx="115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楷体_GB2312"/>
              </a:rPr>
              <a:t>案秤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392880" y="583740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楷体_GB2312"/>
              </a:rPr>
              <a:t>弹簧秤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0" name="Group 29"/>
          <p:cNvGrpSpPr/>
          <p:nvPr/>
        </p:nvGrpSpPr>
        <p:grpSpPr>
          <a:xfrm>
            <a:off x="4284720" y="476280"/>
            <a:ext cx="4370400" cy="1676160"/>
            <a:chOff x="4284720" y="476280"/>
            <a:chExt cx="4370400" cy="1676160"/>
          </a:xfrm>
        </p:grpSpPr>
        <p:sp>
          <p:nvSpPr>
            <p:cNvPr id="131" name="AutoShape 27"/>
            <p:cNvSpPr/>
            <p:nvPr/>
          </p:nvSpPr>
          <p:spPr>
            <a:xfrm>
              <a:off x="4284720" y="476280"/>
              <a:ext cx="2887560" cy="1286280"/>
            </a:xfrm>
            <a:prstGeom prst="wedgeRoundRectCallout">
              <a:avLst>
                <a:gd name="adj1" fmla="val 58749"/>
                <a:gd name="adj2" fmla="val -18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知道物体的轻重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秤称。你见过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几种秤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2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978600" y="47628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Rectangle 8"/>
          <p:cNvSpPr/>
          <p:nvPr/>
        </p:nvSpPr>
        <p:spPr>
          <a:xfrm>
            <a:off x="1558800" y="3092400"/>
            <a:ext cx="135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楷体_GB2312"/>
              </a:rPr>
              <a:t>体重秤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4" name="Group 28"/>
          <p:cNvGrpSpPr/>
          <p:nvPr/>
        </p:nvGrpSpPr>
        <p:grpSpPr>
          <a:xfrm>
            <a:off x="351000" y="1773360"/>
            <a:ext cx="7337160" cy="4467240"/>
            <a:chOff x="351000" y="1773360"/>
            <a:chExt cx="7337160" cy="4467240"/>
          </a:xfrm>
        </p:grpSpPr>
        <p:pic>
          <p:nvPicPr>
            <p:cNvPr id="135" name="Picture 15" descr="未标题-006"/>
            <p:cNvPicPr/>
            <p:nvPr/>
          </p:nvPicPr>
          <p:blipFill>
            <a:blip r:embed="rId2"/>
            <a:stretch/>
          </p:blipFill>
          <p:spPr>
            <a:xfrm>
              <a:off x="351000" y="3697200"/>
              <a:ext cx="3632040" cy="25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6" descr="未标题-3"/>
            <p:cNvPicPr/>
            <p:nvPr/>
          </p:nvPicPr>
          <p:blipFill>
            <a:blip r:embed="rId3"/>
            <a:stretch/>
          </p:blipFill>
          <p:spPr>
            <a:xfrm>
              <a:off x="3341520" y="2063880"/>
              <a:ext cx="194472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7" descr="未标题-004"/>
            <p:cNvPicPr/>
            <p:nvPr/>
          </p:nvPicPr>
          <p:blipFill>
            <a:blip r:embed="rId4"/>
            <a:stretch/>
          </p:blipFill>
          <p:spPr>
            <a:xfrm>
              <a:off x="5845320" y="1989000"/>
              <a:ext cx="184284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8" descr="未标题-02"/>
            <p:cNvPicPr/>
            <p:nvPr/>
          </p:nvPicPr>
          <p:blipFill>
            <a:blip r:embed="rId5"/>
            <a:stretch/>
          </p:blipFill>
          <p:spPr>
            <a:xfrm>
              <a:off x="4311720" y="4229280"/>
              <a:ext cx="108576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2" descr=""/>
            <p:cNvPicPr/>
            <p:nvPr/>
          </p:nvPicPr>
          <p:blipFill>
            <a:blip r:embed="rId6"/>
            <a:stretch/>
          </p:blipFill>
          <p:spPr>
            <a:xfrm>
              <a:off x="826920" y="1773360"/>
              <a:ext cx="179100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6" descr="未标题-1"/>
            <p:cNvPicPr/>
            <p:nvPr/>
          </p:nvPicPr>
          <p:blipFill>
            <a:blip r:embed="rId7"/>
            <a:stretch/>
          </p:blipFill>
          <p:spPr>
            <a:xfrm>
              <a:off x="6615000" y="4156200"/>
              <a:ext cx="93672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30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3" name="Group 29"/>
          <p:cNvGrpSpPr/>
          <p:nvPr/>
        </p:nvGrpSpPr>
        <p:grpSpPr>
          <a:xfrm>
            <a:off x="3868560" y="692280"/>
            <a:ext cx="4619520" cy="1676160"/>
            <a:chOff x="3868560" y="692280"/>
            <a:chExt cx="4619520" cy="1676160"/>
          </a:xfrm>
        </p:grpSpPr>
        <p:sp>
          <p:nvSpPr>
            <p:cNvPr id="144" name="AutoShape 27"/>
            <p:cNvSpPr/>
            <p:nvPr/>
          </p:nvSpPr>
          <p:spPr>
            <a:xfrm>
              <a:off x="3868560" y="1052280"/>
              <a:ext cx="3232080" cy="891000"/>
            </a:xfrm>
            <a:prstGeom prst="wedgeRoundRectCallout">
              <a:avLst>
                <a:gd name="adj1" fmla="val 63694"/>
                <a:gd name="adj2" fmla="val 15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大约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克的物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有什么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5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811560" y="69228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29"/>
          <p:cNvGrpSpPr/>
          <p:nvPr/>
        </p:nvGrpSpPr>
        <p:grpSpPr>
          <a:xfrm>
            <a:off x="3809880" y="692280"/>
            <a:ext cx="4678560" cy="1676160"/>
            <a:chOff x="3809880" y="692280"/>
            <a:chExt cx="4678560" cy="1676160"/>
          </a:xfrm>
        </p:grpSpPr>
        <p:sp>
          <p:nvSpPr>
            <p:cNvPr id="147" name="AutoShape 27"/>
            <p:cNvSpPr/>
            <p:nvPr/>
          </p:nvSpPr>
          <p:spPr>
            <a:xfrm>
              <a:off x="3809880" y="1053720"/>
              <a:ext cx="3291120" cy="891000"/>
            </a:xfrm>
            <a:prstGeom prst="wedgeRoundRectCallout">
              <a:avLst>
                <a:gd name="adj1" fmla="val 63689"/>
                <a:gd name="adj2" fmla="val 17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硬币约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克。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手掂一掂，感觉怎么样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8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811920" y="69228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49"/>
          <p:cNvGrpSpPr/>
          <p:nvPr/>
        </p:nvGrpSpPr>
        <p:grpSpPr>
          <a:xfrm>
            <a:off x="4332240" y="4424400"/>
            <a:ext cx="4381560" cy="1915920"/>
            <a:chOff x="4332240" y="4424400"/>
            <a:chExt cx="4381560" cy="1915920"/>
          </a:xfrm>
        </p:grpSpPr>
        <p:pic>
          <p:nvPicPr>
            <p:cNvPr id="150" name="Picture 19" descr="未标题-2"/>
            <p:cNvPicPr/>
            <p:nvPr/>
          </p:nvPicPr>
          <p:blipFill>
            <a:blip r:embed="rId3"/>
            <a:stretch/>
          </p:blipFill>
          <p:spPr>
            <a:xfrm>
              <a:off x="7104240" y="4424400"/>
              <a:ext cx="160956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7"/>
            <p:cNvSpPr/>
            <p:nvPr/>
          </p:nvSpPr>
          <p:spPr>
            <a:xfrm>
              <a:off x="4332240" y="4856040"/>
              <a:ext cx="2916360" cy="1286280"/>
            </a:xfrm>
            <a:prstGeom prst="wedgeRoundRectCallout">
              <a:avLst>
                <a:gd name="adj1" fmla="val 57958"/>
                <a:gd name="adj2" fmla="val 109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约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克的物品还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枚校徽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粒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钮扣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粒黄豆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2" name="Group 35"/>
          <p:cNvGrpSpPr/>
          <p:nvPr/>
        </p:nvGrpSpPr>
        <p:grpSpPr>
          <a:xfrm>
            <a:off x="476280" y="4062240"/>
            <a:ext cx="3205080" cy="1943280"/>
            <a:chOff x="476280" y="4062240"/>
            <a:chExt cx="3205080" cy="1943280"/>
          </a:xfrm>
        </p:grpSpPr>
        <p:pic>
          <p:nvPicPr>
            <p:cNvPr id="153" name="Picture 31" descr="未标题-9"/>
            <p:cNvPicPr/>
            <p:nvPr/>
          </p:nvPicPr>
          <p:blipFill>
            <a:blip r:embed="rId4"/>
            <a:stretch/>
          </p:blipFill>
          <p:spPr>
            <a:xfrm>
              <a:off x="476280" y="4062240"/>
              <a:ext cx="13827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27"/>
            <p:cNvSpPr/>
            <p:nvPr/>
          </p:nvSpPr>
          <p:spPr>
            <a:xfrm>
              <a:off x="1792080" y="4626000"/>
              <a:ext cx="1889280" cy="496440"/>
            </a:xfrm>
            <a:prstGeom prst="wedgeRoundRectCallout">
              <a:avLst>
                <a:gd name="adj1" fmla="val -61749"/>
                <a:gd name="adj2" fmla="val 9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克有多重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5" name="Picture 24" descr="54"/>
          <p:cNvPicPr/>
          <p:nvPr/>
        </p:nvPicPr>
        <p:blipFill>
          <a:blip r:embed="rId5"/>
          <a:srcRect l="35877" t="37291" r="34091" b="34497"/>
          <a:stretch/>
        </p:blipFill>
        <p:spPr>
          <a:xfrm>
            <a:off x="3451320" y="2552760"/>
            <a:ext cx="1944720" cy="1511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4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文本框 5"/>
          <p:cNvSpPr/>
          <p:nvPr/>
        </p:nvSpPr>
        <p:spPr>
          <a:xfrm>
            <a:off x="0" y="6184800"/>
            <a:ext cx="75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0" descr="03"/>
          <p:cNvPicPr/>
          <p:nvPr/>
        </p:nvPicPr>
        <p:blipFill>
          <a:blip r:embed="rId1"/>
          <a:srcRect l="16599" t="5319" r="17058" b="22697"/>
          <a:stretch/>
        </p:blipFill>
        <p:spPr>
          <a:xfrm>
            <a:off x="1187280" y="2494080"/>
            <a:ext cx="6193080" cy="38876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2673360" y="3359160"/>
            <a:ext cx="3537000" cy="203184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</a:rPr>
              <a:t>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2266920" y="3284640"/>
            <a:ext cx="4797360" cy="22921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大约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</a:rPr>
              <a:t>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1" name="Picture 20" descr="p86-3"/>
          <p:cNvPicPr/>
          <p:nvPr/>
        </p:nvPicPr>
        <p:blipFill>
          <a:blip r:embed="rId2"/>
          <a:stretch/>
        </p:blipFill>
        <p:spPr>
          <a:xfrm>
            <a:off x="3203640" y="2852640"/>
            <a:ext cx="2665440" cy="1903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2089080" y="4941720"/>
            <a:ext cx="4892760" cy="703440"/>
          </a:xfrm>
          <a:prstGeom prst="rect">
            <a:avLst/>
          </a:prstGeom>
          <a:solidFill>
            <a:srgbClr val="b7e7ff">
              <a:alpha val="70000"/>
            </a:srgbClr>
          </a:solidFill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千克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3" name="Group 35"/>
          <p:cNvGrpSpPr/>
          <p:nvPr/>
        </p:nvGrpSpPr>
        <p:grpSpPr>
          <a:xfrm>
            <a:off x="324000" y="1027080"/>
            <a:ext cx="3476520" cy="1943280"/>
            <a:chOff x="324000" y="1027080"/>
            <a:chExt cx="3476520" cy="1943280"/>
          </a:xfrm>
        </p:grpSpPr>
        <p:pic>
          <p:nvPicPr>
            <p:cNvPr id="164" name="Picture 31" descr="未标题-9"/>
            <p:cNvPicPr/>
            <p:nvPr/>
          </p:nvPicPr>
          <p:blipFill>
            <a:blip r:embed="rId3"/>
            <a:stretch/>
          </p:blipFill>
          <p:spPr>
            <a:xfrm>
              <a:off x="324000" y="1027080"/>
              <a:ext cx="13827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27"/>
            <p:cNvSpPr/>
            <p:nvPr/>
          </p:nvSpPr>
          <p:spPr>
            <a:xfrm>
              <a:off x="1639800" y="1590840"/>
              <a:ext cx="2160720" cy="496440"/>
            </a:xfrm>
            <a:prstGeom prst="wedgeRoundRectCallout">
              <a:avLst>
                <a:gd name="adj1" fmla="val -61740"/>
                <a:gd name="adj2" fmla="val 8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克有多重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6" name="Group 49"/>
          <p:cNvGrpSpPr/>
          <p:nvPr/>
        </p:nvGrpSpPr>
        <p:grpSpPr>
          <a:xfrm>
            <a:off x="4876920" y="633240"/>
            <a:ext cx="3789360" cy="1916280"/>
            <a:chOff x="4876920" y="633240"/>
            <a:chExt cx="3789360" cy="1916280"/>
          </a:xfrm>
        </p:grpSpPr>
        <p:pic>
          <p:nvPicPr>
            <p:cNvPr id="167" name="Picture 19" descr="未标题-2"/>
            <p:cNvPicPr/>
            <p:nvPr/>
          </p:nvPicPr>
          <p:blipFill>
            <a:blip r:embed="rId4"/>
            <a:stretch/>
          </p:blipFill>
          <p:spPr>
            <a:xfrm>
              <a:off x="7056720" y="633240"/>
              <a:ext cx="16095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27"/>
            <p:cNvSpPr/>
            <p:nvPr/>
          </p:nvSpPr>
          <p:spPr>
            <a:xfrm>
              <a:off x="4876920" y="1066680"/>
              <a:ext cx="2324160" cy="891000"/>
            </a:xfrm>
            <a:prstGeom prst="wedgeRoundRectCallout">
              <a:avLst>
                <a:gd name="adj1" fmla="val 57944"/>
                <a:gd name="adj2" fmla="val 109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硬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约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千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9" name="Group 29"/>
          <p:cNvGrpSpPr/>
          <p:nvPr/>
        </p:nvGrpSpPr>
        <p:grpSpPr>
          <a:xfrm>
            <a:off x="4133880" y="752400"/>
            <a:ext cx="4410000" cy="1676520"/>
            <a:chOff x="4133880" y="752400"/>
            <a:chExt cx="4410000" cy="1676520"/>
          </a:xfrm>
        </p:grpSpPr>
        <p:sp>
          <p:nvSpPr>
            <p:cNvPr id="170" name="AutoShape 27"/>
            <p:cNvSpPr/>
            <p:nvPr/>
          </p:nvSpPr>
          <p:spPr>
            <a:xfrm>
              <a:off x="4133880" y="1062000"/>
              <a:ext cx="3084480" cy="891000"/>
            </a:xfrm>
            <a:prstGeom prst="wedgeRoundRectCallout">
              <a:avLst>
                <a:gd name="adj1" fmla="val 55972"/>
                <a:gd name="adj2" fmla="val -105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袋砂糖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克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砂糖正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千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1" name="Picture 52" descr="P-055"/>
            <p:cNvPicPr/>
            <p:nvPr/>
          </p:nvPicPr>
          <p:blipFill>
            <a:blip r:embed="rId5"/>
            <a:stretch/>
          </p:blipFill>
          <p:spPr>
            <a:xfrm>
              <a:off x="6867360" y="752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"/>
                            </p:stCondLst>
                            <p:childTnLst>
                              <p:par>
                                <p:cTn id="1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374760" y="4078440"/>
            <a:ext cx="858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(    )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(     )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 (    )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 (    )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3680" y="40593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Impact"/>
              </a:rPr>
              <a:t>克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996280" y="40593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Impact"/>
              </a:rPr>
              <a:t>千克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307480" y="40593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Impact"/>
              </a:rPr>
              <a:t>克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582320" y="40593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Impact"/>
              </a:rPr>
              <a:t>克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0" name="Group 29"/>
          <p:cNvGrpSpPr/>
          <p:nvPr/>
        </p:nvGrpSpPr>
        <p:grpSpPr>
          <a:xfrm>
            <a:off x="5338800" y="600120"/>
            <a:ext cx="3160800" cy="1676520"/>
            <a:chOff x="5338800" y="600120"/>
            <a:chExt cx="3160800" cy="1676520"/>
          </a:xfrm>
        </p:grpSpPr>
        <p:sp>
          <p:nvSpPr>
            <p:cNvPr id="181" name="AutoShape 27"/>
            <p:cNvSpPr/>
            <p:nvPr/>
          </p:nvSpPr>
          <p:spPr>
            <a:xfrm>
              <a:off x="5338800" y="689040"/>
              <a:ext cx="1825560" cy="891000"/>
            </a:xfrm>
            <a:prstGeom prst="wedgeRoundRectCallout">
              <a:avLst>
                <a:gd name="adj1" fmla="val 59856"/>
                <a:gd name="adj2" fmla="val -7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填上合适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质量单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2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823080" y="60012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Picture 13" descr="未标题-010"/>
          <p:cNvPicPr/>
          <p:nvPr/>
        </p:nvPicPr>
        <p:blipFill>
          <a:blip r:embed="rId2"/>
          <a:stretch/>
        </p:blipFill>
        <p:spPr>
          <a:xfrm>
            <a:off x="766800" y="2614680"/>
            <a:ext cx="7396200" cy="1369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2"/>
          <p:cNvSpPr/>
          <p:nvPr/>
        </p:nvSpPr>
        <p:spPr>
          <a:xfrm>
            <a:off x="611280" y="1635120"/>
            <a:ext cx="108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755640" y="2687760"/>
            <a:ext cx="68835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一个乒乓球约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MingLiU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克。      （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小胖今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岁，约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千克。 （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千克铁比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千克棉花重。 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103800" y="25765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151680" y="33656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151680" y="41562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1" name="Group 29"/>
          <p:cNvGrpSpPr/>
          <p:nvPr/>
        </p:nvGrpSpPr>
        <p:grpSpPr>
          <a:xfrm>
            <a:off x="4608360" y="979560"/>
            <a:ext cx="3868920" cy="1728360"/>
            <a:chOff x="4608360" y="979560"/>
            <a:chExt cx="3868920" cy="1728360"/>
          </a:xfrm>
        </p:grpSpPr>
        <p:sp>
          <p:nvSpPr>
            <p:cNvPr id="192" name="AutoShape 27"/>
            <p:cNvSpPr/>
            <p:nvPr/>
          </p:nvSpPr>
          <p:spPr>
            <a:xfrm>
              <a:off x="4608360" y="979560"/>
              <a:ext cx="2556000" cy="891000"/>
            </a:xfrm>
            <a:prstGeom prst="wedgeRoundRectCallout">
              <a:avLst>
                <a:gd name="adj1" fmla="val 58476"/>
                <a:gd name="adj2" fmla="val -6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下面的说法对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你的理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3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800760" y="103176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Box 9"/>
          <p:cNvSpPr/>
          <p:nvPr/>
        </p:nvSpPr>
        <p:spPr>
          <a:xfrm>
            <a:off x="611280" y="1635120"/>
            <a:ext cx="108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511280" y="5313240"/>
            <a:ext cx="29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克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886200" y="5313240"/>
            <a:ext cx="29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克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227640" y="5313240"/>
            <a:ext cx="23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克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798560" y="5313240"/>
            <a:ext cx="141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5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064040" y="5313240"/>
            <a:ext cx="141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6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413400" y="5313240"/>
            <a:ext cx="141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3" name="Group 29"/>
          <p:cNvGrpSpPr/>
          <p:nvPr/>
        </p:nvGrpSpPr>
        <p:grpSpPr>
          <a:xfrm>
            <a:off x="4619520" y="907920"/>
            <a:ext cx="3768840" cy="1676160"/>
            <a:chOff x="4619520" y="907920"/>
            <a:chExt cx="3768840" cy="1676160"/>
          </a:xfrm>
        </p:grpSpPr>
        <p:sp>
          <p:nvSpPr>
            <p:cNvPr id="204" name="AutoShape 27"/>
            <p:cNvSpPr/>
            <p:nvPr/>
          </p:nvSpPr>
          <p:spPr>
            <a:xfrm>
              <a:off x="4619520" y="991800"/>
              <a:ext cx="2428920" cy="891000"/>
            </a:xfrm>
            <a:prstGeom prst="wedgeRoundRectCallout">
              <a:avLst>
                <a:gd name="adj1" fmla="val 59379"/>
                <a:gd name="adj2" fmla="val -84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出下面的物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各重多少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5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711840" y="90792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6" descr="称"/>
          <p:cNvPicPr/>
          <p:nvPr/>
        </p:nvPicPr>
        <p:blipFill>
          <a:blip r:embed="rId2"/>
          <a:srcRect l="18677" t="19930" r="11843" b="34390"/>
          <a:stretch/>
        </p:blipFill>
        <p:spPr>
          <a:xfrm>
            <a:off x="1187280" y="2070000"/>
            <a:ext cx="6680520" cy="3014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2"/>
          <p:cNvSpPr/>
          <p:nvPr/>
        </p:nvSpPr>
        <p:spPr>
          <a:xfrm>
            <a:off x="611280" y="1635120"/>
            <a:ext cx="108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546200" y="4881600"/>
            <a:ext cx="216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千克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564000" y="48816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千克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08720" y="4881600"/>
            <a:ext cx="215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千克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887480" y="4881600"/>
            <a:ext cx="8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27520" y="4881600"/>
            <a:ext cx="8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767560" y="4881600"/>
            <a:ext cx="8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6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6" name="Group 29"/>
          <p:cNvGrpSpPr/>
          <p:nvPr/>
        </p:nvGrpSpPr>
        <p:grpSpPr>
          <a:xfrm>
            <a:off x="4381560" y="744480"/>
            <a:ext cx="3933720" cy="1676520"/>
            <a:chOff x="4381560" y="744480"/>
            <a:chExt cx="3933720" cy="1676520"/>
          </a:xfrm>
        </p:grpSpPr>
        <p:sp>
          <p:nvSpPr>
            <p:cNvPr id="217" name="AutoShape 27"/>
            <p:cNvSpPr/>
            <p:nvPr/>
          </p:nvSpPr>
          <p:spPr>
            <a:xfrm>
              <a:off x="4381560" y="817560"/>
              <a:ext cx="2638440" cy="891000"/>
            </a:xfrm>
            <a:prstGeom prst="wedgeRoundRectCallout">
              <a:avLst>
                <a:gd name="adj1" fmla="val 56476"/>
                <a:gd name="adj2" fmla="val -166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出三个人的体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各是多少千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8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638760" y="744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Picture 14" descr="02"/>
          <p:cNvPicPr/>
          <p:nvPr/>
        </p:nvPicPr>
        <p:blipFill>
          <a:blip r:embed="rId2"/>
          <a:srcRect l="13818" t="18489" r="5878" b="28202"/>
          <a:stretch/>
        </p:blipFill>
        <p:spPr>
          <a:xfrm>
            <a:off x="1403280" y="1967040"/>
            <a:ext cx="6048360" cy="27572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2"/>
          <p:cNvSpPr/>
          <p:nvPr/>
        </p:nvSpPr>
        <p:spPr>
          <a:xfrm>
            <a:off x="611280" y="1635120"/>
            <a:ext cx="108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949320" y="244476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6:05:39Z</dcterms:modified>
  <cp:revision>2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