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CC64-A7FA-4529-B8C9-7CFD6BDC3C0C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9B5D-5D27-403A-9F0B-D32ABA8E2D3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楷体_GB2312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楷体_GB2312"/>
                <a:ea typeface="宋体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宋体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模板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宋体"/>
              </a:rPr>
              <a:t>-WWW.1PPT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人教logo"/>
          <p:cNvPicPr/>
          <p:nvPr/>
        </p:nvPicPr>
        <p:blipFill>
          <a:blip r:embed="rId3"/>
          <a:stretch/>
        </p:blipFill>
        <p:spPr>
          <a:xfrm>
            <a:off x="468360" y="6093000"/>
            <a:ext cx="3168720" cy="34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3"/>
          <p:cNvSpPr/>
          <p:nvPr/>
        </p:nvSpPr>
        <p:spPr>
          <a:xfrm>
            <a:off x="582480" y="2060640"/>
            <a:ext cx="55785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用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的乘法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口诀求商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19" name="Picture 4" descr="\\192.168.1.3\临时中转站1_以本人姓名建目录\开发中心-多媒体部\02美术部\晨会文件\04宁煌\人教数学教参\04.png"/>
          <p:cNvPicPr/>
          <p:nvPr/>
        </p:nvPicPr>
        <p:blipFill>
          <a:blip r:embed="rId2"/>
          <a:stretch/>
        </p:blipFill>
        <p:spPr>
          <a:xfrm>
            <a:off x="682560" y="95256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1692360" y="865080"/>
            <a:ext cx="52830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表内除法（二）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742560" y="6021360"/>
            <a:ext cx="43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1440" y="57276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7"/>
          <p:cNvSpPr/>
          <p:nvPr/>
        </p:nvSpPr>
        <p:spPr>
          <a:xfrm>
            <a:off x="1187280" y="2440080"/>
            <a:ext cx="74170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÷7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＝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2÷8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＝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8÷8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＝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6÷7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64÷8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＝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1÷7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＝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9÷7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＝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0÷8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806400" y="1774440"/>
            <a:ext cx="2519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做一做。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2394000" y="2676600"/>
            <a:ext cx="5745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2394000" y="3490920"/>
            <a:ext cx="5745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4192560" y="2676600"/>
            <a:ext cx="5745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4192560" y="3490920"/>
            <a:ext cx="5745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5923080" y="2676600"/>
            <a:ext cx="5745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5923080" y="3490920"/>
            <a:ext cx="5745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7710480" y="2676600"/>
            <a:ext cx="5745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7710480" y="3490920"/>
            <a:ext cx="5745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07" name="Group 22"/>
          <p:cNvGrpSpPr/>
          <p:nvPr/>
        </p:nvGrpSpPr>
        <p:grpSpPr>
          <a:xfrm>
            <a:off x="3971880" y="4564080"/>
            <a:ext cx="4405320" cy="1437840"/>
            <a:chOff x="3971880" y="4564080"/>
            <a:chExt cx="4405320" cy="1437840"/>
          </a:xfrm>
        </p:grpSpPr>
        <p:pic>
          <p:nvPicPr>
            <p:cNvPr id="208" name="Picture 20" descr="男天使"/>
            <p:cNvPicPr/>
            <p:nvPr/>
          </p:nvPicPr>
          <p:blipFill>
            <a:blip r:embed="rId1"/>
            <a:stretch/>
          </p:blipFill>
          <p:spPr>
            <a:xfrm>
              <a:off x="6852960" y="4564080"/>
              <a:ext cx="1524240" cy="14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AutoShape 27"/>
            <p:cNvSpPr/>
            <p:nvPr/>
          </p:nvSpPr>
          <p:spPr>
            <a:xfrm>
              <a:off x="3971880" y="5068080"/>
              <a:ext cx="2806560" cy="933840"/>
            </a:xfrm>
            <a:prstGeom prst="wedgeRoundRectCallout">
              <a:avLst>
                <a:gd name="adj1" fmla="val 60069"/>
                <a:gd name="adj2" fmla="val 1094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说一说计算每一道题用的是哪句口诀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10" name="Rectangle 2"/>
          <p:cNvSpPr/>
          <p:nvPr/>
        </p:nvSpPr>
        <p:spPr>
          <a:xfrm>
            <a:off x="517680" y="455760"/>
            <a:ext cx="84470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运用口诀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巩固练习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1" name="Rectangle 19"/>
          <p:cNvSpPr/>
          <p:nvPr/>
        </p:nvSpPr>
        <p:spPr>
          <a:xfrm>
            <a:off x="1440" y="57276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33"/>
          <p:cNvSpPr/>
          <p:nvPr/>
        </p:nvSpPr>
        <p:spPr>
          <a:xfrm>
            <a:off x="6149160" y="3581280"/>
            <a:ext cx="17409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6×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3" name="Rectangle 36"/>
          <p:cNvSpPr/>
          <p:nvPr/>
        </p:nvSpPr>
        <p:spPr>
          <a:xfrm>
            <a:off x="6727680" y="3657600"/>
            <a:ext cx="432000" cy="431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4" name="Rectangle 32"/>
          <p:cNvSpPr/>
          <p:nvPr/>
        </p:nvSpPr>
        <p:spPr>
          <a:xfrm>
            <a:off x="5011560" y="3657600"/>
            <a:ext cx="432000" cy="431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5" name="Rectangle 30"/>
          <p:cNvSpPr/>
          <p:nvPr/>
        </p:nvSpPr>
        <p:spPr>
          <a:xfrm>
            <a:off x="2408400" y="3657600"/>
            <a:ext cx="431640" cy="431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6" name="Rectangle 27"/>
          <p:cNvSpPr/>
          <p:nvPr/>
        </p:nvSpPr>
        <p:spPr>
          <a:xfrm>
            <a:off x="7483320" y="2717640"/>
            <a:ext cx="433440" cy="432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7" name="Rectangle 21"/>
          <p:cNvSpPr/>
          <p:nvPr/>
        </p:nvSpPr>
        <p:spPr>
          <a:xfrm>
            <a:off x="4260960" y="2717640"/>
            <a:ext cx="431640" cy="432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8" name="Rectangle 19"/>
          <p:cNvSpPr/>
          <p:nvPr/>
        </p:nvSpPr>
        <p:spPr>
          <a:xfrm>
            <a:off x="1655640" y="2717640"/>
            <a:ext cx="433440" cy="432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806400" y="1772640"/>
            <a:ext cx="396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算一算。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1689120" y="270180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4292640" y="270180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7483320" y="2698920"/>
            <a:ext cx="43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2390760" y="3633840"/>
            <a:ext cx="466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5045040" y="363384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6770520" y="3633840"/>
            <a:ext cx="325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26" name="Group 37"/>
          <p:cNvGrpSpPr/>
          <p:nvPr/>
        </p:nvGrpSpPr>
        <p:grpSpPr>
          <a:xfrm>
            <a:off x="4016520" y="4879800"/>
            <a:ext cx="4405320" cy="1279440"/>
            <a:chOff x="4016520" y="4879800"/>
            <a:chExt cx="4405320" cy="1279440"/>
          </a:xfrm>
        </p:grpSpPr>
        <p:sp>
          <p:nvSpPr>
            <p:cNvPr id="227" name="AutoShape 27"/>
            <p:cNvSpPr/>
            <p:nvPr/>
          </p:nvSpPr>
          <p:spPr>
            <a:xfrm>
              <a:off x="4016520" y="5240160"/>
              <a:ext cx="2590560" cy="522360"/>
            </a:xfrm>
            <a:prstGeom prst="wedgeRoundRectCallout">
              <a:avLst>
                <a:gd name="adj1" fmla="val 62745"/>
                <a:gd name="adj2" fmla="val 3071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用的是哪句口诀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?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28" name="Picture 17" descr="女天使"/>
            <p:cNvPicPr/>
            <p:nvPr/>
          </p:nvPicPr>
          <p:blipFill>
            <a:blip r:embed="rId1"/>
            <a:stretch/>
          </p:blipFill>
          <p:spPr>
            <a:xfrm>
              <a:off x="6897600" y="4879800"/>
              <a:ext cx="1524240" cy="127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9" name="Text Box 18"/>
          <p:cNvSpPr/>
          <p:nvPr/>
        </p:nvSpPr>
        <p:spPr>
          <a:xfrm>
            <a:off x="1017720" y="2637000"/>
            <a:ext cx="2376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×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0" name="Text Box 20"/>
          <p:cNvSpPr/>
          <p:nvPr/>
        </p:nvSpPr>
        <p:spPr>
          <a:xfrm>
            <a:off x="3629160" y="2637000"/>
            <a:ext cx="25905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6×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1" name="Text Box 26"/>
          <p:cNvSpPr/>
          <p:nvPr/>
        </p:nvSpPr>
        <p:spPr>
          <a:xfrm>
            <a:off x="6157800" y="2637000"/>
            <a:ext cx="25909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9÷7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2" name="Text Box 29"/>
          <p:cNvSpPr/>
          <p:nvPr/>
        </p:nvSpPr>
        <p:spPr>
          <a:xfrm>
            <a:off x="1090440" y="3578400"/>
            <a:ext cx="25909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2÷8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3" name="Rectangle 31"/>
          <p:cNvSpPr/>
          <p:nvPr/>
        </p:nvSpPr>
        <p:spPr>
          <a:xfrm>
            <a:off x="3802680" y="3578400"/>
            <a:ext cx="11923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4÷8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458640" y="455760"/>
            <a:ext cx="85060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运用口诀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巩固练习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4"/>
          <p:cNvSpPr/>
          <p:nvPr/>
        </p:nvSpPr>
        <p:spPr>
          <a:xfrm>
            <a:off x="806400" y="1772640"/>
            <a:ext cx="648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拔河比赛。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6" name="Text Box 17"/>
          <p:cNvSpPr/>
          <p:nvPr/>
        </p:nvSpPr>
        <p:spPr>
          <a:xfrm>
            <a:off x="1042920" y="3865680"/>
            <a:ext cx="56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获胜队员平均每人可得几本书？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　　　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7" name="Text Box 19"/>
          <p:cNvSpPr/>
          <p:nvPr/>
        </p:nvSpPr>
        <p:spPr>
          <a:xfrm>
            <a:off x="1042920" y="486252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谁来说一说，你获得了哪些数学信息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　　　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8" name="Text Box 20"/>
          <p:cNvSpPr/>
          <p:nvPr/>
        </p:nvSpPr>
        <p:spPr>
          <a:xfrm>
            <a:off x="1504800" y="526428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你会解决这个问题吗？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9" name="Text Box 21"/>
          <p:cNvSpPr/>
          <p:nvPr/>
        </p:nvSpPr>
        <p:spPr>
          <a:xfrm>
            <a:off x="2508120" y="5732640"/>
            <a:ext cx="460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小结：我们在解决问题的时候，一定要把有关系的信息和问题联系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在一起，认真分析数量之间的关系，这样才能正确解答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0" name="Text Box 22"/>
          <p:cNvSpPr/>
          <p:nvPr/>
        </p:nvSpPr>
        <p:spPr>
          <a:xfrm>
            <a:off x="1042920" y="4327560"/>
            <a:ext cx="56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你还能提出其他数学问题并解答吗？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　　　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1" name="Text Box 23"/>
          <p:cNvSpPr/>
          <p:nvPr/>
        </p:nvSpPr>
        <p:spPr>
          <a:xfrm>
            <a:off x="5796000" y="383544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本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2" name="Text Box 24"/>
          <p:cNvSpPr/>
          <p:nvPr/>
        </p:nvSpPr>
        <p:spPr>
          <a:xfrm>
            <a:off x="4734000" y="525456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说说你的想法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43" name="Picture 18" descr="未标题-14"/>
          <p:cNvPicPr/>
          <p:nvPr/>
        </p:nvPicPr>
        <p:blipFill>
          <a:blip r:embed="rId1"/>
          <a:stretch/>
        </p:blipFill>
        <p:spPr>
          <a:xfrm>
            <a:off x="1979640" y="1747800"/>
            <a:ext cx="5510160" cy="215424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2"/>
          <p:cNvSpPr/>
          <p:nvPr/>
        </p:nvSpPr>
        <p:spPr>
          <a:xfrm>
            <a:off x="458640" y="455760"/>
            <a:ext cx="85060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运用口诀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巩固练习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8"/>
          <p:cNvSpPr/>
          <p:nvPr/>
        </p:nvSpPr>
        <p:spPr>
          <a:xfrm>
            <a:off x="806400" y="1772640"/>
            <a:ext cx="648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篮球比赛。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6" name="Text Box 24"/>
          <p:cNvSpPr/>
          <p:nvPr/>
        </p:nvSpPr>
        <p:spPr>
          <a:xfrm>
            <a:off x="1044720" y="474012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谁来说一说，你获得了哪些数学信息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　　　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7" name="Text Box 25"/>
          <p:cNvSpPr/>
          <p:nvPr/>
        </p:nvSpPr>
        <p:spPr>
          <a:xfrm>
            <a:off x="1514520" y="5162400"/>
            <a:ext cx="37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你会解决这个问题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1044720" y="584028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小结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人一组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里有几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人就是有几组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5099040" y="515160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说说你的想法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6730920" y="354348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组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1" name="AutoShape 27"/>
          <p:cNvSpPr/>
          <p:nvPr/>
        </p:nvSpPr>
        <p:spPr>
          <a:xfrm>
            <a:off x="2195640" y="2278080"/>
            <a:ext cx="1296720" cy="416160"/>
          </a:xfrm>
          <a:prstGeom prst="wedgeRoundRectCallout">
            <a:avLst>
              <a:gd name="adj1" fmla="val -58185"/>
              <a:gd name="adj2" fmla="val 27611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7</a:t>
            </a:r>
            <a:r>
              <a:rPr b="1" lang="zh-CN" sz="1600" spc="-1" strike="noStrike">
                <a:solidFill>
                  <a:srgbClr val="1c1c1c"/>
                </a:solidFill>
                <a:latin typeface="楷体_GB2312"/>
              </a:rPr>
              <a:t>人一组。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2" name="AutoShape 27"/>
          <p:cNvSpPr/>
          <p:nvPr/>
        </p:nvSpPr>
        <p:spPr>
          <a:xfrm>
            <a:off x="5580000" y="2133720"/>
            <a:ext cx="1166760" cy="731880"/>
          </a:xfrm>
          <a:prstGeom prst="wedgeRoundRectCallout">
            <a:avLst>
              <a:gd name="adj1" fmla="val -29430"/>
              <a:gd name="adj2" fmla="val 73254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我们班有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35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人。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3" name="AutoShape 27"/>
          <p:cNvSpPr/>
          <p:nvPr/>
        </p:nvSpPr>
        <p:spPr>
          <a:xfrm>
            <a:off x="3924360" y="2168640"/>
            <a:ext cx="1174680" cy="731880"/>
          </a:xfrm>
          <a:prstGeom prst="wedgeRoundRectCallout">
            <a:avLst>
              <a:gd name="adj1" fmla="val -31925"/>
              <a:gd name="adj2" fmla="val 69370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可以分成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几组？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54" name="Picture 36" descr="u4jx01-12"/>
          <p:cNvPicPr/>
          <p:nvPr/>
        </p:nvPicPr>
        <p:blipFill>
          <a:blip r:embed="rId1"/>
          <a:stretch/>
        </p:blipFill>
        <p:spPr>
          <a:xfrm>
            <a:off x="1042920" y="2489040"/>
            <a:ext cx="5496120" cy="20196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2"/>
          <p:cNvSpPr/>
          <p:nvPr/>
        </p:nvSpPr>
        <p:spPr>
          <a:xfrm>
            <a:off x="458640" y="455760"/>
            <a:ext cx="85060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运用口诀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巩固练习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458640" y="455760"/>
            <a:ext cx="85060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运用口诀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巩固练习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806400" y="1772640"/>
            <a:ext cx="648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猜一猜。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1120680" y="410544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你知道了什么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1911240" y="4973760"/>
            <a:ext cx="560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要想知道是几个星期，能列个算式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1911240" y="5840280"/>
            <a:ext cx="38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为什么用除法计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1" name="Text Box 16"/>
          <p:cNvSpPr/>
          <p:nvPr/>
        </p:nvSpPr>
        <p:spPr>
          <a:xfrm>
            <a:off x="2281320" y="4538520"/>
            <a:ext cx="36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追问：一个星期是几天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2" name="Text Box 17"/>
          <p:cNvSpPr/>
          <p:nvPr/>
        </p:nvSpPr>
        <p:spPr>
          <a:xfrm>
            <a:off x="1187280" y="2502000"/>
            <a:ext cx="684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</a:rPr>
              <a:t>年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月有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天，合（      ）个星期。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3" name="Text Box 18"/>
          <p:cNvSpPr/>
          <p:nvPr/>
        </p:nvSpPr>
        <p:spPr>
          <a:xfrm>
            <a:off x="4821120" y="2493720"/>
            <a:ext cx="658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4" name="Text Box 19"/>
          <p:cNvSpPr/>
          <p:nvPr/>
        </p:nvSpPr>
        <p:spPr>
          <a:xfrm>
            <a:off x="1911240" y="5407200"/>
            <a:ext cx="44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谁来说说你是怎么想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65" name="Group 72"/>
          <p:cNvGrpSpPr/>
          <p:nvPr/>
        </p:nvGrpSpPr>
        <p:grpSpPr>
          <a:xfrm>
            <a:off x="2195640" y="3079800"/>
            <a:ext cx="2944080" cy="580320"/>
            <a:chOff x="2195640" y="3079800"/>
            <a:chExt cx="2944080" cy="580320"/>
          </a:xfrm>
        </p:grpSpPr>
        <p:sp>
          <p:nvSpPr>
            <p:cNvPr id="266" name="Rectangle 68"/>
            <p:cNvSpPr/>
            <p:nvPr/>
          </p:nvSpPr>
          <p:spPr>
            <a:xfrm>
              <a:off x="2808000" y="3079800"/>
              <a:ext cx="613080" cy="5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67" name="Group 71"/>
            <p:cNvGrpSpPr/>
            <p:nvPr/>
          </p:nvGrpSpPr>
          <p:grpSpPr>
            <a:xfrm>
              <a:off x="2195640" y="3079800"/>
              <a:ext cx="2944080" cy="580320"/>
              <a:chOff x="2195640" y="3079800"/>
              <a:chExt cx="2944080" cy="580320"/>
            </a:xfrm>
          </p:grpSpPr>
          <p:sp>
            <p:nvSpPr>
              <p:cNvPr id="268" name="Text Box 20"/>
              <p:cNvSpPr/>
              <p:nvPr/>
            </p:nvSpPr>
            <p:spPr>
              <a:xfrm>
                <a:off x="2230560" y="3090960"/>
                <a:ext cx="290916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Arial"/>
                  </a:rPr>
                  <a:t>28÷7</a:t>
                </a:r>
                <a:r>
                  <a:rPr b="1" lang="zh-CN" sz="26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1" lang="zh-CN" sz="2600" spc="-1" strike="noStrike">
                    <a:solidFill>
                      <a:srgbClr val="000000"/>
                    </a:solidFill>
                    <a:latin typeface="Arial"/>
                  </a:rPr>
                  <a:t>（个）</a:t>
                </a:r>
                <a:endParaRPr b="1" lang="en-US" sz="26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69" name="Text Box 40"/>
              <p:cNvSpPr/>
              <p:nvPr/>
            </p:nvSpPr>
            <p:spPr>
              <a:xfrm>
                <a:off x="2195640" y="3079800"/>
                <a:ext cx="18360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矩形 6"/>
          <p:cNvSpPr/>
          <p:nvPr/>
        </p:nvSpPr>
        <p:spPr>
          <a:xfrm>
            <a:off x="755640" y="2533680"/>
            <a:ext cx="766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“做一做”，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八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1" name="Rectangle 2"/>
          <p:cNvSpPr/>
          <p:nvPr/>
        </p:nvSpPr>
        <p:spPr>
          <a:xfrm>
            <a:off x="457200" y="431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四、课堂作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2" name="文本框 1"/>
          <p:cNvSpPr/>
          <p:nvPr/>
        </p:nvSpPr>
        <p:spPr>
          <a:xfrm>
            <a:off x="98280" y="6173640"/>
            <a:ext cx="778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A76D-9A8C-4A62-82B9-DB7823A891A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3"/>
          <p:cNvSpPr/>
          <p:nvPr/>
        </p:nvSpPr>
        <p:spPr>
          <a:xfrm>
            <a:off x="2104920" y="5445000"/>
            <a:ext cx="6620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1"/>
          <a:stretch/>
        </p:blipFill>
        <p:spPr>
          <a:xfrm>
            <a:off x="333360" y="285840"/>
            <a:ext cx="839160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75009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创设情境，导入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4427640" y="3573360"/>
            <a:ext cx="43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仔细观察画面，你发现了哪些与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准备工作有关的数学信息？谁能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说一说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7" name="Text Box 21"/>
          <p:cNvSpPr/>
          <p:nvPr/>
        </p:nvSpPr>
        <p:spPr>
          <a:xfrm>
            <a:off x="4427640" y="1557360"/>
            <a:ext cx="432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谈话引入：“六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·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一”儿童节快到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了，同学们为了庆祝自己的节日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他们正在老师的指导下精心地布置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着教室。让我们一起来看看他们正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在做什么准备吧！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28" name="Picture 11" descr=""/>
          <p:cNvPicPr/>
          <p:nvPr/>
        </p:nvPicPr>
        <p:blipFill>
          <a:blip r:embed="rId1"/>
          <a:stretch/>
        </p:blipFill>
        <p:spPr>
          <a:xfrm>
            <a:off x="455760" y="1566720"/>
            <a:ext cx="3722400" cy="50403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4519440" y="5641920"/>
            <a:ext cx="43196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们一起来看这个信息，你们能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用手中的学具把结果摆一摆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30" name="Picture 12" descr="未标题-6"/>
          <p:cNvPicPr/>
          <p:nvPr/>
        </p:nvPicPr>
        <p:blipFill>
          <a:blip r:embed="rId2"/>
          <a:stretch/>
        </p:blipFill>
        <p:spPr>
          <a:xfrm>
            <a:off x="6580080" y="4653000"/>
            <a:ext cx="1836720" cy="13888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9"/>
          <p:cNvSpPr/>
          <p:nvPr/>
        </p:nvSpPr>
        <p:spPr>
          <a:xfrm>
            <a:off x="1440" y="57276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8440" y="404640"/>
            <a:ext cx="61311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，自主探究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88800" y="1628640"/>
            <a:ext cx="85759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（一）借助直观，自主探索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的乘法口诀求商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826920" y="4122720"/>
            <a:ext cx="678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这幅图跟你们摆的结果一样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谁再来说一说你是怎么摆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1619280" y="4938840"/>
            <a:ext cx="601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看着这幅图你会列式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1619280" y="5356080"/>
            <a:ext cx="61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×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你们用的是哪句乘法口诀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7" name="Text Box 26"/>
          <p:cNvSpPr/>
          <p:nvPr/>
        </p:nvSpPr>
        <p:spPr>
          <a:xfrm>
            <a:off x="4753080" y="2441520"/>
            <a:ext cx="14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×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8" name="Text Box 27"/>
          <p:cNvSpPr/>
          <p:nvPr/>
        </p:nvSpPr>
        <p:spPr>
          <a:xfrm>
            <a:off x="4753080" y="2970360"/>
            <a:ext cx="16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6÷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9" name="Text Box 28"/>
          <p:cNvSpPr/>
          <p:nvPr/>
        </p:nvSpPr>
        <p:spPr>
          <a:xfrm>
            <a:off x="4753080" y="3497400"/>
            <a:ext cx="15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÷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0" name="Text Box 30"/>
          <p:cNvSpPr/>
          <p:nvPr/>
        </p:nvSpPr>
        <p:spPr>
          <a:xfrm>
            <a:off x="6337440" y="2441520"/>
            <a:ext cx="24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口诀：七八五十六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1" name="Text Box 31"/>
          <p:cNvSpPr/>
          <p:nvPr/>
        </p:nvSpPr>
        <p:spPr>
          <a:xfrm>
            <a:off x="6337440" y="2970360"/>
            <a:ext cx="26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想：（  ）八五十六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2" name="Text Box 33"/>
          <p:cNvSpPr/>
          <p:nvPr/>
        </p:nvSpPr>
        <p:spPr>
          <a:xfrm>
            <a:off x="6337440" y="3497400"/>
            <a:ext cx="26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想：七（  ）五十六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3" name="Text Box 34"/>
          <p:cNvSpPr/>
          <p:nvPr/>
        </p:nvSpPr>
        <p:spPr>
          <a:xfrm>
            <a:off x="7104240" y="2970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七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4" name="Text Box 35"/>
          <p:cNvSpPr/>
          <p:nvPr/>
        </p:nvSpPr>
        <p:spPr>
          <a:xfrm>
            <a:off x="7373880" y="34974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八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5" name="Text Box 36"/>
          <p:cNvSpPr/>
          <p:nvPr/>
        </p:nvSpPr>
        <p:spPr>
          <a:xfrm>
            <a:off x="1619280" y="5775480"/>
            <a:ext cx="657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56÷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÷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你们又分别用的是哪句口诀呢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你是怎么想到这句口诀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46" name="Picture 21" descr="未标题-13"/>
          <p:cNvPicPr/>
          <p:nvPr/>
        </p:nvPicPr>
        <p:blipFill>
          <a:blip r:embed="rId1"/>
          <a:stretch/>
        </p:blipFill>
        <p:spPr>
          <a:xfrm>
            <a:off x="863640" y="2349360"/>
            <a:ext cx="3655800" cy="16527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9"/>
          <p:cNvSpPr/>
          <p:nvPr/>
        </p:nvSpPr>
        <p:spPr>
          <a:xfrm>
            <a:off x="1440" y="57276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，自主探究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388800" y="1628640"/>
            <a:ext cx="85759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（一）借助直观，自主探索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的乘法口诀求商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0" name="Text Box 26"/>
          <p:cNvSpPr/>
          <p:nvPr/>
        </p:nvSpPr>
        <p:spPr>
          <a:xfrm>
            <a:off x="4753080" y="2441520"/>
            <a:ext cx="14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×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1" name="Text Box 27"/>
          <p:cNvSpPr/>
          <p:nvPr/>
        </p:nvSpPr>
        <p:spPr>
          <a:xfrm>
            <a:off x="4753080" y="2970360"/>
            <a:ext cx="16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6÷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2" name="Text Box 28"/>
          <p:cNvSpPr/>
          <p:nvPr/>
        </p:nvSpPr>
        <p:spPr>
          <a:xfrm>
            <a:off x="4753080" y="3497400"/>
            <a:ext cx="15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÷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3" name="Text Box 30"/>
          <p:cNvSpPr/>
          <p:nvPr/>
        </p:nvSpPr>
        <p:spPr>
          <a:xfrm>
            <a:off x="6337440" y="2441520"/>
            <a:ext cx="24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口诀：七八五十六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4" name="Text Box 31"/>
          <p:cNvSpPr/>
          <p:nvPr/>
        </p:nvSpPr>
        <p:spPr>
          <a:xfrm>
            <a:off x="6337440" y="2970360"/>
            <a:ext cx="26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想：（  ）八五十六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5" name="Text Box 33"/>
          <p:cNvSpPr/>
          <p:nvPr/>
        </p:nvSpPr>
        <p:spPr>
          <a:xfrm>
            <a:off x="6337440" y="3497400"/>
            <a:ext cx="26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想：七（  ）五十六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6" name="Text Box 34"/>
          <p:cNvSpPr/>
          <p:nvPr/>
        </p:nvSpPr>
        <p:spPr>
          <a:xfrm>
            <a:off x="7104240" y="2970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七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7" name="Text Box 35"/>
          <p:cNvSpPr/>
          <p:nvPr/>
        </p:nvSpPr>
        <p:spPr>
          <a:xfrm>
            <a:off x="7373880" y="34974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八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58" name="Picture 21" descr="未标题-13"/>
          <p:cNvPicPr/>
          <p:nvPr/>
        </p:nvPicPr>
        <p:blipFill>
          <a:blip r:embed="rId1"/>
          <a:stretch/>
        </p:blipFill>
        <p:spPr>
          <a:xfrm>
            <a:off x="863640" y="2349360"/>
            <a:ext cx="3655800" cy="16527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25"/>
          <p:cNvSpPr/>
          <p:nvPr/>
        </p:nvSpPr>
        <p:spPr>
          <a:xfrm>
            <a:off x="755640" y="4513320"/>
            <a:ext cx="733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小结：刚才我们在计算这两道除法算式的时候，先看的是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除数，除数是几，就想几的口诀。“七八五十六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这句口诀可以计算一道乘法算式和两道除法算式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看来乘法口诀真的很重要啊！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38188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，自主探究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388800" y="1484280"/>
            <a:ext cx="799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二）运用乘法口诀求商的方法，加强练习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4067280" y="4627440"/>
            <a:ext cx="465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这个问题你会解决吗？列式算一算。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4" name="Text Box 28"/>
          <p:cNvSpPr/>
          <p:nvPr/>
        </p:nvSpPr>
        <p:spPr>
          <a:xfrm>
            <a:off x="3450240" y="1989000"/>
            <a:ext cx="557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让我们一起回到这幅主题图，刚才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们还看到了这两条信息呢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谁能根据这两条信息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提出一个数学问题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5" name="Text Box 31"/>
          <p:cNvSpPr/>
          <p:nvPr/>
        </p:nvSpPr>
        <p:spPr>
          <a:xfrm>
            <a:off x="4067280" y="544500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为什么用除法算呀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6" name="Text Box 32"/>
          <p:cNvSpPr/>
          <p:nvPr/>
        </p:nvSpPr>
        <p:spPr>
          <a:xfrm>
            <a:off x="4354560" y="50133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÷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7" name="Text Box 33"/>
          <p:cNvSpPr/>
          <p:nvPr/>
        </p:nvSpPr>
        <p:spPr>
          <a:xfrm>
            <a:off x="6012000" y="4984920"/>
            <a:ext cx="25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想：七（  ）四十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8" name="Text Box 35"/>
          <p:cNvSpPr/>
          <p:nvPr/>
        </p:nvSpPr>
        <p:spPr>
          <a:xfrm>
            <a:off x="4067280" y="5846760"/>
            <a:ext cx="47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解决这个问题你们用的是哪句口诀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你们是怎么想到这句口诀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9" name="Text Box 36"/>
          <p:cNvSpPr/>
          <p:nvPr/>
        </p:nvSpPr>
        <p:spPr>
          <a:xfrm>
            <a:off x="5892840" y="4221000"/>
            <a:ext cx="29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每个小组做了多少个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0" name="Text Box 37"/>
          <p:cNvSpPr/>
          <p:nvPr/>
        </p:nvSpPr>
        <p:spPr>
          <a:xfrm>
            <a:off x="7029360" y="49849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七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71" name="Picture 11" descr=""/>
          <p:cNvPicPr/>
          <p:nvPr/>
        </p:nvPicPr>
        <p:blipFill>
          <a:blip r:embed="rId1"/>
          <a:stretch/>
        </p:blipFill>
        <p:spPr>
          <a:xfrm>
            <a:off x="455760" y="2085840"/>
            <a:ext cx="3338280" cy="452124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1" descr=""/>
          <p:cNvPicPr/>
          <p:nvPr/>
        </p:nvPicPr>
        <p:blipFill>
          <a:blip r:embed="rId2"/>
          <a:stretch/>
        </p:blipFill>
        <p:spPr>
          <a:xfrm>
            <a:off x="4067280" y="3116160"/>
            <a:ext cx="1914480" cy="10112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6"/>
          <p:cNvSpPr/>
          <p:nvPr/>
        </p:nvSpPr>
        <p:spPr>
          <a:xfrm>
            <a:off x="1440" y="57276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，自主探究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5" name="Text Box 34"/>
          <p:cNvSpPr/>
          <p:nvPr/>
        </p:nvSpPr>
        <p:spPr>
          <a:xfrm>
            <a:off x="4019400" y="3141720"/>
            <a:ext cx="487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结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在计算这道题的时候，我们也是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先看除数，除数是几就想几的乘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法口诀，这就是用乘法口诀求商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方法。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388800" y="1484280"/>
            <a:ext cx="799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二）运用乘法口诀求商的方法，加强练习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77" name="Picture 11" descr=""/>
          <p:cNvPicPr/>
          <p:nvPr/>
        </p:nvPicPr>
        <p:blipFill>
          <a:blip r:embed="rId1"/>
          <a:stretch/>
        </p:blipFill>
        <p:spPr>
          <a:xfrm>
            <a:off x="455760" y="2085840"/>
            <a:ext cx="3338280" cy="45212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7"/>
          <p:cNvSpPr/>
          <p:nvPr/>
        </p:nvSpPr>
        <p:spPr>
          <a:xfrm>
            <a:off x="1440" y="57276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0"/>
          <p:cNvSpPr/>
          <p:nvPr/>
        </p:nvSpPr>
        <p:spPr>
          <a:xfrm>
            <a:off x="6434280" y="2492280"/>
            <a:ext cx="1584360" cy="17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×6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8÷6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8÷8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0" name="Text Box 19"/>
          <p:cNvSpPr/>
          <p:nvPr/>
        </p:nvSpPr>
        <p:spPr>
          <a:xfrm>
            <a:off x="3703680" y="2492280"/>
            <a:ext cx="1584360" cy="17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×2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÷2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÷8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971640" y="2492280"/>
            <a:ext cx="1584360" cy="17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×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8÷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8÷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，自主探究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388800" y="1628640"/>
            <a:ext cx="7993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三）运用规律，练口诀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711360" y="4581360"/>
            <a:ext cx="56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谁能用乘法口诀很快算出它们的得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　　　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201680" y="501336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第一组算式你用的是哪一句口诀？第二组呢？第三组呢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2351160" y="5680080"/>
            <a:ext cx="490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小结：看来同一句口诀可以帮助我们口算出一道乘法和两道除法算式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口诀的作用可真大啊！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7" name="Text Box 17"/>
          <p:cNvSpPr/>
          <p:nvPr/>
        </p:nvSpPr>
        <p:spPr>
          <a:xfrm>
            <a:off x="2158920" y="2486160"/>
            <a:ext cx="574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8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8" name="Text Box 18"/>
          <p:cNvSpPr/>
          <p:nvPr/>
        </p:nvSpPr>
        <p:spPr>
          <a:xfrm>
            <a:off x="2158920" y="3103560"/>
            <a:ext cx="574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9" name="Text Box 19"/>
          <p:cNvSpPr/>
          <p:nvPr/>
        </p:nvSpPr>
        <p:spPr>
          <a:xfrm>
            <a:off x="2158920" y="3722760"/>
            <a:ext cx="574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0" name="Text Box 20"/>
          <p:cNvSpPr/>
          <p:nvPr/>
        </p:nvSpPr>
        <p:spPr>
          <a:xfrm>
            <a:off x="4943520" y="2486160"/>
            <a:ext cx="574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4943520" y="3103560"/>
            <a:ext cx="574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2" name="Text Box 22"/>
          <p:cNvSpPr/>
          <p:nvPr/>
        </p:nvSpPr>
        <p:spPr>
          <a:xfrm>
            <a:off x="4943520" y="3722760"/>
            <a:ext cx="574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3" name="Text Box 23"/>
          <p:cNvSpPr/>
          <p:nvPr/>
        </p:nvSpPr>
        <p:spPr>
          <a:xfrm>
            <a:off x="7674120" y="2486160"/>
            <a:ext cx="574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8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4" name="Text Box 24"/>
          <p:cNvSpPr/>
          <p:nvPr/>
        </p:nvSpPr>
        <p:spPr>
          <a:xfrm>
            <a:off x="7674120" y="3103560"/>
            <a:ext cx="574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5" name="Text Box 25"/>
          <p:cNvSpPr/>
          <p:nvPr/>
        </p:nvSpPr>
        <p:spPr>
          <a:xfrm>
            <a:off x="7674120" y="3722760"/>
            <a:ext cx="574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6" name="Rectangle 20"/>
          <p:cNvSpPr/>
          <p:nvPr/>
        </p:nvSpPr>
        <p:spPr>
          <a:xfrm>
            <a:off x="1440" y="57276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/>
  <cp:keywords/>
  <dc:language>en-US</dc:language>
  <cp:lastModifiedBy>xinxing</cp:lastModifiedBy>
  <dcterms:modified xsi:type="dcterms:W3CDTF">2017-04-16T16:05:43Z</dcterms:modified>
  <cp:revision>40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