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whoosh.wav" ContentType="audio/x-wav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0070-734B-494A-A090-F516F0FB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6B9-6ED3-475B-9290-DE03B102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C76-EDA4-40A9-BDC5-5B5565F3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41F-3056-492A-A532-88388DD4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DDF1-C2CC-40E2-984D-43CDD814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44C5-5DBD-4D2A-AF32-09E9D44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CA8A-A2FF-4F62-BB19-56B3125C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0585-6DFE-4A40-BC2D-0567E747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B8D1-037C-4149-9DFA-74EB0B3D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85A3-55CF-4E2B-AA74-93D20437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35A4-7611-46AE-9B89-2B75276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238-FBDB-43E6-BE79-DA3F1D13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6F60-1C27-41F3-A4DB-44BCC26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9845-7A37-4964-A1A4-FE5F6D7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0CE7-EFE4-493F-8D65-FA3DA05C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FBAA-DA3B-44BB-8AEE-43E1B058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4410-446F-4F84-9A06-9B846D8B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38A7-9BEF-4927-B886-8D2B5D35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C7FC-C243-4F4D-B916-756AB843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A8D6-A565-46B7-9F50-83FAA694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565A-5CE5-4B47-8A40-F81797A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AF5F8-70A4-4B19-9FD8-D743044B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CF9-5708-478D-B0AF-D5CAD38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3CB50-077D-470A-A359-0A607CD1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2E00-F0C0-4849-AA8B-D65B9EB9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3AF8-1096-4A3C-A71A-B9587047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51DF-78D6-4F18-8778-261A398A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82F62-144D-49DB-A8F3-78C9293E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AD1E-B7D9-4AF9-B569-2FA66DB5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76C9-3649-487E-BD99-36D684E1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473-4CD3-4E4E-B2AA-7BCBB2CA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691-DC7B-420C-8B44-C79C9CC8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006-2630-4D74-A568-9C8673F8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C04-D173-461B-BA91-7486FBF4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1AC-EFF1-45D5-88C8-E443C737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BD93-E265-4FDF-9231-47E6F8C7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75105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任意多边形 175106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581" y="11528"/>
                    <a:pt x="64000" y="21131"/>
                    <a:pt x="64000" y="32000"/>
                  </a:cubicBezTo>
                  <a:cubicBezTo>
                    <a:pt x="64000" y="42869"/>
                    <a:pt x="58581" y="52472"/>
                    <a:pt x="50299" y="58255"/>
                  </a:cubicBezTo>
                  <a:cubicBezTo>
                    <a:pt x="50301" y="58258"/>
                    <a:pt x="50301" y="58258"/>
                    <a:pt x="50301" y="58257"/>
                  </a:cubicBezTo>
                  <a:lnTo>
                    <a:pt x="50296" y="58254"/>
                  </a:lnTo>
                  <a:lnTo>
                    <a:pt x="50296" y="5745"/>
                  </a:lnTo>
                  <a:cubicBezTo>
                    <a:pt x="50299" y="5743"/>
                    <a:pt x="50299" y="5744"/>
                    <a:pt x="50299" y="5743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任意多边形 175107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486" y="11360"/>
                    <a:pt x="64000" y="21036"/>
                    <a:pt x="64000" y="32000"/>
                  </a:cubicBezTo>
                  <a:cubicBezTo>
                    <a:pt x="64000" y="42964"/>
                    <a:pt x="58486" y="52640"/>
                    <a:pt x="50080" y="58406"/>
                  </a:cubicBezTo>
                  <a:lnTo>
                    <a:pt x="50080" y="58406"/>
                  </a:lnTo>
                  <a:lnTo>
                    <a:pt x="50077" y="58405"/>
                  </a:lnTo>
                  <a:lnTo>
                    <a:pt x="50077" y="5594"/>
                  </a:lnTo>
                  <a:lnTo>
                    <a:pt x="50077" y="5594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371600" y="1523880"/>
              <a:ext cx="7315200" cy="360"/>
              <a:chOff x="1371600" y="1523880"/>
              <a:chExt cx="7315200" cy="360"/>
            </a:xfrm>
          </p:grpSpPr>
          <p:sp>
            <p:nvSpPr>
              <p:cNvPr id="4" name="直接连接符 175108"/>
              <p:cNvSpPr/>
              <p:nvPr/>
            </p:nvSpPr>
            <p:spPr>
              <a:xfrm>
                <a:off x="1371600" y="1523880"/>
                <a:ext cx="731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1371600" y="1523880"/>
                <a:ext cx="7315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1942-A896-4E16-906F-5C35CB2B20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7583-9345-455F-9222-69FE702545B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C7EF-827F-437B-B2FE-22B5590136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76129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grpSp>
          <p:nvGrpSpPr>
            <p:cNvPr id="89" name=""/>
            <p:cNvGrpSpPr/>
            <p:nvPr/>
          </p:nvGrpSpPr>
          <p:grpSpPr>
            <a:xfrm>
              <a:off x="1447920" y="2514600"/>
              <a:ext cx="7238880" cy="360"/>
              <a:chOff x="1447920" y="2514600"/>
              <a:chExt cx="7238880" cy="360"/>
            </a:xfrm>
          </p:grpSpPr>
          <p:sp>
            <p:nvSpPr>
              <p:cNvPr id="90" name="直接连接符 176130"/>
              <p:cNvSpPr/>
              <p:nvPr/>
            </p:nvSpPr>
            <p:spPr>
              <a:xfrm>
                <a:off x="1447920" y="2514600"/>
                <a:ext cx="72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1447920" y="2514600"/>
                <a:ext cx="723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任意多边形 176131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5772" y="7134"/>
                    <a:pt x="64000" y="18605"/>
                    <a:pt x="64000" y="31999"/>
                  </a:cubicBezTo>
                  <a:cubicBezTo>
                    <a:pt x="64000" y="45394"/>
                    <a:pt x="55770" y="56867"/>
                    <a:pt x="44095" y="61634"/>
                  </a:cubicBezTo>
                  <a:lnTo>
                    <a:pt x="44095" y="61634"/>
                  </a:lnTo>
                  <a:lnTo>
                    <a:pt x="44083" y="61632"/>
                  </a:lnTo>
                  <a:lnTo>
                    <a:pt x="44083" y="2367"/>
                  </a:lnTo>
                  <a:cubicBezTo>
                    <a:pt x="44095" y="2362"/>
                    <a:pt x="44095" y="2362"/>
                    <a:pt x="44091" y="2360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任意多边形 176132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8884" y="12072"/>
                    <a:pt x="64000" y="21438"/>
                    <a:pt x="64000" y="31999"/>
                  </a:cubicBezTo>
                  <a:cubicBezTo>
                    <a:pt x="64000" y="42560"/>
                    <a:pt x="58884" y="51926"/>
                    <a:pt x="50996" y="57753"/>
                  </a:cubicBezTo>
                  <a:lnTo>
                    <a:pt x="50996" y="57753"/>
                  </a:lnTo>
                  <a:lnTo>
                    <a:pt x="50994" y="57754"/>
                  </a:lnTo>
                  <a:lnTo>
                    <a:pt x="50994" y="6245"/>
                  </a:lnTo>
                  <a:cubicBezTo>
                    <a:pt x="50996" y="6244"/>
                    <a:pt x="50996" y="6244"/>
                    <a:pt x="50996" y="6244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F03E-054F-41B1-810B-A95B751922A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520" y="1447560"/>
            <a:ext cx="72392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66"/>
                </a:solidFill>
                <a:latin typeface="Arial"/>
                <a:ea typeface="宋体"/>
              </a:rPr>
              <a:t>电视摄像造型艺术 </a:t>
            </a:r>
            <a:endParaRPr b="0" lang="en-US" sz="5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6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534960"/>
            <a:ext cx="7313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二、时间特性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（一）单向性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（二）连续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（三）同时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568080"/>
            <a:ext cx="731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电视画面的造型特点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一、表现具象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二、表现运动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三、运动表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568080"/>
            <a:ext cx="731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动态造型技巧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动态造型：就是在一个镜头中，通过改变机位，变动镜头光轴，或变化镜头焦距所进行的拍摄活动 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镜头构成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起幅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运动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落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使用要求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景物难以包容于静态结构之内；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需要表达一种无须掩饰的主观倾向；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美化构图的需要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568080"/>
            <a:ext cx="731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运动摄象的几种常用方法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推摄：摄象机向被摄物体的方向推进或者变动摄象机的镜头焦距，使画面框架结构由远而近向被摄主体不断接近的拍摄方法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突出重点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表现细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交代整体与局部关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534960"/>
            <a:ext cx="7313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推摄注意的问题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意图明确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落幅为重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防止虚化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拉摄：摄象机逐渐远离被摄主体或者变动摄象机的镜头焦距，使画面框架结构由近而远与被摄主体拉开距离的拍摄方法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时空的完整和连续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交代局部与整体的关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拉摄要注意的问题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起幅有根据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落幅要充实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推拉要分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摇摄；摄象机机位不动，借助三脚架云台的活动或摄象者身体的转动，变动镜头轴线的拍摄方法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展示空间、扩大视野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同一场景中，交代两种事物的关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摇摄须注意的问题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速度与画面情绪相一致；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目的要明确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568080"/>
            <a:ext cx="731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第一章    绪论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挥毫泼墨非自赏，疾声为国聚民心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更有铁肩担道义，敢为生民鼓与呼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移摄：通过移动机位，使景别发生变化 的拍摄繁方法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开拓画面空间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突显场面和气势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具有主观色彩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移摄要注意的问题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慎用长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防止虚化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跟摄：摄象机始终跟随运动的被摄主体一起运动的拍摄方法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详尽、连续、完整的表现运动主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体现真实、客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跟镜头要注意的问题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镜物速度一致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防止虚化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69800" y="568080"/>
            <a:ext cx="731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电视景别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景别：被摄主体和画面形象在电视屏幕框架结构中所呈现的大小和范围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一、远景：电视景别中视距最远、表现空间范围最大的一种景别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全方位的展示自然景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渲染人物所处的环境氛围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用于开篇或结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具有特殊的抒情作用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注意：处理好地平线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二、全景：表现人物全身形象或某一具体场景全貌的画面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可以完整的表现人物的活动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使观众对某场景全貌产生一个总体印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可以容纳较多的视觉信息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切忌全景残缺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一般为场景的总角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不宜过多使用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三、中景：表现成年人膝盖以上部分或场景局部的画面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叙事性画面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抒情性局限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注意；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避免一味使用，容易使画面和节奏平淡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中景画面不要过长，长则呆板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不要把膝盖拍入画面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568080"/>
            <a:ext cx="731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摄象三要素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一、拍摄距离：是指不同的焦距和摄象机本身与被摄对象之间的距离。不同的拍摄距离会产生不同的景别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拍摄方向：是指摄象机镜头与被摄对象在水平平面上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度范围内的相对位置。也就是通常所说的正面、背面和侧面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拍摄高度：是指摄象机镜头与被摄对象在垂直平面上的相对位置或说相对高度。也就是通常所说的平拍、俯拍和仰拍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Times New Roman"/>
              </a:rPr>
              <a:t>电视新闻的构成</a:t>
            </a:r>
            <a:r>
              <a:rPr b="0" lang="zh-CN" sz="3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画面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音响（背景声、同期声、解说词）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字幕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55320"/>
            <a:ext cx="7313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拍摄要领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Times New Roman"/>
              </a:rPr>
              <a:t>一、平：所摄画面中的地平线一定 要平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Times New Roman"/>
              </a:rPr>
              <a:t>二、稳：所有镜头都力求消除不必要的晃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Times New Roman"/>
              </a:rPr>
              <a:t>三、清：电视图象力求清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Times New Roman"/>
              </a:rPr>
              <a:t>四、匀：技巧施加速度要匀，不能忽快忽慢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Times New Roman"/>
              </a:rPr>
              <a:t>五、准：技巧性镜头落幅画面要准确无误。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568080"/>
            <a:ext cx="731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第三章 光学镜头及其运用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焦点：光线穿过凸透镜会聚成一点，这个点就是焦点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焦距：从透镜中心到焦点之间的距离。一般用毫米表示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物距：被摄物体与透镜中心的距离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透镜原理：当物距大于二倍焦距时，物体可以在相对方向上呈倒立的实象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景深：能够呈实象的物距范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聚焦：变换焦距以寻找实象的过程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椭圆 147457"/>
          <p:cNvSpPr/>
          <p:nvPr/>
        </p:nvSpPr>
        <p:spPr>
          <a:xfrm>
            <a:off x="3886200" y="2514600"/>
            <a:ext cx="990720" cy="1981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343400" y="3505320"/>
            <a:ext cx="4800600" cy="360"/>
            <a:chOff x="4343400" y="3505320"/>
            <a:chExt cx="4800600" cy="360"/>
          </a:xfrm>
        </p:grpSpPr>
        <p:sp>
          <p:nvSpPr>
            <p:cNvPr id="233" name="直接连接符 147458"/>
            <p:cNvSpPr/>
            <p:nvPr/>
          </p:nvSpPr>
          <p:spPr>
            <a:xfrm>
              <a:off x="4343400" y="35053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4343400" y="350532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-360" y="3505320"/>
            <a:ext cx="5334480" cy="360"/>
            <a:chOff x="-360" y="3505320"/>
            <a:chExt cx="5334480" cy="360"/>
          </a:xfrm>
        </p:grpSpPr>
        <p:sp>
          <p:nvSpPr>
            <p:cNvPr id="236" name="直接连接符 147459"/>
            <p:cNvSpPr/>
            <p:nvPr/>
          </p:nvSpPr>
          <p:spPr>
            <a:xfrm flipH="1">
              <a:off x="-360" y="3505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0" y="3505320"/>
              <a:ext cx="5334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419720" y="1066680"/>
            <a:ext cx="360" cy="4876920"/>
            <a:chOff x="4419720" y="1066680"/>
            <a:chExt cx="360" cy="4876920"/>
          </a:xfrm>
        </p:grpSpPr>
        <p:sp>
          <p:nvSpPr>
            <p:cNvPr id="239" name="直接连接符 147461"/>
            <p:cNvSpPr/>
            <p:nvPr/>
          </p:nvSpPr>
          <p:spPr>
            <a:xfrm>
              <a:off x="4419720" y="1066680"/>
              <a:ext cx="0" cy="4876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4419720" y="1066680"/>
              <a:ext cx="360" cy="487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419720" y="2514600"/>
            <a:ext cx="4724280" cy="360"/>
            <a:chOff x="4419720" y="2514600"/>
            <a:chExt cx="4724280" cy="360"/>
          </a:xfrm>
        </p:grpSpPr>
        <p:sp>
          <p:nvSpPr>
            <p:cNvPr id="242" name="直接连接符 147463"/>
            <p:cNvSpPr/>
            <p:nvPr/>
          </p:nvSpPr>
          <p:spPr>
            <a:xfrm>
              <a:off x="4419720" y="251460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419720" y="251460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-360" y="2514600"/>
            <a:ext cx="5258160" cy="360"/>
            <a:chOff x="-360" y="2514600"/>
            <a:chExt cx="5258160" cy="360"/>
          </a:xfrm>
        </p:grpSpPr>
        <p:sp>
          <p:nvSpPr>
            <p:cNvPr id="245" name="直接连接符 147464"/>
            <p:cNvSpPr/>
            <p:nvPr/>
          </p:nvSpPr>
          <p:spPr>
            <a:xfrm flipH="1">
              <a:off x="-360" y="251460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0" y="251460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19720" y="4495680"/>
            <a:ext cx="4724280" cy="360"/>
            <a:chOff x="4419720" y="4495680"/>
            <a:chExt cx="4724280" cy="360"/>
          </a:xfrm>
        </p:grpSpPr>
        <p:sp>
          <p:nvSpPr>
            <p:cNvPr id="248" name="直接连接符 147465"/>
            <p:cNvSpPr/>
            <p:nvPr/>
          </p:nvSpPr>
          <p:spPr>
            <a:xfrm>
              <a:off x="4419720" y="4495680"/>
              <a:ext cx="4724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4419720" y="449568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-381240" y="4495680"/>
            <a:ext cx="5258160" cy="360"/>
            <a:chOff x="-381240" y="4495680"/>
            <a:chExt cx="5258160" cy="360"/>
          </a:xfrm>
        </p:grpSpPr>
        <p:sp>
          <p:nvSpPr>
            <p:cNvPr id="251" name="直接连接符 147466"/>
            <p:cNvSpPr/>
            <p:nvPr/>
          </p:nvSpPr>
          <p:spPr>
            <a:xfrm flipH="1">
              <a:off x="-381240" y="449568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-380880" y="4495680"/>
              <a:ext cx="5257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0880" y="2514600"/>
            <a:ext cx="360" cy="2057400"/>
            <a:chOff x="380880" y="2514600"/>
            <a:chExt cx="360" cy="2057400"/>
          </a:xfrm>
        </p:grpSpPr>
        <p:sp>
          <p:nvSpPr>
            <p:cNvPr id="254" name="直接连接符 147467"/>
            <p:cNvSpPr/>
            <p:nvPr/>
          </p:nvSpPr>
          <p:spPr>
            <a:xfrm>
              <a:off x="380880" y="2514600"/>
              <a:ext cx="0" cy="20574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380880" y="2514600"/>
              <a:ext cx="36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57200" y="2514600"/>
            <a:ext cx="360" cy="360"/>
            <a:chOff x="457200" y="2514600"/>
            <a:chExt cx="360" cy="360"/>
          </a:xfrm>
        </p:grpSpPr>
        <p:sp>
          <p:nvSpPr>
            <p:cNvPr id="257" name="直接连接符 147468"/>
            <p:cNvSpPr/>
            <p:nvPr/>
          </p:nvSpPr>
          <p:spPr>
            <a:xfrm>
              <a:off x="457200" y="2514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57200" y="2514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80880" y="2514600"/>
            <a:ext cx="8153640" cy="1981080"/>
            <a:chOff x="380880" y="2514600"/>
            <a:chExt cx="8153640" cy="1981080"/>
          </a:xfrm>
        </p:grpSpPr>
        <p:sp>
          <p:nvSpPr>
            <p:cNvPr id="260" name="直接连接符 147469"/>
            <p:cNvSpPr/>
            <p:nvPr/>
          </p:nvSpPr>
          <p:spPr>
            <a:xfrm>
              <a:off x="380880" y="2514600"/>
              <a:ext cx="8153640" cy="1981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80880" y="2514600"/>
              <a:ext cx="815364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0520" y="2514240"/>
            <a:ext cx="8001360" cy="1981080"/>
            <a:chOff x="380520" y="2514240"/>
            <a:chExt cx="8001360" cy="1981080"/>
          </a:xfrm>
        </p:grpSpPr>
        <p:sp>
          <p:nvSpPr>
            <p:cNvPr id="263" name="直接连接符 147470"/>
            <p:cNvSpPr/>
            <p:nvPr/>
          </p:nvSpPr>
          <p:spPr>
            <a:xfrm flipV="1">
              <a:off x="380880" y="2514240"/>
              <a:ext cx="8001000" cy="1981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 rot="10800000">
              <a:off x="380520" y="2513880"/>
              <a:ext cx="800100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381880" y="2514600"/>
            <a:ext cx="360" cy="1981080"/>
            <a:chOff x="8381880" y="2514600"/>
            <a:chExt cx="360" cy="1981080"/>
          </a:xfrm>
        </p:grpSpPr>
        <p:sp>
          <p:nvSpPr>
            <p:cNvPr id="266" name="直接连接符 147471"/>
            <p:cNvSpPr/>
            <p:nvPr/>
          </p:nvSpPr>
          <p:spPr>
            <a:xfrm>
              <a:off x="8381880" y="2514600"/>
              <a:ext cx="0" cy="1981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8381880" y="2514600"/>
              <a:ext cx="36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419720" y="2514600"/>
            <a:ext cx="4038480" cy="1981080"/>
            <a:chOff x="4419720" y="2514600"/>
            <a:chExt cx="4038480" cy="1981080"/>
          </a:xfrm>
        </p:grpSpPr>
        <p:sp>
          <p:nvSpPr>
            <p:cNvPr id="269" name="直接连接符 147472"/>
            <p:cNvSpPr/>
            <p:nvPr/>
          </p:nvSpPr>
          <p:spPr>
            <a:xfrm>
              <a:off x="4419720" y="2514600"/>
              <a:ext cx="4038480" cy="1981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419720" y="2514600"/>
              <a:ext cx="4038480" cy="19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419360" y="3505320"/>
            <a:ext cx="1981440" cy="990360"/>
            <a:chOff x="4419360" y="3505320"/>
            <a:chExt cx="1981440" cy="990360"/>
          </a:xfrm>
        </p:grpSpPr>
        <p:sp>
          <p:nvSpPr>
            <p:cNvPr id="272" name="直接连接符 147473"/>
            <p:cNvSpPr/>
            <p:nvPr/>
          </p:nvSpPr>
          <p:spPr>
            <a:xfrm flipH="1">
              <a:off x="4419360" y="3505320"/>
              <a:ext cx="1981080" cy="99036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4419720" y="3505320"/>
              <a:ext cx="198108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上弧形箭头 147475"/>
          <p:cNvSpPr/>
          <p:nvPr/>
        </p:nvSpPr>
        <p:spPr>
          <a:xfrm rot="5201400">
            <a:off x="6538680" y="3211200"/>
            <a:ext cx="1215720" cy="733320"/>
          </a:xfrm>
          <a:custGeom>
            <a:avLst/>
            <a:gdLst>
              <a:gd name="textAreaLeft" fmla="*/ 212760 w 1215720"/>
              <a:gd name="textAreaRight" fmla="*/ 881640 w 12157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文本框 147477"/>
          <p:cNvSpPr/>
          <p:nvPr/>
        </p:nvSpPr>
        <p:spPr>
          <a:xfrm>
            <a:off x="7764120" y="3019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视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477120" y="3505320"/>
            <a:ext cx="360" cy="1447560"/>
            <a:chOff x="6477120" y="3505320"/>
            <a:chExt cx="360" cy="1447560"/>
          </a:xfrm>
        </p:grpSpPr>
        <p:sp>
          <p:nvSpPr>
            <p:cNvPr id="277" name="直接连接符 147478"/>
            <p:cNvSpPr/>
            <p:nvPr/>
          </p:nvSpPr>
          <p:spPr>
            <a:xfrm>
              <a:off x="6477120" y="3505320"/>
              <a:ext cx="0" cy="1447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477120" y="3505320"/>
              <a:ext cx="360" cy="144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文本框 147479"/>
          <p:cNvSpPr/>
          <p:nvPr/>
        </p:nvSpPr>
        <p:spPr>
          <a:xfrm>
            <a:off x="6316200" y="4772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焦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文本框 147480"/>
          <p:cNvSpPr/>
          <p:nvPr/>
        </p:nvSpPr>
        <p:spPr>
          <a:xfrm>
            <a:off x="5249520" y="449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焦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文本框 147482"/>
          <p:cNvSpPr/>
          <p:nvPr/>
        </p:nvSpPr>
        <p:spPr>
          <a:xfrm>
            <a:off x="232920" y="448596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被摄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文本框 147483"/>
          <p:cNvSpPr/>
          <p:nvPr/>
        </p:nvSpPr>
        <p:spPr>
          <a:xfrm>
            <a:off x="8157600" y="441000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像平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80520" y="1828440"/>
            <a:ext cx="360" cy="685800"/>
            <a:chOff x="380520" y="1828440"/>
            <a:chExt cx="360" cy="685800"/>
          </a:xfrm>
        </p:grpSpPr>
        <p:sp>
          <p:nvSpPr>
            <p:cNvPr id="284" name="直接连接符 147486"/>
            <p:cNvSpPr/>
            <p:nvPr/>
          </p:nvSpPr>
          <p:spPr>
            <a:xfrm flipV="1">
              <a:off x="380880" y="1828440"/>
              <a:ext cx="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380520" y="182844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381520" y="1676520"/>
            <a:ext cx="360" cy="838080"/>
            <a:chOff x="8381520" y="1676520"/>
            <a:chExt cx="360" cy="838080"/>
          </a:xfrm>
        </p:grpSpPr>
        <p:sp>
          <p:nvSpPr>
            <p:cNvPr id="287" name="直接连接符 147487"/>
            <p:cNvSpPr/>
            <p:nvPr/>
          </p:nvSpPr>
          <p:spPr>
            <a:xfrm flipV="1">
              <a:off x="8381880" y="1676520"/>
              <a:ext cx="0" cy="838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 rot="10800000">
              <a:off x="8381520" y="16765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文本框 147488"/>
          <p:cNvSpPr/>
          <p:nvPr/>
        </p:nvSpPr>
        <p:spPr>
          <a:xfrm>
            <a:off x="2125080" y="2028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物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文本框 147489"/>
          <p:cNvSpPr/>
          <p:nvPr/>
        </p:nvSpPr>
        <p:spPr>
          <a:xfrm>
            <a:off x="6172200" y="2133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文本框 147490"/>
          <p:cNvSpPr/>
          <p:nvPr/>
        </p:nvSpPr>
        <p:spPr>
          <a:xfrm>
            <a:off x="6239880" y="2028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像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视角：透镜中心与实象的假定垂直面所构成的夹角，又叫视场角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焦距越长，视角越小（窄角）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焦距越短，视角越大（广角）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295280"/>
          <a:ext cx="7772400" cy="4737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焦距（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M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视角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M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标准焦距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MM—50M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°---  6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标准焦距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人眼视角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M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短焦距镜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广角镜头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M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焦距镜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窄角镜头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（三）平行机位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图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116739"/>
          <p:cNvSpPr/>
          <p:nvPr/>
        </p:nvSpPr>
        <p:spPr>
          <a:xfrm>
            <a:off x="2819520" y="1523880"/>
            <a:ext cx="685800" cy="6098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椭圆 116740"/>
          <p:cNvSpPr/>
          <p:nvPr/>
        </p:nvSpPr>
        <p:spPr>
          <a:xfrm>
            <a:off x="5715000" y="1523880"/>
            <a:ext cx="685800" cy="6098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任意多边形 116741"/>
          <p:cNvSpPr/>
          <p:nvPr/>
        </p:nvSpPr>
        <p:spPr>
          <a:xfrm>
            <a:off x="3505320" y="1676520"/>
            <a:ext cx="304560" cy="3045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0"/>
                </a:moveTo>
                <a:cubicBezTo>
                  <a:pt x="96" y="32"/>
                  <a:pt x="192" y="64"/>
                  <a:pt x="192" y="96"/>
                </a:cubicBezTo>
                <a:cubicBezTo>
                  <a:pt x="192" y="128"/>
                  <a:pt x="32" y="176"/>
                  <a:pt x="0" y="192"/>
                </a:cubicBezTo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任意多边形 116742"/>
          <p:cNvSpPr/>
          <p:nvPr/>
        </p:nvSpPr>
        <p:spPr>
          <a:xfrm flipH="1">
            <a:off x="5409360" y="1676520"/>
            <a:ext cx="304920" cy="30456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0"/>
                </a:moveTo>
                <a:cubicBezTo>
                  <a:pt x="96" y="32"/>
                  <a:pt x="192" y="64"/>
                  <a:pt x="192" y="96"/>
                </a:cubicBezTo>
                <a:cubicBezTo>
                  <a:pt x="192" y="128"/>
                  <a:pt x="32" y="176"/>
                  <a:pt x="0" y="192"/>
                </a:cubicBezTo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447920" y="1828800"/>
            <a:ext cx="6324480" cy="360"/>
            <a:chOff x="1447920" y="1828800"/>
            <a:chExt cx="6324480" cy="360"/>
          </a:xfrm>
        </p:grpSpPr>
        <p:sp>
          <p:nvSpPr>
            <p:cNvPr id="309" name="直接连接符 116743"/>
            <p:cNvSpPr/>
            <p:nvPr/>
          </p:nvSpPr>
          <p:spPr>
            <a:xfrm>
              <a:off x="1447920" y="1828800"/>
              <a:ext cx="6324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447920" y="1828800"/>
              <a:ext cx="6324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上箭头标注 116744"/>
          <p:cNvSpPr/>
          <p:nvPr/>
        </p:nvSpPr>
        <p:spPr>
          <a:xfrm>
            <a:off x="3276720" y="3962520"/>
            <a:ext cx="609480" cy="914400"/>
          </a:xfrm>
          <a:prstGeom prst="upArrowCallout">
            <a:avLst>
              <a:gd name="adj1" fmla="val 25002"/>
              <a:gd name="adj2" fmla="val 25000"/>
              <a:gd name="adj3" fmla="val 25005"/>
              <a:gd name="adj4" fmla="val 6666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上箭头标注 116745"/>
          <p:cNvSpPr/>
          <p:nvPr/>
        </p:nvSpPr>
        <p:spPr>
          <a:xfrm>
            <a:off x="5715000" y="4038480"/>
            <a:ext cx="609480" cy="914400"/>
          </a:xfrm>
          <a:prstGeom prst="upArrowCallout">
            <a:avLst>
              <a:gd name="adj1" fmla="val 25002"/>
              <a:gd name="adj2" fmla="val 25000"/>
              <a:gd name="adj3" fmla="val 25005"/>
              <a:gd name="adj4" fmla="val 6666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057400" y="2743200"/>
            <a:ext cx="5715000" cy="360"/>
            <a:chOff x="2057400" y="2743200"/>
            <a:chExt cx="5715000" cy="360"/>
          </a:xfrm>
        </p:grpSpPr>
        <p:sp>
          <p:nvSpPr>
            <p:cNvPr id="314" name="直接连接符 116746"/>
            <p:cNvSpPr/>
            <p:nvPr/>
          </p:nvSpPr>
          <p:spPr>
            <a:xfrm>
              <a:off x="2057400" y="274320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2057400" y="2743200"/>
              <a:ext cx="5715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057400" y="2743200"/>
            <a:ext cx="2819520" cy="3200400"/>
            <a:chOff x="2057400" y="2743200"/>
            <a:chExt cx="2819520" cy="3200400"/>
          </a:xfrm>
        </p:grpSpPr>
        <p:sp>
          <p:nvSpPr>
            <p:cNvPr id="317" name="直接连接符 116747"/>
            <p:cNvSpPr/>
            <p:nvPr/>
          </p:nvSpPr>
          <p:spPr>
            <a:xfrm>
              <a:off x="2057400" y="2743200"/>
              <a:ext cx="2819520" cy="3200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2057400" y="2743200"/>
              <a:ext cx="281952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876560" y="2743200"/>
            <a:ext cx="2895840" cy="3200400"/>
            <a:chOff x="4876560" y="2743200"/>
            <a:chExt cx="2895840" cy="3200400"/>
          </a:xfrm>
        </p:grpSpPr>
        <p:sp>
          <p:nvSpPr>
            <p:cNvPr id="320" name="直接连接符 116748"/>
            <p:cNvSpPr/>
            <p:nvPr/>
          </p:nvSpPr>
          <p:spPr>
            <a:xfrm flipH="1">
              <a:off x="4876560" y="2743200"/>
              <a:ext cx="2895480" cy="3200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4876920" y="2743200"/>
              <a:ext cx="289548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568080"/>
            <a:ext cx="731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第二章 电视画面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电视画面：是指由电子摄录系统拍摄和 制作的，由电视屏幕显示的图象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电视镜头：是摄象机从开机到关机不间断地拍摄所记录下来的一个片段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5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帧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秒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文本框 8195"/>
          <p:cNvSpPr/>
          <p:nvPr/>
        </p:nvSpPr>
        <p:spPr>
          <a:xfrm>
            <a:off x="243828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电视画面的自义性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每一个画面都表达一定的意义，传播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一定的信息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电视画面的联系性：画面之间的组合、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变化会产生大于画面简单相加的整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意义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电视画面在传播信息方面较之其他媒体具有优势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直观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综合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直播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同时性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568080"/>
            <a:ext cx="7313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电视画面的特性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一、空间特性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（一）屏幕显示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色彩夸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强光漫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信号与光点消失不同步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（二）平面造型：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利用人眼视觉经验创造纵深、立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利用运动物体显现纵深、立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900" spc="-1" strike="noStrike">
                <a:solidFill>
                  <a:srgbClr val="000000"/>
                </a:solidFill>
                <a:latin typeface="Times New Roman"/>
              </a:rPr>
              <a:t>、利用摄象机运动突破平面局限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（三）框架结构：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通过框架结构对被摄景物作不同的截取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框架构成了被摄景物在画面中的相对位置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框架为电视画面提供了一个稳定的基底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、框架为画面内物体的运动和静止提供参照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日期占位符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3:59Z</dcterms:created>
  <dc:creator/>
  <dc:description/>
  <cp:keywords>电视 摄像 造型 艺术</cp:keywords>
  <dc:language>en-US</dc:language>
  <cp:lastModifiedBy>An</cp:lastModifiedBy>
  <dcterms:modified xsi:type="dcterms:W3CDTF">2016-05-01T00:54:0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