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gif" ContentType="image/gif"/>
  <Override PartName="/ppt/media/camera.wav" ContentType="audio/x-wav"/>
  <Override PartName="/ppt/media/chimes.wav" ContentType="audio/x-wav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DA9-6ECC-4177-8891-D121358C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976-BD77-4FA6-B7F2-ECC38C7A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926-9236-4FE3-92A0-395E97D7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ED5-9508-4EC2-AEAB-57F350F1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5FD-8BDF-4E56-ABD9-9867A736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318-5D22-41FB-AB10-63073BD2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FB7-FF35-45F1-92AE-215F7B1E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46A-4F17-4714-92DD-97CE261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52A-D41A-45C2-920B-76C7A5C8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E10-C50D-4068-9FA0-73654F2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92C-5714-4BDA-8E95-28D06FA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802-6397-4841-AB45-898D472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A45-AD80-4107-B00D-026D54A2F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13440" y="3048120"/>
            <a:ext cx="79020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多位数乘一位数的整理和复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187280" y="620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教新课标版三年级数学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3263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1295280" y="1371600"/>
            <a:ext cx="8457840" cy="1370160"/>
            <a:chOff x="1295280" y="1371600"/>
            <a:chExt cx="8457840" cy="1370160"/>
          </a:xfrm>
        </p:grpSpPr>
        <p:sp>
          <p:nvSpPr>
            <p:cNvPr id="94" name="Rectangle 4"/>
            <p:cNvSpPr/>
            <p:nvPr/>
          </p:nvSpPr>
          <p:spPr>
            <a:xfrm>
              <a:off x="1295280" y="1371600"/>
              <a:ext cx="8457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1295280" y="1371600"/>
              <a:ext cx="845784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290×8</a:t>
              </a:r>
              <a:r>
                <a:rPr b="1" lang="zh-CN" sz="4400" spc="-1" strike="noStrike">
                  <a:solidFill>
                    <a:srgbClr val="3333cc"/>
                  </a:solidFill>
                  <a:latin typeface="宋体"/>
                </a:rPr>
                <a:t>　　　　 </a:t>
              </a: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16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81×2</a:t>
              </a:r>
              <a:r>
                <a:rPr b="1" lang="zh-CN" sz="4400" spc="-1" strike="noStrike">
                  <a:solidFill>
                    <a:srgbClr val="3333cc"/>
                  </a:solidFill>
                  <a:latin typeface="宋体"/>
                </a:rPr>
                <a:t>　　　　　</a:t>
              </a: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3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105×3</a:t>
              </a:r>
              <a:r>
                <a:rPr b="1" lang="zh-CN" sz="4400" spc="-1" strike="noStrike">
                  <a:solidFill>
                    <a:srgbClr val="3333cc"/>
                  </a:solidFill>
                  <a:latin typeface="宋体"/>
                </a:rPr>
                <a:t>　　　　 </a:t>
              </a: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15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300×5</a:t>
              </a:r>
              <a:r>
                <a:rPr b="1" lang="zh-CN" sz="4400" spc="-1" strike="noStrike">
                  <a:solidFill>
                    <a:srgbClr val="3333cc"/>
                  </a:solidFill>
                  <a:latin typeface="宋体"/>
                </a:rPr>
                <a:t>　　　　 </a:t>
              </a:r>
              <a:r>
                <a:rPr b="1" lang="en-US" sz="4400" spc="-1" strike="noStrike">
                  <a:solidFill>
                    <a:srgbClr val="3333cc"/>
                  </a:solidFill>
                  <a:latin typeface="宋体"/>
                </a:rPr>
                <a:t>23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8"/>
          <p:cNvSpPr/>
          <p:nvPr/>
        </p:nvSpPr>
        <p:spPr>
          <a:xfrm>
            <a:off x="1306440" y="93600"/>
            <a:ext cx="15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6000" spc="-1" strike="noStrike">
                <a:solidFill>
                  <a:srgbClr val="ff3300"/>
                </a:solidFill>
                <a:latin typeface="宋体"/>
              </a:rPr>
              <a:t>、连线</a:t>
            </a: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3429000" y="1905120"/>
            <a:ext cx="2514600" cy="37335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 flipV="1">
            <a:off x="3200400" y="1980720"/>
            <a:ext cx="2819520" cy="12193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3429000" y="3352320"/>
            <a:ext cx="2514600" cy="1143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3505320" y="4647960"/>
            <a:ext cx="2438280" cy="1143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6"/>
          <p:cNvGrpSpPr/>
          <p:nvPr/>
        </p:nvGrpSpPr>
        <p:grpSpPr>
          <a:xfrm>
            <a:off x="1752480" y="1066680"/>
            <a:ext cx="8381880" cy="639720"/>
            <a:chOff x="1752480" y="1066680"/>
            <a:chExt cx="8381880" cy="639720"/>
          </a:xfrm>
        </p:grpSpPr>
        <p:sp>
          <p:nvSpPr>
            <p:cNvPr id="102" name="Rectangle 4"/>
            <p:cNvSpPr/>
            <p:nvPr/>
          </p:nvSpPr>
          <p:spPr>
            <a:xfrm>
              <a:off x="1752480" y="1066680"/>
              <a:ext cx="838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1752480" y="1066680"/>
              <a:ext cx="8381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宋体"/>
                </a:rPr>
                <a:t>983+984+985+986+98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762120" y="1828800"/>
            <a:ext cx="7619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＝（   ）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×</a:t>
            </a: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（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＝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845360" y="182880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9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10480" y="1828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05344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49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14320" y="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</a:rPr>
              <a:t>考考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489960" y="3809880"/>
            <a:ext cx="86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1+182+183+184+185+186+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304920" y="44784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（   ）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600200" y="457200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649400" y="4495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1828440" y="563868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200160" y="6485040"/>
            <a:ext cx="57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380880" y="1981080"/>
            <a:ext cx="8229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只狮子的重量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=2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头猪的重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头猪的重量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=2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只小马的重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只小马的重量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=49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千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只狮子的重量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=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？千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61680" y="3049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考考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190512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+2=11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2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+3=11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23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+4=111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234</a:t>
            </a:r>
            <a:r>
              <a:rPr b="1" lang="en-US" sz="4000" spc="-1" strike="noStrike">
                <a:solidFill>
                  <a:srgbClr val="006600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9+5=11111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768040" y="22860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宋体"/>
              </a:rPr>
              <a:t>在□里填上合适的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114800" y="1905120"/>
            <a:ext cx="685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9+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=111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9+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=1111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9+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=11111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×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9+</a:t>
            </a:r>
            <a:r>
              <a:rPr b="1" lang="en-US" sz="4000" spc="-1" strike="noStrike">
                <a:solidFill>
                  <a:srgbClr val="3333ff"/>
                </a:solidFill>
                <a:latin typeface="宋体"/>
              </a:rPr>
              <a:t>□=111111111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EDA-54B1-4115-82B3-705DCD4F3D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5"/>
          <p:cNvSpPr/>
          <p:nvPr/>
        </p:nvSpPr>
        <p:spPr>
          <a:xfrm>
            <a:off x="0" y="228600"/>
            <a:ext cx="92962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Times New Roman"/>
              </a:rPr>
              <a:t>               </a:t>
            </a:r>
            <a:r>
              <a:rPr b="1" lang="zh-CN" sz="6600" spc="-1" strike="noStrike">
                <a:solidFill>
                  <a:srgbClr val="cc0066"/>
                </a:solidFill>
                <a:latin typeface="Times New Roman"/>
              </a:rPr>
              <a:t>口   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0×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0×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00×5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600×4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9×2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7×3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600×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800×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2201040" y="1447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468120" y="1447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2172240" y="2514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6677640" y="24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2277360" y="350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6563520" y="350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2324520" y="4495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8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6744240" y="4495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7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0" y="5516640"/>
            <a:ext cx="9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先把</a:t>
            </a:r>
            <a:r>
              <a:rPr b="1" lang="en-US" sz="40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前面的数相乘，再在积的后面添</a:t>
            </a:r>
            <a:r>
              <a:rPr b="1" lang="en-US" sz="4000" spc="-1" strike="noStrike">
                <a:solidFill>
                  <a:srgbClr val="008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9"/>
          <p:cNvSpPr/>
          <p:nvPr/>
        </p:nvSpPr>
        <p:spPr>
          <a:xfrm>
            <a:off x="7246800" y="591336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134136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32×3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　　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88×6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289×5≈                  409×5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326×7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　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69×7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295800" y="3333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_x000b__x000c_"/>
              </a:rPr>
              <a:t>估    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374200" y="130644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515280" y="1295280"/>
            <a:ext cx="11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54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498760" y="3068640"/>
            <a:ext cx="14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5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6838920" y="3141720"/>
            <a:ext cx="13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498760" y="4941720"/>
            <a:ext cx="14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1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675840" y="49417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2" descr="45"/>
          <p:cNvPicPr/>
          <p:nvPr/>
        </p:nvPicPr>
        <p:blipFill>
          <a:blip r:embed="rId1"/>
          <a:stretch/>
        </p:blipFill>
        <p:spPr>
          <a:xfrm>
            <a:off x="7093080" y="5805360"/>
            <a:ext cx="2050920" cy="1032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469440" y="1916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801680" y="19051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69080" y="37893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4860000" y="37893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469080" y="55897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4801680" y="55627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2"/>
          <p:cNvSpPr/>
          <p:nvPr/>
        </p:nvSpPr>
        <p:spPr>
          <a:xfrm>
            <a:off x="2592720" y="2286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笔    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5"/>
          <p:cNvSpPr/>
          <p:nvPr/>
        </p:nvSpPr>
        <p:spPr>
          <a:xfrm>
            <a:off x="685800" y="1600200"/>
            <a:ext cx="9296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213×3=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　　　　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89×7=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507×5=               470×3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3810960" y="3657600"/>
            <a:ext cx="1577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从个位乘起，用一位数依次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乘多位数的每一位数，哪一位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乘得的积满几十就向前一位进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）小军每分钟大约走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65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米，他从家到学校大约要走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8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分钟。他家距学校大约有多远？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）每套课桌椅坐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个人，学校新买来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0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套课桌椅，一共可以坐多少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）阳光小学每个年级都是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36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人，全校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个年级共有多少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149640" y="13176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你会选择合适的算法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817520" y="530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笔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648800" y="21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估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7554240" y="386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口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2133720"/>
            <a:ext cx="883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）每支钢笔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元，买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89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支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.500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够吗？（　）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      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A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、够　　   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B</a:t>
            </a:r>
            <a:r>
              <a:rPr b="1" lang="zh-CN" sz="4400" spc="-1" strike="noStrike">
                <a:solidFill>
                  <a:srgbClr val="006600"/>
                </a:solidFill>
                <a:latin typeface="宋体"/>
              </a:rPr>
              <a:t>、不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126680" y="609480"/>
            <a:ext cx="11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把正确答案的字母填在（）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616480" y="312408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26680" y="609480"/>
            <a:ext cx="11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把正确答案的字母填在（）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28600" y="2590920"/>
            <a:ext cx="8915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）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7500×4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积的末尾有（　）个零。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　　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　　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733880" y="259092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126680" y="609480"/>
            <a:ext cx="11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把正确答案的字母填在（）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80880" y="259092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）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4+5+6+7+8×0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得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(   )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　　　　　　　　　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22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　　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0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　　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C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19480" y="259092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2133720"/>
            <a:ext cx="9143640" cy="2100240"/>
            <a:chOff x="0" y="2133720"/>
            <a:chExt cx="9143640" cy="2100240"/>
          </a:xfrm>
        </p:grpSpPr>
        <p:sp>
          <p:nvSpPr>
            <p:cNvPr id="89" name="Rectangle 4"/>
            <p:cNvSpPr/>
            <p:nvPr/>
          </p:nvSpPr>
          <p:spPr>
            <a:xfrm>
              <a:off x="0" y="213372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0" y="2133720"/>
              <a:ext cx="91436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（</a:t>
              </a:r>
              <a:r>
                <a:rPr b="1" lang="en-US" sz="4800" spc="-1" strike="noStrike">
                  <a:solidFill>
                    <a:srgbClr val="006600"/>
                  </a:solidFill>
                  <a:latin typeface="宋体"/>
                </a:rPr>
                <a:t>4</a:t>
              </a: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）一个三位数乘</a:t>
              </a:r>
              <a:r>
                <a:rPr b="1" lang="en-US" sz="4800" spc="-1" strike="noStrike">
                  <a:solidFill>
                    <a:srgbClr val="006600"/>
                  </a:solidFill>
                  <a:latin typeface="宋体"/>
                </a:rPr>
                <a:t>8</a:t>
              </a: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，所得的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可能是（  ）位数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  </a:t>
              </a:r>
              <a:r>
                <a:rPr b="1" lang="en-US" sz="4800" spc="-1" strike="noStrike">
                  <a:solidFill>
                    <a:srgbClr val="006600"/>
                  </a:solidFill>
                  <a:latin typeface="宋体"/>
                </a:rPr>
                <a:t>A</a:t>
              </a: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、三　</a:t>
              </a:r>
              <a:r>
                <a:rPr b="1" lang="en-US" sz="4800" spc="-1" strike="noStrike">
                  <a:solidFill>
                    <a:srgbClr val="006600"/>
                  </a:solidFill>
                  <a:latin typeface="宋体"/>
                </a:rPr>
                <a:t>B</a:t>
              </a: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、四　</a:t>
              </a:r>
              <a:r>
                <a:rPr b="1" lang="en-US" sz="4800" spc="-1" strike="noStrike">
                  <a:solidFill>
                    <a:srgbClr val="006600"/>
                  </a:solidFill>
                  <a:latin typeface="宋体"/>
                </a:rPr>
                <a:t>C</a:t>
              </a:r>
              <a:r>
                <a:rPr b="1" lang="zh-CN" sz="4800" spc="-1" strike="noStrike">
                  <a:solidFill>
                    <a:srgbClr val="006600"/>
                  </a:solidFill>
                  <a:latin typeface="宋体"/>
                </a:rPr>
                <a:t>、三或四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8"/>
          <p:cNvSpPr/>
          <p:nvPr/>
        </p:nvSpPr>
        <p:spPr>
          <a:xfrm>
            <a:off x="4126680" y="609480"/>
            <a:ext cx="11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把正确答案的字母填在（）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781000" y="289548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3:28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57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