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camera.wav" ContentType="audio/x-wav"/>
  <Override PartName="/ppt/media/image3.gif" ContentType="image/gif"/>
  <Override PartName="/ppt/media/type.wav" ContentType="audio/x-wav"/>
  <Override PartName="/ppt/media/image5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E65-CBC3-40F9-B2B3-0DC3DFA9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189-FA58-4E49-9E77-FD78C0C4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B44-B473-424B-9316-6AD817BC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329-D2CF-4964-A525-9343B6E0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B05-D128-4FB1-8763-0CF96504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8BB-D305-4A7C-BB66-919DB98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5FD-65B0-4854-8FA2-DA1C36E2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90B-ABE1-4DBF-99A9-0D48CB52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FEC-F514-468B-A84A-39650974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046-8AAA-400E-9327-BD625585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7ED-F636-4198-83C3-839E639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45E-4795-4ED5-8BD9-6C997457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1ABE-B04B-4D85-AD8C-2F7DB58F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15920" y="1916280"/>
            <a:ext cx="6924600" cy="20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等腰三角形课件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打包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195640" y="83664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Garamond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3" descr="图片1"/>
          <p:cNvPicPr/>
          <p:nvPr/>
        </p:nvPicPr>
        <p:blipFill>
          <a:blip r:embed="rId1"/>
          <a:stretch/>
        </p:blipFill>
        <p:spPr>
          <a:xfrm>
            <a:off x="0" y="404640"/>
            <a:ext cx="1554120" cy="1657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755640" y="1989000"/>
            <a:ext cx="953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等腰三角形的一个角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度，它的另外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角的度数是多少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84360" y="3068640"/>
            <a:ext cx="88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等腰三角形的一个角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度，它的另外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角的度数是多少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31112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755640" y="43131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等腰三角形的底边长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cm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一腰长的中线把周长分为两部分，其差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cm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则等腰三角形的腰长为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newsflash/>
    <p:sndAc>
      <p:stSnd>
        <p:snd r:embed="rId2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749160" y="596880"/>
            <a:ext cx="1904760" cy="609480"/>
            <a:chOff x="749160" y="596880"/>
            <a:chExt cx="1904760" cy="609480"/>
          </a:xfrm>
        </p:grpSpPr>
        <p:sp>
          <p:nvSpPr>
            <p:cNvPr id="277" name="Rectangle 3"/>
            <p:cNvSpPr/>
            <p:nvPr/>
          </p:nvSpPr>
          <p:spPr>
            <a:xfrm>
              <a:off x="749160" y="596880"/>
              <a:ext cx="190476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WordArt 4"/>
            <p:cNvSpPr txBox="1"/>
            <p:nvPr/>
          </p:nvSpPr>
          <p:spPr>
            <a:xfrm>
              <a:off x="825120" y="672840"/>
              <a:ext cx="177660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cc99"/>
                  </a:solidFill>
                  <a:latin typeface="宋体"/>
                </a:rPr>
                <a:t>课堂小结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79" name="Group 5"/>
          <p:cNvGrpSpPr/>
          <p:nvPr/>
        </p:nvGrpSpPr>
        <p:grpSpPr>
          <a:xfrm>
            <a:off x="675720" y="1587600"/>
            <a:ext cx="606960" cy="3959280"/>
            <a:chOff x="675720" y="1587600"/>
            <a:chExt cx="606960" cy="3959280"/>
          </a:xfrm>
        </p:grpSpPr>
        <p:sp>
          <p:nvSpPr>
            <p:cNvPr id="280" name="Rectangle 6"/>
            <p:cNvSpPr/>
            <p:nvPr/>
          </p:nvSpPr>
          <p:spPr>
            <a:xfrm>
              <a:off x="700200" y="2044800"/>
              <a:ext cx="547560" cy="29718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675720" y="1587600"/>
              <a:ext cx="606960" cy="3959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等腰三角形的性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AutoShape 8"/>
          <p:cNvSpPr/>
          <p:nvPr/>
        </p:nvSpPr>
        <p:spPr>
          <a:xfrm>
            <a:off x="1359000" y="2197080"/>
            <a:ext cx="380880" cy="2743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2235240" y="3645000"/>
            <a:ext cx="1905120" cy="947160"/>
            <a:chOff x="2235240" y="3645000"/>
            <a:chExt cx="1905120" cy="947160"/>
          </a:xfrm>
        </p:grpSpPr>
        <p:sp>
          <p:nvSpPr>
            <p:cNvPr id="284" name="Rectangle 10"/>
            <p:cNvSpPr/>
            <p:nvPr/>
          </p:nvSpPr>
          <p:spPr>
            <a:xfrm>
              <a:off x="2235240" y="3645000"/>
              <a:ext cx="1905120" cy="914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2561760" y="3645000"/>
              <a:ext cx="1247400" cy="947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等腰三角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三线合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Text Box 12"/>
          <p:cNvSpPr/>
          <p:nvPr/>
        </p:nvSpPr>
        <p:spPr>
          <a:xfrm>
            <a:off x="5683320" y="2276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、求有关等腰三角形的问题，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顶角平分线、底边中线，底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高是常用的辅助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6381360" y="3716280"/>
            <a:ext cx="5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、熟练掌握求解等腰三角形的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角、底角的度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149440" y="4869000"/>
            <a:ext cx="28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、掌握等腰三角形三线合一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应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2289960" y="2421000"/>
            <a:ext cx="1933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2700360" y="3068640"/>
            <a:ext cx="431640" cy="576360"/>
          </a:xfrm>
          <a:prstGeom prst="downArrow">
            <a:avLst>
              <a:gd name="adj1" fmla="val 50000"/>
              <a:gd name="adj2" fmla="val 33369"/>
            </a:avLst>
          </a:prstGeom>
          <a:solidFill>
            <a:srgbClr val="0000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61128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节课我们学习了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5690-4ACF-433B-B5D5-143EB73614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643880" cy="12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一张长方形纸片按图中的虚线对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剪去阴影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把它展 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>
            <a:hlinkClick r:id="rId1" action="ppaction://hlinksldjump"/>
          </p:cNvPr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活动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：实践观察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认识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Ani_117"/>
          <p:cNvPicPr/>
          <p:nvPr/>
        </p:nvPicPr>
        <p:blipFill>
          <a:blip r:embed="rId2"/>
          <a:stretch/>
        </p:blipFill>
        <p:spPr>
          <a:xfrm>
            <a:off x="0" y="0"/>
            <a:ext cx="10796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403280" y="2565360"/>
            <a:ext cx="1152360" cy="2016000"/>
            <a:chOff x="1403280" y="2565360"/>
            <a:chExt cx="1152360" cy="2016000"/>
          </a:xfrm>
        </p:grpSpPr>
        <p:sp>
          <p:nvSpPr>
            <p:cNvPr id="47" name="Rectangle 6"/>
            <p:cNvSpPr/>
            <p:nvPr/>
          </p:nvSpPr>
          <p:spPr>
            <a:xfrm>
              <a:off x="1403280" y="2565360"/>
              <a:ext cx="1152360" cy="20160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1403280" y="3439800"/>
              <a:ext cx="1079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8"/>
          <p:cNvGrpSpPr/>
          <p:nvPr/>
        </p:nvGrpSpPr>
        <p:grpSpPr>
          <a:xfrm>
            <a:off x="3924360" y="2781360"/>
            <a:ext cx="1152000" cy="1221840"/>
            <a:chOff x="3924360" y="2781360"/>
            <a:chExt cx="1152000" cy="1221840"/>
          </a:xfrm>
        </p:grpSpPr>
        <p:sp>
          <p:nvSpPr>
            <p:cNvPr id="50" name="Rectangle 9"/>
            <p:cNvSpPr/>
            <p:nvPr/>
          </p:nvSpPr>
          <p:spPr>
            <a:xfrm>
              <a:off x="3924360" y="2781360"/>
              <a:ext cx="1152000" cy="1221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4170960" y="2781360"/>
              <a:ext cx="903600" cy="65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1"/>
          <p:cNvSpPr/>
          <p:nvPr/>
        </p:nvSpPr>
        <p:spPr>
          <a:xfrm>
            <a:off x="6064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68360" y="544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6012000" y="2637000"/>
            <a:ext cx="2376000" cy="1988280"/>
            <a:chOff x="6012000" y="2637000"/>
            <a:chExt cx="2376000" cy="1988280"/>
          </a:xfrm>
        </p:grpSpPr>
        <p:grpSp>
          <p:nvGrpSpPr>
            <p:cNvPr id="55" name="Group 14"/>
            <p:cNvGrpSpPr/>
            <p:nvPr/>
          </p:nvGrpSpPr>
          <p:grpSpPr>
            <a:xfrm>
              <a:off x="6012000" y="2637000"/>
              <a:ext cx="2376000" cy="1988280"/>
              <a:chOff x="6012000" y="2637000"/>
              <a:chExt cx="2376000" cy="1988280"/>
            </a:xfrm>
          </p:grpSpPr>
          <p:sp>
            <p:nvSpPr>
              <p:cNvPr id="56" name="AutoShape 15"/>
              <p:cNvSpPr/>
              <p:nvPr/>
            </p:nvSpPr>
            <p:spPr>
              <a:xfrm rot="16200000">
                <a:off x="6450840" y="2979360"/>
                <a:ext cx="1425960" cy="11224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Text Box 16"/>
              <p:cNvSpPr/>
              <p:nvPr/>
            </p:nvSpPr>
            <p:spPr>
              <a:xfrm>
                <a:off x="6012000" y="3608280"/>
                <a:ext cx="52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7"/>
              <p:cNvSpPr/>
              <p:nvPr/>
            </p:nvSpPr>
            <p:spPr>
              <a:xfrm>
                <a:off x="7398000" y="4257000"/>
                <a:ext cx="52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8"/>
              <p:cNvSpPr/>
              <p:nvPr/>
            </p:nvSpPr>
            <p:spPr>
              <a:xfrm>
                <a:off x="7860960" y="3608280"/>
                <a:ext cx="5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9"/>
              <p:cNvSpPr/>
              <p:nvPr/>
            </p:nvSpPr>
            <p:spPr>
              <a:xfrm>
                <a:off x="7860960" y="2637000"/>
                <a:ext cx="5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Line 20"/>
            <p:cNvSpPr/>
            <p:nvPr/>
          </p:nvSpPr>
          <p:spPr>
            <a:xfrm>
              <a:off x="6671520" y="3544200"/>
              <a:ext cx="99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21"/>
          <p:cNvGrpSpPr/>
          <p:nvPr/>
        </p:nvGrpSpPr>
        <p:grpSpPr>
          <a:xfrm>
            <a:off x="539640" y="5300640"/>
            <a:ext cx="8222760" cy="1097280"/>
            <a:chOff x="539640" y="5300640"/>
            <a:chExt cx="8222760" cy="1097280"/>
          </a:xfrm>
        </p:grpSpPr>
        <p:sp>
          <p:nvSpPr>
            <p:cNvPr id="63" name="Rectangle 22"/>
            <p:cNvSpPr/>
            <p:nvPr/>
          </p:nvSpPr>
          <p:spPr>
            <a:xfrm>
              <a:off x="2922840" y="5469840"/>
              <a:ext cx="5839560" cy="9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AC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和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有什么关系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这个三角形有什么特点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539640" y="5300640"/>
              <a:ext cx="3465360" cy="724680"/>
              <a:chOff x="539640" y="5300640"/>
              <a:chExt cx="3465360" cy="724680"/>
            </a:xfrm>
          </p:grpSpPr>
          <p:pic>
            <p:nvPicPr>
              <p:cNvPr id="65" name="Picture 24" descr="问14"/>
              <p:cNvPicPr/>
              <p:nvPr/>
            </p:nvPicPr>
            <p:blipFill>
              <a:blip r:embed="rId3"/>
              <a:stretch/>
            </p:blipFill>
            <p:spPr>
              <a:xfrm>
                <a:off x="539640" y="5450400"/>
                <a:ext cx="725040" cy="56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25"/>
              <p:cNvSpPr/>
              <p:nvPr/>
            </p:nvSpPr>
            <p:spPr>
              <a:xfrm>
                <a:off x="1145160" y="5300640"/>
                <a:ext cx="285984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990000"/>
                    </a:solidFill>
                    <a:latin typeface="华文行楷"/>
                    <a:ea typeface="华文行楷"/>
                  </a:rPr>
                  <a:t>探索</a:t>
                </a:r>
                <a:r>
                  <a:rPr b="1" lang="en-US" sz="3600" spc="-1" strike="noStrike">
                    <a:solidFill>
                      <a:srgbClr val="990000"/>
                    </a:solidFill>
                    <a:latin typeface="方正舒体"/>
                    <a:ea typeface="方正舒体"/>
                  </a:rPr>
                  <a:t>: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方正舒体"/>
                    <a:ea typeface="方正舒体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Line 26"/>
          <p:cNvSpPr/>
          <p:nvPr/>
        </p:nvSpPr>
        <p:spPr>
          <a:xfrm>
            <a:off x="1476360" y="357336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771640" y="364500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5292720" y="357336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4067280" y="2781360"/>
            <a:ext cx="1009440" cy="718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0"/>
          <p:cNvSpPr/>
          <p:nvPr/>
        </p:nvSpPr>
        <p:spPr>
          <a:xfrm flipH="1" rot="21546000">
            <a:off x="6586920" y="2707920"/>
            <a:ext cx="1146240" cy="86508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6300720" y="357336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2"/>
          <p:cNvSpPr/>
          <p:nvPr/>
        </p:nvSpPr>
        <p:spPr>
          <a:xfrm flipH="1" flipV="1">
            <a:off x="6588000" y="3573360"/>
            <a:ext cx="1152720" cy="71928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68360" y="119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有两条边相等的三角形叫做等腰三角形</a:t>
            </a:r>
            <a:r>
              <a:rPr b="1" lang="en-US" sz="3200" spc="-1" strike="noStrike">
                <a:solidFill>
                  <a:srgbClr val="66ffff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66ffff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95280" y="5229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腰三角形中，相等的两边都叫做腰，另一边叫做底边，两腰的夹角叫做顶角，腰和底边的夹角叫做底角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4932360" y="1773360"/>
            <a:ext cx="3352680" cy="3202920"/>
            <a:chOff x="4932360" y="1773360"/>
            <a:chExt cx="3352680" cy="3202920"/>
          </a:xfrm>
        </p:grpSpPr>
        <p:sp>
          <p:nvSpPr>
            <p:cNvPr id="77" name="AutoShape 5"/>
            <p:cNvSpPr/>
            <p:nvPr/>
          </p:nvSpPr>
          <p:spPr>
            <a:xfrm>
              <a:off x="5389560" y="2230560"/>
              <a:ext cx="2438280" cy="2438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6"/>
            <p:cNvSpPr/>
            <p:nvPr/>
          </p:nvSpPr>
          <p:spPr>
            <a:xfrm>
              <a:off x="6380280" y="177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>
              <a:off x="7904160" y="444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4932360" y="4516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364000" y="2133720"/>
            <a:ext cx="2438280" cy="2438280"/>
            <a:chOff x="5364000" y="2133720"/>
            <a:chExt cx="2438280" cy="2438280"/>
          </a:xfrm>
        </p:grpSpPr>
        <p:sp>
          <p:nvSpPr>
            <p:cNvPr id="82" name="Line 10"/>
            <p:cNvSpPr/>
            <p:nvPr/>
          </p:nvSpPr>
          <p:spPr>
            <a:xfrm flipH="1">
              <a:off x="5364000" y="2133720"/>
              <a:ext cx="121896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6582960" y="2133720"/>
              <a:ext cx="121932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5292720" y="4653000"/>
            <a:ext cx="2438280" cy="144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4859280" y="2781360"/>
            <a:ext cx="3217680" cy="609120"/>
            <a:chOff x="4859280" y="2781360"/>
            <a:chExt cx="3217680" cy="609120"/>
          </a:xfrm>
        </p:grpSpPr>
        <p:sp>
          <p:nvSpPr>
            <p:cNvPr id="86" name="AutoShape 14"/>
            <p:cNvSpPr/>
            <p:nvPr/>
          </p:nvSpPr>
          <p:spPr>
            <a:xfrm>
              <a:off x="7334640" y="2781360"/>
              <a:ext cx="742320" cy="60912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505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15"/>
            <p:cNvSpPr/>
            <p:nvPr/>
          </p:nvSpPr>
          <p:spPr>
            <a:xfrm>
              <a:off x="4859280" y="2781360"/>
              <a:ext cx="742320" cy="60912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AutoShape 16"/>
          <p:cNvSpPr/>
          <p:nvPr/>
        </p:nvSpPr>
        <p:spPr>
          <a:xfrm>
            <a:off x="6156360" y="4869000"/>
            <a:ext cx="914400" cy="457200"/>
          </a:xfrm>
          <a:prstGeom prst="wedgeRoundRectCallout">
            <a:avLst>
              <a:gd name="adj1" fmla="val -43921"/>
              <a:gd name="adj2" fmla="val -83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隶书"/>
              </a:rPr>
              <a:t>底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7"/>
          <p:cNvGrpSpPr/>
          <p:nvPr/>
        </p:nvGrpSpPr>
        <p:grpSpPr>
          <a:xfrm>
            <a:off x="6071040" y="2263680"/>
            <a:ext cx="790200" cy="782280"/>
            <a:chOff x="6071040" y="2263680"/>
            <a:chExt cx="790200" cy="782280"/>
          </a:xfrm>
        </p:grpSpPr>
        <p:sp>
          <p:nvSpPr>
            <p:cNvPr id="90" name="Arc 18"/>
            <p:cNvSpPr/>
            <p:nvPr/>
          </p:nvSpPr>
          <p:spPr>
            <a:xfrm rot="6028800">
              <a:off x="6548400" y="2252880"/>
              <a:ext cx="104400" cy="15192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9"/>
            <p:cNvSpPr/>
            <p:nvPr/>
          </p:nvSpPr>
          <p:spPr>
            <a:xfrm>
              <a:off x="6071040" y="2360520"/>
              <a:ext cx="79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顶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0"/>
          <p:cNvGrpSpPr/>
          <p:nvPr/>
        </p:nvGrpSpPr>
        <p:grpSpPr>
          <a:xfrm>
            <a:off x="5580000" y="4292640"/>
            <a:ext cx="2239920" cy="396720"/>
            <a:chOff x="5580000" y="4292640"/>
            <a:chExt cx="2239920" cy="396720"/>
          </a:xfrm>
        </p:grpSpPr>
        <p:sp>
          <p:nvSpPr>
            <p:cNvPr id="93" name="Arc 21"/>
            <p:cNvSpPr/>
            <p:nvPr/>
          </p:nvSpPr>
          <p:spPr>
            <a:xfrm>
              <a:off x="5580000" y="4444920"/>
              <a:ext cx="76320" cy="244440"/>
            </a:xfrm>
            <a:custGeom>
              <a:avLst/>
              <a:gdLst/>
              <a:ahLst/>
              <a:rect l="l" t="t" r="r" b="b"/>
              <a:pathLst>
                <a:path fill="none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</a:path>
                <a:path stroke="0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rc 22"/>
            <p:cNvSpPr/>
            <p:nvPr/>
          </p:nvSpPr>
          <p:spPr>
            <a:xfrm rot="13070400">
              <a:off x="7659360" y="4379760"/>
              <a:ext cx="75960" cy="301320"/>
            </a:xfrm>
            <a:custGeom>
              <a:avLst/>
              <a:gdLst/>
              <a:ahLst/>
              <a:rect l="l" t="t" r="r" b="b"/>
              <a:pathLst>
                <a:path fill="none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</a:path>
                <a:path stroke="0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23"/>
            <p:cNvSpPr/>
            <p:nvPr/>
          </p:nvSpPr>
          <p:spPr>
            <a:xfrm>
              <a:off x="6951600" y="42926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24"/>
            <p:cNvSpPr/>
            <p:nvPr/>
          </p:nvSpPr>
          <p:spPr>
            <a:xfrm>
              <a:off x="5580000" y="43070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Text Box 25"/>
          <p:cNvSpPr/>
          <p:nvPr/>
        </p:nvSpPr>
        <p:spPr>
          <a:xfrm>
            <a:off x="53964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认识等腰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43560" y="404280"/>
            <a:ext cx="779580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剪出的等腰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沿折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出其中相等的线段和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填入下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03600" y="3666960"/>
          <a:ext cx="3341520" cy="1951200"/>
        </p:xfrm>
        <a:graphic>
          <a:graphicData uri="http://schemas.openxmlformats.org/drawingml/2006/table">
            <a:tbl>
              <a:tblPr/>
              <a:tblGrid>
                <a:gridCol w="1898640"/>
                <a:gridCol w="1442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合的线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合的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 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Group 20"/>
          <p:cNvGrpSpPr/>
          <p:nvPr/>
        </p:nvGrpSpPr>
        <p:grpSpPr>
          <a:xfrm>
            <a:off x="1116000" y="3213000"/>
            <a:ext cx="2950200" cy="2168280"/>
            <a:chOff x="1116000" y="3213000"/>
            <a:chExt cx="2950200" cy="2168280"/>
          </a:xfrm>
        </p:grpSpPr>
        <p:grpSp>
          <p:nvGrpSpPr>
            <p:cNvPr id="101" name="Group 21"/>
            <p:cNvGrpSpPr/>
            <p:nvPr/>
          </p:nvGrpSpPr>
          <p:grpSpPr>
            <a:xfrm>
              <a:off x="1116000" y="3213000"/>
              <a:ext cx="2950200" cy="2168280"/>
              <a:chOff x="1116000" y="3213000"/>
              <a:chExt cx="2950200" cy="2168280"/>
            </a:xfrm>
          </p:grpSpPr>
          <p:sp>
            <p:nvSpPr>
              <p:cNvPr id="102" name="AutoShape 22"/>
              <p:cNvSpPr/>
              <p:nvPr/>
            </p:nvSpPr>
            <p:spPr>
              <a:xfrm rot="16200000">
                <a:off x="1754280" y="3520440"/>
                <a:ext cx="1584360" cy="13939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3"/>
              <p:cNvSpPr/>
              <p:nvPr/>
            </p:nvSpPr>
            <p:spPr>
              <a:xfrm>
                <a:off x="1116000" y="4292280"/>
                <a:ext cx="65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24"/>
              <p:cNvSpPr/>
              <p:nvPr/>
            </p:nvSpPr>
            <p:spPr>
              <a:xfrm>
                <a:off x="2837160" y="5013000"/>
                <a:ext cx="65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25"/>
              <p:cNvSpPr/>
              <p:nvPr/>
            </p:nvSpPr>
            <p:spPr>
              <a:xfrm>
                <a:off x="3411720" y="4292280"/>
                <a:ext cx="65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6"/>
              <p:cNvSpPr/>
              <p:nvPr/>
            </p:nvSpPr>
            <p:spPr>
              <a:xfrm>
                <a:off x="3411720" y="3213000"/>
                <a:ext cx="65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Line 27"/>
            <p:cNvSpPr/>
            <p:nvPr/>
          </p:nvSpPr>
          <p:spPr>
            <a:xfrm>
              <a:off x="1935000" y="4221000"/>
              <a:ext cx="1231200" cy="0"/>
            </a:xfrm>
            <a:prstGeom prst="line">
              <a:avLst/>
            </a:prstGeom>
            <a:ln w="381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4572000" y="40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580000" y="40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6516720" y="4005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7380360" y="4005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199"/>
          <p:cNvSpPr/>
          <p:nvPr/>
        </p:nvSpPr>
        <p:spPr>
          <a:xfrm>
            <a:off x="2085840" y="93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539640" y="333720"/>
            <a:ext cx="860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发现等腰三角形有什么性质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一说你的猜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17056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性质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等腰三角形的两底角相等。（简写成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等边对等角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116000" y="4365720"/>
            <a:ext cx="1893960" cy="1727280"/>
            <a:chOff x="1116000" y="4365720"/>
            <a:chExt cx="1893960" cy="1727280"/>
          </a:xfrm>
        </p:grpSpPr>
        <p:sp>
          <p:nvSpPr>
            <p:cNvPr id="116" name="Arc 5"/>
            <p:cNvSpPr/>
            <p:nvPr/>
          </p:nvSpPr>
          <p:spPr>
            <a:xfrm rot="12000000">
              <a:off x="2918520" y="5909400"/>
              <a:ext cx="68040" cy="14760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 flipH="1">
              <a:off x="1116000" y="4365720"/>
              <a:ext cx="993600" cy="1727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539640" y="3933720"/>
            <a:ext cx="3071880" cy="2592360"/>
            <a:chOff x="539640" y="3933720"/>
            <a:chExt cx="3071880" cy="2592360"/>
          </a:xfrm>
        </p:grpSpPr>
        <p:sp>
          <p:nvSpPr>
            <p:cNvPr id="119" name="AutoShape 8"/>
            <p:cNvSpPr/>
            <p:nvPr/>
          </p:nvSpPr>
          <p:spPr>
            <a:xfrm>
              <a:off x="1139760" y="4370400"/>
              <a:ext cx="1920960" cy="1703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2843280" y="5580000"/>
              <a:ext cx="768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539640" y="6006960"/>
              <a:ext cx="863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1835280" y="3933720"/>
              <a:ext cx="86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2"/>
          <p:cNvGrpSpPr/>
          <p:nvPr/>
        </p:nvGrpSpPr>
        <p:grpSpPr>
          <a:xfrm>
            <a:off x="1235520" y="4365720"/>
            <a:ext cx="1823400" cy="1728720"/>
            <a:chOff x="1235520" y="4365720"/>
            <a:chExt cx="1823400" cy="1728720"/>
          </a:xfrm>
        </p:grpSpPr>
        <p:sp>
          <p:nvSpPr>
            <p:cNvPr id="124" name="Arc 13"/>
            <p:cNvSpPr/>
            <p:nvPr/>
          </p:nvSpPr>
          <p:spPr>
            <a:xfrm rot="20400000">
              <a:off x="1258560" y="5915880"/>
              <a:ext cx="65160" cy="14796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2097000" y="4365720"/>
              <a:ext cx="961920" cy="17287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Object 15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6"/>
          <p:cNvSpPr/>
          <p:nvPr/>
        </p:nvSpPr>
        <p:spPr>
          <a:xfrm>
            <a:off x="4427640" y="21970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性质２：等腰三角形的顶角的平分线，底边上的中线，底边上的高互相重合。（简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线合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4427640" y="3581280"/>
            <a:ext cx="2895480" cy="3276000"/>
            <a:chOff x="4427640" y="3581280"/>
            <a:chExt cx="2895480" cy="3276000"/>
          </a:xfrm>
        </p:grpSpPr>
        <p:grpSp>
          <p:nvGrpSpPr>
            <p:cNvPr id="129" name="Group 18"/>
            <p:cNvGrpSpPr/>
            <p:nvPr/>
          </p:nvGrpSpPr>
          <p:grpSpPr>
            <a:xfrm>
              <a:off x="4427640" y="3581280"/>
              <a:ext cx="2895480" cy="3276000"/>
              <a:chOff x="4427640" y="3581280"/>
              <a:chExt cx="2895480" cy="3276000"/>
            </a:xfrm>
          </p:grpSpPr>
          <p:grpSp>
            <p:nvGrpSpPr>
              <p:cNvPr id="130" name="Group 19"/>
              <p:cNvGrpSpPr/>
              <p:nvPr/>
            </p:nvGrpSpPr>
            <p:grpSpPr>
              <a:xfrm>
                <a:off x="4427640" y="3581280"/>
                <a:ext cx="2895480" cy="3276000"/>
                <a:chOff x="4427640" y="3581280"/>
                <a:chExt cx="2895480" cy="3276000"/>
              </a:xfrm>
            </p:grpSpPr>
            <p:grpSp>
              <p:nvGrpSpPr>
                <p:cNvPr id="131" name="Group 20"/>
                <p:cNvGrpSpPr/>
                <p:nvPr/>
              </p:nvGrpSpPr>
              <p:grpSpPr>
                <a:xfrm>
                  <a:off x="4427640" y="3581280"/>
                  <a:ext cx="2895480" cy="3276000"/>
                  <a:chOff x="4427640" y="3581280"/>
                  <a:chExt cx="2895480" cy="3276000"/>
                </a:xfrm>
              </p:grpSpPr>
              <p:sp>
                <p:nvSpPr>
                  <p:cNvPr id="132" name="Text Box 21"/>
                  <p:cNvSpPr/>
                  <p:nvPr/>
                </p:nvSpPr>
                <p:spPr>
                  <a:xfrm>
                    <a:off x="5586480" y="3581280"/>
                    <a:ext cx="107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Text Box 22"/>
                  <p:cNvSpPr/>
                  <p:nvPr/>
                </p:nvSpPr>
                <p:spPr>
                  <a:xfrm>
                    <a:off x="4427640" y="5649480"/>
                    <a:ext cx="744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Text Box 23"/>
                  <p:cNvSpPr/>
                  <p:nvPr/>
                </p:nvSpPr>
                <p:spPr>
                  <a:xfrm>
                    <a:off x="6661080" y="560196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Text Box 24"/>
                  <p:cNvSpPr/>
                  <p:nvPr/>
                </p:nvSpPr>
                <p:spPr>
                  <a:xfrm>
                    <a:off x="5586480" y="593208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Group 25"/>
                  <p:cNvGrpSpPr/>
                  <p:nvPr/>
                </p:nvGrpSpPr>
                <p:grpSpPr>
                  <a:xfrm>
                    <a:off x="5169960" y="4722120"/>
                    <a:ext cx="1242360" cy="675720"/>
                    <a:chOff x="5169960" y="4722120"/>
                    <a:chExt cx="1242360" cy="675720"/>
                  </a:xfrm>
                </p:grpSpPr>
                <p:sp>
                  <p:nvSpPr>
                    <p:cNvPr id="137" name="Text Box 26"/>
                    <p:cNvSpPr/>
                    <p:nvPr/>
                  </p:nvSpPr>
                  <p:spPr>
                    <a:xfrm rot="10831200">
                      <a:off x="5171760" y="4726080"/>
                      <a:ext cx="748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8" name="Group 27"/>
                    <p:cNvGrpSpPr/>
                    <p:nvPr/>
                  </p:nvGrpSpPr>
                  <p:grpSpPr>
                    <a:xfrm>
                      <a:off x="5416200" y="4722120"/>
                      <a:ext cx="996120" cy="675720"/>
                      <a:chOff x="5416200" y="4722120"/>
                      <a:chExt cx="996120" cy="675720"/>
                    </a:xfrm>
                  </p:grpSpPr>
                  <p:sp>
                    <p:nvSpPr>
                      <p:cNvPr id="139" name="Text Box 28"/>
                      <p:cNvSpPr/>
                      <p:nvPr/>
                    </p:nvSpPr>
                    <p:spPr>
                      <a:xfrm rot="10837800">
                        <a:off x="5418720" y="4726440"/>
                        <a:ext cx="828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⌒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0" name="Group 29"/>
                      <p:cNvGrpSpPr/>
                      <p:nvPr/>
                    </p:nvGrpSpPr>
                    <p:grpSpPr>
                      <a:xfrm>
                        <a:off x="5420160" y="4938120"/>
                        <a:ext cx="992160" cy="459720"/>
                        <a:chOff x="5420160" y="4938120"/>
                        <a:chExt cx="992160" cy="459720"/>
                      </a:xfrm>
                    </p:grpSpPr>
                    <p:sp>
                      <p:nvSpPr>
                        <p:cNvPr id="141" name="Text Box 30"/>
                        <p:cNvSpPr/>
                        <p:nvPr/>
                      </p:nvSpPr>
                      <p:spPr>
                        <a:xfrm>
                          <a:off x="5420160" y="4938120"/>
                          <a:ext cx="33084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Text Box 31"/>
                        <p:cNvSpPr/>
                        <p:nvPr/>
                      </p:nvSpPr>
                      <p:spPr>
                        <a:xfrm>
                          <a:off x="5916240" y="4938120"/>
                          <a:ext cx="49608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2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3" name="Text Box 32"/>
                  <p:cNvSpPr/>
                  <p:nvPr/>
                </p:nvSpPr>
                <p:spPr>
                  <a:xfrm>
                    <a:off x="5646600" y="6400440"/>
                    <a:ext cx="9144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Group 33"/>
                <p:cNvGrpSpPr/>
                <p:nvPr/>
              </p:nvGrpSpPr>
              <p:grpSpPr>
                <a:xfrm>
                  <a:off x="4924440" y="4195440"/>
                  <a:ext cx="1819080" cy="1900800"/>
                  <a:chOff x="4924440" y="4195440"/>
                  <a:chExt cx="1819080" cy="1900800"/>
                </a:xfrm>
              </p:grpSpPr>
              <p:sp>
                <p:nvSpPr>
                  <p:cNvPr id="145" name="AutoShape 34"/>
                  <p:cNvSpPr/>
                  <p:nvPr/>
                </p:nvSpPr>
                <p:spPr>
                  <a:xfrm>
                    <a:off x="4924440" y="4195440"/>
                    <a:ext cx="1819080" cy="181872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5834160" y="4277520"/>
                    <a:ext cx="0" cy="1818720"/>
                  </a:xfrm>
                  <a:prstGeom prst="line">
                    <a:avLst/>
                  </a:prstGeom>
                  <a:ln cap="rnd" w="50760">
                    <a:solidFill>
                      <a:srgbClr val="0033cc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Group 36"/>
              <p:cNvGrpSpPr/>
              <p:nvPr/>
            </p:nvGrpSpPr>
            <p:grpSpPr>
              <a:xfrm>
                <a:off x="5580000" y="4696560"/>
                <a:ext cx="533520" cy="228240"/>
                <a:chOff x="5580000" y="4696560"/>
                <a:chExt cx="533520" cy="228240"/>
              </a:xfrm>
            </p:grpSpPr>
            <p:sp>
              <p:nvSpPr>
                <p:cNvPr id="148" name="Arc 37"/>
                <p:cNvSpPr/>
                <p:nvPr/>
              </p:nvSpPr>
              <p:spPr>
                <a:xfrm flipV="1">
                  <a:off x="5808600" y="4772880"/>
                  <a:ext cx="30492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Arc 38"/>
                <p:cNvSpPr/>
                <p:nvPr/>
              </p:nvSpPr>
              <p:spPr>
                <a:xfrm flipV="1">
                  <a:off x="5580000" y="4696200"/>
                  <a:ext cx="304920" cy="152280"/>
                </a:xfrm>
                <a:custGeom>
                  <a:avLst/>
                  <a:gdLst/>
                  <a:ahLst/>
                  <a:rect l="l" t="t" r="r" b="b"/>
                  <a:pathLst>
                    <a:path fill="none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</a:path>
                    <a:path stroke="0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  <a:lnTo>
                        <a:pt x="21550" y="20885"/>
                      </a:lnTo>
                      <a:lnTo>
                        <a:pt x="0" y="1941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Text Box 39"/>
            <p:cNvSpPr/>
            <p:nvPr/>
          </p:nvSpPr>
          <p:spPr>
            <a:xfrm>
              <a:off x="5415120" y="48780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40"/>
            <p:cNvSpPr/>
            <p:nvPr/>
          </p:nvSpPr>
          <p:spPr>
            <a:xfrm>
              <a:off x="5919840" y="4949640"/>
              <a:ext cx="2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340000" y="2421000"/>
            <a:ext cx="6048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性质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2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腰三角形的顶角的平分线，底边上的中线，底边上的高互相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B =AC,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点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、∵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D ⊥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∴∠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= ∠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____=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、∵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是中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∴ 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⊥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，∠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=∠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、∵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是角平分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∴ 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⊥ 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=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9012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0544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138560" y="39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930920" y="4005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651640" y="4076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27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49236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5720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508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627280" y="544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562200" y="5446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354560" y="5375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5076720" y="54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268360" y="0"/>
            <a:ext cx="468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用符号语言表示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2195640" y="580536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等腰三角形是轴对称图形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对称轴是底边上的中线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顶角平分线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底边上的高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所在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6516720" y="3141720"/>
            <a:ext cx="2895480" cy="3276000"/>
            <a:chOff x="6516720" y="3141720"/>
            <a:chExt cx="2895480" cy="3276000"/>
          </a:xfrm>
        </p:grpSpPr>
        <p:grpSp>
          <p:nvGrpSpPr>
            <p:cNvPr id="169" name="Group 19"/>
            <p:cNvGrpSpPr/>
            <p:nvPr/>
          </p:nvGrpSpPr>
          <p:grpSpPr>
            <a:xfrm>
              <a:off x="6516720" y="3141720"/>
              <a:ext cx="2895480" cy="3276000"/>
              <a:chOff x="6516720" y="3141720"/>
              <a:chExt cx="2895480" cy="3276000"/>
            </a:xfrm>
          </p:grpSpPr>
          <p:grpSp>
            <p:nvGrpSpPr>
              <p:cNvPr id="170" name="Group 20"/>
              <p:cNvGrpSpPr/>
              <p:nvPr/>
            </p:nvGrpSpPr>
            <p:grpSpPr>
              <a:xfrm>
                <a:off x="6516720" y="3141720"/>
                <a:ext cx="2895480" cy="3276000"/>
                <a:chOff x="6516720" y="3141720"/>
                <a:chExt cx="2895480" cy="3276000"/>
              </a:xfrm>
            </p:grpSpPr>
            <p:grpSp>
              <p:nvGrpSpPr>
                <p:cNvPr id="171" name="Group 21"/>
                <p:cNvGrpSpPr/>
                <p:nvPr/>
              </p:nvGrpSpPr>
              <p:grpSpPr>
                <a:xfrm>
                  <a:off x="6516720" y="3141720"/>
                  <a:ext cx="2895480" cy="3276000"/>
                  <a:chOff x="6516720" y="3141720"/>
                  <a:chExt cx="2895480" cy="3276000"/>
                </a:xfrm>
              </p:grpSpPr>
              <p:sp>
                <p:nvSpPr>
                  <p:cNvPr id="172" name="Text Box 22"/>
                  <p:cNvSpPr/>
                  <p:nvPr/>
                </p:nvSpPr>
                <p:spPr>
                  <a:xfrm>
                    <a:off x="7675560" y="3141720"/>
                    <a:ext cx="107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Text Box 23"/>
                  <p:cNvSpPr/>
                  <p:nvPr/>
                </p:nvSpPr>
                <p:spPr>
                  <a:xfrm>
                    <a:off x="6516720" y="5209920"/>
                    <a:ext cx="744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Text Box 24"/>
                  <p:cNvSpPr/>
                  <p:nvPr/>
                </p:nvSpPr>
                <p:spPr>
                  <a:xfrm>
                    <a:off x="8750160" y="516240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Text Box 25"/>
                  <p:cNvSpPr/>
                  <p:nvPr/>
                </p:nvSpPr>
                <p:spPr>
                  <a:xfrm>
                    <a:off x="7675560" y="549252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Group 26"/>
                  <p:cNvGrpSpPr/>
                  <p:nvPr/>
                </p:nvGrpSpPr>
                <p:grpSpPr>
                  <a:xfrm>
                    <a:off x="7259040" y="4282560"/>
                    <a:ext cx="1242360" cy="675720"/>
                    <a:chOff x="7259040" y="4282560"/>
                    <a:chExt cx="1242360" cy="675720"/>
                  </a:xfrm>
                </p:grpSpPr>
                <p:sp>
                  <p:nvSpPr>
                    <p:cNvPr id="177" name="Text Box 27"/>
                    <p:cNvSpPr/>
                    <p:nvPr/>
                  </p:nvSpPr>
                  <p:spPr>
                    <a:xfrm rot="10831200">
                      <a:off x="7260840" y="4286520"/>
                      <a:ext cx="748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8" name="Group 28"/>
                    <p:cNvGrpSpPr/>
                    <p:nvPr/>
                  </p:nvGrpSpPr>
                  <p:grpSpPr>
                    <a:xfrm>
                      <a:off x="7505280" y="4282560"/>
                      <a:ext cx="996120" cy="675720"/>
                      <a:chOff x="7505280" y="4282560"/>
                      <a:chExt cx="996120" cy="675720"/>
                    </a:xfrm>
                  </p:grpSpPr>
                  <p:sp>
                    <p:nvSpPr>
                      <p:cNvPr id="179" name="Text Box 29"/>
                      <p:cNvSpPr/>
                      <p:nvPr/>
                    </p:nvSpPr>
                    <p:spPr>
                      <a:xfrm rot="10837800">
                        <a:off x="7507800" y="4286880"/>
                        <a:ext cx="828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⌒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0" name="Group 30"/>
                      <p:cNvGrpSpPr/>
                      <p:nvPr/>
                    </p:nvGrpSpPr>
                    <p:grpSpPr>
                      <a:xfrm>
                        <a:off x="7509240" y="4498560"/>
                        <a:ext cx="992160" cy="459720"/>
                        <a:chOff x="7509240" y="4498560"/>
                        <a:chExt cx="992160" cy="459720"/>
                      </a:xfrm>
                    </p:grpSpPr>
                    <p:sp>
                      <p:nvSpPr>
                        <p:cNvPr id="181" name="Text Box 31"/>
                        <p:cNvSpPr/>
                        <p:nvPr/>
                      </p:nvSpPr>
                      <p:spPr>
                        <a:xfrm>
                          <a:off x="7509240" y="4498560"/>
                          <a:ext cx="33084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Text Box 32"/>
                        <p:cNvSpPr/>
                        <p:nvPr/>
                      </p:nvSpPr>
                      <p:spPr>
                        <a:xfrm>
                          <a:off x="8005320" y="4498560"/>
                          <a:ext cx="49608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2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83" name="Text Box 33"/>
                  <p:cNvSpPr/>
                  <p:nvPr/>
                </p:nvSpPr>
                <p:spPr>
                  <a:xfrm>
                    <a:off x="7735680" y="5960880"/>
                    <a:ext cx="9144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34"/>
                <p:cNvGrpSpPr/>
                <p:nvPr/>
              </p:nvGrpSpPr>
              <p:grpSpPr>
                <a:xfrm>
                  <a:off x="7013520" y="3755880"/>
                  <a:ext cx="1819080" cy="1900800"/>
                  <a:chOff x="7013520" y="3755880"/>
                  <a:chExt cx="1819080" cy="1900800"/>
                </a:xfrm>
              </p:grpSpPr>
              <p:sp>
                <p:nvSpPr>
                  <p:cNvPr id="185" name="AutoShape 35"/>
                  <p:cNvSpPr/>
                  <p:nvPr/>
                </p:nvSpPr>
                <p:spPr>
                  <a:xfrm>
                    <a:off x="7013520" y="3755880"/>
                    <a:ext cx="1819080" cy="1818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cc00"/>
                  </a:solidFill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Line 36"/>
                  <p:cNvSpPr/>
                  <p:nvPr/>
                </p:nvSpPr>
                <p:spPr>
                  <a:xfrm>
                    <a:off x="7923240" y="3837960"/>
                    <a:ext cx="0" cy="1818720"/>
                  </a:xfrm>
                  <a:prstGeom prst="line">
                    <a:avLst/>
                  </a:prstGeom>
                  <a:ln cap="rnd" w="50760">
                    <a:solidFill>
                      <a:srgbClr val="0033cc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" name="Group 37"/>
              <p:cNvGrpSpPr/>
              <p:nvPr/>
            </p:nvGrpSpPr>
            <p:grpSpPr>
              <a:xfrm>
                <a:off x="7669080" y="4257000"/>
                <a:ext cx="533520" cy="228240"/>
                <a:chOff x="7669080" y="4257000"/>
                <a:chExt cx="533520" cy="228240"/>
              </a:xfrm>
            </p:grpSpPr>
            <p:sp>
              <p:nvSpPr>
                <p:cNvPr id="188" name="Arc 38"/>
                <p:cNvSpPr/>
                <p:nvPr/>
              </p:nvSpPr>
              <p:spPr>
                <a:xfrm flipV="1">
                  <a:off x="7897680" y="4333320"/>
                  <a:ext cx="30492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Arc 39"/>
                <p:cNvSpPr/>
                <p:nvPr/>
              </p:nvSpPr>
              <p:spPr>
                <a:xfrm flipV="1">
                  <a:off x="7669080" y="4256640"/>
                  <a:ext cx="304920" cy="152280"/>
                </a:xfrm>
                <a:custGeom>
                  <a:avLst/>
                  <a:gdLst/>
                  <a:ahLst/>
                  <a:rect l="l" t="t" r="r" b="b"/>
                  <a:pathLst>
                    <a:path fill="none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</a:path>
                    <a:path stroke="0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  <a:lnTo>
                        <a:pt x="21550" y="20885"/>
                      </a:lnTo>
                      <a:lnTo>
                        <a:pt x="0" y="1941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40"/>
            <p:cNvSpPr/>
            <p:nvPr/>
          </p:nvSpPr>
          <p:spPr>
            <a:xfrm>
              <a:off x="7504200" y="443844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1"/>
            <p:cNvSpPr/>
            <p:nvPr/>
          </p:nvSpPr>
          <p:spPr>
            <a:xfrm>
              <a:off x="8008920" y="4510080"/>
              <a:ext cx="2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42"/>
          <p:cNvSpPr/>
          <p:nvPr/>
        </p:nvSpPr>
        <p:spPr>
          <a:xfrm>
            <a:off x="2268360" y="549360"/>
            <a:ext cx="4896000" cy="18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性质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1: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等腰三角形的两底角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在△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ABC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中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∵ 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AC=AB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∴ ∠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B=∠C 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幼圆"/>
                <a:ea typeface="幼圆"/>
              </a:rPr>
              <a:t>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3"/>
          <p:cNvSpPr/>
          <p:nvPr/>
        </p:nvSpPr>
        <p:spPr>
          <a:xfrm>
            <a:off x="4211640" y="134136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onotype Corsiva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4284720" y="184464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onotype Corsiva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6072120" y="0"/>
            <a:ext cx="3071880" cy="2592360"/>
            <a:chOff x="6072120" y="0"/>
            <a:chExt cx="3071880" cy="2592360"/>
          </a:xfrm>
        </p:grpSpPr>
        <p:sp>
          <p:nvSpPr>
            <p:cNvPr id="196" name="AutoShape 46"/>
            <p:cNvSpPr/>
            <p:nvPr/>
          </p:nvSpPr>
          <p:spPr>
            <a:xfrm>
              <a:off x="6672240" y="436680"/>
              <a:ext cx="1920960" cy="1703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7"/>
            <p:cNvSpPr/>
            <p:nvPr/>
          </p:nvSpPr>
          <p:spPr>
            <a:xfrm>
              <a:off x="8375760" y="1646280"/>
              <a:ext cx="768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8"/>
            <p:cNvSpPr/>
            <p:nvPr/>
          </p:nvSpPr>
          <p:spPr>
            <a:xfrm>
              <a:off x="6072120" y="2073240"/>
              <a:ext cx="863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9"/>
            <p:cNvSpPr/>
            <p:nvPr/>
          </p:nvSpPr>
          <p:spPr>
            <a:xfrm>
              <a:off x="7367760" y="0"/>
              <a:ext cx="86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50"/>
          <p:cNvGrpSpPr/>
          <p:nvPr/>
        </p:nvGrpSpPr>
        <p:grpSpPr>
          <a:xfrm>
            <a:off x="6659280" y="404640"/>
            <a:ext cx="1823040" cy="1729080"/>
            <a:chOff x="6659280" y="404640"/>
            <a:chExt cx="1823040" cy="1729080"/>
          </a:xfrm>
        </p:grpSpPr>
        <p:sp>
          <p:nvSpPr>
            <p:cNvPr id="201" name="Arc 51"/>
            <p:cNvSpPr/>
            <p:nvPr/>
          </p:nvSpPr>
          <p:spPr>
            <a:xfrm rot="12000000">
              <a:off x="8393400" y="1949040"/>
              <a:ext cx="65160" cy="14796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52"/>
            <p:cNvSpPr/>
            <p:nvPr/>
          </p:nvSpPr>
          <p:spPr>
            <a:xfrm flipH="1">
              <a:off x="6659280" y="404640"/>
              <a:ext cx="955800" cy="1729080"/>
            </a:xfrm>
            <a:prstGeom prst="line">
              <a:avLst/>
            </a:prstGeom>
            <a:ln w="442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3"/>
          <p:cNvGrpSpPr/>
          <p:nvPr/>
        </p:nvGrpSpPr>
        <p:grpSpPr>
          <a:xfrm>
            <a:off x="6780600" y="476280"/>
            <a:ext cx="1823400" cy="1728720"/>
            <a:chOff x="6780600" y="476280"/>
            <a:chExt cx="1823400" cy="1728720"/>
          </a:xfrm>
        </p:grpSpPr>
        <p:sp>
          <p:nvSpPr>
            <p:cNvPr id="204" name="Arc 54"/>
            <p:cNvSpPr/>
            <p:nvPr/>
          </p:nvSpPr>
          <p:spPr>
            <a:xfrm rot="20400000">
              <a:off x="6803640" y="2026440"/>
              <a:ext cx="65160" cy="14796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5"/>
            <p:cNvSpPr/>
            <p:nvPr/>
          </p:nvSpPr>
          <p:spPr>
            <a:xfrm>
              <a:off x="7642080" y="476280"/>
              <a:ext cx="961920" cy="17287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4920" y="228600"/>
            <a:ext cx="79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AB=AC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=BC=AD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角的度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24000" y="1197000"/>
            <a:ext cx="83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AB=AC,BD=BC=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= ∠ C= ∠ B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= ∠ ADD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等边对等角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设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=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DC= ∠ A+ ∠ ABD=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从而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= ∠ C= ∠ BDC=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于是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+ ∠ ABC+ ∠ C=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18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得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3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∠ A=3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∠,ABC= ∠ C=7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6588000" y="2060640"/>
            <a:ext cx="2087280" cy="2239920"/>
            <a:chOff x="6588000" y="2060640"/>
            <a:chExt cx="2087280" cy="2239920"/>
          </a:xfrm>
        </p:grpSpPr>
        <p:sp>
          <p:nvSpPr>
            <p:cNvPr id="209" name="Line 5"/>
            <p:cNvSpPr/>
            <p:nvPr/>
          </p:nvSpPr>
          <p:spPr>
            <a:xfrm flipV="1">
              <a:off x="7058520" y="3429000"/>
              <a:ext cx="9424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6588000" y="2060640"/>
              <a:ext cx="2087280" cy="2239920"/>
              <a:chOff x="6588000" y="2060640"/>
              <a:chExt cx="2087280" cy="2239920"/>
            </a:xfrm>
          </p:grpSpPr>
          <p:sp>
            <p:nvSpPr>
              <p:cNvPr id="211" name="AutoShape 7"/>
              <p:cNvSpPr/>
              <p:nvPr/>
            </p:nvSpPr>
            <p:spPr>
              <a:xfrm>
                <a:off x="6991560" y="2348280"/>
                <a:ext cx="1346760" cy="17287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Text Box 8"/>
              <p:cNvSpPr/>
              <p:nvPr/>
            </p:nvSpPr>
            <p:spPr>
              <a:xfrm>
                <a:off x="6588000" y="3932280"/>
                <a:ext cx="40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8271360" y="3932280"/>
                <a:ext cx="4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0"/>
              <p:cNvSpPr/>
              <p:nvPr/>
            </p:nvSpPr>
            <p:spPr>
              <a:xfrm>
                <a:off x="7463520" y="2060640"/>
                <a:ext cx="4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1"/>
              <p:cNvSpPr/>
              <p:nvPr/>
            </p:nvSpPr>
            <p:spPr>
              <a:xfrm>
                <a:off x="8136360" y="3213360"/>
                <a:ext cx="4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6" name="Object 1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17" name="Line 14"/>
          <p:cNvSpPr/>
          <p:nvPr/>
        </p:nvSpPr>
        <p:spPr>
          <a:xfrm flipV="1">
            <a:off x="7020000" y="3357360"/>
            <a:ext cx="108108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843280" y="476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609480"/>
            <a:ext cx="91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试牛刀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图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等腰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AB =AC, ∠A = 36°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则∠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B 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∠C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95280" y="414972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式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如图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在等△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腰中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 = 50°,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则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 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如图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在等△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腰中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 = 120°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则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 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2124000" y="2060640"/>
            <a:ext cx="2119320" cy="2095200"/>
            <a:chOff x="2124000" y="2060640"/>
            <a:chExt cx="2119320" cy="2095200"/>
          </a:xfrm>
        </p:grpSpPr>
        <p:grpSp>
          <p:nvGrpSpPr>
            <p:cNvPr id="222" name="Group 6"/>
            <p:cNvGrpSpPr/>
            <p:nvPr/>
          </p:nvGrpSpPr>
          <p:grpSpPr>
            <a:xfrm>
              <a:off x="2124000" y="2060640"/>
              <a:ext cx="2119320" cy="1788480"/>
              <a:chOff x="2124000" y="2060640"/>
              <a:chExt cx="2119320" cy="178848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2628720" y="2581200"/>
                <a:ext cx="1220760" cy="108684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200b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8"/>
              <p:cNvSpPr/>
              <p:nvPr/>
            </p:nvSpPr>
            <p:spPr>
              <a:xfrm>
                <a:off x="3646440" y="3186000"/>
                <a:ext cx="596880" cy="66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aeaea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9"/>
              <p:cNvSpPr/>
              <p:nvPr/>
            </p:nvSpPr>
            <p:spPr>
              <a:xfrm>
                <a:off x="2124000" y="3300120"/>
                <a:ext cx="58572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10"/>
              <p:cNvSpPr/>
              <p:nvPr/>
            </p:nvSpPr>
            <p:spPr>
              <a:xfrm>
                <a:off x="3097080" y="2060640"/>
                <a:ext cx="5479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11"/>
            <p:cNvSpPr/>
            <p:nvPr/>
          </p:nvSpPr>
          <p:spPr>
            <a:xfrm>
              <a:off x="2916360" y="3787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3924360" y="1989000"/>
            <a:ext cx="1963800" cy="2313000"/>
            <a:chOff x="3924360" y="1989000"/>
            <a:chExt cx="1963800" cy="2313000"/>
          </a:xfrm>
        </p:grpSpPr>
        <p:grpSp>
          <p:nvGrpSpPr>
            <p:cNvPr id="229" name="Group 13"/>
            <p:cNvGrpSpPr/>
            <p:nvPr/>
          </p:nvGrpSpPr>
          <p:grpSpPr>
            <a:xfrm>
              <a:off x="3924360" y="1989000"/>
              <a:ext cx="1963800" cy="1831680"/>
              <a:chOff x="3924360" y="1989000"/>
              <a:chExt cx="1963800" cy="1831680"/>
            </a:xfrm>
          </p:grpSpPr>
          <p:sp>
            <p:nvSpPr>
              <p:cNvPr id="230" name="AutoShape 14"/>
              <p:cNvSpPr/>
              <p:nvPr/>
            </p:nvSpPr>
            <p:spPr>
              <a:xfrm>
                <a:off x="4457880" y="2698560"/>
                <a:ext cx="1266840" cy="109044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200b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Text Box 15"/>
              <p:cNvSpPr/>
              <p:nvPr/>
            </p:nvSpPr>
            <p:spPr>
              <a:xfrm>
                <a:off x="4500720" y="1989000"/>
                <a:ext cx="59688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aeaea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302440" y="3290760"/>
                <a:ext cx="58572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Text Box 17"/>
              <p:cNvSpPr/>
              <p:nvPr/>
            </p:nvSpPr>
            <p:spPr>
              <a:xfrm>
                <a:off x="3924360" y="3328560"/>
                <a:ext cx="54936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8"/>
            <p:cNvSpPr/>
            <p:nvPr/>
          </p:nvSpPr>
          <p:spPr>
            <a:xfrm>
              <a:off x="4789440" y="3933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9"/>
          <p:cNvGrpSpPr/>
          <p:nvPr/>
        </p:nvGrpSpPr>
        <p:grpSpPr>
          <a:xfrm>
            <a:off x="6012000" y="2133720"/>
            <a:ext cx="2771640" cy="2097000"/>
            <a:chOff x="6012000" y="2133720"/>
            <a:chExt cx="2771640" cy="2097000"/>
          </a:xfrm>
        </p:grpSpPr>
        <p:grpSp>
          <p:nvGrpSpPr>
            <p:cNvPr id="236" name="Group 20"/>
            <p:cNvGrpSpPr/>
            <p:nvPr/>
          </p:nvGrpSpPr>
          <p:grpSpPr>
            <a:xfrm>
              <a:off x="6012000" y="2133720"/>
              <a:ext cx="2771640" cy="1771560"/>
              <a:chOff x="6012000" y="2133720"/>
              <a:chExt cx="2771640" cy="1771560"/>
            </a:xfrm>
          </p:grpSpPr>
          <p:sp>
            <p:nvSpPr>
              <p:cNvPr id="237" name="AutoShape 21"/>
              <p:cNvSpPr/>
              <p:nvPr/>
            </p:nvSpPr>
            <p:spPr>
              <a:xfrm>
                <a:off x="6012000" y="2494080"/>
                <a:ext cx="2771640" cy="122400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200b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Text Box 22"/>
              <p:cNvSpPr/>
              <p:nvPr/>
            </p:nvSpPr>
            <p:spPr>
              <a:xfrm>
                <a:off x="8186760" y="3430800"/>
                <a:ext cx="5968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Text Box 23"/>
              <p:cNvSpPr/>
              <p:nvPr/>
            </p:nvSpPr>
            <p:spPr>
              <a:xfrm>
                <a:off x="7380360" y="2133720"/>
                <a:ext cx="5842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A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6227640" y="3573720"/>
                <a:ext cx="5493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25"/>
            <p:cNvSpPr/>
            <p:nvPr/>
          </p:nvSpPr>
          <p:spPr>
            <a:xfrm>
              <a:off x="7020000" y="38624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27"/>
          <p:cNvSpPr/>
          <p:nvPr/>
        </p:nvSpPr>
        <p:spPr>
          <a:xfrm>
            <a:off x="5219640" y="1628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516720" y="1700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1547640" y="4941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3276720" y="501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1547640" y="580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3276720" y="58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本框 8199"/>
          <p:cNvSpPr/>
          <p:nvPr/>
        </p:nvSpPr>
        <p:spPr>
          <a:xfrm>
            <a:off x="2482920" y="27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68360" y="1197000"/>
            <a:ext cx="83772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 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等腰直角三角形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=9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底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高，标出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，图中有哪些相等的线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3860640"/>
            <a:ext cx="8209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练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AD=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=2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度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5724360" y="2492280"/>
            <a:ext cx="2737080" cy="1599840"/>
            <a:chOff x="5724360" y="2492280"/>
            <a:chExt cx="2737080" cy="1599840"/>
          </a:xfrm>
        </p:grpSpPr>
        <p:grpSp>
          <p:nvGrpSpPr>
            <p:cNvPr id="252" name="Group 5"/>
            <p:cNvGrpSpPr/>
            <p:nvPr/>
          </p:nvGrpSpPr>
          <p:grpSpPr>
            <a:xfrm>
              <a:off x="6013440" y="2563560"/>
              <a:ext cx="2016000" cy="1008000"/>
              <a:chOff x="6013440" y="2563560"/>
              <a:chExt cx="2016000" cy="1008000"/>
            </a:xfrm>
          </p:grpSpPr>
          <p:sp>
            <p:nvSpPr>
              <p:cNvPr id="253" name="AutoShape 6"/>
              <p:cNvSpPr/>
              <p:nvPr/>
            </p:nvSpPr>
            <p:spPr>
              <a:xfrm>
                <a:off x="7021440" y="2563560"/>
                <a:ext cx="1008000" cy="1008000"/>
              </a:xfrm>
              <a:prstGeom prst="rtTriangle">
                <a:avLst/>
              </a:prstGeom>
              <a:noFill/>
              <a:ln w="9360">
                <a:solidFill>
                  <a:srgbClr val="0100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AutoShape 7"/>
              <p:cNvSpPr/>
              <p:nvPr/>
            </p:nvSpPr>
            <p:spPr>
              <a:xfrm flipH="1">
                <a:off x="6013440" y="2563560"/>
                <a:ext cx="1008000" cy="1008000"/>
              </a:xfrm>
              <a:prstGeom prst="rtTriangle">
                <a:avLst/>
              </a:prstGeom>
              <a:noFill/>
              <a:ln w="9360">
                <a:solidFill>
                  <a:srgbClr val="0100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8"/>
              <p:cNvSpPr/>
              <p:nvPr/>
            </p:nvSpPr>
            <p:spPr>
              <a:xfrm>
                <a:off x="6877080" y="2707920"/>
                <a:ext cx="287280" cy="144720"/>
              </a:xfrm>
              <a:custGeom>
                <a:avLst/>
                <a:gdLst/>
                <a:ahLst/>
                <a:rect l="l" t="t" r="r" b="b"/>
                <a:pathLst>
                  <a:path w="181" h="91">
                    <a:moveTo>
                      <a:pt x="0" y="0"/>
                    </a:moveTo>
                    <a:lnTo>
                      <a:pt x="91" y="91"/>
                    </a:lnTo>
                    <a:lnTo>
                      <a:pt x="181" y="0"/>
                    </a:lnTo>
                  </a:path>
                </a:pathLst>
              </a:custGeom>
              <a:noFill/>
              <a:ln w="9360">
                <a:solidFill>
                  <a:srgbClr val="0100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9"/>
              <p:cNvSpPr/>
              <p:nvPr/>
            </p:nvSpPr>
            <p:spPr>
              <a:xfrm>
                <a:off x="6877080" y="3355560"/>
                <a:ext cx="287280" cy="216000"/>
              </a:xfrm>
              <a:custGeom>
                <a:avLst/>
                <a:gdLst/>
                <a:ahLst/>
                <a:rect l="l" t="t" r="r" b="b"/>
                <a:pathLst>
                  <a:path w="181" h="136">
                    <a:moveTo>
                      <a:pt x="0" y="136"/>
                    </a:moveTo>
                    <a:lnTo>
                      <a:pt x="0" y="0"/>
                    </a:lnTo>
                    <a:lnTo>
                      <a:pt x="181" y="0"/>
                    </a:lnTo>
                    <a:lnTo>
                      <a:pt x="181" y="136"/>
                    </a:lnTo>
                  </a:path>
                </a:pathLst>
              </a:custGeom>
              <a:noFill/>
              <a:ln w="9360">
                <a:solidFill>
                  <a:srgbClr val="0100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Text Box 10"/>
            <p:cNvSpPr/>
            <p:nvPr/>
          </p:nvSpPr>
          <p:spPr>
            <a:xfrm>
              <a:off x="5724360" y="33555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7164360" y="2492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2"/>
            <p:cNvSpPr/>
            <p:nvPr/>
          </p:nvSpPr>
          <p:spPr>
            <a:xfrm>
              <a:off x="7956720" y="3284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6732720" y="3571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688000" y="4653000"/>
            <a:ext cx="3455640" cy="1960560"/>
            <a:chOff x="5688000" y="4653000"/>
            <a:chExt cx="3455640" cy="1960560"/>
          </a:xfrm>
        </p:grpSpPr>
        <p:grpSp>
          <p:nvGrpSpPr>
            <p:cNvPr id="262" name="Group 15"/>
            <p:cNvGrpSpPr/>
            <p:nvPr/>
          </p:nvGrpSpPr>
          <p:grpSpPr>
            <a:xfrm>
              <a:off x="6191280" y="4797360"/>
              <a:ext cx="2376000" cy="1512720"/>
              <a:chOff x="6191280" y="4797360"/>
              <a:chExt cx="2376000" cy="1512720"/>
            </a:xfrm>
          </p:grpSpPr>
          <p:sp>
            <p:nvSpPr>
              <p:cNvPr id="263" name="AutoShape 16"/>
              <p:cNvSpPr/>
              <p:nvPr/>
            </p:nvSpPr>
            <p:spPr>
              <a:xfrm>
                <a:off x="6191280" y="4797360"/>
                <a:ext cx="647280" cy="1512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100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7"/>
              <p:cNvSpPr/>
              <p:nvPr/>
            </p:nvSpPr>
            <p:spPr>
              <a:xfrm>
                <a:off x="6478200" y="4797360"/>
                <a:ext cx="2089080" cy="1512720"/>
              </a:xfrm>
              <a:custGeom>
                <a:avLst/>
                <a:gdLst/>
                <a:ahLst/>
                <a:rect l="l" t="t" r="r" b="b"/>
                <a:pathLst>
                  <a:path w="1316" h="953">
                    <a:moveTo>
                      <a:pt x="227" y="953"/>
                    </a:moveTo>
                    <a:lnTo>
                      <a:pt x="1044" y="953"/>
                    </a:lnTo>
                    <a:lnTo>
                      <a:pt x="1225" y="953"/>
                    </a:lnTo>
                    <a:lnTo>
                      <a:pt x="1316" y="95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100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Text Box 18"/>
            <p:cNvSpPr/>
            <p:nvPr/>
          </p:nvSpPr>
          <p:spPr>
            <a:xfrm>
              <a:off x="5688000" y="602136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6696000" y="60930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20"/>
            <p:cNvGrpSpPr/>
            <p:nvPr/>
          </p:nvGrpSpPr>
          <p:grpSpPr>
            <a:xfrm>
              <a:off x="6767640" y="4653000"/>
              <a:ext cx="2376000" cy="1744560"/>
              <a:chOff x="6767640" y="4653000"/>
              <a:chExt cx="2376000" cy="1744560"/>
            </a:xfrm>
          </p:grpSpPr>
          <p:sp>
            <p:nvSpPr>
              <p:cNvPr id="268" name="Text Box 21"/>
              <p:cNvSpPr/>
              <p:nvPr/>
            </p:nvSpPr>
            <p:spPr>
              <a:xfrm>
                <a:off x="8567640" y="587700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22"/>
              <p:cNvSpPr/>
              <p:nvPr/>
            </p:nvSpPr>
            <p:spPr>
              <a:xfrm>
                <a:off x="6767640" y="465300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7:58:13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6:0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