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240F-7E00-422F-A851-A5935F0C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0D7C-97FF-4F6E-AF88-6B5D1E412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640-B438-40F9-B413-6B95543A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6311-169B-4357-A51E-C6394C78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6B9C-672C-4BA3-9D21-F5AF4D2B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40D1-249E-49B1-8182-229C11ED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DE73-A9E9-4757-B525-B36679D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1955-0394-49DF-9485-CC832B8C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852-74FA-4A2B-9197-D8D63E8B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36C7-1000-4900-90CE-150FE0AE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7F14-091A-4D72-8CFD-C7911E6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E05-23F8-49A2-9E49-28B6340F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1485-3E60-45CC-AEEF-8C9E901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B320-5EE7-49A2-9564-C9F3285A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9F1C-15A6-4D38-9307-57F441CC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9D08-5459-4310-B78E-C5036812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FDF0-6B66-4B2B-8C6A-E28613B9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5DA48-6966-459F-BF9B-8D2AE04B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A96B2-93B5-42B9-8F4B-6103F31E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5A9E-158D-4A86-8042-85C2934E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C065E-B696-4D63-A624-2114450E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B91C-8F1B-459F-97CC-441B4F6D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866F-0169-4BB2-BB07-99C03118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6BD58-9DD0-4A80-8CF1-BE9495EF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5FCFB-3F6E-4A20-AA46-F0A57BC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A21F-33F3-447F-8348-9E54C8C7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3E710-C07C-4240-9471-E0416FFD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E4E2E-3629-4273-8426-690B2C24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230ED-7BFD-45BA-B273-55B44B06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7D5C7-7EEE-414E-92A6-40EF84DA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A8C-2B32-4497-9246-120773F2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AAD-C6FC-458E-9B20-85881CCA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1A6-3AD8-43AB-AF7A-3197D536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0B8-9FC8-4898-B713-F26D57AF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8B43-B9E9-454A-8432-BA9179FB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B284-823F-4D5F-86CC-EC9FEDEF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A16B-7402-4D48-AD1B-EECE732FB9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组合 22690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组合 22689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任意多边形 22535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grpSp>
            <p:nvGrpSpPr>
              <p:cNvPr id="8" name="组合 22536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组合 22537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任意多边形 22538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任意多边形 22539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任意多边形 22540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任意多边形 22541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任意多边形 22542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任意多边形 22543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任意多边形 22544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任意多边形 22545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任意多边形 22546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任意多边形 22547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任意多边形 22548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任意多边形 22549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任意多边形 22550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任意多边形 22551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任意多边形 22552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任意多边形 22553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任意多边形 22554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任意多边形 22555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任意多边形 22556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任意多边形 22557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任意多边形 22558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任意多边形 22559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任意多边形 22560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任意多边形 22561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任意多边形 22562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任意多边形 22563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任意多边形 22564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任意多边形 22565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任意多边形 22566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任意多边形 22567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任意多边形 22568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任意多边形 22569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任意多边形 22570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任意多边形 22571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任意多边形 22572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任意多边形 22573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任意多边形 22574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任意多边形 22575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任意多边形 22576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任意多边形 22577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任意多边形 22578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任意多边形 22579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任意多边形 22580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任意多边形 22581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任意多边形 22582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任意多边形 22583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任意多边形 22584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任意多边形 22585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任意多边形 22586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任意多边形 22587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任意多边形 22588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任意多边形 22589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任意多边形 22590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任意多边形 22591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任意多边形 22592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任意多边形 22593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组合 22594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任意多边形 22595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任意多边形 22596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任意多边形 22597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任意多边形 22598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任意多边形 22599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任意多边形 22600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任意多边形 22601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任意多边形 22602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任意多边形 22603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任意多边形 22604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任意多边形 22605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任意多边形 22606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任意多边形 22607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任意多边形 22608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任意多边形 22609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任意多边形 22610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任意多边形 22611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任意多边形 22612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任意多边形 22613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任意多边形 22614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任意多边形 22615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任意多边形 22616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任意多边形 22617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任意多边形 22618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任意多边形 22619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任意多边形 22620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任意多边形 22621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任意多边形 22622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任意多边形 22623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任意多边形 22624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任意多边形 22625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任意多边形 22626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任意多边形 22627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任意多边形 22628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任意多边形 22629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任意多边形 22630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任意多边形 22631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任意多边形 22632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任意多边形 22633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任意多边形 22634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任意多边形 22635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任意多边形 22636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组合 22637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grpSp>
              <p:nvGrpSpPr>
                <p:cNvPr id="110" name=""/>
                <p:cNvGrpSpPr/>
                <p:nvPr/>
              </p:nvGrpSpPr>
              <p:grpSpPr>
                <a:xfrm>
                  <a:off x="1266840" y="527040"/>
                  <a:ext cx="7464240" cy="360"/>
                  <a:chOff x="1266840" y="527040"/>
                  <a:chExt cx="7464240" cy="360"/>
                </a:xfrm>
              </p:grpSpPr>
              <p:sp>
                <p:nvSpPr>
                  <p:cNvPr id="111" name="直接连接符 22638"/>
                  <p:cNvSpPr/>
                  <p:nvPr/>
                </p:nvSpPr>
                <p:spPr>
                  <a:xfrm>
                    <a:off x="1266840" y="527040"/>
                    <a:ext cx="7464240" cy="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2" name=""/>
                  <p:cNvSpPr txBox="1"/>
                  <p:nvPr/>
                </p:nvSpPr>
                <p:spPr>
                  <a:xfrm>
                    <a:off x="1266840" y="527040"/>
                    <a:ext cx="7464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1628640" y="176040"/>
                  <a:ext cx="360" cy="663840"/>
                  <a:chOff x="1628640" y="176040"/>
                  <a:chExt cx="360" cy="663840"/>
                </a:xfrm>
              </p:grpSpPr>
              <p:sp>
                <p:nvSpPr>
                  <p:cNvPr id="114" name="直接连接符 22639"/>
                  <p:cNvSpPr/>
                  <p:nvPr/>
                </p:nvSpPr>
                <p:spPr>
                  <a:xfrm>
                    <a:off x="162864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5" name=""/>
                  <p:cNvSpPr txBox="1"/>
                  <p:nvPr/>
                </p:nvSpPr>
                <p:spPr>
                  <a:xfrm>
                    <a:off x="162864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1990800" y="176040"/>
                  <a:ext cx="360" cy="663840"/>
                  <a:chOff x="1990800" y="176040"/>
                  <a:chExt cx="360" cy="663840"/>
                </a:xfrm>
              </p:grpSpPr>
              <p:sp>
                <p:nvSpPr>
                  <p:cNvPr id="117" name="直接连接符 22640"/>
                  <p:cNvSpPr/>
                  <p:nvPr/>
                </p:nvSpPr>
                <p:spPr>
                  <a:xfrm>
                    <a:off x="199080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8" name=""/>
                  <p:cNvSpPr txBox="1"/>
                  <p:nvPr/>
                </p:nvSpPr>
                <p:spPr>
                  <a:xfrm>
                    <a:off x="199080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2352600" y="176040"/>
                  <a:ext cx="360" cy="663840"/>
                  <a:chOff x="2352600" y="176040"/>
                  <a:chExt cx="360" cy="663840"/>
                </a:xfrm>
              </p:grpSpPr>
              <p:sp>
                <p:nvSpPr>
                  <p:cNvPr id="120" name="直接连接符 22641"/>
                  <p:cNvSpPr/>
                  <p:nvPr/>
                </p:nvSpPr>
                <p:spPr>
                  <a:xfrm>
                    <a:off x="235260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1" name=""/>
                  <p:cNvSpPr txBox="1"/>
                  <p:nvPr/>
                </p:nvSpPr>
                <p:spPr>
                  <a:xfrm>
                    <a:off x="235260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2714760" y="176040"/>
                  <a:ext cx="360" cy="663840"/>
                  <a:chOff x="2714760" y="176040"/>
                  <a:chExt cx="360" cy="663840"/>
                </a:xfrm>
              </p:grpSpPr>
              <p:sp>
                <p:nvSpPr>
                  <p:cNvPr id="123" name="直接连接符 22642"/>
                  <p:cNvSpPr/>
                  <p:nvPr/>
                </p:nvSpPr>
                <p:spPr>
                  <a:xfrm>
                    <a:off x="271476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4" name=""/>
                  <p:cNvSpPr txBox="1"/>
                  <p:nvPr/>
                </p:nvSpPr>
                <p:spPr>
                  <a:xfrm>
                    <a:off x="271476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3076560" y="176040"/>
                  <a:ext cx="360" cy="663840"/>
                  <a:chOff x="3076560" y="176040"/>
                  <a:chExt cx="360" cy="663840"/>
                </a:xfrm>
              </p:grpSpPr>
              <p:sp>
                <p:nvSpPr>
                  <p:cNvPr id="126" name="直接连接符 22643"/>
                  <p:cNvSpPr/>
                  <p:nvPr/>
                </p:nvSpPr>
                <p:spPr>
                  <a:xfrm>
                    <a:off x="307656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7" name=""/>
                  <p:cNvSpPr txBox="1"/>
                  <p:nvPr/>
                </p:nvSpPr>
                <p:spPr>
                  <a:xfrm>
                    <a:off x="307656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3438360" y="176040"/>
                  <a:ext cx="360" cy="663840"/>
                  <a:chOff x="3438360" y="176040"/>
                  <a:chExt cx="360" cy="663840"/>
                </a:xfrm>
              </p:grpSpPr>
              <p:sp>
                <p:nvSpPr>
                  <p:cNvPr id="129" name="直接连接符 22644"/>
                  <p:cNvSpPr/>
                  <p:nvPr/>
                </p:nvSpPr>
                <p:spPr>
                  <a:xfrm>
                    <a:off x="343836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"/>
                  <p:cNvSpPr txBox="1"/>
                  <p:nvPr/>
                </p:nvSpPr>
                <p:spPr>
                  <a:xfrm>
                    <a:off x="343836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3800520" y="176040"/>
                  <a:ext cx="360" cy="663840"/>
                  <a:chOff x="3800520" y="176040"/>
                  <a:chExt cx="360" cy="663840"/>
                </a:xfrm>
              </p:grpSpPr>
              <p:sp>
                <p:nvSpPr>
                  <p:cNvPr id="132" name="直接连接符 22645"/>
                  <p:cNvSpPr/>
                  <p:nvPr/>
                </p:nvSpPr>
                <p:spPr>
                  <a:xfrm>
                    <a:off x="380052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"/>
                  <p:cNvSpPr txBox="1"/>
                  <p:nvPr/>
                </p:nvSpPr>
                <p:spPr>
                  <a:xfrm>
                    <a:off x="380052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4162320" y="176040"/>
                  <a:ext cx="360" cy="663840"/>
                  <a:chOff x="4162320" y="176040"/>
                  <a:chExt cx="360" cy="663840"/>
                </a:xfrm>
              </p:grpSpPr>
              <p:sp>
                <p:nvSpPr>
                  <p:cNvPr id="135" name="直接连接符 22646"/>
                  <p:cNvSpPr/>
                  <p:nvPr/>
                </p:nvSpPr>
                <p:spPr>
                  <a:xfrm>
                    <a:off x="416232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6" name=""/>
                  <p:cNvSpPr txBox="1"/>
                  <p:nvPr/>
                </p:nvSpPr>
                <p:spPr>
                  <a:xfrm>
                    <a:off x="416232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4524480" y="176040"/>
                  <a:ext cx="360" cy="663840"/>
                  <a:chOff x="4524480" y="176040"/>
                  <a:chExt cx="360" cy="663840"/>
                </a:xfrm>
              </p:grpSpPr>
              <p:sp>
                <p:nvSpPr>
                  <p:cNvPr id="138" name="直接连接符 22647"/>
                  <p:cNvSpPr/>
                  <p:nvPr/>
                </p:nvSpPr>
                <p:spPr>
                  <a:xfrm>
                    <a:off x="452448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9" name=""/>
                  <p:cNvSpPr txBox="1"/>
                  <p:nvPr/>
                </p:nvSpPr>
                <p:spPr>
                  <a:xfrm>
                    <a:off x="452448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4886280" y="176040"/>
                  <a:ext cx="360" cy="663840"/>
                  <a:chOff x="4886280" y="176040"/>
                  <a:chExt cx="360" cy="663840"/>
                </a:xfrm>
              </p:grpSpPr>
              <p:sp>
                <p:nvSpPr>
                  <p:cNvPr id="141" name="直接连接符 22648"/>
                  <p:cNvSpPr/>
                  <p:nvPr/>
                </p:nvSpPr>
                <p:spPr>
                  <a:xfrm>
                    <a:off x="488628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2" name=""/>
                  <p:cNvSpPr txBox="1"/>
                  <p:nvPr/>
                </p:nvSpPr>
                <p:spPr>
                  <a:xfrm>
                    <a:off x="488628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5248440" y="176040"/>
                  <a:ext cx="360" cy="663840"/>
                  <a:chOff x="5248440" y="176040"/>
                  <a:chExt cx="360" cy="663840"/>
                </a:xfrm>
              </p:grpSpPr>
              <p:sp>
                <p:nvSpPr>
                  <p:cNvPr id="144" name="直接连接符 22649"/>
                  <p:cNvSpPr/>
                  <p:nvPr/>
                </p:nvSpPr>
                <p:spPr>
                  <a:xfrm>
                    <a:off x="524844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5" name=""/>
                  <p:cNvSpPr txBox="1"/>
                  <p:nvPr/>
                </p:nvSpPr>
                <p:spPr>
                  <a:xfrm>
                    <a:off x="524844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5610240" y="176040"/>
                  <a:ext cx="360" cy="663840"/>
                  <a:chOff x="5610240" y="176040"/>
                  <a:chExt cx="360" cy="663840"/>
                </a:xfrm>
              </p:grpSpPr>
              <p:sp>
                <p:nvSpPr>
                  <p:cNvPr id="147" name="直接连接符 22650"/>
                  <p:cNvSpPr/>
                  <p:nvPr/>
                </p:nvSpPr>
                <p:spPr>
                  <a:xfrm>
                    <a:off x="561024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8" name=""/>
                  <p:cNvSpPr txBox="1"/>
                  <p:nvPr/>
                </p:nvSpPr>
                <p:spPr>
                  <a:xfrm>
                    <a:off x="561024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5972040" y="176040"/>
                  <a:ext cx="360" cy="663840"/>
                  <a:chOff x="5972040" y="176040"/>
                  <a:chExt cx="360" cy="663840"/>
                </a:xfrm>
              </p:grpSpPr>
              <p:sp>
                <p:nvSpPr>
                  <p:cNvPr id="150" name="直接连接符 22651"/>
                  <p:cNvSpPr/>
                  <p:nvPr/>
                </p:nvSpPr>
                <p:spPr>
                  <a:xfrm>
                    <a:off x="597204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1" name=""/>
                  <p:cNvSpPr txBox="1"/>
                  <p:nvPr/>
                </p:nvSpPr>
                <p:spPr>
                  <a:xfrm>
                    <a:off x="597204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6334200" y="176040"/>
                  <a:ext cx="360" cy="663840"/>
                  <a:chOff x="6334200" y="176040"/>
                  <a:chExt cx="360" cy="663840"/>
                </a:xfrm>
              </p:grpSpPr>
              <p:sp>
                <p:nvSpPr>
                  <p:cNvPr id="153" name="直接连接符 22652"/>
                  <p:cNvSpPr/>
                  <p:nvPr/>
                </p:nvSpPr>
                <p:spPr>
                  <a:xfrm>
                    <a:off x="633420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4" name=""/>
                  <p:cNvSpPr txBox="1"/>
                  <p:nvPr/>
                </p:nvSpPr>
                <p:spPr>
                  <a:xfrm>
                    <a:off x="633420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6696000" y="176040"/>
                  <a:ext cx="360" cy="663840"/>
                  <a:chOff x="6696000" y="176040"/>
                  <a:chExt cx="360" cy="663840"/>
                </a:xfrm>
              </p:grpSpPr>
              <p:sp>
                <p:nvSpPr>
                  <p:cNvPr id="156" name="直接连接符 22653"/>
                  <p:cNvSpPr/>
                  <p:nvPr/>
                </p:nvSpPr>
                <p:spPr>
                  <a:xfrm>
                    <a:off x="669600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"/>
                  <p:cNvSpPr txBox="1"/>
                  <p:nvPr/>
                </p:nvSpPr>
                <p:spPr>
                  <a:xfrm>
                    <a:off x="669600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058160" y="176040"/>
                  <a:ext cx="360" cy="663840"/>
                  <a:chOff x="7058160" y="176040"/>
                  <a:chExt cx="360" cy="663840"/>
                </a:xfrm>
              </p:grpSpPr>
              <p:sp>
                <p:nvSpPr>
                  <p:cNvPr id="159" name="直接连接符 22654"/>
                  <p:cNvSpPr/>
                  <p:nvPr/>
                </p:nvSpPr>
                <p:spPr>
                  <a:xfrm>
                    <a:off x="705816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"/>
                  <p:cNvSpPr txBox="1"/>
                  <p:nvPr/>
                </p:nvSpPr>
                <p:spPr>
                  <a:xfrm>
                    <a:off x="705816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7419960" y="176040"/>
                  <a:ext cx="360" cy="663840"/>
                  <a:chOff x="7419960" y="176040"/>
                  <a:chExt cx="360" cy="663840"/>
                </a:xfrm>
              </p:grpSpPr>
              <p:sp>
                <p:nvSpPr>
                  <p:cNvPr id="162" name="直接连接符 22655"/>
                  <p:cNvSpPr/>
                  <p:nvPr/>
                </p:nvSpPr>
                <p:spPr>
                  <a:xfrm>
                    <a:off x="741996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"/>
                  <p:cNvSpPr txBox="1"/>
                  <p:nvPr/>
                </p:nvSpPr>
                <p:spPr>
                  <a:xfrm>
                    <a:off x="741996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7781760" y="176040"/>
                  <a:ext cx="360" cy="663840"/>
                  <a:chOff x="7781760" y="176040"/>
                  <a:chExt cx="360" cy="663840"/>
                </a:xfrm>
              </p:grpSpPr>
              <p:sp>
                <p:nvSpPr>
                  <p:cNvPr id="165" name="直接连接符 22656"/>
                  <p:cNvSpPr/>
                  <p:nvPr/>
                </p:nvSpPr>
                <p:spPr>
                  <a:xfrm>
                    <a:off x="778176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"/>
                  <p:cNvSpPr txBox="1"/>
                  <p:nvPr/>
                </p:nvSpPr>
                <p:spPr>
                  <a:xfrm>
                    <a:off x="778176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8143920" y="176040"/>
                  <a:ext cx="360" cy="663840"/>
                  <a:chOff x="8143920" y="176040"/>
                  <a:chExt cx="360" cy="663840"/>
                </a:xfrm>
              </p:grpSpPr>
              <p:sp>
                <p:nvSpPr>
                  <p:cNvPr id="168" name="直接连接符 22657"/>
                  <p:cNvSpPr/>
                  <p:nvPr/>
                </p:nvSpPr>
                <p:spPr>
                  <a:xfrm>
                    <a:off x="814392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"/>
                  <p:cNvSpPr txBox="1"/>
                  <p:nvPr/>
                </p:nvSpPr>
                <p:spPr>
                  <a:xfrm>
                    <a:off x="814392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8505720" y="176040"/>
                  <a:ext cx="360" cy="663840"/>
                  <a:chOff x="8505720" y="176040"/>
                  <a:chExt cx="360" cy="663840"/>
                </a:xfrm>
              </p:grpSpPr>
              <p:sp>
                <p:nvSpPr>
                  <p:cNvPr id="171" name="直接连接符 22658"/>
                  <p:cNvSpPr/>
                  <p:nvPr/>
                </p:nvSpPr>
                <p:spPr>
                  <a:xfrm>
                    <a:off x="8505720" y="176040"/>
                    <a:ext cx="0" cy="66384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"/>
                  <p:cNvSpPr txBox="1"/>
                  <p:nvPr/>
                </p:nvSpPr>
                <p:spPr>
                  <a:xfrm>
                    <a:off x="8505720" y="176040"/>
                    <a:ext cx="360" cy="663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73" name="组合 22659"/>
              <p:cNvGrpSpPr/>
              <p:nvPr/>
            </p:nvGrpSpPr>
            <p:grpSpPr>
              <a:xfrm>
                <a:off x="1917720" y="173160"/>
                <a:ext cx="5864400" cy="671040"/>
                <a:chOff x="1917720" y="173160"/>
                <a:chExt cx="5864400" cy="671040"/>
              </a:xfrm>
            </p:grpSpPr>
            <p:grpSp>
              <p:nvGrpSpPr>
                <p:cNvPr id="174" name=""/>
                <p:cNvGrpSpPr/>
                <p:nvPr/>
              </p:nvGrpSpPr>
              <p:grpSpPr>
                <a:xfrm>
                  <a:off x="4524120" y="174600"/>
                  <a:ext cx="360" cy="225000"/>
                  <a:chOff x="4524120" y="174600"/>
                  <a:chExt cx="360" cy="225000"/>
                </a:xfrm>
              </p:grpSpPr>
              <p:sp>
                <p:nvSpPr>
                  <p:cNvPr id="175" name="直接连接符 22660"/>
                  <p:cNvSpPr/>
                  <p:nvPr/>
                </p:nvSpPr>
                <p:spPr>
                  <a:xfrm>
                    <a:off x="4524120" y="174600"/>
                    <a:ext cx="0" cy="22500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6" name=""/>
                  <p:cNvSpPr txBox="1"/>
                  <p:nvPr/>
                </p:nvSpPr>
                <p:spPr>
                  <a:xfrm>
                    <a:off x="4524120" y="174600"/>
                    <a:ext cx="360" cy="22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4717800" y="527040"/>
                  <a:ext cx="111240" cy="360"/>
                  <a:chOff x="4717800" y="527040"/>
                  <a:chExt cx="111240" cy="360"/>
                </a:xfrm>
              </p:grpSpPr>
              <p:sp>
                <p:nvSpPr>
                  <p:cNvPr id="178" name="直接连接符 22661"/>
                  <p:cNvSpPr/>
                  <p:nvPr/>
                </p:nvSpPr>
                <p:spPr>
                  <a:xfrm>
                    <a:off x="4717800" y="527040"/>
                    <a:ext cx="11124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"/>
                  <p:cNvSpPr txBox="1"/>
                  <p:nvPr/>
                </p:nvSpPr>
                <p:spPr>
                  <a:xfrm>
                    <a:off x="4717800" y="527040"/>
                    <a:ext cx="111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0" name=""/>
                <p:cNvGrpSpPr/>
                <p:nvPr/>
              </p:nvGrpSpPr>
              <p:grpSpPr>
                <a:xfrm>
                  <a:off x="4886280" y="555480"/>
                  <a:ext cx="360" cy="44280"/>
                  <a:chOff x="4886280" y="555480"/>
                  <a:chExt cx="360" cy="44280"/>
                </a:xfrm>
              </p:grpSpPr>
              <p:sp>
                <p:nvSpPr>
                  <p:cNvPr id="181" name="直接连接符 22662"/>
                  <p:cNvSpPr/>
                  <p:nvPr/>
                </p:nvSpPr>
                <p:spPr>
                  <a:xfrm>
                    <a:off x="4886280" y="555480"/>
                    <a:ext cx="0" cy="4428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"/>
                  <p:cNvSpPr txBox="1"/>
                  <p:nvPr/>
                </p:nvSpPr>
                <p:spPr>
                  <a:xfrm>
                    <a:off x="4886280" y="555480"/>
                    <a:ext cx="360" cy="4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520" bIns="-2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5248080" y="714240"/>
                  <a:ext cx="360" cy="124920"/>
                  <a:chOff x="5248080" y="714240"/>
                  <a:chExt cx="360" cy="124920"/>
                </a:xfrm>
              </p:grpSpPr>
              <p:sp>
                <p:nvSpPr>
                  <p:cNvPr id="184" name="直接连接符 22663"/>
                  <p:cNvSpPr/>
                  <p:nvPr/>
                </p:nvSpPr>
                <p:spPr>
                  <a:xfrm>
                    <a:off x="5248080" y="714240"/>
                    <a:ext cx="0" cy="12492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5" name=""/>
                  <p:cNvSpPr txBox="1"/>
                  <p:nvPr/>
                </p:nvSpPr>
                <p:spPr>
                  <a:xfrm>
                    <a:off x="5248080" y="714240"/>
                    <a:ext cx="360" cy="124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334200" y="352440"/>
                  <a:ext cx="360" cy="285120"/>
                  <a:chOff x="6334200" y="352440"/>
                  <a:chExt cx="360" cy="285120"/>
                </a:xfrm>
              </p:grpSpPr>
              <p:sp>
                <p:nvSpPr>
                  <p:cNvPr id="187" name="直接连接符 22664"/>
                  <p:cNvSpPr/>
                  <p:nvPr/>
                </p:nvSpPr>
                <p:spPr>
                  <a:xfrm>
                    <a:off x="6334200" y="352440"/>
                    <a:ext cx="0" cy="28512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"/>
                  <p:cNvSpPr txBox="1"/>
                  <p:nvPr/>
                </p:nvSpPr>
                <p:spPr>
                  <a:xfrm>
                    <a:off x="6334200" y="352440"/>
                    <a:ext cx="360" cy="285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6184800" y="527040"/>
                  <a:ext cx="552600" cy="360"/>
                  <a:chOff x="6184800" y="527040"/>
                  <a:chExt cx="552600" cy="360"/>
                </a:xfrm>
              </p:grpSpPr>
              <p:sp>
                <p:nvSpPr>
                  <p:cNvPr id="190" name="直接连接符 22665"/>
                  <p:cNvSpPr/>
                  <p:nvPr/>
                </p:nvSpPr>
                <p:spPr>
                  <a:xfrm>
                    <a:off x="6184800" y="527040"/>
                    <a:ext cx="55260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"/>
                  <p:cNvSpPr txBox="1"/>
                  <p:nvPr/>
                </p:nvSpPr>
                <p:spPr>
                  <a:xfrm>
                    <a:off x="6184800" y="527040"/>
                    <a:ext cx="5526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6696000" y="374400"/>
                  <a:ext cx="360" cy="466560"/>
                  <a:chOff x="6696000" y="374400"/>
                  <a:chExt cx="360" cy="466560"/>
                </a:xfrm>
              </p:grpSpPr>
              <p:sp>
                <p:nvSpPr>
                  <p:cNvPr id="193" name="直接连接符 22666"/>
                  <p:cNvSpPr/>
                  <p:nvPr/>
                </p:nvSpPr>
                <p:spPr>
                  <a:xfrm>
                    <a:off x="6696000" y="374400"/>
                    <a:ext cx="0" cy="46656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"/>
                  <p:cNvSpPr txBox="1"/>
                  <p:nvPr/>
                </p:nvSpPr>
                <p:spPr>
                  <a:xfrm>
                    <a:off x="6696000" y="374400"/>
                    <a:ext cx="360" cy="466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6698880" y="177480"/>
                  <a:ext cx="360" cy="78840"/>
                  <a:chOff x="6698880" y="177480"/>
                  <a:chExt cx="360" cy="78840"/>
                </a:xfrm>
              </p:grpSpPr>
              <p:sp>
                <p:nvSpPr>
                  <p:cNvPr id="196" name="直接连接符 22667"/>
                  <p:cNvSpPr/>
                  <p:nvPr/>
                </p:nvSpPr>
                <p:spPr>
                  <a:xfrm flipV="1">
                    <a:off x="6699240" y="177480"/>
                    <a:ext cx="0" cy="7884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"/>
                  <p:cNvSpPr txBox="1"/>
                  <p:nvPr/>
                </p:nvSpPr>
                <p:spPr>
                  <a:xfrm rot="10800000">
                    <a:off x="6698880" y="177480"/>
                    <a:ext cx="360" cy="7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2040" bIns="320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8" name=""/>
                <p:cNvGrpSpPr/>
                <p:nvPr/>
              </p:nvGrpSpPr>
              <p:grpSpPr>
                <a:xfrm>
                  <a:off x="7057440" y="174240"/>
                  <a:ext cx="360" cy="288360"/>
                  <a:chOff x="7057440" y="174240"/>
                  <a:chExt cx="360" cy="288360"/>
                </a:xfrm>
              </p:grpSpPr>
              <p:sp>
                <p:nvSpPr>
                  <p:cNvPr id="199" name="直接连接符 22668"/>
                  <p:cNvSpPr/>
                  <p:nvPr/>
                </p:nvSpPr>
                <p:spPr>
                  <a:xfrm flipV="1">
                    <a:off x="7057800" y="174240"/>
                    <a:ext cx="0" cy="28836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0" name=""/>
                  <p:cNvSpPr txBox="1"/>
                  <p:nvPr/>
                </p:nvSpPr>
                <p:spPr>
                  <a:xfrm rot="10800000">
                    <a:off x="7057440" y="174240"/>
                    <a:ext cx="3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1" name=""/>
                <p:cNvGrpSpPr/>
                <p:nvPr/>
              </p:nvGrpSpPr>
              <p:grpSpPr>
                <a:xfrm>
                  <a:off x="7296120" y="527040"/>
                  <a:ext cx="123840" cy="360"/>
                  <a:chOff x="7296120" y="527040"/>
                  <a:chExt cx="123840" cy="360"/>
                </a:xfrm>
              </p:grpSpPr>
              <p:sp>
                <p:nvSpPr>
                  <p:cNvPr id="202" name="直接连接符 22669"/>
                  <p:cNvSpPr/>
                  <p:nvPr/>
                </p:nvSpPr>
                <p:spPr>
                  <a:xfrm flipH="1">
                    <a:off x="7296120" y="527040"/>
                    <a:ext cx="12384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"/>
                  <p:cNvSpPr txBox="1"/>
                  <p:nvPr/>
                </p:nvSpPr>
                <p:spPr>
                  <a:xfrm>
                    <a:off x="7296120" y="527040"/>
                    <a:ext cx="123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086240" y="527040"/>
                  <a:ext cx="98640" cy="360"/>
                  <a:chOff x="7086240" y="527040"/>
                  <a:chExt cx="98640" cy="360"/>
                </a:xfrm>
              </p:grpSpPr>
              <p:sp>
                <p:nvSpPr>
                  <p:cNvPr id="205" name="直接连接符 22670"/>
                  <p:cNvSpPr/>
                  <p:nvPr/>
                </p:nvSpPr>
                <p:spPr>
                  <a:xfrm flipH="1">
                    <a:off x="7086240" y="527040"/>
                    <a:ext cx="9828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"/>
                  <p:cNvSpPr txBox="1"/>
                  <p:nvPr/>
                </p:nvSpPr>
                <p:spPr>
                  <a:xfrm>
                    <a:off x="7086600" y="527040"/>
                    <a:ext cx="98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419600" y="174240"/>
                  <a:ext cx="360" cy="428040"/>
                  <a:chOff x="7419600" y="174240"/>
                  <a:chExt cx="360" cy="428040"/>
                </a:xfrm>
              </p:grpSpPr>
              <p:sp>
                <p:nvSpPr>
                  <p:cNvPr id="208" name="直接连接符 22671"/>
                  <p:cNvSpPr/>
                  <p:nvPr/>
                </p:nvSpPr>
                <p:spPr>
                  <a:xfrm flipV="1">
                    <a:off x="7419960" y="174240"/>
                    <a:ext cx="0" cy="42804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"/>
                  <p:cNvSpPr txBox="1"/>
                  <p:nvPr/>
                </p:nvSpPr>
                <p:spPr>
                  <a:xfrm rot="10800000">
                    <a:off x="7419600" y="174240"/>
                    <a:ext cx="360" cy="428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7781760" y="745920"/>
                  <a:ext cx="360" cy="53640"/>
                  <a:chOff x="7781760" y="745920"/>
                  <a:chExt cx="360" cy="53640"/>
                </a:xfrm>
              </p:grpSpPr>
              <p:sp>
                <p:nvSpPr>
                  <p:cNvPr id="211" name="直接连接符 22672"/>
                  <p:cNvSpPr/>
                  <p:nvPr/>
                </p:nvSpPr>
                <p:spPr>
                  <a:xfrm>
                    <a:off x="7781760" y="745920"/>
                    <a:ext cx="0" cy="5364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"/>
                  <p:cNvSpPr txBox="1"/>
                  <p:nvPr/>
                </p:nvSpPr>
                <p:spPr>
                  <a:xfrm>
                    <a:off x="7781760" y="745920"/>
                    <a:ext cx="360" cy="5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6840" bIns="68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3438360" y="180720"/>
                  <a:ext cx="360" cy="98280"/>
                  <a:chOff x="3438360" y="180720"/>
                  <a:chExt cx="360" cy="98280"/>
                </a:xfrm>
              </p:grpSpPr>
              <p:sp>
                <p:nvSpPr>
                  <p:cNvPr id="214" name="直接连接符 22673"/>
                  <p:cNvSpPr/>
                  <p:nvPr/>
                </p:nvSpPr>
                <p:spPr>
                  <a:xfrm>
                    <a:off x="3438360" y="18072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5" name=""/>
                  <p:cNvSpPr txBox="1"/>
                  <p:nvPr/>
                </p:nvSpPr>
                <p:spPr>
                  <a:xfrm>
                    <a:off x="3438360" y="180720"/>
                    <a:ext cx="360" cy="9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3076560" y="176040"/>
                  <a:ext cx="360" cy="534600"/>
                  <a:chOff x="3076560" y="176040"/>
                  <a:chExt cx="360" cy="534600"/>
                </a:xfrm>
              </p:grpSpPr>
              <p:sp>
                <p:nvSpPr>
                  <p:cNvPr id="217" name="直接连接符 22674"/>
                  <p:cNvSpPr/>
                  <p:nvPr/>
                </p:nvSpPr>
                <p:spPr>
                  <a:xfrm>
                    <a:off x="3076560" y="176040"/>
                    <a:ext cx="0" cy="53460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"/>
                  <p:cNvSpPr txBox="1"/>
                  <p:nvPr/>
                </p:nvSpPr>
                <p:spPr>
                  <a:xfrm>
                    <a:off x="3076560" y="176040"/>
                    <a:ext cx="360" cy="53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3035160" y="527040"/>
                  <a:ext cx="108000" cy="360"/>
                  <a:chOff x="3035160" y="527040"/>
                  <a:chExt cx="108000" cy="360"/>
                </a:xfrm>
              </p:grpSpPr>
              <p:sp>
                <p:nvSpPr>
                  <p:cNvPr id="220" name="直接连接符 22675"/>
                  <p:cNvSpPr/>
                  <p:nvPr/>
                </p:nvSpPr>
                <p:spPr>
                  <a:xfrm flipH="1">
                    <a:off x="3035160" y="527040"/>
                    <a:ext cx="10800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"/>
                  <p:cNvSpPr txBox="1"/>
                  <p:nvPr/>
                </p:nvSpPr>
                <p:spPr>
                  <a:xfrm>
                    <a:off x="3035160" y="527040"/>
                    <a:ext cx="10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2822400" y="527040"/>
                  <a:ext cx="95400" cy="360"/>
                  <a:chOff x="2822400" y="527040"/>
                  <a:chExt cx="95400" cy="360"/>
                </a:xfrm>
              </p:grpSpPr>
              <p:sp>
                <p:nvSpPr>
                  <p:cNvPr id="223" name="直接连接符 22676"/>
                  <p:cNvSpPr/>
                  <p:nvPr/>
                </p:nvSpPr>
                <p:spPr>
                  <a:xfrm>
                    <a:off x="2822400" y="527040"/>
                    <a:ext cx="9540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4" name=""/>
                  <p:cNvSpPr txBox="1"/>
                  <p:nvPr/>
                </p:nvSpPr>
                <p:spPr>
                  <a:xfrm>
                    <a:off x="2822400" y="527040"/>
                    <a:ext cx="954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2504880" y="527040"/>
                  <a:ext cx="130320" cy="360"/>
                  <a:chOff x="2504880" y="527040"/>
                  <a:chExt cx="130320" cy="360"/>
                </a:xfrm>
              </p:grpSpPr>
              <p:sp>
                <p:nvSpPr>
                  <p:cNvPr id="226" name="直接连接符 22677"/>
                  <p:cNvSpPr/>
                  <p:nvPr/>
                </p:nvSpPr>
                <p:spPr>
                  <a:xfrm flipH="1">
                    <a:off x="2504880" y="527040"/>
                    <a:ext cx="13032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"/>
                  <p:cNvSpPr txBox="1"/>
                  <p:nvPr/>
                </p:nvSpPr>
                <p:spPr>
                  <a:xfrm>
                    <a:off x="2504880" y="527040"/>
                    <a:ext cx="130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1917720" y="527040"/>
                  <a:ext cx="552240" cy="360"/>
                  <a:chOff x="1917720" y="527040"/>
                  <a:chExt cx="552240" cy="360"/>
                </a:xfrm>
              </p:grpSpPr>
              <p:sp>
                <p:nvSpPr>
                  <p:cNvPr id="229" name="直接连接符 22678"/>
                  <p:cNvSpPr/>
                  <p:nvPr/>
                </p:nvSpPr>
                <p:spPr>
                  <a:xfrm>
                    <a:off x="1917720" y="527040"/>
                    <a:ext cx="55224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0" name=""/>
                  <p:cNvSpPr txBox="1"/>
                  <p:nvPr/>
                </p:nvSpPr>
                <p:spPr>
                  <a:xfrm>
                    <a:off x="1917720" y="527040"/>
                    <a:ext cx="552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2349360" y="371520"/>
                  <a:ext cx="360" cy="472680"/>
                  <a:chOff x="2349360" y="371520"/>
                  <a:chExt cx="360" cy="472680"/>
                </a:xfrm>
              </p:grpSpPr>
              <p:sp>
                <p:nvSpPr>
                  <p:cNvPr id="232" name="直接连接符 22679"/>
                  <p:cNvSpPr/>
                  <p:nvPr/>
                </p:nvSpPr>
                <p:spPr>
                  <a:xfrm>
                    <a:off x="2349360" y="371520"/>
                    <a:ext cx="0" cy="47268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"/>
                  <p:cNvSpPr txBox="1"/>
                  <p:nvPr/>
                </p:nvSpPr>
                <p:spPr>
                  <a:xfrm>
                    <a:off x="2349360" y="371520"/>
                    <a:ext cx="360" cy="472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1990800" y="399960"/>
                  <a:ext cx="360" cy="247320"/>
                  <a:chOff x="1990800" y="399960"/>
                  <a:chExt cx="360" cy="247320"/>
                </a:xfrm>
              </p:grpSpPr>
              <p:sp>
                <p:nvSpPr>
                  <p:cNvPr id="235" name="直接连接符 22680"/>
                  <p:cNvSpPr/>
                  <p:nvPr/>
                </p:nvSpPr>
                <p:spPr>
                  <a:xfrm>
                    <a:off x="1990800" y="399960"/>
                    <a:ext cx="0" cy="24732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"/>
                  <p:cNvSpPr txBox="1"/>
                  <p:nvPr/>
                </p:nvSpPr>
                <p:spPr>
                  <a:xfrm>
                    <a:off x="1990800" y="399960"/>
                    <a:ext cx="360" cy="24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2352240" y="173160"/>
                  <a:ext cx="360" cy="42480"/>
                  <a:chOff x="2352240" y="173160"/>
                  <a:chExt cx="360" cy="42480"/>
                </a:xfrm>
              </p:grpSpPr>
              <p:sp>
                <p:nvSpPr>
                  <p:cNvPr id="238" name="直接连接符 22681"/>
                  <p:cNvSpPr/>
                  <p:nvPr/>
                </p:nvSpPr>
                <p:spPr>
                  <a:xfrm flipV="1">
                    <a:off x="2352600" y="173160"/>
                    <a:ext cx="0" cy="4248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9" name=""/>
                  <p:cNvSpPr txBox="1"/>
                  <p:nvPr/>
                </p:nvSpPr>
                <p:spPr>
                  <a:xfrm rot="10800000">
                    <a:off x="2352240" y="173160"/>
                    <a:ext cx="360" cy="42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2714400" y="285480"/>
                  <a:ext cx="360" cy="152280"/>
                  <a:chOff x="2714400" y="285480"/>
                  <a:chExt cx="360" cy="152280"/>
                </a:xfrm>
              </p:grpSpPr>
              <p:sp>
                <p:nvSpPr>
                  <p:cNvPr id="241" name="直接连接符 22682"/>
                  <p:cNvSpPr/>
                  <p:nvPr/>
                </p:nvSpPr>
                <p:spPr>
                  <a:xfrm>
                    <a:off x="2714400" y="285480"/>
                    <a:ext cx="0" cy="15228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"/>
                  <p:cNvSpPr txBox="1"/>
                  <p:nvPr/>
                </p:nvSpPr>
                <p:spPr>
                  <a:xfrm>
                    <a:off x="2714400" y="285480"/>
                    <a:ext cx="3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2714040" y="176040"/>
                  <a:ext cx="360" cy="34560"/>
                  <a:chOff x="2714040" y="176040"/>
                  <a:chExt cx="360" cy="34560"/>
                </a:xfrm>
              </p:grpSpPr>
              <p:sp>
                <p:nvSpPr>
                  <p:cNvPr id="244" name="直接连接符 22683"/>
                  <p:cNvSpPr/>
                  <p:nvPr/>
                </p:nvSpPr>
                <p:spPr>
                  <a:xfrm flipV="1">
                    <a:off x="2714400" y="176040"/>
                    <a:ext cx="0" cy="3456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5" name=""/>
                  <p:cNvSpPr txBox="1"/>
                  <p:nvPr/>
                </p:nvSpPr>
                <p:spPr>
                  <a:xfrm rot="10800000">
                    <a:off x="2714040" y="176040"/>
                    <a:ext cx="360" cy="34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2240" bIns="-122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6" name=""/>
                <p:cNvGrpSpPr/>
                <p:nvPr/>
              </p:nvGrpSpPr>
              <p:grpSpPr>
                <a:xfrm>
                  <a:off x="6777000" y="525240"/>
                  <a:ext cx="127080" cy="360"/>
                  <a:chOff x="6777000" y="525240"/>
                  <a:chExt cx="127080" cy="360"/>
                </a:xfrm>
              </p:grpSpPr>
              <p:sp>
                <p:nvSpPr>
                  <p:cNvPr id="247" name="直接连接符 22684"/>
                  <p:cNvSpPr/>
                  <p:nvPr/>
                </p:nvSpPr>
                <p:spPr>
                  <a:xfrm>
                    <a:off x="6777000" y="525240"/>
                    <a:ext cx="12708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8" name=""/>
                  <p:cNvSpPr txBox="1"/>
                  <p:nvPr/>
                </p:nvSpPr>
                <p:spPr>
                  <a:xfrm>
                    <a:off x="6777000" y="525240"/>
                    <a:ext cx="12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</p:grpSp>
        </p:grpSp>
        <p:pic>
          <p:nvPicPr>
            <p:cNvPr id="249" name="图片 22688" descr="earth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8921-1120-4F5B-9F7E-B4190344F97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B3C6-D5E7-4833-9E9B-F6D6C75575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46247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328" name="矩形 46242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99"/>
                </a:solidFill>
                <a:latin typeface="Tahoma"/>
              </a:endParaRPr>
            </a:p>
          </p:txBody>
        </p:sp>
        <p:grpSp>
          <p:nvGrpSpPr>
            <p:cNvPr id="329" name="组合 46245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330" name="任意多边形 46086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99"/>
                  </a:solidFill>
                  <a:latin typeface="Tahoma"/>
                </a:endParaRPr>
              </a:p>
            </p:txBody>
          </p:sp>
          <p:grpSp>
            <p:nvGrpSpPr>
              <p:cNvPr id="331" name="组合 46244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332" name="任意多边形 46089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33" name="任意多边形 46090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34" name="任意多边形 46091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35" name="任意多边形 46092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36" name="任意多边形 46093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37" name="任意多边形 46094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38" name="任意多边形 46095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39" name="任意多边形 46096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0" name="任意多边形 46097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1" name="任意多边形 46098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2" name="任意多边形 46099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3" name="任意多边形 46100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4" name="任意多边形 46101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5" name="任意多边形 46102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6" name="任意多边形 46103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7" name="任意多边形 46104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8" name="任意多边形 46105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49" name="任意多边形 46106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0" name="任意多边形 46107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1" name="任意多边形 46108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2" name="任意多边形 46109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3" name="任意多边形 46110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4" name="任意多边形 46111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5" name="任意多边形 46112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6" name="任意多边形 46113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7" name="任意多边形 46114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8" name="任意多边形 46115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59" name="任意多边形 46116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0" name="任意多边形 46117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1" name="任意多边形 46118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2" name="任意多边形 46119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3" name="任意多边形 46120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4" name="任意多边形 46121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5" name="任意多边形 46122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6" name="任意多边形 46123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7" name="任意多边形 46124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8" name="任意多边形 46125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69" name="任意多边形 46126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0" name="任意多边形 46127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1" name="任意多边形 46128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2" name="任意多边形 46129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3" name="任意多边形 46130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4" name="任意多边形 46131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5" name="任意多边形 46132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6" name="任意多边形 46133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7" name="任意多边形 46134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8" name="任意多边形 46135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79" name="任意多边形 46136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80" name="任意多边形 46137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81" name="任意多边形 46138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82" name="任意多边形 46139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83" name="任意多边形 46140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84" name="任意多边形 46141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85" name="任意多边形 46142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86" name="任意多边形 46143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  <p:sp>
              <p:nvSpPr>
                <p:cNvPr id="387" name="任意多边形 46144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99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88" name="组合 46238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11160" y="862200"/>
                  <a:ext cx="9109800" cy="360"/>
                  <a:chOff x="11160" y="862200"/>
                  <a:chExt cx="9109800" cy="360"/>
                </a:xfrm>
              </p:grpSpPr>
              <p:sp>
                <p:nvSpPr>
                  <p:cNvPr id="390" name="直接连接符 46189"/>
                  <p:cNvSpPr/>
                  <p:nvPr/>
                </p:nvSpPr>
                <p:spPr>
                  <a:xfrm>
                    <a:off x="11160" y="862200"/>
                    <a:ext cx="9109800" cy="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1" name=""/>
                  <p:cNvSpPr txBox="1"/>
                  <p:nvPr/>
                </p:nvSpPr>
                <p:spPr>
                  <a:xfrm>
                    <a:off x="11160" y="862200"/>
                    <a:ext cx="9109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47720" y="4680"/>
                  <a:ext cx="360" cy="1621800"/>
                  <a:chOff x="747720" y="4680"/>
                  <a:chExt cx="360" cy="1621800"/>
                </a:xfrm>
              </p:grpSpPr>
              <p:sp>
                <p:nvSpPr>
                  <p:cNvPr id="393" name="直接连接符 46191"/>
                  <p:cNvSpPr/>
                  <p:nvPr/>
                </p:nvSpPr>
                <p:spPr>
                  <a:xfrm>
                    <a:off x="74772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4" name=""/>
                  <p:cNvSpPr txBox="1"/>
                  <p:nvPr/>
                </p:nvSpPr>
                <p:spPr>
                  <a:xfrm>
                    <a:off x="74772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1595880" y="4680"/>
                  <a:ext cx="360" cy="1621800"/>
                  <a:chOff x="1595880" y="4680"/>
                  <a:chExt cx="360" cy="1621800"/>
                </a:xfrm>
              </p:grpSpPr>
              <p:sp>
                <p:nvSpPr>
                  <p:cNvPr id="396" name="直接连接符 46192"/>
                  <p:cNvSpPr/>
                  <p:nvPr/>
                </p:nvSpPr>
                <p:spPr>
                  <a:xfrm>
                    <a:off x="159588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7" name=""/>
                  <p:cNvSpPr txBox="1"/>
                  <p:nvPr/>
                </p:nvSpPr>
                <p:spPr>
                  <a:xfrm>
                    <a:off x="159588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2444760" y="4680"/>
                  <a:ext cx="360" cy="1621800"/>
                  <a:chOff x="2444760" y="4680"/>
                  <a:chExt cx="360" cy="1621800"/>
                </a:xfrm>
              </p:grpSpPr>
              <p:sp>
                <p:nvSpPr>
                  <p:cNvPr id="399" name="直接连接符 46193"/>
                  <p:cNvSpPr/>
                  <p:nvPr/>
                </p:nvSpPr>
                <p:spPr>
                  <a:xfrm>
                    <a:off x="244476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0" name=""/>
                  <p:cNvSpPr txBox="1"/>
                  <p:nvPr/>
                </p:nvSpPr>
                <p:spPr>
                  <a:xfrm>
                    <a:off x="244476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3292920" y="4680"/>
                  <a:ext cx="360" cy="1621800"/>
                  <a:chOff x="3292920" y="4680"/>
                  <a:chExt cx="360" cy="1621800"/>
                </a:xfrm>
              </p:grpSpPr>
              <p:sp>
                <p:nvSpPr>
                  <p:cNvPr id="402" name="直接连接符 46194"/>
                  <p:cNvSpPr/>
                  <p:nvPr/>
                </p:nvSpPr>
                <p:spPr>
                  <a:xfrm>
                    <a:off x="329292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3" name=""/>
                  <p:cNvSpPr txBox="1"/>
                  <p:nvPr/>
                </p:nvSpPr>
                <p:spPr>
                  <a:xfrm>
                    <a:off x="329292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4141080" y="4680"/>
                  <a:ext cx="360" cy="1621800"/>
                  <a:chOff x="4141080" y="4680"/>
                  <a:chExt cx="360" cy="1621800"/>
                </a:xfrm>
              </p:grpSpPr>
              <p:sp>
                <p:nvSpPr>
                  <p:cNvPr id="405" name="直接连接符 46195"/>
                  <p:cNvSpPr/>
                  <p:nvPr/>
                </p:nvSpPr>
                <p:spPr>
                  <a:xfrm>
                    <a:off x="414108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6" name=""/>
                  <p:cNvSpPr txBox="1"/>
                  <p:nvPr/>
                </p:nvSpPr>
                <p:spPr>
                  <a:xfrm>
                    <a:off x="414108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4989960" y="4680"/>
                  <a:ext cx="360" cy="1621800"/>
                  <a:chOff x="4989960" y="4680"/>
                  <a:chExt cx="360" cy="1621800"/>
                </a:xfrm>
              </p:grpSpPr>
              <p:sp>
                <p:nvSpPr>
                  <p:cNvPr id="408" name="直接连接符 46196"/>
                  <p:cNvSpPr/>
                  <p:nvPr/>
                </p:nvSpPr>
                <p:spPr>
                  <a:xfrm>
                    <a:off x="498996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9" name=""/>
                  <p:cNvSpPr txBox="1"/>
                  <p:nvPr/>
                </p:nvSpPr>
                <p:spPr>
                  <a:xfrm>
                    <a:off x="498996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5838120" y="4680"/>
                  <a:ext cx="360" cy="1621800"/>
                  <a:chOff x="5838120" y="4680"/>
                  <a:chExt cx="360" cy="1621800"/>
                </a:xfrm>
              </p:grpSpPr>
              <p:sp>
                <p:nvSpPr>
                  <p:cNvPr id="411" name="直接连接符 46197"/>
                  <p:cNvSpPr/>
                  <p:nvPr/>
                </p:nvSpPr>
                <p:spPr>
                  <a:xfrm>
                    <a:off x="583812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2" name=""/>
                  <p:cNvSpPr txBox="1"/>
                  <p:nvPr/>
                </p:nvSpPr>
                <p:spPr>
                  <a:xfrm>
                    <a:off x="583812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6687000" y="4680"/>
                  <a:ext cx="360" cy="1621800"/>
                  <a:chOff x="6687000" y="4680"/>
                  <a:chExt cx="360" cy="1621800"/>
                </a:xfrm>
              </p:grpSpPr>
              <p:sp>
                <p:nvSpPr>
                  <p:cNvPr id="414" name="直接连接符 46198"/>
                  <p:cNvSpPr/>
                  <p:nvPr/>
                </p:nvSpPr>
                <p:spPr>
                  <a:xfrm>
                    <a:off x="668700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5" name=""/>
                  <p:cNvSpPr txBox="1"/>
                  <p:nvPr/>
                </p:nvSpPr>
                <p:spPr>
                  <a:xfrm>
                    <a:off x="668700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535160" y="4680"/>
                  <a:ext cx="360" cy="1621800"/>
                  <a:chOff x="7535160" y="4680"/>
                  <a:chExt cx="360" cy="1621800"/>
                </a:xfrm>
              </p:grpSpPr>
              <p:sp>
                <p:nvSpPr>
                  <p:cNvPr id="417" name="直接连接符 46199"/>
                  <p:cNvSpPr/>
                  <p:nvPr/>
                </p:nvSpPr>
                <p:spPr>
                  <a:xfrm>
                    <a:off x="753516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8" name=""/>
                  <p:cNvSpPr txBox="1"/>
                  <p:nvPr/>
                </p:nvSpPr>
                <p:spPr>
                  <a:xfrm>
                    <a:off x="753516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8384400" y="4680"/>
                  <a:ext cx="360" cy="1621800"/>
                  <a:chOff x="8384400" y="4680"/>
                  <a:chExt cx="360" cy="1621800"/>
                </a:xfrm>
              </p:grpSpPr>
              <p:sp>
                <p:nvSpPr>
                  <p:cNvPr id="420" name="直接连接符 46200"/>
                  <p:cNvSpPr/>
                  <p:nvPr/>
                </p:nvSpPr>
                <p:spPr>
                  <a:xfrm>
                    <a:off x="8384400" y="4680"/>
                    <a:ext cx="0" cy="1621800"/>
                  </a:xfrm>
                  <a:prstGeom prst="line">
                    <a:avLst/>
                  </a:prstGeom>
                  <a:ln w="9360">
                    <a:solidFill>
                      <a:srgbClr val="ccb37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1" name=""/>
                  <p:cNvSpPr txBox="1"/>
                  <p:nvPr/>
                </p:nvSpPr>
                <p:spPr>
                  <a:xfrm>
                    <a:off x="8384400" y="4680"/>
                    <a:ext cx="360" cy="162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422" name="组合 46239"/>
              <p:cNvGrpSpPr/>
              <p:nvPr/>
            </p:nvGrpSpPr>
            <p:grpSpPr>
              <a:xfrm>
                <a:off x="576360" y="-3240"/>
                <a:ext cx="7808400" cy="1640520"/>
                <a:chOff x="576360" y="-3240"/>
                <a:chExt cx="7808400" cy="1640520"/>
              </a:xfrm>
            </p:grpSpPr>
            <p:grpSp>
              <p:nvGrpSpPr>
                <p:cNvPr id="423" name=""/>
                <p:cNvGrpSpPr/>
                <p:nvPr/>
              </p:nvGrpSpPr>
              <p:grpSpPr>
                <a:xfrm>
                  <a:off x="6687360" y="0"/>
                  <a:ext cx="360" cy="550800"/>
                  <a:chOff x="6687360" y="0"/>
                  <a:chExt cx="360" cy="550800"/>
                </a:xfrm>
              </p:grpSpPr>
              <p:sp>
                <p:nvSpPr>
                  <p:cNvPr id="424" name="直接连接符 46211"/>
                  <p:cNvSpPr/>
                  <p:nvPr/>
                </p:nvSpPr>
                <p:spPr>
                  <a:xfrm>
                    <a:off x="6687360" y="0"/>
                    <a:ext cx="0" cy="55080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5" name=""/>
                  <p:cNvSpPr txBox="1"/>
                  <p:nvPr/>
                </p:nvSpPr>
                <p:spPr>
                  <a:xfrm>
                    <a:off x="6687360" y="0"/>
                    <a:ext cx="360" cy="55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6" name=""/>
                <p:cNvGrpSpPr/>
                <p:nvPr/>
              </p:nvGrpSpPr>
              <p:grpSpPr>
                <a:xfrm>
                  <a:off x="7141320" y="861480"/>
                  <a:ext cx="259920" cy="360"/>
                  <a:chOff x="7141320" y="861480"/>
                  <a:chExt cx="259920" cy="360"/>
                </a:xfrm>
              </p:grpSpPr>
              <p:sp>
                <p:nvSpPr>
                  <p:cNvPr id="427" name="直接连接符 46212"/>
                  <p:cNvSpPr/>
                  <p:nvPr/>
                </p:nvSpPr>
                <p:spPr>
                  <a:xfrm>
                    <a:off x="7141320" y="861480"/>
                    <a:ext cx="25992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8" name=""/>
                  <p:cNvSpPr txBox="1"/>
                  <p:nvPr/>
                </p:nvSpPr>
                <p:spPr>
                  <a:xfrm>
                    <a:off x="7141320" y="861480"/>
                    <a:ext cx="259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7535520" y="930960"/>
                  <a:ext cx="360" cy="109080"/>
                  <a:chOff x="7535520" y="930960"/>
                  <a:chExt cx="360" cy="109080"/>
                </a:xfrm>
              </p:grpSpPr>
              <p:sp>
                <p:nvSpPr>
                  <p:cNvPr id="430" name="直接连接符 46213"/>
                  <p:cNvSpPr/>
                  <p:nvPr/>
                </p:nvSpPr>
                <p:spPr>
                  <a:xfrm>
                    <a:off x="7535520" y="930960"/>
                    <a:ext cx="0" cy="10908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1" name=""/>
                  <p:cNvSpPr txBox="1"/>
                  <p:nvPr/>
                </p:nvSpPr>
                <p:spPr>
                  <a:xfrm>
                    <a:off x="7535520" y="930960"/>
                    <a:ext cx="360" cy="10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32" name=""/>
                <p:cNvGrpSpPr/>
                <p:nvPr/>
              </p:nvGrpSpPr>
              <p:grpSpPr>
                <a:xfrm>
                  <a:off x="8384400" y="1319040"/>
                  <a:ext cx="360" cy="307080"/>
                  <a:chOff x="8384400" y="1319040"/>
                  <a:chExt cx="360" cy="307080"/>
                </a:xfrm>
              </p:grpSpPr>
              <p:sp>
                <p:nvSpPr>
                  <p:cNvPr id="433" name="直接连接符 46214"/>
                  <p:cNvSpPr/>
                  <p:nvPr/>
                </p:nvSpPr>
                <p:spPr>
                  <a:xfrm>
                    <a:off x="8384400" y="1319040"/>
                    <a:ext cx="0" cy="30708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4" name=""/>
                  <p:cNvSpPr txBox="1"/>
                  <p:nvPr/>
                </p:nvSpPr>
                <p:spPr>
                  <a:xfrm>
                    <a:off x="8384400" y="1319040"/>
                    <a:ext cx="3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35" name=""/>
                <p:cNvGrpSpPr/>
                <p:nvPr/>
              </p:nvGrpSpPr>
              <p:grpSpPr>
                <a:xfrm>
                  <a:off x="4141080" y="15840"/>
                  <a:ext cx="360" cy="240120"/>
                  <a:chOff x="4141080" y="15840"/>
                  <a:chExt cx="360" cy="240120"/>
                </a:xfrm>
              </p:grpSpPr>
              <p:sp>
                <p:nvSpPr>
                  <p:cNvPr id="436" name="直接连接符 46224"/>
                  <p:cNvSpPr/>
                  <p:nvPr/>
                </p:nvSpPr>
                <p:spPr>
                  <a:xfrm>
                    <a:off x="4141080" y="15840"/>
                    <a:ext cx="0" cy="24012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7" name=""/>
                  <p:cNvSpPr txBox="1"/>
                  <p:nvPr/>
                </p:nvSpPr>
                <p:spPr>
                  <a:xfrm>
                    <a:off x="4141080" y="15840"/>
                    <a:ext cx="360" cy="24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38" name=""/>
                <p:cNvGrpSpPr/>
                <p:nvPr/>
              </p:nvGrpSpPr>
              <p:grpSpPr>
                <a:xfrm>
                  <a:off x="3292920" y="3600"/>
                  <a:ext cx="360" cy="1308240"/>
                  <a:chOff x="3292920" y="3600"/>
                  <a:chExt cx="360" cy="1308240"/>
                </a:xfrm>
              </p:grpSpPr>
              <p:sp>
                <p:nvSpPr>
                  <p:cNvPr id="439" name="直接连接符 46225"/>
                  <p:cNvSpPr/>
                  <p:nvPr/>
                </p:nvSpPr>
                <p:spPr>
                  <a:xfrm>
                    <a:off x="3292920" y="3600"/>
                    <a:ext cx="0" cy="130824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0" name=""/>
                  <p:cNvSpPr txBox="1"/>
                  <p:nvPr/>
                </p:nvSpPr>
                <p:spPr>
                  <a:xfrm>
                    <a:off x="3292920" y="3600"/>
                    <a:ext cx="360" cy="130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3195360" y="861480"/>
                  <a:ext cx="253440" cy="360"/>
                  <a:chOff x="3195360" y="861480"/>
                  <a:chExt cx="253440" cy="360"/>
                </a:xfrm>
              </p:grpSpPr>
              <p:sp>
                <p:nvSpPr>
                  <p:cNvPr id="442" name="直接连接符 46226"/>
                  <p:cNvSpPr/>
                  <p:nvPr/>
                </p:nvSpPr>
                <p:spPr>
                  <a:xfrm flipH="1">
                    <a:off x="3195360" y="861480"/>
                    <a:ext cx="25308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3" name=""/>
                  <p:cNvSpPr txBox="1"/>
                  <p:nvPr/>
                </p:nvSpPr>
                <p:spPr>
                  <a:xfrm>
                    <a:off x="3195720" y="861480"/>
                    <a:ext cx="253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2697120" y="861480"/>
                  <a:ext cx="223560" cy="360"/>
                  <a:chOff x="2697120" y="861480"/>
                  <a:chExt cx="223560" cy="360"/>
                </a:xfrm>
              </p:grpSpPr>
              <p:sp>
                <p:nvSpPr>
                  <p:cNvPr id="445" name="直接连接符 46227"/>
                  <p:cNvSpPr/>
                  <p:nvPr/>
                </p:nvSpPr>
                <p:spPr>
                  <a:xfrm>
                    <a:off x="2697120" y="861480"/>
                    <a:ext cx="22356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6" name=""/>
                  <p:cNvSpPr txBox="1"/>
                  <p:nvPr/>
                </p:nvSpPr>
                <p:spPr>
                  <a:xfrm>
                    <a:off x="2697120" y="861480"/>
                    <a:ext cx="223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47" name=""/>
                <p:cNvGrpSpPr/>
                <p:nvPr/>
              </p:nvGrpSpPr>
              <p:grpSpPr>
                <a:xfrm>
                  <a:off x="1953360" y="861480"/>
                  <a:ext cx="304560" cy="360"/>
                  <a:chOff x="1953360" y="861480"/>
                  <a:chExt cx="304560" cy="360"/>
                </a:xfrm>
              </p:grpSpPr>
              <p:sp>
                <p:nvSpPr>
                  <p:cNvPr id="448" name="直接连接符 46228"/>
                  <p:cNvSpPr/>
                  <p:nvPr/>
                </p:nvSpPr>
                <p:spPr>
                  <a:xfrm flipH="1">
                    <a:off x="1953360" y="861480"/>
                    <a:ext cx="30456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9" name=""/>
                  <p:cNvSpPr txBox="1"/>
                  <p:nvPr/>
                </p:nvSpPr>
                <p:spPr>
                  <a:xfrm>
                    <a:off x="1953360" y="861480"/>
                    <a:ext cx="3045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576360" y="861480"/>
                  <a:ext cx="1295280" cy="360"/>
                  <a:chOff x="576360" y="861480"/>
                  <a:chExt cx="1295280" cy="360"/>
                </a:xfrm>
              </p:grpSpPr>
              <p:sp>
                <p:nvSpPr>
                  <p:cNvPr id="451" name="直接连接符 46229"/>
                  <p:cNvSpPr/>
                  <p:nvPr/>
                </p:nvSpPr>
                <p:spPr>
                  <a:xfrm>
                    <a:off x="576360" y="86148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2" name=""/>
                  <p:cNvSpPr txBox="1"/>
                  <p:nvPr/>
                </p:nvSpPr>
                <p:spPr>
                  <a:xfrm>
                    <a:off x="576360" y="861480"/>
                    <a:ext cx="1295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1587960" y="481320"/>
                  <a:ext cx="360" cy="1155960"/>
                  <a:chOff x="1587960" y="481320"/>
                  <a:chExt cx="360" cy="1155960"/>
                </a:xfrm>
              </p:grpSpPr>
              <p:sp>
                <p:nvSpPr>
                  <p:cNvPr id="454" name="直接连接符 46230"/>
                  <p:cNvSpPr/>
                  <p:nvPr/>
                </p:nvSpPr>
                <p:spPr>
                  <a:xfrm>
                    <a:off x="1587960" y="481320"/>
                    <a:ext cx="0" cy="115596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5" name=""/>
                  <p:cNvSpPr txBox="1"/>
                  <p:nvPr/>
                </p:nvSpPr>
                <p:spPr>
                  <a:xfrm>
                    <a:off x="1587960" y="481320"/>
                    <a:ext cx="360" cy="1155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747360" y="550800"/>
                  <a:ext cx="360" cy="605160"/>
                  <a:chOff x="747360" y="550800"/>
                  <a:chExt cx="360" cy="605160"/>
                </a:xfrm>
              </p:grpSpPr>
              <p:sp>
                <p:nvSpPr>
                  <p:cNvPr id="457" name="直接连接符 46231"/>
                  <p:cNvSpPr/>
                  <p:nvPr/>
                </p:nvSpPr>
                <p:spPr>
                  <a:xfrm>
                    <a:off x="747360" y="550800"/>
                    <a:ext cx="0" cy="60516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8" name=""/>
                  <p:cNvSpPr txBox="1"/>
                  <p:nvPr/>
                </p:nvSpPr>
                <p:spPr>
                  <a:xfrm>
                    <a:off x="747360" y="550800"/>
                    <a:ext cx="360" cy="60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1595160" y="-3240"/>
                  <a:ext cx="360" cy="104400"/>
                  <a:chOff x="1595160" y="-3240"/>
                  <a:chExt cx="360" cy="104400"/>
                </a:xfrm>
              </p:grpSpPr>
              <p:sp>
                <p:nvSpPr>
                  <p:cNvPr id="460" name="直接连接符 46232"/>
                  <p:cNvSpPr/>
                  <p:nvPr/>
                </p:nvSpPr>
                <p:spPr>
                  <a:xfrm flipV="1">
                    <a:off x="1595520" y="-3240"/>
                    <a:ext cx="0" cy="10440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1" name=""/>
                  <p:cNvSpPr txBox="1"/>
                  <p:nvPr/>
                </p:nvSpPr>
                <p:spPr>
                  <a:xfrm rot="10800000">
                    <a:off x="1595160" y="-3240"/>
                    <a:ext cx="360" cy="10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62" name=""/>
                <p:cNvGrpSpPr/>
                <p:nvPr/>
              </p:nvGrpSpPr>
              <p:grpSpPr>
                <a:xfrm>
                  <a:off x="2444760" y="272160"/>
                  <a:ext cx="360" cy="371880"/>
                  <a:chOff x="2444760" y="272160"/>
                  <a:chExt cx="360" cy="371880"/>
                </a:xfrm>
              </p:grpSpPr>
              <p:sp>
                <p:nvSpPr>
                  <p:cNvPr id="463" name="直接连接符 46233"/>
                  <p:cNvSpPr/>
                  <p:nvPr/>
                </p:nvSpPr>
                <p:spPr>
                  <a:xfrm>
                    <a:off x="2444760" y="272160"/>
                    <a:ext cx="0" cy="37188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4" name=""/>
                  <p:cNvSpPr txBox="1"/>
                  <p:nvPr/>
                </p:nvSpPr>
                <p:spPr>
                  <a:xfrm>
                    <a:off x="2444760" y="272160"/>
                    <a:ext cx="360" cy="37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2444400" y="3240"/>
                  <a:ext cx="360" cy="85320"/>
                  <a:chOff x="2444400" y="3240"/>
                  <a:chExt cx="360" cy="85320"/>
                </a:xfrm>
              </p:grpSpPr>
              <p:sp>
                <p:nvSpPr>
                  <p:cNvPr id="466" name="直接连接符 46234"/>
                  <p:cNvSpPr/>
                  <p:nvPr/>
                </p:nvSpPr>
                <p:spPr>
                  <a:xfrm flipV="1">
                    <a:off x="2444760" y="3240"/>
                    <a:ext cx="0" cy="85320"/>
                  </a:xfrm>
                  <a:prstGeom prst="line">
                    <a:avLst/>
                  </a:prstGeom>
                  <a:ln w="9360">
                    <a:solidFill>
                      <a:srgbClr val="e5d09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7" name=""/>
                  <p:cNvSpPr txBox="1"/>
                  <p:nvPr/>
                </p:nvSpPr>
                <p:spPr>
                  <a:xfrm rot="10800000">
                    <a:off x="2444400" y="3240"/>
                    <a:ext cx="360" cy="85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38520" bIns="38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333399"/>
                      </a:solidFill>
                      <a:latin typeface="Tahoma"/>
                    </a:endParaRPr>
                  </a:p>
                </p:txBody>
              </p:sp>
            </p:grpSp>
          </p:grpSp>
        </p:grpSp>
        <p:pic>
          <p:nvPicPr>
            <p:cNvPr id="468" name="图片 46237" descr="earth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7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8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9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31C9-CB5E-43DD-99E5-F58103E1A8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547280" y="14839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6000" spc="-1" strike="noStrike">
                <a:solidFill>
                  <a:srgbClr val="cc6600"/>
                </a:solidFill>
                <a:latin typeface="隶书"/>
                <a:ea typeface="隶书"/>
              </a:rPr>
              <a:t>电子支付技术</a:t>
            </a:r>
            <a:br>
              <a:rPr sz="6000"/>
            </a:br>
            <a:endParaRPr b="0" i="1" lang="en-US" sz="60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11" name="日期占位符 1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2057400" y="243792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宋体"/>
              </a:rPr>
              <a:t>电子支付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Times New Roman"/>
                <a:ea typeface="宋体"/>
              </a:rPr>
              <a:t>安全套接层协议</a:t>
            </a:r>
            <a:r>
              <a:rPr b="1" lang="en-US" sz="3600" spc="-1" strike="noStrike">
                <a:solidFill>
                  <a:srgbClr val="a4a4a4"/>
                </a:solidFill>
                <a:latin typeface="宋体"/>
                <a:ea typeface="宋体"/>
              </a:rPr>
              <a:t>SS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安全电子交易</a:t>
            </a:r>
            <a:r>
              <a:rPr b="1" lang="en-US" sz="3600" spc="-1" strike="noStrike">
                <a:solidFill>
                  <a:srgbClr val="a4a4a4"/>
                </a:solidFill>
                <a:latin typeface="宋体"/>
                <a:ea typeface="宋体"/>
              </a:rPr>
              <a:t>SET</a:t>
            </a: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协议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Times New Roman"/>
                <a:ea typeface="宋体"/>
              </a:rPr>
              <a:t>电子支付工具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网上银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日期占位符 1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057400" y="243792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宋体"/>
                <a:ea typeface="宋体"/>
              </a:rPr>
              <a:t>电子支付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宋体"/>
              </a:rPr>
              <a:t>安全套接层协议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  <a:ea typeface="宋体"/>
              </a:rPr>
              <a:t>SSL</a:t>
            </a:r>
            <a:r>
              <a:rPr b="1" lang="en-US" sz="3600" spc="-1" strike="noStrike">
                <a:solidFill>
                  <a:srgbClr val="a4a4a4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安全电子交易</a:t>
            </a:r>
            <a:r>
              <a:rPr b="1" lang="en-US" sz="3600" spc="-1" strike="noStrike">
                <a:solidFill>
                  <a:srgbClr val="a4a4a4"/>
                </a:solidFill>
                <a:latin typeface="宋体"/>
                <a:ea typeface="宋体"/>
              </a:rPr>
              <a:t>SET</a:t>
            </a: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协议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Times New Roman"/>
                <a:ea typeface="宋体"/>
              </a:rPr>
              <a:t>电子支付工具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网上银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日期占位符 1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057400" y="243792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宋体"/>
                <a:ea typeface="宋体"/>
              </a:rPr>
              <a:t>电子支付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宋体"/>
              </a:rPr>
              <a:t>安全套接层协议</a:t>
            </a:r>
            <a:r>
              <a:rPr b="1" lang="en-US" sz="3600" spc="-1" strike="noStrike">
                <a:solidFill>
                  <a:srgbClr val="b2b2b2"/>
                </a:solidFill>
                <a:latin typeface="宋体"/>
                <a:ea typeface="宋体"/>
              </a:rPr>
              <a:t>SSL</a:t>
            </a:r>
            <a:r>
              <a:rPr b="1" lang="en-US" sz="3600" spc="-1" strike="noStrike">
                <a:solidFill>
                  <a:srgbClr val="a4a4a4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宋体"/>
              </a:rPr>
              <a:t>安全电子交易</a:t>
            </a:r>
            <a:r>
              <a:rPr b="1" lang="en-US" sz="3600" spc="-1" strike="noStrike">
                <a:solidFill>
                  <a:srgbClr val="cc6600"/>
                </a:solidFill>
                <a:latin typeface="宋体"/>
                <a:ea typeface="宋体"/>
              </a:rPr>
              <a:t>SET</a:t>
            </a:r>
            <a:r>
              <a:rPr b="1" lang="zh-CN" sz="3600" spc="-1" strike="noStrike">
                <a:solidFill>
                  <a:srgbClr val="cc6600"/>
                </a:solidFill>
                <a:latin typeface="宋体"/>
                <a:ea typeface="宋体"/>
              </a:rPr>
              <a:t>协议</a:t>
            </a: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Times New Roman"/>
                <a:ea typeface="宋体"/>
              </a:rPr>
              <a:t>电子支付工具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网上银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日期占位符 1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2057400" y="243792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宋体"/>
                <a:ea typeface="宋体"/>
              </a:rPr>
              <a:t>电子支付概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Times New Roman"/>
                <a:ea typeface="宋体"/>
              </a:rPr>
              <a:t>安全套接层协议</a:t>
            </a:r>
            <a:r>
              <a:rPr b="1" lang="en-US" sz="3600" spc="-1" strike="noStrike">
                <a:solidFill>
                  <a:srgbClr val="b2b2b2"/>
                </a:solidFill>
                <a:latin typeface="宋体"/>
                <a:ea typeface="宋体"/>
              </a:rPr>
              <a:t>SSL</a:t>
            </a:r>
            <a:r>
              <a:rPr b="1" lang="en-US" sz="3600" spc="-1" strike="noStrike">
                <a:solidFill>
                  <a:srgbClr val="a4a4a4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2b2b2"/>
                </a:solidFill>
                <a:latin typeface="宋体"/>
                <a:ea typeface="宋体"/>
              </a:rPr>
              <a:t>安全电子交易</a:t>
            </a:r>
            <a:r>
              <a:rPr b="1" lang="en-US" sz="3600" spc="-1" strike="noStrike">
                <a:solidFill>
                  <a:srgbClr val="b2b2b2"/>
                </a:solidFill>
                <a:latin typeface="宋体"/>
                <a:ea typeface="宋体"/>
              </a:rPr>
              <a:t>SET</a:t>
            </a:r>
            <a:r>
              <a:rPr b="1" lang="zh-CN" sz="3600" spc="-1" strike="noStrike">
                <a:solidFill>
                  <a:srgbClr val="b2b2b2"/>
                </a:solidFill>
                <a:latin typeface="宋体"/>
                <a:ea typeface="宋体"/>
              </a:rPr>
              <a:t>协议</a:t>
            </a: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Times New Roman"/>
                <a:ea typeface="宋体"/>
              </a:rPr>
              <a:t>电子支付工具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buClr>
                <a:srgbClr val="a4a4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a4a4"/>
                </a:solidFill>
                <a:latin typeface="宋体"/>
                <a:ea typeface="宋体"/>
              </a:rPr>
              <a:t>网上银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日期占位符 1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3:26Z</dcterms:created>
  <dc:creator/>
  <dc:description/>
  <cp:keywords>电子 支付技术</cp:keywords>
  <dc:language>en-US</dc:language>
  <cp:lastModifiedBy>An</cp:lastModifiedBy>
  <dcterms:modified xsi:type="dcterms:W3CDTF">2016-05-01T00:53:2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