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5AE-9BB7-4A78-BF80-0BF474F5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DDF1-36D5-4AD5-9314-E7E9F861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4C5-E664-498D-A495-AADEB028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228-A68E-4961-B312-0379EDAF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C50-84E8-4419-AFFF-93260F17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7C3-8053-4654-847C-C0CEE520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F6A-BD33-4BD2-B3F7-9C19365C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160-39AC-471A-B943-8EB97814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8A7-F6D0-4E9B-8ECF-67A5C633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A83-63B7-487B-8C44-43FC33AB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5FE-73A3-435C-9844-A6383DC8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F30-0E12-4767-93B3-90DF7A2A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330E-360E-41B5-9098-D0AFF502B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4038480" y="5334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图标1"/>
          <p:cNvPicPr/>
          <p:nvPr/>
        </p:nvPicPr>
        <p:blipFill>
          <a:blip r:embed="rId2"/>
          <a:stretch/>
        </p:blipFill>
        <p:spPr>
          <a:xfrm>
            <a:off x="1752480" y="685800"/>
            <a:ext cx="5410440" cy="121932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1828800" y="2438280"/>
            <a:ext cx="56196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fff200">
                        <a:alpha val="50196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父亲和鸟</a:t>
            </a:r>
            <a:endParaRPr b="0" lang="en-US" sz="8000" spc="-1" strike="noStrike">
              <a:ln w="0">
                <a:noFill/>
              </a:ln>
              <a:gradFill rotWithShape="0">
                <a:gsLst>
                  <a:gs pos="0">
                    <a:srgbClr val="fff200">
                      <a:alpha val="50196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520000" y="60199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有。在树林里过夜的鸟总是一群一群的，羽毛焐得热腾腾的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亲又说：“听，鸟要唱歌了。”我们刚坐下，鸟就唱了起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。在树林里过夜的鸟总是一群一群的，羽毛焐得热腾腾的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亲又说：“听，鸟要唱歌了。”我们刚坐下，鸟就唱了起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小结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父亲真是鸟的知音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鸟最快活的时刻，在鸟飞离树枝的那一瞬间，最容易被猎人打中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黎明时的鸟，翅膀潮湿，飞起来重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小结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父亲真是鸟的专家啦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如果是父亲是猎人，会怎样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1930320" y="503280"/>
            <a:ext cx="67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362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你认为父亲是一个怎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43000" y="304560"/>
            <a:ext cx="6781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到冬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就希望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那些小鸟小兽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跑得远远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逃过你的目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让你的猎枪永远不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6717-468C-4570-B904-7DEEF0712C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933120" y="146700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126960" y="141912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206680" y="141912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7340400" y="141912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10800" y="412596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126960" y="411480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254200" y="409716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474840" y="53352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mé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608200" y="533520"/>
            <a:ext cx="166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á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4971240" y="563400"/>
            <a:ext cx="132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wè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6876000" y="584280"/>
            <a:ext cx="187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ó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611280" y="3048120"/>
            <a:ext cx="166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é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2897640" y="304812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li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4953960" y="3048120"/>
            <a:ext cx="98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l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33120" y="146700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126960" y="141912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206680" y="141912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340400" y="141912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910800" y="412596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126960" y="411480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254200" y="409716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雾蒙蒙    美味   浓浓的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热腾腾    猎人   喃喃地说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蒙蒙亮    黎明    味精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打猎        浓眉大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2007211525157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说说你从课文中知道了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他喃喃地说：“林子里有不少鸟。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变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小声地说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：“林子里有不少鸟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轻声地说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：“林子里有不少鸟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自言自语地说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：“林子里有少鸟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3520" y="533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看那里，没有风，叶子为什么在动？嗯，还有鸟味。”父亲的话音很轻，生怕惊动了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看那里，没有风，叶子为什么在动？嗯，还有鸟味。”父亲的话音很轻，生怕惊动了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小结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父亲真是鸟的爱护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3:00:34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31:58Z</dcterms:modified>
  <cp:revision>20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