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31F7-6D82-42F4-98AA-B37E99A03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A4E4-F57A-4C13-BB78-D4568FD8432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B308E-9031-4D11-A600-53B218DA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0B4329-4086-4869-AAA8-51B2C3B6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F10FA-7DA9-4579-963D-9ACF80CB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D7EE4-B190-4BF7-935A-B14FFF1F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DE127-2578-4AF9-810E-C410D72E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32DF28-F735-4410-B477-1B1DA9AB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D77D43-A190-4CE1-9C8D-9D045DA7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EEDAA-804F-4B6D-A368-C9FC0557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C87A2-2684-44F1-B806-4D805C62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DC5FD-F5CC-4AA8-B6B0-31B939FC9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4684-8E95-4933-AEAC-F1CBC5DCBEB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F715F-0F0D-438B-8143-CAC30057119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A83E6-4F3F-4B22-B247-A12DCD8953E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B839F-CDC3-446E-8F87-E726963791E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874F1-F79A-46D0-800F-515CE8E8321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9A4AF-1B27-4AA3-9B27-C423D90EDE6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9AF94-CB6E-4928-A348-813C2D1CD24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A85CC-F53E-4327-968A-AEBB76CFF3C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FB569-7852-40E1-99B7-E64403BF253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87AE0-6BE6-46AA-815F-818D9660772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35C1B-E949-464E-824C-ADD0785B1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DD7B-E71E-4E73-A061-3A4588CAE8D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1C657-A832-42D5-AFF6-A4DC4C5488D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F4FB14-0382-469F-9C02-8260E5919D5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AA9241-D867-488A-86A5-9DE9F877C09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BE6A6D-ED61-46D0-925C-DFA55848150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2ADEB7-D77D-40D7-9A5B-8AC5A1EEFC2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B52D27-9D20-484B-8904-883A4854B35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B28ED8-5B14-4A58-920D-B2B52CCCDB1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CD8A9D-C856-4895-B7AF-ED1E9F04203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CB3976-FF73-48F8-ABCD-98E51FF9586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2CF047-D182-4B8A-96CD-4C0584E36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99D0E-1643-433F-9047-EAD1C4D5959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490814-15DE-4921-B3FF-7847CE6D356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DF1BF3-344B-435A-97AC-0CBC0F630BA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1B6E30-4D90-4691-9469-0716A34B395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5AA41-F68C-480C-BCB5-E14BA9A49F7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9345D-0042-4A41-9319-76E6ED4EE64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1CB55-4B80-4685-A445-34D22B8BCDA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C1882-CD75-404D-BDD2-BFCEF432ADB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D6F2CD-F672-49A6-B3D2-76DD7932E38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A91EB-1153-4455-BA4E-5D5B2327B8C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1C6C3-3847-4F12-A316-D74CAF9796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A039-493A-4722-8491-9B4FD81920B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E4C6A-F64B-41CD-9B86-EEF21C4ACB9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2CF4F-274C-42A7-B668-D00158D0095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22678-F6F0-4F2E-B198-35942DB0BF6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907CB-81FC-43CB-B48B-85C670564EC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BEE27-BD07-4F95-9E5C-2FC6DF6C460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BB104-A320-41D2-95C3-66CF430AB56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1974D-DDFF-487D-94A2-D272046469C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89BE4-0B1C-46CF-A39D-D873AD7ABD2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6B5FE-230E-4768-B48B-E3C803A1EB8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4ED00-1F98-4897-AE75-CCD4C61338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118E-3892-4E6D-B548-55E8F692844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28948-E589-4566-893D-BCF54958BF1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2F8AF-FB22-4D5A-88EB-13AB11FCDBC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66944-AD9D-41A4-8F69-B3C2D861F78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672E0-6F6E-4625-A939-3FC556E11F8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6DD79-460A-4E13-9979-D692ABF703D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83937-AA60-45A0-A830-16679FD7140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F67D7-A4A6-4E14-A2B6-4596C907782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13CA00-3371-404B-8BBA-01F13B8488C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E6421B-06A5-4F58-A243-B77D0C344D4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86189D-BAA9-430B-8D68-B76E812B25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59E3-514B-4C6B-B276-A133D766D47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9D47B4-0674-4DC3-BFA6-388037F3058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53CA7C-2FCE-49CB-B03C-DF6E055D69B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8E8C34-DBE7-4D27-A8DE-3856AA1F8BA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5E165E-1CCB-4271-84B5-82A189272CB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C00E11-8D11-4849-8247-0D13C82F1C9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84E3C6-306D-4985-A07B-9DCF534C531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F943C1-C31B-45C8-813A-ADAE98DEA18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7285E8-4D68-41ED-8E77-681E36665D0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28437C-C4A3-4F44-AA8D-D859AA4FC75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AA3F78-D17D-4B5A-9C14-C2123249F6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5FD4-E285-4876-9B8E-517716FFFF3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A81237-F26C-442E-A237-AB4CC8A44A5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BA3F7-D7BD-4506-8F78-227C8D52336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591B1-4BE9-43BA-8D35-C353B80B58A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F1E0A-1BF0-46B4-8301-A29B26200EC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9621C9-BCB7-41FC-89CA-DC8FA3E4F93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39C0A-D419-4B2C-87E6-277CDEFDB6C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4B964A-1A95-49A0-9BCE-0CE0CC0B26D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8B6AE-BCA9-4587-8FA2-C90BF1CF82B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BAB21B-FFC8-4596-9441-1BCDF0FDFF0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44C62-D6F0-401F-8296-22FB701073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AD1F6-E99D-409F-AF95-211AF12187A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B10B7-AFAD-48B8-932A-3265D448BC8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5B769-0E2A-4916-8A41-69685BEC701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491EE-CF8F-48FB-8176-20947FF9939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00330-33F0-4F2D-8254-A9636B58E3A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78C12-7F72-4891-B88E-093BB0D43B3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F47EC-B774-4D28-A9EF-32CA455B077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C934F-1FA1-44F2-80B0-06E95D0F5FD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FF5B6-E8DB-4A1E-9AED-262CA663924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C78CA-FDE4-4B69-9B06-FC99487C803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684B8-8E2D-411B-8331-85D808EBC1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9385-C1BB-4141-80F0-ACDFC828756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2329A-54F1-4EBF-AEC0-9E945EB75B1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D1CD1-D3BA-4F97-AC7C-DC886A88BC8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42CF2-90DA-4020-AD29-4C2950E1B0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2932-9424-40AA-A3D2-4CDE1A072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88D6-BB14-4A06-8AA6-F49A79CB6F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8C1F-8586-4AE2-93C4-5F6D1A219F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FF0A-89EF-4DB9-B8FF-289075C550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93AD-4632-4B1B-8A1E-4AF1B50049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8ED34-7462-4DED-A065-1BDC546471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349-B905-497D-B117-99528032D4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3DE-2A28-4A21-8C23-63480FE2AD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132-A8ED-40EB-97E7-B933399246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77F-2043-4BC9-B4CB-12D9467ACF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11A-FAE8-43A3-AE8B-2896F41612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71B0-9446-4BA2-9A44-1F46BE2882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771-3FFC-4FFE-98B9-3C824255F1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005-2995-480B-BB4D-5AC35A162D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D7C-E891-4A5A-B7EE-020362A48A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003-87A7-4401-A21B-E286297452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6BF-0E42-4EC3-B307-A03FB6EECA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17C-E541-458E-838A-98258A6BC6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D6D-CD25-4560-8D43-757FC0C1D3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1D4EE-7098-4FA2-9677-F388027432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3E012-6F28-4A8F-A88C-A124630300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C5167-73AE-467A-B908-1D6AB7FA4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62C5-7F71-428E-9653-5E1D4DC074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F26A1-B246-40D8-AC7D-305D991FAC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BDA94-3294-413D-8BF5-8BABE3DAFA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16780-4D0E-45FD-941A-C68B07F4CC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11066-7F9D-4F59-946C-A63876E2C9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910D6-8171-42CB-9ACF-B2E5BE2504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23403-5992-4274-A2AA-81B2EBD1E4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675E8-B060-44A5-B723-A62AB4BA55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30B0E-C1A4-4132-9856-3071DB7FED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F3674-D616-4CD8-9D37-A5E7F7BEDBC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99DE1-8852-4191-8CA3-9B9EED5A6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DFDD-5AF2-417A-8EDF-7C28F032511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CAA89-2FD7-4320-9519-33F1815F657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00720-E648-4122-8061-7AA2EA13989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7D9DC-64E0-4D69-B19F-793B3BB9521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64344-9AA1-4FA1-8F39-60CCAF5BAA8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070D6-EC76-4924-8468-35A5F65EE90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B64F8-8215-4DBD-9BEB-3F792F17DA7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FAC5F-F8F9-430E-B01E-9F63C9FA5D2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B2C56-4A07-4284-AB58-EA47506E0CB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EE5E7-A182-4C08-8833-630CC5CE372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EEF0F-3499-4EAD-BAB0-927C7C70A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8B61-B53C-4026-A389-992AE97F2D0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30D0E-628F-4810-A229-FA7017D26D2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42BF-B658-457C-A047-475A647C855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8597-7A45-48EC-A482-1A2A3269FC6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4C90-6004-4938-969E-F4A177B14C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C764-3280-4A96-B0FB-F8DC154CE24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FB02-3AD9-41BF-97CA-490D2C67BC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F8FB-86A2-409E-960E-8E2A1F1E48F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2CB9-026A-432C-A067-1BA3AED7291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9ACF-C09A-4C02-905D-9ED96197027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6990-0F0D-42E5-AD8C-5CDD64CAB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A466-13B0-43DF-8823-0A2600D7EEC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B84B-42F3-4435-8B39-179DDEAC2A1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65A0-1123-46BC-9A7F-CA1C28C21A3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2A63-E097-435F-8B4D-0CDFB61383F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096BA2-69A8-4302-9A7A-2F95597A241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CDB72F-9D78-4696-A2D2-7A960900C32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22F605-736B-4A6A-B1F7-FD642171E10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FD040C-3DBE-45F1-9428-9727F1C2642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649981-A1CC-4C07-9894-47D662471D1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D7087E-23F5-4717-A0AD-0C9ED197BCE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2F3FCE-FCFD-44B8-B117-9E31D3D03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E52C-66C6-493E-98DB-B2FC6BC035D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3C6741-6481-4FC7-BB83-170D63BCE9F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66C062-AD7D-4473-BA41-B19EC62BFCE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3B53D3-8EA4-4DE2-964A-3152ACB022A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485CF1-5A60-404B-AD13-19158956521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D50D5-B439-40EB-8079-F11E76A072A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0C84A-B404-437A-B436-CC3A4E6098C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A9D7A-00A9-4B76-85DC-A15ED11B6A5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14AB1-0B28-4168-9E34-8851C082A60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389B5-A033-4905-98CB-18B6EEAB1BA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5B15D-6A90-47D6-8A8B-C5825735B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B09B-E59F-49DA-A665-DBD2F29A62F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06F51-C89A-4787-9B23-0B3C0932776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79E69-7947-4002-9293-1815637B88C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16924-E9C3-4F69-AFC7-0BDFEDD485C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1442A-BBDB-45CB-B7EA-BDD2F2391DE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2915E-000D-4054-9D65-B9E3AF67648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A8F72-13FA-4393-A1F2-BA838404C58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89412-B9D6-424D-AF5E-5E83D2BD8BE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FBAE9-E8EA-4C33-914F-B722975C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8A9055-7593-4099-96FC-393297B7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89F94-DB66-4E69-8094-886D6E8C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00"/>
              </a:spcBef>
              <a:buClr>
                <a:srgbClr val="cc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矩形 18434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矩形 18435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矩形 18436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矩形 18437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18438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18439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18440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矩形 18441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矩形 18442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矩形 18443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8444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组合 18445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矩形 18446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矩形 18447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sldNum" idx="1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D422-0D2F-49AC-BA73-76F6BBC6D450}" type="slidenum"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" name="组合 18452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18" name="矩形 18453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矩形 18454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矩形 18455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矩形 18456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2895480" y="4303800"/>
            <a:ext cx="3276720" cy="360"/>
            <a:chOff x="2895480" y="4303800"/>
            <a:chExt cx="3276720" cy="360"/>
          </a:xfrm>
        </p:grpSpPr>
        <p:sp>
          <p:nvSpPr>
            <p:cNvPr id="456" name="直接连接符 19457"/>
            <p:cNvSpPr/>
            <p:nvPr/>
          </p:nvSpPr>
          <p:spPr>
            <a:xfrm>
              <a:off x="2895480" y="4303800"/>
              <a:ext cx="3276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2895480" y="4303800"/>
              <a:ext cx="32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矩形 19460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组合 19461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60" name="矩形 19462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矩形 19463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矩形 19464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矩形 19465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矩形 19466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矩形 19467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组合 19468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467" name="矩形 19469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矩形 19470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矩形 19471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矩形 19472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矩形 19473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矩形 19474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矩形 19475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矩形 19476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矩形 19477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00"/>
              </a:spcBef>
              <a:buClr>
                <a:srgbClr val="cc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2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3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EA44-89EC-44C5-A6EB-A75D7CB9CE68}" type="slidenum">
              <a:rPr b="1" lang="zh-CN" sz="3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228600" y="990720"/>
            <a:ext cx="8610480" cy="360"/>
            <a:chOff x="228600" y="990720"/>
            <a:chExt cx="8610480" cy="360"/>
          </a:xfrm>
        </p:grpSpPr>
        <p:sp>
          <p:nvSpPr>
            <p:cNvPr id="516" name="直接连接符 117766"/>
            <p:cNvSpPr/>
            <p:nvPr/>
          </p:nvSpPr>
          <p:spPr>
            <a:xfrm>
              <a:off x="228600" y="990720"/>
              <a:ext cx="8610480" cy="0"/>
            </a:xfrm>
            <a:prstGeom prst="line">
              <a:avLst/>
            </a:prstGeom>
            <a:ln w="66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228600" y="990720"/>
              <a:ext cx="8610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组合 117767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19" name="矩形 117768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矩形 117769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矩形 117770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矩形 117771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矩形 117772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矩形 117773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矩形 117774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矩形 117775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矩形 117776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矩形 117777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矩形 117778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矩形 117779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矩形 117780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66760" y="6172200"/>
            <a:ext cx="8610480" cy="360"/>
            <a:chOff x="266760" y="6172200"/>
            <a:chExt cx="8610480" cy="360"/>
          </a:xfrm>
        </p:grpSpPr>
        <p:sp>
          <p:nvSpPr>
            <p:cNvPr id="533" name="直接连接符 117781"/>
            <p:cNvSpPr/>
            <p:nvPr/>
          </p:nvSpPr>
          <p:spPr>
            <a:xfrm>
              <a:off x="266760" y="617220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 txBox="1"/>
            <p:nvPr/>
          </p:nvSpPr>
          <p:spPr>
            <a:xfrm>
              <a:off x="266760" y="6172200"/>
              <a:ext cx="8610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C2C8-75D1-4C63-B28B-5FF622900220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图片 122881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1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BF20-4867-4AB5-B634-62D9D7DD1F5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任意多边形 125953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组合 125959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16" name="任意多边形 125960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任意多边形 125961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任意多边形 125962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组合 125963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20" name="任意多边形 125964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任意多边形 125965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任意多边形 125966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任意多边形 125967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任意多边形 125968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5" name="组合 125969"/>
          <p:cNvGrpSpPr/>
          <p:nvPr/>
        </p:nvGrpSpPr>
        <p:grpSpPr>
          <a:xfrm>
            <a:off x="7797600" y="4318200"/>
            <a:ext cx="979560" cy="1159560"/>
            <a:chOff x="7797600" y="4318200"/>
            <a:chExt cx="979560" cy="1159560"/>
          </a:xfrm>
        </p:grpSpPr>
        <p:sp>
          <p:nvSpPr>
            <p:cNvPr id="626" name="任意多边形 125970"/>
            <p:cNvSpPr/>
            <p:nvPr/>
          </p:nvSpPr>
          <p:spPr>
            <a:xfrm rot="7320000">
              <a:off x="7791120" y="465912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任意多边形 125971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任意多边形 125972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组合 125973"/>
            <p:cNvGrpSpPr/>
            <p:nvPr/>
          </p:nvGrpSpPr>
          <p:grpSpPr>
            <a:xfrm>
              <a:off x="7797600" y="4318200"/>
              <a:ext cx="979560" cy="1159560"/>
              <a:chOff x="7797600" y="4318200"/>
              <a:chExt cx="979560" cy="1159560"/>
            </a:xfrm>
          </p:grpSpPr>
          <p:sp>
            <p:nvSpPr>
              <p:cNvPr id="630" name="任意多边形 125974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任意多边形 125975"/>
              <p:cNvSpPr/>
              <p:nvPr/>
            </p:nvSpPr>
            <p:spPr>
              <a:xfrm rot="7320000">
                <a:off x="775764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任意多边形 125976"/>
              <p:cNvSpPr/>
              <p:nvPr/>
            </p:nvSpPr>
            <p:spPr>
              <a:xfrm rot="7320000">
                <a:off x="8037720" y="47595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任意多边形 125977"/>
              <p:cNvSpPr/>
              <p:nvPr/>
            </p:nvSpPr>
            <p:spPr>
              <a:xfrm rot="7320000">
                <a:off x="8514360" y="456192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任意多边形 125978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任意多边形 125979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任意多边形 125980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76BC-C793-406D-ACE6-0EF49A85FB11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任意多边形 129030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3850-A737-4701-A608-5C582D92893C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组合 146433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17" name="组合 146434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718" name="矩形 146435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矩形 146436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组合 146437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721" name="矩形 146438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矩形 146439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" name="矩形 146440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矩形 146441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矩形 146442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1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F9FF-8622-4123-AD80-64C5D3F1C8A3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07E3-41D3-4E63-A83A-356FF24D4304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D862-95FE-49CD-9F07-945D69477B6C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66760" y="6172200"/>
            <a:ext cx="8610480" cy="360"/>
            <a:chOff x="266760" y="6172200"/>
            <a:chExt cx="8610480" cy="360"/>
          </a:xfrm>
        </p:grpSpPr>
        <p:sp>
          <p:nvSpPr>
            <p:cNvPr id="62" name="直接连接符 116741"/>
            <p:cNvSpPr/>
            <p:nvPr/>
          </p:nvSpPr>
          <p:spPr>
            <a:xfrm>
              <a:off x="266760" y="617220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266760" y="6172200"/>
              <a:ext cx="8610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28600" y="304920"/>
            <a:ext cx="8610480" cy="360"/>
            <a:chOff x="228600" y="304920"/>
            <a:chExt cx="8610480" cy="360"/>
          </a:xfrm>
        </p:grpSpPr>
        <p:sp>
          <p:nvSpPr>
            <p:cNvPr id="65" name="直接连接符 116742"/>
            <p:cNvSpPr/>
            <p:nvPr/>
          </p:nvSpPr>
          <p:spPr>
            <a:xfrm>
              <a:off x="228600" y="304920"/>
              <a:ext cx="8610480" cy="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228600" y="304920"/>
              <a:ext cx="8610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组合 116743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8" name="矩形 116744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矩形 116745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矩形 116746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矩形 116747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矩形 116748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矩形 116749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矩形 116750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矩形 116751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矩形 116752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矩形 116753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矩形 116754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矩形 116755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矩形 116756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21857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18" name="矩形 121858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图片 121859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295E-BC63-4357-ACC4-9ECC6CDDC04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任意多边形 124929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FDC5-9559-4E55-AD88-B4D7DAFAD7ED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任意多边形 124935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任意多边形 124936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组合 124937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6" name="任意多边形 124938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任意多边形 124939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124940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124941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任意多边形 124942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任意多边形 124943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任意多边形 124944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任意多边形 124945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任意多边形 124946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组合 12494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6" name="组合 12494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7" name="任意多边形 1249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任意多边形 124950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任意多边形 124951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任意多边形 124952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任意多边形 124953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任意多边形 124954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组合 124955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4" name="任意多边形 124956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任意多边形 124957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任意多边形 124958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任意多边形 124959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任意多边形 124960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任意多边形 124961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任意多边形 124962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任意多边形 124963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2" name="组合 124964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3" name="任意多边形 124965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任意多边形 124966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组合 124967"/>
          <p:cNvGrpSpPr/>
          <p:nvPr/>
        </p:nvGrpSpPr>
        <p:grpSpPr>
          <a:xfrm>
            <a:off x="7171560" y="-86040"/>
            <a:ext cx="2427480" cy="2247120"/>
            <a:chOff x="7171560" y="-86040"/>
            <a:chExt cx="2427480" cy="2247120"/>
          </a:xfrm>
        </p:grpSpPr>
        <p:grpSp>
          <p:nvGrpSpPr>
            <p:cNvPr id="196" name="组合 124968"/>
            <p:cNvGrpSpPr/>
            <p:nvPr/>
          </p:nvGrpSpPr>
          <p:grpSpPr>
            <a:xfrm>
              <a:off x="7171560" y="-86040"/>
              <a:ext cx="2427480" cy="2247120"/>
              <a:chOff x="7171560" y="-86040"/>
              <a:chExt cx="2427480" cy="2247120"/>
            </a:xfrm>
          </p:grpSpPr>
          <p:sp>
            <p:nvSpPr>
              <p:cNvPr id="197" name="任意多边形 124969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组合 124970"/>
              <p:cNvGrpSpPr/>
              <p:nvPr/>
            </p:nvGrpSpPr>
            <p:grpSpPr>
              <a:xfrm>
                <a:off x="7171560" y="-86040"/>
                <a:ext cx="2427480" cy="2247120"/>
                <a:chOff x="7171560" y="-86040"/>
                <a:chExt cx="2427480" cy="2247120"/>
              </a:xfrm>
            </p:grpSpPr>
            <p:sp>
              <p:nvSpPr>
                <p:cNvPr id="199" name="任意多边形 124971"/>
                <p:cNvSpPr/>
                <p:nvPr/>
              </p:nvSpPr>
              <p:spPr>
                <a:xfrm rot="18427200">
                  <a:off x="788148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任意多边形 124972"/>
                <p:cNvSpPr/>
                <p:nvPr/>
              </p:nvSpPr>
              <p:spPr>
                <a:xfrm rot="18427200">
                  <a:off x="801288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任意多边形 124973"/>
                <p:cNvSpPr/>
                <p:nvPr/>
              </p:nvSpPr>
              <p:spPr>
                <a:xfrm rot="18427200">
                  <a:off x="77115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任意多边形 124974"/>
                <p:cNvSpPr/>
                <p:nvPr/>
              </p:nvSpPr>
              <p:spPr>
                <a:xfrm rot="18427200">
                  <a:off x="7783200" y="-2880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任意多边形 124975"/>
                <p:cNvSpPr/>
                <p:nvPr/>
              </p:nvSpPr>
              <p:spPr>
                <a:xfrm rot="18427200">
                  <a:off x="8407800" y="142272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任意多边形 124976"/>
                <p:cNvSpPr/>
                <p:nvPr/>
              </p:nvSpPr>
              <p:spPr>
                <a:xfrm rot="18427200">
                  <a:off x="83379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任意多边形 124977"/>
                <p:cNvSpPr/>
                <p:nvPr/>
              </p:nvSpPr>
              <p:spPr>
                <a:xfrm rot="18427200">
                  <a:off x="791208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任意多边形 124978"/>
                <p:cNvSpPr/>
                <p:nvPr/>
              </p:nvSpPr>
              <p:spPr>
                <a:xfrm rot="18427200">
                  <a:off x="7853760" y="22464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208" name="直接连接符 124979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任意多边形 12800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250" name="直接连接符 128004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3"/>
          <p:cNvSpPr>
            <a:spLocks noGrp="1"/>
          </p:cNvSpPr>
          <p:nvPr>
            <p:ph type="sldNum" idx="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4B8C-1A53-4EA2-871D-701F18E6074A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图片 131073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382C-959A-4899-8C4A-EB36503530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矩形 145409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矩形 145410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矩形 145411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矩形 145412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矩形 145413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矩形 145414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矩形 145415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4AC6-F99F-4084-A4C3-3CDA3A3CEE35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8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268A-E1C5-478A-A55E-0D9972F7F0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FD57-BF29-40AD-A547-4729F0AB8FD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0C02-C5FB-463C-890A-E246A5505FE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宋体"/>
              </a:rPr>
              <a:t>管理沟通理念与技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  <a:ea typeface="宋体"/>
              </a:rPr>
              <a:t>XX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安东尼结构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900000" y="2017800"/>
          <a:ext cx="7772400" cy="4091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01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层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决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用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做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高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中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基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2" name="灯片编号占位符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84C0-BF35-43CA-AAEE-EA291A633454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五、管理沟通分类之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11280" y="2452320"/>
            <a:ext cx="81374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正式沟通和非正式沟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下向沟通误区：信息膨胀（上级至下级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上向沟通误区：信息压缩（下级至上级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灯片编号占位符 1"/>
          <p:cNvSpPr/>
          <p:nvPr/>
        </p:nvSpPr>
        <p:spPr>
          <a:xfrm>
            <a:off x="6553080" y="630540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2021-8AA3-45B0-B8DC-D7E0E5ABB0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c0039"/>
                </a:solidFill>
                <a:latin typeface="Times New Roman"/>
                <a:ea typeface="隶书"/>
              </a:rPr>
              <a:t>五、管理沟通分类之二</a:t>
            </a:r>
            <a:endParaRPr b="0" lang="en-US" sz="3600" spc="-1" strike="noStrike">
              <a:solidFill>
                <a:srgbClr val="8c0039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2022120" y="1557000"/>
            <a:ext cx="7086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建设性沟通和破坏性沟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沟通是博弈的过程；是信息由不对称到对称的过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否成为管理者有三大条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有没有官道－管理之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有没有官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有没有接引人－贵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案例：秦孝公见商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灯片编号占位符 1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4C68-0826-43C9-8AB4-6F5358670CE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二单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848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0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管理沟通理念一解：水桶哲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启示：使功不如使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案例：楚庄王宴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灯片编号占位符 1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8CD4-EFAB-485D-84B2-5A2C9D5D3B34}" type="slidenum"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4102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五字箴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千年的管理智慧结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56944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清：清心寡欲、清正廉明 （欲望的程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利令智昏、色令智昏、权令智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慎：谨言慎行    有所为有所不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老子：我有三宝，曰慈曰俭不敢为天下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勤：不断的付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忍：忍者仁也  包容、豁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易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仁者必得其位、仁者必得其寿、仁者必得其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：喜怒不形于色    （掩盖真实的一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国演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备不甚好读书，性宽和、寡言语，喜怒不形于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：喜怒哀乐发而皆中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易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寡言者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灯片编号占位符 1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98ED-2D28-4269-9A46-6771D5ED9793}" type="slidenum"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400" spc="-1" strike="noStrike">
                <a:solidFill>
                  <a:srgbClr val="000000"/>
                </a:solidFill>
                <a:latin typeface="Times New Roman"/>
              </a:rPr>
              <a:t>案例：人主不宜有所好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400" spc="-1" strike="noStrike">
                <a:solidFill>
                  <a:srgbClr val="000000"/>
                </a:solidFill>
                <a:latin typeface="Times New Roman"/>
              </a:rPr>
              <a:t>结论：君子各以其所好为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灯片编号占位符 1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FAB4-E6DC-45C7-8265-BB18927BE8A7}" type="slidenum"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三单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管理沟通理念二解：第三种资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灯片编号占位符 1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F270-86B2-4A4B-A3AE-5D14FE983C27}" type="slidenum"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9492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小测验：我们也来答答高考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39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高考题）有个青年经多年努力，有所成就，身上有七个背囊：金钱、荣誉、美貌、才学、诚信、机敏、健康。一日行至河边准备渡河，上船行至河道中央，突起狂风恶浪，渡船将要倾覆。艄公对青年说：“渡船负重，得扔掉一个背囊才能确保无恙”。青年坚持不允，艄公说：“年轻人，有舍才有得”。无奈，青年首先讲诚信扔入河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问，如果您是那个青年或您也遇到相同的情况，将七个背囊按重要性排序，您将怎么扔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灯片编号占位符 1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368B-AF3C-473F-A044-D4BA21159E07}" type="slidenum"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何谓第三种资本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知本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种资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金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种资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诚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三种资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灯片编号占位符 1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DC46-5D21-4DF5-B54C-55CB99D60CCB}" type="slidenum"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诚信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古人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格的最低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鱼和熊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灯片编号占位符 1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F529-DC4A-4B1E-9D48-2643ADA47C70}" type="slidenum"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目      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991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单元：管理沟通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单元：管理沟通理念一解：水桶哲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单元：管理沟通理念二解：第三种资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单元：管理沟通三解：平等待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灯片编号占位符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72BC-0B40-414B-8664-C0FCD747CFC6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294920" y="836280"/>
            <a:ext cx="7086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三、如何建立可信度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294920" y="191628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言必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言不必信”的反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领导者难以克服的三大通病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主通病有三：好货、好色、好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谀：不辨是非之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好谀是人性中最深层次的缺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：刘备禁酒；唐太宗玩儿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灯片编号占位符 1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026D-35EF-4FC7-8D76-2B4EF8D55E11}" type="slidenum"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371240" y="1523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第四单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管理沟通理念三解：平等待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灯片编号占位符 1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90A6-51BD-48EF-B3E1-718A88333C74}" type="slidenum"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平等的含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机会均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人格平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启示：尊重别人，就是庄严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灯片编号占位符 1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0EC2-442E-4682-88F6-7BC9EFA678BC}" type="slidenum"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三单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管理沟通理念二解：第三种资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灯片编号占位符 1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A9D6-E666-4C72-B7FA-54CA4E470FC2}" type="slidenum"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如何平等待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端正理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礼贤下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建立人性化管理制度：以人为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案例：惠普公司之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灯片编号占位符 1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2A28-AE03-4237-8F6A-41290ED90E01}" type="slidenum"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如何平等待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调解自我心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凹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卑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案例：福特的嫉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启示：现代经理的自卑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灯片编号占位符 1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2FF6-6FF2-4A32-B94C-E76B47E42A0E}" type="slidenum"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如何防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忧患意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极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案例：华为的冬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协同进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立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案例：重振虎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空杯心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118C-7C31-46A2-985A-AD3C6CA5DBE8}" type="slidenum"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294920" y="1828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ffff"/>
                </a:solidFill>
                <a:latin typeface="Times New Roman"/>
                <a:ea typeface="隶书"/>
              </a:rPr>
              <a:t>第一单元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管理沟通基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灯片编号占位符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7D36-E4DB-4DCB-A441-B519F472DB1E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管理即沟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45760" y="2819160"/>
            <a:ext cx="79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龚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则古老故事的现代启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沟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信息交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力  管制  制度  法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战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武  威  猛  进  伸  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意  自制  文化  德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文  恩  宽  退  屈  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1258560" y="4149720"/>
            <a:ext cx="360720" cy="360"/>
            <a:chOff x="1258560" y="4149720"/>
            <a:chExt cx="360720" cy="360"/>
          </a:xfrm>
        </p:grpSpPr>
        <p:sp>
          <p:nvSpPr>
            <p:cNvPr id="815" name="直接连接符 32772"/>
            <p:cNvSpPr/>
            <p:nvPr/>
          </p:nvSpPr>
          <p:spPr>
            <a:xfrm flipH="1">
              <a:off x="1258560" y="4149720"/>
              <a:ext cx="360360" cy="0"/>
            </a:xfrm>
            <a:prstGeom prst="line">
              <a:avLst/>
            </a:prstGeom>
            <a:ln w="507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 txBox="1"/>
            <p:nvPr/>
          </p:nvSpPr>
          <p:spPr>
            <a:xfrm>
              <a:off x="1258920" y="414972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258560" y="4653000"/>
            <a:ext cx="360720" cy="360"/>
            <a:chOff x="1258560" y="4653000"/>
            <a:chExt cx="360720" cy="360"/>
          </a:xfrm>
        </p:grpSpPr>
        <p:sp>
          <p:nvSpPr>
            <p:cNvPr id="818" name="直接连接符 32773"/>
            <p:cNvSpPr/>
            <p:nvPr/>
          </p:nvSpPr>
          <p:spPr>
            <a:xfrm flipH="1">
              <a:off x="1258560" y="4653000"/>
              <a:ext cx="360360" cy="0"/>
            </a:xfrm>
            <a:prstGeom prst="line">
              <a:avLst/>
            </a:prstGeom>
            <a:ln w="5076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 txBox="1"/>
            <p:nvPr/>
          </p:nvSpPr>
          <p:spPr>
            <a:xfrm>
              <a:off x="1258920" y="465300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195280" y="4149720"/>
            <a:ext cx="360720" cy="360"/>
            <a:chOff x="2195280" y="4149720"/>
            <a:chExt cx="360720" cy="360"/>
          </a:xfrm>
        </p:grpSpPr>
        <p:sp>
          <p:nvSpPr>
            <p:cNvPr id="821" name="直接连接符 32774"/>
            <p:cNvSpPr/>
            <p:nvPr/>
          </p:nvSpPr>
          <p:spPr>
            <a:xfrm flipH="1">
              <a:off x="2195280" y="4149720"/>
              <a:ext cx="360360" cy="0"/>
            </a:xfrm>
            <a:prstGeom prst="line">
              <a:avLst/>
            </a:prstGeom>
            <a:ln w="507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>
              <a:off x="2195640" y="414972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3058920" y="4149720"/>
            <a:ext cx="360720" cy="360"/>
            <a:chOff x="3058920" y="4149720"/>
            <a:chExt cx="360720" cy="360"/>
          </a:xfrm>
        </p:grpSpPr>
        <p:sp>
          <p:nvSpPr>
            <p:cNvPr id="824" name="直接连接符 32775"/>
            <p:cNvSpPr/>
            <p:nvPr/>
          </p:nvSpPr>
          <p:spPr>
            <a:xfrm flipH="1">
              <a:off x="3058920" y="4149720"/>
              <a:ext cx="360360" cy="0"/>
            </a:xfrm>
            <a:prstGeom prst="line">
              <a:avLst/>
            </a:prstGeom>
            <a:ln w="507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 txBox="1"/>
            <p:nvPr/>
          </p:nvSpPr>
          <p:spPr>
            <a:xfrm>
              <a:off x="3059280" y="414972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3708000" y="4149720"/>
            <a:ext cx="360720" cy="360"/>
            <a:chOff x="3708000" y="4149720"/>
            <a:chExt cx="360720" cy="360"/>
          </a:xfrm>
        </p:grpSpPr>
        <p:sp>
          <p:nvSpPr>
            <p:cNvPr id="827" name="直接连接符 32776"/>
            <p:cNvSpPr/>
            <p:nvPr/>
          </p:nvSpPr>
          <p:spPr>
            <a:xfrm flipH="1">
              <a:off x="3708000" y="4149720"/>
              <a:ext cx="360360" cy="0"/>
            </a:xfrm>
            <a:prstGeom prst="line">
              <a:avLst/>
            </a:prstGeom>
            <a:ln w="507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 txBox="1"/>
            <p:nvPr/>
          </p:nvSpPr>
          <p:spPr>
            <a:xfrm>
              <a:off x="3708360" y="414972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708000" y="4653000"/>
            <a:ext cx="360720" cy="360"/>
            <a:chOff x="3708000" y="4653000"/>
            <a:chExt cx="360720" cy="360"/>
          </a:xfrm>
        </p:grpSpPr>
        <p:sp>
          <p:nvSpPr>
            <p:cNvPr id="830" name="直接连接符 32777"/>
            <p:cNvSpPr/>
            <p:nvPr/>
          </p:nvSpPr>
          <p:spPr>
            <a:xfrm flipH="1">
              <a:off x="3708000" y="4653000"/>
              <a:ext cx="360360" cy="0"/>
            </a:xfrm>
            <a:prstGeom prst="line">
              <a:avLst/>
            </a:prstGeom>
            <a:ln w="5076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 txBox="1"/>
            <p:nvPr/>
          </p:nvSpPr>
          <p:spPr>
            <a:xfrm>
              <a:off x="3708360" y="465300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131640" y="4653000"/>
            <a:ext cx="360720" cy="360"/>
            <a:chOff x="3131640" y="4653000"/>
            <a:chExt cx="360720" cy="360"/>
          </a:xfrm>
        </p:grpSpPr>
        <p:sp>
          <p:nvSpPr>
            <p:cNvPr id="833" name="直接连接符 32778"/>
            <p:cNvSpPr/>
            <p:nvPr/>
          </p:nvSpPr>
          <p:spPr>
            <a:xfrm flipH="1">
              <a:off x="3131640" y="4653000"/>
              <a:ext cx="360360" cy="0"/>
            </a:xfrm>
            <a:prstGeom prst="line">
              <a:avLst/>
            </a:prstGeom>
            <a:ln w="5076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 txBox="1"/>
            <p:nvPr/>
          </p:nvSpPr>
          <p:spPr>
            <a:xfrm>
              <a:off x="3132000" y="465300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195280" y="4653000"/>
            <a:ext cx="360720" cy="360"/>
            <a:chOff x="2195280" y="4653000"/>
            <a:chExt cx="360720" cy="360"/>
          </a:xfrm>
        </p:grpSpPr>
        <p:sp>
          <p:nvSpPr>
            <p:cNvPr id="836" name="直接连接符 32779"/>
            <p:cNvSpPr/>
            <p:nvPr/>
          </p:nvSpPr>
          <p:spPr>
            <a:xfrm flipH="1">
              <a:off x="2195280" y="4653000"/>
              <a:ext cx="360360" cy="0"/>
            </a:xfrm>
            <a:prstGeom prst="line">
              <a:avLst/>
            </a:prstGeom>
            <a:ln w="5076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2195640" y="465300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4716360" y="4149720"/>
            <a:ext cx="287280" cy="360"/>
            <a:chOff x="4716360" y="4149720"/>
            <a:chExt cx="287280" cy="360"/>
          </a:xfrm>
        </p:grpSpPr>
        <p:sp>
          <p:nvSpPr>
            <p:cNvPr id="839" name="直接连接符 32781"/>
            <p:cNvSpPr/>
            <p:nvPr/>
          </p:nvSpPr>
          <p:spPr>
            <a:xfrm>
              <a:off x="4716360" y="4149720"/>
              <a:ext cx="287280" cy="0"/>
            </a:xfrm>
            <a:prstGeom prst="line">
              <a:avLst/>
            </a:prstGeom>
            <a:ln w="507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 txBox="1"/>
            <p:nvPr/>
          </p:nvSpPr>
          <p:spPr>
            <a:xfrm>
              <a:off x="4716360" y="414972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4716360" y="4653000"/>
            <a:ext cx="287280" cy="360"/>
            <a:chOff x="4716360" y="4653000"/>
            <a:chExt cx="287280" cy="360"/>
          </a:xfrm>
        </p:grpSpPr>
        <p:sp>
          <p:nvSpPr>
            <p:cNvPr id="842" name="直接连接符 32782"/>
            <p:cNvSpPr/>
            <p:nvPr/>
          </p:nvSpPr>
          <p:spPr>
            <a:xfrm>
              <a:off x="4716360" y="4653000"/>
              <a:ext cx="287280" cy="0"/>
            </a:xfrm>
            <a:prstGeom prst="line">
              <a:avLst/>
            </a:prstGeom>
            <a:ln w="5076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 txBox="1"/>
            <p:nvPr/>
          </p:nvSpPr>
          <p:spPr>
            <a:xfrm>
              <a:off x="4716360" y="465300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5292720" y="4149720"/>
            <a:ext cx="287280" cy="360"/>
            <a:chOff x="5292720" y="4149720"/>
            <a:chExt cx="287280" cy="360"/>
          </a:xfrm>
        </p:grpSpPr>
        <p:sp>
          <p:nvSpPr>
            <p:cNvPr id="845" name="直接连接符 32783"/>
            <p:cNvSpPr/>
            <p:nvPr/>
          </p:nvSpPr>
          <p:spPr>
            <a:xfrm>
              <a:off x="5292720" y="4149720"/>
              <a:ext cx="287280" cy="0"/>
            </a:xfrm>
            <a:prstGeom prst="line">
              <a:avLst/>
            </a:prstGeom>
            <a:ln w="507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 txBox="1"/>
            <p:nvPr/>
          </p:nvSpPr>
          <p:spPr>
            <a:xfrm>
              <a:off x="5292720" y="414972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940360" y="4149720"/>
            <a:ext cx="287280" cy="360"/>
            <a:chOff x="5940360" y="4149720"/>
            <a:chExt cx="287280" cy="360"/>
          </a:xfrm>
        </p:grpSpPr>
        <p:sp>
          <p:nvSpPr>
            <p:cNvPr id="848" name="直接连接符 32784"/>
            <p:cNvSpPr/>
            <p:nvPr/>
          </p:nvSpPr>
          <p:spPr>
            <a:xfrm>
              <a:off x="5940360" y="4149720"/>
              <a:ext cx="287280" cy="0"/>
            </a:xfrm>
            <a:prstGeom prst="line">
              <a:avLst/>
            </a:prstGeom>
            <a:ln w="507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 txBox="1"/>
            <p:nvPr/>
          </p:nvSpPr>
          <p:spPr>
            <a:xfrm>
              <a:off x="5940360" y="414972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516720" y="4149720"/>
            <a:ext cx="287280" cy="360"/>
            <a:chOff x="6516720" y="4149720"/>
            <a:chExt cx="287280" cy="360"/>
          </a:xfrm>
        </p:grpSpPr>
        <p:sp>
          <p:nvSpPr>
            <p:cNvPr id="851" name="直接连接符 32785"/>
            <p:cNvSpPr/>
            <p:nvPr/>
          </p:nvSpPr>
          <p:spPr>
            <a:xfrm>
              <a:off x="6516720" y="4149720"/>
              <a:ext cx="287280" cy="0"/>
            </a:xfrm>
            <a:prstGeom prst="line">
              <a:avLst/>
            </a:prstGeom>
            <a:ln w="507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>
              <a:off x="6516720" y="414972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7596360" y="4653000"/>
            <a:ext cx="287280" cy="360"/>
            <a:chOff x="7596360" y="4653000"/>
            <a:chExt cx="287280" cy="360"/>
          </a:xfrm>
        </p:grpSpPr>
        <p:sp>
          <p:nvSpPr>
            <p:cNvPr id="854" name="直接连接符 32786"/>
            <p:cNvSpPr/>
            <p:nvPr/>
          </p:nvSpPr>
          <p:spPr>
            <a:xfrm>
              <a:off x="7596360" y="4653000"/>
              <a:ext cx="287280" cy="0"/>
            </a:xfrm>
            <a:prstGeom prst="line">
              <a:avLst/>
            </a:prstGeom>
            <a:ln w="5076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 txBox="1"/>
            <p:nvPr/>
          </p:nvSpPr>
          <p:spPr>
            <a:xfrm>
              <a:off x="7596360" y="465300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7667640" y="4149720"/>
            <a:ext cx="287280" cy="360"/>
            <a:chOff x="7667640" y="4149720"/>
            <a:chExt cx="287280" cy="360"/>
          </a:xfrm>
        </p:grpSpPr>
        <p:sp>
          <p:nvSpPr>
            <p:cNvPr id="857" name="直接连接符 32787"/>
            <p:cNvSpPr/>
            <p:nvPr/>
          </p:nvSpPr>
          <p:spPr>
            <a:xfrm>
              <a:off x="7667640" y="4149720"/>
              <a:ext cx="287280" cy="0"/>
            </a:xfrm>
            <a:prstGeom prst="line">
              <a:avLst/>
            </a:prstGeom>
            <a:ln w="507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 txBox="1"/>
            <p:nvPr/>
          </p:nvSpPr>
          <p:spPr>
            <a:xfrm>
              <a:off x="7667640" y="414972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7020000" y="4149720"/>
            <a:ext cx="287280" cy="360"/>
            <a:chOff x="7020000" y="4149720"/>
            <a:chExt cx="287280" cy="360"/>
          </a:xfrm>
        </p:grpSpPr>
        <p:sp>
          <p:nvSpPr>
            <p:cNvPr id="860" name="直接连接符 32788"/>
            <p:cNvSpPr/>
            <p:nvPr/>
          </p:nvSpPr>
          <p:spPr>
            <a:xfrm>
              <a:off x="7020000" y="4149720"/>
              <a:ext cx="287280" cy="0"/>
            </a:xfrm>
            <a:prstGeom prst="line">
              <a:avLst/>
            </a:prstGeom>
            <a:ln w="507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 txBox="1"/>
            <p:nvPr/>
          </p:nvSpPr>
          <p:spPr>
            <a:xfrm>
              <a:off x="7020000" y="414972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7020000" y="4653000"/>
            <a:ext cx="287280" cy="360"/>
            <a:chOff x="7020000" y="4653000"/>
            <a:chExt cx="287280" cy="360"/>
          </a:xfrm>
        </p:grpSpPr>
        <p:sp>
          <p:nvSpPr>
            <p:cNvPr id="863" name="直接连接符 32789"/>
            <p:cNvSpPr/>
            <p:nvPr/>
          </p:nvSpPr>
          <p:spPr>
            <a:xfrm>
              <a:off x="7020000" y="4653000"/>
              <a:ext cx="287280" cy="0"/>
            </a:xfrm>
            <a:prstGeom prst="line">
              <a:avLst/>
            </a:prstGeom>
            <a:ln w="5076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 txBox="1"/>
            <p:nvPr/>
          </p:nvSpPr>
          <p:spPr>
            <a:xfrm>
              <a:off x="7020000" y="465300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6516720" y="4653000"/>
            <a:ext cx="287280" cy="360"/>
            <a:chOff x="6516720" y="4653000"/>
            <a:chExt cx="287280" cy="360"/>
          </a:xfrm>
        </p:grpSpPr>
        <p:sp>
          <p:nvSpPr>
            <p:cNvPr id="866" name="直接连接符 32790"/>
            <p:cNvSpPr/>
            <p:nvPr/>
          </p:nvSpPr>
          <p:spPr>
            <a:xfrm>
              <a:off x="6516720" y="4653000"/>
              <a:ext cx="287280" cy="0"/>
            </a:xfrm>
            <a:prstGeom prst="line">
              <a:avLst/>
            </a:prstGeom>
            <a:ln w="5076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 txBox="1"/>
            <p:nvPr/>
          </p:nvSpPr>
          <p:spPr>
            <a:xfrm>
              <a:off x="6516720" y="465300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867280" y="4653000"/>
            <a:ext cx="287280" cy="360"/>
            <a:chOff x="5867280" y="4653000"/>
            <a:chExt cx="287280" cy="360"/>
          </a:xfrm>
        </p:grpSpPr>
        <p:sp>
          <p:nvSpPr>
            <p:cNvPr id="869" name="直接连接符 32791"/>
            <p:cNvSpPr/>
            <p:nvPr/>
          </p:nvSpPr>
          <p:spPr>
            <a:xfrm>
              <a:off x="5867280" y="4653000"/>
              <a:ext cx="287280" cy="0"/>
            </a:xfrm>
            <a:prstGeom prst="line">
              <a:avLst/>
            </a:prstGeom>
            <a:ln w="5076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 txBox="1"/>
            <p:nvPr/>
          </p:nvSpPr>
          <p:spPr>
            <a:xfrm>
              <a:off x="5867280" y="465300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292720" y="4653000"/>
            <a:ext cx="287280" cy="360"/>
            <a:chOff x="5292720" y="4653000"/>
            <a:chExt cx="287280" cy="360"/>
          </a:xfrm>
        </p:grpSpPr>
        <p:sp>
          <p:nvSpPr>
            <p:cNvPr id="872" name="直接连接符 32792"/>
            <p:cNvSpPr/>
            <p:nvPr/>
          </p:nvSpPr>
          <p:spPr>
            <a:xfrm>
              <a:off x="5292720" y="4653000"/>
              <a:ext cx="287280" cy="0"/>
            </a:xfrm>
            <a:prstGeom prst="line">
              <a:avLst/>
            </a:prstGeom>
            <a:ln w="5076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5292720" y="465300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灯片编号占位符 1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04BE-AD7E-4B5C-91D5-23CEF4908C37}" type="slidenum"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Times New Roman"/>
                <a:ea typeface="隶书"/>
              </a:rPr>
              <a:t>二、沟通即激励</a:t>
            </a:r>
            <a:endParaRPr b="0" lang="en-US" sz="3600" spc="-1" strike="noStrike">
              <a:solidFill>
                <a:srgbClr val="8c0039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沟通的本质是建立关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心理契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良性沟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激发人性的光明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恶性沟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激发人性的阴暗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1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159E-8546-4C30-A846-CD9C0510AB2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三、沟通的五个要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71280" y="2666880"/>
            <a:ext cx="78850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双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双向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价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满足需要的效用的看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渠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面对面（正式的、非正式的方式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由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受任何约束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造幸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满意的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灯片编号占位符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FE85-C2D0-4C81-A903-E9BDD74D109B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69760" y="11808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四、管理沟通策略之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—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主体策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042560" y="3141360"/>
            <a:ext cx="7201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析法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交流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沟通方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灯片编号占位符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6883-AD04-4B20-A47D-60290AC1E924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94920" y="6919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四、管理沟通策略之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主体策略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4920" y="1876320"/>
            <a:ext cx="8066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沟通方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互应式：对方心里所预期的反应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交叉式：不是对方心里所预期的反应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隐含式：半玩笑方式，更多是文化内涵的体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如尤金听懂了毛主席讲的明朝宰相的故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25D8-0306-4DC6-BA4A-B1A5910605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隶书"/>
              </a:rPr>
              <a:t>四、管理沟通三策略之二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隶书"/>
              </a:rPr>
              <a:t>客体策略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和”的涵义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礼之用、和为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：不同要素的有机配比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合：两种相同或不同的要素简单地叠加在一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郑国宴子：所谓和者，君甘而臣酸、君淡而臣咸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4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安东尼结构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灯片编号占位符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63D8-F646-4339-9139-5E2EC82C6295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6:18Z</dcterms:created>
  <dc:creator/>
  <dc:description/>
  <cp:keywords>管理沟通 理念</cp:keywords>
  <dc:language>en-US</dc:language>
  <cp:lastModifiedBy>An</cp:lastModifiedBy>
  <dcterms:modified xsi:type="dcterms:W3CDTF">2016-05-01T00:56:2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