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1C9-EB88-4F75-9A97-A36A6E09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95C-1C60-463F-B338-4210EC8D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385-CAD5-4D0A-B593-F8754CF7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C07-2E7E-49FF-9F8F-ECC3BF16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35FC-32EC-472B-B6BE-69D6E0A5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EFCA-019F-484D-BE4C-A97528F6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7ECE-9DFB-4164-99E6-046948B9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0D00-28A4-459F-B87F-E3083299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07DF-41BF-4E3B-AFD4-73BFCD9B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A024-9B7F-4451-B6BB-A2EC36BB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2E6D-D027-4A80-A094-5E9AF136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01B-23EB-4A8E-8758-2989189F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F726-3A6B-4A8C-B94A-DDE501F3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AA12-F81E-40A3-B4C6-78C2CB6B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CD75-B474-4120-8318-0D375DEF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EBB5-95D1-4007-92B5-CEDAE9AD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0C3C-28CC-42CC-AB56-CCA94952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418-7917-4D90-8186-BCEF632D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FBB-91C8-4038-930C-E4559457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6B3-55B7-4321-B594-4C981130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5F4-FD56-4082-B7B4-D55FB9D0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A95-5C18-4767-AED4-85D541F2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D2B-FC4D-4E75-B6AA-A17EB95F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9C3-0070-4E32-A98E-6998C38D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0699-9059-4B2A-8E14-624E944E3636}" type="slidenum"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18F8-F812-49B0-A323-372515417CF2}" type="slidenum"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23665;&#34892;&#26460;&#29287;.exe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7524720" y="40053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1676160"/>
            <a:ext cx="535788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6000" spc="-1" strike="noStrike" u="sng">
                <a:solidFill>
                  <a:srgbClr val="996633"/>
                </a:solidFill>
                <a:uFillTx/>
                <a:latin typeface="DFKai-SB"/>
                <a:ea typeface="DFKai-SB"/>
              </a:rPr>
              <a:t>杜牧</a:t>
            </a:r>
            <a:r>
              <a:rPr b="1" i="1" lang="zh-TW" sz="6000" spc="-1" strike="noStrike">
                <a:solidFill>
                  <a:srgbClr val="996633"/>
                </a:solidFill>
                <a:latin typeface="DFKai-SB"/>
                <a:ea typeface="DFKai-SB"/>
              </a:rPr>
              <a:t>「山行」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3399ff"/>
              </a:solidFill>
              <a:latin typeface="DFKai-SB"/>
              <a:ea typeface="DFKai-SB"/>
            </a:endParaRPr>
          </a:p>
        </p:txBody>
      </p:sp>
      <p:pic>
        <p:nvPicPr>
          <p:cNvPr id="114" name="Picture 4" descr="C:\史益山\圖片與聲音\山行.jpg"/>
          <p:cNvPicPr/>
          <p:nvPr/>
        </p:nvPicPr>
        <p:blipFill>
          <a:blip r:embed="rId16"/>
          <a:stretch/>
        </p:blipFill>
        <p:spPr>
          <a:xfrm>
            <a:off x="6477120" y="2286000"/>
            <a:ext cx="2438280" cy="4138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1981080" y="3413160"/>
            <a:ext cx="4191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ff"/>
                </a:solidFill>
                <a:latin typeface="Times New Roman"/>
                <a:ea typeface="DFKai-SB"/>
              </a:rPr>
              <a:t>遠上寒山石徑斜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ff"/>
                </a:solidFill>
                <a:latin typeface="Times New Roman"/>
                <a:ea typeface="DFKai-SB"/>
              </a:rPr>
              <a:t>白雲深處有人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ff"/>
                </a:solidFill>
                <a:latin typeface="Times New Roman"/>
                <a:ea typeface="DFKai-SB"/>
              </a:rPr>
              <a:t>停車坐愛楓林晚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ff"/>
                </a:solidFill>
                <a:latin typeface="Times New Roman"/>
                <a:ea typeface="DFKai-SB"/>
              </a:rPr>
              <a:t>霜葉紅於二月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文本框 1"/>
          <p:cNvSpPr/>
          <p:nvPr/>
        </p:nvSpPr>
        <p:spPr>
          <a:xfrm>
            <a:off x="223920" y="6424560"/>
            <a:ext cx="72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幻灯片之家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6633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37B7-EA67-4EC0-95F2-61D715A46B1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514600" y="1981080"/>
            <a:ext cx="4952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遠上寒山石徑斜，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白雲深處有人家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52480" y="2819520"/>
            <a:ext cx="6477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DFKai-SB"/>
                <a:ea typeface="DFKai-SB"/>
              </a:rPr>
              <a:t>遠處高山山間小路曲曲彎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DFKai-SB"/>
                <a:ea typeface="DFKai-SB"/>
              </a:rPr>
              <a:t>深山密林中升騰著縷縷炊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752480" y="5335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cc6600"/>
                </a:solidFill>
                <a:latin typeface="Times New Roman"/>
                <a:ea typeface="DFKai-SB"/>
              </a:rPr>
              <a:t>美妙的詩意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2514600" y="1981080"/>
            <a:ext cx="4952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停車坐愛楓林晚，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霜葉紅於二月花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523880" y="2819520"/>
            <a:ext cx="6477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DFKai-SB"/>
                <a:ea typeface="DFKai-SB"/>
              </a:rPr>
              <a:t>停車是因為我愛看楓林晚景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DFKai-SB"/>
                <a:ea typeface="DFKai-SB"/>
              </a:rPr>
              <a:t>經霜的紅葉比春花更加鮮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752480" y="5335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cc6600"/>
                </a:solidFill>
                <a:latin typeface="Times New Roman"/>
                <a:ea typeface="DFKai-SB"/>
              </a:rPr>
              <a:t>美妙的詩意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動動腦，想一想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华文中宋"/>
                <a:ea typeface="DFKai-SB"/>
              </a:rPr>
              <a:t>這首詩押什麼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华文中宋"/>
                <a:ea typeface="DFKai-SB"/>
              </a:rPr>
              <a:t>它是寫什麼時侯的景致？由那些句子可以看出來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华文中宋"/>
                <a:ea typeface="DFKai-SB"/>
              </a:rPr>
              <a:t>「石徑斜」表示路是怎樣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华文中宋"/>
                <a:ea typeface="DFKai-SB"/>
              </a:rPr>
              <a:t>「白雲生處」指的是怎樣的地方？為什麼詩人會說「有人家」？他如何知道呢</a:t>
            </a:r>
            <a:r>
              <a:rPr b="1" lang="zh-TW" sz="3200" spc="-1" strike="noStrike">
                <a:solidFill>
                  <a:srgbClr val="3399ff"/>
                </a:solidFill>
                <a:latin typeface="华文中宋"/>
                <a:ea typeface="DFKai-SB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再想一想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17760" y="2437920"/>
            <a:ext cx="76262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Times New Roman"/>
                <a:ea typeface="DFKai-SB"/>
              </a:rPr>
              <a:t>作者看到住在深山中的人家，心裡會有怎樣的感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Times New Roman"/>
                <a:ea typeface="DFKai-SB"/>
              </a:rPr>
              <a:t>為什麼作者要停下馬車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99ff"/>
                </a:solidFill>
                <a:latin typeface="Times New Roman"/>
                <a:ea typeface="DFKai-SB"/>
              </a:rPr>
              <a:t>「山行」的最後一句表現出楓林怎樣的狀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你可以說出這首詩的大意嗎？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「提示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     </a:t>
            </a: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作者上山時，看到了什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     </a:t>
            </a: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想到了什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「參考答案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     </a:t>
            </a: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深秋，駕車行於山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     </a:t>
            </a:r>
            <a:r>
              <a:rPr b="0" lang="zh-TW" sz="3600" spc="-1" strike="noStrike">
                <a:solidFill>
                  <a:srgbClr val="339933"/>
                </a:solidFill>
                <a:latin typeface="Times New Roman"/>
                <a:ea typeface="DFKai-SB"/>
              </a:rPr>
              <a:t>被火紅的楓葉深深吸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這首詩的結構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3048120" y="1905120"/>
            <a:ext cx="1676160" cy="914400"/>
            <a:chOff x="3048120" y="1905120"/>
            <a:chExt cx="1676160" cy="914400"/>
          </a:xfrm>
        </p:grpSpPr>
        <p:sp>
          <p:nvSpPr>
            <p:cNvPr id="131" name="Text Box 4"/>
            <p:cNvSpPr/>
            <p:nvPr/>
          </p:nvSpPr>
          <p:spPr>
            <a:xfrm>
              <a:off x="3048120" y="190512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66ff"/>
                  </a:solidFill>
                  <a:latin typeface="DFKai-SB"/>
                  <a:ea typeface="DFKai-SB"/>
                </a:rPr>
                <a:t>山   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5"/>
            <p:cNvSpPr/>
            <p:nvPr/>
          </p:nvSpPr>
          <p:spPr>
            <a:xfrm rot="16200000">
              <a:off x="3619440" y="1943280"/>
              <a:ext cx="457200" cy="129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28"/>
          <p:cNvGrpSpPr/>
          <p:nvPr/>
        </p:nvGrpSpPr>
        <p:grpSpPr>
          <a:xfrm>
            <a:off x="2412000" y="2819520"/>
            <a:ext cx="1321920" cy="1218960"/>
            <a:chOff x="2412000" y="2819520"/>
            <a:chExt cx="1321920" cy="1218960"/>
          </a:xfrm>
        </p:grpSpPr>
        <p:sp>
          <p:nvSpPr>
            <p:cNvPr id="134" name="Text Box 6"/>
            <p:cNvSpPr/>
            <p:nvPr/>
          </p:nvSpPr>
          <p:spPr>
            <a:xfrm>
              <a:off x="2412000" y="2819520"/>
              <a:ext cx="1155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339933"/>
                  </a:solidFill>
                  <a:latin typeface="DFKai-SB"/>
                  <a:ea typeface="DFKai-SB"/>
                </a:rPr>
                <a:t>遠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Group 9"/>
            <p:cNvGrpSpPr/>
            <p:nvPr/>
          </p:nvGrpSpPr>
          <p:grpSpPr>
            <a:xfrm>
              <a:off x="2666880" y="3733920"/>
              <a:ext cx="1067040" cy="304560"/>
              <a:chOff x="2666880" y="3733920"/>
              <a:chExt cx="1067040" cy="304560"/>
            </a:xfrm>
          </p:grpSpPr>
          <p:sp>
            <p:nvSpPr>
              <p:cNvPr id="136" name="AutoShape 7"/>
              <p:cNvSpPr/>
              <p:nvPr/>
            </p:nvSpPr>
            <p:spPr>
              <a:xfrm rot="5400000">
                <a:off x="3124080" y="3428640"/>
                <a:ext cx="152280" cy="1067040"/>
              </a:xfrm>
              <a:custGeom>
                <a:avLst/>
                <a:gdLst>
                  <a:gd name="textAreaLeft" fmla="*/ 44640 w 152280"/>
                  <a:gd name="textAreaRight" fmla="*/ 152640 w 152280"/>
                  <a:gd name="textAreaTop" fmla="*/ 44280 h 1067040"/>
                  <a:gd name="textAreaBottom" fmla="*/ 102276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8"/>
              <p:cNvSpPr/>
              <p:nvPr/>
            </p:nvSpPr>
            <p:spPr>
              <a:xfrm>
                <a:off x="3200400" y="3733920"/>
                <a:ext cx="0" cy="152280"/>
              </a:xfrm>
              <a:prstGeom prst="line">
                <a:avLst/>
              </a:prstGeom>
              <a:ln w="381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Group 29"/>
          <p:cNvGrpSpPr/>
          <p:nvPr/>
        </p:nvGrpSpPr>
        <p:grpSpPr>
          <a:xfrm>
            <a:off x="1802160" y="4114800"/>
            <a:ext cx="1155240" cy="2438280"/>
            <a:chOff x="1802160" y="4114800"/>
            <a:chExt cx="1155240" cy="2438280"/>
          </a:xfrm>
        </p:grpSpPr>
        <p:sp>
          <p:nvSpPr>
            <p:cNvPr id="139" name="Text Box 10"/>
            <p:cNvSpPr/>
            <p:nvPr/>
          </p:nvSpPr>
          <p:spPr>
            <a:xfrm>
              <a:off x="1802160" y="4114800"/>
              <a:ext cx="1155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339933"/>
                  </a:solidFill>
                  <a:latin typeface="DFKai-SB"/>
                  <a:ea typeface="DFKai-SB"/>
                </a:rPr>
                <a:t>寒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1802160" y="5486400"/>
              <a:ext cx="11552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339933"/>
                  </a:solidFill>
                  <a:latin typeface="DFKai-SB"/>
                  <a:ea typeface="DFKai-SB"/>
                </a:rPr>
                <a:t>石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>
              <a:off x="2590920" y="5029200"/>
              <a:ext cx="0" cy="457200"/>
            </a:xfrm>
            <a:prstGeom prst="line">
              <a:avLst/>
            </a:prstGeom>
            <a:ln w="25560">
              <a:solidFill>
                <a:srgbClr val="339933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30"/>
          <p:cNvGrpSpPr/>
          <p:nvPr/>
        </p:nvGrpSpPr>
        <p:grpSpPr>
          <a:xfrm>
            <a:off x="2945160" y="4114800"/>
            <a:ext cx="1155240" cy="2286000"/>
            <a:chOff x="2945160" y="4114800"/>
            <a:chExt cx="1155240" cy="2286000"/>
          </a:xfrm>
        </p:grpSpPr>
        <p:sp>
          <p:nvSpPr>
            <p:cNvPr id="143" name="Line 13"/>
            <p:cNvSpPr/>
            <p:nvPr/>
          </p:nvSpPr>
          <p:spPr>
            <a:xfrm>
              <a:off x="3733920" y="5029200"/>
              <a:ext cx="0" cy="457200"/>
            </a:xfrm>
            <a:prstGeom prst="line">
              <a:avLst/>
            </a:prstGeom>
            <a:ln w="25560">
              <a:solidFill>
                <a:srgbClr val="339933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2945160" y="4114800"/>
              <a:ext cx="1155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339933"/>
                  </a:solidFill>
                  <a:latin typeface="DFKai-SB"/>
                  <a:ea typeface="DFKai-SB"/>
                </a:rPr>
                <a:t>白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5"/>
            <p:cNvSpPr/>
            <p:nvPr/>
          </p:nvSpPr>
          <p:spPr>
            <a:xfrm>
              <a:off x="2945160" y="5486400"/>
              <a:ext cx="11552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339933"/>
                  </a:solidFill>
                  <a:latin typeface="DFKai-SB"/>
                  <a:ea typeface="DFKai-SB"/>
                </a:rPr>
                <a:t>人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31"/>
          <p:cNvGrpSpPr/>
          <p:nvPr/>
        </p:nvGrpSpPr>
        <p:grpSpPr>
          <a:xfrm>
            <a:off x="3707280" y="2819520"/>
            <a:ext cx="1155240" cy="3124080"/>
            <a:chOff x="3707280" y="2819520"/>
            <a:chExt cx="1155240" cy="3124080"/>
          </a:xfrm>
        </p:grpSpPr>
        <p:sp>
          <p:nvSpPr>
            <p:cNvPr id="147" name="Text Box 16"/>
            <p:cNvSpPr/>
            <p:nvPr/>
          </p:nvSpPr>
          <p:spPr>
            <a:xfrm>
              <a:off x="3707280" y="2819520"/>
              <a:ext cx="11552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ff"/>
                  </a:solidFill>
                  <a:latin typeface="DFKai-SB"/>
                  <a:ea typeface="DFKai-SB"/>
                </a:rPr>
                <a:t>近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7"/>
            <p:cNvSpPr/>
            <p:nvPr/>
          </p:nvSpPr>
          <p:spPr>
            <a:xfrm>
              <a:off x="4495680" y="3733920"/>
              <a:ext cx="0" cy="457200"/>
            </a:xfrm>
            <a:prstGeom prst="line">
              <a:avLst/>
            </a:prstGeom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8"/>
            <p:cNvSpPr/>
            <p:nvPr/>
          </p:nvSpPr>
          <p:spPr>
            <a:xfrm>
              <a:off x="3707280" y="4267080"/>
              <a:ext cx="11552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ff"/>
                  </a:solidFill>
                  <a:latin typeface="DFKai-SB"/>
                  <a:ea typeface="DFKai-SB"/>
                </a:rPr>
                <a:t>楓林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32"/>
          <p:cNvGrpSpPr/>
          <p:nvPr/>
        </p:nvGrpSpPr>
        <p:grpSpPr>
          <a:xfrm>
            <a:off x="4800600" y="2666880"/>
            <a:ext cx="2500200" cy="1295640"/>
            <a:chOff x="4800600" y="2666880"/>
            <a:chExt cx="2500200" cy="1295640"/>
          </a:xfrm>
        </p:grpSpPr>
        <p:sp>
          <p:nvSpPr>
            <p:cNvPr id="151" name="Line 21"/>
            <p:cNvSpPr/>
            <p:nvPr/>
          </p:nvSpPr>
          <p:spPr>
            <a:xfrm>
              <a:off x="4952880" y="3352680"/>
              <a:ext cx="1676520" cy="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4800600" y="26668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ff"/>
                  </a:solidFill>
                  <a:latin typeface="DFKai-SB"/>
                  <a:ea typeface="DFKai-SB"/>
                </a:rPr>
                <a:t>因為愛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24"/>
            <p:cNvSpPr/>
            <p:nvPr/>
          </p:nvSpPr>
          <p:spPr>
            <a:xfrm>
              <a:off x="6145560" y="2971800"/>
              <a:ext cx="1155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ff"/>
                  </a:solidFill>
                  <a:latin typeface="DFKai-SB"/>
                  <a:ea typeface="DFKai-SB"/>
                </a:rPr>
                <a:t>停車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33"/>
          <p:cNvGrpSpPr/>
          <p:nvPr/>
        </p:nvGrpSpPr>
        <p:grpSpPr>
          <a:xfrm>
            <a:off x="4876920" y="3886200"/>
            <a:ext cx="2454120" cy="2590920"/>
            <a:chOff x="4876920" y="3886200"/>
            <a:chExt cx="2454120" cy="2590920"/>
          </a:xfrm>
        </p:grpSpPr>
        <p:sp>
          <p:nvSpPr>
            <p:cNvPr id="155" name="Line 20"/>
            <p:cNvSpPr/>
            <p:nvPr/>
          </p:nvSpPr>
          <p:spPr>
            <a:xfrm>
              <a:off x="4876920" y="4952880"/>
              <a:ext cx="129528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25"/>
            <p:cNvSpPr/>
            <p:nvPr/>
          </p:nvSpPr>
          <p:spPr>
            <a:xfrm>
              <a:off x="5688360" y="4343400"/>
              <a:ext cx="1642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ff00ff"/>
                  </a:solidFill>
                  <a:latin typeface="DFKai-SB"/>
                  <a:ea typeface="DFKai-SB"/>
                </a:rPr>
                <a:t>楓葉比二月花還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6"/>
            <p:cNvSpPr/>
            <p:nvPr/>
          </p:nvSpPr>
          <p:spPr>
            <a:xfrm>
              <a:off x="6934320" y="3886200"/>
              <a:ext cx="0" cy="457200"/>
            </a:xfrm>
            <a:prstGeom prst="line">
              <a:avLst/>
            </a:prstGeom>
            <a:ln w="255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這麼美的詩，你記下來了嗎？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7760" y="2133360"/>
            <a:ext cx="7626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cc9900"/>
                </a:solidFill>
                <a:uFillTx/>
                <a:latin typeface="Times New Roman"/>
                <a:ea typeface="DFKai-SB"/>
                <a:hlinkClick r:id="rId1"/>
              </a:rPr>
              <a:t>練習一下吧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C:\史益山\圖片與聲音\1115.gif"/>
          <p:cNvPicPr/>
          <p:nvPr/>
        </p:nvPicPr>
        <p:blipFill>
          <a:blip r:embed="rId2"/>
          <a:stretch/>
        </p:blipFill>
        <p:spPr>
          <a:xfrm>
            <a:off x="6095880" y="3276720"/>
            <a:ext cx="2487600" cy="291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史益山\圖片與聲音\1132.gif"/>
          <p:cNvPicPr/>
          <p:nvPr/>
        </p:nvPicPr>
        <p:blipFill>
          <a:blip r:embed="rId3"/>
          <a:stretch/>
        </p:blipFill>
        <p:spPr>
          <a:xfrm>
            <a:off x="1676520" y="3276720"/>
            <a:ext cx="3886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400" spc="-1" strike="noStrike">
                <a:solidFill>
                  <a:srgbClr val="996633"/>
                </a:solidFill>
                <a:latin typeface="Times New Roman"/>
                <a:ea typeface="DFKai-SB"/>
              </a:rPr>
              <a:t>參考資料來源…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3084480" y="4508640"/>
            <a:ext cx="569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多免费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尽在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09:18:02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44:03Z</dcterms:modified>
  <cp:revision>28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