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736-72F8-41F6-AA3E-76FFF83C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531A-19DB-4BCD-96DB-0CC1D042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256-C368-4BE8-A53F-7BF37DE4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86A-DD4B-48E7-A7E0-B5489D3C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A3C1-E7B9-44D6-A23C-D409406B7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E4208-FDD1-4ABF-AC83-C79D9AABF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ECBE-5709-41E1-84D2-3B5A867A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78718-C549-4F98-8F54-E439825C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8E988-7D90-4BAF-9F10-E77022EF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95109-C145-4CF1-BD39-2C5E7AD2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D7CF8-5122-4C11-B36A-570DC03E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A27-E327-43EC-ADB7-A0CB42B5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C92E5-A5E5-4400-A26E-9EED5ED5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6208-26FD-4613-9167-A23CAD795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5680-7832-4821-9193-8D58024A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17D7-3886-44B9-9B31-E8A59F00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F8AA-2809-4D11-A084-76ADAF9D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DCE3-93A2-4BA6-B38A-95E73F4F9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511-191D-4A8A-8472-E5659826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2AF-2F00-4C11-8D25-632262F4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B09-BC1A-4D6A-938C-A07E0980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5F2A-672F-46DF-B2DE-DEAC6AD8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C7CC-BCD5-48C4-8A92-56C6D92B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F2FC-9599-487B-A605-EC145A98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6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1027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1028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1029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10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7315200" y="64008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F684-A60C-42CF-B8FB-50B57AD4EDC9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" name="Text Box 1037"/>
          <p:cNvSpPr/>
          <p:nvPr/>
        </p:nvSpPr>
        <p:spPr>
          <a:xfrm>
            <a:off x="762120" y="304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归园田居（其三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026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9" name="Picture 102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028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Text Box 1034"/>
          <p:cNvSpPr/>
          <p:nvPr/>
        </p:nvSpPr>
        <p:spPr>
          <a:xfrm>
            <a:off x="762120" y="304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归园田居（其三）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C7F7-E915-4DCF-B311-583DEB40BA3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04560" y="1052280"/>
            <a:ext cx="604836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500" spc="-1" strike="noStrike">
                <a:solidFill>
                  <a:srgbClr val="ff0000"/>
                </a:solidFill>
                <a:latin typeface="华文彩云"/>
                <a:ea typeface="华文彩云"/>
              </a:rPr>
              <a:t>归园田居</a:t>
            </a:r>
            <a:endParaRPr b="0" lang="en-US" sz="115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4" name="望江南.mid" descr=""/>
          <p:cNvPicPr/>
          <p:nvPr/>
        </p:nvPicPr>
        <p:blipFill>
          <a:blip r:embed="rId2"/>
          <a:stretch/>
        </p:blipFill>
        <p:spPr>
          <a:xfrm>
            <a:off x="8001000" y="5943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矩形 7"/>
          <p:cNvSpPr/>
          <p:nvPr/>
        </p:nvSpPr>
        <p:spPr>
          <a:xfrm>
            <a:off x="2589480" y="5740560"/>
            <a:ext cx="4643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6840" y="1066320"/>
            <a:ext cx="838188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幼圆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幼圆"/>
              </a:rPr>
              <a:t>2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幼圆"/>
              </a:rPr>
              <a:t>）、“带月荷锄归”一句常为后世诗评家称道，请说出这一句的妙处。 </a:t>
            </a: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答：这一句将劳动生活的感受和山村静谧的夜景融合在白描般的图画中，含蓄地表达了诗人对田园生活的满足。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幼圆"/>
              </a:rPr>
              <a:t> 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归园田居：回到田园家乡。《归园田居》共五首，这是第三首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晨兴：早起。理：治理。荒秽：杂草丛生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带月：顶着月亮。荷锄：扛着锄头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道狭：道窄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沾：沾湿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但使：只要让。愿无违：不违反自己的意愿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解说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陶渊明生活在东晋时期，他不愿在黑暗的官场中生活，回到了农村田园。这首诗便描写了他每天早出晚归、辛勤劳动的生活。劳动十分艰辛，露水打湿了衣衫，但诗人说：只有坚持自己的理想才是最珍贵的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归园田居五首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1440" y="82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1206360" y="826920"/>
            <a:ext cx="6732720" cy="52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其一∶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少无适俗韵，性本爱丘山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误落尘网中，一去十三年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羁鸟恋旧林，池鱼思故渊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开荒南野际，抱拙归园田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方宅十馀亩，草屋八九间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榆柳荫後檐，桃李罗堂前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暧暧远人村，依依墟里烟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狗吠深巷中，鸡鸣桑树颠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户庭无尘杂，虚室有馀闲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久在樊笼里，复得返自然。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1440" y="173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1206360" y="1739880"/>
            <a:ext cx="6732720" cy="33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其二∶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野外罕人事，穷巷寡轮鞅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白日掩荆扉，虚室绝尘想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时复墟曲中，披草共来往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相见无杂言，但道桑麻长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桑麻日已长，我土日已广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常恐霜霰至，零落同草莽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1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206360" y="2043000"/>
            <a:ext cx="673272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其三∶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种豆南山下，草盛豆苗稀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晨兴理荒秽，带月荷锄归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道狭草木长，夕露沾我衣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衣沾不足惜，但使愿无违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4"/>
          <p:cNvSpPr/>
          <p:nvPr/>
        </p:nvSpPr>
        <p:spPr>
          <a:xfrm>
            <a:off x="144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1206360" y="2043000"/>
            <a:ext cx="6732720" cy="27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其四∶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久去山泽游，浪莽林野娱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试携子侄辈，披榛步荒墟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徘徊丘陇间，依依昔人居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井灶有遗处，桑竹残朽株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借问采薪者，此人皆焉如？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薪者向我言∶“死殁无复馀”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“一世异朝市”，此语真不虚！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人生似幻化，终当归空无。</a:t>
            </a: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031"/>
          <p:cNvSpPr/>
          <p:nvPr/>
        </p:nvSpPr>
        <p:spPr>
          <a:xfrm>
            <a:off x="144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Rectangle 1032"/>
          <p:cNvSpPr/>
          <p:nvPr/>
        </p:nvSpPr>
        <p:spPr>
          <a:xfrm>
            <a:off x="-304920" y="1752480"/>
            <a:ext cx="6732720" cy="30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其五∶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怅恨独策还，崎岖历榛曲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山涧清且浅，遇以濯吾足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漉我新熟酒，双鸡招近局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日入室中暗，荆薪代明烛。</a:t>
            </a:r>
            <a:br>
              <a:rPr sz="2400"/>
            </a:b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欢来苦夕短，已复至天旭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0" name="Picture 1034" descr="02_0200_243511_23_10_02_0000004442_00003"/>
          <p:cNvPicPr/>
          <p:nvPr/>
        </p:nvPicPr>
        <p:blipFill>
          <a:blip r:embed="rId1"/>
          <a:stretch/>
        </p:blipFill>
        <p:spPr>
          <a:xfrm>
            <a:off x="5562720" y="1600200"/>
            <a:ext cx="2697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试题</a:t>
            </a: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7"/>
          <p:cNvSpPr/>
          <p:nvPr/>
        </p:nvSpPr>
        <p:spPr>
          <a:xfrm>
            <a:off x="5724360" y="2276640"/>
            <a:ext cx="1079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7" name="Picture 4" descr="D0302031"/>
          <p:cNvPicPr/>
          <p:nvPr/>
        </p:nvPicPr>
        <p:blipFill>
          <a:blip r:embed="rId1"/>
          <a:stretch/>
        </p:blipFill>
        <p:spPr>
          <a:xfrm>
            <a:off x="4572000" y="762120"/>
            <a:ext cx="4038480" cy="5486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901800" y="990720"/>
            <a:ext cx="546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陶渊明画像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6" descr="taoyuanm1"/>
          <p:cNvPicPr/>
          <p:nvPr/>
        </p:nvPicPr>
        <p:blipFill>
          <a:blip r:embed="rId2"/>
          <a:stretch/>
        </p:blipFill>
        <p:spPr>
          <a:xfrm>
            <a:off x="2133720" y="1828800"/>
            <a:ext cx="2422440" cy="274320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"/>
          <p:cNvSpPr/>
          <p:nvPr/>
        </p:nvSpPr>
        <p:spPr>
          <a:xfrm>
            <a:off x="25560" y="5746680"/>
            <a:ext cx="801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更多免费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模板下载：</a:t>
            </a:r>
            <a:r>
              <a:rPr b="0" lang="zh-CN" sz="2000" spc="-1" strike="noStrike">
                <a:solidFill>
                  <a:srgbClr val="5b5249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6"/>
          <p:cNvGrpSpPr/>
          <p:nvPr/>
        </p:nvGrpSpPr>
        <p:grpSpPr>
          <a:xfrm>
            <a:off x="533520" y="1219320"/>
            <a:ext cx="8076600" cy="4571280"/>
            <a:chOff x="533520" y="1219320"/>
            <a:chExt cx="8076600" cy="4571280"/>
          </a:xfrm>
        </p:grpSpPr>
        <p:sp>
          <p:nvSpPr>
            <p:cNvPr id="133" name="Rectangle 4"/>
            <p:cNvSpPr/>
            <p:nvPr/>
          </p:nvSpPr>
          <p:spPr>
            <a:xfrm>
              <a:off x="533520" y="1219320"/>
              <a:ext cx="8076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4" name="Rectangle 5"/>
            <p:cNvSpPr/>
            <p:nvPr/>
          </p:nvSpPr>
          <p:spPr>
            <a:xfrm>
              <a:off x="533520" y="1219320"/>
              <a:ext cx="8076600" cy="45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．下面对诗句的解说，不正确的一项是（      ）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．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开头两句交待劳动地点、内容和豆苗的生长情况。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．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三、四句写早出晚归，辛勤务农。“荒秽”各种杂草。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．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五、六句承“荷锄归”，写回家穿草而行，露沾衣湿。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．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结尾两句抒情，“愿”，指辛勤耕作只为了获得好收成。</a:t>
              </a:r>
              <a:r>
                <a:rPr b="0" lang="zh-CN" sz="2400" spc="-1" strike="noStrike">
                  <a:solidFill>
                    <a:srgbClr val="5b5249"/>
                  </a:solidFill>
                  <a:latin typeface="Times New Roman"/>
                </a:rPr>
                <a:t> </a:t>
              </a:r>
              <a:br>
                <a:rPr sz="2400"/>
              </a:br>
              <a:br>
                <a:rPr sz="2400"/>
              </a:b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35" name="Text Box 7"/>
          <p:cNvSpPr/>
          <p:nvPr/>
        </p:nvSpPr>
        <p:spPr>
          <a:xfrm>
            <a:off x="6400800" y="121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640080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6"/>
          <p:cNvGrpSpPr/>
          <p:nvPr/>
        </p:nvGrpSpPr>
        <p:grpSpPr>
          <a:xfrm>
            <a:off x="685800" y="1066680"/>
            <a:ext cx="7848360" cy="5181120"/>
            <a:chOff x="685800" y="1066680"/>
            <a:chExt cx="7848360" cy="5181120"/>
          </a:xfrm>
        </p:grpSpPr>
        <p:sp>
          <p:nvSpPr>
            <p:cNvPr id="138" name="Rectangle 4"/>
            <p:cNvSpPr/>
            <p:nvPr/>
          </p:nvSpPr>
          <p:spPr>
            <a:xfrm>
              <a:off x="685800" y="1066680"/>
              <a:ext cx="7848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>
              <a:off x="685800" y="1066680"/>
              <a:ext cx="7848360" cy="51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、对这首诗的分析不当的一项是（     ）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A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．“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种豆南山下”，平淡之语，“带月荷锄归”，幽美之句，前实后虚，相互衬托，完美和谐。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B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．“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种豆南山下”，“夕露沾我衣”，用语十分自然冲淡，却将归隐生活的艰难写得极具体。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C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．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诗人以田园中最寻常的物象入诗，朴素的语言、白描的手法，营造出一种醇美的诗意。 </a:t>
              </a:r>
              <a:br>
                <a:rPr sz="2400"/>
              </a:br>
              <a:br>
                <a:rPr sz="2400"/>
              </a:b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D</a:t>
              </a:r>
              <a:r>
                <a:rPr b="1" lang="en-US" sz="2400" spc="-1" strike="noStrike">
                  <a:solidFill>
                    <a:srgbClr val="5b5249"/>
                  </a:solidFill>
                  <a:latin typeface="Times New Roman"/>
                </a:rPr>
                <a:t>．</a:t>
              </a:r>
              <a:r>
                <a:rPr b="1" lang="zh-CN" sz="2400" spc="-1" strike="noStrike">
                  <a:solidFill>
                    <a:srgbClr val="5b5249"/>
                  </a:solidFill>
                  <a:latin typeface="Times New Roman"/>
                </a:rPr>
                <a:t>以“衣沾”代写躬耕的所有艰辛，是因为归隐生活的乐趣大于辛劳，故才“不足惜”。 </a:t>
              </a:r>
              <a:br>
                <a:rPr sz="2400"/>
              </a:b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40" name="Text Box 7"/>
          <p:cNvSpPr/>
          <p:nvPr/>
        </p:nvSpPr>
        <p:spPr>
          <a:xfrm>
            <a:off x="5486400" y="1066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337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谢谢观赏！</a:t>
            </a:r>
            <a:endParaRPr b="0" lang="en-US" sz="8000" spc="-1" strike="noStrike">
              <a:solidFill>
                <a:srgbClr val="2a3d7a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01B7-4CCD-4E06-899B-0B926A603B6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6" descr="u=2494593460,2163768959&amp;gp=1"/>
          <p:cNvPicPr/>
          <p:nvPr/>
        </p:nvPicPr>
        <p:blipFill>
          <a:blip r:embed="rId1"/>
          <a:stretch/>
        </p:blipFill>
        <p:spPr>
          <a:xfrm>
            <a:off x="1066680" y="1828800"/>
            <a:ext cx="7391520" cy="40957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a3d7a"/>
                </a:solidFill>
                <a:latin typeface="Times New Roman"/>
                <a:ea typeface="楷体_GB2312"/>
              </a:rPr>
              <a:t>陶渊明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621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陶渊明生于公元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36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年，一名潜，字元亮，寻阳柴桑（今江西九江）人。他生活在东晋后期，这时政治黑暗，贵族腐败，门阀制度森严，阶级矛盾十分尖锐。其曾祖陶侃是东晋开国元勋，官至大司马，封长沙郡公。他的祖父和父亲曾经作过太守一类的官，但到陶渊明时，家境已经没落，因此他从小就过着贫困的生活。他少年时曾有过豪放的生活，志向远大。他接受了儒家的用世思想，有“大济于苍生”的抱负，很希望建功立业。他曾写道：“少年罕人事，游好在六经”，“少年壮且厉，抚剑独行游”，“忆我少壮时，无乐自欣豫，猛志逸四海，骞翮思远翥”。他少年好学，知识渊博，诗、赋、文写得都非常出色。但由于政治黑暗，门阀制度的排挤，无法施展他的政治抱负，这就是他仕途不通和悲剧的原因。 </a:t>
            </a:r>
            <a:br>
              <a:rPr sz="2000"/>
            </a:b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萧统在《陶渊明传》里写道：“亲老家贫，起为州祭酒；不堪吏职，少日自解归。”这里记载了陶渊明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29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岁时初仕为江州祭酒。但由于“不堪束职”，时间不长便解职回家了。后来他又于晋元兴三年为镇军将军刘裕参军，次年又为建成将军刘敬宜参军，因心不悦回了家。回家后，耕植不足以自给，再加上孩子多，生活没有办法。亲戚和朋友都劝说他出去作官，他的叔父陶夔曾任太常卿，见他生活困苦，遂加引荐，于是被任为小县之令。那时正值战乱，他害怕到远处任职，而彭泽县离家不远，俸禄又足够他酿酒，他就在彭泽县任职。他任职后，给家里送一服役的人，并写信说：“家里生活十分困难，现在送给你们一个服役的人，帮助你们耕种田地。他也是人呀，请你们好好待他。”年底，郡督邮来县巡察，县吏告诉他，应该穿戴得整整齐齐地去恭迎郡督邮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85800" y="9907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陶渊明叹息说：“我岂能为五斗米折腰向乡里小儿！”即日解经去职。后来，他写了《归去来辞》这篇传世之作。诗人在序文里交代了写作原因。他十分坦城地讲，就任县令，是为生计所迫；之所以辞职、是因为“质性自然，非矫厉所得，饥冻虽切，违已交病”。这就是说，宁可饿肚子，也不愿违心地逢迎上司而混迹官场了。辞中叙述了他辞官的决心和心情：“归去来兮，田园将芜胡不归！既自以心为形役．奚惆怅而独悲？悟已往之不谏，知来者之可追。实迷途其未远，觉今是而昨非。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陶渊明辞官归隐，是对黑暗现实的有力反抗。但文中有些乐天知命思想是不足取的。这篇文章语言清新．朴素自然．叙事、写景、抒情有机地结合在一起，感情真实充沛，富有抒情意味。宋代著名作家欧阳修曾赞扬说：“晋无文章，惟陶渊明《归去来辞》而已。”陶渊明在《归田园居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·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少无适俗韵》中写道：“误落尘网中，一去三十年。”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0948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宋体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5b5249"/>
                </a:solidFill>
                <a:latin typeface="宋体"/>
                <a:ea typeface="楷体_GB2312"/>
              </a:rPr>
              <a:t>陶渊明流传下来的诗歌大约有一百二十多首，另外还有散文、辞赋多篇。其中田园诗是陶诗的重要部分，内容描写农村生活、田园风光和淳朴的风俗人情。如四言《时运》、五言《归园田居》等。这些田园诗抒发了作者对宁静闲逸生活的衷心喜爱，表现了作者淡泊旷达、安贫乐道的品格。艺术上，他追求诗歌语言朴素明洁，平淡自然，使人感到像是从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5b5249"/>
                </a:solidFill>
                <a:latin typeface="宋体"/>
                <a:ea typeface="楷体_GB2312"/>
              </a:rPr>
              <a:t>胸中自然流出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5b5249"/>
                </a:solidFill>
                <a:latin typeface="宋体"/>
                <a:ea typeface="楷体_GB2312"/>
              </a:rPr>
              <a:t>，没有一点斧凿痕迹，为古典诗歌开辟了田园诗的新境地。同时，诗人还写了一些咏怀、咏史的篇章，这些诗通过对自己一生经历中的种种感受、体验和对历史的缅怀，寄托诗人的社会理想，对黑暗的现实具有批判意义。与田园诗相比较，这类诗更富于政治性和现实性。陶渊明的辞赋散文 ，数量不多 ，但思想 、艺术上都有独特的成就。像《桃花源记》、《归去来辞》、《五柳先生传》，直到今天仍是传诵的名作。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u=2148734600,3156121666&amp;gp=2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归园田居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-------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陶渊明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楷体_GB2312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种豆南山下，草盛豆苗稀。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楷体_GB2312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晨兴理荒秽，带月荷锄归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道狭草木长，夕露沾我衣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衣沾不足惜，但使愿无违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advTm="12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1447920"/>
            <a:ext cx="769608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幼圆"/>
              </a:rPr>
              <a:t>（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幼圆"/>
              </a:rPr>
              <a:t>1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幼圆"/>
              </a:rPr>
              <a:t>）、这首诗写了什么内容？表达了诗人什么样的思想感情？</a:t>
            </a: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Times New Roman"/>
                <a:ea typeface="幼圆"/>
              </a:rPr>
              <a:t>答：这首诗描写诗人归隐后的日常劳动生活；表达了对归隐耕种生活的热爱。</a:t>
            </a: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2819520" y="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5T15:20:3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10:02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