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BCB6-9A3C-4ED2-AAB6-2CDA3BE1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2704-7E7A-4D69-BDD1-550BA383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4891-4513-432F-B07A-70F306430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E7F0-92CC-427B-901B-64865112F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4EB4-0131-4DBA-8844-AC0F2E29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1BCC-D21A-43F1-8D09-987BD8E7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5608-45DC-49D6-9741-685907C6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47CE-FB14-46D5-8881-75A2E947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08E5-DB8A-4616-BB4E-1099A58E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E749-F227-47ED-92FB-396B8761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FCB7-3BE1-4ED6-9106-FD6E429D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D768-C811-475A-8672-7A0E6DB6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EF53-2213-435D-AF09-42DE8DBD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340B-6918-4439-A1D7-83E80028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14A9-EEFD-40F6-93AE-58B5608B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034E-FAA5-4081-9A67-C9D8C46CC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ADF2-AFCD-4304-B7A2-7709FE97F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9B3D7-FE63-45CC-9DCD-B3FF0FA9D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3442A-9BC2-4367-A7D9-D36F39E1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5EF76-29C9-409F-82F6-5D930604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67A1B-55E4-482D-A08E-DACF35E8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52311-BBD1-4929-A7FE-2F0E23F6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524D-1979-4BF1-A85B-7D6CE637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7C06F-3F0F-4B62-B1AC-F229051A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980C1-7091-4D66-AD7D-90DC2396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69182-0904-438A-9833-30A8F948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E3F15-EB41-43D8-A0CE-E240E033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A10ED-8917-4DA1-ABF5-9D09A2F0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3F488-066C-441B-ADFB-15CDA7560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7654D-D563-4593-A2F6-D53EFADEE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9DBC-6006-426C-844F-187F5C8B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4931-E6A7-4FCA-A6AB-BBD5B09A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57E2-19F8-43BE-AA7E-5987C1AF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FB18-2BC7-4E59-8CA3-D52DFA1C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94ED-FE64-4490-B95A-D0BED44A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0B39-CC6B-4624-BBB6-DFDB656A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57345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任意多边形 57346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3529"/>
                    <a:pt x="11929" y="43200"/>
                    <a:pt x="0" y="43200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3529"/>
                    <a:pt x="11929" y="43200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" name="任意多边形 57347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3529"/>
                    <a:pt x="11929" y="43200"/>
                    <a:pt x="0" y="43200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3529"/>
                    <a:pt x="11929" y="43200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" name="任意多边形 57348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3529"/>
                    <a:pt x="11929" y="43200"/>
                    <a:pt x="0" y="43200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3529"/>
                    <a:pt x="11929" y="43200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" name="圆角矩形 57349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2578-072D-4FF1-B6C4-A51B300C58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6A72-6AA5-48D0-B3E4-D932567A58F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DB6D-CD00-41EE-8F76-63B3C8F97C7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组合 58369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88" name="任意多边形 58370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3529"/>
                    <a:pt x="11929" y="43200"/>
                    <a:pt x="0" y="43200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3529"/>
                    <a:pt x="11929" y="43200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9" name="任意多边形 58371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3529"/>
                    <a:pt x="11929" y="43200"/>
                    <a:pt x="0" y="43200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3529"/>
                    <a:pt x="11929" y="43200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" name="任意多边形 58372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3529"/>
                    <a:pt x="11929" y="43200"/>
                    <a:pt x="0" y="43200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3529"/>
                    <a:pt x="11929" y="43200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圆角矩形 58373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E194-F1FD-41F4-B14B-5196AFDC399B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对象 66561" descr=""/>
          <p:cNvPicPr/>
          <p:nvPr/>
        </p:nvPicPr>
        <p:blipFill>
          <a:blip r:embed="rId1"/>
          <a:stretch/>
        </p:blipFill>
        <p:spPr>
          <a:xfrm>
            <a:off x="-76320" y="3124080"/>
            <a:ext cx="9372600" cy="3276720"/>
          </a:xfrm>
          <a:prstGeom prst="rect">
            <a:avLst/>
          </a:prstGeom>
          <a:ln w="0">
            <a:noFill/>
          </a:ln>
        </p:spPr>
      </p:pic>
      <p:sp>
        <p:nvSpPr>
          <p:cNvPr id="134" name="矩形 66571"/>
          <p:cNvSpPr txBox="1"/>
          <p:nvPr/>
        </p:nvSpPr>
        <p:spPr>
          <a:xfrm>
            <a:off x="762120" y="228600"/>
            <a:ext cx="80769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会计学</a:t>
            </a:r>
            <a:endParaRPr b="0" lang="en-US" sz="2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对象 79873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7848360" cy="418320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79877"/>
          <p:cNvSpPr/>
          <p:nvPr/>
        </p:nvSpPr>
        <p:spPr>
          <a:xfrm>
            <a:off x="685800" y="304920"/>
            <a:ext cx="6705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</a:t>
            </a:r>
            <a:r>
              <a:rPr b="0" lang="en-US" sz="7200" spc="-1" strike="noStrike">
                <a:solidFill>
                  <a:srgbClr val="0000ff"/>
                </a:solidFill>
                <a:latin typeface="Times New Roman"/>
                <a:ea typeface="隶书"/>
              </a:rPr>
              <a:t>XX</a:t>
            </a:r>
            <a:r>
              <a:rPr b="0" lang="zh-CN" sz="7200" spc="-1" strike="noStrike">
                <a:solidFill>
                  <a:srgbClr val="0000ff"/>
                </a:solidFill>
                <a:latin typeface="Times New Roman"/>
                <a:ea typeface="隶书"/>
              </a:rPr>
              <a:t>学院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7" name="文本框 79878"/>
          <p:cNvSpPr/>
          <p:nvPr/>
        </p:nvSpPr>
        <p:spPr>
          <a:xfrm>
            <a:off x="1905120" y="1447920"/>
            <a:ext cx="43434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  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会计学系</a:t>
            </a:r>
            <a:endParaRPr b="0" lang="en-US" sz="5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" name="文本框 79879"/>
          <p:cNvSpPr/>
          <p:nvPr/>
        </p:nvSpPr>
        <p:spPr>
          <a:xfrm>
            <a:off x="1219320" y="2819520"/>
            <a:ext cx="47242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《会计学》课程租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cut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对象 80898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2971800" cy="586728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80899"/>
          <p:cNvSpPr/>
          <p:nvPr/>
        </p:nvSpPr>
        <p:spPr>
          <a:xfrm>
            <a:off x="528480" y="4952160"/>
            <a:ext cx="845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5000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Let`s  begin  now !</a:t>
            </a:r>
            <a:endParaRPr b="0" lang="en-US" sz="8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cut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内容结构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-360" y="1773360"/>
            <a:ext cx="5003640" cy="35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第一章     总论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第二章     会计科目与账户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第三章     复式记账法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第十章     会计凭证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第十一章 账簿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第十二章 财产清查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第十三章 财务会计报告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第十四章 会计核算程序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3280" y="2060280"/>
            <a:ext cx="4500720" cy="403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第四章 企业筹资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第五章 企业投资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第六章 生产准备过程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第七章 生产过程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第八章 销售过程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第九章 利润实现及分配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" name="文本框 133124"/>
          <p:cNvSpPr/>
          <p:nvPr/>
        </p:nvSpPr>
        <p:spPr>
          <a:xfrm>
            <a:off x="2280600" y="5734080"/>
            <a:ext cx="34380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基本概念、方法与外部形式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5" name="文本框 133125"/>
          <p:cNvSpPr/>
          <p:nvPr/>
        </p:nvSpPr>
        <p:spPr>
          <a:xfrm>
            <a:off x="6521760" y="5556240"/>
            <a:ext cx="103428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会计核算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555640" y="5157720"/>
            <a:ext cx="360" cy="503280"/>
            <a:chOff x="2555640" y="5157720"/>
            <a:chExt cx="360" cy="503280"/>
          </a:xfrm>
        </p:grpSpPr>
        <p:sp>
          <p:nvSpPr>
            <p:cNvPr id="147" name="直接连接符 133127"/>
            <p:cNvSpPr/>
            <p:nvPr/>
          </p:nvSpPr>
          <p:spPr>
            <a:xfrm flipV="1">
              <a:off x="2556000" y="5157720"/>
              <a:ext cx="0" cy="503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 rot="10800000">
              <a:off x="2555640" y="5157720"/>
              <a:ext cx="36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555640" y="5157720"/>
            <a:ext cx="360" cy="503280"/>
            <a:chOff x="2555640" y="5157720"/>
            <a:chExt cx="360" cy="503280"/>
          </a:xfrm>
        </p:grpSpPr>
        <p:sp>
          <p:nvSpPr>
            <p:cNvPr id="150" name="直接连接符 133128"/>
            <p:cNvSpPr/>
            <p:nvPr/>
          </p:nvSpPr>
          <p:spPr>
            <a:xfrm flipV="1">
              <a:off x="2556000" y="5157720"/>
              <a:ext cx="0" cy="503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 rot="10800000">
              <a:off x="2555640" y="5157720"/>
              <a:ext cx="36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52" name="文本框 133130"/>
          <p:cNvSpPr/>
          <p:nvPr/>
        </p:nvSpPr>
        <p:spPr>
          <a:xfrm>
            <a:off x="745200" y="1125360"/>
            <a:ext cx="1846440" cy="482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会计原理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3" name="文本框 133132"/>
          <p:cNvSpPr/>
          <p:nvPr/>
        </p:nvSpPr>
        <p:spPr>
          <a:xfrm>
            <a:off x="5435640" y="1197000"/>
            <a:ext cx="1944720" cy="482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财务会计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4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第一章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总  论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6920" y="1125360"/>
            <a:ext cx="7772400" cy="4114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00cc"/>
                </a:solidFill>
                <a:uFillTx/>
                <a:latin typeface="Times New Roman"/>
              </a:rPr>
              <a:t>第一节</a:t>
            </a:r>
            <a:r>
              <a:rPr b="0" lang="zh-CN" sz="4000" spc="-1" strike="noStrike" u="sng">
                <a:solidFill>
                  <a:srgbClr val="cc00cc"/>
                </a:solidFill>
                <a:uFillTx/>
                <a:latin typeface="Times New Roman"/>
              </a:rPr>
              <a:t> 会计概述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00cc"/>
                </a:solidFill>
                <a:uFillTx/>
                <a:latin typeface="Times New Roman"/>
              </a:rPr>
              <a:t>第二节</a:t>
            </a:r>
            <a:r>
              <a:rPr b="0" lang="zh-CN" sz="4000" spc="-1" strike="noStrike" u="sng">
                <a:solidFill>
                  <a:srgbClr val="ccecff"/>
                </a:solidFill>
                <a:uFillTx/>
                <a:latin typeface="Times New Roman"/>
              </a:rPr>
              <a:t> </a:t>
            </a:r>
            <a:r>
              <a:rPr b="0" lang="zh-CN" sz="4000" spc="-1" strike="noStrike" u="sng">
                <a:solidFill>
                  <a:srgbClr val="cc00cc"/>
                </a:solidFill>
                <a:uFillTx/>
                <a:latin typeface="Times New Roman"/>
              </a:rPr>
              <a:t>会计对象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00cc"/>
                </a:solidFill>
                <a:uFillTx/>
                <a:latin typeface="Times New Roman"/>
              </a:rPr>
              <a:t>第三节 </a:t>
            </a:r>
            <a:r>
              <a:rPr b="0" lang="zh-CN" sz="4000" spc="-1" strike="noStrike" u="sng">
                <a:solidFill>
                  <a:srgbClr val="cc00cc"/>
                </a:solidFill>
                <a:uFillTx/>
                <a:latin typeface="Times New Roman"/>
              </a:rPr>
              <a:t>企业会计核算基本前提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00cc"/>
                </a:solidFill>
                <a:uFillTx/>
                <a:latin typeface="Times New Roman"/>
              </a:rPr>
              <a:t>第四节 </a:t>
            </a:r>
            <a:r>
              <a:rPr b="0" lang="zh-CN" sz="4000" spc="-1" strike="noStrike" u="sng">
                <a:solidFill>
                  <a:srgbClr val="cc00cc"/>
                </a:solidFill>
                <a:uFillTx/>
                <a:latin typeface="Times New Roman"/>
              </a:rPr>
              <a:t>企业会计核算一般原则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00cc"/>
                </a:solidFill>
                <a:uFillTx/>
                <a:latin typeface="Times New Roman"/>
              </a:rPr>
              <a:t>第五节 </a:t>
            </a:r>
            <a:r>
              <a:rPr b="0" lang="zh-CN" sz="4000" spc="-1" strike="noStrike" u="sng">
                <a:solidFill>
                  <a:srgbClr val="cc00cc"/>
                </a:solidFill>
                <a:uFillTx/>
                <a:latin typeface="Times New Roman"/>
              </a:rPr>
              <a:t>企业会计法规体系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59" name="对象 36867" descr=""/>
          <p:cNvPicPr/>
          <p:nvPr/>
        </p:nvPicPr>
        <p:blipFill>
          <a:blip r:embed="rId1"/>
          <a:stretch/>
        </p:blipFill>
        <p:spPr>
          <a:xfrm>
            <a:off x="0" y="4648320"/>
            <a:ext cx="9144000" cy="22096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2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29:54Z</dcterms:created>
  <dc:creator/>
  <dc:description/>
  <cp:keywords>会计 学习</cp:keywords>
  <dc:language>en-US</dc:language>
  <cp:lastModifiedBy>An</cp:lastModifiedBy>
  <dcterms:modified xsi:type="dcterms:W3CDTF">2016-05-01T00:29:55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