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DF1B89-C2E8-4A0C-8049-73516769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89E0E8-61B4-49AB-912E-48A0E65542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222-6D44-49DA-8028-5D0C8F4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B08-911D-4BF2-B5D7-1B97E41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8A0-6B8D-42A2-907C-5E5F6E27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D07-2D89-4827-A497-82CC995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1CB5-87EE-41AD-98AF-DDB85667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1CC4-4B2E-4EAB-9B63-99DAB7F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B6CF-193F-4146-BC0B-077F0AE4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7D6C-A884-416A-B95E-9A915A2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2FB1-0EA2-40BF-A3F8-6A418A5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18ED-A230-434A-ACB2-747E3E3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D3E4-F3A4-4C39-A7C6-0B6ECEBF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0B8-3296-4D42-AC87-43035C54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E674-8FA4-4E4F-8E34-7ADC593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FE64-88E6-415F-B02F-92ACCEF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3061-6BDC-4690-9EB7-D08601F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DA30-6A04-4B71-A572-494E8E23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C88-B639-471D-B896-FD2DF622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BB0C-B885-4C0A-8433-52993CF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C27E-7489-4F6B-8C59-83D2965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C880-4728-4FEB-8A18-CC95051F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0F50-2A00-4C03-95F2-F7A379A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9C3A-16CF-46D6-A82A-20B38C2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133-D8D7-406F-82C3-B731236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307A-8F8B-44C4-A340-1F7FC000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11B80-C547-4764-A35F-C0727E1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753D-31A5-4F79-98FE-3251912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F359-9211-4D63-A9EC-FF78CDC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6C67-5261-4E32-82F2-C80BAF28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0437-91B2-4FFD-BE23-5B5822F1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5486-5F2F-438F-A7ED-EE6E5C38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6617-9B91-4F7D-841C-C28F241F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05B2-EC40-43B8-8D78-721457D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37D5-B029-411B-B781-EEEB6DCE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BD0-DCF5-4C8F-BF26-564436F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0B04-E231-4196-8036-3498C95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F12A-E01D-42D2-BB07-8FD09C03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91EC-2573-4C6B-921B-F4FFF1D4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24FC-3759-418B-9D8B-8CFBF18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28E7-54C3-4A43-A115-C6911D8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A500-3F42-45A7-9F7E-E8EAFED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906A-0062-4A83-9C98-35C9A10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33A1-34FE-4959-A0B1-4431E20F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2AD1-4FCC-4D8C-A8BD-A160DFC6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7AF-0D1B-47BD-A386-6DBECA7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403-47F6-467E-AAFB-897C2F6C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D93-68BF-412B-BC4D-B26F9A5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68A-5B4F-4DFA-A4E5-E02CF20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F1B-4DF4-4E37-8D55-7D68E87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4680" cy="5028840"/>
            <a:chOff x="318960" y="1828800"/>
            <a:chExt cx="8824680" cy="502884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560" cy="223956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280" cy="5028840"/>
            </a:xfrm>
            <a:custGeom>
              <a:avLst/>
              <a:gdLst>
                <a:gd name="textAreaLeft" fmla="*/ 0 w 8810280"/>
                <a:gd name="textAreaRight" fmla="*/ 8810640 w 88102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560" cy="220320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400" cy="45720"/>
            </a:xfrm>
            <a:custGeom>
              <a:avLst/>
              <a:gdLst>
                <a:gd name="textAreaLeft" fmla="*/ 0 w 7313400"/>
                <a:gd name="textAreaRight" fmla="*/ 7313760 w 7313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5720" cy="2833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200" cy="45720"/>
            </a:xfrm>
            <a:custGeom>
              <a:avLst/>
              <a:gdLst>
                <a:gd name="textAreaLeft" fmla="*/ 0 w 4570200"/>
                <a:gd name="textAreaRight" fmla="*/ 4570560 w 45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160" cy="2247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eaafa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83808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42900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720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2B8231-2228-4FD8-A5A8-7A21E62274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4680" cy="5028840"/>
            <a:chOff x="318960" y="1828800"/>
            <a:chExt cx="8824680" cy="502884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560" cy="223956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280" cy="5028840"/>
            </a:xfrm>
            <a:custGeom>
              <a:avLst/>
              <a:gdLst>
                <a:gd name="textAreaLeft" fmla="*/ 0 w 8810280"/>
                <a:gd name="textAreaRight" fmla="*/ 8810640 w 88102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560" cy="220320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400" cy="45720"/>
            </a:xfrm>
            <a:custGeom>
              <a:avLst/>
              <a:gdLst>
                <a:gd name="textAreaLeft" fmla="*/ 0 w 7313400"/>
                <a:gd name="textAreaRight" fmla="*/ 7313760 w 7313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5720" cy="2833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5720" cy="2247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200" cy="45720"/>
            </a:xfrm>
            <a:custGeom>
              <a:avLst/>
              <a:gdLst>
                <a:gd name="textAreaLeft" fmla="*/ 0 w 4570200"/>
                <a:gd name="textAreaRight" fmla="*/ 4570560 w 45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160" cy="2247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4680" cy="5128920"/>
            <a:chOff x="318960" y="1752480"/>
            <a:chExt cx="8824680" cy="512892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280" cy="5105160"/>
            </a:xfrm>
            <a:custGeom>
              <a:avLst/>
              <a:gdLst>
                <a:gd name="textAreaLeft" fmla="*/ 0 w 8810280"/>
                <a:gd name="textAreaRight" fmla="*/ 8810640 w 8810280"/>
                <a:gd name="textAreaTop" fmla="*/ 0 h 5105160"/>
                <a:gd name="textAreaBottom" fmla="*/ 5105520 h 510516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560" cy="304776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3047760"/>
                <a:gd name="textAreaBottom" fmla="*/ 3048120 h 30477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600" cy="45720"/>
            </a:xfrm>
            <a:custGeom>
              <a:avLst/>
              <a:gdLst>
                <a:gd name="textAreaLeft" fmla="*/ 0 w 5484600"/>
                <a:gd name="textAreaRight" fmla="*/ 5484960 w 5484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8800" cy="45720"/>
            </a:xfrm>
            <a:custGeom>
              <a:avLst/>
              <a:gdLst>
                <a:gd name="textAreaLeft" fmla="*/ 0 w 7768800"/>
                <a:gd name="textAreaRight" fmla="*/ 7769160 w 7768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160" cy="31078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107880"/>
                <a:gd name="textAreaBottom" fmla="*/ 3108240 h 31078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5720" cy="511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宋体"/>
              </a:rPr>
              <a:t>单击此处编辑母版标题样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46860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93720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D3E884-8046-475D-B743-BE2AB25BCB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18960" y="1828800"/>
            <a:ext cx="8824680" cy="5028840"/>
            <a:chOff x="318960" y="1828800"/>
            <a:chExt cx="8824680" cy="5028840"/>
          </a:xfrm>
        </p:grpSpPr>
        <p:sp>
          <p:nvSpPr>
            <p:cNvPr id="108" name="Freeform 3"/>
            <p:cNvSpPr/>
            <p:nvPr/>
          </p:nvSpPr>
          <p:spPr>
            <a:xfrm>
              <a:off x="838080" y="4618080"/>
              <a:ext cx="8305560" cy="223956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333360" y="1828800"/>
              <a:ext cx="8810280" cy="5028840"/>
            </a:xfrm>
            <a:custGeom>
              <a:avLst/>
              <a:gdLst>
                <a:gd name="textAreaLeft" fmla="*/ 0 w 8810280"/>
                <a:gd name="textAreaRight" fmla="*/ 8810640 w 88102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838080" y="4654440"/>
              <a:ext cx="8305560" cy="220320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838080" y="1828800"/>
              <a:ext cx="7313400" cy="45720"/>
            </a:xfrm>
            <a:custGeom>
              <a:avLst/>
              <a:gdLst>
                <a:gd name="textAreaLeft" fmla="*/ 0 w 7313400"/>
                <a:gd name="textAreaRight" fmla="*/ 7313760 w 7313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838080" y="1828800"/>
              <a:ext cx="45720" cy="2833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836640" y="4610160"/>
              <a:ext cx="45720" cy="2247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318960" y="4610160"/>
              <a:ext cx="4570200" cy="45720"/>
            </a:xfrm>
            <a:custGeom>
              <a:avLst/>
              <a:gdLst>
                <a:gd name="textAreaLeft" fmla="*/ 0 w 4570200"/>
                <a:gd name="textAreaRight" fmla="*/ 4570560 w 45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318960" y="4610160"/>
              <a:ext cx="47160" cy="2247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48560" y="244440"/>
            <a:ext cx="20966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244440"/>
            <a:ext cx="61383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eaafa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83808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42900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93720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122E72-0DA2-4CF7-8862-B56689BB2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318960" y="1828800"/>
            <a:ext cx="8824680" cy="5028840"/>
            <a:chOff x="318960" y="1828800"/>
            <a:chExt cx="8824680" cy="5028840"/>
          </a:xfrm>
        </p:grpSpPr>
        <p:sp>
          <p:nvSpPr>
            <p:cNvPr id="158" name="Freeform 3"/>
            <p:cNvSpPr/>
            <p:nvPr/>
          </p:nvSpPr>
          <p:spPr>
            <a:xfrm>
              <a:off x="838080" y="4618080"/>
              <a:ext cx="8305560" cy="223956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333360" y="1828800"/>
              <a:ext cx="8810280" cy="5028840"/>
            </a:xfrm>
            <a:custGeom>
              <a:avLst/>
              <a:gdLst>
                <a:gd name="textAreaLeft" fmla="*/ 0 w 8810280"/>
                <a:gd name="textAreaRight" fmla="*/ 8810640 w 88102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0" name="Freeform 5"/>
            <p:cNvSpPr/>
            <p:nvPr/>
          </p:nvSpPr>
          <p:spPr>
            <a:xfrm>
              <a:off x="838080" y="4654440"/>
              <a:ext cx="8305560" cy="220320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838080" y="1828800"/>
              <a:ext cx="7313400" cy="45720"/>
            </a:xfrm>
            <a:custGeom>
              <a:avLst/>
              <a:gdLst>
                <a:gd name="textAreaLeft" fmla="*/ 0 w 7313400"/>
                <a:gd name="textAreaRight" fmla="*/ 7313760 w 7313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Freeform 7"/>
            <p:cNvSpPr/>
            <p:nvPr/>
          </p:nvSpPr>
          <p:spPr>
            <a:xfrm>
              <a:off x="838080" y="1828800"/>
              <a:ext cx="45720" cy="2833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836640" y="4610160"/>
              <a:ext cx="45720" cy="2247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318960" y="4610160"/>
              <a:ext cx="4570200" cy="45720"/>
            </a:xfrm>
            <a:custGeom>
              <a:avLst/>
              <a:gdLst>
                <a:gd name="textAreaLeft" fmla="*/ 0 w 4570200"/>
                <a:gd name="textAreaRight" fmla="*/ 4570560 w 45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10"/>
            <p:cNvSpPr/>
            <p:nvPr/>
          </p:nvSpPr>
          <p:spPr>
            <a:xfrm>
              <a:off x="318960" y="4610160"/>
              <a:ext cx="47160" cy="2247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dt" idx="10"/>
          </p:nvPr>
        </p:nvSpPr>
        <p:spPr>
          <a:xfrm>
            <a:off x="83808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1"/>
          </p:nvPr>
        </p:nvSpPr>
        <p:spPr>
          <a:xfrm>
            <a:off x="342900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6937200" y="6245280"/>
            <a:ext cx="19015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771EF-7286-4F44-9381-1BFED9FF19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流对土地的作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2160360" y="6021360"/>
            <a:ext cx="4713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3640" cy="300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侵蚀和沉积成的地形地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除了流水，还有什么自然的力量能引起土地的侵蚀和沉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谈风、冰川、海浪对土地的侵蚀和沉积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阅读单元资料库</a:t>
            </a:r>
            <a:r>
              <a:rPr b="1" lang="zh-CN" sz="3200" spc="-1" strike="noStrike">
                <a:solidFill>
                  <a:schemeClr val="folHlink"/>
                </a:solidFill>
                <a:latin typeface="Arial"/>
                <a:ea typeface="宋体"/>
              </a:rPr>
              <a:t>《我们的土壤妈妈》、《冰川的侵蚀》、《风的侵蚀》、《波浪的侵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侵蚀和沉积成的地形地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除了流水，还有什么自然的力量能引起土地的侵蚀和沉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"/>
          <p:cNvSpPr/>
          <p:nvPr/>
        </p:nvSpPr>
        <p:spPr>
          <a:xfrm>
            <a:off x="1228680" y="5730840"/>
            <a:ext cx="512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1217736141GKgAd9Nb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244440"/>
            <a:ext cx="245880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vert="eaVer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谈风、冰川、海浪对土地的侵蚀和沉积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阅读单元资料库</a:t>
            </a:r>
            <a:r>
              <a:rPr b="1" lang="zh-CN" sz="3200" spc="-1" strike="noStrike">
                <a:solidFill>
                  <a:schemeClr val="folHlink"/>
                </a:solidFill>
                <a:latin typeface="Arial"/>
                <a:ea typeface="宋体"/>
              </a:rPr>
              <a:t>《我们的土壤妈妈》、《冰川的侵蚀》、《风的侵蚀》、《波浪的侵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5E3E4BA5-1A08-4B67-88B2-3F8311140F0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"/>
          <p:cNvSpPr/>
          <p:nvPr/>
        </p:nvSpPr>
        <p:spPr>
          <a:xfrm>
            <a:off x="1187280" y="907920"/>
            <a:ext cx="705600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说出并解释河流的形成，河流是怎样侵蚀土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说出并解释河流的侵蚀和沉积作用，对于地球地形地貌的形成具有怎样的作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河流对土地的作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78132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chemeClr val="folHlink"/>
                </a:solidFill>
                <a:latin typeface="Arial"/>
                <a:ea typeface="黑体"/>
              </a:rPr>
              <a:t>河流对土地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chemeClr val="folHlink"/>
                </a:solidFill>
                <a:latin typeface="Arial"/>
                <a:ea typeface="黑体"/>
              </a:rPr>
              <a:t>侵蚀和沉积形成的地形地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河流对土地的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祖国的大江大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它们怎么形成的？河流的形成与侵蚀的发生存在着什么关系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探索河流对土地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7344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忆泥土在水中沉积实验中的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说说河流会侵蚀两岸的土地吗？从山间出发的一条小河，在它流径里，从它的上流、中流及下流的河床上，我们能看到什么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河道水流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chemeClr val="folHlink"/>
                </a:solidFill>
                <a:latin typeface="Arial"/>
                <a:ea typeface="宋体"/>
              </a:rPr>
              <a:t>分析解释流水、河道、在什么地方发生侵蚀作用？什么地方发生了沉积？请在书上用铅笔标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8320" cy="142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河道水流实验模型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50"/>
          <p:cNvGrpSpPr/>
          <p:nvPr/>
        </p:nvGrpSpPr>
        <p:grpSpPr>
          <a:xfrm>
            <a:off x="1331640" y="2349360"/>
            <a:ext cx="7561440" cy="3456000"/>
            <a:chOff x="1331640" y="2349360"/>
            <a:chExt cx="7561440" cy="3456000"/>
          </a:xfrm>
        </p:grpSpPr>
        <p:grpSp>
          <p:nvGrpSpPr>
            <p:cNvPr id="225" name="Group 42"/>
            <p:cNvGrpSpPr/>
            <p:nvPr/>
          </p:nvGrpSpPr>
          <p:grpSpPr>
            <a:xfrm>
              <a:off x="1331640" y="2349360"/>
              <a:ext cx="6324840" cy="3456000"/>
              <a:chOff x="1331640" y="2349360"/>
              <a:chExt cx="6324840" cy="3456000"/>
            </a:xfrm>
          </p:grpSpPr>
          <p:sp>
            <p:nvSpPr>
              <p:cNvPr id="226" name="Freeform 5"/>
              <p:cNvSpPr/>
              <p:nvPr/>
            </p:nvSpPr>
            <p:spPr>
              <a:xfrm>
                <a:off x="1332000" y="3213000"/>
                <a:ext cx="4597200" cy="2087280"/>
              </a:xfrm>
              <a:custGeom>
                <a:avLst/>
                <a:gdLst>
                  <a:gd name="textAreaLeft" fmla="*/ 0 w 4597200"/>
                  <a:gd name="textAreaRight" fmla="*/ 4597560 w 4597200"/>
                  <a:gd name="textAreaTop" fmla="*/ 0 h 2087280"/>
                  <a:gd name="textAreaBottom" fmla="*/ 2087640 h 2087280"/>
                </a:gdLst>
                <a:ahLst/>
                <a:rect l="textAreaLeft" t="textAreaTop" r="textAreaRight" b="textAreaBottom"/>
                <a:pathLst>
                  <a:path w="2896" h="1315">
                    <a:moveTo>
                      <a:pt x="0" y="0"/>
                    </a:moveTo>
                    <a:cubicBezTo>
                      <a:pt x="261" y="53"/>
                      <a:pt x="522" y="107"/>
                      <a:pt x="817" y="273"/>
                    </a:cubicBezTo>
                    <a:cubicBezTo>
                      <a:pt x="1112" y="439"/>
                      <a:pt x="1452" y="832"/>
                      <a:pt x="1769" y="998"/>
                    </a:cubicBezTo>
                    <a:cubicBezTo>
                      <a:pt x="2086" y="1164"/>
                      <a:pt x="2548" y="1225"/>
                      <a:pt x="2722" y="1270"/>
                    </a:cubicBezTo>
                    <a:cubicBezTo>
                      <a:pt x="2896" y="1315"/>
                      <a:pt x="2854" y="1292"/>
                      <a:pt x="2813" y="1270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27" name="Freeform 6"/>
              <p:cNvSpPr/>
              <p:nvPr/>
            </p:nvSpPr>
            <p:spPr>
              <a:xfrm>
                <a:off x="3059280" y="2349360"/>
                <a:ext cx="4597200" cy="2087280"/>
              </a:xfrm>
              <a:custGeom>
                <a:avLst/>
                <a:gdLst>
                  <a:gd name="textAreaLeft" fmla="*/ 0 w 4597200"/>
                  <a:gd name="textAreaRight" fmla="*/ 4597560 w 4597200"/>
                  <a:gd name="textAreaTop" fmla="*/ 0 h 2087280"/>
                  <a:gd name="textAreaBottom" fmla="*/ 2087640 h 2087280"/>
                </a:gdLst>
                <a:ahLst/>
                <a:rect l="textAreaLeft" t="textAreaTop" r="textAreaRight" b="textAreaBottom"/>
                <a:pathLst>
                  <a:path w="2896" h="1315">
                    <a:moveTo>
                      <a:pt x="0" y="0"/>
                    </a:moveTo>
                    <a:cubicBezTo>
                      <a:pt x="261" y="53"/>
                      <a:pt x="522" y="107"/>
                      <a:pt x="817" y="273"/>
                    </a:cubicBezTo>
                    <a:cubicBezTo>
                      <a:pt x="1112" y="439"/>
                      <a:pt x="1452" y="832"/>
                      <a:pt x="1769" y="998"/>
                    </a:cubicBezTo>
                    <a:cubicBezTo>
                      <a:pt x="2086" y="1164"/>
                      <a:pt x="2548" y="1225"/>
                      <a:pt x="2722" y="1270"/>
                    </a:cubicBezTo>
                    <a:cubicBezTo>
                      <a:pt x="2896" y="1315"/>
                      <a:pt x="2854" y="1292"/>
                      <a:pt x="2813" y="1270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28" name="Line 7"/>
              <p:cNvSpPr/>
              <p:nvPr/>
            </p:nvSpPr>
            <p:spPr>
              <a:xfrm flipV="1">
                <a:off x="1331640" y="2349360"/>
                <a:ext cx="1727280" cy="863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 flipV="1">
                <a:off x="5795640" y="4365360"/>
                <a:ext cx="1729080" cy="863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>
                <a:off x="1331640" y="3213000"/>
                <a:ext cx="360" cy="25207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331640" y="5733720"/>
                <a:ext cx="4464000" cy="71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7596000" y="4365360"/>
                <a:ext cx="360" cy="576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3" name="Line 12"/>
              <p:cNvSpPr/>
              <p:nvPr/>
            </p:nvSpPr>
            <p:spPr>
              <a:xfrm>
                <a:off x="5795640" y="5229000"/>
                <a:ext cx="360" cy="576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4" name="Line 13"/>
              <p:cNvSpPr/>
              <p:nvPr/>
            </p:nvSpPr>
            <p:spPr>
              <a:xfrm flipV="1">
                <a:off x="5795640" y="4941720"/>
                <a:ext cx="1729080" cy="863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5" name="Freeform 15"/>
              <p:cNvSpPr/>
              <p:nvPr/>
            </p:nvSpPr>
            <p:spPr>
              <a:xfrm>
                <a:off x="1908000" y="2828880"/>
                <a:ext cx="2518920" cy="1463400"/>
              </a:xfrm>
              <a:custGeom>
                <a:avLst/>
                <a:gdLst>
                  <a:gd name="textAreaLeft" fmla="*/ 0 w 2518920"/>
                  <a:gd name="textAreaRight" fmla="*/ 2519280 w 2518920"/>
                  <a:gd name="textAreaTop" fmla="*/ 0 h 1463400"/>
                  <a:gd name="textAreaBottom" fmla="*/ 1463760 h 1463400"/>
                </a:gdLst>
                <a:ahLst/>
                <a:rect l="textAreaLeft" t="textAreaTop" r="textAreaRight" b="textAreaBottom"/>
                <a:pathLst>
                  <a:path w="1587" h="922">
                    <a:moveTo>
                      <a:pt x="0" y="70"/>
                    </a:moveTo>
                    <a:cubicBezTo>
                      <a:pt x="64" y="74"/>
                      <a:pt x="128" y="79"/>
                      <a:pt x="164" y="70"/>
                    </a:cubicBezTo>
                    <a:cubicBezTo>
                      <a:pt x="200" y="62"/>
                      <a:pt x="173" y="26"/>
                      <a:pt x="218" y="18"/>
                    </a:cubicBezTo>
                    <a:cubicBezTo>
                      <a:pt x="264" y="9"/>
                      <a:pt x="392" y="0"/>
                      <a:pt x="438" y="18"/>
                    </a:cubicBezTo>
                    <a:cubicBezTo>
                      <a:pt x="484" y="35"/>
                      <a:pt x="447" y="107"/>
                      <a:pt x="492" y="124"/>
                    </a:cubicBezTo>
                    <a:cubicBezTo>
                      <a:pt x="538" y="142"/>
                      <a:pt x="638" y="107"/>
                      <a:pt x="711" y="124"/>
                    </a:cubicBezTo>
                    <a:cubicBezTo>
                      <a:pt x="783" y="142"/>
                      <a:pt x="876" y="204"/>
                      <a:pt x="930" y="231"/>
                    </a:cubicBezTo>
                    <a:cubicBezTo>
                      <a:pt x="985" y="258"/>
                      <a:pt x="1022" y="257"/>
                      <a:pt x="1040" y="284"/>
                    </a:cubicBezTo>
                    <a:cubicBezTo>
                      <a:pt x="1058" y="311"/>
                      <a:pt x="1032" y="364"/>
                      <a:pt x="1040" y="391"/>
                    </a:cubicBezTo>
                    <a:cubicBezTo>
                      <a:pt x="1049" y="418"/>
                      <a:pt x="1050" y="404"/>
                      <a:pt x="1095" y="443"/>
                    </a:cubicBezTo>
                    <a:cubicBezTo>
                      <a:pt x="1140" y="482"/>
                      <a:pt x="1264" y="573"/>
                      <a:pt x="1310" y="626"/>
                    </a:cubicBezTo>
                    <a:cubicBezTo>
                      <a:pt x="1356" y="679"/>
                      <a:pt x="1341" y="722"/>
                      <a:pt x="1369" y="762"/>
                    </a:cubicBezTo>
                    <a:cubicBezTo>
                      <a:pt x="1397" y="802"/>
                      <a:pt x="1441" y="842"/>
                      <a:pt x="1477" y="869"/>
                    </a:cubicBezTo>
                    <a:cubicBezTo>
                      <a:pt x="1513" y="896"/>
                      <a:pt x="1550" y="909"/>
                      <a:pt x="1587" y="922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6" name="Freeform 17"/>
              <p:cNvSpPr/>
              <p:nvPr/>
            </p:nvSpPr>
            <p:spPr>
              <a:xfrm>
                <a:off x="2411280" y="2565360"/>
                <a:ext cx="2518920" cy="1463400"/>
              </a:xfrm>
              <a:custGeom>
                <a:avLst/>
                <a:gdLst>
                  <a:gd name="textAreaLeft" fmla="*/ 0 w 2518920"/>
                  <a:gd name="textAreaRight" fmla="*/ 2519280 w 2518920"/>
                  <a:gd name="textAreaTop" fmla="*/ 0 h 1463400"/>
                  <a:gd name="textAreaBottom" fmla="*/ 1463760 h 1463400"/>
                </a:gdLst>
                <a:ahLst/>
                <a:rect l="textAreaLeft" t="textAreaTop" r="textAreaRight" b="textAreaBottom"/>
                <a:pathLst>
                  <a:path w="1587" h="922">
                    <a:moveTo>
                      <a:pt x="0" y="70"/>
                    </a:moveTo>
                    <a:cubicBezTo>
                      <a:pt x="64" y="74"/>
                      <a:pt x="128" y="79"/>
                      <a:pt x="164" y="70"/>
                    </a:cubicBezTo>
                    <a:cubicBezTo>
                      <a:pt x="200" y="62"/>
                      <a:pt x="173" y="26"/>
                      <a:pt x="218" y="18"/>
                    </a:cubicBezTo>
                    <a:cubicBezTo>
                      <a:pt x="264" y="9"/>
                      <a:pt x="392" y="0"/>
                      <a:pt x="438" y="18"/>
                    </a:cubicBezTo>
                    <a:cubicBezTo>
                      <a:pt x="484" y="35"/>
                      <a:pt x="447" y="107"/>
                      <a:pt x="492" y="124"/>
                    </a:cubicBezTo>
                    <a:cubicBezTo>
                      <a:pt x="538" y="142"/>
                      <a:pt x="638" y="107"/>
                      <a:pt x="711" y="124"/>
                    </a:cubicBezTo>
                    <a:cubicBezTo>
                      <a:pt x="783" y="142"/>
                      <a:pt x="876" y="204"/>
                      <a:pt x="930" y="231"/>
                    </a:cubicBezTo>
                    <a:cubicBezTo>
                      <a:pt x="985" y="258"/>
                      <a:pt x="1022" y="257"/>
                      <a:pt x="1040" y="284"/>
                    </a:cubicBezTo>
                    <a:cubicBezTo>
                      <a:pt x="1058" y="311"/>
                      <a:pt x="1032" y="364"/>
                      <a:pt x="1040" y="391"/>
                    </a:cubicBezTo>
                    <a:cubicBezTo>
                      <a:pt x="1049" y="418"/>
                      <a:pt x="1049" y="405"/>
                      <a:pt x="1095" y="443"/>
                    </a:cubicBezTo>
                    <a:cubicBezTo>
                      <a:pt x="1141" y="481"/>
                      <a:pt x="1268" y="569"/>
                      <a:pt x="1314" y="622"/>
                    </a:cubicBezTo>
                    <a:cubicBezTo>
                      <a:pt x="1360" y="675"/>
                      <a:pt x="1342" y="721"/>
                      <a:pt x="1369" y="762"/>
                    </a:cubicBezTo>
                    <a:cubicBezTo>
                      <a:pt x="1396" y="798"/>
                      <a:pt x="1441" y="842"/>
                      <a:pt x="1477" y="869"/>
                    </a:cubicBezTo>
                    <a:cubicBezTo>
                      <a:pt x="1513" y="896"/>
                      <a:pt x="1550" y="909"/>
                      <a:pt x="1587" y="922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7" name="Line 19"/>
              <p:cNvSpPr/>
              <p:nvPr/>
            </p:nvSpPr>
            <p:spPr>
              <a:xfrm>
                <a:off x="3708360" y="3141360"/>
                <a:ext cx="502920" cy="574920"/>
              </a:xfrm>
              <a:prstGeom prst="line">
                <a:avLst/>
              </a:prstGeom>
              <a:ln w="5715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>
                <a:off x="4427640" y="4292640"/>
                <a:ext cx="2160360" cy="553680"/>
              </a:xfrm>
              <a:custGeom>
                <a:avLst/>
                <a:gdLst>
                  <a:gd name="textAreaLeft" fmla="*/ 0 w 2160360"/>
                  <a:gd name="textAreaRight" fmla="*/ 2160720 w 216036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61" h="349">
                    <a:moveTo>
                      <a:pt x="0" y="0"/>
                    </a:moveTo>
                    <a:cubicBezTo>
                      <a:pt x="98" y="55"/>
                      <a:pt x="205" y="102"/>
                      <a:pt x="272" y="133"/>
                    </a:cubicBezTo>
                    <a:cubicBezTo>
                      <a:pt x="339" y="164"/>
                      <a:pt x="340" y="168"/>
                      <a:pt x="403" y="185"/>
                    </a:cubicBezTo>
                    <a:cubicBezTo>
                      <a:pt x="466" y="202"/>
                      <a:pt x="576" y="209"/>
                      <a:pt x="648" y="233"/>
                    </a:cubicBezTo>
                    <a:cubicBezTo>
                      <a:pt x="720" y="257"/>
                      <a:pt x="771" y="308"/>
                      <a:pt x="837" y="327"/>
                    </a:cubicBezTo>
                    <a:cubicBezTo>
                      <a:pt x="903" y="346"/>
                      <a:pt x="996" y="349"/>
                      <a:pt x="1045" y="346"/>
                    </a:cubicBezTo>
                    <a:cubicBezTo>
                      <a:pt x="1094" y="343"/>
                      <a:pt x="1081" y="316"/>
                      <a:pt x="1134" y="310"/>
                    </a:cubicBezTo>
                    <a:cubicBezTo>
                      <a:pt x="1187" y="304"/>
                      <a:pt x="1316" y="310"/>
                      <a:pt x="1361" y="310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4932360" y="4005360"/>
                <a:ext cx="2231640" cy="518760"/>
              </a:xfrm>
              <a:custGeom>
                <a:avLst/>
                <a:gdLst>
                  <a:gd name="textAreaLeft" fmla="*/ 0 w 2231640"/>
                  <a:gd name="textAreaRight" fmla="*/ 2232000 w 223164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406" h="327">
                    <a:moveTo>
                      <a:pt x="0" y="0"/>
                    </a:moveTo>
                    <a:cubicBezTo>
                      <a:pt x="101" y="56"/>
                      <a:pt x="207" y="103"/>
                      <a:pt x="281" y="136"/>
                    </a:cubicBezTo>
                    <a:cubicBezTo>
                      <a:pt x="355" y="169"/>
                      <a:pt x="378" y="180"/>
                      <a:pt x="443" y="196"/>
                    </a:cubicBezTo>
                    <a:cubicBezTo>
                      <a:pt x="508" y="212"/>
                      <a:pt x="594" y="221"/>
                      <a:pt x="670" y="234"/>
                    </a:cubicBezTo>
                    <a:cubicBezTo>
                      <a:pt x="740" y="277"/>
                      <a:pt x="829" y="266"/>
                      <a:pt x="897" y="272"/>
                    </a:cubicBezTo>
                    <a:cubicBezTo>
                      <a:pt x="964" y="286"/>
                      <a:pt x="1030" y="311"/>
                      <a:pt x="1076" y="319"/>
                    </a:cubicBezTo>
                    <a:cubicBezTo>
                      <a:pt x="1122" y="327"/>
                      <a:pt x="1116" y="318"/>
                      <a:pt x="1171" y="318"/>
                    </a:cubicBezTo>
                    <a:cubicBezTo>
                      <a:pt x="1226" y="318"/>
                      <a:pt x="1360" y="318"/>
                      <a:pt x="1406" y="318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5435280" y="4365360"/>
                <a:ext cx="936720" cy="216000"/>
              </a:xfrm>
              <a:prstGeom prst="line">
                <a:avLst/>
              </a:prstGeom>
              <a:ln w="57150">
                <a:solidFill>
                  <a:srgbClr val="9947f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1" name="AutoShape 23"/>
              <p:cNvSpPr/>
              <p:nvPr/>
            </p:nvSpPr>
            <p:spPr>
              <a:xfrm>
                <a:off x="4067280" y="378936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2" name="AutoShape 24"/>
              <p:cNvSpPr/>
              <p:nvPr/>
            </p:nvSpPr>
            <p:spPr>
              <a:xfrm>
                <a:off x="4356000" y="400536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3" name="AutoShape 25"/>
              <p:cNvSpPr/>
              <p:nvPr/>
            </p:nvSpPr>
            <p:spPr>
              <a:xfrm>
                <a:off x="4572000" y="422100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4" name="AutoShape 26"/>
              <p:cNvSpPr/>
              <p:nvPr/>
            </p:nvSpPr>
            <p:spPr>
              <a:xfrm>
                <a:off x="4500720" y="386064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5" name="AutoShape 27"/>
              <p:cNvSpPr/>
              <p:nvPr/>
            </p:nvSpPr>
            <p:spPr>
              <a:xfrm>
                <a:off x="4284720" y="364500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6" name="AutoShape 28"/>
              <p:cNvSpPr/>
              <p:nvPr/>
            </p:nvSpPr>
            <p:spPr>
              <a:xfrm>
                <a:off x="4643280" y="407664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7" name="AutoShape 29"/>
              <p:cNvSpPr/>
              <p:nvPr/>
            </p:nvSpPr>
            <p:spPr>
              <a:xfrm>
                <a:off x="3780000" y="342900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8" name="AutoShape 30"/>
              <p:cNvSpPr/>
              <p:nvPr/>
            </p:nvSpPr>
            <p:spPr>
              <a:xfrm>
                <a:off x="4067280" y="342900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9" name="AutoShape 31"/>
              <p:cNvSpPr/>
              <p:nvPr/>
            </p:nvSpPr>
            <p:spPr>
              <a:xfrm>
                <a:off x="3564000" y="306864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0" name="AutoShape 32"/>
              <p:cNvSpPr/>
              <p:nvPr/>
            </p:nvSpPr>
            <p:spPr>
              <a:xfrm>
                <a:off x="3924360" y="3213000"/>
                <a:ext cx="144000" cy="144000"/>
              </a:xfrm>
              <a:prstGeom prst="triangle">
                <a:avLst>
                  <a:gd name="adj" fmla="val 50000"/>
                </a:avLst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1" name="Oval 33"/>
              <p:cNvSpPr/>
              <p:nvPr/>
            </p:nvSpPr>
            <p:spPr>
              <a:xfrm>
                <a:off x="5580000" y="450864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2" name="Oval 34"/>
              <p:cNvSpPr/>
              <p:nvPr/>
            </p:nvSpPr>
            <p:spPr>
              <a:xfrm>
                <a:off x="5796000" y="472428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3" name="Oval 35"/>
              <p:cNvSpPr/>
              <p:nvPr/>
            </p:nvSpPr>
            <p:spPr>
              <a:xfrm>
                <a:off x="5867280" y="450864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4" name="Oval 36"/>
              <p:cNvSpPr/>
              <p:nvPr/>
            </p:nvSpPr>
            <p:spPr>
              <a:xfrm>
                <a:off x="6084720" y="465300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5" name="Oval 37"/>
              <p:cNvSpPr/>
              <p:nvPr/>
            </p:nvSpPr>
            <p:spPr>
              <a:xfrm>
                <a:off x="6300720" y="450864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6" name="Oval 38"/>
              <p:cNvSpPr/>
              <p:nvPr/>
            </p:nvSpPr>
            <p:spPr>
              <a:xfrm>
                <a:off x="6227640" y="465300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7" name="Oval 39"/>
              <p:cNvSpPr/>
              <p:nvPr/>
            </p:nvSpPr>
            <p:spPr>
              <a:xfrm>
                <a:off x="6443640" y="458136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8" name="Oval 40"/>
              <p:cNvSpPr/>
              <p:nvPr/>
            </p:nvSpPr>
            <p:spPr>
              <a:xfrm>
                <a:off x="6659640" y="465300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Oval 41"/>
              <p:cNvSpPr/>
              <p:nvPr/>
            </p:nvSpPr>
            <p:spPr>
              <a:xfrm>
                <a:off x="5724360" y="4581360"/>
                <a:ext cx="70920" cy="72720"/>
              </a:xfrm>
              <a:prstGeom prst="ellipse">
                <a:avLst/>
              </a:prstGeom>
              <a:solidFill>
                <a:schemeClr val="accent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0" name="Line 43"/>
            <p:cNvSpPr/>
            <p:nvPr/>
          </p:nvSpPr>
          <p:spPr>
            <a:xfrm flipH="1">
              <a:off x="3995640" y="3284280"/>
              <a:ext cx="3816360" cy="71640"/>
            </a:xfrm>
            <a:prstGeom prst="line">
              <a:avLst/>
            </a:prstGeom>
            <a:ln w="952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4284720" y="2781360"/>
              <a:ext cx="273492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流速快，被侵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 flipH="1">
              <a:off x="6011640" y="4437000"/>
              <a:ext cx="2881440" cy="71280"/>
            </a:xfrm>
            <a:prstGeom prst="line">
              <a:avLst/>
            </a:prstGeom>
            <a:ln w="952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5940360" y="3860640"/>
              <a:ext cx="26636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速慢，土有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7"/>
            <p:cNvSpPr/>
            <p:nvPr/>
          </p:nvSpPr>
          <p:spPr>
            <a:xfrm rot="2153400">
              <a:off x="2340360" y="3933720"/>
              <a:ext cx="108072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陡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8"/>
            <p:cNvSpPr/>
            <p:nvPr/>
          </p:nvSpPr>
          <p:spPr>
            <a:xfrm rot="1062000">
              <a:off x="4427640" y="5013000"/>
              <a:ext cx="108072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5"/>
          <p:cNvSpPr/>
          <p:nvPr/>
        </p:nvSpPr>
        <p:spPr>
          <a:xfrm>
            <a:off x="1979640" y="285264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7QPQNG92_4"/>
          <p:cNvPicPr/>
          <p:nvPr/>
        </p:nvPicPr>
        <p:blipFill>
          <a:blip r:embed="rId1"/>
          <a:stretch/>
        </p:blipFill>
        <p:spPr>
          <a:xfrm>
            <a:off x="0" y="0"/>
            <a:ext cx="9143640" cy="6876720"/>
          </a:xfrm>
          <a:prstGeom prst="rect">
            <a:avLst/>
          </a:prstGeom>
          <a:ln w="9525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侵蚀和沉积成的地形地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4653000"/>
            <a:ext cx="7765560" cy="187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在地图上，我们能在大江大河的下流、入海口处发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阅读侵蚀和沉积成的地形地貌一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1239333630812"/>
          <p:cNvPicPr/>
          <p:nvPr/>
        </p:nvPicPr>
        <p:blipFill>
          <a:blip r:embed="rId1"/>
          <a:stretch/>
        </p:blipFill>
        <p:spPr>
          <a:xfrm>
            <a:off x="0" y="27000"/>
            <a:ext cx="9143640" cy="6830640"/>
          </a:xfrm>
          <a:prstGeom prst="rect">
            <a:avLst/>
          </a:prstGeom>
          <a:ln w="9525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侵蚀和沉积成的地形地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我们的结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河流也是流水侵蚀土地而形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Wingdings" charset="2"/>
              <a:buChar char="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然界每时每刻都有侵蚀和沉积的现象发生。侵蚀使得一些地面突起的地方土壤流失，而沉积且填平了一些低洼的地方，侵蚀和沉积形成了地球上不同地形地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Glass Layers 5">
      <a:dk1>
        <a:srgbClr val="000000"/>
      </a:dk1>
      <a:lt1>
        <a:srgbClr val="ccecff"/>
      </a:lt1>
      <a:dk2>
        <a:srgbClr val="000000"/>
      </a:dk2>
      <a:lt2>
        <a:srgbClr val="d6edee"/>
      </a:lt2>
      <a:accent1>
        <a:srgbClr val="e8f0f4"/>
      </a:accent1>
      <a:accent2>
        <a:srgbClr val="8eaafa"/>
      </a:accent2>
      <a:accent3>
        <a:srgbClr val="e2f4ff"/>
      </a:accent3>
      <a:accent4>
        <a:srgbClr val="000000"/>
      </a:accent4>
      <a:accent5>
        <a:srgbClr val="f2f6f8"/>
      </a:accent5>
      <a:accent6>
        <a:srgbClr val="809ae3"/>
      </a:accent6>
      <a:hlink>
        <a:srgbClr val="0066ff"/>
      </a:hlink>
      <a:folHlink>
        <a:srgbClr val="9947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Glass Layers 5">
      <a:dk1>
        <a:srgbClr val="000000"/>
      </a:dk1>
      <a:lt1>
        <a:srgbClr val="ccecff"/>
      </a:lt1>
      <a:dk2>
        <a:srgbClr val="000000"/>
      </a:dk2>
      <a:lt2>
        <a:srgbClr val="d6edee"/>
      </a:lt2>
      <a:accent1>
        <a:srgbClr val="e8f0f4"/>
      </a:accent1>
      <a:accent2>
        <a:srgbClr val="8eaafa"/>
      </a:accent2>
      <a:accent3>
        <a:srgbClr val="e2f4ff"/>
      </a:accent3>
      <a:accent4>
        <a:srgbClr val="000000"/>
      </a:accent4>
      <a:accent5>
        <a:srgbClr val="f2f6f8"/>
      </a:accent5>
      <a:accent6>
        <a:srgbClr val="809ae3"/>
      </a:accent6>
      <a:hlink>
        <a:srgbClr val="0066ff"/>
      </a:hlink>
      <a:folHlink>
        <a:srgbClr val="9947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Glass Layers 5">
      <a:dk1>
        <a:srgbClr val="000000"/>
      </a:dk1>
      <a:lt1>
        <a:srgbClr val="ccecff"/>
      </a:lt1>
      <a:dk2>
        <a:srgbClr val="000000"/>
      </a:dk2>
      <a:lt2>
        <a:srgbClr val="d6edee"/>
      </a:lt2>
      <a:accent1>
        <a:srgbClr val="e8f0f4"/>
      </a:accent1>
      <a:accent2>
        <a:srgbClr val="8eaafa"/>
      </a:accent2>
      <a:accent3>
        <a:srgbClr val="e2f4ff"/>
      </a:accent3>
      <a:accent4>
        <a:srgbClr val="000000"/>
      </a:accent4>
      <a:accent5>
        <a:srgbClr val="f2f6f8"/>
      </a:accent5>
      <a:accent6>
        <a:srgbClr val="809ae3"/>
      </a:accent6>
      <a:hlink>
        <a:srgbClr val="0066ff"/>
      </a:hlink>
      <a:folHlink>
        <a:srgbClr val="9947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Glass Layers 5">
      <a:dk1>
        <a:srgbClr val="000000"/>
      </a:dk1>
      <a:lt1>
        <a:srgbClr val="ccecff"/>
      </a:lt1>
      <a:dk2>
        <a:srgbClr val="000000"/>
      </a:dk2>
      <a:lt2>
        <a:srgbClr val="d6edee"/>
      </a:lt2>
      <a:accent1>
        <a:srgbClr val="e8f0f4"/>
      </a:accent1>
      <a:accent2>
        <a:srgbClr val="8eaafa"/>
      </a:accent2>
      <a:accent3>
        <a:srgbClr val="e2f4ff"/>
      </a:accent3>
      <a:accent4>
        <a:srgbClr val="000000"/>
      </a:accent4>
      <a:accent5>
        <a:srgbClr val="f2f6f8"/>
      </a:accent5>
      <a:accent6>
        <a:srgbClr val="809ae3"/>
      </a:accent6>
      <a:hlink>
        <a:srgbClr val="0066ff"/>
      </a:hlink>
      <a:folHlink>
        <a:srgbClr val="9947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6edee"/>
      </a:lt2>
      <a:accent1>
        <a:srgbClr val="e8f0f4"/>
      </a:accent1>
      <a:accent2>
        <a:srgbClr val="8eaafa"/>
      </a:accent2>
      <a:accent3>
        <a:srgbClr val="e2f4ff"/>
      </a:accent3>
      <a:accent4>
        <a:srgbClr val="000000"/>
      </a:accent4>
      <a:accent5>
        <a:srgbClr val="f2f6f8"/>
      </a:accent5>
      <a:accent6>
        <a:srgbClr val="809ae3"/>
      </a:accent6>
      <a:hlink>
        <a:srgbClr val="0066ff"/>
      </a:hlink>
      <a:folHlink>
        <a:srgbClr val="9947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lass Layers</Template>
  <TotalTime>0</TotalTime>
  <Application>LibreOffice/7.4.7.2$Linux_X86_64 LibreOffice_project/40$Build-2</Application>
  <AppVersion>15.0000</AppVersion>
  <Words>1176</Words>
  <Paragraphs>9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7-11-06T04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xinxing</cp:lastModifiedBy>
  <dcterms:modified xsi:type="dcterms:W3CDTF">2017-04-16T16:00:49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3</vt:r8>
  </property>
</Properties>
</file>