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537-95AA-411A-8478-8EE45298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CA1-6E9A-43E1-B534-6B46C0A4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63A-B425-4FC9-9A6F-E2D9B098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1CF-67C8-4A6B-98FF-E40E9695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070-38E2-4210-8F4C-7E1ED832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D5A-0C04-4845-9AB1-79983879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7FE-EB3D-458F-9188-3A97D6E0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37F-CD36-4E55-9468-36457C6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747-A574-46EE-9F02-4AE657D2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D44-B6DF-4F8C-B2A7-F656B63F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3C8-68E1-4BBB-BC77-F661223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E23-CBC9-4294-A41D-976DA730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FFBA-8190-4DF1-9591-5E33ABA2D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99f7"/>
            </a:gs>
            <a:gs pos="100000">
              <a:srgbClr val="fc9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440" y="1773360"/>
            <a:ext cx="89154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学语文第七册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火 烧 云</a:t>
            </a:r>
            <a:r>
              <a:rPr b="1" lang="zh-CN" sz="8000" spc="-1" strike="noStrike">
                <a:solidFill>
                  <a:srgbClr val="da7428"/>
                </a:solidFill>
                <a:latin typeface="黑体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31428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999f7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999f7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9"/>
          <p:cNvSpPr/>
          <p:nvPr/>
        </p:nvSpPr>
        <p:spPr>
          <a:xfrm>
            <a:off x="239940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五年级\周春田\79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D:\五年级\周春田\440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五年级\周春田\1180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五年级\周春田\46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五年级\周春田\790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五年级\周春田\190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五年级\周春田\680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五年级\周春田\3450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五年级\周春田\347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五年级\周春田\3470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3"/>
          <p:cNvSpPr txBox="1"/>
          <p:nvPr/>
        </p:nvSpPr>
        <p:spPr>
          <a:xfrm>
            <a:off x="1295280" y="1600200"/>
            <a:ext cx="586764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火烧云</a:t>
            </a:r>
            <a:endParaRPr b="1" i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五年级\周春田\395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五年级\周春田\58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五年级\周春田\68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五年级\周春田\930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五年级\周春田\4030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99f7"/>
            </a:gs>
            <a:gs pos="100000">
              <a:srgbClr val="fc9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914400"/>
            <a:ext cx="89154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火烧云的变化极多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颜色多                                                                                                                     形态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变化快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492120" y="6265800"/>
            <a:ext cx="62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533520" y="8380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 时 恍 恍 惚 惚的，天 空 里 又 像 这个，又 像 那 个，其 实 什 么 也 不 像，什么 也 看 不 清 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63A8-BFA7-45D2-9420-A69D784E98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D:\五年级\周春田\345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26" descr="D:\五年级\周春田\510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609480" y="11430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92a4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天 空 的 云 从 西 边一 直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烧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到 东 边， 红 彤 彤 的， 好 像 是 天 空 着 了 火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五年级\周春田\7900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99f7"/>
            </a:gs>
            <a:gs pos="100000">
              <a:srgbClr val="fc9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0" y="1219320"/>
            <a:ext cx="8915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火烧云的变化                                  极多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五年级\周春田\143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五年级\周春田\144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36:19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1:50Z</dcterms:modified>
  <cp:revision>38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