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A85-9736-4C2D-B0FA-A9E8E1A7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839-AD7C-4AF9-9D70-3ED27C27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020-AF86-462B-9CCE-41E4E0F2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C20-EDFF-4805-8801-8A453CE4E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76B-0F15-41F7-A2FD-74954223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F88-08C7-4127-9276-8BC19F23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A0B4-4686-46E1-8625-334A9612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A487-1285-44AD-968F-DA91ED6E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9604-08AC-4DDA-8E3C-696A62A3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4D1-54D9-4644-B364-2C619F4B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1FA-7C13-4B87-9F5F-D794A0A4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AF6-E2F7-445C-9354-A42CD29B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2839-5E0B-429E-BCFD-3143BB697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8"/>
          <p:cNvSpPr txBox="1"/>
          <p:nvPr/>
        </p:nvSpPr>
        <p:spPr>
          <a:xfrm>
            <a:off x="1908000" y="263700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回乡偶书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187280" y="981000"/>
            <a:ext cx="640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课标版小学语文二年级上册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2255040" y="5950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7" name="Picture 4" descr="图片1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6"/>
            <p:cNvSpPr/>
            <p:nvPr/>
          </p:nvSpPr>
          <p:spPr>
            <a:xfrm>
              <a:off x="611280" y="620640"/>
              <a:ext cx="813744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回乡偶书</a:t>
              </a:r>
              <a:r>
                <a:rPr b="1" lang="zh-CN" sz="32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（二）</a:t>
              </a:r>
              <a:r>
                <a:rPr b="0" lang="zh-CN" sz="4800" spc="-1" strike="noStrike">
                  <a:solidFill>
                    <a:srgbClr val="660033"/>
                  </a:solidFill>
                  <a:latin typeface="Arial"/>
                </a:rPr>
                <a:t> </a:t>
              </a:r>
              <a:r>
                <a:rPr b="0" lang="zh-CN" sz="4800" spc="-1" strike="noStrike">
                  <a:solidFill>
                    <a:srgbClr val="660033"/>
                  </a:solidFill>
                  <a:latin typeface="Arial"/>
                </a:rPr>
                <a:t>	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2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离 别 家 乡 岁 月 多，</a:t>
              </a:r>
              <a:br>
                <a:rPr sz="4800"/>
              </a:b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近 来 人 事 半 消 磨。</a:t>
              </a:r>
              <a:br>
                <a:rPr sz="4800"/>
              </a:b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惟 有 门 前 镜 湖 水，</a:t>
              </a:r>
              <a:br>
                <a:rPr sz="4800"/>
              </a:br>
              <a:r>
                <a:rPr b="1" lang="zh-CN" sz="4800" spc="-1" strike="noStrike">
                  <a:solidFill>
                    <a:srgbClr val="660033"/>
                  </a:solidFill>
                  <a:latin typeface="楷体_GB2312"/>
                  <a:ea typeface="楷体_GB2312"/>
                </a:rPr>
                <a:t>春 风 不 改 旧 时 波。</a:t>
              </a:r>
              <a:br>
                <a:rPr sz="4400"/>
              </a:br>
              <a:br>
                <a:rPr sz="3600"/>
              </a:b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9677A-E4AE-4340-9D09-F91DCC1658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779480" y="1617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241200" y="6392880"/>
            <a:ext cx="612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0" name="Picture 4" descr="图片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6"/>
            <p:cNvSpPr/>
            <p:nvPr/>
          </p:nvSpPr>
          <p:spPr>
            <a:xfrm>
              <a:off x="755640" y="476280"/>
              <a:ext cx="7632720" cy="9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1" lang="zh-CN" sz="3600" spc="-1" strike="noStrike">
                  <a:solidFill>
                    <a:srgbClr val="660033"/>
                  </a:solidFill>
                  <a:latin typeface="Arial"/>
                </a:rPr>
                <a:t>贺知章生活在一千多年前的唐朝。他年轻的时候就离开了家乡，后来一直在外面做官，到了八十多岁的时候才回到了故乡。这首诗就是贺知章老先生回到家乡时写下来的。他一共写了两首</a:t>
              </a:r>
              <a:r>
                <a:rPr b="1" lang="en-US" sz="3600" spc="-1" strike="noStrike">
                  <a:solidFill>
                    <a:srgbClr val="660033"/>
                  </a:solidFill>
                  <a:latin typeface="Arial"/>
                </a:rPr>
                <a:t>《</a:t>
              </a:r>
              <a:r>
                <a:rPr b="1" lang="zh-CN" sz="3600" spc="-1" strike="noStrike">
                  <a:solidFill>
                    <a:srgbClr val="660033"/>
                  </a:solidFill>
                  <a:latin typeface="Arial"/>
                </a:rPr>
                <a:t>回乡偶书</a:t>
              </a:r>
              <a:r>
                <a:rPr b="1" lang="en-US" sz="3600" spc="-1" strike="noStrike">
                  <a:solidFill>
                    <a:srgbClr val="660033"/>
                  </a:solidFill>
                  <a:latin typeface="Arial"/>
                </a:rPr>
                <a:t>》</a:t>
              </a:r>
              <a:r>
                <a:rPr b="1" lang="zh-CN" sz="3600" spc="-1" strike="noStrike">
                  <a:solidFill>
                    <a:srgbClr val="660033"/>
                  </a:solidFill>
                  <a:latin typeface="Arial"/>
                </a:rPr>
                <a:t>，我们今天学的是第一首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" name="Picture 4" descr="图片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5"/>
            <p:cNvSpPr/>
            <p:nvPr/>
          </p:nvSpPr>
          <p:spPr>
            <a:xfrm>
              <a:off x="826920" y="476280"/>
              <a:ext cx="7344000" cy="23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自由读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《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回乡偶书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》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，要求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、读准生字的字音，有节奏地读通诗句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、借助词语手册理解新词语的意思，想想每句诗大概讲了什么意思，实在不明白的划上横线准备提问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 flipV="1">
            <a:off x="457200" y="-964440"/>
            <a:ext cx="1450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生字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900000" y="907920"/>
            <a:ext cx="755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9640" y="1557360"/>
            <a:ext cx="820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偶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然     乡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音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鬓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68360" y="4365720"/>
            <a:ext cx="8388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衰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老　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客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人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何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11280" y="62064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ǒ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924360" y="6206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y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ī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084720" y="620640"/>
            <a:ext cx="136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bìn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0" y="3284640"/>
            <a:ext cx="295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shu</a:t>
            </a: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ā</a:t>
            </a: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348000" y="328464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k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84720" y="3284640"/>
            <a:ext cx="11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hé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7" name="Picture 4" descr="图片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5"/>
            <p:cNvSpPr/>
            <p:nvPr/>
          </p:nvSpPr>
          <p:spPr>
            <a:xfrm>
              <a:off x="1042920" y="1413000"/>
              <a:ext cx="7274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偶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然     乡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音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　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鬓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毛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6"/>
            <p:cNvSpPr/>
            <p:nvPr/>
          </p:nvSpPr>
          <p:spPr>
            <a:xfrm>
              <a:off x="971640" y="2997360"/>
              <a:ext cx="741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衰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老　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客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人   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何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处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1403280" y="333360"/>
            <a:ext cx="676908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回 乡 偶 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少 小 离 家 老 大 回 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乡 音 无 改 鬓 毛 衰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儿 童 相 见 不 相 识 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笑 问 客 从 何 处 来 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">
            <a:hlinkClick r:id="" action="ppaction://hlinkshowjump?jump=nextslide"/>
          </p:cNvPr>
          <p:cNvSpPr/>
          <p:nvPr/>
        </p:nvSpPr>
        <p:spPr>
          <a:xfrm>
            <a:off x="8028000" y="6021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>
            <a:hlinkClick r:id="rId2" action="ppaction://hlinksldjump"/>
          </p:cNvPr>
          <p:cNvSpPr/>
          <p:nvPr/>
        </p:nvSpPr>
        <p:spPr>
          <a:xfrm>
            <a:off x="6948360" y="6021360"/>
            <a:ext cx="503280" cy="35892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0279" h="21600">
                <a:moveTo>
                  <a:pt x="0" y="0"/>
                </a:moveTo>
                <a:lnTo>
                  <a:pt x="30279" y="0"/>
                </a:lnTo>
                <a:lnTo>
                  <a:pt x="30279" y="21600"/>
                </a:lnTo>
                <a:lnTo>
                  <a:pt x="0" y="21600"/>
                </a:lnTo>
                <a:close/>
              </a:path>
              <a:path fill="lightenLess" w="30279" h="21600">
                <a:moveTo>
                  <a:pt x="0" y="0"/>
                </a:moveTo>
                <a:lnTo>
                  <a:pt x="30279" y="0"/>
                </a:lnTo>
                <a:lnTo>
                  <a:pt x="28879" y="1400"/>
                </a:lnTo>
                <a:lnTo>
                  <a:pt x="1400" y="1400"/>
                </a:lnTo>
                <a:close/>
              </a:path>
              <a:path fill="darken" w="30279" h="21600">
                <a:moveTo>
                  <a:pt x="30279" y="0"/>
                </a:moveTo>
                <a:lnTo>
                  <a:pt x="30279" y="21600"/>
                </a:lnTo>
                <a:lnTo>
                  <a:pt x="28879" y="20200"/>
                </a:lnTo>
                <a:lnTo>
                  <a:pt x="28879" y="1400"/>
                </a:lnTo>
                <a:close/>
              </a:path>
              <a:path fill="darkenLess" w="30279" h="21600">
                <a:moveTo>
                  <a:pt x="30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79" y="20200"/>
                </a:lnTo>
                <a:close/>
              </a:path>
              <a:path fill="lighten" w="30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79" h="21600">
                <a:moveTo>
                  <a:pt x="8133" y="3794"/>
                </a:moveTo>
                <a:lnTo>
                  <a:pt x="22146" y="10800"/>
                </a:lnTo>
                <a:lnTo>
                  <a:pt x="81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8">
            <a:hlinkClick r:id="" action="ppaction://hlinkshowjump?jump=lastslide"/>
          </p:cNvPr>
          <p:cNvSpPr/>
          <p:nvPr/>
        </p:nvSpPr>
        <p:spPr>
          <a:xfrm>
            <a:off x="5796000" y="602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20766" y="10800"/>
                </a:moveTo>
                <a:lnTo>
                  <a:pt x="10261" y="17806"/>
                </a:lnTo>
                <a:lnTo>
                  <a:pt x="10261" y="3794"/>
                </a:lnTo>
                <a:close/>
              </a:path>
              <a:path fill="darken" w="34534" h="21600">
                <a:moveTo>
                  <a:pt x="22611" y="3794"/>
                </a:moveTo>
                <a:lnTo>
                  <a:pt x="22611" y="17806"/>
                </a:lnTo>
                <a:lnTo>
                  <a:pt x="24274" y="17806"/>
                </a:lnTo>
                <a:lnTo>
                  <a:pt x="24274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图片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900000" y="2060640"/>
            <a:ext cx="74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虽然我说话时家乡的口音没有改变，但是耳朵旁边的鬓发都已经白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900000" y="69228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年纪轻轻就离开了家乡</a:t>
            </a:r>
            <a:r>
              <a:rPr b="1" lang="zh-TW" sz="3200" spc="-1" strike="noStrike">
                <a:solidFill>
                  <a:srgbClr val="ff3300"/>
                </a:solidFill>
                <a:latin typeface="Arial"/>
              </a:rPr>
              <a:t>，到了晚年才回家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900000" y="357336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村里的孩子看见我都不认识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900000" y="458136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都笑嘻嘻地问我：“老爷爷，您是从哪儿来的呀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>
            <a:hlinkClick r:id="" action="ppaction://hlinkshowjump?jump=previousslide"/>
          </p:cNvPr>
          <p:cNvSpPr/>
          <p:nvPr/>
        </p:nvSpPr>
        <p:spPr>
          <a:xfrm>
            <a:off x="7740720" y="5950080"/>
            <a:ext cx="792000" cy="3585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47685" h="21600">
                <a:moveTo>
                  <a:pt x="0" y="0"/>
                </a:moveTo>
                <a:lnTo>
                  <a:pt x="47685" y="0"/>
                </a:lnTo>
                <a:lnTo>
                  <a:pt x="47685" y="21600"/>
                </a:lnTo>
                <a:lnTo>
                  <a:pt x="0" y="21600"/>
                </a:lnTo>
                <a:close/>
              </a:path>
              <a:path fill="lightenLess" w="47685" h="21600">
                <a:moveTo>
                  <a:pt x="0" y="0"/>
                </a:moveTo>
                <a:lnTo>
                  <a:pt x="47685" y="0"/>
                </a:lnTo>
                <a:lnTo>
                  <a:pt x="46285" y="1400"/>
                </a:lnTo>
                <a:lnTo>
                  <a:pt x="1400" y="1400"/>
                </a:lnTo>
                <a:close/>
              </a:path>
              <a:path fill="darken" w="47685" h="21600">
                <a:moveTo>
                  <a:pt x="47685" y="0"/>
                </a:moveTo>
                <a:lnTo>
                  <a:pt x="47685" y="21600"/>
                </a:lnTo>
                <a:lnTo>
                  <a:pt x="46285" y="20200"/>
                </a:lnTo>
                <a:lnTo>
                  <a:pt x="46285" y="1400"/>
                </a:lnTo>
                <a:close/>
              </a:path>
              <a:path fill="darkenLess" w="47685" h="21600">
                <a:moveTo>
                  <a:pt x="476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85" y="20200"/>
                </a:lnTo>
                <a:close/>
              </a:path>
              <a:path fill="lighten" w="476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85" h="21600">
                <a:moveTo>
                  <a:pt x="16836" y="10800"/>
                </a:moveTo>
                <a:lnTo>
                  <a:pt x="30849" y="3794"/>
                </a:lnTo>
                <a:lnTo>
                  <a:pt x="3084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5">
            <a:hlinkClick r:id="rId1" action="ppaction://hlinksldjump"/>
          </p:cNvPr>
          <p:cNvSpPr/>
          <p:nvPr/>
        </p:nvSpPr>
        <p:spPr>
          <a:xfrm>
            <a:off x="7956720" y="6165720"/>
            <a:ext cx="792000" cy="35892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7637" h="21600">
                <a:moveTo>
                  <a:pt x="0" y="0"/>
                </a:moveTo>
                <a:lnTo>
                  <a:pt x="47637" y="0"/>
                </a:lnTo>
                <a:lnTo>
                  <a:pt x="47637" y="21600"/>
                </a:lnTo>
                <a:lnTo>
                  <a:pt x="0" y="21600"/>
                </a:lnTo>
                <a:close/>
              </a:path>
              <a:path fill="lightenLess" w="47637" h="21600">
                <a:moveTo>
                  <a:pt x="0" y="0"/>
                </a:moveTo>
                <a:lnTo>
                  <a:pt x="47637" y="0"/>
                </a:lnTo>
                <a:lnTo>
                  <a:pt x="46237" y="1400"/>
                </a:lnTo>
                <a:lnTo>
                  <a:pt x="1400" y="1400"/>
                </a:lnTo>
                <a:close/>
              </a:path>
              <a:path fill="darken" w="47637" h="21600">
                <a:moveTo>
                  <a:pt x="47637" y="0"/>
                </a:moveTo>
                <a:lnTo>
                  <a:pt x="47637" y="21600"/>
                </a:lnTo>
                <a:lnTo>
                  <a:pt x="46237" y="20200"/>
                </a:lnTo>
                <a:lnTo>
                  <a:pt x="46237" y="1400"/>
                </a:lnTo>
                <a:close/>
              </a:path>
              <a:path fill="darkenLess" w="47637" h="21600">
                <a:moveTo>
                  <a:pt x="47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237" y="20200"/>
                </a:lnTo>
                <a:close/>
              </a:path>
              <a:path fill="lighten" w="47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637" h="21600">
                <a:moveTo>
                  <a:pt x="16812" y="10800"/>
                </a:moveTo>
                <a:lnTo>
                  <a:pt x="30825" y="3794"/>
                </a:lnTo>
                <a:lnTo>
                  <a:pt x="308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7"/>
          <p:cNvGrpSpPr/>
          <p:nvPr/>
        </p:nvGrpSpPr>
        <p:grpSpPr>
          <a:xfrm>
            <a:off x="0" y="-3240"/>
            <a:ext cx="9144000" cy="6861240"/>
            <a:chOff x="0" y="-3240"/>
            <a:chExt cx="9144000" cy="6861240"/>
          </a:xfrm>
        </p:grpSpPr>
        <p:pic>
          <p:nvPicPr>
            <p:cNvPr id="83" name="Picture 4" descr="pic_228261"/>
            <p:cNvPicPr/>
            <p:nvPr/>
          </p:nvPicPr>
          <p:blipFill>
            <a:blip r:embed="rId2"/>
            <a:stretch/>
          </p:blipFill>
          <p:spPr>
            <a:xfrm>
              <a:off x="0" y="-324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6"/>
            <p:cNvSpPr/>
            <p:nvPr/>
          </p:nvSpPr>
          <p:spPr>
            <a:xfrm>
              <a:off x="250920" y="620640"/>
              <a:ext cx="460836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儿童相见不相识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  <a:ea typeface="楷体_GB2312"/>
                </a:rPr>
                <a:t>笑问客从何处来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AutoShape 8">
            <a:hlinkClick r:id="rId3" action="ppaction://hlinksldjump"/>
          </p:cNvPr>
          <p:cNvSpPr/>
          <p:nvPr/>
        </p:nvSpPr>
        <p:spPr>
          <a:xfrm>
            <a:off x="8028000" y="609300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10800"/>
                </a:moveTo>
                <a:lnTo>
                  <a:pt x="25033" y="3794"/>
                </a:lnTo>
                <a:lnTo>
                  <a:pt x="250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4:25:48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25:43Z</dcterms:modified>
  <cp:revision>12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