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A185-3858-4406-9CF8-12467FEB0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8B2D-5766-4BE4-8B0C-9138CC003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99C-DCB0-426A-A572-C91A4EE1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F47-58C6-4E13-8B73-C321453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4AA-F1B2-42C1-9ED1-DDDB4B06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46F-CF83-4299-8EEC-3FCE08BF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DCD-98C6-4604-941D-4745FE6E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CAB-5183-4801-86AC-BC3DBBE0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0A6-8DB9-42FF-88C8-34760DB1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782-0644-49AF-9562-AD8C2EF3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242-F8F3-49D0-8E32-FD9D5A85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37B-C3B4-4813-AEE4-44FF36BB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DDC-B079-4C98-86F0-39300F2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591-0C84-4913-ABB1-D0A7B59A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7B60-363E-4BE4-BA77-B0938FEC0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5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3"/>
          <p:cNvSpPr/>
          <p:nvPr/>
        </p:nvSpPr>
        <p:spPr>
          <a:xfrm>
            <a:off x="1998720" y="4933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页脚占位符 2"/>
          <p:cNvSpPr/>
          <p:nvPr/>
        </p:nvSpPr>
        <p:spPr>
          <a:xfrm>
            <a:off x="2411280" y="624852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3360" y="0"/>
            <a:ext cx="160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核舟记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Object 6" descr=""/>
          <p:cNvPicPr/>
          <p:nvPr/>
        </p:nvPicPr>
        <p:blipFill>
          <a:blip r:embed="rId2"/>
          <a:stretch/>
        </p:blipFill>
        <p:spPr>
          <a:xfrm>
            <a:off x="120600" y="3200400"/>
            <a:ext cx="868680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781680" y="6094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文学常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858000" y="10666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字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6858000" y="16765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通假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858000" y="29718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特殊句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85800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一词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934320" y="35053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数量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858480" y="2666880"/>
            <a:ext cx="1399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魏学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447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通计一舟为人五，为窗八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371600" y="1447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舟　人五　　窗八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总计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条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（上）刻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五个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八扇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3"/>
          <p:cNvSpPr/>
          <p:nvPr/>
        </p:nvSpPr>
        <p:spPr>
          <a:xfrm rot="5460600">
            <a:off x="4002480" y="211680"/>
            <a:ext cx="544320" cy="2095560"/>
          </a:xfrm>
          <a:custGeom>
            <a:avLst/>
            <a:gdLst>
              <a:gd name="textAreaLeft" fmla="*/ 347760 w 544320"/>
              <a:gd name="textAreaRight" fmla="*/ 544680 w 544320"/>
              <a:gd name="textAreaTop" fmla="*/ 54360 h 2095560"/>
              <a:gd name="textAreaBottom" fmla="*/ 2041200 h 209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2819520" y="380880"/>
            <a:ext cx="281916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7"/>
          <p:cNvSpPr/>
          <p:nvPr/>
        </p:nvSpPr>
        <p:spPr>
          <a:xfrm rot="16140000">
            <a:off x="6508440" y="1567800"/>
            <a:ext cx="546120" cy="2743200"/>
          </a:xfrm>
          <a:custGeom>
            <a:avLst/>
            <a:gdLst>
              <a:gd name="textAreaLeft" fmla="*/ 348840 w 546120"/>
              <a:gd name="textAreaRight" fmla="*/ 546120 w 5461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5486400" y="3276720"/>
            <a:ext cx="3657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5334120" y="3352680"/>
            <a:ext cx="342900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量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1060920" y="974880"/>
            <a:ext cx="651960" cy="69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304920" y="380880"/>
            <a:ext cx="243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228600" y="380880"/>
            <a:ext cx="228600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 flipH="1" flipV="1">
            <a:off x="2159280" y="2682360"/>
            <a:ext cx="393120" cy="64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838080" y="3352680"/>
            <a:ext cx="358164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量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80880" y="4191120"/>
            <a:ext cx="85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结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言的中可直接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数词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或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名词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数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代文中必须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数词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量词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7848720" y="6172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2D6D-53FB-434A-AC72-C8E4AF05D1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1979640" y="6248520"/>
            <a:ext cx="46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380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7200" y="14479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>
            <a:hlinkClick r:id="rId2" action="ppaction://hlinksldjump"/>
          </p:cNvPr>
          <p:cNvSpPr/>
          <p:nvPr/>
        </p:nvSpPr>
        <p:spPr>
          <a:xfrm>
            <a:off x="533520" y="7621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核舟记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选自清朝人张潮编辑的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虞 初新志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。作者魏学洢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约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596--1625)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字子敬，明末嘉善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现在浙江嘉兴县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人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7620120" y="64008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1"/>
          <p:cNvSpPr/>
          <p:nvPr/>
        </p:nvSpPr>
        <p:spPr>
          <a:xfrm>
            <a:off x="533520" y="519732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380880"/>
            <a:ext cx="80773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魏学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洢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)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器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皿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  )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贻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)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奇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   )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篛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篷      石青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糁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之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髯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  )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属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 )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诎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  )    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楫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 )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743200" y="457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ī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638680" y="38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ĭ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76520" y="1523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yí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943600" y="1523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j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295280" y="26668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ru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324480" y="26668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ă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371600" y="3809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ră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86728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hŭ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447920" y="4876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q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5638680" y="48769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jí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7848720" y="6095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8088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舟首尾长约八分有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876920" y="685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__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486400" y="3049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：同“又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80880" y="1447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诎右臂支船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447920" y="1523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267080" y="14479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诎：同“屈”。弯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80880" y="24382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左手倚一衡木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352680" y="23623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648320" y="24382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衡：同“横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80880" y="35053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盖简桃核修狭者为之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752480" y="34290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143000" y="43434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简：同“拣”，挑选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7315200" y="6400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838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9907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143000" y="76212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295280" y="5335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木头、木材：“能以径寸之木”。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95280" y="16002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树：“以至鸟兽、木石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 flipH="1">
            <a:off x="304920" y="37339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1143000" y="2971800"/>
            <a:ext cx="228600" cy="2514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371600" y="3048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叫做：“明有奇巧人曰王 叔远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447920" y="44956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：“文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‘初平山人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端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1295280" y="228600"/>
            <a:ext cx="381240" cy="2362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52480" y="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右侧：“东坡右手执卷端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52480" y="1676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直、正：“其人视端容寂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0948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219320" y="3276720"/>
            <a:ext cx="457200" cy="3047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828800" y="32004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：“中峨冠而多髯者为东坡。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752480" y="50292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雕刻：“为楫、为炉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620120" y="617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33520" y="457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省略句式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505320" y="380880"/>
            <a:ext cx="563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各隐卷底衣褶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隐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后省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则题名其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后省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352680" y="380880"/>
            <a:ext cx="76320" cy="2667240"/>
          </a:xfrm>
          <a:custGeom>
            <a:avLst/>
            <a:gdLst>
              <a:gd name="textAreaLeft" fmla="*/ 48960 w 76320"/>
              <a:gd name="textAreaRight" fmla="*/ 76320 w 7632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57200" y="46483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定语后置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581280" y="411480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两膝相比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定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中心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后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；标志定语后置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3200400" y="4114800"/>
            <a:ext cx="228600" cy="2514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335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双宾语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971800" y="25909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尝贻余核舟一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双宾语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余，核舟一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2819520" y="24382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620120" y="60199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言文使用数量词和现代文不同之处是什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14400" y="1523880"/>
            <a:ext cx="6477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苏、黄共阅一手卷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舟尾横卧一楫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又用篆章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886200" y="1523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一手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29000" y="320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一楫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51460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篆章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600200" y="2590920"/>
            <a:ext cx="6629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苏、黄两人一起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幅手卷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船尾横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只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还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颗篆文图章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12:35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9:31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