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192-EB48-4C4A-9ED9-1FAF50AD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3D3-2923-442E-A90A-8DF027AB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5FF-EFB2-416F-8A03-ACEA7826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0B6-2EAA-4BD7-9350-3191BD80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35C2-7968-4BB7-A9B2-16380EE3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CCFD-DBFC-4C42-998E-3CCA00C7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0D18-E20D-44EF-B133-9DB45E3D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951E-5FD5-4E08-857A-9166B812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BBFF-85F2-4C73-BE42-8A6FD1D7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ECC6-8ED3-43F7-A493-C7F9D775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9359-C0AF-4F5C-8318-6BAD38F1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AFD-27FD-414F-BB54-0C74B766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D883-AEB6-491D-B6F0-DF5DE85D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7019-5183-4F37-A03D-A066B42B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6E55-612E-444F-AF6D-58F7A8B0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9AE7-E31B-4F92-BF99-8F7D58C6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551B-E04A-4B51-BD9A-29AD1EFB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D85-D894-4F02-B930-A1EBD64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C27-8D3C-4677-84B0-9530480C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DB6-246D-4FAE-804F-44DA34B4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1A5-2A2E-4190-B18A-D23DAB4A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AC8-12A6-4740-93C1-335865E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844-E0C9-412D-8BDC-097F07B5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575-3A43-45B3-B91E-0A0C2845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BF2F-324A-4AC0-89B7-46D37382E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1D43-FA16-4F93-A3BF-C385726DD596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>
            <a:off x="2255040" y="54118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矩形 11" descr=""/>
          <p:cNvPicPr/>
          <p:nvPr/>
        </p:nvPicPr>
        <p:blipFill>
          <a:blip r:embed="rId1"/>
          <a:stretch/>
        </p:blipFill>
        <p:spPr>
          <a:xfrm>
            <a:off x="395280" y="1365120"/>
            <a:ext cx="8424720" cy="2802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Picture 4" descr="邮票1"/>
          <p:cNvPicPr/>
          <p:nvPr/>
        </p:nvPicPr>
        <p:blipFill>
          <a:blip r:embed="rId1"/>
          <a:stretch/>
        </p:blipFill>
        <p:spPr>
          <a:xfrm>
            <a:off x="4211640" y="314172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邮票2"/>
          <p:cNvPicPr/>
          <p:nvPr/>
        </p:nvPicPr>
        <p:blipFill>
          <a:blip r:embed="rId2"/>
          <a:stretch/>
        </p:blipFill>
        <p:spPr>
          <a:xfrm>
            <a:off x="5796000" y="1125360"/>
            <a:ext cx="1584360" cy="194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邮票"/>
          <p:cNvPicPr/>
          <p:nvPr/>
        </p:nvPicPr>
        <p:blipFill>
          <a:blip r:embed="rId3"/>
          <a:stretch/>
        </p:blipFill>
        <p:spPr>
          <a:xfrm>
            <a:off x="1403280" y="1052640"/>
            <a:ext cx="2448000" cy="2232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958040" y="5288040"/>
            <a:ext cx="481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llect  stamp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Picture 4" descr="bj03修改"/>
          <p:cNvPicPr/>
          <p:nvPr/>
        </p:nvPicPr>
        <p:blipFill>
          <a:blip r:embed="rId1"/>
          <a:stretch/>
        </p:blipFill>
        <p:spPr>
          <a:xfrm>
            <a:off x="1692360" y="765000"/>
            <a:ext cx="5256000" cy="4176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176560" y="5300640"/>
            <a:ext cx="462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make kites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195640" y="5445000"/>
            <a:ext cx="56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play the violin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Picture 6" descr="bj09修改"/>
          <p:cNvPicPr/>
          <p:nvPr/>
        </p:nvPicPr>
        <p:blipFill>
          <a:blip r:embed="rId1"/>
          <a:stretch/>
        </p:blipFill>
        <p:spPr>
          <a:xfrm>
            <a:off x="2484360" y="476280"/>
            <a:ext cx="4680000" cy="4897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79480" y="2008080"/>
            <a:ext cx="7077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What  is  your  </a:t>
            </a:r>
            <a:r>
              <a:rPr b="0" lang="en-US" sz="5400" spc="-1" strike="noStrike">
                <a:solidFill>
                  <a:srgbClr val="cc0066"/>
                </a:solidFill>
                <a:latin typeface="Arial"/>
              </a:rPr>
              <a:t>hobby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I  like  (-ing)…..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16000" y="2565360"/>
          <a:ext cx="7201080" cy="3672000"/>
        </p:xfrm>
        <a:graphic>
          <a:graphicData uri="http://schemas.openxmlformats.org/drawingml/2006/table">
            <a:tbl>
              <a:tblPr/>
              <a:tblGrid>
                <a:gridCol w="1857240"/>
                <a:gridCol w="534384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obby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29"/>
          <p:cNvSpPr/>
          <p:nvPr/>
        </p:nvSpPr>
        <p:spPr>
          <a:xfrm>
            <a:off x="2195640" y="1052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Investigation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03120" y="1633680"/>
            <a:ext cx="491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50760" y="150480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0820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11280" y="2708280"/>
            <a:ext cx="813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Make a  survey in your family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Ask your parents what they like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as this form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. Make sentences with: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What is your hobby? I  like …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743120" y="2060640"/>
            <a:ext cx="225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1116000" y="1125360"/>
            <a:ext cx="6985080" cy="35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Thank you!!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2286000" y="5056200"/>
            <a:ext cx="62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5045-4135-4771-B2F8-1FCC401187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76200" y="765000"/>
            <a:ext cx="786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00"/>
                </a:solidFill>
                <a:latin typeface="Arial"/>
              </a:rPr>
              <a:t>Numbers numbers          1  2   3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bers  count  for  you and  me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Count with  numbers      1   2   3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ff"/>
                </a:solidFill>
                <a:latin typeface="Arial"/>
              </a:rPr>
              <a:t>1  2   3   4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3059280" y="1341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Picture 4" descr="姚明"/>
          <p:cNvPicPr/>
          <p:nvPr/>
        </p:nvPicPr>
        <p:blipFill>
          <a:blip r:embed="rId1"/>
          <a:stretch/>
        </p:blipFill>
        <p:spPr>
          <a:xfrm>
            <a:off x="1908000" y="765000"/>
            <a:ext cx="4680000" cy="4319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619280" y="53737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He  is 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laying  basketball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Picture 5" descr="running"/>
          <p:cNvPicPr/>
          <p:nvPr/>
        </p:nvPicPr>
        <p:blipFill>
          <a:blip r:embed="rId1"/>
          <a:stretch/>
        </p:blipFill>
        <p:spPr>
          <a:xfrm>
            <a:off x="2340000" y="836640"/>
            <a:ext cx="4176720" cy="3887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1835280" y="508464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ey are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unning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Picture 4" descr="swimming"/>
          <p:cNvPicPr/>
          <p:nvPr/>
        </p:nvPicPr>
        <p:blipFill>
          <a:blip r:embed="rId1"/>
          <a:stretch/>
        </p:blipFill>
        <p:spPr>
          <a:xfrm>
            <a:off x="1979640" y="765000"/>
            <a:ext cx="5113440" cy="4176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029680" y="5288040"/>
            <a:ext cx="487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He  is 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wimming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Picture 4" descr="未命名"/>
          <p:cNvPicPr/>
          <p:nvPr/>
        </p:nvPicPr>
        <p:blipFill>
          <a:blip r:embed="rId1"/>
          <a:stretch/>
        </p:blipFill>
        <p:spPr>
          <a:xfrm>
            <a:off x="1692360" y="260280"/>
            <a:ext cx="5975280" cy="4321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103480" y="552276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103480" y="5157720"/>
            <a:ext cx="44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ride  a  bike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4" descr="郭"/>
          <p:cNvPicPr/>
          <p:nvPr/>
        </p:nvPicPr>
        <p:blipFill>
          <a:blip r:embed="rId1"/>
          <a:stretch/>
        </p:blipFill>
        <p:spPr>
          <a:xfrm>
            <a:off x="1116000" y="620640"/>
            <a:ext cx="3529080" cy="482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跳水"/>
          <p:cNvPicPr/>
          <p:nvPr/>
        </p:nvPicPr>
        <p:blipFill>
          <a:blip r:embed="rId2"/>
          <a:stretch/>
        </p:blipFill>
        <p:spPr>
          <a:xfrm>
            <a:off x="4643280" y="620640"/>
            <a:ext cx="3167280" cy="48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Picture 4" descr="bj02修改"/>
          <p:cNvPicPr/>
          <p:nvPr/>
        </p:nvPicPr>
        <p:blipFill>
          <a:blip r:embed="rId1"/>
          <a:stretch/>
        </p:blipFill>
        <p:spPr>
          <a:xfrm>
            <a:off x="2340000" y="98100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255840" y="4941720"/>
            <a:ext cx="318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dive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Picture 4" descr="邮票1"/>
          <p:cNvPicPr/>
          <p:nvPr/>
        </p:nvPicPr>
        <p:blipFill>
          <a:blip r:embed="rId1"/>
          <a:stretch/>
        </p:blipFill>
        <p:spPr>
          <a:xfrm>
            <a:off x="3132000" y="1125360"/>
            <a:ext cx="2664000" cy="3672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401640" y="508968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stamp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07:04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5:38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