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C675-76B4-4A92-9439-850023C7F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130B-FAEE-4558-BEC5-FC8A80C8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0E18-C51C-4FC4-B69E-C70908B2B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4452-4126-4FBA-8777-E8C0FEDB2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5931-76CF-46F0-94C3-798A62D3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4D34-E903-4B6D-AA8D-564B2DDD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7112-AF3E-4883-AF9E-1B06D8A4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B9B3-8117-4D0B-A813-712A81F2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9AD2-01D7-481A-8888-96E1AF04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6FC1-10B9-4EF2-8ABD-2FB9F13B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97A4-0D82-4405-BBD6-C6CB4342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72B6-2CD4-4002-B1F0-498A2132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4AB1-4B9E-4F22-869D-6CBC459FF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916286201&amp;tn=baiduimagedetail&amp;word=3d&#22721;&#32440;&amp;in=20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hyperlink" Target="http://image.baidu.com/i?ct=503316480&amp;z=694581301&amp;tn=baiduimagedetail&amp;word=&#22681;&#32440;&amp;in=43" TargetMode="Externa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317655703&amp;tn=baiduimagedetail&amp;word=&#33487;&#36732;&amp;in=8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.baidu.com/i?ct=503316480&amp;z=566353851&amp;tn=baiduimagedetail&amp;word=&#33487;&#36732;&amp;in=9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.baidu.com/i?ct=503316480&amp;z=68861403&amp;tn=baiduimagedetail&amp;word=&#33487;&#36732;&amp;in=21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.baidu.com/i?ct=503316480&amp;z=515758403&amp;tn=baiduimagedetail&amp;word=&#33487;&#36732;&amp;in=25" TargetMode="Externa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91992300&amp;tn=baiduimagedetail&amp;word=&#25554;&#30011;&amp;in=29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897688900&amp;tn=baiduimagedetail&amp;word=3d&#22721;&#32440;&amp;in=3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247681352&amp;tn=baiduimagedetail&amp;word=3d&#22721;&#32440;&amp;in=9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916286201&amp;tn=baiduimagedetail&amp;word=3d&#22721;&#32440;&amp;in=20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916286201&amp;tn=baiduimagedetail&amp;word=3d&#22721;&#32440;&amp;in=20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916286201&amp;tn=baiduimagedetail&amp;word=3d&#22721;&#32440;&amp;in=20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0" y="331920"/>
            <a:ext cx="9144000" cy="6543720"/>
          </a:xfrm>
          <a:prstGeom prst="rect">
            <a:avLst/>
          </a:prstGeom>
          <a:ln w="0">
            <a:noFill/>
          </a:ln>
        </p:spPr>
      </p:pic>
      <p:sp>
        <p:nvSpPr>
          <p:cNvPr id="42" name="页脚占位符 4"/>
          <p:cNvSpPr/>
          <p:nvPr/>
        </p:nvSpPr>
        <p:spPr>
          <a:xfrm>
            <a:off x="2627280" y="6245280"/>
            <a:ext cx="417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874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方正粗活意简体"/>
                <a:ea typeface="方正粗活意简体"/>
              </a:rPr>
              <a:t>江城子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6000" spc="-1" strike="noStrike">
                <a:solidFill>
                  <a:srgbClr val="ff0000"/>
                </a:solidFill>
                <a:latin typeface="方正北魏楷书简体"/>
                <a:ea typeface="方正北魏楷书简体"/>
              </a:rPr>
              <a:t>密州出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508720" y="2276640"/>
            <a:ext cx="27352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苏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1"/>
          <p:cNvSpPr/>
          <p:nvPr/>
        </p:nvSpPr>
        <p:spPr>
          <a:xfrm>
            <a:off x="2800440" y="6356520"/>
            <a:ext cx="42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之家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u=1464684094,2088353754&amp;gp=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rial"/>
              </a:rPr>
              <a:t>谢谢观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3B5B-5F01-48A3-A2F2-D6B45F366A0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7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u=163894829,260275535&amp;gp=1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苏轼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3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），字子瞻，号东坡居士，四川眉山人，北宋杰出文学家、书画家，与父苏洵、弟苏辙并称“三苏”。苏轼二十一岁中进士，神宗时期曾在凤翔、杭州、密州、徐州、湖州等地任职。元丰三年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8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）因“乌台诗案”受诬陷被贬黄州任团练副使，在黄州四年多曾于城东之东 坡开荒种田，故自号“东坡居士”。哲宗即位后，曾任翰林学士、侍读学士、礼部尚书等职，并出知杭州、颍州、扬州、定州等地，晚年被贬惠州、儋州。大赦北还，途中病死在常州，葬于河南郏县，追谥文忠公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在任地方长官期间，苏轼关心民众疾苦，做了许多利民的好事，深受民众拥戴。苏轼博学多才，是著名的散文家，为唐宋八大家之一，其文学作品标志着北宋文学创作的最高成就；苏轼是著名诗人，他同宋代著名诗人黄庭坚并称为“苏黄”；苏轼为杰出的词人，开辟了豪放词风，他同杰出词人辛弃疾并称为“苏辛”，对后世产生了很大的影响；苏轼是著名的书法家，他同黄庭坚、米芾、蔡襄并称“宋四家”；苏轼还是著名的画家。此外，在农田水利、教育、音乐、医药、数学、金石、美学、烹饪等方面也都取得了重要的成就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u=494025536,2522010090&amp;gp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189000"/>
            <a:ext cx="2411280" cy="4508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u=992637027,1870166206&amp;gp=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40360" y="404640"/>
            <a:ext cx="2016000" cy="388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u=2591103010,2135144502&amp;gp=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4360" y="476280"/>
            <a:ext cx="2950920" cy="2087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u=1036416888,1691233856&amp;gp=3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4360" y="3429000"/>
            <a:ext cx="2950920" cy="2016000"/>
          </a:xfrm>
          <a:prstGeom prst="rect">
            <a:avLst/>
          </a:prstGeom>
          <a:ln w="0">
            <a:noFill/>
          </a:ln>
        </p:spPr>
      </p:pic>
      <p:sp>
        <p:nvSpPr>
          <p:cNvPr id="56" name="WordArt 12"/>
          <p:cNvSpPr txBox="1"/>
          <p:nvPr/>
        </p:nvSpPr>
        <p:spPr>
          <a:xfrm>
            <a:off x="4716360" y="537372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苏轼的画像及字贴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u=1614148728,3836789268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99"/>
                </a:solidFill>
                <a:latin typeface="Arial"/>
              </a:rPr>
              <a:t>背景资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苏轼是豪放词派的创始人，但细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东坡乐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３４０多首传世之作中，真正称得上“豪放”的也不过十分之一．实际上，苏轼是豪放婉约两擅长的大家．这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江城子　密州出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就是他写的第一首，也是最为典型的一首豪放词．宋神宗熙宁八年，是苏轼到密州上任的第二年．当时，密州蝗旱相连，而西北方的西夏和辽不断袭扰边境．作为爱国心切、一贯主张抗敌御侮的苏轼，年届“不惑而雄心勃勃”，在贬官外任中，不但尽力解除人民的疾苦，而且时刻准备要驰骋疆场，为国效力．他在这年十月中，祭常山回来，与同僚猎于铁沟、黄茅冈，作此词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u=4089334859,2739013630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3533760" y="175320"/>
            <a:ext cx="354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江城子 密州出猎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苏轼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老夫聊发少年狂，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左牵黄，右擎苍，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锦帽貂裘，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千骑卷平冈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报倾城随太守，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亲射虎，看孙郎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酒酣胸胆尚开张，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鬓微霜，又何妨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持节云中，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何日遣冯唐？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会挽雕弓如满月，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西北望，射天狼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u=811226902,3010027089&amp;gp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ff"/>
                </a:solidFill>
                <a:latin typeface="Arial"/>
              </a:rPr>
              <a:t>正文解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老夫姑且发一发少年疯狂，左手牵黄狗，右手举苍鹰，戴锦帽，披貂裘，千骑驰骋，犹如疾风席卷山冈．为了报酬满城的人跟随太守观的盛情，我要亲手射杀猛虎，像三国的孙郎那样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u=1464684094,2088353754&amp;gp=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1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痛饮美酒，心胸开阔，胆气更为豪壮．鬓间虽已染白霜，那又有何妨！手持符节前往云中，何时朝廷才能再谴冯唐？（召我奔赴战场）（到那时）我定将手中的雕弓拉成满月的形状，朝着西北方，射杀犯界的天狼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u=1464684094,2088353754&amp;gp=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研讨与练习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3640" y="2108160"/>
            <a:ext cx="80643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　文中“亲射虎”，“谴冯唐”，“射天郎”的典故分别表达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"/>
          <p:cNvSpPr/>
          <p:nvPr/>
        </p:nvSpPr>
        <p:spPr>
          <a:xfrm>
            <a:off x="-112680" y="5272200"/>
            <a:ext cx="74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u=1464684094,2088353754&amp;gp=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亲射虎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看孙郎”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孙郎即孙权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&lt;&lt;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三国志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gt;&gt;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记载孙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在一次出行中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坐椅为虎所伤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他镇定地在马前击毙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老虎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词人的意思是他要像当年的孙权那样挽弓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前射虎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这突出地展现了作者虽然年纪已经不小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但是仍有着少年狂气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 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遣冯唐”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据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lt;&lt;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史记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张释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冯唐列传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gt;&gt;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记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汉文帝时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魏尚为云中太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抵御匈奴有功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只因报功时多报了六个首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而获罪削职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后来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文帝采纳了冯唐的劝谏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冯唐持符节到云中去赦免魏尚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这里作者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以魏尚自喻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表达希望朝廷能像派冯唐赦魏尚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样重用自己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 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射天狼”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天狼星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据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lt;&lt;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晋书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天文志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说是“主侵掠”的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这里用以代指从西北来进扰的西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军队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苏轼在结句表达了自己要报效国家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抵御入侵者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建功立业的决心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6"/>
          <p:cNvSpPr txBox="1"/>
          <p:nvPr/>
        </p:nvSpPr>
        <p:spPr>
          <a:xfrm>
            <a:off x="468360" y="333360"/>
            <a:ext cx="23032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宋体"/>
              </a:rPr>
              <a:t>答案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4T05:02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1:41Z</dcterms:modified>
  <cp:revision>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