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96800" y="1985760"/>
            <a:ext cx="50832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简单统计表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665360" y="833400"/>
            <a:ext cx="4535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与整理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2909160" y="6261120"/>
            <a:ext cx="41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分类整理下面的图形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知识，解决问题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26" descr="p30_1"/>
          <p:cNvPicPr/>
          <p:nvPr/>
        </p:nvPicPr>
        <p:blipFill>
          <a:blip r:embed="rId1"/>
          <a:stretch/>
        </p:blipFill>
        <p:spPr>
          <a:xfrm>
            <a:off x="971640" y="2060640"/>
            <a:ext cx="7153200" cy="2760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7"/>
          <p:cNvSpPr/>
          <p:nvPr/>
        </p:nvSpPr>
        <p:spPr>
          <a:xfrm>
            <a:off x="1923840" y="4857840"/>
            <a:ext cx="37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把这些图形分成两组，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125160" y="52894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把分组的结果表示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48360" y="5661000"/>
          <a:ext cx="3600360" cy="936720"/>
        </p:xfrm>
        <a:graphic>
          <a:graphicData uri="http://schemas.openxmlformats.org/drawingml/2006/table">
            <a:tbl>
              <a:tblPr/>
              <a:tblGrid>
                <a:gridCol w="1265400"/>
                <a:gridCol w="1182600"/>
                <a:gridCol w="115236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32"/>
          <p:cNvSpPr/>
          <p:nvPr/>
        </p:nvSpPr>
        <p:spPr>
          <a:xfrm>
            <a:off x="5316480" y="616428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6273720" y="569916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面图形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7396200" y="569592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立体图形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676920" y="61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7850160" y="616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Rectangle 88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知识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动脑筋，做一做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663560" y="252576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把全班同学分成两组，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444760" y="2955960"/>
            <a:ext cx="55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在表中把分组的结果表示出来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74920" y="371628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2"/>
          <p:cNvSpPr/>
          <p:nvPr/>
        </p:nvSpPr>
        <p:spPr>
          <a:xfrm>
            <a:off x="3357720" y="421956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4336920" y="375444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5313240" y="375120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Rectangle 48"/>
          <p:cNvSpPr/>
          <p:nvPr/>
        </p:nvSpPr>
        <p:spPr>
          <a:xfrm>
            <a:off x="2443320" y="497520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统计表，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2443320" y="5407200"/>
            <a:ext cx="37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提出什么数学问题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2443320" y="5840280"/>
            <a:ext cx="40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一想，还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89720" y="0"/>
            <a:ext cx="37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第一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网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-WWW.1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29600" y="4365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503-13E5-4C61-8463-9825D4774A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回顾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2" name="Picture 9" descr="p30_1"/>
          <p:cNvPicPr/>
          <p:nvPr/>
        </p:nvPicPr>
        <p:blipFill>
          <a:blip r:embed="rId1"/>
          <a:stretch/>
        </p:blipFill>
        <p:spPr>
          <a:xfrm>
            <a:off x="611280" y="164160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1187280" y="50115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仔细观察，你看到了什么？可以怎样分类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187280" y="54435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形状分一分，在教材上涂一涂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892160" y="5877000"/>
            <a:ext cx="34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种图形各有几个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61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借助情境，按不同标准分类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9" name="Picture 6" descr="p28_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13"/>
          <p:cNvPicPr/>
          <p:nvPr/>
        </p:nvPicPr>
        <p:blipFill>
          <a:blip r:embed="rId1"/>
          <a:stretch/>
        </p:blipFill>
        <p:spPr>
          <a:xfrm>
            <a:off x="380880" y="285840"/>
            <a:ext cx="8369280" cy="6278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ShockwaveFlash1" descr=""/>
          <p:cNvPicPr/>
          <p:nvPr/>
        </p:nvPicPr>
        <p:blipFill>
          <a:blip r:embed="rId2"/>
          <a:stretch/>
        </p:blipFill>
        <p:spPr>
          <a:xfrm>
            <a:off x="385920" y="284040"/>
            <a:ext cx="8370720" cy="62802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380880" y="5864400"/>
            <a:ext cx="62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4">
            <a:hlinkClick r:id="rId1" action="ppaction://hlinksldjump"/>
          </p:cNvPr>
          <p:cNvSpPr/>
          <p:nvPr/>
        </p:nvSpPr>
        <p:spPr>
          <a:xfrm>
            <a:off x="971640" y="4975200"/>
            <a:ext cx="2958840" cy="1054080"/>
          </a:xfrm>
          <a:custGeom>
            <a:avLst/>
            <a:gdLst>
              <a:gd name="textAreaLeft" fmla="*/ 678960 w 2958840"/>
              <a:gd name="textAreaRight" fmla="*/ 2279880 w 295884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AutoShape 17">
            <a:hlinkClick r:id="rId2" action="ppaction://hlinksldjump"/>
          </p:cNvPr>
          <p:cNvSpPr/>
          <p:nvPr/>
        </p:nvSpPr>
        <p:spPr>
          <a:xfrm>
            <a:off x="5141880" y="4975200"/>
            <a:ext cx="2959200" cy="1054080"/>
          </a:xfrm>
          <a:custGeom>
            <a:avLst/>
            <a:gdLst>
              <a:gd name="textAreaLeft" fmla="*/ 678960 w 2959200"/>
              <a:gd name="textAreaRight" fmla="*/ 2280240 w 295920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Picture 10" descr="p28_1"/>
          <p:cNvPicPr/>
          <p:nvPr/>
        </p:nvPicPr>
        <p:blipFill>
          <a:blip r:embed="rId3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>
            <a:hlinkClick r:id="rId4" action="ppaction://hlinksldjump"/>
          </p:cNvPr>
          <p:cNvSpPr/>
          <p:nvPr/>
        </p:nvSpPr>
        <p:spPr>
          <a:xfrm>
            <a:off x="2303280" y="5300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Rectangle 18">
            <a:hlinkClick r:id="rId5" action="ppaction://hlinksldjump"/>
          </p:cNvPr>
          <p:cNvSpPr/>
          <p:nvPr/>
        </p:nvSpPr>
        <p:spPr>
          <a:xfrm>
            <a:off x="5762520" y="53006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AutoShape 20">
            <a:hlinkClick r:id="rId6" action="ppaction://hlinksldjump"/>
          </p:cNvPr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Rectangle 21">
            <a:hlinkClick r:id="rId7" action="ppaction://hlinksldjump"/>
          </p:cNvPr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认表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1116000" y="6165720"/>
            <a:ext cx="72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想按照哪种方法分组？数一数每组各有多少人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003640" y="508464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2"/>
          <p:cNvSpPr/>
          <p:nvPr/>
        </p:nvSpPr>
        <p:spPr>
          <a:xfrm>
            <a:off x="5086440" y="55879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6066000" y="512280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人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7042320" y="5119560"/>
            <a:ext cx="8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623412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717228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971640" y="4975200"/>
            <a:ext cx="2958840" cy="1054080"/>
          </a:xfrm>
          <a:custGeom>
            <a:avLst/>
            <a:gdLst>
              <a:gd name="textAreaLeft" fmla="*/ 678960 w 2958840"/>
              <a:gd name="textAreaRight" fmla="*/ 2279880 w 295884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2303280" y="5300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Rectangle 40"/>
          <p:cNvSpPr/>
          <p:nvPr/>
        </p:nvSpPr>
        <p:spPr>
          <a:xfrm>
            <a:off x="826920" y="6200640"/>
            <a:ext cx="56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我们可以把数的结果填写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AutoShape 41">
            <a:hlinkClick r:id="rId1" action="ppaction://hlinksldjump"/>
          </p:cNvPr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Rectangle 42">
            <a:hlinkClick r:id="rId2" action="ppaction://hlinksldjump"/>
          </p:cNvPr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返回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Picture 62" descr="p28_1"/>
          <p:cNvPicPr/>
          <p:nvPr/>
        </p:nvPicPr>
        <p:blipFill>
          <a:blip r:embed="rId3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3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分类计数，填写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AutoShape 32"/>
          <p:cNvSpPr/>
          <p:nvPr/>
        </p:nvSpPr>
        <p:spPr>
          <a:xfrm>
            <a:off x="5141880" y="4975200"/>
            <a:ext cx="2959200" cy="1054080"/>
          </a:xfrm>
          <a:custGeom>
            <a:avLst/>
            <a:gdLst>
              <a:gd name="textAreaLeft" fmla="*/ 678960 w 2959200"/>
              <a:gd name="textAreaRight" fmla="*/ 2280240 w 295920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5762520" y="530064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58920" y="508464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32"/>
          <p:cNvSpPr/>
          <p:nvPr/>
        </p:nvSpPr>
        <p:spPr>
          <a:xfrm>
            <a:off x="1341360" y="55879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320920" y="512280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3297240" y="511956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2489040" y="55879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427560" y="5587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AutoShape 53">
            <a:hlinkClick r:id="rId1" action="ppaction://hlinksldjump"/>
          </p:cNvPr>
          <p:cNvSpPr/>
          <p:nvPr/>
        </p:nvSpPr>
        <p:spPr>
          <a:xfrm>
            <a:off x="8067600" y="6188040"/>
            <a:ext cx="812880" cy="37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2352"/>
                </a:srgbClr>
              </a:gs>
              <a:gs pos="50000">
                <a:srgbClr val="ffffff"/>
              </a:gs>
              <a:gs pos="100000">
                <a:srgbClr val="99ccff">
                  <a:alpha val="62352"/>
                </a:srgbClr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Rectangle 54">
            <a:hlinkClick r:id="rId2" action="ppaction://hlinksldjump"/>
          </p:cNvPr>
          <p:cNvSpPr/>
          <p:nvPr/>
        </p:nvSpPr>
        <p:spPr>
          <a:xfrm>
            <a:off x="8058240" y="6203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黑体"/>
              </a:rPr>
              <a:t>返回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5" descr="p28_1"/>
          <p:cNvPicPr/>
          <p:nvPr/>
        </p:nvPicPr>
        <p:blipFill>
          <a:blip r:embed="rId3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6"/>
          <p:cNvSpPr/>
          <p:nvPr/>
        </p:nvSpPr>
        <p:spPr>
          <a:xfrm>
            <a:off x="826920" y="6200640"/>
            <a:ext cx="56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我们可以把数的结果填写出来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认识简单统计表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AutoShape 47"/>
          <p:cNvSpPr/>
          <p:nvPr/>
        </p:nvSpPr>
        <p:spPr>
          <a:xfrm>
            <a:off x="1204920" y="3824280"/>
            <a:ext cx="2959200" cy="1054080"/>
          </a:xfrm>
          <a:custGeom>
            <a:avLst/>
            <a:gdLst>
              <a:gd name="textAreaLeft" fmla="*/ 678960 w 2959200"/>
              <a:gd name="textAreaRight" fmla="*/ 2280240 w 295920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1825560" y="4149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性别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AutoShape 49"/>
          <p:cNvSpPr/>
          <p:nvPr/>
        </p:nvSpPr>
        <p:spPr>
          <a:xfrm>
            <a:off x="1187280" y="2446200"/>
            <a:ext cx="2959200" cy="1054080"/>
          </a:xfrm>
          <a:custGeom>
            <a:avLst/>
            <a:gdLst>
              <a:gd name="textAreaLeft" fmla="*/ 678960 w 2959200"/>
              <a:gd name="textAreaRight" fmla="*/ 2280240 w 2959200"/>
              <a:gd name="textAreaTop" fmla="*/ 241920 h 1054080"/>
              <a:gd name="textAreaBottom" fmla="*/ 81216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Rectangle 50"/>
          <p:cNvSpPr/>
          <p:nvPr/>
        </p:nvSpPr>
        <p:spPr>
          <a:xfrm>
            <a:off x="2519280" y="2771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按大人、孩子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42000" y="248292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32"/>
          <p:cNvSpPr/>
          <p:nvPr/>
        </p:nvSpPr>
        <p:spPr>
          <a:xfrm>
            <a:off x="4924440" y="298620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5904000" y="2521080"/>
            <a:ext cx="9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人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6880320" y="251784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6072120" y="2986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7010280" y="29862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59280" y="389556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32"/>
          <p:cNvSpPr/>
          <p:nvPr/>
        </p:nvSpPr>
        <p:spPr>
          <a:xfrm>
            <a:off x="4941720" y="439884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5921280" y="393372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6897600" y="39304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089760" y="439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7027920" y="439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Rectangle 91"/>
          <p:cNvSpPr/>
          <p:nvPr/>
        </p:nvSpPr>
        <p:spPr>
          <a:xfrm>
            <a:off x="111600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刚才我们把分类的结果整理出来了，大家一起填写的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就是简单的统计表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Rectangle 92"/>
          <p:cNvSpPr/>
          <p:nvPr/>
        </p:nvSpPr>
        <p:spPr>
          <a:xfrm>
            <a:off x="1116000" y="594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观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统计表，有什么相同点？有什么不同点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Rectangle 94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分类整理，巩固认识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57200" y="41760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简单统计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3348000" y="5305320"/>
            <a:ext cx="5796000" cy="884160"/>
            <a:chOff x="3348000" y="5305320"/>
            <a:chExt cx="5796000" cy="884160"/>
          </a:xfrm>
        </p:grpSpPr>
        <p:sp>
          <p:nvSpPr>
            <p:cNvPr id="160" name="Rectangle 3"/>
            <p:cNvSpPr/>
            <p:nvPr/>
          </p:nvSpPr>
          <p:spPr>
            <a:xfrm>
              <a:off x="3348000" y="5305320"/>
              <a:ext cx="57960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61" name="Text Box 27"/>
            <p:cNvSpPr/>
            <p:nvPr/>
          </p:nvSpPr>
          <p:spPr>
            <a:xfrm>
              <a:off x="4113360" y="5695920"/>
              <a:ext cx="109836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pic>
        <p:nvPicPr>
          <p:cNvPr id="162" name="Picture 32" descr="p28_1"/>
          <p:cNvPicPr/>
          <p:nvPr/>
        </p:nvPicPr>
        <p:blipFill>
          <a:blip r:embed="rId1"/>
          <a:stretch/>
        </p:blipFill>
        <p:spPr>
          <a:xfrm>
            <a:off x="250920" y="2162160"/>
            <a:ext cx="8569080" cy="29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539640" y="5373720"/>
          <a:ext cx="2952720" cy="93672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  <a:gridCol w="936720"/>
              </a:tblGrid>
              <a:tr h="47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32"/>
          <p:cNvSpPr/>
          <p:nvPr/>
        </p:nvSpPr>
        <p:spPr>
          <a:xfrm>
            <a:off x="622440" y="587700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1601640" y="541188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577960" y="540864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1770120" y="5877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708280" y="5877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Rectangle 52"/>
          <p:cNvSpPr/>
          <p:nvPr/>
        </p:nvSpPr>
        <p:spPr>
          <a:xfrm>
            <a:off x="3473280" y="5405400"/>
            <a:ext cx="56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还可以怎样分？按照想法填写统计表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4192560" y="584028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统计表，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Rectangle 54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6:10Z</dcterms:modified>
  <cp:revision>5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