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550-7CDC-44FA-847C-3FA96931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C94-FC8D-4B22-96DE-E8C37B8E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2A0-E6EB-459F-8B66-1480B23E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136-C156-4AF4-AB20-3CC9A646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44A-1B64-432B-B35E-65BD6A03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B2A-C9DC-4542-9B89-B83E088C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8BA-2EC5-4864-9C8B-27470E86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284-4751-4FB8-895C-F7095EEB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A1C-420C-4AFF-9575-77B63B3B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20A-5DAC-443A-9CB5-E04373D4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028-5A94-4043-B949-B69FA528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B6D-CC5E-4AFF-A744-649F2548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0AF1-F735-44CD-82F5-155BA1198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63640" y="1494000"/>
            <a:ext cx="56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加、减法的验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2391480" y="6165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9"/>
          <p:cNvSpPr/>
          <p:nvPr/>
        </p:nvSpPr>
        <p:spPr>
          <a:xfrm>
            <a:off x="6084720" y="18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873000" y="368280"/>
            <a:ext cx="143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 口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832320" y="1924200"/>
            <a:ext cx="65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+5=          7+8  =          13+24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28840" y="2541600"/>
            <a:ext cx="188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+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5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3=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768600" y="3068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757080" y="36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104920" y="1995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4357440" y="19242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7209720" y="186372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2090520" y="24890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2843280" y="2552760"/>
            <a:ext cx="28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+ 7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7=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8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061080" y="3068640"/>
            <a:ext cx="9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3133080" y="36511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4644360" y="2500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5724360" y="2500200"/>
            <a:ext cx="22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4+13=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5724720" y="30099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3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13 =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5724720" y="35798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3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24 =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1038240" y="461628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464560" y="149868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1+2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484360" y="2217600"/>
            <a:ext cx="28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+131 =1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513160" y="286704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6-25  =1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484360" y="351468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6-131 =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4285800" y="149220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384200" y="620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用竖式计算并验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00360" y="171468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46+219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8"/>
          <p:cNvGrpSpPr/>
          <p:nvPr/>
        </p:nvGrpSpPr>
        <p:grpSpPr>
          <a:xfrm>
            <a:off x="809640" y="2506680"/>
            <a:ext cx="1601640" cy="1739880"/>
            <a:chOff x="809640" y="2506680"/>
            <a:chExt cx="1601640" cy="1739880"/>
          </a:xfrm>
        </p:grpSpPr>
        <p:sp>
          <p:nvSpPr>
            <p:cNvPr id="69" name="Line 7"/>
            <p:cNvSpPr/>
            <p:nvPr/>
          </p:nvSpPr>
          <p:spPr>
            <a:xfrm>
              <a:off x="826920" y="36450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23"/>
            <p:cNvGrpSpPr/>
            <p:nvPr/>
          </p:nvGrpSpPr>
          <p:grpSpPr>
            <a:xfrm>
              <a:off x="809640" y="2506680"/>
              <a:ext cx="1302120" cy="1739880"/>
              <a:chOff x="809640" y="2506680"/>
              <a:chExt cx="1302120" cy="1739880"/>
            </a:xfrm>
          </p:grpSpPr>
          <p:sp>
            <p:nvSpPr>
              <p:cNvPr id="71" name="Text Box 6"/>
              <p:cNvSpPr/>
              <p:nvPr/>
            </p:nvSpPr>
            <p:spPr>
              <a:xfrm>
                <a:off x="1167480" y="2506680"/>
                <a:ext cx="9442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74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19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96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8"/>
              <p:cNvSpPr/>
              <p:nvPr/>
            </p:nvSpPr>
            <p:spPr>
              <a:xfrm>
                <a:off x="809640" y="300996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9"/>
              <p:cNvSpPr/>
              <p:nvPr/>
            </p:nvSpPr>
            <p:spPr>
              <a:xfrm>
                <a:off x="1584000" y="3392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Text Box 10"/>
          <p:cNvSpPr/>
          <p:nvPr/>
        </p:nvSpPr>
        <p:spPr>
          <a:xfrm>
            <a:off x="2615760" y="2571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验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9"/>
          <p:cNvGrpSpPr/>
          <p:nvPr/>
        </p:nvGrpSpPr>
        <p:grpSpPr>
          <a:xfrm>
            <a:off x="5129280" y="2481120"/>
            <a:ext cx="1603440" cy="1739880"/>
            <a:chOff x="5129280" y="2481120"/>
            <a:chExt cx="1603440" cy="1739880"/>
          </a:xfrm>
        </p:grpSpPr>
        <p:sp>
          <p:nvSpPr>
            <p:cNvPr id="76" name="Line 15"/>
            <p:cNvSpPr/>
            <p:nvPr/>
          </p:nvSpPr>
          <p:spPr>
            <a:xfrm>
              <a:off x="5148360" y="36450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5"/>
            <p:cNvGrpSpPr/>
            <p:nvPr/>
          </p:nvGrpSpPr>
          <p:grpSpPr>
            <a:xfrm>
              <a:off x="5129280" y="2481120"/>
              <a:ext cx="1232280" cy="1739880"/>
              <a:chOff x="5129280" y="2481120"/>
              <a:chExt cx="1232280" cy="1739880"/>
            </a:xfrm>
          </p:grpSpPr>
          <p:sp>
            <p:nvSpPr>
              <p:cNvPr id="78" name="Text Box 14"/>
              <p:cNvSpPr/>
              <p:nvPr/>
            </p:nvSpPr>
            <p:spPr>
              <a:xfrm>
                <a:off x="5417280" y="2481120"/>
                <a:ext cx="9442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96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19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74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16"/>
              <p:cNvSpPr/>
              <p:nvPr/>
            </p:nvSpPr>
            <p:spPr>
              <a:xfrm>
                <a:off x="5129280" y="30099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Group 30"/>
          <p:cNvGrpSpPr/>
          <p:nvPr/>
        </p:nvGrpSpPr>
        <p:grpSpPr>
          <a:xfrm>
            <a:off x="6875640" y="2421000"/>
            <a:ext cx="1584000" cy="1739880"/>
            <a:chOff x="6875640" y="2421000"/>
            <a:chExt cx="1584000" cy="1739880"/>
          </a:xfrm>
        </p:grpSpPr>
        <p:sp>
          <p:nvSpPr>
            <p:cNvPr id="81" name="Line 18"/>
            <p:cNvSpPr/>
            <p:nvPr/>
          </p:nvSpPr>
          <p:spPr>
            <a:xfrm>
              <a:off x="6875640" y="364500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26"/>
            <p:cNvGrpSpPr/>
            <p:nvPr/>
          </p:nvGrpSpPr>
          <p:grpSpPr>
            <a:xfrm>
              <a:off x="6973920" y="2421000"/>
              <a:ext cx="1188000" cy="1739880"/>
              <a:chOff x="6973920" y="2421000"/>
              <a:chExt cx="1188000" cy="1739880"/>
            </a:xfrm>
          </p:grpSpPr>
          <p:sp>
            <p:nvSpPr>
              <p:cNvPr id="83" name="Text Box 17"/>
              <p:cNvSpPr/>
              <p:nvPr/>
            </p:nvSpPr>
            <p:spPr>
              <a:xfrm>
                <a:off x="7217640" y="2421000"/>
                <a:ext cx="9442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96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74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19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19"/>
              <p:cNvSpPr/>
              <p:nvPr/>
            </p:nvSpPr>
            <p:spPr>
              <a:xfrm>
                <a:off x="6973920" y="29973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Group 24"/>
          <p:cNvGrpSpPr/>
          <p:nvPr/>
        </p:nvGrpSpPr>
        <p:grpSpPr>
          <a:xfrm>
            <a:off x="3274920" y="2481120"/>
            <a:ext cx="1584360" cy="1739880"/>
            <a:chOff x="3274920" y="2481120"/>
            <a:chExt cx="1584360" cy="1739880"/>
          </a:xfrm>
        </p:grpSpPr>
        <p:sp>
          <p:nvSpPr>
            <p:cNvPr id="86" name="Text Box 11"/>
            <p:cNvSpPr/>
            <p:nvPr/>
          </p:nvSpPr>
          <p:spPr>
            <a:xfrm>
              <a:off x="3709080" y="2481120"/>
              <a:ext cx="944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21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74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96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2"/>
            <p:cNvSpPr/>
            <p:nvPr/>
          </p:nvSpPr>
          <p:spPr>
            <a:xfrm>
              <a:off x="3274920" y="36450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3"/>
            <p:cNvSpPr/>
            <p:nvPr/>
          </p:nvSpPr>
          <p:spPr>
            <a:xfrm>
              <a:off x="3402000" y="31478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0"/>
            <p:cNvSpPr/>
            <p:nvPr/>
          </p:nvSpPr>
          <p:spPr>
            <a:xfrm>
              <a:off x="4103640" y="3392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21"/>
          <p:cNvSpPr/>
          <p:nvPr/>
        </p:nvSpPr>
        <p:spPr>
          <a:xfrm>
            <a:off x="5776920" y="20257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7526160" y="19890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2967840" y="170820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952560" y="147492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7+26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338920" y="14716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二、填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69920" y="2652840"/>
          <a:ext cx="5265720" cy="1569960"/>
        </p:xfrm>
        <a:graphic>
          <a:graphicData uri="http://schemas.openxmlformats.org/drawingml/2006/table">
            <a:tbl>
              <a:tblPr/>
              <a:tblGrid>
                <a:gridCol w="1316160"/>
                <a:gridCol w="1317600"/>
                <a:gridCol w="1315800"/>
                <a:gridCol w="131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加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加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59"/>
          <p:cNvSpPr/>
          <p:nvPr/>
        </p:nvSpPr>
        <p:spPr>
          <a:xfrm>
            <a:off x="0" y="42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1"/>
          <p:cNvSpPr/>
          <p:nvPr/>
        </p:nvSpPr>
        <p:spPr>
          <a:xfrm>
            <a:off x="3278520" y="26226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2"/>
          <p:cNvSpPr/>
          <p:nvPr/>
        </p:nvSpPr>
        <p:spPr>
          <a:xfrm>
            <a:off x="4573440" y="31240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3"/>
          <p:cNvSpPr/>
          <p:nvPr/>
        </p:nvSpPr>
        <p:spPr>
          <a:xfrm>
            <a:off x="5868720" y="36417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6"/>
          <p:cNvGrpSpPr/>
          <p:nvPr/>
        </p:nvGrpSpPr>
        <p:grpSpPr>
          <a:xfrm>
            <a:off x="826920" y="1484280"/>
            <a:ext cx="3529080" cy="2822400"/>
            <a:chOff x="826920" y="1484280"/>
            <a:chExt cx="3529080" cy="2822400"/>
          </a:xfrm>
        </p:grpSpPr>
        <p:sp>
          <p:nvSpPr>
            <p:cNvPr id="101" name="Rectangle 5"/>
            <p:cNvSpPr/>
            <p:nvPr/>
          </p:nvSpPr>
          <p:spPr>
            <a:xfrm>
              <a:off x="1547640" y="1484280"/>
              <a:ext cx="720720" cy="720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3274920" y="1484280"/>
              <a:ext cx="720720" cy="720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2411280" y="2421000"/>
              <a:ext cx="720720" cy="720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26920" y="3500280"/>
              <a:ext cx="352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9"/>
            <p:cNvSpPr/>
            <p:nvPr/>
          </p:nvSpPr>
          <p:spPr>
            <a:xfrm>
              <a:off x="1542960" y="3651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0"/>
            <p:cNvSpPr/>
            <p:nvPr/>
          </p:nvSpPr>
          <p:spPr>
            <a:xfrm>
              <a:off x="2536560" y="3713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3473280" y="36640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1620720" y="25653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3"/>
            <p:cNvSpPr/>
            <p:nvPr/>
          </p:nvSpPr>
          <p:spPr>
            <a:xfrm>
              <a:off x="3443040" y="25131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4"/>
            <p:cNvSpPr/>
            <p:nvPr/>
          </p:nvSpPr>
          <p:spPr>
            <a:xfrm>
              <a:off x="2609640" y="14922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5"/>
            <p:cNvSpPr/>
            <p:nvPr/>
          </p:nvSpPr>
          <p:spPr>
            <a:xfrm>
              <a:off x="881280" y="255600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7"/>
          <p:cNvSpPr/>
          <p:nvPr/>
        </p:nvSpPr>
        <p:spPr>
          <a:xfrm>
            <a:off x="3443040" y="1554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2896920" y="321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2536560" y="2513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836720" y="3284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1620720" y="150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604520" y="1952640"/>
            <a:ext cx="449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-3=6        19-10=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717C-5FC0-40D4-AAE0-E2F38D62D3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3:33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3:07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